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449F3C-7AFE-4651-9DC3-57E2D282B55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C943E4-40DC-4C05-A629-23161FEAB9E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AAFD43-5061-411C-8600-F657D3DE0EA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99C91C-39DD-4F7F-881D-173A00EBE14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6184C7-ACFD-4145-8CBC-2FA6C5457A9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0C5EE8-5E9F-48FB-9BBC-277F6463F35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7ED059-0BAE-42A1-9255-D163F3F59CA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D0A35F-4B24-49BD-91CF-550782828D4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9D024-AAE9-4499-A1F0-79C9D5902DE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5ED84-1363-4BA3-AE79-3EC485469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59AB1-E5B9-4672-B699-7BFBC2EE45E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6FB5B-6335-43CA-9E95-52C2DA3188C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F8761-782F-4505-9A50-6509B6CA58C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7D86E-C30E-4B0D-A2FB-82362D7A723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CBF90-4FEE-4312-965D-BE2C9432F95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FF55A-2418-4B90-86E5-68C8E9C0DD3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05FE3-4947-4B43-B810-A6991430F45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93B1F-F699-4430-B14A-D7336E8C3A6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C25E3-3F71-4D96-B2B2-263D192CF12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60DB4-7CF9-44B5-AA09-93F57F4DD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32184-E7EE-40BE-9AB9-C2582083243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5C771-74F4-4B8A-8F57-7EB3E38DF66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EFB2-0B34-4E57-ABBF-51ACC7229DF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6782-968F-4C6B-8489-31891FBB8C7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D3B0C-935E-4CC7-91CA-F39096FFF1E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6787C-BDE5-4C01-8F18-465F216128C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89AE-4527-4ACC-81FC-01DC797C350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8119A-C629-4D0C-A8BE-4E1B1638A5A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8E92E-A790-48DA-8BA4-39D62D44862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53A1-C3A6-4A81-8A43-D8E4E3AA8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F3245-347D-4899-9F25-96D0D1EECAF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6F0A0-E8FE-4CC5-929A-F38A8A77237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6436F-2C16-4CB2-AF39-9B40304E1BD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C6451-36F5-49FF-8F40-C4AD368422A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A1116A-B09E-4ACF-B488-4A5015E8C54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75F2B2-0C93-44A8-8644-E846DC82B24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349800-91D9-4073-BE9E-4F1D25FABB9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E2AFE4-5BB8-4A4B-97A3-2AFCE6E212D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F61EC1-04F3-40A2-810F-A155CE91774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29890D-9EC1-43CF-B8FA-EB5D5CA886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A1BCBF-C1B7-4327-9F36-CEED2980045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1EB07-C2BB-4EBD-831E-FD4118ECF78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2927A9-AB73-47DA-A239-A1F84D66A07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2D304B-50C2-458C-A71A-36E8124D53F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D9222D-BD54-4BD3-BA5B-DE1B6DB6B99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59AA3-5882-4066-9323-F6E378753A2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8A442-F29A-426D-A4D3-A2AB2C73DEC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524052-D7F4-42D1-AC93-CDBCD7AD573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56909-F1FF-4C55-8C1A-B5E02350B85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66F01-6E3F-49C8-8FA2-475C2CB4DA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FF923-0BA9-4FE7-AEF0-013ADB1A089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F6848-1588-4568-A2B8-CD92BF24230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EE523-29CC-43ED-BBC4-241B5BDB5B3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DE5268-E7F3-4F10-B477-31738228D17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8A978C-9CCB-4E20-8BEF-3A78A00FD99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36015-D10C-4D61-B783-58E65EF4446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93870-8D2D-4964-8E6F-B7A84ADA7C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D92-C7FF-4154-A64D-7830EDA9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155F-844E-4CFC-9CE9-942E007A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1821-8A77-4F17-A61E-4C9C04A5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077-9E86-45B2-9103-7B360BA7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B1A-773E-4751-825F-0E6C6D51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724-26F1-4C64-A099-645A37B3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029-B3DB-443A-B185-934F9811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B6E-8922-4DC4-87F0-DA18BEAC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3B0-36B6-4E62-BAC8-EAFD1EDF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507-7246-4097-B235-D0FEF3D0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A54-A4D9-4F66-925E-211366AA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78E-9D38-4BE9-BEF9-31BD79F2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1769C-5615-4CC9-B64D-CE8BCF287E9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6804E-00C7-43F9-8A23-A16E836B44B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09EF4-1E6B-4FFD-8701-A16E4B95EEA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F9D82-A21D-431A-8F9F-FBB82961F57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6687F-3792-454E-9857-241DDEB7C99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9C6A9-6431-40F7-9CAE-C578F439EF7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D31F0-5995-45F6-B3FF-57BA8F564AD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FBFA0-68D2-48F1-8E26-FC74C98F031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DB0C2-7F2B-4D27-9172-7316D9AB8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5E10C-F556-40BD-B943-3EACB26EA2E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44B79-F80D-4F56-BFB9-9FA104E3B39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6CCCD-942B-4598-B174-5AD2BF7A078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933F1-5A62-479E-9374-6B814051238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6FF2E-AAAE-4032-BA35-8C6D7FC28E6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5C731-8C78-4817-BF3E-8474A20129C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D0F28-E5FF-427B-B4C2-618379B89F2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C4396-8C22-46BA-B511-1B1F5C32AD0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435D5-E20C-4DC3-A5F2-2AE58233D8A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7B306-420B-4AF0-8678-622E1CFBC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9A1A0-0CCF-458F-99EB-2020AB8BF4F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104A5-1E66-45EF-9B19-28B1F546844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28857-0268-498D-B8F8-EF94D28C7AD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9674A-8647-4642-923E-5DA3E01A5AB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1761E-F675-4DA3-8991-DB1E10E283B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DAE6-9A66-419F-84EE-4F3EBAEC81D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CAE9-5D05-495B-AA6C-5B717FE50E2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F7FD-BD98-4C7C-BB7B-B4CE1FDB950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0794-D722-43ED-A6BE-24D87439478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FCD9-CA0F-4FBA-B47D-B645E5A91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C0CE-BBC4-4630-80D3-ECC23539865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6A7C-1362-4ADD-B24D-B099416756D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5CA2-7FC2-45AE-8CC5-3B3CEDA54C8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3968-6835-43A6-925F-17186A11614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8921-4942-4986-AE5C-58DE8562CEB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3C66-EBA1-4F11-879B-2896A828E7F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E7F7-056D-40AE-93FC-260D8B2F16E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F5CBA2-9B22-49E3-AAA6-59F60910C8E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DFC897-66D2-4AB8-9B0B-3D8B213F5C4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40B44-8451-4BEC-8B43-DE3B49ADC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F738A-C234-4A11-85EB-60009E020B8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EC231-1F71-457F-83F3-75962703E08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8923B-EC12-48CB-A5F7-DC3DF7E779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0841C-FB9F-494E-9BAA-92C681901BE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86C57-04A6-45BE-9EB6-A50D9D984A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10086-627A-4BAF-B568-938AAE8F4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B2F8A-36A7-4421-B58C-10001FF819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F4EE8-84D6-49AC-AFBD-85878E36641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3A41D-9F4D-4AE2-84C0-B974020AF1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012F3-61F1-42E1-A31A-F4159B55AB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60036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4343400"/>
            <a:ext cx="3531960" cy="20764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C:\Users\heidi.ullrich\PowerFolders\At-Large\Outreach and Participation\At-Large Logo\IC_AtLarge_Logo.png"/>
          <p:cNvPicPr/>
          <p:nvPr/>
        </p:nvPicPr>
        <p:blipFill>
          <a:blip r:embed="rId2"/>
          <a:stretch/>
        </p:blipFill>
        <p:spPr>
          <a:xfrm>
            <a:off x="7315200" y="0"/>
            <a:ext cx="146376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1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489C9-6F29-4C3C-8AFF-BE887BDDAB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6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D60A9-B5DC-407D-824F-36D2190DE3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sert photos in left colu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Placeholder 7" descr="plant.jpg"/>
          <p:cNvPicPr/>
          <p:nvPr/>
        </p:nvPicPr>
        <p:blipFill>
          <a:blip r:embed="rId1"/>
          <a:srcRect l="0" t="-39262" r="0" b="-39262"/>
          <a:stretch/>
        </p:blipFill>
        <p:spPr>
          <a:xfrm>
            <a:off x="304920" y="1600200"/>
            <a:ext cx="2133360" cy="4343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SVSF-logo-final-Feb2011-330x194.png"/>
          <p:cNvPicPr/>
          <p:nvPr/>
        </p:nvPicPr>
        <p:blipFill>
          <a:blip r:embed="rId2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4343400"/>
            <a:ext cx="3531960" cy="2076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C:\Users\heidi.ullrich\PowerFolders\At-Large\Outreach and Participation\At-Large Logo\IC_AtLarge_Logo.png"/>
          <p:cNvPicPr/>
          <p:nvPr/>
        </p:nvPicPr>
        <p:blipFill>
          <a:blip r:embed="rId2"/>
          <a:stretch/>
        </p:blipFill>
        <p:spPr>
          <a:xfrm>
            <a:off x="7315200" y="0"/>
            <a:ext cx="146376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785E5-6213-4449-B870-32DDD2D152A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3:04:36Z</dcterms:created>
  <dc:creator>HU</dc:creator>
  <dc:description/>
  <dc:language>en-US</dc:language>
  <cp:lastModifiedBy>HU</cp:lastModifiedBy>
  <dcterms:modified xsi:type="dcterms:W3CDTF">2011-03-01T23:09:24Z</dcterms:modified>
  <cp:revision>2</cp:revision>
  <dc:subject/>
  <dc:title>Presentation Title</dc:title>
</cp:coreProperties>
</file>