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1BA646-B771-40F8-AD6C-5D12ED4E284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A8FE55-1CD6-46AF-9F6D-247B3DE42D4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D052D7-ABF6-4B17-83D9-A844841BD46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3E5C15-E41E-44A9-A180-41E68E9CEA0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01FE4A-ED9C-4A2D-8F65-CE908321DF8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4C5B5D-1073-4F0B-9F99-8395BA19F20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361FE3-C9D2-4953-85C3-FB7A4BC1A76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D68E92-1503-4C55-B10E-728BD9B7456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5AAAD4-E01A-4D42-ADBC-65806434700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1BA4A-6709-4AF7-ACA0-5D935D732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BED067-9A6D-44A4-81EA-1EFAE25C65D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CFD32-E707-4192-960E-1CC6E160308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9852B-72D2-4410-BE98-3EF23A73F79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65CD6-85B0-4DFE-B598-A24C5674C8A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51DD4-7DA7-418D-956C-5BB65D6584C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19A91-DD36-4E61-95C0-69ACDC83AE1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E1E2E-C30C-47DF-A212-095ADD25A47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C0EA5-B064-4576-86B7-C0B08551640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13FF8D-7AF7-4750-BC18-75699B2BCD0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0AAB0-8158-44CE-BEB9-9DDE304B3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DB604-2FC3-4BB1-BDA4-528155855C1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D80EE-B0CA-4C4C-B495-F317A765963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6C574-DAC3-4899-8D9A-4EEDD0822AF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BB203-1A4C-4A09-A83D-168AAF8679C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664B8-CD25-41A1-80B1-B391DB5EA78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A2032-D0A6-4557-AE0A-558A626220F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BC2EE-343B-49F8-8523-AA549047215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04D26-6DDA-4B50-8FF3-CE705FE05D6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678F1-6DA4-43E2-807D-D1A5744DC9F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A5DEF-E7C0-4524-8D8D-0CC7E8539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C1A46-13EB-47D4-B23A-98FC81D9386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845C9-BB23-4899-B547-DAEE9A11260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855B3-B82E-4FD6-89BC-457C4BB5217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E126A8-CA66-4D07-ABBF-35934224D12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E5BDFE-90A2-41EB-898F-1BA7EA564F4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52D091-01F2-45FA-BAC6-56BB980DF79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AACCDC-1D18-42EF-8B37-7896ED6C920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216CD6-28E8-45BA-913E-C17D5C5E6E5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3A6E56-CCBD-4F2F-BEAC-ED52B42F16E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6155AB-D6E8-4619-BC22-551674FBFA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2C2224-A2BB-4269-81E6-C93CB72BE11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68A63C-4EC2-4E13-B5C9-833349763F6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94CC6E-2212-44B8-B88F-AC7C18BF3BD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6EB489-1075-4FBD-9BD0-32F8F44B6D5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F2A4CF-8F89-478E-BBE5-29CF0EE9B4C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8FF09F-E59F-4DAC-98D1-A288E4E2D6D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AA372C-CD1F-468A-B242-3C7DDAC6F50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449C60-CFF8-4E14-8139-94DEA78F2FB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F8BD83-7F93-470F-884F-2805732F7D4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DFC569-52D9-49EC-ABBE-A7836DFC6A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600391-803B-4414-B91E-F8BC50CE926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63C7C7-4059-485F-B677-625B10D1CF8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E9C9E9-EC3C-4EB8-B46C-146029A6673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FC22AA-4B8A-4EB3-A547-9D6A6AC1317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F9CD66-F7F5-4460-85CB-90BC73ECE42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772CC-EF67-4FF9-B18E-92692BF3980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D02216-8162-404E-84AC-007C136B85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D5D-ECBC-4A64-85A4-7FDA006A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0E2-E720-4B95-B140-C8606D44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01E-47E3-4AF1-8C53-0E364154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CC1-B75B-472B-9E81-FEEEC259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9CA-D9B8-4EC1-8213-E6356D16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7C1-3109-4805-92EE-E1766E9F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BD14-A0B6-4E2C-9E20-C31CE61E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7B5A-7AC2-419D-823D-3F5819A0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11E-128A-4B9E-BDE0-6EE6D283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EC9A-A38B-4CBD-98DF-032A0CBC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FE0-2EE1-45A3-B266-834E620A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EFFD-D1AB-486F-A1AE-B7EF20D8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0BFD2-F42F-426C-B81C-0E230B96F9D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194E0-6BA3-4402-9ECA-E4FA183AA60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C3D40-70A2-4DA5-BC3A-453B8D86E34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F03E5-5D71-4F38-878E-C8D1D370C2B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129B0-717D-4CFD-BAEB-1CA18EEF5D6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E33A9-78FD-49BA-B6EF-27DDFE21FAC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C401B-40AB-436E-9BFC-15520C276FD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813F5-317E-4454-8FA7-1A11F0A8C99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9DD89-3F8F-41BB-A43D-858597DC9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8E086-83EE-40E8-9399-D5E0CF97D1E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080F7-EDC7-4CC6-B711-25F4D1AC63B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AC0A4-E66D-4C98-8229-3A470FD4A56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EAE99-66B4-4B32-A510-BD514D8D1D6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6E867-1A13-495D-8F36-6644AFDB251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2A28E-F222-4FCE-B15C-5710726474B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958D4-2565-4FB3-9EBA-30CB6E4CC80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7A36D-A37F-44F4-8B8C-63C8BEF24A7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36F5A-E22F-4A5B-BF76-D3520A50920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32E63-5117-4E72-962B-8A4913D91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32A70-3325-41EA-8AA5-04BDD56ABE2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84C9F-9911-417A-A928-088F8A8B73E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27FE5-5F76-4841-8762-DEA2656396C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1D12E-D503-4FDB-BA61-E03736794AA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7A100-2483-466C-9F93-606B0142383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B834-100E-407E-94EF-9691C5C0FA5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A9A3-E791-41A0-8925-4C22DA6422D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C231-3963-447F-8ECD-875B4661F7D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ED77-2F1E-445F-8A7B-DCABC83ED8E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2B5E-6BE9-4FAE-874A-CC093E79D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9021-F27C-4B2A-B872-E0F25F2C7E0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E3AE-BFA3-4F3F-84A4-C41D63F4DD6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19B6-552C-4DF8-8385-6C95C7B38C4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2577-45D1-4D83-85C0-D282915529B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7EE3-2636-44F0-A91A-4A6BD8D6E49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130E-E6EE-4D24-8377-E8C8A07F4BE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ED8D-BDEB-4A95-8DA9-06BA2EB7BDA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413257-6239-4B36-A00D-75C46E1A99A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F21E10-01E9-45B4-B248-63897AB86DB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2402B9-7D8E-4A06-8757-C0D68E564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title_page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A31B6-2CB3-42B2-ABF6-CA6975C45A6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ABB70-82E3-46A9-A64F-6C48D93936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7567E-5825-4CA5-A23A-C1C9553331A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B786A-8429-47CC-AE4E-0EABC92CEB2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716F3-E1AE-4BEF-81F9-D51C656F4B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29E3C-5670-490E-B7FA-58FD09F61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F89F8-510A-4742-B34C-C8068FD33F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07714-CD33-4E9F-9236-666EB6EFB31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1EACA-6742-48A5-A935-3592397F920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2906D-F212-4BEC-9431-2B5B644D324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60036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4343400"/>
            <a:ext cx="3531960" cy="20764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C:\Users\heidi.ullrich\PowerFolders\At-Large\Outreach and Participation\At-Large Logo\IC_AtLarge_Logo.png"/>
          <p:cNvPicPr/>
          <p:nvPr/>
        </p:nvPicPr>
        <p:blipFill>
          <a:blip r:embed="rId2"/>
          <a:stretch/>
        </p:blipFill>
        <p:spPr>
          <a:xfrm>
            <a:off x="7315200" y="0"/>
            <a:ext cx="146376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1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402E5-2EB7-4FC2-87D2-0EE17096455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6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D9CDD-C341-4A21-9B6F-C8B8F2B3C62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sert photos in left colu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Placeholder 7" descr="plant.jpg"/>
          <p:cNvPicPr/>
          <p:nvPr/>
        </p:nvPicPr>
        <p:blipFill>
          <a:blip r:embed="rId1"/>
          <a:srcRect l="0" t="-39262" r="0" b="-39262"/>
          <a:stretch/>
        </p:blipFill>
        <p:spPr>
          <a:xfrm>
            <a:off x="304920" y="1600200"/>
            <a:ext cx="2133360" cy="4343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SVSF-logo-final-Feb2011-330x194.png"/>
          <p:cNvPicPr/>
          <p:nvPr/>
        </p:nvPicPr>
        <p:blipFill>
          <a:blip r:embed="rId2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4343400"/>
            <a:ext cx="3531960" cy="2076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C:\Users\heidi.ullrich\PowerFolders\At-Large\Outreach and Participation\At-Large Logo\IC_AtLarge_Logo.png"/>
          <p:cNvPicPr/>
          <p:nvPr/>
        </p:nvPicPr>
        <p:blipFill>
          <a:blip r:embed="rId2"/>
          <a:stretch/>
        </p:blipFill>
        <p:spPr>
          <a:xfrm>
            <a:off x="7315200" y="0"/>
            <a:ext cx="146376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2EE95-C6ED-4F38-A600-A838E24AEEC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23:04:36Z</dcterms:created>
  <dc:creator>HU</dc:creator>
  <dc:description/>
  <dc:language>en-US</dc:language>
  <cp:lastModifiedBy>HU</cp:lastModifiedBy>
  <dcterms:modified xsi:type="dcterms:W3CDTF">2011-03-01T23:09:24Z</dcterms:modified>
  <cp:revision>2</cp:revision>
  <dc:subject/>
  <dc:title>Presentation Title</dc:title>
</cp:coreProperties>
</file>