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318A29-85F6-48C4-B60C-AA5D7210B94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1E8CF5-313E-49BB-AA82-755366587A5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BD91AA-168C-4A1B-AB25-9FD2FA08D7A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442FE1-FB7A-4543-9EFB-BE169438CB0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C88256-E5C0-4648-AB11-59065CF5F63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D6DBF8-CB2E-47E9-B7E7-C5B6B2D89E4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36800B-2DF6-4325-9529-CCB619EB0B3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4F874B-2B43-4F55-A237-BEA90B16BFF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860899-17D8-43A7-848C-E2C42371A4F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8E76C-AB83-4748-8A3C-3C67C4342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3CCAF-19BC-4BE2-B8F6-C4A986D4489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F3E1D-BFF6-48B7-AC7D-9D31BB88957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6CFD5-98DA-4847-8CDF-40D53823CBB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9CE68-A513-402C-A8BD-3FE1B01A2E5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5D8BA-9043-47B8-909D-075F27568B8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1BC1D-CF05-439C-8678-E76125C1D6E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D3B94-45CA-4A6D-AB4A-F8B470C7F12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B58E0-029B-4F41-80E8-CE1ACF8A520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A04931-B4A4-431A-ADC1-6C205C78063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B9C92-E456-4E6D-B692-A8917E66C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5D8DC-79A6-4266-86ED-DC20C4AB651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C847E-B8B9-485C-A916-0621694DF01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D723F-40B1-4896-A3B0-C19354FAFE6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61B0A-EDE6-4FD2-A35B-E50CDC5B932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E3A93-2E0B-415B-B320-9A73D4C174D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3F020-259C-4E8D-B433-328D172196A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6F669-D29D-4489-86D8-28199165846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7DB26-054B-4D49-90A5-2EBF116A8EF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F62E9-B1D9-4B57-BBA8-2153240E3E9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D6F7C-484C-441D-8943-B25A166E8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6F990-8B51-48C6-A5E8-95C88F1665A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D92B2-23FB-41C9-B6FE-8F3CF1346E3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11763-87D6-431D-83CB-164B56FA2B4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11ECB2-1BDB-41E4-8C9D-0CB568CE2F1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236DB7-37C1-4EF9-990A-48B15A0E35C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B190F0-EC39-43BD-B567-F6FA28D32FE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E23AD9-E3A4-464B-84C0-F5016AFCE07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4B0B91-A16B-43D6-9F83-50D97FDF2B4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0D653F-85E1-47C9-84A0-028F1F437A9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23A9EE-CCDB-4391-8DE3-036E2FA33D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7D4851-C676-43B5-A20C-623E2A16C59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D4D084-6DAA-4A99-B1D0-D0232422835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7B3A49-33C7-4524-9A61-390EE579118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DF7F9A-E7F2-4CAF-8913-37FDA458FC6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22ACEE-A41F-46A3-9C93-B329627273D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680175-1659-4E96-A2CE-97C01AC94BE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1CB35-517C-4196-848E-E4DAC64B7A6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008C36-2BD6-463B-8412-1F954775794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00427C-35E5-485E-B203-7D76B46F491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08848-D8D1-476A-863A-215F18F6DF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7818F0-7617-4A46-B590-CCA30095D6F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61FF70-6D41-4B10-83D2-FDF3A39C8A0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9667A6-2F68-4894-AEA9-09BCC0E1935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B99945-425C-41E8-9387-22C9951F4B1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E66C55-6164-4BA2-9DDC-D8F88C514C2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B77D40-8086-4BA9-8F09-3B86C187D99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6D06C6-CE66-4FB5-9AD0-0F696B5FC8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9206-A187-4A66-A1A6-5EE8EF0D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4E0C-76BD-44D4-899C-FA5D612D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C3C-FF07-4392-A09F-93F436A8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756-D0EC-489E-BF43-080E4E26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D6D9-39AB-49D7-A9F2-51F673DD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DA1-E456-4548-9AD5-3DE56380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537-576E-4DEA-A1E4-362B753E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DBC-3425-4D11-A40E-69D6A823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30D-05A0-46CB-AB32-9C6181F1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FEE-C710-4572-A74D-48A00356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FEC1-1012-4F26-8AE5-A7D04FF7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778B-27A7-40DF-B5F5-29224ADB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1FFCD-D652-4C17-88FF-DB5747BA38A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8D200-FBA8-4D99-A153-34947175347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CFF62-A231-4075-8731-DAD8D90A967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108F3-756C-4563-9D74-0881522F5E1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FC21A-E95F-41DF-AA82-8C13C3F6D8E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D1F62-5B0D-4390-BBF9-DAE6849C2C3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495D6-2171-4ED1-89B2-3B5B1546362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4E929-0077-40FC-8B69-5E1764E4C9A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BFD7B-C4F5-4FFD-9985-7BE2FC4BD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68766-6A32-4B1D-AD73-CBC40A27405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6AF40-F147-4AF0-9521-5094F5BC6E1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FF275-D7EA-4A46-AF77-05F041D0485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8B445-A726-4E90-B226-8248BD01199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BF6D1-B780-4161-A7B1-A9639EF2DA2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E423C-6AA7-468E-AB77-A101F2B861A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FDF35-7C0A-4737-B7E5-3D4E98AC011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8D57F-2A98-414D-8431-65D80AF2791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23AE6-22DB-4136-A1F5-1027A7DC1BE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338F9-A832-489F-8559-15BC53754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4E3D0-DBE9-40E7-BFEF-01CE079E3D9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AD6A7-12A6-4115-8CDB-F5562FF9518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02B0C-F87E-4DFB-997B-B6FE1B54007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B537F-AE82-4F0C-858C-5C9F36D4334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C04ED-8C10-4A17-B467-E9804DE0824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BC15-207F-4F94-8241-E02F8E13ED9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3618-4A3A-43B7-BCC7-D7DA58AD288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1917-69FB-48AF-9036-718F7120117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AD1D-0F47-4C82-86DD-8D7604A1778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16D1-FCE7-4176-8A5C-D1BA8A452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53B9-85B9-4107-B7C6-2666AD074A1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7EEA-9E51-4030-B2DA-031D01D2126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8DD7-E681-4345-91A4-DE27967980A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5A22-DFA6-4035-BFEE-439CE75445B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7B2E-BF1A-4CCF-8752-A0A71D6B0FC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85B9-25E4-451F-B4C8-81AC874371C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B20F-5117-4C26-86EB-CE464189CEF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F81257-EFED-4AAE-9EDF-D689B936A55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E96BD1-46F4-47D7-B0F2-FA716785BFD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8172E2-3A72-460F-93B4-B77F498D7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title_page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F471A-95D3-4C11-9347-8A4B9E91685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9E4C2-D371-48F1-914C-D03B8A1FF3F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C7E3D-5B51-40E6-B40A-F6CCBDC4077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1841A-52B7-4B34-B7F7-24A8ADBED30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45D6B-0A14-4DCA-8051-33F2A15917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CCE64-2222-44EB-B50B-29C4FEDF3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811E1-A0F2-4EF3-BD8D-3073B38B534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8F9AC-B38B-412B-B6E2-7253FB1213A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6F998-73FC-4669-89BD-D64D54A83BA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A7630-8854-479E-9F54-15ECAAAC554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60036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4343400"/>
            <a:ext cx="3531960" cy="20764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C:\Users\heidi.ullrich\PowerFolders\At-Large\Outreach and Participation\At-Large Logo\IC_AtLarge_Logo.png"/>
          <p:cNvPicPr/>
          <p:nvPr/>
        </p:nvPicPr>
        <p:blipFill>
          <a:blip r:embed="rId2"/>
          <a:stretch/>
        </p:blipFill>
        <p:spPr>
          <a:xfrm>
            <a:off x="7315200" y="0"/>
            <a:ext cx="146376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1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5CB42-77C6-4703-957D-400D6B4959E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6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F1A5D-F894-4F15-A4D1-AEB2C3734E6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sert photos in left colu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Placeholder 7" descr="plant.jpg"/>
          <p:cNvPicPr/>
          <p:nvPr/>
        </p:nvPicPr>
        <p:blipFill>
          <a:blip r:embed="rId1"/>
          <a:srcRect l="0" t="-39262" r="0" b="-39262"/>
          <a:stretch/>
        </p:blipFill>
        <p:spPr>
          <a:xfrm>
            <a:off x="304920" y="1600200"/>
            <a:ext cx="2133360" cy="4343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SVSF-logo-final-Feb2011-330x194.png"/>
          <p:cNvPicPr/>
          <p:nvPr/>
        </p:nvPicPr>
        <p:blipFill>
          <a:blip r:embed="rId2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4343400"/>
            <a:ext cx="3531960" cy="2076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C:\Users\heidi.ullrich\PowerFolders\At-Large\Outreach and Participation\At-Large Logo\IC_AtLarge_Logo.png"/>
          <p:cNvPicPr/>
          <p:nvPr/>
        </p:nvPicPr>
        <p:blipFill>
          <a:blip r:embed="rId2"/>
          <a:stretch/>
        </p:blipFill>
        <p:spPr>
          <a:xfrm>
            <a:off x="7315200" y="0"/>
            <a:ext cx="146376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83F765-442C-479F-900E-471DD46C57E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23:04:36Z</dcterms:created>
  <dc:creator>HU</dc:creator>
  <dc:description/>
  <dc:language>en-US</dc:language>
  <cp:lastModifiedBy>HU</cp:lastModifiedBy>
  <dcterms:modified xsi:type="dcterms:W3CDTF">2011-03-01T23:09:24Z</dcterms:modified>
  <cp:revision>2</cp:revision>
  <dc:subject/>
  <dc:title>Presentation Title</dc:title>
</cp:coreProperties>
</file>