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6C229-CF5D-42A3-9E1D-77D49886C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lank for full frame pix or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00C7A-3C95-4C96-9D53-7A9B20A4D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up your presentation, divide it into sections.  This is especially useful if most of your presentation is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EFD83-476A-4F3C-A337-1F78005EB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0A2-F3E5-44B5-A01C-9562D388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D74-4A5C-421E-8F11-AA78F521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4F1-8893-46D6-828B-2939F797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2E4-2E53-48D5-B4B8-8CBCEBD5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A96-FC5D-4DA6-A47D-949106FB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CB8-615C-4CCC-A76C-C4C5B122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41B-AF36-4252-9523-B7E19734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CAD-3FA8-40D7-9E0C-31201E6C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8BE-21DB-416C-981F-08660BD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BD5-1DCD-4026-889E-EEB6527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701-E144-4AA5-962C-9CB8D8A2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2AC-E5D4-4BE7-9237-D6DD17A1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F4C0A-8EAD-4981-B67E-C1ABAFE85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81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127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88594DF4-B496-46D5-A455-8C5279C2196C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gacweb.icann.org/display/gacweb/Summary+of+community+input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cc@mrecic.gov.ar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Placeholder 1"/>
          <p:cNvSpPr/>
          <p:nvPr/>
        </p:nvSpPr>
        <p:spPr>
          <a:xfrm>
            <a:off x="790560" y="1235160"/>
            <a:ext cx="7572240" cy="3755880"/>
          </a:xfrm>
          <a:prstGeom prst="rect">
            <a:avLst/>
          </a:prstGeom>
          <a:solidFill>
            <a:srgbClr val="c0c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El GAC y los usuarios d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ga Cavalli – GAC Vic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nte de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 de marzo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415280" y="4516560"/>
            <a:ext cx="1728720" cy="2341440"/>
          </a:xfrm>
          <a:prstGeom prst="rect">
            <a:avLst/>
          </a:prstGeom>
          <a:ln w="0">
            <a:noFill/>
          </a:ln>
        </p:spPr>
      </p:pic>
      <p:sp>
        <p:nvSpPr>
          <p:cNvPr id="332" name="Title 1"/>
          <p:cNvSpPr/>
          <p:nvPr/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1960">
              <a:lnSpc>
                <a:spcPts val="3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Web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552600" y="1000080"/>
            <a:ext cx="82296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cipación en el proceso de transición de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G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IANA Stewardship Transition Coordination Group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CWG-Stewardship - Cross-Community Working Group to Develop an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ANA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Stewardship Transition Proposal on Naming Relat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WG-Accountability - Cross Community Working Group on Enhancing ICANN 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iembros del GAC coordinados en todos los grupos de trabajo y subgrup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incipios del GAC para ICANN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s://www.icann.org/news/blog/vol-2-update-on-iana-stewardship-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438120" y="835200"/>
            <a:ext cx="87058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upos de trabajo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y su participación en Nom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o de beneficios de subastas de nuevos gTLDs (CC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ccTLDs y gobi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served region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gobiernos y IC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s caracteres y nombres de país en el segundo 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GNSO Relacionamiento temp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24000" y="1054080"/>
            <a:ext cx="8705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trabajo Cross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y: Interés del GAC de participar no se ha recibido inv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mbres de países y códigos como TLDs (ccNSO y GN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uniones de Alto Nivel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organizan cada dos o tres años (Toronto 2012 – Londres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ción de la reunión de alto nivel en Marruecos, ICANN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 algn="ctr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esiones conjuntas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371520" y="100008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sión abierta sobre uso de nombres geográficos en nuevos gT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ntarios enviados por A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yo al documento del grupo de trabajo sobre protección de nombres geo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r el relacionamiento entre el aplicante y la comunidad relevante al nuevo TLD solic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r experiencias de la primera ronda de nuevos gTLDs de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rir el consentimiento de las regiones involucradas a los aplicantes mediante el involucramiento de residentes y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gacweb.icann.org/display/gacweb/Summary+of+community+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trabajo conjunto entre el grupo de trabajo del GAC y ALA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laboración Futura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438120" y="1539720"/>
            <a:ext cx="82296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ción de “Public Inter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ademy working group – GAC está interesado 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temas de común inter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69520" y="1456920"/>
            <a:ext cx="625644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any thank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Muchas gracia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Pregunt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 Cavalli – GAC Vice Chai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Argentina Represent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Source Sans Pro Light"/>
                <a:ea typeface="Source Sans Pro Light"/>
                <a:hlinkClick r:id="rId1"/>
              </a:rPr>
              <a:t>occ@mrecic.gov.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cavalli@gmail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843120" y="12193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6919920" y="2230560"/>
            <a:ext cx="1728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Terri Agnew</cp:lastModifiedBy>
  <cp:lastPrinted>2015-01-14T03:55:09Z</cp:lastPrinted>
  <dcterms:modified xsi:type="dcterms:W3CDTF">2015-03-19T21:35:25Z</dcterms:modified>
  <cp:revision>206</cp:revision>
  <dc:subject/>
  <dc:title>PowerPoint Presentation</dc:title>
</cp:coreProperties>
</file>