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AFA04-08D4-41E9-8CFE-72A595702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lank for full frame pix or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334AA-D0EF-445F-907B-40A3ECC46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up your presentation, divide it into sections.  This is especially useful if most of your presentation is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845B0-73A4-4D3E-9FB4-BD297B185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6AC-0839-4D2E-9EAC-B2F3911D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521-81F8-47B8-B7F4-C0AB9E0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85C-02F7-44BB-BD3A-E6A7A153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541-3559-46E8-A647-71C978B2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91B-68F7-4DF7-899B-CC90568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4E1-BA24-4A69-B842-AD0B5AF9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11E-69CC-4F82-A59D-FECAE191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E4B-1B32-4759-9274-258A599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400-4DA9-4D5B-9359-12F50CB6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650-C24C-41F2-96FB-92A44693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945-D418-45BC-8AB6-3DD7B386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E44-16CC-462F-AC30-48C952F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766D5-9C44-4A47-8325-61EB74E7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81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127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B61B2FFB-063B-4506-B026-E09C57125015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gacweb.icann.org/display/gacweb/Summary+of+community+input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cc@mrecic.gov.ar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Placeholder 1"/>
          <p:cNvSpPr/>
          <p:nvPr/>
        </p:nvSpPr>
        <p:spPr>
          <a:xfrm>
            <a:off x="790560" y="1235160"/>
            <a:ext cx="7572240" cy="3755880"/>
          </a:xfrm>
          <a:prstGeom prst="rect">
            <a:avLst/>
          </a:prstGeom>
          <a:solidFill>
            <a:srgbClr val="c0c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El GAC y los usuarios d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ga Cavalli – GAC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nte de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 de marzo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415280" y="4516560"/>
            <a:ext cx="1728720" cy="23414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1960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eb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552600" y="1000080"/>
            <a:ext cx="82296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ción en el proceso de transición d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G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IANA Stewardship Transition Coordination Group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CWG-Stewardship - Cross-Community Working Group to Develop an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ANA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Stewardship Transition Proposal on Naming Relat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WG-Accountability - Cross Community Working Group on Enhancing ICANN 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iembros del GAC coordinados en todos los grupos de trabajo y subgrup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incipios del GAC para ICANN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s://www.icann.org/news/blog/vol-2-update-on-iana-stewardship-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438120" y="835200"/>
            <a:ext cx="87058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upos de trabajo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y su participación en Nom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o de beneficios de subastas de nuevos gTLDs (CC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ccTLDs y gobi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served region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gobiernos y IC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s caracteres y nombres de país en el segundo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GNSO Relacionamiento temp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000" y="1054080"/>
            <a:ext cx="8705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trabajo Cross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y: Interés del GAC de participar no se ha recibido inv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mbres de países y códigos como TLDs (ccNSO y G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uniones de Alto Nive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organizan cada dos o tres años (Toronto 2012 – Londres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ción de la reunión de alto nivel en Marruecos, ICANN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 algn="ctr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esiones conjuntas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371520" y="100008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sión abierta sobre uso de nombres geográficos en nuevos g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ntarios enviados por 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yo al documento del grupo de trabajo sobre protección de nombres geo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r el relacionamiento entre el aplicante y la comunidad relevante al nuevo TLD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r experiencias de la primera ronda de nuevos gTLDs de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rir el consentimiento de las regiones involucradas a los aplicantes mediante el involucramiento de residentes y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acweb.icann.org/display/gacweb/Summary+of+community+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trabajo conjunto entre el grupo de trabajo del GAC y ALA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laboración Futura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438120" y="1539720"/>
            <a:ext cx="82296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ción de “Public 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y working group – GAC está interesado 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temas de común inte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69520" y="1456920"/>
            <a:ext cx="625644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any thank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Muchas graci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Pregunt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 Cavalli – GAC Vice Cha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Argentina Represen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Source Sans Pro Light"/>
                <a:ea typeface="Source Sans Pro Light"/>
                <a:hlinkClick r:id="rId1"/>
              </a:rPr>
              <a:t>occ@mrecic.gov.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cavalli@gmail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843120" y="12193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6919920" y="2230560"/>
            <a:ext cx="1728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Terri Agnew</cp:lastModifiedBy>
  <cp:lastPrinted>2015-01-14T03:55:09Z</cp:lastPrinted>
  <dcterms:modified xsi:type="dcterms:W3CDTF">2015-03-19T21:35:25Z</dcterms:modified>
  <cp:revision>206</cp:revision>
  <dc:subject/>
  <dc:title>PowerPoint Presentation</dc:title>
</cp:coreProperties>
</file>