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C7BF48-2739-4E2C-9D50-7AF1C97B3A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blank for full frame pix or grap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DBDC36-BEEC-47EE-85AD-7472FB3462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up your presentation, divide it into sections.  This is especially useful if most of your presentation is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00159B-FF1B-45E2-A471-E7B83DA730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BEE8-0D03-48E4-9AA5-E6CB96605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9EAC-F64F-43CB-B019-7E983FD2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23F5-212B-4039-8C91-B3098ECC4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7E65-3267-40BE-AA73-F40F377B4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AAE0-2115-4888-AC20-E0D11FBBC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C47D-4A3A-4462-B1DC-DCF52AEF9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62FC-CC10-4156-90AC-71C28779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88D9-58FE-4D29-9E70-CE8D7A33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8DA1-E34D-4173-8C51-A877F596F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40EB-2583-403A-AC77-3FBF965B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4B65-5BA2-48B5-B148-17823F86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AC54-B9F7-4355-8CEC-35A46537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071D1B-2B11-41AF-A5C8-E23D9D0B90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3" descr=""/>
          <p:cNvPicPr/>
          <p:nvPr/>
        </p:nvPicPr>
        <p:blipFill>
          <a:blip r:embed="rId2"/>
          <a:srcRect l="5216" t="0" r="3872" b="0"/>
          <a:stretch/>
        </p:blipFill>
        <p:spPr>
          <a:xfrm>
            <a:off x="-60480" y="-7920"/>
            <a:ext cx="9296640" cy="6880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-68400"/>
            <a:ext cx="9309240" cy="6954840"/>
            <a:chOff x="0" y="-68400"/>
            <a:chExt cx="9309240" cy="6954840"/>
          </a:xfrm>
        </p:grpSpPr>
        <p:pic>
          <p:nvPicPr>
            <p:cNvPr id="81" name="Picture 10" descr=""/>
            <p:cNvPicPr/>
            <p:nvPr/>
          </p:nvPicPr>
          <p:blipFill>
            <a:blip r:embed="rId2"/>
            <a:stretch/>
          </p:blipFill>
          <p:spPr>
            <a:xfrm>
              <a:off x="0" y="245520"/>
              <a:ext cx="9309240" cy="63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Rectangle 1"/>
            <p:cNvSpPr/>
            <p:nvPr/>
          </p:nvSpPr>
          <p:spPr>
            <a:xfrm>
              <a:off x="0" y="-68400"/>
              <a:ext cx="9309240" cy="352440"/>
            </a:xfrm>
            <a:prstGeom prst="rect">
              <a:avLst/>
            </a:prstGeom>
            <a:solidFill>
              <a:srgbClr val="062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11"/>
            <p:cNvSpPr/>
            <p:nvPr/>
          </p:nvSpPr>
          <p:spPr>
            <a:xfrm>
              <a:off x="0" y="6602400"/>
              <a:ext cx="9309240" cy="284040"/>
            </a:xfrm>
            <a:prstGeom prst="rect">
              <a:avLst/>
            </a:prstGeom>
            <a:solidFill>
              <a:srgbClr val="062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Rectangle 6"/>
          <p:cNvSpPr/>
          <p:nvPr/>
        </p:nvSpPr>
        <p:spPr>
          <a:xfrm>
            <a:off x="0" y="4130640"/>
            <a:ext cx="9309240" cy="1898640"/>
          </a:xfrm>
          <a:prstGeom prst="rect">
            <a:avLst/>
          </a:prstGeom>
          <a:solidFill>
            <a:srgbClr val="1768b1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0" y="4130640"/>
            <a:ext cx="1697040" cy="1898640"/>
          </a:xfrm>
          <a:prstGeom prst="rect">
            <a:avLst/>
          </a:pr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ICANN_Logo_W.eps"/>
          <p:cNvPicPr/>
          <p:nvPr/>
        </p:nvPicPr>
        <p:blipFill>
          <a:blip r:embed="rId3"/>
          <a:stretch/>
        </p:blipFill>
        <p:spPr>
          <a:xfrm>
            <a:off x="235080" y="4565520"/>
            <a:ext cx="1253880" cy="97344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9"/>
          <p:cNvSpPr/>
          <p:nvPr/>
        </p:nvSpPr>
        <p:spPr>
          <a:xfrm flipV="1">
            <a:off x="0" y="4130280"/>
            <a:ext cx="9309240" cy="115920"/>
          </a:xfrm>
          <a:prstGeom prst="rect">
            <a:avLst/>
          </a:prstGeom>
          <a:solidFill>
            <a:srgbClr val="0c1f24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10"/>
          <p:cNvGrpSpPr/>
          <p:nvPr/>
        </p:nvGrpSpPr>
        <p:grpSpPr>
          <a:xfrm>
            <a:off x="0" y="2109960"/>
            <a:ext cx="9198000" cy="4759200"/>
            <a:chOff x="0" y="2109960"/>
            <a:chExt cx="9198000" cy="4759200"/>
          </a:xfrm>
        </p:grpSpPr>
        <p:sp>
          <p:nvSpPr>
            <p:cNvPr id="127" name="Freeform 2"/>
            <p:cNvSpPr/>
            <p:nvPr/>
          </p:nvSpPr>
          <p:spPr>
            <a:xfrm>
              <a:off x="0" y="2109960"/>
              <a:ext cx="9198000" cy="4759200"/>
            </a:xfrm>
            <a:custGeom>
              <a:avLst/>
              <a:gdLst/>
              <a:ahLst/>
              <a:rect l="l" t="t" r="r" b="b"/>
              <a:pathLst>
                <a:path w="9198524" h="5515904">
                  <a:moveTo>
                    <a:pt x="0" y="0"/>
                  </a:moveTo>
                  <a:lnTo>
                    <a:pt x="9198524" y="3014506"/>
                  </a:lnTo>
                  <a:lnTo>
                    <a:pt x="9198524" y="5477421"/>
                  </a:lnTo>
                  <a:lnTo>
                    <a:pt x="0" y="5515904"/>
                  </a:lnTo>
                  <a:cubicBezTo>
                    <a:pt x="4276" y="3685821"/>
                    <a:pt x="8553" y="1855738"/>
                    <a:pt x="0" y="0"/>
                  </a:cubicBezTo>
                  <a:close/>
                </a:path>
              </a:pathLst>
            </a:custGeom>
            <a:solidFill>
              <a:srgbClr val="1768b1">
                <a:alpha val="1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3"/>
            <p:cNvSpPr/>
            <p:nvPr/>
          </p:nvSpPr>
          <p:spPr>
            <a:xfrm>
              <a:off x="0" y="3175200"/>
              <a:ext cx="9144360" cy="3693960"/>
            </a:xfrm>
            <a:custGeom>
              <a:avLst/>
              <a:gdLst/>
              <a:ahLst/>
              <a:rect l="l" t="t" r="r" b="b"/>
              <a:pathLst>
                <a:path w="6029715" h="6875638">
                  <a:moveTo>
                    <a:pt x="6029715" y="0"/>
                  </a:moveTo>
                  <a:lnTo>
                    <a:pt x="6029715" y="6875638"/>
                  </a:lnTo>
                  <a:lnTo>
                    <a:pt x="0" y="6875638"/>
                  </a:lnTo>
                  <a:lnTo>
                    <a:pt x="6029715" y="0"/>
                  </a:lnTo>
                  <a:close/>
                </a:path>
              </a:pathLst>
            </a:custGeom>
            <a:solidFill>
              <a:srgbClr val="1768b1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9" name="Picture 1" descr="footer.jpg"/>
          <p:cNvPicPr/>
          <p:nvPr/>
        </p:nvPicPr>
        <p:blipFill>
          <a:blip r:embed="rId2"/>
          <a:stretch/>
        </p:blipFill>
        <p:spPr>
          <a:xfrm>
            <a:off x="0" y="6318360"/>
            <a:ext cx="9151920" cy="547560"/>
          </a:xfrm>
          <a:prstGeom prst="rect">
            <a:avLst/>
          </a:prstGeom>
          <a:ln w="0">
            <a:noFill/>
          </a:ln>
        </p:spPr>
      </p:pic>
      <p:sp>
        <p:nvSpPr>
          <p:cNvPr id="130" name="Slide Number Placeholder 5"/>
          <p:cNvSpPr/>
          <p:nvPr/>
        </p:nvSpPr>
        <p:spPr>
          <a:xfrm>
            <a:off x="6826320" y="64152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|   </a:t>
            </a:r>
            <a:fld id="{34885ACD-7106-4D3A-A096-775AC1AE7741}" type="slidenum">
              <a:rPr b="0" lang="en-US" sz="14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3" descr="agenda2.jpg"/>
          <p:cNvPicPr/>
          <p:nvPr/>
        </p:nvPicPr>
        <p:blipFill>
          <a:blip r:embed="rId2"/>
          <a:srcRect l="19228" t="0" r="19890" b="0"/>
          <a:stretch/>
        </p:blipFill>
        <p:spPr>
          <a:xfrm>
            <a:off x="0" y="-324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6" descr="agenda3.jpg"/>
          <p:cNvPicPr/>
          <p:nvPr/>
        </p:nvPicPr>
        <p:blipFill>
          <a:blip r:embed="rId2"/>
          <a:srcRect l="19206" t="0" r="19518" b="0"/>
          <a:stretch/>
        </p:blipFill>
        <p:spPr>
          <a:xfrm>
            <a:off x="0" y="0"/>
            <a:ext cx="9156600" cy="687708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gacweb.icann.org/display/gacweb/Summary+of+community+input" TargetMode="External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occ@mrecic.gov.ar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Placeholder 1"/>
          <p:cNvSpPr/>
          <p:nvPr/>
        </p:nvSpPr>
        <p:spPr>
          <a:xfrm>
            <a:off x="790560" y="1235160"/>
            <a:ext cx="7572240" cy="3755880"/>
          </a:xfrm>
          <a:prstGeom prst="rect">
            <a:avLst/>
          </a:prstGeom>
          <a:solidFill>
            <a:srgbClr val="c0c0c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ource Sans Pro"/>
                <a:ea typeface="Source Sans Pro"/>
              </a:rPr>
              <a:t>El GAC y los usuarios de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lga Cavalli – GAC Vice Ch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resentante de Argen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9 de marzo, 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6" descr=""/>
          <p:cNvPicPr/>
          <p:nvPr/>
        </p:nvPicPr>
        <p:blipFill>
          <a:blip r:embed="rId1"/>
          <a:stretch/>
        </p:blipFill>
        <p:spPr>
          <a:xfrm>
            <a:off x="7415280" y="4516560"/>
            <a:ext cx="1728720" cy="2341440"/>
          </a:xfrm>
          <a:prstGeom prst="rect">
            <a:avLst/>
          </a:prstGeom>
          <a:ln w="0">
            <a:noFill/>
          </a:ln>
        </p:spPr>
      </p:pic>
      <p:sp>
        <p:nvSpPr>
          <p:cNvPr id="332" name="Title 1"/>
          <p:cNvSpPr/>
          <p:nvPr/>
        </p:nvSpPr>
        <p:spPr>
          <a:xfrm>
            <a:off x="0" y="0"/>
            <a:ext cx="9144000" cy="711360"/>
          </a:xfrm>
          <a:prstGeom prst="rect">
            <a:avLst/>
          </a:prstGeom>
          <a:solidFill>
            <a:srgbClr val="1768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91960">
              <a:lnSpc>
                <a:spcPts val="39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Web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1360"/>
          </a:xfrm>
          <a:prstGeom prst="rect">
            <a:avLst/>
          </a:prstGeom>
          <a:solidFill>
            <a:srgbClr val="1768b1"/>
          </a:solidFill>
          <a:ln w="0">
            <a:noFill/>
          </a:ln>
        </p:spPr>
        <p:txBody>
          <a:bodyPr anchor="ctr">
            <a:noAutofit/>
          </a:bodyPr>
          <a:p>
            <a:pPr marL="291960" indent="0">
              <a:lnSpc>
                <a:spcPts val="3974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Temas relevantes para el GAC el 2015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Box 4"/>
          <p:cNvSpPr/>
          <p:nvPr/>
        </p:nvSpPr>
        <p:spPr>
          <a:xfrm>
            <a:off x="552600" y="1000080"/>
            <a:ext cx="8229600" cy="53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articipación en el proceso de transición de I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G -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 IANA Stewardship Transition Coordination Group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  <a:ea typeface="Arial"/>
              </a:rPr>
              <a:t>CWG-Stewardship - Cross-Community Working Group to Develop an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ANA</a:t>
            </a:r>
            <a:r>
              <a:rPr b="0" lang="es-ES" sz="1800" spc="-1" strike="noStrike">
                <a:solidFill>
                  <a:srgbClr val="333333"/>
                </a:solidFill>
                <a:latin typeface="Arial"/>
                <a:ea typeface="Arial"/>
              </a:rPr>
              <a:t>Stewardship Transition Proposal on Naming Related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CWG-Accountability - Cross Community Working Group on Enhancing ICANN Accountabi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Miembros del GAC coordinados en todos los grupos de trabajo y subgrupos de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Principios del GAC para ICANN Accoun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s://www.icann.org/news/blog/vol-2-update-on-iana-stewardship-discus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1360"/>
          </a:xfrm>
          <a:prstGeom prst="rect">
            <a:avLst/>
          </a:prstGeom>
          <a:solidFill>
            <a:srgbClr val="1768b1"/>
          </a:solidFill>
          <a:ln w="0">
            <a:noFill/>
          </a:ln>
        </p:spPr>
        <p:txBody>
          <a:bodyPr anchor="ctr">
            <a:noAutofit/>
          </a:bodyPr>
          <a:p>
            <a:pPr marL="291960" indent="0">
              <a:lnSpc>
                <a:spcPts val="3974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Temas relevantes para el GAC el 2015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Box 4"/>
          <p:cNvSpPr/>
          <p:nvPr/>
        </p:nvSpPr>
        <p:spPr>
          <a:xfrm>
            <a:off x="438120" y="835200"/>
            <a:ext cx="8705880" cy="75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rupos de trabajo inter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ombres geográficos en nuevos gT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AC y su participación en Nom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rechos hum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so de beneficios de subastas de nuevos gTLDs (CC 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lacionamiento entre ccTLDs y gobier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nderserved regions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lacionamiento entre gobiernos y ICA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os caracteres y nombres de país en el segundo niv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AC GNSO Relacionamiento tempr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1360"/>
          </a:xfrm>
          <a:prstGeom prst="rect">
            <a:avLst/>
          </a:prstGeom>
          <a:solidFill>
            <a:srgbClr val="1768b1"/>
          </a:solidFill>
          <a:ln w="0">
            <a:noFill/>
          </a:ln>
        </p:spPr>
        <p:txBody>
          <a:bodyPr anchor="ctr">
            <a:noAutofit/>
          </a:bodyPr>
          <a:p>
            <a:pPr marL="291960" indent="0">
              <a:lnSpc>
                <a:spcPts val="3974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Temas relevantes para el GAC el 2015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Box 4"/>
          <p:cNvSpPr/>
          <p:nvPr/>
        </p:nvSpPr>
        <p:spPr>
          <a:xfrm>
            <a:off x="324000" y="1054080"/>
            <a:ext cx="870588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rupos de trabajo Cross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ademy: Interés del GAC de participar no se ha recibido invi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mbres de países y códigos como TLDs (ccNSO y GN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uniones de Alto Nivel de Gobi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 organizan cada dos o tres años (Toronto 2012 – Londres 20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paración de la reunión de alto nivel en Marruecos, ICANN 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1360"/>
          </a:xfrm>
          <a:prstGeom prst="rect">
            <a:avLst/>
          </a:prstGeom>
          <a:solidFill>
            <a:srgbClr val="1768b1"/>
          </a:solidFill>
          <a:ln w="0">
            <a:noFill/>
          </a:ln>
        </p:spPr>
        <p:txBody>
          <a:bodyPr anchor="ctr">
            <a:noAutofit/>
          </a:bodyPr>
          <a:p>
            <a:pPr marL="291960" indent="0" algn="ctr">
              <a:lnSpc>
                <a:spcPts val="3974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Sesiones conjuntas GAC ALAC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TextBox 4"/>
          <p:cNvSpPr/>
          <p:nvPr/>
        </p:nvSpPr>
        <p:spPr>
          <a:xfrm>
            <a:off x="371520" y="1000080"/>
            <a:ext cx="8229600" cy="46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sión abierta sobre uso de nombres geográficos en nuevos gT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entarios enviados por AL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oyo al documento del grupo de trabajo sobre protección de nombres geográfic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orzar el relacionamiento entre el aplicante y la comunidad relevante al nuevo TLD solici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evar experiencias de la primera ronda de nuevos gTLDs del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rir el consentimiento de las regiones involucradas a los aplicantes mediante el involucramiento de residentes y organiz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s://gacweb.icann.org/display/gacweb/Summary+of+community+inp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ible trabajo conjunto entre el grupo de trabajo del GAC y ALAC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1360"/>
          </a:xfrm>
          <a:prstGeom prst="rect">
            <a:avLst/>
          </a:prstGeom>
          <a:solidFill>
            <a:srgbClr val="1768b1"/>
          </a:solidFill>
          <a:ln w="0">
            <a:noFill/>
          </a:ln>
        </p:spPr>
        <p:txBody>
          <a:bodyPr anchor="ctr">
            <a:noAutofit/>
          </a:bodyPr>
          <a:p>
            <a:pPr marL="291960" indent="0">
              <a:lnSpc>
                <a:spcPts val="3974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Colaboración Futura GAC ALAC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Box 4"/>
          <p:cNvSpPr/>
          <p:nvPr/>
        </p:nvSpPr>
        <p:spPr>
          <a:xfrm>
            <a:off x="438120" y="1539720"/>
            <a:ext cx="822960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ombres geográficos en nuevos gTLD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finición de “Public Interes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cademy working group – GAC está interesado en particip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tros temas de común interé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569520" y="1456920"/>
            <a:ext cx="6256440" cy="46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Many thank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ource Sans Pro Light"/>
                <a:ea typeface="Source Sans Pro Light"/>
              </a:rPr>
              <a:t>Muchas gracias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ource Sans Pro Light"/>
                <a:ea typeface="Source Sans Pro Light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ource Sans Pro Light"/>
                <a:ea typeface="Source Sans Pro Light"/>
              </a:rPr>
              <a:t>Pregunta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ource Sans Pro Light"/>
                <a:ea typeface="Source Sans Pro Ligh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ource Sans Pro Light"/>
                <a:ea typeface="Source Sans Pro Light"/>
              </a:rPr>
              <a:t>Olga Cavalli – GAC Vice Chai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ource Sans Pro Light"/>
                <a:ea typeface="Source Sans Pro Light"/>
              </a:rPr>
              <a:t>Argentina Representa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Source Sans Pro Light"/>
                <a:ea typeface="Source Sans Pro Light"/>
                <a:hlinkClick r:id="rId1"/>
              </a:rPr>
              <a:t>occ@mrecic.gov.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ource Sans Pro Light"/>
                <a:ea typeface="Source Sans Pro Light"/>
              </a:rPr>
              <a:t>olgacavalli@gmail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extBox 2"/>
          <p:cNvSpPr/>
          <p:nvPr/>
        </p:nvSpPr>
        <p:spPr>
          <a:xfrm>
            <a:off x="843120" y="121932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3" descr=""/>
          <p:cNvPicPr/>
          <p:nvPr/>
        </p:nvPicPr>
        <p:blipFill>
          <a:blip r:embed="rId2"/>
          <a:stretch/>
        </p:blipFill>
        <p:spPr>
          <a:xfrm>
            <a:off x="6919920" y="2230560"/>
            <a:ext cx="172872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7T16:11:05Z</dcterms:created>
  <dc:creator>Abigail</dc:creator>
  <dc:description/>
  <dc:language>en-US</dc:language>
  <cp:lastModifiedBy>Terri Agnew</cp:lastModifiedBy>
  <cp:lastPrinted>2015-01-14T03:55:09Z</cp:lastPrinted>
  <dcterms:modified xsi:type="dcterms:W3CDTF">2015-03-19T21:35:25Z</dcterms:modified>
  <cp:revision>206</cp:revision>
  <dc:subject/>
  <dc:title>PowerPoint Presentation</dc:title>
</cp:coreProperties>
</file>