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72183B-EC8E-4577-A8E9-8B4175B8DF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blank for full frame pix or grap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00E395-70A3-4D9F-83ED-CCDCB8D242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up your presentation, divide it into sections.  This is especially useful if most of your presentation is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748865-CEB5-4CD5-971C-180EEF21FB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619F-2F77-438B-B942-515732C3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E6E6-E451-401C-A79D-5B4E8D48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AFB0-A80B-40C1-8F59-AEC222580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16CF-E1E4-4485-9E3F-39827809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EF40-113A-4E9A-B553-095D9AEF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A81-5B55-46BA-9041-7A2DAA6E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6D21-0FB9-4694-A78B-37FD9405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B0E0-3930-4455-B641-BE50385A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476D-B153-4793-BF81-889676DC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69F4-1933-4DC5-B1AD-32C59E12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803E-ABC3-41C1-8809-7828C622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A2A9-F116-4260-963C-C7AB6559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FFB85F-FD4E-4F1E-82E2-063A874E6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"/>
          <p:cNvPicPr/>
          <p:nvPr/>
        </p:nvPicPr>
        <p:blipFill>
          <a:blip r:embed="rId2"/>
          <a:srcRect l="5216" t="0" r="3872" b="0"/>
          <a:stretch/>
        </p:blipFill>
        <p:spPr>
          <a:xfrm>
            <a:off x="-60480" y="-7920"/>
            <a:ext cx="929664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-68400"/>
            <a:ext cx="9309240" cy="6954840"/>
            <a:chOff x="0" y="-68400"/>
            <a:chExt cx="9309240" cy="6954840"/>
          </a:xfrm>
        </p:grpSpPr>
        <p:pic>
          <p:nvPicPr>
            <p:cNvPr id="81" name="Picture 10" descr=""/>
            <p:cNvPicPr/>
            <p:nvPr/>
          </p:nvPicPr>
          <p:blipFill>
            <a:blip r:embed="rId2"/>
            <a:stretch/>
          </p:blipFill>
          <p:spPr>
            <a:xfrm>
              <a:off x="0" y="245520"/>
              <a:ext cx="9309240" cy="63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Rectangle 1"/>
            <p:cNvSpPr/>
            <p:nvPr/>
          </p:nvSpPr>
          <p:spPr>
            <a:xfrm>
              <a:off x="0" y="-68400"/>
              <a:ext cx="9309240" cy="352440"/>
            </a:xfrm>
            <a:prstGeom prst="rect">
              <a:avLst/>
            </a:prstGeom>
            <a:solidFill>
              <a:srgbClr val="062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1"/>
            <p:cNvSpPr/>
            <p:nvPr/>
          </p:nvSpPr>
          <p:spPr>
            <a:xfrm>
              <a:off x="0" y="6602400"/>
              <a:ext cx="9309240" cy="284040"/>
            </a:xfrm>
            <a:prstGeom prst="rect">
              <a:avLst/>
            </a:prstGeom>
            <a:solidFill>
              <a:srgbClr val="062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6"/>
          <p:cNvSpPr/>
          <p:nvPr/>
        </p:nvSpPr>
        <p:spPr>
          <a:xfrm>
            <a:off x="0" y="4130640"/>
            <a:ext cx="9309240" cy="1898640"/>
          </a:xfrm>
          <a:prstGeom prst="rect">
            <a:avLst/>
          </a:prstGeom>
          <a:solidFill>
            <a:srgbClr val="1768b1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4130640"/>
            <a:ext cx="1697040" cy="189864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ICANN_Logo_W.eps"/>
          <p:cNvPicPr/>
          <p:nvPr/>
        </p:nvPicPr>
        <p:blipFill>
          <a:blip r:embed="rId3"/>
          <a:stretch/>
        </p:blipFill>
        <p:spPr>
          <a:xfrm>
            <a:off x="235080" y="4565520"/>
            <a:ext cx="1253880" cy="9734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9"/>
          <p:cNvSpPr/>
          <p:nvPr/>
        </p:nvSpPr>
        <p:spPr>
          <a:xfrm flipV="1">
            <a:off x="0" y="4130280"/>
            <a:ext cx="9309240" cy="115920"/>
          </a:xfrm>
          <a:prstGeom prst="rect">
            <a:avLst/>
          </a:prstGeom>
          <a:solidFill>
            <a:srgbClr val="0c1f2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0"/>
          <p:cNvGrpSpPr/>
          <p:nvPr/>
        </p:nvGrpSpPr>
        <p:grpSpPr>
          <a:xfrm>
            <a:off x="0" y="2109960"/>
            <a:ext cx="9198000" cy="4759200"/>
            <a:chOff x="0" y="2109960"/>
            <a:chExt cx="9198000" cy="4759200"/>
          </a:xfrm>
        </p:grpSpPr>
        <p:sp>
          <p:nvSpPr>
            <p:cNvPr id="127" name="Freeform 2"/>
            <p:cNvSpPr/>
            <p:nvPr/>
          </p:nvSpPr>
          <p:spPr>
            <a:xfrm>
              <a:off x="0" y="2109960"/>
              <a:ext cx="9198000" cy="4759200"/>
            </a:xfrm>
            <a:custGeom>
              <a:avLst/>
              <a:gdLst/>
              <a:ahLst/>
              <a:rect l="l" t="t" r="r" b="b"/>
              <a:pathLst>
                <a:path w="9198524" h="5515904">
                  <a:moveTo>
                    <a:pt x="0" y="0"/>
                  </a:moveTo>
                  <a:lnTo>
                    <a:pt x="9198524" y="3014506"/>
                  </a:lnTo>
                  <a:lnTo>
                    <a:pt x="9198524" y="5477421"/>
                  </a:lnTo>
                  <a:lnTo>
                    <a:pt x="0" y="5515904"/>
                  </a:lnTo>
                  <a:cubicBezTo>
                    <a:pt x="4276" y="3685821"/>
                    <a:pt x="8553" y="1855738"/>
                    <a:pt x="0" y="0"/>
                  </a:cubicBezTo>
                  <a:close/>
                </a:path>
              </a:pathLst>
            </a:custGeom>
            <a:solidFill>
              <a:srgbClr val="1768b1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"/>
            <p:cNvSpPr/>
            <p:nvPr/>
          </p:nvSpPr>
          <p:spPr>
            <a:xfrm>
              <a:off x="0" y="3175200"/>
              <a:ext cx="9144360" cy="3693960"/>
            </a:xfrm>
            <a:custGeom>
              <a:avLst/>
              <a:gdLst/>
              <a:ahLst/>
              <a:rect l="l" t="t" r="r" b="b"/>
              <a:pathLst>
                <a:path w="6029715" h="6875638">
                  <a:moveTo>
                    <a:pt x="6029715" y="0"/>
                  </a:moveTo>
                  <a:lnTo>
                    <a:pt x="6029715" y="6875638"/>
                  </a:lnTo>
                  <a:lnTo>
                    <a:pt x="0" y="6875638"/>
                  </a:lnTo>
                  <a:lnTo>
                    <a:pt x="6029715" y="0"/>
                  </a:lnTo>
                  <a:close/>
                </a:path>
              </a:pathLst>
            </a:custGeom>
            <a:solidFill>
              <a:srgbClr val="1768b1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Picture 1" descr="footer.jpg"/>
          <p:cNvPicPr/>
          <p:nvPr/>
        </p:nvPicPr>
        <p:blipFill>
          <a:blip r:embed="rId2"/>
          <a:stretch/>
        </p:blipFill>
        <p:spPr>
          <a:xfrm>
            <a:off x="0" y="6318360"/>
            <a:ext cx="9151920" cy="547560"/>
          </a:xfrm>
          <a:prstGeom prst="rect">
            <a:avLst/>
          </a:prstGeom>
          <a:ln w="0">
            <a:noFill/>
          </a:ln>
        </p:spPr>
      </p:pic>
      <p:sp>
        <p:nvSpPr>
          <p:cNvPr id="130" name="Slide Number Placeholder 5"/>
          <p:cNvSpPr/>
          <p:nvPr/>
        </p:nvSpPr>
        <p:spPr>
          <a:xfrm>
            <a:off x="6826320" y="64152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|   </a:t>
            </a:r>
            <a:fld id="{BEFB4036-85E3-4829-B066-DFAB0A8D0E1F}" type="slidenum"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agenda2.jpg"/>
          <p:cNvPicPr/>
          <p:nvPr/>
        </p:nvPicPr>
        <p:blipFill>
          <a:blip r:embed="rId2"/>
          <a:srcRect l="19228" t="0" r="19890" b="0"/>
          <a:stretch/>
        </p:blipFill>
        <p:spPr>
          <a:xfrm>
            <a:off x="0" y="-324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agenda3.jpg"/>
          <p:cNvPicPr/>
          <p:nvPr/>
        </p:nvPicPr>
        <p:blipFill>
          <a:blip r:embed="rId2"/>
          <a:srcRect l="19206" t="0" r="19518" b="0"/>
          <a:stretch/>
        </p:blipFill>
        <p:spPr>
          <a:xfrm>
            <a:off x="0" y="0"/>
            <a:ext cx="9156600" cy="68770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gacweb.icann.org/display/gacweb/Summary+of+community+input" TargetMode="External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occ@mrecic.gov.ar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Placeholder 1"/>
          <p:cNvSpPr/>
          <p:nvPr/>
        </p:nvSpPr>
        <p:spPr>
          <a:xfrm>
            <a:off x="790560" y="1235160"/>
            <a:ext cx="7572240" cy="3755880"/>
          </a:xfrm>
          <a:prstGeom prst="rect">
            <a:avLst/>
          </a:prstGeom>
          <a:solidFill>
            <a:srgbClr val="c0c0c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ource Sans Pro"/>
                <a:ea typeface="Source Sans Pro"/>
              </a:rPr>
              <a:t>El GAC y los usuarios d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lga Cavalli – GAC Vice 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nte de Argen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 de marzo,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6" descr=""/>
          <p:cNvPicPr/>
          <p:nvPr/>
        </p:nvPicPr>
        <p:blipFill>
          <a:blip r:embed="rId1"/>
          <a:stretch/>
        </p:blipFill>
        <p:spPr>
          <a:xfrm>
            <a:off x="7415280" y="4516560"/>
            <a:ext cx="1728720" cy="2341440"/>
          </a:xfrm>
          <a:prstGeom prst="rect">
            <a:avLst/>
          </a:prstGeom>
          <a:ln w="0">
            <a:noFill/>
          </a:ln>
        </p:spPr>
      </p:pic>
      <p:sp>
        <p:nvSpPr>
          <p:cNvPr id="332" name="Title 1"/>
          <p:cNvSpPr/>
          <p:nvPr/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1960">
              <a:lnSpc>
                <a:spcPts val="39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Web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anchor="ctr">
            <a:noAutofit/>
          </a:bodyPr>
          <a:p>
            <a:pPr marL="291960" indent="0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Temas relevantes para el GAC el 2015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552600" y="1000080"/>
            <a:ext cx="822960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rticipación en el proceso de transición de 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G 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IANA Stewardship Transition Coordination Group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  <a:ea typeface="Arial"/>
              </a:rPr>
              <a:t>CWG-Stewardship - Cross-Community Working Group to Develop an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ANA</a:t>
            </a:r>
            <a:r>
              <a:rPr b="0" lang="es-ES" sz="1800" spc="-1" strike="noStrike">
                <a:solidFill>
                  <a:srgbClr val="333333"/>
                </a:solidFill>
                <a:latin typeface="Arial"/>
                <a:ea typeface="Arial"/>
              </a:rPr>
              <a:t>Stewardship Transition Proposal on Naming Relate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CWG-Accountability - Cross Community Working Group on Enhancing ICANN Account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Miembros del GAC coordinados en todos los grupos de trabajo y subgrupo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rincipios del GAC para ICANN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s://www.icann.org/news/blog/vol-2-update-on-iana-stewardship-discu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anchor="ctr">
            <a:noAutofit/>
          </a:bodyPr>
          <a:p>
            <a:pPr marL="291960" indent="0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Temas relevantes para el GAC el 2015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4"/>
          <p:cNvSpPr/>
          <p:nvPr/>
        </p:nvSpPr>
        <p:spPr>
          <a:xfrm>
            <a:off x="438120" y="835200"/>
            <a:ext cx="8705880" cy="75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upos de trabajo inter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mbres geográficos en nuevos gT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AC y su participación en Nom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rechos hu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o de beneficios de subastas de nuevos gTLDs (CC 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lacionamiento entre ccTLDs y gobi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derserved regions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lacionamiento entre gobiernos y IC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s caracteres y nombres de país en el segundo ni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AC GNSO Relacionamiento tempr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anchor="ctr">
            <a:noAutofit/>
          </a:bodyPr>
          <a:p>
            <a:pPr marL="291960" indent="0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Temas relevantes para el GAC el 2015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324000" y="1054080"/>
            <a:ext cx="870588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rupos de trabajo Cross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ademy: Interés del GAC de participar no se ha recibido inv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mbres de países y códigos como TLDs (ccNSO y GN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uniones de Alto Nivel de Gob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 organizan cada dos o tres años (Toronto 2012 – Londres 20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ción de la reunión de alto nivel en Marruecos, ICANN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anchor="ctr">
            <a:noAutofit/>
          </a:bodyPr>
          <a:p>
            <a:pPr marL="291960" indent="0" algn="ctr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Sesiones conjuntas GAC ALAC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4"/>
          <p:cNvSpPr/>
          <p:nvPr/>
        </p:nvSpPr>
        <p:spPr>
          <a:xfrm>
            <a:off x="371520" y="1000080"/>
            <a:ext cx="82296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sión abierta sobre uso de nombres geográficos en nuevos gT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entarios enviados por AL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oyo al documento del grupo de trabajo sobre protección de nombres geográf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zar el relacionamiento entre el aplicante y la comunidad relevante al nuevo TLD solici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var experiencias de la primera ronda de nuevos gTLDs del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rir el consentimiento de las regiones involucradas a los aplicantes mediante el involucramiento de residentes y organiz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gacweb.icann.org/display/gacweb/Summary+of+community+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ble trabajo conjunto entre el grupo de trabajo del GAC y ALA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anchor="ctr">
            <a:noAutofit/>
          </a:bodyPr>
          <a:p>
            <a:pPr marL="291960" indent="0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Colaboración Futura GAC ALAC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4"/>
          <p:cNvSpPr/>
          <p:nvPr/>
        </p:nvSpPr>
        <p:spPr>
          <a:xfrm>
            <a:off x="438120" y="1539720"/>
            <a:ext cx="82296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mbres geográficos en nuevos gTLD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finición de “Public Interes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ademy working group – GAC está interesado en partici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ros temas de común interé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569520" y="1456920"/>
            <a:ext cx="625644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Many thank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Muchas gracias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Pregunta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Olga Cavalli – GAC Vice Chai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Argentina Represent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Source Sans Pro Light"/>
                <a:ea typeface="Source Sans Pro Light"/>
                <a:hlinkClick r:id="rId1"/>
              </a:rPr>
              <a:t>occ@mrecic.gov.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olgacavalli@gmail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2"/>
          <p:cNvSpPr/>
          <p:nvPr/>
        </p:nvSpPr>
        <p:spPr>
          <a:xfrm>
            <a:off x="843120" y="121932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2"/>
          <a:stretch/>
        </p:blipFill>
        <p:spPr>
          <a:xfrm>
            <a:off x="6919920" y="2230560"/>
            <a:ext cx="17287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7T16:11:05Z</dcterms:created>
  <dc:creator>Abigail</dc:creator>
  <dc:description/>
  <dc:language>en-US</dc:language>
  <cp:lastModifiedBy>Terri Agnew</cp:lastModifiedBy>
  <cp:lastPrinted>2015-01-14T03:55:09Z</cp:lastPrinted>
  <dcterms:modified xsi:type="dcterms:W3CDTF">2015-03-19T21:35:25Z</dcterms:modified>
  <cp:revision>206</cp:revision>
  <dc:subject/>
  <dc:title>PowerPoint Presentation</dc:title>
</cp:coreProperties>
</file>