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47E71-FFC9-440D-8724-8CF7E380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3B222E-A380-4ABC-972B-7D280712C199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8A08F-7778-48F6-A0E1-A6ABDEB0138D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19AE8AA0-D948-4208-89CD-A28F206CAAB0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7F22F79C-715B-4C52-A13D-53926CE1FA81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630800" y="4471920"/>
            <a:ext cx="7549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tg. – NCUC Breakout Sessio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389960" y="515304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4 February 2016 | 16:00 – 18: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Setting the agenda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CCWG on Accountability  and Work stream 2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Improving cooperation with other constituencies,</a:t>
            </a:r>
            <a:r>
              <a:rPr b="0" lang="en-GB" sz="2400" spc="-1" strike="noStrike">
                <a:solidFill>
                  <a:srgbClr val="0a1f24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within and  outside of NCSG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SOI requirements for civil society: how much we need to say?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AOB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12:34Z</dcterms:modified>
  <cp:revision>175</cp:revision>
  <dc:subject/>
  <dc:title>PowerPoint Presentation</dc:title>
</cp:coreProperties>
</file>