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D1BAF-FB60-4DC1-AFE6-990C50A6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F1F8B-1DB1-4AE9-9C2E-FEAF965AA441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impler agenda slide, the outline for your present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E7B08-11D2-43C7-B416-12E9CF5C3C95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Rectangle 3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39" name="Rectangle 4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sp>
        <p:nvSpPr>
          <p:cNvPr id="40" name="Rectangle 5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ea9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pic>
        <p:nvPicPr>
          <p:cNvPr id="42" name="Picture 7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81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pic>
        <p:nvPicPr>
          <p:cNvPr id="83" name="Picture 4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C84FD914-214B-40EF-B1F1-69416E656C69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80A505DB-2571-4CDE-887C-C7A26603EED8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1f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1f2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a1f24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a1f2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a1f24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a1f24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5"/>
          <p:cNvSpPr/>
          <p:nvPr/>
        </p:nvSpPr>
        <p:spPr>
          <a:xfrm>
            <a:off x="1630800" y="4471920"/>
            <a:ext cx="75492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NCPH Intersessional Mtg. – NCUC Breakout Session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389960" y="515304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  <a:ea typeface="Wingdings"/>
              </a:rPr>
              <a:t>04 February 2016 | 16:00 – 18:00 PST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6145200" y="627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209520" y="971640"/>
            <a:ext cx="841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Setting the agenda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CCWG on Accountability  and Work stream 2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Improving cooperation with other constituencies,</a:t>
            </a:r>
            <a:r>
              <a:rPr b="0" lang="en-GB" sz="2400" spc="-1" strike="noStrike">
                <a:solidFill>
                  <a:srgbClr val="0a1f24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within and  outside of NCSG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SOI requirements for civil society: how much we need to say?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AOB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genda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Chantelle Doerksen</cp:lastModifiedBy>
  <cp:lastPrinted>2015-01-14T03:55:09Z</cp:lastPrinted>
  <dcterms:modified xsi:type="dcterms:W3CDTF">2016-02-02T21:12:34Z</dcterms:modified>
  <cp:revision>175</cp:revision>
  <dc:subject/>
  <dc:title>PowerPoint Presentation</dc:title>
</cp:coreProperties>
</file>