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a1f24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994380-17D1-4E47-887C-BE87F3987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321144-412A-46A5-B400-34C23A278E4F}" type="slidenum">
              <a:rPr b="0" lang="en-US" sz="1200" spc="-1" strike="noStrike">
                <a:solidFill>
                  <a:srgbClr val="0a1f2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simpler agenda slide, the outline for your presentatio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0A73FB-C124-4E98-B401-48E3EA4C560B}" type="slidenum">
              <a:rPr b="0" lang="en-US" sz="1200" spc="-1" strike="noStrike">
                <a:solidFill>
                  <a:srgbClr val="0a1f2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Group 1"/>
          <p:cNvGrpSpPr/>
          <p:nvPr/>
        </p:nvGrpSpPr>
        <p:grpSpPr>
          <a:xfrm>
            <a:off x="0" y="-68400"/>
            <a:ext cx="9309240" cy="6954840"/>
            <a:chOff x="0" y="-68400"/>
            <a:chExt cx="9309240" cy="6954840"/>
          </a:xfrm>
        </p:grpSpPr>
        <p:pic>
          <p:nvPicPr>
            <p:cNvPr id="37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245520"/>
              <a:ext cx="9309240" cy="63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" name="Rectangle 3"/>
            <p:cNvSpPr/>
            <p:nvPr/>
          </p:nvSpPr>
          <p:spPr>
            <a:xfrm>
              <a:off x="0" y="-68400"/>
              <a:ext cx="9309240" cy="352440"/>
            </a:xfrm>
            <a:prstGeom prst="rect">
              <a:avLst/>
            </a:prstGeom>
            <a:solidFill>
              <a:srgbClr val="062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a1f24"/>
                </a:solidFill>
                <a:latin typeface="Calibri"/>
              </a:endParaRPr>
            </a:p>
          </p:txBody>
        </p:sp>
        <p:sp>
          <p:nvSpPr>
            <p:cNvPr id="39" name="Rectangle 4"/>
            <p:cNvSpPr/>
            <p:nvPr/>
          </p:nvSpPr>
          <p:spPr>
            <a:xfrm>
              <a:off x="0" y="6602400"/>
              <a:ext cx="9309240" cy="284040"/>
            </a:xfrm>
            <a:prstGeom prst="rect">
              <a:avLst/>
            </a:prstGeom>
            <a:solidFill>
              <a:srgbClr val="062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a1f24"/>
                </a:solidFill>
                <a:latin typeface="Calibri"/>
              </a:endParaRPr>
            </a:p>
          </p:txBody>
        </p:sp>
      </p:grpSp>
      <p:sp>
        <p:nvSpPr>
          <p:cNvPr id="40" name="Rectangle 5"/>
          <p:cNvSpPr/>
          <p:nvPr/>
        </p:nvSpPr>
        <p:spPr>
          <a:xfrm>
            <a:off x="0" y="4130640"/>
            <a:ext cx="9309240" cy="1898640"/>
          </a:xfrm>
          <a:prstGeom prst="rect">
            <a:avLst/>
          </a:prstGeom>
          <a:solidFill>
            <a:srgbClr val="1768b1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0" y="4130640"/>
            <a:ext cx="1697040" cy="1898640"/>
          </a:xfrm>
          <a:prstGeom prst="rect">
            <a:avLst/>
          </a:prstGeom>
          <a:solidFill>
            <a:srgbClr val="ea9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  <p:pic>
        <p:nvPicPr>
          <p:cNvPr id="42" name="Picture 7" descr="ICANN_Logo_W.eps"/>
          <p:cNvPicPr/>
          <p:nvPr/>
        </p:nvPicPr>
        <p:blipFill>
          <a:blip r:embed="rId3"/>
          <a:stretch/>
        </p:blipFill>
        <p:spPr>
          <a:xfrm>
            <a:off x="235080" y="4565520"/>
            <a:ext cx="1253880" cy="973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 flipV="1">
            <a:off x="0" y="4130280"/>
            <a:ext cx="9309240" cy="115920"/>
          </a:xfrm>
          <a:prstGeom prst="rect">
            <a:avLst/>
          </a:prstGeom>
          <a:solidFill>
            <a:srgbClr val="0c1f2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1"/>
          <p:cNvGrpSpPr/>
          <p:nvPr/>
        </p:nvGrpSpPr>
        <p:grpSpPr>
          <a:xfrm>
            <a:off x="0" y="2109960"/>
            <a:ext cx="9198000" cy="4759200"/>
            <a:chOff x="0" y="2109960"/>
            <a:chExt cx="9198000" cy="4759200"/>
          </a:xfrm>
        </p:grpSpPr>
        <p:sp>
          <p:nvSpPr>
            <p:cNvPr id="81" name="Freeform 2"/>
            <p:cNvSpPr/>
            <p:nvPr/>
          </p:nvSpPr>
          <p:spPr>
            <a:xfrm>
              <a:off x="0" y="2109960"/>
              <a:ext cx="9198000" cy="4759200"/>
            </a:xfrm>
            <a:custGeom>
              <a:avLst/>
              <a:gdLst/>
              <a:ahLst/>
              <a:rect l="l" t="t" r="r" b="b"/>
              <a:pathLst>
                <a:path w="9198524" h="5515904">
                  <a:moveTo>
                    <a:pt x="0" y="0"/>
                  </a:moveTo>
                  <a:lnTo>
                    <a:pt x="9198524" y="3014506"/>
                  </a:lnTo>
                  <a:lnTo>
                    <a:pt x="9198524" y="5477421"/>
                  </a:lnTo>
                  <a:lnTo>
                    <a:pt x="0" y="5515904"/>
                  </a:lnTo>
                  <a:cubicBezTo>
                    <a:pt x="4276" y="3685821"/>
                    <a:pt x="8553" y="1855738"/>
                    <a:pt x="0" y="0"/>
                  </a:cubicBezTo>
                  <a:close/>
                </a:path>
              </a:pathLst>
            </a:custGeom>
            <a:solidFill>
              <a:srgbClr val="1768b1">
                <a:alpha val="1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a1f24"/>
                </a:solidFill>
                <a:latin typeface="Calibri"/>
              </a:endParaRPr>
            </a:p>
          </p:txBody>
        </p:sp>
        <p:sp>
          <p:nvSpPr>
            <p:cNvPr id="82" name="Freeform 3"/>
            <p:cNvSpPr/>
            <p:nvPr/>
          </p:nvSpPr>
          <p:spPr>
            <a:xfrm>
              <a:off x="0" y="3175200"/>
              <a:ext cx="9144360" cy="3693960"/>
            </a:xfrm>
            <a:custGeom>
              <a:avLst/>
              <a:gdLst/>
              <a:ahLst/>
              <a:rect l="l" t="t" r="r" b="b"/>
              <a:pathLst>
                <a:path w="6029715" h="6875638">
                  <a:moveTo>
                    <a:pt x="6029715" y="0"/>
                  </a:moveTo>
                  <a:lnTo>
                    <a:pt x="6029715" y="6875638"/>
                  </a:lnTo>
                  <a:lnTo>
                    <a:pt x="0" y="6875638"/>
                  </a:lnTo>
                  <a:lnTo>
                    <a:pt x="6029715" y="0"/>
                  </a:lnTo>
                  <a:close/>
                </a:path>
              </a:pathLst>
            </a:custGeom>
            <a:solidFill>
              <a:srgbClr val="1768b1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a1f24"/>
                </a:solidFill>
                <a:latin typeface="Calibri"/>
              </a:endParaRPr>
            </a:p>
          </p:txBody>
        </p:sp>
      </p:grpSp>
      <p:pic>
        <p:nvPicPr>
          <p:cNvPr id="83" name="Picture 4" descr="footer.jpg"/>
          <p:cNvPicPr/>
          <p:nvPr/>
        </p:nvPicPr>
        <p:blipFill>
          <a:blip r:embed="rId2"/>
          <a:stretch/>
        </p:blipFill>
        <p:spPr>
          <a:xfrm>
            <a:off x="0" y="6318360"/>
            <a:ext cx="9151920" cy="547560"/>
          </a:xfrm>
          <a:prstGeom prst="rect">
            <a:avLst/>
          </a:prstGeom>
          <a:ln w="0">
            <a:noFill/>
          </a:ln>
        </p:spPr>
      </p:pic>
      <p:sp>
        <p:nvSpPr>
          <p:cNvPr id="84" name="Slide Number Placeholder 5"/>
          <p:cNvSpPr/>
          <p:nvPr/>
        </p:nvSpPr>
        <p:spPr>
          <a:xfrm>
            <a:off x="6826320" y="64152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|   </a:t>
            </a:r>
            <a:fld id="{25FF23EC-C8DA-410D-B171-DC8290A9AF9F}" type="slidenum"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&lt;number&gt;</a:t>
            </a:fld>
            <a:endParaRPr b="0" lang="en-US" sz="1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footer.jpg"/>
          <p:cNvPicPr/>
          <p:nvPr/>
        </p:nvPicPr>
        <p:blipFill>
          <a:blip r:embed="rId2"/>
          <a:stretch/>
        </p:blipFill>
        <p:spPr>
          <a:xfrm>
            <a:off x="0" y="6318360"/>
            <a:ext cx="9151920" cy="54756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5"/>
          <p:cNvSpPr/>
          <p:nvPr/>
        </p:nvSpPr>
        <p:spPr>
          <a:xfrm>
            <a:off x="6826320" y="64152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|   </a:t>
            </a:r>
            <a:fld id="{A86459A7-EFAA-4908-8A37-3AF6F076AA03}" type="slidenum"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&lt;number&gt;</a:t>
            </a:fld>
            <a:endParaRPr b="0" lang="en-US" sz="1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a1f24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1f2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a1f24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a1f24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a1f24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a1f24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a1f24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a1f24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a1f24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a1f24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a1f24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a1f24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a1f24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a1f2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1f24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a1f24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a1f2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1f24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2"/>
          <a:srcRect l="5216" t="0" r="3872" b="0"/>
          <a:stretch/>
        </p:blipFill>
        <p:spPr>
          <a:xfrm>
            <a:off x="-60480" y="-7920"/>
            <a:ext cx="9296640" cy="688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" descr="agenda2.jpg"/>
          <p:cNvPicPr/>
          <p:nvPr/>
        </p:nvPicPr>
        <p:blipFill>
          <a:blip r:embed="rId2"/>
          <a:srcRect l="19228" t="0" r="19890" b="0"/>
          <a:stretch/>
        </p:blipFill>
        <p:spPr>
          <a:xfrm>
            <a:off x="0" y="-324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" descr="agenda3.jpg"/>
          <p:cNvPicPr/>
          <p:nvPr/>
        </p:nvPicPr>
        <p:blipFill>
          <a:blip r:embed="rId2"/>
          <a:srcRect l="19206" t="0" r="19518" b="0"/>
          <a:stretch/>
        </p:blipFill>
        <p:spPr>
          <a:xfrm>
            <a:off x="0" y="0"/>
            <a:ext cx="9156600" cy="687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5"/>
          <p:cNvSpPr/>
          <p:nvPr/>
        </p:nvSpPr>
        <p:spPr>
          <a:xfrm>
            <a:off x="1597320" y="4471920"/>
            <a:ext cx="78706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47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NCPH Intersessional Meeting – NCUC Meeting</a:t>
            </a:r>
            <a:endParaRPr b="0" lang="en-US" sz="28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1621080" y="5153040"/>
            <a:ext cx="45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ource Sans Pro"/>
                <a:ea typeface="Wingdings"/>
              </a:rPr>
              <a:t>03 February 2016 | 1330 – 1530 PST </a:t>
            </a:r>
            <a:endParaRPr b="0" lang="en-US" sz="20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6145200" y="62712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"/>
          <p:cNvSpPr/>
          <p:nvPr/>
        </p:nvSpPr>
        <p:spPr>
          <a:xfrm>
            <a:off x="209520" y="971640"/>
            <a:ext cx="8413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1. Setting the agenda 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2. The work of Executive Committee 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•</a:t>
            </a: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Travel Support for NCUC Members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•</a:t>
            </a: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Bylaws Change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•</a:t>
            </a: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What is CROPP  (Rob Hoggarth) 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•</a:t>
            </a: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Incorporation of NCUC 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•</a:t>
            </a: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NCUC outreach plans and membership affair 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3. Civil Society Engagement Plan (Adam Peake)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4. A study of ICANN DIDP (transparency related)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5. AOB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-7920"/>
            <a:ext cx="9144000" cy="711360"/>
          </a:xfrm>
          <a:prstGeom prst="rect">
            <a:avLst/>
          </a:prstGeom>
          <a:solidFill>
            <a:srgbClr val="1768b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91960" indent="0">
              <a:lnSpc>
                <a:spcPts val="3974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Agenda</a:t>
            </a: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7T16:11:05Z</dcterms:created>
  <dc:creator>Abigail</dc:creator>
  <dc:description/>
  <dc:language>en-US</dc:language>
  <cp:lastModifiedBy>Maryam Bakoshi</cp:lastModifiedBy>
  <cp:lastPrinted>2015-01-14T03:55:09Z</cp:lastPrinted>
  <dcterms:modified xsi:type="dcterms:W3CDTF">2016-02-03T20:55:54Z</dcterms:modified>
  <cp:revision>173</cp:revision>
  <dc:subject/>
  <dc:title>PowerPoint Presentation</dc:title>
</cp:coreProperties>
</file>