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44B49-153F-4CA1-A848-039830E5A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157BF-389F-40B3-8246-87202F44F167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B5BD8-500A-4156-9B40-011C5C8B0D1D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2E63C68C-73B9-47A0-A581-955FDC23822A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0B45BD2C-F007-4791-A01F-46AE21DC5A09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597320" y="4471920"/>
            <a:ext cx="7870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CUC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621080" y="5153040"/>
            <a:ext cx="45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1330 – 1530 PST 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1. Setting the agenda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2. The work of Executive Committee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ravel Support for NCUC Member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Bylaws Change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What is CROPP  (Rob Hoggarth)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Incorporation of NCUC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NCUC outreach plans and membership affair 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. Civil Society Engagement Plan (Adam Peake)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4. A study of ICANN DIDP (transparency related)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5. 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Maryam Bakoshi</cp:lastModifiedBy>
  <cp:lastPrinted>2015-01-14T03:55:09Z</cp:lastPrinted>
  <dcterms:modified xsi:type="dcterms:W3CDTF">2016-02-03T20:55:54Z</dcterms:modified>
  <cp:revision>173</cp:revision>
  <dc:subject/>
  <dc:title>PowerPoint Presentation</dc:title>
</cp:coreProperties>
</file>