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D6763-FAF6-4375-83B6-3330ABB1B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72259-7409-4DA9-A763-C3BE3A7B489D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780CA-2DD4-4529-A6B2-787AA7F6F575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C4B8D3DB-8E18-4C47-BE44-7F1A5817F645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185C752A-4C11-4C1E-959C-81A034D011BF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611720" y="4471920"/>
            <a:ext cx="7841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CSG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418040" y="515304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09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1. Welcome, introductio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2. Intersessional meeting agenda review, NCSG concern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. Problems in Funding of Non-Commercial Volunteers in ICAN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a) Truth, Trust and Transparency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b) Possible alternative funding mod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4. Policy Committee work: problems and ideas for improvement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5. The need for Civil Society Grassroots awareness and capacity building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a1f24"/>
                </a:solidFill>
                <a:latin typeface="Calibri"/>
              </a:rPr>
              <a:t>6. 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06:04Z</dcterms:modified>
  <cp:revision>168</cp:revision>
  <dc:subject/>
  <dc:title>PowerPoint Presentation</dc:title>
</cp:coreProperties>
</file>