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5D935-52E9-4E7D-BC41-2C97C444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B5656-EF9C-4A4F-B6C2-47523CE1E767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74304-1739-4CFB-B7AA-5A9005AF2246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3AB77E5A-4F2A-4D17-BDE8-A8B03DDBA61F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6A4D755D-F53C-4417-BC9D-E53D383E2E83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611720" y="4471920"/>
            <a:ext cx="7841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eeting – NCSG Meeting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418040" y="5153040"/>
            <a:ext cx="36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3 February 2016 | 0900 PST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1. Welcome, introductio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2. Intersessional meeting agenda review, NCSG concerns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. Problems in Funding of Non-Commercial Volunteers in ICAN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 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a) Truth, Trust and Transparency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  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3b) Possible alternative funding mod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4. Policy Committee work: problems and ideas for improvement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5. The need for Civil Society Grassroots awareness and capacity building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r-HR" sz="2400" spc="-1" strike="noStrike">
                <a:solidFill>
                  <a:srgbClr val="0a1f24"/>
                </a:solidFill>
                <a:latin typeface="Calibri"/>
              </a:rPr>
              <a:t>6. AOB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Chantelle Doerksen</cp:lastModifiedBy>
  <cp:lastPrinted>2015-01-14T03:55:09Z</cp:lastPrinted>
  <dcterms:modified xsi:type="dcterms:W3CDTF">2016-02-02T21:06:04Z</dcterms:modified>
  <cp:revision>168</cp:revision>
  <dc:subject/>
  <dc:title>PowerPoint Presentation</dc:title>
</cp:coreProperties>
</file>