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5C2D5-775A-4AC0-84CF-EDA7C7A826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F5612-E3CD-4871-B736-274035799C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D393D-E5B4-4BF5-9F16-743BF10556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FB133-01DD-4C3A-8A3A-FF99E6AABB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D4048-9D31-4731-818C-18F7C1BEC8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34E0B-C0A6-4463-8C5C-F2CF338E5C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9226C-1909-4297-BB0D-FF81352309B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17B4E-6F35-4270-BC2A-BD37D68E3F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FEE9B-764F-43A8-A10D-DEDA045051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08E2-8FB4-4C4F-B765-45DF7F704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BFD8-47A6-471D-A800-0D5CDC5650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071D-2984-409E-ACBF-4AF3FC534F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AF99-666E-489D-91AA-DFE3440A4F6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8F05-36B4-4B6B-8422-8F150A9CFE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4296-7E3E-4637-A89D-D4F0EBF91E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A24D-EF67-46E0-996A-4363097955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C5D2-FD26-4457-B058-F50957946F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4FB-9E73-4026-9701-7B3CF25767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5675-4B6B-4B9E-AEF5-6D622E9C88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0277-40C1-46C2-A178-D88184011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19D2-5170-4B78-8D8F-51CD931E76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4F5C5-27D2-441B-9FBD-9E292BEBF27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FFAD6-47CD-48E0-8FE1-BE348C8414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89E2B-3AEA-4673-8112-A78D8F0260B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9A314-8E5B-4900-8263-B29625F543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3D6E7-C0CB-478D-88C0-400AC7B2CF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572BA-A0CC-4FB4-A90B-CFA9610FB3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8B69A-87B9-4748-A61D-F044BCAF389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CB1BB-2D38-431D-831C-AE1DE089D4C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B1CB0-DC28-45C6-9ADF-1E9C482FB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0C47D-9FDC-4A52-BCF8-F0798F1FB9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E0E1A-F50B-4138-BB39-4547E911AC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C0EFA-4E19-44B3-B293-E88A041A0EA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E6579-6180-4060-975E-6B2AD5BA90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596BD-2F95-4614-919A-E7EF46C8E7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77AF6-B695-4C46-8EBA-6FC00AF671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312E1-1AEB-4095-AD9C-4C68FC6FB2E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7539D-8CE8-415F-A05B-8D425A55ADB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EF6F2-69D9-4707-8308-CBBE85742B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CDE65-19E5-4149-BC1F-6FA96A959E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29612-261E-4A39-B45C-0D074D43AA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02655-4CF1-448D-A109-2B37A716A6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4DC1E-DA56-4E06-B7EF-6C3A356F0A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F38B3-D05D-43CC-A63D-CCDB3DD4D31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DC2AE-092D-4AF3-8DE9-870FA75FA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FA9-F249-4CED-83E4-437DD285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726-800D-4882-B106-C46A75AB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722-444C-430E-B971-4B51FB3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525-CEE9-4489-BCBF-B0569E7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471-68B6-4ABB-A2CD-FEB3301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9DB-C88A-4E60-88F3-0D4F4B5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42D-388F-4732-8B15-353858C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A57-257B-42D4-8EF2-0560C80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194-4513-4059-BE70-3D85193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783-DF7E-46FD-954F-BA177DB9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558-79C9-433C-8CDD-3EDB36EE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96B-C10E-4544-81D8-49A9B8F7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A96EC-EE4E-47F1-BA77-7A36EBC0D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974A7-D67A-4BEE-AD48-A159D634A9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53CB4-C50E-4CE1-8756-FB85A06FC4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8BF3E-87FF-4E93-9CB0-155E44A092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033BC-9B35-4B10-813F-531283DFBC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F7AE9-40E4-4898-9E07-0312DE1113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F7194-6E1B-4FEF-A7FC-25100D19B3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EEE70-F0B4-4C5D-B545-B39D21AF04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3E602-0F24-44EE-978A-B4176B374C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E84E7-E3BA-48E5-A67E-6944ECDABB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1FD24-B39C-415A-B6A0-60286B310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AC3F-0AA2-4C85-983F-53570267A25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DABBA-8DA3-4070-AA47-499D19141F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273DE-2E32-4926-8135-DF7F9B3870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D9F64-8FDF-4FFF-9B73-714B4B2EC4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ECC5B-ECC9-4979-8630-F6B44E4F42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6CABB-79DE-4EC4-9A19-31E9ADBF7F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9DE24-C0D3-42B7-B647-91E5DE6C54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D80B2-2611-4F4F-A2E5-163CB8791F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CAAD7-BCCE-42B1-9138-63AC2576B5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2DD07-F74E-47C2-A97D-2F649C5A1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09A11-6A92-4D1F-B6BC-534BB4AAEB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E4872-881F-4759-A392-69365BD598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94D4C-847B-4637-B30F-AF3F49B9FA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5B45-D954-42E7-A9C2-961824AE10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380A-A7A6-426A-B4DB-181B197AFC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CDB4-C552-47DD-87FC-BCEAE25AC7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DF6F-5924-4032-A746-D437386429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0AE9-ABEA-43A3-8F6C-3902CFEA3D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869B-18E9-41C2-A9EC-423E46F367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AF20-1EEB-4650-91B4-39B1BD420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83A-44C0-49C0-B030-65B51BCF65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7047-7117-43E5-B127-AFFAEB0D89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3C3-B632-4858-B12C-B603B5E9C8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9709-13CE-4072-AC1B-8ED8907A04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225-2CF3-4C17-8618-64D750C17C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0471A-A40B-486B-9DA3-99DD7C5A07D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DC37A-C71D-49F0-8916-DF666422C8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31F9F-0985-4959-8B0F-641EC9CE88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3A8D4-77F4-45BA-800B-582D0C365A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84EB5-7052-42B5-80E3-A7D56223E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4C4411-7273-460F-9D11-8DFF562AD4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C0B94-9ED3-4AA5-B0C7-56DE2971119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FF333D-3CBD-4FC2-B79A-B38D43A671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D75BF-C5A4-4F85-A9F2-D84C0050B57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EBC10-1992-4B31-815A-3874C805D3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CBA4C-50B7-4B86-92EF-8F65FABF5F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C494D-64AD-4D02-BCC5-E4A95A3ED49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5F72E-BF7B-4504-A8C0-C1918CD199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9AC74-B944-4BBB-8750-094DFA3645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71F83-09AD-4573-ACF0-06428AC79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ED840-EA54-49D4-A593-0487466FFB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04688-E4E3-4704-A413-26A46CC4ED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CB388-97F5-4356-97FE-008B2948DE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09637-99A6-4CE8-A854-71AFB2AEA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FDC90-1E97-4BFF-95E3-170F74D60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27137-7E85-4E6F-A0D9-F7BCC69A52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51186-A9C6-45FC-958D-A6B8936FD9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D1BE5-A751-4F0F-9F94-0B4E7B115B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A155A-1904-4DD6-B465-B0AFCFB0D4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6972E-7F91-439D-9BF0-A71C2D91B5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8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488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5"/>
          <p:cNvSpPr/>
          <p:nvPr/>
        </p:nvSpPr>
        <p:spPr>
          <a:xfrm flipH="1" flipV="1">
            <a:off x="6504120" y="2676240"/>
            <a:ext cx="977760" cy="5238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lipse 70"/>
          <p:cNvSpPr/>
          <p:nvPr/>
        </p:nvSpPr>
        <p:spPr>
          <a:xfrm>
            <a:off x="6553080" y="2436840"/>
            <a:ext cx="1796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Ellipse 72"/>
          <p:cNvSpPr/>
          <p:nvPr/>
        </p:nvSpPr>
        <p:spPr>
          <a:xfrm>
            <a:off x="63244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8"/>
          <p:cNvSpPr/>
          <p:nvPr/>
        </p:nvSpPr>
        <p:spPr>
          <a:xfrm flipH="1">
            <a:off x="6826320" y="2527200"/>
            <a:ext cx="860400" cy="1296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9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4"/>
          <p:cNvSpPr/>
          <p:nvPr/>
        </p:nvSpPr>
        <p:spPr>
          <a:xfrm>
            <a:off x="6191280" y="3224160"/>
            <a:ext cx="225756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3"/>
          <p:cNvSpPr/>
          <p:nvPr/>
        </p:nvSpPr>
        <p:spPr>
          <a:xfrm>
            <a:off x="7481880" y="1716120"/>
            <a:ext cx="1471680" cy="110016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7f7f7f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Text Box 31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2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3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5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6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7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8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9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592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46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7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8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Rinalia Abdul Rahim</cp:lastModifiedBy>
  <dcterms:modified xsi:type="dcterms:W3CDTF">2014-06-17T05:13:14Z</dcterms:modified>
  <cp:revision>34</cp:revision>
  <dc:subject/>
  <dc:title>ICANN 45 Toronto</dc:title>
</cp:coreProperties>
</file>