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05C53-A525-4A12-94F0-9C68DDF0E42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F9EEF-8F51-4CA5-BFA4-C68CB469662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0C666-49EF-4368-8B54-E58D42B3F1C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3D9E1-6108-41A4-B528-3783A026F05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6DDFD4-3BC7-4403-8B00-B8D95546281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6EC54-0929-4473-B77A-AAFC39D95AB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6BFA5-6DE0-4878-8483-1F4ED029EE4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BD3D7-9783-4927-A380-9443AA0CA74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9DAAA-2A12-4FC9-8D62-C01D234EA55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0366A-4906-46E8-AF0D-902097D1C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4E852-BEF6-462D-94C4-C4E6D4D23DB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22051-ABDB-4B81-99DF-23334417F5B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8B34F-468E-4095-B314-35868171834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039B0-4371-4FFB-B4AA-F34553D941B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BDE89-11D7-4519-B88C-517BCE66A8F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E088E-665B-40F1-984F-55509413DA5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E67DB-FCBA-4656-82B9-2A736BAC687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5EC5-BB40-4183-9AA5-773DE4C69D8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C8030-243D-4944-B95F-8AF8B5F8440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5537B-8F46-449F-B60B-7DE7AF655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E6CCA-8145-4774-9D49-673B92B2055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8E4B20-0D02-4FA7-8DAF-2FE30DE3C91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33DA16-C735-456D-BCB3-8840445CEB3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6C3283-0432-4AF8-B539-DBC976F2064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EC0306-8397-4120-AFC9-2B4D92306FC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128F10-C8FB-4283-8BA6-037FDC2F755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59D648-12FA-4FCC-BEAE-A74F79927F6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70D019-9CB6-4713-8221-EDC0B5EB5E1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CF84DA-7EE2-4D96-B7B3-6D68757A00A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4621D9-078F-4B9F-898E-DA9A6CE3A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90E213-2E3C-4A09-9A01-E51EFDE35C7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2A600B-31C6-42B5-843D-9CE89B4A01E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70A74E-92DF-40CF-9910-657137B6B0E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A30E56-D294-4BCD-87C5-8C4CB61519B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00DABA-C5FF-47DA-BF0C-98FFB80A528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B547D1-A416-4230-A799-C67E7571B43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2D950D-B9DD-472F-ADE0-35515A24AEE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B478C-4E3E-4A2A-A50D-D684273BBE3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B447A1-01CA-47D8-8902-E3A61E8D1D3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154063-DDF8-4D8F-ACD5-1BAF1254A4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194F22-578B-4733-A33A-01916E30874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180475-95E3-4E6F-B3E3-40701CFDCB5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93AA18-9C02-4757-A7D2-9DA14FF6545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573FFA-E769-4BE9-A952-63ED95494F2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0A011C-44E4-4B5C-AB9D-5FE765FF60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E8DD-48EF-40E1-AED2-548675FD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F336-E540-4454-8AF1-629A870B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BB0-FBAA-44F0-87BB-ED6A12F2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6EF-3885-41DB-AFEE-0A7FCDE6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309-789F-43F9-90EB-BA7B0265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EF43-435E-4A3F-BE8B-5D02F671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B13-D0EE-4A8B-8362-0737DADA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3083-DC04-4046-BFD2-2D945EA0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156-9E82-4E78-BC36-E0108229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E9A-5BEE-4978-B0F7-33D92EC7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EA9-AA82-43DF-BD57-F9A9FB83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926-52B7-42E4-BE49-FD63E670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14ECE-BCDE-4E9B-BAC5-2EE433EF7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78CED-C2E5-4631-AB64-026875287D8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3C3E8-05D9-4B12-9ED2-A3144CEB5B8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67B09-4E26-4037-B198-18D8567FA46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716BB-4D7E-41BA-82DE-38E5FBC5E42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1F540-8C9D-4445-B5EC-CB90BD04FD9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C5336-C1A5-406C-840C-E9CD387AF35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76844-6CED-42BE-9A21-30A97EE9375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AE404-53F7-4F51-A9FE-3E71FF90CEA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31489-5538-49F0-A7E9-E57EDD79533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87D7A-B44E-4925-BD7A-5B2F2E849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4A562-2EA7-404A-9CD2-0FB4450608F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F7CE6-66C4-4E8B-8380-9B765C31DEC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369CD-A903-4715-B862-B32553C3D4C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0873F-52D0-4C8D-9505-C18CCED6F4C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2050B-4083-42FB-AB84-CAB6F1CA598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90579-1488-4B53-96E3-7E8A2C54F6B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1518E-514B-4001-9DEA-2DA5120D1FA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266BC-73C8-4462-B85E-0D20D58505C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D2DC7-BA6F-4ADB-AD1F-E735B3945B5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14C80-0294-4165-87F0-0A44FA17F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E9C6D-CBCF-46F3-9181-5EE0ED6468C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26D68-0B19-4DFD-8896-50F396EBF4F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703F8-455D-48DB-B9D0-0BB88A0ADD4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1A29-91CB-4E1B-8309-E6DAC5A8B11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B802-7F25-42FD-A0F3-776D03E4555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2917-3642-4AFC-AFCE-9FC021A31FB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B151-6C55-407F-87E2-82DF36ED81F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E2DD-B6AC-4752-BF66-9995EF329AF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6D6F-DA28-455F-B3C5-BBAE803D2F1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E669-269E-4E91-B9AE-736A37B81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24DC-1673-4984-9A3E-36F000B2E9B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2679-41DF-4E1F-8618-3CA3CEEE78E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3099-4F49-4D94-8DB2-349E3497B19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73F3-02EF-49DD-9FF7-9F159F9CB97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6127-1158-4794-B061-80BB11FB1E4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FAC4EE-5334-4B3A-8704-ED7B8A2EFA3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238BBF-7FA5-4A52-BAAB-A8D5DC50EE3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6061D7-ECD6-4AC8-988E-22CD39B8912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33D0F4-66F0-4578-BED8-FCDE030EBEA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E0138E-8E1E-4DCC-8EF2-E7F50BC39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665E38-0286-429A-9482-65E0B19F66F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695E64-EE4E-4583-AD6A-DC44D2A7A1A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DB8329-E67C-4296-9296-3683539E2FB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029BB3-D473-40AC-A7C1-5F9CD518DAA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B137CC-DA6C-4768-A695-629235F2C5F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87C82E-5D5D-4688-913A-422CF10613B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3F7064-D82A-46E3-83D0-D6D098BB253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0BF89-4BF4-4B92-B385-E4E49A5B385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26DF2-B042-4462-B3E6-6FE6C266AB4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AC8D5-5C8A-4473-970F-942AF415C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D991C-E8AC-4873-A88E-DE8B2F3B5F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08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CA4E91-4D30-45E8-BECD-4E07F48D48A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15F7F-D59C-402F-AE1D-2492F29644B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C3ED4-6539-4679-9E9A-BA90FD553B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75652-958C-4936-A519-470631E15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10979-99F0-4175-BC3A-BBC30932E21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76AD5-6215-4670-94F1-0FC7DBD398E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132BF-3E56-4E52-BD60-B6E85681099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801342-4903-46A2-A20A-EAA1D32F0FF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02F10-D731-439F-A438-CC03A053743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8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488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5"/>
          <p:cNvSpPr/>
          <p:nvPr/>
        </p:nvSpPr>
        <p:spPr>
          <a:xfrm flipH="1" flipV="1">
            <a:off x="6504120" y="2676240"/>
            <a:ext cx="977760" cy="5238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Ellipse 70"/>
          <p:cNvSpPr/>
          <p:nvPr/>
        </p:nvSpPr>
        <p:spPr>
          <a:xfrm>
            <a:off x="6553080" y="2436840"/>
            <a:ext cx="1796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Ellipse 72"/>
          <p:cNvSpPr/>
          <p:nvPr/>
        </p:nvSpPr>
        <p:spPr>
          <a:xfrm>
            <a:off x="63244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38"/>
          <p:cNvSpPr/>
          <p:nvPr/>
        </p:nvSpPr>
        <p:spPr>
          <a:xfrm flipH="1">
            <a:off x="6826320" y="2527200"/>
            <a:ext cx="860400" cy="1296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7f7f7f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49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64"/>
          <p:cNvSpPr/>
          <p:nvPr/>
        </p:nvSpPr>
        <p:spPr>
          <a:xfrm>
            <a:off x="6191280" y="3224160"/>
            <a:ext cx="225756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63"/>
          <p:cNvSpPr/>
          <p:nvPr/>
        </p:nvSpPr>
        <p:spPr>
          <a:xfrm>
            <a:off x="7481880" y="1716120"/>
            <a:ext cx="1471680" cy="110016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7f7f7f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3" name="Text Box 31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32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3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5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6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7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38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39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592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44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46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7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48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21:45:59Z</dcterms:created>
  <dc:creator>Lynn Lipinski</dc:creator>
  <dc:description/>
  <cp:keywords/>
  <dc:language>en-US</dc:language>
  <cp:lastModifiedBy>Rinalia Abdul Rahim</cp:lastModifiedBy>
  <dcterms:modified xsi:type="dcterms:W3CDTF">2014-06-17T05:13:14Z</dcterms:modified>
  <cp:revision>34</cp:revision>
  <dc:subject/>
  <dc:title>ICANN 45 Toronto</dc:title>
</cp:coreProperties>
</file>