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A5090-882D-44C3-82DD-2E1BC8CEE8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1283B-B273-498A-AD60-849DDFA083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88D0-D6B7-4BA4-A59E-5B488E1E3C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A7A1B-DB87-4F2D-A5D2-44B8A35997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B193C-E709-4ADB-9E11-661EFA513B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4DCC2-E5C8-4EF1-82E0-A6098D1689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05074-B419-4E91-B951-61817BE0B2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C7449-BAE1-444A-8F0F-9D154C1977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66B70-EFB7-4ADF-95BD-A821B743E2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C73B-2F3E-4227-ACE6-A3B563454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23D0-53EB-423B-A1FA-8F8A301EDB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85BD-6741-49CE-BCC2-7FB1DB0182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8BF9-9895-4F42-834E-6B536E0263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6427-40C4-41B2-BA58-FE0816CDEA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0140-F44B-4D01-B3AB-B03266EC1D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5625-B686-407C-A05A-319048E883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7A50-77BD-47CE-8A9D-C40897EE6BD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B1AD-735B-4DC9-96CC-90E8282F50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A4EF-5F0A-45A5-AE1C-361A0659C9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80AB-082B-4D2D-809B-A1D6123BF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7835-6B52-4B0B-8CEF-9DAE7B37B7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596C0-6744-4C26-A8ED-B4CBB6325A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E7E26-E654-40C7-9B6E-A149E36346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31BB4-0A1E-4E70-B6BA-662DD58212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A566D-D655-4E96-B307-89F39E2A99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EF63D-F6D7-46F9-9C7B-DC3191BEE1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5A53F-CE92-4E41-B6D8-0AA95BEAF8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040BC-4658-49B5-8753-18DF555812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093F2-74ED-4067-B6B8-D707E89460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20A1F-9381-4493-919E-1EE3896FD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84B34-BFDE-4E15-9611-300D0096D0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47346-ED66-4676-A6C0-6E8A3A8371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1AE9C-88BA-48C9-960E-797F1DE120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9CB51-BB76-4B10-ACD7-12D5F93650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1CD72-6631-47E9-A04F-089B5D1858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4AFD1-0246-4EFA-92C2-3002DEF8BB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900AB-3CF8-43DE-96C4-9D4005341D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70727-C427-422A-A5FB-E6B6C79228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BE78A-2A84-4FBF-A372-E1687980A4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A49A7-CD92-4D2B-840A-64F734324E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FFD88-B6DE-455B-B31D-28EBAC3B90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56E3F-D974-469A-BCB6-DB55A2A2DA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3AC7D-B95B-4E43-A3C9-43055642C3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D84F2-C079-47EC-9AA4-20370FBED9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C4C7E-D434-4A55-9430-D3324330D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BBC-AB47-4427-A3D2-60FFD136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5A8-B932-4084-99A2-CD570571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211-D88A-4381-8DEA-F25BED4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F6F-FBA6-4FB0-90C9-1C9B141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713-C1E3-46AF-B3FA-66ED2BC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ED6-4BE3-457F-B0EB-1DAAC5E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76B-3E2A-4415-BBF2-9259240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525-4E23-4E86-A07C-E0E1237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ABC-C5BA-4BDB-ABA2-352BF28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238-BE28-4945-9AFA-36C20B5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575-4B48-41AD-8BAE-EF3AC31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09C-64B4-4D00-BB58-7E76BC4B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0016A-CB99-48BC-BBDC-B0C893F4A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6771C-47E3-469C-AF24-CF6E464488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2A6AD-CEDC-4291-831E-2333BFE4B6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5C0E-C3CC-43EE-A4D1-652F985C32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4AFB9-4BE1-4EDB-B7C0-49BFE1E1D3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7047D-CA68-4A35-8A73-6881AA1935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3DAC-BE75-4E6B-8F7B-DB939F2869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9B778-AD66-48B9-A151-BB165A97C6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90D6C-3A8F-4AD9-827E-EEA2D1496D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FDC98-32C3-4FAD-805A-4E6182433A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89AB-42EB-482E-9A26-80CFD3563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6C43-ACAC-43FB-B828-F5D7AECD5D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FE842-376E-4051-931B-2F8EC4888D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3048-E8AB-40A1-8733-7A30C3697C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06A30-2A49-4AC8-B880-B5B46DE644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7A5FF-419E-4452-83B8-1751ECFF48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E198-5722-4620-AD08-D5EF68F2B9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619A5-D50D-4CBB-97EF-1C84A5900C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4E40-F1A4-4B09-BAAD-90ABDE6C9E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0149F-23E9-4B77-BFE3-06403F0588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959B3-6CF7-4633-A64B-EE5E83D5E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4C683-A862-4A65-BE53-17694092AC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70D2-AE27-48A9-A9ED-3BB838325A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1359-7BB4-4168-8F56-DC8671E5D5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DB8-1197-4085-806B-4B7AA3787D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C4E5-DDF1-4F2F-98B0-D9783712FA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971D-4B6E-4427-B847-F51745AD0E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E23B-FBE4-40B0-AED6-C31D3C461C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FA5F-D2D4-47FE-AAEF-5A0DFE85B6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69F1-5FC7-4600-8AD2-E7C7128C28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3BD-F610-4F97-89C4-0D13A1DF2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92A-1360-47D2-A14E-70F7A0FA70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B71-6F0B-4D69-9531-51B7704771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FEE-4932-4DF0-B0F9-D4BDC0C2E3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B1B-31B2-430C-A6BD-A3384346BB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8886-D1D7-4205-94B3-C964C6CE0A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1BB21-4495-4D00-A169-791C182219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35ABD-0FEB-4578-90C6-CD866C534B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2AC68-ECFD-4A8D-8AD8-C4CA14031C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2E4B0-0CDF-4145-BB6D-ACCB6764C7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5E9EC-0441-49AD-A802-36AECB13F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1F920-293D-4AF6-84C5-177E3CD5B2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BDA7D-B708-4BF0-BCE7-7E1052398D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25C8A-866B-4E8B-AC83-531E0DDFA6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8AD72-5C3B-469A-9582-A25681A7E7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95BEF-40D5-4C35-819D-0D8124F320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92397-A16D-435C-98FE-9D4B95CC1E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93E0-C6D5-4240-89C0-A2DD95FAA2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B14D9-2799-4320-A4F0-50406ACFFC5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C8995-FEA4-4D5E-9D1F-915AC1231D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2ED0A-5891-4C50-B592-9ECA5EFC8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238F0-28CE-4F46-B696-17C7C51247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C4643-2A33-4242-AEA4-E364987963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EEF98-3F10-4DAC-920C-C860F21529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2F8D6-72D0-4C09-B231-ABF1EF81F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55864-9639-45FB-B77A-B573CB5BE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9CEA4-4944-4822-A33A-2BA19BBA96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6E9F6-77CD-46DC-B641-EA9E8E05B6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F73F-BA0D-416D-AA38-8BB9A1656D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9EDE0-403B-483A-91FE-0AEA895106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372E2-9EA1-44B7-A48B-A9210808CB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8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488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5"/>
          <p:cNvSpPr/>
          <p:nvPr/>
        </p:nvSpPr>
        <p:spPr>
          <a:xfrm flipH="1" flipV="1">
            <a:off x="6504120" y="2676240"/>
            <a:ext cx="977760" cy="5238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lipse 70"/>
          <p:cNvSpPr/>
          <p:nvPr/>
        </p:nvSpPr>
        <p:spPr>
          <a:xfrm>
            <a:off x="6553080" y="2436840"/>
            <a:ext cx="1796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Ellipse 72"/>
          <p:cNvSpPr/>
          <p:nvPr/>
        </p:nvSpPr>
        <p:spPr>
          <a:xfrm>
            <a:off x="63244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8"/>
          <p:cNvSpPr/>
          <p:nvPr/>
        </p:nvSpPr>
        <p:spPr>
          <a:xfrm flipH="1">
            <a:off x="6826320" y="2527200"/>
            <a:ext cx="860400" cy="1296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9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4"/>
          <p:cNvSpPr/>
          <p:nvPr/>
        </p:nvSpPr>
        <p:spPr>
          <a:xfrm>
            <a:off x="6191280" y="3224160"/>
            <a:ext cx="225756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3"/>
          <p:cNvSpPr/>
          <p:nvPr/>
        </p:nvSpPr>
        <p:spPr>
          <a:xfrm>
            <a:off x="7481880" y="1716120"/>
            <a:ext cx="1471680" cy="110016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Text Box 31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2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3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5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7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8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592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6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8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Rinalia Abdul Rahim</cp:lastModifiedBy>
  <dcterms:modified xsi:type="dcterms:W3CDTF">2014-06-17T05:13:14Z</dcterms:modified>
  <cp:revision>34</cp:revision>
  <dc:subject/>
  <dc:title>ICANN 45 Toronto</dc:title>
</cp:coreProperties>
</file>