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F8FE2-45A7-47C4-B0E0-786139B9C7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71217-4747-4255-ACBE-9A9C464FF9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187B0-17A2-4D4A-847A-4EC80941E1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DC8C2-F41A-4FC1-B743-B6042A2634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B75EA-342A-49EB-8BD7-CF35E8E3B5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70EF5-FADC-411F-BF3A-EEF3B805C5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4B60A-0ADC-4E1E-B674-884026289D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D5A4C-50A5-456E-A90D-4875E6A239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F3A97-91E4-4082-8086-2C20F1029A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EF4B-1730-4754-8086-47A80FBAD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0EA0-D1D5-423F-B040-6D1FF9E6D2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837F-65E8-4ECB-8F9B-E1E5AA3882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1F60-7BDE-479B-95C7-8405A95E86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3E9F-EA05-4B93-AD82-D5CD0B6F52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C873-1AE1-4856-890D-7EC580DD52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6439-BD46-4A03-AF9F-29C866F7E6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654B-0CF9-4251-A831-BD5E554BB0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CEBA-8F7A-4297-A09A-6DA788D8B0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2722-3845-46A5-B3BD-296544DECC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CFE9-A86B-45BA-83C1-74B1E6069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8E59-0BBC-4421-8654-7B05279B8B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608B2-18F5-405A-AE20-AD04D5BF47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4B991-19A6-4C80-A3C2-67B17CACFC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EDEA9-2F91-4774-91F7-F1677C89927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0F1C1-F80E-4013-9FC9-E8775906C2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B2158-5909-4B59-9024-2F31487B38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85613-3545-4F77-BD17-CFA07E9829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E738F-1CAE-4B6B-ACD2-8CD9136ED6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9CD02-B23B-497A-A4A4-E59CD2FAB5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2C0FA-76D3-413B-805C-AE7A96422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71A52-930E-4FBF-B416-9E356BF0B1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F0A77-D22E-482A-B1EB-32BA1238AA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9F342-6C5B-4A87-98F1-B6E779B63D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C4175-21FD-4C8E-981B-69C658FBFD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AD1C2-207F-4038-B86F-ABD055910C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AAED3-E223-44AC-8DDC-74B37A7C50A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3D02F-F711-4262-B075-C06ACA3DC7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771A5-2A4C-4F27-824F-FFD9191EC0D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37D3E-FA0F-4230-99BC-77DD8FEDBC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4ED0B-3B10-4DFC-8DFE-78B6E78289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B270A-F381-490D-86A7-7D13D51F3A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E4CAE-6B55-4830-922D-BC56323F70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432F4-2B1C-4299-8809-C261AECB86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40DC8-91DA-4692-97CA-E361E40A0C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ED53D-CC78-46D8-85C3-6FE414592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248-50CE-40C0-B2C6-D11CED7D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5E2-C974-4D23-9597-6E7C343D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E1B-5291-4BF3-9238-CFBD458A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0D7-DFF6-4ADF-BCE4-C589B3AB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44B-D791-449D-81C8-2DE0859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EE5-9164-4E7E-A6B0-F4EC0B5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498-AB32-43C8-9012-79DF8A6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428-C8A0-405B-90F3-5D3E775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F28-A96F-43A1-8AD7-E348B1D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CD8-BEB8-4624-BD89-F3E1884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75A-C4CF-4955-9248-E8346578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AB6-59DA-4DC6-A497-D9BABBC6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AEE6-2942-477A-8A72-6E5900DE9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4DE7C-34FD-4B38-B62D-F6D133F722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4B63-C616-45D8-8B12-5569692847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D118C-297D-42AC-9556-C81596AED5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45E55-1E95-49A2-81B9-7AAF2E79FB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86302-ED75-441E-AA17-E5B6A333F7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AD78-2732-4560-9973-B031950DAF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6FA3-DA1A-402C-9C1E-2EF1C448D4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FC3AB-7EF5-4C80-BCE4-A9E934DB6A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4C69C-740F-420A-A57C-68D28C04C9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4F8E-EEE3-431A-8E4D-E69B7CD86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CA729-E891-4C33-9E30-D38C988785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3F4DC-5814-474F-9385-1A3075488C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A2A7C-A75D-452F-B0EF-35CA2B28CC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8A94-3AE8-434E-B9F1-B4DCF9A561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1C9F5-9DC4-420C-86DC-0893A5F799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07525-37C5-4C69-A283-0F6711D808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FD48-A430-44EE-AB3D-C1B34430FA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DDB34-407C-4585-9368-01A776B019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7C0C3-7F7F-4D0E-A6FD-6A8BEAFE94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1B76-1B8C-4034-ADB0-CC7FC59E8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226F-0A5D-4FF7-8A21-C39D95D760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E109-C3D2-4A89-9758-FE3BD2061B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6200-306C-4CB3-A6A6-27D65A3604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6A1A-0D2C-4028-BD3D-41EF9AEE48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A3C-CFE7-43E9-8221-F7FAE42CD7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B35D-A428-4633-8F81-F6A27CAEE4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BC4-B298-41B4-BB35-5EBDE397A8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8547-9E23-407E-979B-FB7D8A5FD5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2F9-C870-442E-AF57-6905954453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57BA-5AC1-412C-B61C-CD55A2772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891-02E4-47E6-90DE-5602BC0D8A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DDEC-124B-43F6-B8CE-7EA777920D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A41-DC8D-467D-B307-C8D3085EDE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437-521A-4023-92C6-CFD8F2AC8E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EA5-D376-42C4-8F05-47F59AFECC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20A6D-7821-4B16-916B-C113F99BAE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43803-CA0F-4DFD-9BD9-A8E11ED222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090FA-F2DE-4BEC-B2D3-4A51F6CA37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C194E-CB78-48FE-8D4E-BC110212C8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A3E47-D922-4E45-954A-B885D98E0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8B188-E105-4C56-ABC1-DF89511F379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4E91D-2D5E-4F3F-9282-10D61E4DC5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907A0-57EC-40A1-839E-FE5FF82EF0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43679-AFF0-46A8-AE82-0C6E501EC4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96397-0A72-416E-B1CA-CB2D9D29C2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F8FA3-573C-4B22-B63F-FFC7CC0D83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547B5-9565-4774-A9AC-B0AE890761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F7ED2-F2C7-414F-887A-06139B628E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1E6AE-3E5F-4EC8-8288-F57E3F727A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3CC0-6BA9-446D-AA2C-87930E9BF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35788-17CB-4875-A71B-4E111EBA84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C6269-7DAE-4E21-97FD-9B87FB289D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F8D69-EFA7-44D6-8D09-A014D5894D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00367-F909-4659-8F16-27D6D52ACA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7CE6D-9A86-4951-A204-7BEE02FEA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665CA-38C1-419B-9D39-2B377880E5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765B6-CA1F-4F31-95DA-DEACA7F26A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D556B-9D14-4B64-B4EF-9161D5F807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3A7F0-9683-4149-B261-FA1CF72274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2BA5F-71B9-4EA8-8225-019BBA903B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8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488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5"/>
          <p:cNvSpPr/>
          <p:nvPr/>
        </p:nvSpPr>
        <p:spPr>
          <a:xfrm flipH="1" flipV="1">
            <a:off x="6504120" y="2676240"/>
            <a:ext cx="977760" cy="5238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lipse 70"/>
          <p:cNvSpPr/>
          <p:nvPr/>
        </p:nvSpPr>
        <p:spPr>
          <a:xfrm>
            <a:off x="6553080" y="2436840"/>
            <a:ext cx="1796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Ellipse 72"/>
          <p:cNvSpPr/>
          <p:nvPr/>
        </p:nvSpPr>
        <p:spPr>
          <a:xfrm>
            <a:off x="63244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8"/>
          <p:cNvSpPr/>
          <p:nvPr/>
        </p:nvSpPr>
        <p:spPr>
          <a:xfrm flipH="1">
            <a:off x="6826320" y="2527200"/>
            <a:ext cx="860400" cy="1296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9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4"/>
          <p:cNvSpPr/>
          <p:nvPr/>
        </p:nvSpPr>
        <p:spPr>
          <a:xfrm>
            <a:off x="6191280" y="3224160"/>
            <a:ext cx="225756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3"/>
          <p:cNvSpPr/>
          <p:nvPr/>
        </p:nvSpPr>
        <p:spPr>
          <a:xfrm>
            <a:off x="7481880" y="1716120"/>
            <a:ext cx="1471680" cy="110016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Text Box 31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2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3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5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7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8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592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6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8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Rinalia Abdul Rahim</cp:lastModifiedBy>
  <dcterms:modified xsi:type="dcterms:W3CDTF">2014-06-17T05:13:14Z</dcterms:modified>
  <cp:revision>34</cp:revision>
  <dc:subject/>
  <dc:title>ICANN 45 Toronto</dc:title>
</cp:coreProperties>
</file>