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3FBE86-C472-47F9-A9A7-D04904E79C78}" type="datetime">
              <a:rPr b="0" lang="en-US" sz="1200" spc="-1" strike="noStrike">
                <a:solidFill>
                  <a:srgbClr val="000000"/>
                </a:solidFill>
                <a:latin typeface="Trebuchet MS"/>
              </a:rPr>
              <a:t>07/29/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A8D826-AF99-445C-90B0-8BDE95D3DC15}"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054D85-06D5-4CAE-84C6-E69BCF59CD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ADB53C-9AC9-4C08-8AEA-98A6FFE26D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789412-D0C5-4285-B35C-DF37F1F4AF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2CD12E-F42E-437A-AD82-A161D9A5C7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469403-8899-44B1-AF8A-0AB0945D9A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360BF3-ED72-430B-B9DC-5A1C9EF01F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2CCD96-4DCA-4C20-8388-156681164E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DA5F22-F878-4646-AC19-B5E88251DC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0B7BC7B0-9CFB-40B9-9F15-065BDC4CDD2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8B1DA97C-B64E-4D50-89E6-060F9239A7C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2BAC02E5-1D52-4866-95FC-32FD84D6328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BE659BFF-E41E-4EBE-A4C5-0818D37CF9A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06B0A583-E2B0-400E-AB90-24480F48467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48802944-C70E-4E76-AB69-18E6529D5A4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BC0B8080-CEFD-4AFC-BDB6-86DE90F23BD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5F567636-9C5E-40DE-A6C2-DBB2AB391CF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31746936-FCB8-41ED-80A5-C125F662CCC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F7A070E7-4B74-48BC-9D39-04358FE6B4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FFAC68B2-F875-4D58-AF5E-1537E50D10A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CDBE9B36-E8E8-4FD1-85D8-1F069176069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57F4648B-2E3D-4D42-BAD7-F7C7F8C5AD2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3D6AAC45-7F2B-4183-B41A-A0F4CD3E1F1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DE83DB70-5EEA-4480-8E6F-0B835ADBA0E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575BDBC4-642F-48C9-9939-27114BAD016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0ECE1740-B714-45CA-9DE2-6D6A623F61D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6827187D-DFE5-492C-BC4A-FAD8CBAC765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B2A28233-4FE3-4645-82CE-C49514A3349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239F156C-6EEE-4F1A-81D9-690A78E4D5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9893D749-A06E-42BE-BBEF-4C2B3CE9B77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C3A0B35-AD37-4F10-B3A5-A64B6105FF2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FEC55480-17E6-4B16-B66E-C5563612769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9704F311-93F9-45EF-A36E-C6FC91F9768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F5B3DDC8-6430-43FB-84E1-4D48E4B075C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927EFE5C-F368-44B9-9576-4388166D6AA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2271CC31-D292-4F35-B0D6-E9FD5AD40D4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B351E9AA-8385-4CCA-A074-14FBB8336A5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8191CFD4-1FF4-4931-A7AB-1322A0392C6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07835487-0EA2-4DE6-ACF4-844244D12C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307AA27B-B8C4-47DD-8945-A46A9AE145A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8948BFC4-011A-48B9-8EFE-63669CFAAA2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A16DC134-AF0C-4F2A-BBB6-3D961366B14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978DAD9E-3B70-45FE-B514-0BB6B56E0D1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7D2BE8E2-5477-447C-9259-B202EE7FBE5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8B6B3197-BDC0-4AF6-B2FB-40A07B7DBD5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2D3DCBB6-E256-4A64-AC25-52E40A7D95A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48C1AD85-BE96-4A63-9AFB-F0AED4632FF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5C826A68-EEE7-4760-8330-59D9A598341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AE118A06-7EFB-4985-AC46-A2D50F275F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004A1E20-0FF3-4E21-9713-D6A87BAF585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3F7478DE-D873-49E1-9CE6-FD76C9D7DC5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FC91B740-6E39-49FB-90F1-EAC32ED40FB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FF39C975-A22E-402E-B9EF-B6DC35E9D8C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0AE38405-AADC-4549-AEBC-167ADCEE56F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1E5CFEA-A69D-4314-A06B-BE57D13DCA4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5356DCF-F0E7-4612-A77E-EBA59C1D65A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E359011-3422-4962-AD2C-15673E31A86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BCC7754-2ACD-40E9-B2AE-EBFC3F4265D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8768260-C69B-4053-926B-09B5C26A865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3C5AB32-EFE4-4CEA-8E43-F8BCD6C68F4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2063182-34CB-45CE-BDD8-B77E5E7868D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BEA60E5-3790-4E1D-BE14-43156032F46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585B9A9-904B-4335-A559-D75A06C22A0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B37A294-30D7-461F-9F4A-C8AD2B8B55E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59179A7-3D2E-4489-AD24-566AE9D14624}"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C42496C-D89B-486D-A566-AF185F0FC72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562BB974-6631-4632-B94A-51265CA90D9A}"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46036921-65E8-4A92-872F-3E3D3A387C0D}"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9C6A2D5E-D6F5-4AA0-859B-B9C34B63BE6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32F65AD4-2692-4F26-ADC2-445B04A2EC93}"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BBBF872C-670F-496A-AF33-1BF2C7E96085}"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BE418117-4E6E-4E6E-8461-A403D351A348}"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4918AE31-7E94-4E75-9555-068D685AB4C9}"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A3C5D25A-7B51-4438-B92B-804618C42329}"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3EBAE8E2-314F-497A-AEC8-EBD949B7FE0A}"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3C95B2B3-4FF4-4A9A-AD72-53F0A7D363FC}"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58B8EDAE-6E6C-41BC-B5CA-661C1A203759}"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F6F54025-4669-4A4F-A6E3-86D254753553}"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B9360EA9-64D9-48EA-B356-4961D31B63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EE7BD23A-44D4-4270-98CA-3764A6F5D568}"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83A676BD-0B19-47FC-9853-C5B619CE851C}"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EDFEEA64-80CF-4B11-A1D3-EDDB89E2DE10}"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38D1FC2E-01AF-4681-873D-0C7FF567B2BD}"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A1081D32-3674-458D-B5D6-8F8FDA29C625}"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88F955AA-14EB-4E33-89AD-118ADA4E8D21}"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588B76FF-F5D9-485C-91E9-614539C3E15F}"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A1409E8E-EE9E-4303-99AA-0A986F210072}"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F5689A22-0B80-4F5F-9564-CB0787224BB6}"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DA693FCD-5809-4AD9-A95A-12B07AF04B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A9A5830C-2E51-40B7-950E-5D9CF6211585}"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86E6BC35-1EF0-4453-9681-AEDD73A18A55}"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49C973E-C80A-4038-A72D-FE6283C0DF2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A834FA8-B522-48A4-B161-B5697CB5A51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BC21AED-A05A-4ACE-9445-C2FC7F9B961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9A4E5CE-02D7-4124-ACB4-4A02192DE11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0B70DF1-AFEF-452D-B2CB-507DBBF2A3B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8EE7FAC-EB69-4DC1-A9C1-D6A7BFCAE03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AF72C36-57F2-4525-9D0E-345E5FED004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A6A33D4-EE71-434C-8A91-1B8C589250D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495816E-C647-4978-A76E-CCD84304AC5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7797B160-A449-470B-8385-500596F45E2B}"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6490560B-58E2-41B0-8550-78429AF7FE87}"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FC541D25-FD27-4A77-A28E-32E430C30DCB}"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7D7982EB-4B9A-40F8-80C2-FFDFDF313181}"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34C23B6F-4404-4B7F-A366-13A67382D3BA}"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FCFB5221-98BD-40EC-A71A-DE4A2441F58F}"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35BAB463-F367-4E94-B4CD-A3F80C7B46F4}"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9B5FCCB6-09A3-4667-96F3-EE32F5E67DEB}"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EF7A1D25-69FF-4004-9E4C-3BAA33A912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131CB129-C489-433B-8791-BD147043255C}"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5E6F9639-CF8C-47F1-9361-C3BB29B68BCB}"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558DE4D4-79D2-4DE9-9AD2-3482C5B44007}"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82F292C9-7D8E-40AB-9CD5-CA16E722C57E}"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CA829457-9023-4F51-9A83-25E6E531A3BA}"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1C865F7-63D1-40A9-80CB-47BE6FD11E7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1CC7921-B7AA-4CF0-815C-CABB2E97315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1F7C6EF-1093-4B56-ABB4-8BCBE10711A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D8D51D5-6C46-452F-9587-0170AEFFF91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945DF57-2EEA-4E2F-8406-1CB536AB02F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6DFBB50-3520-420A-8BF6-25DD7116945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B1A13E6-69E3-48A3-840F-484C4D27A6A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B6E9225-4203-45B8-8271-5D0871D8012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1153BB4-5842-45FA-8051-7DE4D22FB1D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7FBB421-C1F6-4AA4-9778-3E06081CDE9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6716DA5B-37DF-4B44-92F1-D3C3782EF04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BDBED830-C5F0-4A8D-89C6-48F0DACBBE06}"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8AC81341-6C9B-48AE-A819-EB54F7D2FDBB}"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AECCEEA2-EB4A-4B7D-A653-4DAA672E6849}"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18F93DB3-C84F-4766-AB37-AA6B4B9D18E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60F6AD4F-F017-477F-AFD1-DBC5607A67D5}"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A92F0490-0E20-4807-98CA-49243960C7E4}"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6B289B09-CE5B-4CF1-BBA5-E854181C915E}"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26A9774C-2CB6-4FF0-910A-A9EC85F1E7AC}"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16B4CAFB-0941-466A-AF55-96100CF92D9D}"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E7CF0500-ADE2-464B-A543-2126801A490A}"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74DA1F29-4E26-4880-9DF3-09BACF6EB041}"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C36319DB-A3DA-4532-BE83-15412429982E}"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C2B73A39-92CE-4EEE-B59A-E9D4AB69C7F8}"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81026CAF-1AB3-49F4-8A8E-16E31446A3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775D2035-A01F-494E-A7F4-CEC05C310557}"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C4CC2708-D7CA-4C05-B5A8-583D526A3A0D}"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55D56BE0-9A6A-4E2B-86DD-903117F5CAAF}"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295F3289-D79D-4EE8-8CB9-1720B93A2CB8}"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9040FC02-A61A-482C-BE5C-7A7926856CD4}"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221D0F8D-D13B-4EBC-A901-6D1B53658197}"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5956D1C6-2656-4742-ACF8-9E042F2CC82E}"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2E8BC6C6-36CD-4F87-A523-CA0A573490D6}"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C9B95A6D-065B-4EA9-A13B-2CBECF6F4278}"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BFD978FA-1A24-4C3E-827A-402579349E1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0E3D796A-22AD-4CB7-88B0-BDC4A3A78EDF}"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85AFE789-FA3C-43ED-845B-70FEE82898C3}"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5BDA9AE8-D804-4816-A0AE-FD5F23467CB7}"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FB78FE9C-E568-42B8-99C0-35B950C80DF0}"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CB5D7692-A59F-4D55-A781-94E194E04161}"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76177B20-6B9A-4CF9-81F9-4A91C38CC85C}"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A0C29D2B-B8A3-4437-9E0A-D9EC47D5E0FA}"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10698E6D-F5EC-45B9-8108-CF8C09134A38}"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E5C81267-397E-4E25-9010-3FBB7516978E}"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A32FE9F0-616A-4C0E-86DD-311434484E5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806E0620-DC45-4992-9207-34B94F833CAD}"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AEF7DB32-805F-4281-9077-5DCA16295EDD}"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D6D6E1CD-84FD-4921-B720-43A36961DAD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D238E8-8C53-4EB6-9B91-546CCE562A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0A514-9928-4E6C-958A-977DC492A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261B0-EF92-45E1-9F90-1E3EC50D7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37DC0-6E7E-4FD8-81E7-92EA244EA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BBC1F-E21F-4BAE-B012-7A637D5B4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BD588-DF01-4F4A-A6A2-96141CE9A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36E88-4794-40AE-8F23-B3A6B4CB2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02528-8B91-4308-B146-4FC1044DB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3BB12-DF10-4840-838F-C63113F1A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D4029-256D-4D29-9DEB-85321678B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929E08-2587-480F-9437-20DE415F20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34E91D-0182-4DD5-B3F9-5226F764FC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54D1C8-C1E5-4D9D-9BE1-00D5E1517B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7A3539E-63EA-4393-8231-8D7D4577939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7C23FA4-0854-4316-990A-9B040EE7FBC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85AAECD-C111-4327-AB62-092742CCBB3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51F3C1DC-E813-4097-B6C3-C0AFEDE2BEE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D5AD8C10-8E18-4154-8A6C-130818EB389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3E86871-27B2-4463-A8C7-879079DA899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2D2389D-4B8C-4A1C-8064-E0AA2A9AC39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F1832F7-6EDB-43BF-8395-0DAD06C834A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1B2F2D0-8F64-42C6-AD98-2F3DE2672B6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E8B657E-8BEB-4725-989D-6B7930123E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B24F803-2DF7-4AF0-8C76-9C599801A5B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EB0BF76-E4C5-4D0A-AB42-693DF07FECD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E98947C-244A-4980-AB95-E8291BA4328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05297A7-5390-4F80-85DB-F798911C2E3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CEFF399-1681-40F0-A601-4BCE5C2F770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8C69C4F8-CA63-4509-8AC1-531E273CD44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4878818-A5FE-4F30-921F-AA01B105336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EF28F35-F54C-4FFF-B17A-A16AF89B4FA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677ECD7-98BB-4A6A-B837-B16DC67AB1E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411A72D-E554-45C0-870C-75717F6E2E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6FC6F83-A957-4FE2-8769-A1E824F40E4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DA95660-FB6E-47B0-9F1C-D63582285E9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853BE19-6C69-423F-AF5F-0D49F28A4A8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1243F71-B0AD-4C42-975C-845E88266C4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D5F0725-804A-42EC-A83E-3D7A40EC011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E6124BB-508C-482A-8783-8DFB4B97049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1102292-7188-48DE-B349-BE064A2D92F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C019C055-F53F-40C1-8DDD-6E41C910BE3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64D01F64-F3EA-46A1-B86C-AC492A91962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C24EB3A-9785-4C4A-849B-1CA33E6FB0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10D625C-A720-4ECD-A7AC-B8FE6DD1319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083042E-9C66-4DAD-95EC-622C928898F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B0F0D68-DFAF-4B68-A411-68326C5AEF3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0AA7EC1-2F8D-4746-B5C2-F3AF6EFDA23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0DFBACE9-5959-4EE2-BA52-05E8607966E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1B127E4-D865-4101-B4EB-A0A20B408B8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FC5FAE34-FB04-434E-9924-84AADDAAF9F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3E2B6C31-1A91-4AE7-87EC-8373CED2A0B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3F3474B8-6316-45D7-8EF4-833031BDDB0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DB6C06B2-FA7C-4A94-964F-B70E030A97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D8596CC0-0909-4C54-8062-0AE27381715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97C92BAE-24F6-4D3F-B77E-21CB84D57D9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4B2C4D77-DAAC-4652-9F31-5B6AC08DF9A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F1AD54A1-F1F2-4061-A168-C84C9D8C550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9D48ACD4-89DF-4D53-A2C6-A6D922FB3CC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4D8C6E09-80DD-4957-9E0D-4B9A17CB343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62046A05-306B-4552-A62A-347640EACDE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3B933F8-D9D3-4F89-B067-55A214EEFE8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32F8724F-F680-4AAA-894C-C37D85D0804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780400B5-214A-4CF6-A131-AC4D5ACE74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5F47A9-CA9A-41C2-AC63-034468FFB66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BED4BF-D9B4-4F75-9FF5-A8E9CB65C77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06A04B-2C6D-4B75-9774-B6DCA979084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1F8D82-CC2C-4990-A02B-6003D90633B5}"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BECEF2-5D08-40DE-9A4D-F6F31239A102}"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250E47-C6DD-4C33-8A39-39904512AA59}"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BDA574-F379-4CE6-B0D1-F4C73A61D32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510B44-4389-4E64-A164-1FB3646844D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C86856-BDDA-41F3-8DC6-F7299EA2A397}"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3E8121-0F7C-4C76-BAAA-63D0CC5C3503}" type="datetime">
              <a:rPr b="0" lang="en-US" sz="1200" spc="-1" strike="noStrike">
                <a:solidFill>
                  <a:srgbClr val="898989"/>
                </a:solidFill>
                <a:latin typeface="Trebuchet MS"/>
              </a:rPr>
              <a:t>07/29/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2E0B30-8B99-4096-B0E4-97ACE60961BA}"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120B01-4ABA-4467-8E9C-EC3F19FFE1F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48E755-FF75-4EA9-8337-8C9BF3514F5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9BE355-1641-457D-B332-5C75988DA8F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3424A9-30B2-4A71-B46F-5CE34BCFCA0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06FBAC-6D5B-4971-8CDB-339F1D89DB1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9B49F5-EC84-4891-A8A2-17E66008599E}"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F0B372-19A4-4255-B5A8-65B53904AFE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72E3DE-DB2F-437B-9EEE-45966884211A}"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798696-6B23-4899-987D-3D3B9363C84B}"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D3DD79-F399-43FB-BDE7-244B4B8021C9}"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0AFF0F-6F3F-4AD9-B734-D7C0131151DB}"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1EAE71-FE98-4999-BB14-8AC6112AD971}"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D9C958-3B91-4579-8C44-977E6FEE90D0}"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941AC9-32D1-40EE-BAC7-B550E51BA722}"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799D66-1ADD-452B-8460-6D0F03E7FA9A}"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F3EF9C-F3AD-4438-A81B-A9ADC2DFDE16}"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B72729-E4D6-4C52-BB7A-571F2993917E}"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24F894-08A8-4F6E-BA55-2DDFF64EC32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590711-6707-436B-B1F1-F917B6ACB8D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