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1AD808-0A9A-44CD-A3E5-867C7BD51B5C}" type="datetime">
              <a:rPr b="0" lang="en-US" sz="1200" spc="-1" strike="noStrike">
                <a:solidFill>
                  <a:srgbClr val="000000"/>
                </a:solidFill>
                <a:latin typeface="Trebuchet MS"/>
              </a:rPr>
              <a:t>07/30/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B74A42-C2C7-4545-B542-9D2732599B74}"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4B1F87-3F1C-46F0-AD06-4EC4C77C2A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B9B294-089C-4A87-B46F-08A16EABF1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9285ED-7383-4E8E-AA46-DA61D740C4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748E4A-BA7B-493E-B779-D6276179ED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C62E91-8429-43CE-BF75-D10AE8CA97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F8F8F8-9196-4A15-9DB0-18A1751470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3842D2-FE9D-42E4-99BE-C046B36399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7604DD-A717-4E8A-87CE-EDA97FE21E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44466AB9-9B6B-445F-B3FC-8CDFBAD497E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E400BABB-27DE-4014-9F53-37B46CC0018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29B3CBD5-21E5-4E52-B560-FE362B05FA6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212F6A74-F166-403F-BBB5-1034F974FCF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61C41191-F591-4283-B54F-81C101D9CE4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1D28E705-84C1-4FB4-9701-4879441CF04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95715CDD-DED1-4B8D-ADFF-8D8E34A31A7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70CFFEC7-C675-4CCE-9C62-CB104DBFBAA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C7A2E807-F8D0-4431-A81F-34A2FA096AF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3A575D6-CD83-411F-82DA-336B10A567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554F2C00-B49A-46CC-B6B7-AC1FF6F8E5C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3F3D4F0E-5285-4EE3-ADE5-D08807048BE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F688DA45-C8B4-4E95-95EF-153145253ED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24F1403F-F5B2-4210-ADD5-B1E976A82DE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312A540C-AD04-4329-A715-206076D6F09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89AAF018-FE15-4BA0-9851-C62A30ABACA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A4612FE2-ACAB-422C-A7D8-E5FD3DBD354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280A1FBD-0516-4C61-9694-0803A135BB1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8B7F945C-6A4F-417A-B21F-095F2FA13E0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0262B24E-2F75-422D-BA4B-3F71B7F26E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F92C8B28-6A14-4D8A-8582-C754123DDF1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D9A50FD-FCF3-4527-8D87-54FFBA7224E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4F099D5F-A86B-42A4-896B-6635719818E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3989F840-4942-41A7-BB31-DCAFE5E4FAF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C08D33C6-63A1-4D17-9AA8-37530FE7079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E0E7FC91-4233-482D-8636-89484E19FCA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F1356FED-A6B9-4943-964E-4C541332CBB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CB2E5141-AD25-478F-8FB5-462637C32DA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41F5D76C-3DD8-465E-A9AF-76AAABE1B3B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3C99732F-321A-419E-9396-310A5A16EE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3216E39F-5E74-41DC-9C13-A406AF26ECE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ADF9635A-7051-4057-A6DD-34416D0A5AC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8CB44D37-0DA9-41B2-B965-2D5816A2DAB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B2636A61-C943-4853-ADDB-6608BBD9466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59684CB5-41F4-47BF-8476-F1CF1881A09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52989495-261F-408B-9008-B32CF56CD4F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7B9F4750-7375-4320-857C-F77078A53E3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1F781CE2-CB81-47F9-B630-95388F35C01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215A1536-BD6A-4FE9-9963-C2C2EDA030D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0B08561E-2ACD-4C8D-8F34-0FF65D72FFA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A1AA0981-BEA4-4D09-8CD6-414521BC610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6442BA1E-26AA-41D4-BEF7-3E5E1CD3309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B3535E7F-7A71-4955-A015-2F2AD88B127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D4FCE758-9C06-4ADC-9C56-8D07876D018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9DE790AE-54B1-4403-9E86-E556F04AFE0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76F9F95-2C5F-4DBB-9738-714054FE1A0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4A0037C-8459-4D29-8DD4-933B9765219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7207EA3-07AE-476C-81E1-702D1E9D7EB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7B881DD-5F31-4E38-A4E6-92A37ED21C9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C2F1526-6488-46A4-AF20-05F44D4E689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C0EDD6A-B10B-45BF-B5B0-AFB817CB909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2CA2653-53EC-40E1-A617-4AC5AC5C030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0611766-F165-4FCB-A678-EE93178B0E3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AF5A729-E1CC-4B68-BC6A-1D36196735A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3CCB641-7AE6-4848-9864-F5CEFF66BC7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9E70E60-468B-4009-95E4-EEA6629762BA}"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38B83A2-46AC-4CB4-AF5C-3BB10859BD1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FCF93D9C-AA54-42AD-A5AF-D57D416AA46E}"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0C9BBDA2-5595-4456-82B2-39D601F1F392}"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59B73DBB-4AC3-486C-9588-0A31FF769BA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1493E28D-9A98-41D2-A927-D07D4A43F6B8}"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0950F92E-B863-45BF-84B4-8FA316F92CF3}"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5770CF19-7373-483C-90BC-F4F5DF0AC452}"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816A4669-3256-44B2-AA5E-794590809C32}"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BF1099A4-458E-4FAB-AA5E-E6C892BCB5A9}"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2C4626F1-EDCB-4363-879A-42294F60D6D4}"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1CF48BDF-DF21-416A-97DE-7220BFBB37C1}"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6A589DFA-8D7F-4EEB-A26C-5CEBE31950F2}"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E60CCE81-11AD-4DAA-8F57-C68690969B86}"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5A36BF68-8B52-41D4-BAE7-2ADC5E5DA60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D5A1C88B-030A-4656-8856-23BBC2A7621D}"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8B36BC85-AE32-47BF-99AC-CE00A3C06191}"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C4C70BB4-A865-4F1E-947C-001255D811E8}"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636DEAE7-49C5-42C0-89F7-828BEB382DC8}"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356B6CCB-A8A2-46F9-9C5A-90E2F2912D04}"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94C38316-244F-4BDA-8AD1-AFCEABEB214A}"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5A490A9B-D9DD-49CD-87A1-7F3855FD132E}"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D5C0EEA9-09B7-4226-BE46-A0316841B299}"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7FBA9D83-D2E8-4378-8566-1EC50AE454AA}"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F64CCFDF-AE19-4FDE-83F6-C5E8B9C7403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3285E27B-DC55-4F6B-BA48-EFA447CAE1FF}"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E8B54D4F-BE21-4128-8228-E4C984D6053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C065BEA-F15C-4BDB-AC71-A5ABAA10E39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BBEDE52-64CD-4E24-9ED3-F7D089AB946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3D9FE51-5672-43F9-8980-794FAB1F427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9B991E3-6591-4975-9196-8E11824ACB8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02C5586-58AC-4A71-B09C-A45A02BF5B2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AC1423D-B55E-4C1F-BAFC-FF2D7BFAED2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47B9012-62A5-4CDA-B62B-498F3145DC6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A1205D9-DE78-4387-96FD-24E857DE128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89570BC-82DF-4BAD-BBF3-86523F7F9BA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745E65BE-5086-44DD-978F-B7313AABDAB0}"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F12C0FA9-9DA1-4DDC-917B-B8E7CE74D1E3}"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57F67316-D759-4C10-ABE8-B5A049D87362}"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D47F44E3-DA65-42AA-803F-F8D5760183FF}"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423B254E-D72D-4486-A05E-15F467DA6C39}"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1E1852CB-A2AD-4EC1-B6D2-C2600BD956BA}"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758B226D-B29E-479D-878D-B53E6E64B46C}"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F9E2E53C-1EF4-4B66-BF26-476EB623BC00}"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79840015-337D-4318-955A-FB8C39BCA1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982F37AF-6F45-4327-8836-1974653BEA36}"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7DE52E1B-DF21-44E8-BAC6-F61D52C2C0AF}"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7D561118-40BE-4902-B092-76B86BEF41DC}"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E69C2F65-4467-4FDC-B954-37DDD012F4DC}"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77EB6498-AD8B-4113-B9D6-3B01383C671A}"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77E72AC-06BE-4B41-ACD1-F7432228BE8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8F8E522-F7A8-4588-8C28-6F8624A6457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10621A6-06A9-4473-ADFF-B87105B190C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A73BD88-DEE3-4E19-86B2-CB72F35BF04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914E7A8-1D55-4603-B890-99A4BDAB73D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BDB548E-329E-4669-B470-39AE518E533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911334C-DBB2-43EF-964B-D1414F61F0E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581FD72-BBA6-4997-93CC-68D0226B860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4A63421-7D7F-45CD-9147-02CFB58EC30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1C63845-EFB7-462A-94B3-0B45BD0E78B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BDBBDDB8-74C7-4C4E-92FF-4745AB96E9BB}"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A163560-3D7C-4AE0-AAFB-6AF68EE930BB}"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A265B108-17C8-4F00-A19C-D8CA4541ACDC}"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9C78F0CA-0C13-4362-AF03-707929FFE4CC}"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B8477BE8-2E43-4743-BC4C-51A38BDD192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41D72F9E-8574-45E6-BEDD-968D90273587}"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76B01003-5CFF-4A82-B60C-D2B2423E142C}"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AEF0CC61-B08D-4201-952D-1C98443615BC}"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80420FBC-1544-4522-8ACB-69A4CF675A30}"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6F1D489F-7668-47D9-A95E-77371FD73749}"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A4B93461-4C27-4FD6-9379-C86BCF56CA63}"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FA676D8F-09B5-4DB8-B21A-C1614D17109B}"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405FA3ED-6CC3-4EC7-BB2E-9E45F968C343}"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4802077F-28FD-48FC-8CEC-C096B72B3966}"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57F56BF0-880C-48D0-9E30-18E0C4D99F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B4BF80BE-64F6-448E-8793-C4160C31B2DD}"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E24375C5-B07D-4FEE-985C-211CC173171E}"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504274BB-D1BF-4CC0-AE69-D0D4EB8605A0}"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819E5482-1B45-40D5-98EF-1DE2CF84007F}"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7508548A-4040-4ACD-82EA-FBA026E341EC}"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018A01BE-BB19-4658-B020-9A79B796EE0A}"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6CAE587D-1D2E-4319-B1B4-24738DDBF0A8}"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76D886C8-8BBD-40DC-B097-F67225FA44C2}"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4558F2F4-F52C-4D99-9F71-CFE06735925B}"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746AC0DD-05E2-4F8A-9243-62A80646AA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5A55C969-9C37-48E9-B276-8C0293744F01}"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3C0D15C1-1054-49A4-ADAB-1FACDAEAE156}"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D91C0138-5E2C-4F5B-8DC3-1F38254BB064}"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ACDA1FA2-6F2E-4BC5-96F3-5EE16BB4705A}"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4C8F968C-1868-4E14-BBCA-2EC38F6BFE40}"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9A5A8C34-7AD7-45EE-B285-E5F3D935454E}"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89E25D90-384D-4F9E-A25E-41C640BC0298}"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8E6C074F-2C04-4785-8030-403180B165A8}"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8DB76D56-EE7E-4E9C-814E-12227AB9622B}"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960B6BF2-0FFE-4CE0-B116-BF5ABF1BAC0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C16FE896-F863-4ADC-8060-399D0D0DC848}"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E64AEC36-2652-40FA-BC7D-B1470F91A90F}"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6AB65CF1-B904-4C7B-9101-B7B5754DE85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E2069A-5FB0-4C43-9343-86B5CA4969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AA2B7-F135-4412-BF50-60EDE3C57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B88FF-544C-4691-85A1-226257BD3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D6231-ACE3-4150-A0CC-AAC5CC3D4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FD0D9-3394-43BC-8022-178198CD9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0220A-FF0D-42A9-8DE4-82E6E5668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EC683-BF1F-4C8C-B7C1-308D2EB0F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546E9-F15E-4676-9FE0-5F4DEAAA6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A32D8-7537-44EA-8663-F82FD486A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8C3EA-F486-40A5-84C2-11EFA94CB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AAA5AA-672C-4784-9966-6BA679234C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F48C67-664F-4017-BE15-3837CC1412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A042120-6A08-4EB9-9C64-BFF126EECD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2D7C214-45F0-41D3-81C8-C208C936043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C6CA0F1-594A-43A3-A081-9AE47B02E43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8DE402F-2CCA-4660-8711-10B5F044CD2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8C652655-261D-4A26-931C-280A4EB13B4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CA14B5DB-F112-4378-83CF-7BC8999C473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55D2949-B93F-4BC6-B7E9-AADAFC7BB0E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8EF7C74-3279-4CF7-9E37-2DE272B8740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DDF87BF-9698-410F-83D7-DA5F8F9533B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FB125CC-7CB4-4612-BED5-FAE73705979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E97BCED-5E2F-457F-9FFF-0387FE3B10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100599A-8A98-44A6-953F-EF86102CBE2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66B80C2-3AD2-48C3-A383-CD956477C07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7197D67-03A0-484F-A039-8D65FC7423A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A548394-B417-4D91-9117-F30491E4BE9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023F704-5C54-495F-AA64-FDD3F9B1D2E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CBECB97A-44F9-4756-A8AE-17790022019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B996F9DD-0491-4454-AEA5-4536D05DD4B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2FA2A3E-1730-4892-9128-FDD7951B8A4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C0CCDAB-57D9-4834-91E6-7C9E860A2B7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2E3133C-2DB6-4247-83A4-0A4CB75A50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64C2C93-9F5B-4604-9553-0DC9BE3D39B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11F2DB26-28C1-4A3C-9046-CF2179CEED4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17D619E1-AA1B-47E0-9540-D306D1D4508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C698042-7CB3-4350-9EED-D0E6E0061B8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B5DBEC1-54BD-4FC8-A628-1761FFACB56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1CCB56B-5373-4897-964A-33A261A29CA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61CB614-1A91-4678-88F0-3B45ECCDCA3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4C795C5C-9593-48AF-ABCF-2D4B37FE73E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4091668-A0D5-44F8-AF2F-1648C0ED8A4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C3895D8-17CC-4646-B1E4-C9AAEA2C8D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A01A8F6-31F5-416B-8B26-00457786676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C6F49DD-9678-4849-A119-F232B62200A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D1A8416-85AE-4D41-8EDE-A5769A7FA38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2872058C-A1AA-402A-8538-540F0E848E3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8EEB6829-60B4-492A-8251-71F443F354E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E770E2C-BD10-46F7-BAE6-76E0780FC26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C612C229-94A6-433B-8C16-6F168A94F43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7CA51057-F094-4BB3-8070-65FFE4F3B50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174178D4-DD0E-42A5-89E5-D264ABA32D2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30A7FDBA-DB65-49D7-8B2D-4F934DCEF2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F7700B41-ADDC-45D7-A597-CD10A6AB5AF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86749BC6-2B01-401A-A5EA-F0F1DA48E9F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DFD1C64B-B0BB-4879-8D74-653138AEC86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9745171D-CC38-43A8-B23C-ED3EA262CDC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ACE6C38B-2783-4D2F-9D0A-671917F4034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31ABAC91-5CBA-42B8-85FD-F494C6CB46F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7989D80C-C8FE-4CD1-A592-99F6C48529D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C4E6D0C-54BA-4028-80AA-31BF553C9C4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10EECCFF-108B-4BAC-AE5F-30678CFFEAD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A99954A6-9C0C-4223-8BFA-8AF20C953E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52A88C-FB40-43A6-9175-93477A5FCBC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819FED-6C76-431A-9EAE-D580BBA2849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7D48E2-D708-41C6-B7BF-E643DF666A8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1A4E4F-B92C-47CE-88D6-E8E825247200}"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1F1F12-6F85-41DA-B386-4A0D87B7460A}"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8BEB22-84A2-4960-A91B-4EEC6E3B650D}"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764A41-B20B-4FF2-894B-BB6F9D76558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15A769-B316-409C-A625-E3B23865080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7FE858-B5B5-485B-B79D-2BD623B5803B}"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0F35C1-B0D2-4A2B-9345-4E8F1A56F447}" type="datetime">
              <a:rPr b="0" lang="en-US" sz="1200" spc="-1" strike="noStrike">
                <a:solidFill>
                  <a:srgbClr val="898989"/>
                </a:solidFill>
                <a:latin typeface="Trebuchet MS"/>
              </a:rPr>
              <a:t>07/30/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E3B6A9-C614-4A56-8280-A62F144D4614}"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EF7B69-6F47-416A-93F5-16B769168F8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37DB33-D957-49B5-97D8-1CFF3D3E450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C5AC0D-DF89-47CA-9B90-BA103F0F166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F2A641-AB2A-4651-8C7C-0345FDFDA4C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BB5994-B1A9-4C6B-AA5F-44439331BAD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28EDB8-7EBA-4673-8CC6-CABB9D35FCB9}"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4C012C-2B38-4CDA-B836-4FEEF2759C45}"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086348-58E6-4372-A7CC-A0BC5B99B56C}"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31FF1C-DCFB-4994-9AD4-DF995F77D92D}"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483C6D-38B8-4BE7-9241-FBAEC6B91D6D}"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C0947C-9D8F-4179-BC72-CA7844C98559}"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27CF1C-C32A-4AE7-8480-119C3076860A}"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A37CB9-47F8-4ECB-B4B7-EF3AC862E3F6}"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68EC3E-5716-4549-B34F-A2A7F791DAE3}"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358CEC-9FCC-4AC6-B9DD-224CABE75870}"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9050AC-2A55-4170-86EF-D42EBDFCA118}"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088CAD-1FEF-4363-8E11-BD50C2BC3129}"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7BBEC9-FE08-49D7-95F7-2145DEE21239}"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80D17A-C3F5-4866-96ED-0D1CA288FD8F}"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