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A982-4169-4BE5-BCE6-C49A379D1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82E6-3A18-411C-9BED-F27EFF6AB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C004-9D28-47AF-B7E0-3BE33A2A6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3554-A2B0-4FE5-8653-F28C18DBC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1F153-A62D-435F-A4F1-68157A5ECA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9614D-6476-4A3E-9DD7-F65038B012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97228-BC59-4A67-B7A5-9F632976AE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2536C-CC5F-432B-8984-0342EEF247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7817-C4BD-4491-97AC-FD7CA79363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F5EB-33AA-4B72-AD3A-E6DE00F659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E288F-2D2D-4FA4-9472-1A8C719A33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5C72-5DAE-4088-A597-94BD6A5AE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EA72-979C-4EBA-92C7-ADB9879CED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0B3A-128C-4609-9088-A131247E63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0C7E-2756-4FCC-8652-1F3D0341E3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745E-EC1E-4CF7-B368-D516A8BE0F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89C2-734C-4634-A83E-A4C8922274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9531-D28E-4664-8C9F-1DCCDCE4C3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45E-F2DE-4EF9-AB28-10431E739D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9A9-540E-4C17-B86D-F296BC5E74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8A2-5124-471A-8300-CAC776337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553B-AB4E-4027-931E-2F58B372B0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06F-B996-4906-8F64-4B9143C56B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22E-6E70-4D36-95E3-A0224EDF76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DF6-E3CD-49FD-B189-7BA88FFCA9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28B-04BD-4EED-8B5C-4D8400CEDE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A77-3295-4D41-AF4E-9857D6852E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F3F-7C0A-4A50-A700-4D7A0F8F05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3F7A-CB22-462C-ACA6-DCF57919B7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32F-7227-411F-AE91-2CF285B225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51CD-757D-4C41-B33F-47FD5131BD3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3FA2F-9400-4C6F-B5D2-C5A9C69AE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BE5E-7DF9-44BB-B70E-83A40CEF33F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709D5-5C9B-4022-B175-E3E3005CC4B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5F16A-B175-4C44-A819-38B3E3D218E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89383-B8C3-41C2-88F4-1052EEBF1DB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62AD5-5D15-4BA6-8F24-439A9A0F057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3074C-1214-41A8-AE2D-ED0D7F1C3C9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B4A29-A09D-42AC-8B6D-BA33DEFC850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69F3D-DEB7-44A6-91B6-B374C598BAA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4843C-8E25-4372-992F-E4CBF21E663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1C31E-DC09-4B76-8E32-98CD530E590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D7013-E2A1-4005-9473-6806E28A7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7B15-1C67-4553-AE22-F4B6716E966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98169-45D6-463D-B77D-D34DE61D00B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2C424-FB72-4859-B2DE-0A6B7718504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FF6F0-2C40-4F55-A969-FFAC15F9A83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7227A-0F47-44CA-BD57-C94184F947D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A0FE1-03FA-4EF6-90AA-428C93FDE7F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A215D-148C-412C-BB20-8BCF42CB394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9B057-55FB-4CFF-8BED-2641B226635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E3969-56D4-46C4-AEB5-82B5176D826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D839A-0630-44A7-A107-BA20BAA0E2E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495B6-354A-43B5-B2C7-20CCBF65D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48E8-95D0-485C-A71A-9188F464D29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379A1-A717-48B7-A60E-5C49A0DE325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8D44A-5A7C-451A-B945-BEA55C315A4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59B63-F324-4EF2-ADBD-19E20632E0E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481C6-9450-4202-B714-533E2456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D5C42-FB18-4F5E-92A5-03B2877F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9FA33-910F-440D-82B7-E3E49CB8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A1A1F-A537-4E31-9D11-BF1D123D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2CD9E-11B3-4F35-B001-191D72B6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592E6-572F-45F8-A563-F0371B88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378ED-DA62-4522-A9EA-256FFF8A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1DD3-EECD-4F23-890F-7F9E48AFD4A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FCCDC-880A-42E0-A304-5043A75B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67ED8-9966-4EB5-B421-183023FD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7DAE3-1287-4D81-9ECA-FB6F303E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C45FF-0B63-4D78-A42D-0AF4F162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A640C-1D5B-428C-AF0F-7E61CD5A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B5993-E0BC-45BC-9EE6-FEFBE09F26C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45F4-DF69-45FE-8E17-8B6EBA7EC35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E413C-D993-4849-844F-D427826D48F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DF1B2-444D-48FF-93E1-C9E1B5FBF82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2B3BB-FB12-4DA3-B8B0-AB477DF4E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191C-D329-42E0-8077-EE6CF47A137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F5115-5FF9-42E6-BC27-ADFE48FAE7B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7C1B5-EF1A-40D1-A10A-9948603D953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41C56-D4B5-47B8-92A7-A8E821902B2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C80D-DA38-43EC-BCB8-10F22E55A2D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5A21-A0B1-4FB6-952C-597CEE92EC6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46E75-D784-437B-BA2D-4CD4796CD8C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E887F-4D95-4777-A118-0D47E2EFB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4BAC0-50B7-4887-ACE2-7D388ECE66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942240" y="6424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72B69-3B8F-489B-9D7D-D80B483FBB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urban-slide.jpg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208A2-76B4-4EE1-8F39-FE73191F88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604BA-DD7E-4EEB-9F21-0B0B8D2A8DB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69E11-D1D2-4164-B366-6E28451FD35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C4AAF-534B-424C-AB88-63EC6075202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ldNum" idx="9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E2D7B-7554-46C2-9528-AB98D0A7E0A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n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767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12" name="Título 1"/>
          <p:cNvSpPr/>
          <p:nvPr/>
        </p:nvSpPr>
        <p:spPr>
          <a:xfrm>
            <a:off x="239760" y="841320"/>
            <a:ext cx="8567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At- Large Multi-Stakeholder Policy Round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_x0016_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ew gTLDs: Addressing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nsumer and Public Interest Concerns</a:t>
            </a:r>
            <a:br>
              <a:rPr sz="3200"/>
            </a:br>
            <a:br>
              <a:rPr sz="3200"/>
            </a:b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Geographic Nam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037960" y="1708200"/>
            <a:ext cx="689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respect_x0016_national sensitivities regarding terms with national, cultural, geographic and religious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not prejudice the application of the principle of national sovereig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naming system is a public resource and it must be  administered in the public and common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038320" y="1924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should avoid country, territory or place names, and country, territory or regional language or people descriptions, unless in agreement with the relevant governments or public author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  <p:sp>
        <p:nvSpPr>
          <p:cNvPr id="319" name="Rectángulo 1"/>
          <p:cNvSpPr/>
          <p:nvPr/>
        </p:nvSpPr>
        <p:spPr>
          <a:xfrm>
            <a:off x="1959120" y="61088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ttps://gacweb.icann.org/download/attachments/28278837/gTLD_principles_0.pdf?version=1&amp;modificationDate=1312358178000&amp;api=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 geo na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 city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ty names where applicants declare that they intend to use the gTLD for purposes associated with the cit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-national place names listed in the ISO 3166-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appearing on the list of UNESCO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on the UN’s “Composition of macro geographical (continental) regions, geographical sub-regions, and selected economic and other group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newgtlds.icann.org/en/applicants/ag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 the event of any doubt, it is in the applicant’s interest to consult with relevant governments and public authorities and enlist their support or non-objection prior to submission of the application, in order to preclude possible objections and pre-address any ambiguities concerning the string and applicable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w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Ad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on: Independent Objector - Governments – Private - AL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ed marks vs g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038320" y="1829880"/>
            <a:ext cx="664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LDs are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marks are registered in specific classes under national established reg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gistered trademarks should be respected, not only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confusion should be avo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level: GAC principles regarding new gT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plicant registries of new gTLDs should pledg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opt procedures for blocking, at no cost and on demand of governments, public authorities or IGOs, names with national or geographic signific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sure procedures to allow governments, public authorities and IGOs to chanllenge abuses of names with national or geogaphic significance at the second level of a new gT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911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34" name="Title 4"/>
          <p:cNvSpPr/>
          <p:nvPr/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n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5:15:36Z</dcterms:created>
  <dc:creator>Lynn Lipinski</dc:creator>
  <dc:description/>
  <cp:keywords>Template ICANN 47</cp:keywords>
  <dc:language>en-US</dc:language>
  <cp:lastModifiedBy>Olga Cavalli</cp:lastModifiedBy>
  <dcterms:modified xsi:type="dcterms:W3CDTF">2013-07-15T11:39:30Z</dcterms:modified>
  <cp:revision>49</cp:revision>
  <dc:subject/>
  <dc:title>ICANN 47 Durban Template</dc:title>
</cp:coreProperties>
</file>