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D027E-593B-4332-80D8-CBE27CC2B5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B0356-002C-43C9-9FD9-DA2C00C73A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20F7E-8803-4DE6-8C33-647A8938A9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FA41E-C644-4DAD-9A57-BAD2044B6A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7277A-3A2B-42AB-941D-9C1F61613F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2D67B-5B77-413F-9437-5B07AE8587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04C36-89C7-487D-8C9B-B0292C0E7C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EF2ED-F398-4CF4-8776-9263D9E129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9E629-89A8-40DE-894A-98DFE3CAC2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51760-40C8-4F62-BFDD-41AB136348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9AF4F-A753-4A4C-B124-6C03D8658F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72687-B9D1-4257-BCAA-F8AB305EA1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F6D9A-7D94-4D6D-A20D-FA7FB17F18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B158C-A4B5-4BB0-9C3A-DA77919068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9EE65-23AC-41F5-95E9-8204E7C569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D2DD8-F9F3-4C71-AE9E-3B0EC10B04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6B7B3-2547-4B04-B326-87E34C6E561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3C0E9-6262-4662-9081-092D52B0E25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04D0-B1A2-49E6-B904-38E86FC6160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41FB-7207-483D-B660-45DF3AA1B38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4AF6-024A-4408-8F19-06F217388E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53B6A-051F-4B78-B58D-52F48807971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8B61-A0A4-45CB-A4F7-E97944028C1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E4A2-42BA-46BD-BAC8-B8CB96681FC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A94D-ECE0-4BC5-A9A2-F6937D0E3E9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0A60-67E9-4ADB-84A8-9FDD17CFBAB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E47C-1B0F-48D7-AA86-4EE18F3DA01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FAD7-74F5-48A5-825D-EE52C02C16B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5559-8DFD-4138-9CC0-6941CCE8B5F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4DBC-D7A5-4885-8D8C-FF868C5C4D6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BBB5-B26A-4652-A13A-76EBEA2F3A5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96361-4CFC-4D23-9A33-D3818E837C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7C496-E09B-4128-884B-9FE45D75316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F55415-0A53-4CBA-8D36-5B26DC2AE16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7980B-8124-4276-B2AD-BC93A982C26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D327DE-84AA-48B1-8C45-3A8E0ADB46E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5635B-1D68-49BF-93E8-7A4091D18A1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B7E3D-DE3E-4176-B3A2-80F5B8D0287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78C89F-B39E-4886-81F4-B8CCCC7DDBD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44BC2-47CA-4203-BD7C-14DF14A68A6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4A3ED5-7548-42C3-BCA9-F26C4173EA0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88DF0-6046-4937-A250-E9673B00384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B6EE4D-6E2F-4E8B-8C99-C1F268A02D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5ECDB-E60A-493A-876A-D391ABF4778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E64E80-41C8-4F00-93E4-68D59B23A1E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07391A-3C6A-4B9D-93DD-6A3646E5EB8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1CB9C-D5F8-4F45-8505-D0DB52FF1DE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29A75-CC08-486A-874A-BB9A1E265C9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866C5-9178-4D2A-AB71-914DD5C7AC3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01123-C5B1-42BA-B7A7-BEC6B937645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EB7FE8-6F86-4F6E-8462-86DA96AD872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47CD6-C36B-4525-A6B9-41BEF0EC4B6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8DEA0-64B9-40AE-B5EC-334918394DF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F7F47-E0B8-417B-B0DE-722932F430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5B76C-09FA-4A35-A21B-216556276CE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D8658-36A7-47F3-9FEF-539DD2EB34C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735D1-4D5B-4925-9BFF-0D66949B190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20EEA-8969-4F63-916D-7FC3EA9EBB7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27A560-792E-41D5-AE6A-9C77AFAE3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58C40F-ADF3-4110-8365-7327BD64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13636C-E42A-46A7-8D03-9E223AA1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8A9E11-3D8E-49A1-B806-92FF623E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E69493-1A49-4069-BBD3-FA320DA4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CD720C-2B5D-47D2-8E15-BD2D8AD6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C49BEC-F592-46F9-8932-4285D58F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899E2-6D63-4FD3-A3EF-40017F03DA9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3F0823-A1D6-491E-BF8D-21C9A967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602DAB-21BD-46A4-ABFC-1A04ADF3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3B8DAD-1104-4B7F-B0D8-182876EB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1DC919-487E-4CEB-AA33-E00285ECA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BF59FF-C46D-4C5F-A376-86F6D1751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A639C-5754-4216-BE26-91F11EDBE7C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8255D-60F9-418A-97EC-0F4E4A53AD3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70CF4-345D-47BE-8E24-44C5D514DCA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99503-AC7A-41DD-AAB3-AA4624FE712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33B84-0531-494D-87A2-350DD93C4B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781FF-5350-413E-A235-AA1D7437F31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3CDA4-56C5-41C2-805A-3974E09DF4B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BC49C-F6BE-4379-8415-BD021D0789B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BFDE8-BC22-4ABF-B451-C135115CDE1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67430-56AA-4A06-B94B-7DD2CCAAD48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EB3C7-66E3-4BA3-A280-ABFF2D85A07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D7944-7609-47AA-9E14-8CDDD07ABB8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2D6DF-E9B0-4291-9784-336A242F4F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B28BDB-1D7C-4D76-8883-8CA1699FDE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9" descr="durban-titl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2038320" y="160020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942240" y="64245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D57148-598F-4900-9BD6-98E30A0C92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6" descr="durban-slide.jpg"/>
          <p:cNvPicPr/>
          <p:nvPr/>
        </p:nvPicPr>
        <p:blipFill>
          <a:blip r:embed="rId2"/>
          <a:stretch/>
        </p:blipFill>
        <p:spPr>
          <a:xfrm>
            <a:off x="0" y="0"/>
            <a:ext cx="16606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durban-titl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A04453-7C32-41F5-A2FC-799CBC59DA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sldNum" idx="4"/>
          </p:nvPr>
        </p:nvSpPr>
        <p:spPr>
          <a:xfrm>
            <a:off x="2556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02F1E6-B669-4E33-BCA0-78E9C38BCC3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sldNum" idx="5"/>
          </p:nvPr>
        </p:nvSpPr>
        <p:spPr>
          <a:xfrm>
            <a:off x="2556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30FF61-8F47-40E8-B11B-7130CF2F45C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E2616A-5047-4FF5-B4D9-1126C8C6B57B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sldNum" idx="9"/>
          </p:nvPr>
        </p:nvSpPr>
        <p:spPr>
          <a:xfrm>
            <a:off x="2556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3BE663-17D3-443E-98D3-F4ADCB7FBCF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31880" y="4676760"/>
            <a:ext cx="5461200" cy="202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lga Cavalli, PhD Eng</a:t>
            </a:r>
            <a:br>
              <a:rPr sz="24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rgentina GAC Representativ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rector South School on Internet Gove</a:t>
            </a:r>
            <a:r>
              <a:rPr b="0" lang="es-ES" sz="2000" spc="-1" strike="noStrike">
                <a:solidFill>
                  <a:srgbClr val="558ed5"/>
                </a:solidFill>
                <a:latin typeface="Arial"/>
              </a:rPr>
              <a:t>rna</a:t>
            </a:r>
            <a:r>
              <a:rPr b="0" lang="es-ES" sz="2000" spc="-1" strike="noStrike">
                <a:solidFill>
                  <a:srgbClr val="1f497d"/>
                </a:solidFill>
                <a:latin typeface="Arial"/>
              </a:rPr>
              <a:t>nc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www.gobernanzainternet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Picture 1" descr="IC_AtLarge_Logo.png"/>
          <p:cNvPicPr/>
          <p:nvPr/>
        </p:nvPicPr>
        <p:blipFill>
          <a:blip r:embed="rId1"/>
          <a:stretch/>
        </p:blipFill>
        <p:spPr>
          <a:xfrm>
            <a:off x="-185760" y="4676760"/>
            <a:ext cx="2023920" cy="2166840"/>
          </a:xfrm>
          <a:prstGeom prst="rect">
            <a:avLst/>
          </a:prstGeom>
          <a:ln w="0">
            <a:noFill/>
          </a:ln>
        </p:spPr>
      </p:pic>
      <p:sp>
        <p:nvSpPr>
          <p:cNvPr id="312" name="Título 1"/>
          <p:cNvSpPr/>
          <p:nvPr/>
        </p:nvSpPr>
        <p:spPr>
          <a:xfrm>
            <a:off x="239760" y="841320"/>
            <a:ext cx="856764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At- Large Multi-Stakeholder Policy Roundt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200"/>
            </a:b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_x0016_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New gTLDs: Addressing 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Consumer and Public Interest Concerns</a:t>
            </a:r>
            <a:br>
              <a:rPr sz="3200"/>
            </a:br>
            <a:br>
              <a:rPr sz="3200"/>
            </a:br>
            <a:r>
              <a:rPr b="0" lang="es-ES" sz="4800" spc="-1" strike="noStrike">
                <a:solidFill>
                  <a:srgbClr val="ffffff"/>
                </a:solidFill>
                <a:latin typeface="Calibri"/>
              </a:rPr>
              <a:t>Geographic Names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C principles regarding new gTLDs - 200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037960" y="1708200"/>
            <a:ext cx="6892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gTLDs should respect_x0016_national sensitivities regarding terms with national, cultural, geographic and religious signific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gTLDs should not prejudice the application of the principle of national sovereign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et naming system is a public resource and it must be  administered in the public and common inte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C principles regarding new gTLDs - 200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038320" y="192420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ANN should avoid country, territory or place names, and country, territory or regional language or people descriptions, unless in agreement with the relevant governments or public authori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  <p:sp>
        <p:nvSpPr>
          <p:cNvPr id="319" name="Rectángulo 1"/>
          <p:cNvSpPr/>
          <p:nvPr/>
        </p:nvSpPr>
        <p:spPr>
          <a:xfrm>
            <a:off x="1959120" y="6108840"/>
            <a:ext cx="672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https://gacweb.icann.org/download/attachments/28278837/gTLD_principles_0.pdf?version=1&amp;modificationDate=1312358178000&amp;api=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plicant Guideb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2038320" y="143676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a geo nam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ital city na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ty names where applicants declare that they intend to use the gTLD for purposes associated with the city 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-national place names listed in the ISO 3166-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onal names appearing on the list of UNESCO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onal names on the UN’s “Composition of macro geographical (continental) regions, geographical sub-regions, and selected economic and other group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newgtlds.icann.org/en/applicants/ag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plicant Guideb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038320" y="143676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 the event of any doubt, it is in the applicant’s interest to consult with relevant governments and public authorities and enlist their support or non-objection prior to submission of the application, in order to preclude possible objections and pre-address any ambiguities concerning the string and applicable requir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ly war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C Ad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on: Independent Objector - Governments – Private - ALA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gistered marks vs gT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038320" y="1829880"/>
            <a:ext cx="664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TLDs are glob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demarks are registered in specific classes under national established reg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registered trademarks should be respected, not only 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umer confusion should be avoi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ond level: GAC principles regarding new gTL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038320" y="160020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plicant registries of new gTLDs should pledg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dopt procedures for blocking, at no cost and on demand of governments, public authorities or IGOs, names with national or geographic signific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nsure procedures to allow governments, public authorities and IGOs to chanllenge abuses of names with national or geogaphic significance at the second level of a new gT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387520"/>
            <a:ext cx="7772400" cy="24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Picture 1" descr="IC_AtLarge_Logo.png"/>
          <p:cNvPicPr/>
          <p:nvPr/>
        </p:nvPicPr>
        <p:blipFill>
          <a:blip r:embed="rId1"/>
          <a:stretch/>
        </p:blipFill>
        <p:spPr>
          <a:xfrm>
            <a:off x="-185760" y="4691160"/>
            <a:ext cx="2023920" cy="2166840"/>
          </a:xfrm>
          <a:prstGeom prst="rect">
            <a:avLst/>
          </a:prstGeom>
          <a:ln w="0">
            <a:noFill/>
          </a:ln>
        </p:spPr>
      </p:pic>
      <p:sp>
        <p:nvSpPr>
          <p:cNvPr id="334" name="Title 4"/>
          <p:cNvSpPr/>
          <p:nvPr/>
        </p:nvSpPr>
        <p:spPr>
          <a:xfrm>
            <a:off x="1631880" y="4676760"/>
            <a:ext cx="5461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lga Cavalli, PhD E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rgentina GAC Representativ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rector South School on Internet Gove</a:t>
            </a:r>
            <a:r>
              <a:rPr b="0" lang="es-ES" sz="2000" spc="-1" strike="noStrike">
                <a:solidFill>
                  <a:srgbClr val="558ed5"/>
                </a:solidFill>
                <a:latin typeface="Arial"/>
              </a:rPr>
              <a:t>rnan</a:t>
            </a:r>
            <a:r>
              <a:rPr b="0" lang="es-ES" sz="2000" spc="-1" strike="noStrike">
                <a:solidFill>
                  <a:srgbClr val="1f497d"/>
                </a:solidFill>
                <a:latin typeface="Arial"/>
              </a:rPr>
              <a:t>c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www.gobernanzainternet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3T15:15:36Z</dcterms:created>
  <dc:creator>Lynn Lipinski</dc:creator>
  <dc:description/>
  <cp:keywords>Template ICANN 47</cp:keywords>
  <dc:language>en-US</dc:language>
  <cp:lastModifiedBy>Olga Cavalli</cp:lastModifiedBy>
  <dcterms:modified xsi:type="dcterms:W3CDTF">2013-07-15T11:39:30Z</dcterms:modified>
  <cp:revision>49</cp:revision>
  <dc:subject/>
  <dc:title>ICANN 47 Durban Template</dc:title>
</cp:coreProperties>
</file>