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8B307-3503-404F-8E8E-6CB268A532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0F7F1-DD71-4DBB-A7E2-3D440BEE66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FE40E-C7C2-463D-8883-25952B6D0C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CC04C-6115-4847-B1E8-3C2BC4AE6D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3CD99-8DEC-4333-874E-ECB2EB1F50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526A5-D5C8-4B69-B039-D2EB1C98CA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9787E-D286-4505-AF8A-111117FB21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62604-FD81-43B5-ADA5-9C46BF5930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C36F9-3D4A-45DB-A9F2-5E85B384D5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CF235-5F36-4191-A12A-7E3F2E6B84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D1FC1-0BF5-45DD-8CFD-3DEDD65AAE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6EE9F-AEB2-439B-B976-8DA6B725C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C462C-50A0-4601-A62D-0383174B8C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E7B63-C109-4A1C-8912-F2D11C9875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4F78D-FED8-4172-9117-4371A145DD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585E1-27E9-4B52-9F74-7DBBF4BAFB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57D02-A6A3-47E2-884A-9428D7FD1A9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9D5BD-C4C6-4CD2-9187-DBB7378BA3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C09A-B595-468B-A379-2D0A939375B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0287-B6AE-4DA4-A33B-9FD694B8CC7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4042-F826-48D7-BF82-D77E260223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18353-B1D8-4E7D-A677-FC709735947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8387-4736-4914-BE82-0A9B495AECE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2AD5-F90E-45AE-87E6-EBE9474639E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3FFA-E86A-4128-8476-5C600674F16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CF28-229F-4D79-9FCC-8908B1D65AD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0C5B-CC65-4596-BD86-E3B6C771FC1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672E-ED0D-404E-8F24-176945B2F4D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E30E-93DA-42C3-8DDB-72BA1039976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4814-4E1F-4458-BA4B-855259BBAF2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A833-DE2F-4CFE-85BE-9BE11BD7C6C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4B9CC-5EDB-442F-AFC8-7BA96242C3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5683C-9946-4008-9A54-C7BE54F7A7A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C8C59-C00E-4A5B-BCB7-C816F05F19F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F79FA-1E2A-4BFD-A0C8-5B02FC66741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BC943-ECE4-4D80-B810-EBB911200CF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50136-80B3-41C3-BE59-F3BBC8869C4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D8C20-35C2-445F-AF0D-4ABA9B51BD7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0BAEF-D8FC-4A59-81B4-EADFD365AB5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4433F-6640-44E5-BBE3-BB56CC7430B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C067C-D4DC-465B-981A-CA2C34D168B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9E2EF-974F-4417-87FE-4DA74D036D4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1C301-2224-4AD8-BA20-B785C1AF48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EA707-4B06-4ADF-B0F2-B55E4A26CEB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9073A-CBBC-40E2-8A08-0E496289185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02AD9-CCEB-4C14-A909-C398B3DD52C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2A217-CEA4-4604-BB4A-757E28A4ACB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52DE6-E32F-4954-B819-09617251820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C57FC-FA9F-4032-A53A-AD258CF063D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EEAA0-0C00-4830-9227-790ADE20905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DC099-D751-4FDC-935B-E525297E7A8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D911B-DB47-4260-B559-5CBA14AFF61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83248-AC02-4F7C-B864-36ABF371064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28478-AF2E-4E22-8F8E-5131328730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A8A6A-1965-4C4C-A0A1-EF985056B56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26B9B-7C04-49BA-BE0E-F7186207919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51274-49ED-4D1E-9116-69A005F7DE1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142C0-D984-44BE-B0B4-F2EAF154D5B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4AEA21-3A28-4BBB-A8FF-C3E64B1B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2C345F-41B5-42D4-9335-E6387C52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087C7A-4196-4BF1-829B-F61C8502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65FB0B-A2FC-4390-9A87-AE6394B4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BA8BE9-97AF-4267-A6BF-9BB08551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FAE994-67A0-4D30-A9A8-632F834D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F89199-F7E1-4F93-8681-3A11287D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14977-5B99-401C-9CD8-1C81F2E87F0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0C7DBD-5DD5-49FA-BB20-A4A63B40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C760EF-F303-4BC8-8D9F-F941C5D5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235BE5-214C-4BD2-A648-7FEE2623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652320-C144-4D81-BB36-1C2A1600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9A2CDA-A698-498D-A392-FA182E122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808A5-8BB9-47D8-910E-348D7C0FDE4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34D6B-299A-496F-81EC-4B10C1F7B0E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37592-AF77-44E7-AE96-C7AD5A6F2CD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B24FA-DF4F-4A0C-8091-43365E4B5CD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13902-5688-47A3-AFE0-BE363C45F4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5D70C-9FD3-4103-9722-6B6838D4678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A1B8A-1875-4D26-8842-30400A3F26B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98BA5-63B3-43A8-B61C-909152B4CF9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11508-B61F-44C6-ADD0-A38780A7FF5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EB033-1536-4449-AE53-F1097981A43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41366-BE60-4CB5-925A-BD5E5B91160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9AB03-50EA-43B9-8AFF-3C66F0B9CCD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A0C46-839E-4971-83AF-DB700AD55A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DC1712-CD86-4BCB-9BDE-BC8096D3EF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9" descr="durban-titl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038320" y="1600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942240" y="64245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BA5896-D572-431F-9218-54D05AC250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durban-slide.jpg"/>
          <p:cNvPicPr/>
          <p:nvPr/>
        </p:nvPicPr>
        <p:blipFill>
          <a:blip r:embed="rId2"/>
          <a:stretch/>
        </p:blipFill>
        <p:spPr>
          <a:xfrm>
            <a:off x="0" y="0"/>
            <a:ext cx="1660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durban-titl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1F9612-0C52-43F9-84EC-E79CF8B366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sldNum" idx="4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742008-76C0-4455-87A8-7D4A7A9621C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sldNum" idx="5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89FC9D-70CF-4030-9574-E42593CBA1F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4271EE-28FB-4D36-B1BC-257DDCD73AA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sldNum" idx="9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05DF1D-406E-4498-A174-5E3FEBD3C0F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31880" y="4676760"/>
            <a:ext cx="5461200" cy="202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lga Cavalli, PhD Eng</a:t>
            </a:r>
            <a:br>
              <a:rPr sz="24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rgentina GAC Representativ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rector South School on Internet Gove</a:t>
            </a:r>
            <a:r>
              <a:rPr b="0" lang="es-ES" sz="2000" spc="-1" strike="noStrike">
                <a:solidFill>
                  <a:srgbClr val="558ed5"/>
                </a:solidFill>
                <a:latin typeface="Arial"/>
              </a:rPr>
              <a:t>rna</a:t>
            </a:r>
            <a:r>
              <a:rPr b="0" lang="es-ES" sz="2000" spc="-1" strike="noStrike">
                <a:solidFill>
                  <a:srgbClr val="1f497d"/>
                </a:solidFill>
                <a:latin typeface="Arial"/>
              </a:rPr>
              <a:t>nc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www.gobernanzainternet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1" descr="IC_AtLarge_Logo.png"/>
          <p:cNvPicPr/>
          <p:nvPr/>
        </p:nvPicPr>
        <p:blipFill>
          <a:blip r:embed="rId1"/>
          <a:stretch/>
        </p:blipFill>
        <p:spPr>
          <a:xfrm>
            <a:off x="-185760" y="4676760"/>
            <a:ext cx="2023920" cy="2166840"/>
          </a:xfrm>
          <a:prstGeom prst="rect">
            <a:avLst/>
          </a:prstGeom>
          <a:ln w="0">
            <a:noFill/>
          </a:ln>
        </p:spPr>
      </p:pic>
      <p:sp>
        <p:nvSpPr>
          <p:cNvPr id="312" name="Título 1"/>
          <p:cNvSpPr/>
          <p:nvPr/>
        </p:nvSpPr>
        <p:spPr>
          <a:xfrm>
            <a:off x="239760" y="841320"/>
            <a:ext cx="856764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At- Large Multi-Stakeholder Policy Roundt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200"/>
            </a:b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_x0016_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New gTLDs: Addressing 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Consumer and Public Interest Concerns</a:t>
            </a:r>
            <a:br>
              <a:rPr sz="3200"/>
            </a:br>
            <a:br>
              <a:rPr sz="3200"/>
            </a:br>
            <a:r>
              <a:rPr b="0" lang="es-ES" sz="4800" spc="-1" strike="noStrike">
                <a:solidFill>
                  <a:srgbClr val="ffffff"/>
                </a:solidFill>
                <a:latin typeface="Calibri"/>
              </a:rPr>
              <a:t>Geographic Name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C principles regarding new gTLDs - 200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037960" y="1708200"/>
            <a:ext cx="689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gTLDs should respect_x0016_national sensitivities regarding terms with national, cultural, geographic and religious signific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gTLDs should not prejudice the application of the principle of national sovereign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naming system is a public resource and it must be  administered in the public and common i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C principles regarding new gTLDs - 200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038320" y="1924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ANN should avoid country, territory or place names, and country, territory or regional language or people descriptions, unless in agreement with the relevant governments or public author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  <p:sp>
        <p:nvSpPr>
          <p:cNvPr id="319" name="Rectángulo 1"/>
          <p:cNvSpPr/>
          <p:nvPr/>
        </p:nvSpPr>
        <p:spPr>
          <a:xfrm>
            <a:off x="1959120" y="6108840"/>
            <a:ext cx="672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https://gacweb.icann.org/download/attachments/28278837/gTLD_principles_0.pdf?version=1&amp;modificationDate=1312358178000&amp;api=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plicant Guideb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038320" y="143676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a geo nam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ital city n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ty names where applicants declare that they intend to use the gTLD for purposes associated with the city 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-national place names listed in the ISO 3166-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onal names appearing on the list of UNESCO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onal names on the UN’s “Composition of macro geographical (continental) regions, geographical sub-regions, and selected economic and other group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newgtlds.icann.org/en/applicants/ag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plicant Guideb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038320" y="143676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 the event of any doubt, it is in the applicant’s interest to consult with relevant governments and public authorities and enlist their support or non-objection prior to submission of the application, in order to preclude possible objections and pre-address any ambiguities concerning the string and applicable requir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war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C Ad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on: Independent Objector - Governments – Private - ALA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istered marks vs g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038320" y="1829880"/>
            <a:ext cx="664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LDs are glob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emarks are registered in specific classes under national established reg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registered trademarks should be respected, not only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umer confusion should be avoi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 level: GAC principles regarding new gTL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038320" y="1600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plicant registries of new gTLDs should pledg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dopt procedures for blocking, at no cost and on demand of governments, public authorities or IGOs, names with national or geographic signific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nsure procedures to allow governments, public authorities and IGOs to chanllenge abuses of names with national or geogaphic significance at the second level of a new gT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387520"/>
            <a:ext cx="7772400" cy="24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Picture 1" descr="IC_AtLarge_Logo.png"/>
          <p:cNvPicPr/>
          <p:nvPr/>
        </p:nvPicPr>
        <p:blipFill>
          <a:blip r:embed="rId1"/>
          <a:stretch/>
        </p:blipFill>
        <p:spPr>
          <a:xfrm>
            <a:off x="-185760" y="4691160"/>
            <a:ext cx="2023920" cy="2166840"/>
          </a:xfrm>
          <a:prstGeom prst="rect">
            <a:avLst/>
          </a:prstGeom>
          <a:ln w="0">
            <a:noFill/>
          </a:ln>
        </p:spPr>
      </p:pic>
      <p:sp>
        <p:nvSpPr>
          <p:cNvPr id="334" name="Title 4"/>
          <p:cNvSpPr/>
          <p:nvPr/>
        </p:nvSpPr>
        <p:spPr>
          <a:xfrm>
            <a:off x="1631880" y="4676760"/>
            <a:ext cx="5461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lga Cavalli, PhD E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rgentina GAC Representativ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rector South School on Internet Gove</a:t>
            </a:r>
            <a:r>
              <a:rPr b="0" lang="es-ES" sz="2000" spc="-1" strike="noStrike">
                <a:solidFill>
                  <a:srgbClr val="558ed5"/>
                </a:solidFill>
                <a:latin typeface="Arial"/>
              </a:rPr>
              <a:t>rnan</a:t>
            </a:r>
            <a:r>
              <a:rPr b="0" lang="es-ES" sz="2000" spc="-1" strike="noStrike">
                <a:solidFill>
                  <a:srgbClr val="1f497d"/>
                </a:solidFill>
                <a:latin typeface="Arial"/>
              </a:rPr>
              <a:t>c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www.gobernanzainternet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15:15:36Z</dcterms:created>
  <dc:creator>Lynn Lipinski</dc:creator>
  <dc:description/>
  <cp:keywords>Template ICANN 47</cp:keywords>
  <dc:language>en-US</dc:language>
  <cp:lastModifiedBy>Olga Cavalli</cp:lastModifiedBy>
  <dcterms:modified xsi:type="dcterms:W3CDTF">2013-07-15T11:39:30Z</dcterms:modified>
  <cp:revision>49</cp:revision>
  <dc:subject/>
  <dc:title>ICANN 47 Durban Template</dc:title>
</cp:coreProperties>
</file>