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09F8-4067-4A51-B366-A30BB3A4E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761D-AD08-4776-82CB-156984DA3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5A01-07D8-4B8C-A627-528582B11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2989-216E-406C-899F-DE95D232A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5D7E-19B5-4A9B-BFF7-96467736C7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FE0D-729A-4586-AB2E-D4A7001A5D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0751-2AA5-47FB-AC5F-E09338B703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274A-DC53-4577-9843-F205A5D9EF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B77E-9653-4D32-B89D-AB606711E5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FDF57-417A-4B34-B43D-E81B5BEA92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9716-5125-4A31-922F-CDF2669AB5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B183-312D-44BF-A20B-A0A43861F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B8EF-CC62-40F3-A9FC-AA251EBC16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9A879-AA8D-4854-A75F-F88A10B97B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8511A-61A2-4690-A8E5-DAB7794CCD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FA9DD-AEA1-4756-91D9-56A68426E6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84AF-B668-4AC2-8EF9-A8C864CFE9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4199-4763-444F-94A4-32EF641093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E7E-2953-43C9-AA08-479B66EB80E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335-2C9F-41E5-87CE-83CCD01C32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0BA-70C5-418E-BAC5-349065F73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19392-B6D3-4518-B24C-6D0ADF0A7F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0B4-118A-44A9-93F0-C25320FA60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B8C-A7F0-4629-94AB-9ACF3EBF3E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719-314D-4A22-8A4A-BBF12C65B5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200-1033-4D70-A097-796E9A1E5B7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54C-6A75-4E29-B5FA-D282AD15D17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7CF-8F75-44FA-96CB-0857BD1572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ECB-20A0-4838-AF95-A05B46EE24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C00C-4BCC-4C77-98B5-EEEC74D5802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F1A-5CAC-4B91-A6D9-756ABDB927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60CEF-F39A-4E40-AB79-1A3909E34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7BAA-D6FB-4E43-878B-3D4DAE78B5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11385-6AF9-40F3-8350-28813836A5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571BB-E93F-4793-AEBB-A9BA8D736E0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70515-978F-42BF-A608-3EF48129F33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BDDD1-3738-4213-BF09-F70A1D638B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69915-826C-47C9-B70A-2A83537AB5E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0A8B4-44BD-4DC4-BE9A-18580363BF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84823-D47C-46E3-876B-D75F3C8B378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45F67-6CF0-4678-BCF5-60ABAF5DEA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A966C-FAF5-4AAD-A137-EB71934FA7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A43B4-9FF9-4FDB-BF99-42A1C08AE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363A-E784-44E0-B26A-47BB58134A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74608-1034-4316-AD99-92502CE422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E3D2A-2780-4B07-BD65-412179D270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BF9A3-FA60-43F9-803E-EEDC111EF7F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5384B-9868-4F9E-9109-FD78CF3A6D4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97CB1-9B28-467F-B76F-97C0A20BE76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E2467-030C-4218-BF27-CC27F129E12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69C4B-65E5-4D3E-96C7-B9F671D561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EC060-8658-491B-B518-69582407D6E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9B7CA-8D9A-4945-BBE1-906D3E94126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6BC73-199C-41E2-837F-3FC606A0D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77A9-1E51-47EB-A2AD-C67707F39A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07896-D24F-4D2A-94C8-F03C90B16E0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96D68-24D3-40DF-BEC7-8BA726C196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E3408-D3BD-40F0-AB05-C9A0CEFAEF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142AF-C4BC-4F81-86BA-1F3368C3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5B494-17B6-4F43-90B2-59A42E02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4F9AD-3BAA-4C8E-9DDD-C10CF259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195FE-7161-42D0-B07C-51003D88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95376-5598-4898-9297-21EB2B4B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9A85B-3F25-4110-8074-E8072407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7F8C5-940A-4ADF-BB64-90EEA7B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AC40-AF0B-4F73-870D-C764F508A04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67A0BC-45F8-434C-BF15-2936FCC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91288-6670-44A6-92EB-F3EC980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A3DCA-09CF-4FEB-BFC6-0DABB68C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66B43-9F0A-414E-B275-C8F1CF19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F867D-2607-4485-AA0B-73A96F56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0E5D-93B0-4E8F-8DF9-16A71F03C4C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40804-8B92-4F29-8766-88F8BA89BE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5A89A-ADF1-4B60-9B1C-9CD05E793C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F0EA-C56F-4004-B5A3-7BF0EA75FC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0E4D-72CD-4800-8058-8E5C4A270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6C9F4-1F83-451E-BBBB-8B02164D8DC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BEF8-A016-44A9-BCD3-F34733622B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2A62-CCBB-4942-8A92-1A2D05A563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558B-B2D9-43CC-8957-587282DF4C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2F39-97DE-46DC-9445-80C25C1BC20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07607-6C05-4FBD-AC0C-4636CF0F04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2B6A-495C-438E-8DBA-8C62CDBB8A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1E5A9-FE8B-4216-AD5B-481367439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F7627-0135-4F4A-85E1-1BEE45A76A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942240" y="64245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5C44F-AEC6-4826-AEC5-BC4CED6153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durban-slide.jpg"/>
          <p:cNvPicPr/>
          <p:nvPr/>
        </p:nvPicPr>
        <p:blipFill>
          <a:blip r:embed="rId2"/>
          <a:stretch/>
        </p:blipFill>
        <p:spPr>
          <a:xfrm>
            <a:off x="0" y="0"/>
            <a:ext cx="16606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durban-titl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3D8AC2-3E3B-4546-8F95-46A26666CA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ldNum" idx="4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59BB8-E344-49B4-945B-A673881C567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E9FFD-04FF-4E26-82A8-E0BAFE016E2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DE95A-C2B1-4A75-8D7D-1C957D38274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durban-2pg-bar.jpg"/>
          <p:cNvPicPr/>
          <p:nvPr/>
        </p:nvPicPr>
        <p:blipFill>
          <a:blip r:embed="rId2"/>
          <a:stretch/>
        </p:blipFill>
        <p:spPr>
          <a:xfrm>
            <a:off x="0" y="6102360"/>
            <a:ext cx="9024840" cy="7556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sldNum" idx="9"/>
          </p:nvPr>
        </p:nvSpPr>
        <p:spPr>
          <a:xfrm>
            <a:off x="25560" y="6481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0BF5E3-5666-4149-A4B2-01B362722505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br>
              <a:rPr sz="24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n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767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12" name="Título 1"/>
          <p:cNvSpPr/>
          <p:nvPr/>
        </p:nvSpPr>
        <p:spPr>
          <a:xfrm>
            <a:off x="239760" y="841320"/>
            <a:ext cx="856764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alibri"/>
              </a:rPr>
              <a:t>At- Large Multi-Stakeholder Policy Roundt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_x0016_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New gTLDs: Addressing 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Calibri"/>
              </a:rPr>
              <a:t>Consumer and Public Interest Concerns</a:t>
            </a:r>
            <a:br>
              <a:rPr sz="3200"/>
            </a:br>
            <a:br>
              <a:rPr sz="3200"/>
            </a:br>
            <a:r>
              <a:rPr b="0" lang="es-ES" sz="4800" spc="-1" strike="noStrike">
                <a:solidFill>
                  <a:srgbClr val="ffffff"/>
                </a:solidFill>
                <a:latin typeface="Calibri"/>
              </a:rPr>
              <a:t>Geographic Name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037960" y="1708200"/>
            <a:ext cx="689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respect_x0016_national sensitivities regarding terms with national, cultural, geographic and religious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gTLDs should not prejudice the application of the principle of national sovereig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naming system is a public resource and it must be  administered in the public and common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C principles regarding new gTLDs - 2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038320" y="1924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ANN should avoid country, territory or place names, and country, territory or regional language or people descriptions, unless in agreement with the relevant governments or public authori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  <p:sp>
        <p:nvSpPr>
          <p:cNvPr id="319" name="Rectángulo 1"/>
          <p:cNvSpPr/>
          <p:nvPr/>
        </p:nvSpPr>
        <p:spPr>
          <a:xfrm>
            <a:off x="1959120" y="6108840"/>
            <a:ext cx="672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ttps://gacweb.icann.org/download/attachments/28278837/gTLD_principles_0.pdf?version=1&amp;modificationDate=1312358178000&amp;api=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 geo na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city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ty names where applicants declare that they intend to use the gTLD for purposes associated with the cit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-national place names listed in the ISO 3166-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appearing on the list of UNESCO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al names on the UN’s “Composition of macro geographical (continental) regions, geographical sub-regions, and selected economic and other group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newgtlds.icann.org/en/applicants/ag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pplicant Guide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038320" y="143676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 the event of any doubt, it is in the applicant’s interest to consult with relevant governments and public authorities and enlist their support or non-objection prior to submission of the application, in order to preclude possible objections and pre-address any ambiguities concerning the string and applicable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war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C Ad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on: Independent Objector - Governments – Private - AL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istered marks vs g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038320" y="1829880"/>
            <a:ext cx="664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TLDs are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marks are registered in specific classes under national established reg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gistered trademarks should be respected, not only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confusion should be avoi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8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038320" y="274320"/>
            <a:ext cx="664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 level: GAC principles regarding new gT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038320" y="1600200"/>
            <a:ext cx="664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plicant registries of new gTLDs should pledg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dopt procedures for blocking, at no cost and on demand of governments, public authorities or IGOs, names with national or geographic signific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sure procedures to allow governments, public authorities and IGOs to chanllenge abuses of names with national or geogaphic significance at the second level of a new gT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" descr="IC_AtLarge_Logo.png"/>
          <p:cNvPicPr/>
          <p:nvPr/>
        </p:nvPicPr>
        <p:blipFill>
          <a:blip r:embed="rId1"/>
          <a:stretch/>
        </p:blipFill>
        <p:spPr>
          <a:xfrm>
            <a:off x="-212760" y="1944720"/>
            <a:ext cx="189216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3875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" descr="IC_AtLarge_Logo.png"/>
          <p:cNvPicPr/>
          <p:nvPr/>
        </p:nvPicPr>
        <p:blipFill>
          <a:blip r:embed="rId1"/>
          <a:stretch/>
        </p:blipFill>
        <p:spPr>
          <a:xfrm>
            <a:off x="-185760" y="4691160"/>
            <a:ext cx="2023920" cy="2166840"/>
          </a:xfrm>
          <a:prstGeom prst="rect">
            <a:avLst/>
          </a:prstGeom>
          <a:ln w="0">
            <a:noFill/>
          </a:ln>
        </p:spPr>
      </p:pic>
      <p:sp>
        <p:nvSpPr>
          <p:cNvPr id="334" name="Title 4"/>
          <p:cNvSpPr/>
          <p:nvPr/>
        </p:nvSpPr>
        <p:spPr>
          <a:xfrm>
            <a:off x="1631880" y="4676760"/>
            <a:ext cx="5461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lga Cavalli, PhD E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gentina GAC Representativ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rector South School on Internet Gove</a:t>
            </a:r>
            <a:r>
              <a:rPr b="0" lang="es-ES" sz="2000" spc="-1" strike="noStrike">
                <a:solidFill>
                  <a:srgbClr val="558ed5"/>
                </a:solidFill>
                <a:latin typeface="Arial"/>
              </a:rPr>
              <a:t>rnan</a:t>
            </a:r>
            <a:r>
              <a:rPr b="0" lang="es-ES" sz="2000" spc="-1" strike="noStrike">
                <a:solidFill>
                  <a:srgbClr val="1f497d"/>
                </a:solidFill>
                <a:latin typeface="Arial"/>
              </a:rPr>
              <a:t>c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www.gobernanzainternet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5:15:36Z</dcterms:created>
  <dc:creator>Lynn Lipinski</dc:creator>
  <dc:description/>
  <cp:keywords>Template ICANN 47</cp:keywords>
  <dc:language>en-US</dc:language>
  <cp:lastModifiedBy>Olga Cavalli</cp:lastModifiedBy>
  <dcterms:modified xsi:type="dcterms:W3CDTF">2013-07-15T11:39:30Z</dcterms:modified>
  <cp:revision>49</cp:revision>
  <dc:subject/>
  <dc:title>ICANN 47 Durban Template</dc:title>
</cp:coreProperties>
</file>