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C6499-7FB7-480E-BD7B-A871B0519E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A122D-6AE2-4A6A-9DE5-397F455639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87E9D-A1AC-43BA-ABDE-EE1751F502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7BFE5-BD57-460A-AC33-B119128A4B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70D16-AE97-457D-AF3E-340113835E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E5BF4-F6D3-442B-9F82-94AD0B5D10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A6D08-64C1-4E5B-B5BA-6D15F22615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6FDB3-5C2E-4B23-ACEB-8BED7E7E0D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5A9D1-B54F-47E5-A46A-B156914E48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7ABA0-A506-4BB7-BAD7-357D9B0CDE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344C4-8EBA-45FF-A147-AADBFC1904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F8D32-43AF-42C1-804E-F416BCBE9E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D51F2-135B-464F-9E84-163162F996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CD38B-42C8-44B7-B23F-B7B36E223D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F24EC-E007-4C87-896A-7778DC4B94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E083A-075A-4271-9319-4AAE708B06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F61A5-2365-4BA7-B848-6C36929F50E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C1150-140E-4387-8ABC-2337389CC07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AB54-89F2-4F5A-AA80-0FCF3DBAEB2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ADA8-C123-4F2C-8143-580DC9870BC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90D1-028B-4FE7-BAF0-FF60361BAD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D6C14-3D28-46F6-95DE-A08DF5E4C3E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D5D9-F4F8-4B03-9938-264FE04E87A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EA54-ECEF-4224-94DE-EC1F2EFFD39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B442-C045-4856-9306-44298EE6327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4704-65AF-4697-B70D-22265CBF6B7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A136-66E1-4DD2-9E8C-1922E185DF7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C2C3-3511-4BB4-A64E-0E071A05811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A932-5DE7-43F1-B494-0F693DCA0CB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0619-3BD2-4C52-939D-1AC635EBA39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7031-8B5C-4AE2-88D8-00C48EFACB5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67827-3BBB-4458-8DF4-C746961F00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4D112-884F-4981-98C8-471F39B3152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F190F-5EF6-4FD4-BE79-7A1FADA564C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4D847-23CE-4516-83E2-DC185C418AB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76EA3-BFCE-4BCD-BF46-AAA772A2F7C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35BA6D-FEC1-4CCE-A477-07F4102494A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C4A49-28D0-44A5-B8A2-9C21EBE9626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00B12-52C7-411D-9BFE-3E7EF0E2777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73DF8-4BD5-499C-B6EC-6DC63EB4256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CCD4D-D872-4F52-A53A-5E59BB4594F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C99C7-E748-469B-9D19-57654454B94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04DDB-7721-432C-9D03-51CD7C760D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892B0-CA4A-426B-9834-53C0D32C408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82274-08FF-4AE9-997B-2A436E4C2CE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F728A-DB9B-4663-BB75-9CC2527434D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087B3-A447-4254-960B-D2BF10F777C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9102F-0E4F-4E8B-AE82-BFBBCC43401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42BE1-8FEE-4F1E-A4F0-2CC2BDF52D1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BCF78-E312-4DC5-9C4E-ADBA7AB6C1F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D7975-2509-47C0-B479-B49B10ED4D4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AC65C-CCAA-4A96-A003-AC8AC2D76C7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23B7B-74A4-42F3-84B7-A986F86192A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26CC5-2073-4D8E-A362-4187DA0ECD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DC24D-EAB9-440E-A45A-19C8961EA57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8BA58-7686-41ED-86B8-A077AE7271D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112A9-1385-414A-BA4E-64289CC9D78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884A0-9E5F-45D5-BFE8-14532F76EF0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075404-6EA4-4A84-B5EB-153BB32EE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8436A6-F2FC-407C-95DF-AA217D1F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6FF74E-A8C2-424B-967C-1CB6F2AE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21FF1F-008C-4955-AA95-D52077B8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BBBC92-61B3-4FEC-A41F-09A0EFB6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C99E3D-E5AA-4BDB-951B-FC47562B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A45DA0-8891-42CC-9C37-7D0F0144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1BE6C-79B5-401E-9287-65644E660E5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BC2A35-832C-4F5A-BED3-E984F19D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9FAA4F-A083-4935-AF49-E57DFFC4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57F0D3-8988-4900-AF17-C739A633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D2F787-62F9-4BBF-B0E9-7904B5B6A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195B8E-21AF-4C47-A7E6-DFF250981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C6D81-E4DE-4D89-AE0F-F5262BF3EE3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C602A-0E8E-4131-BBD5-62B250F7A00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CCDE6-F555-4EDC-8F7C-27A67B42CC7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6F77C-7B03-4472-96EF-D4A4033A946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6FEDC-0B70-4F4C-9567-4E8ED5DDCC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3A2F6-8900-4363-AB0F-E729F248136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DC1C4-B6CD-4CC2-BC96-D8C5EBCD3D8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A0D37-4D39-49EA-A08D-0C3E79D2B33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D42E4-E300-490E-B13C-B6176FF015B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4D4FF-A290-4077-94DD-8112FFCA42C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8343B-D509-4727-83A7-B23E8D9DAA7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1227A-8D0B-41B3-A5A7-4742A4D104F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F2C31-4F0B-40B9-A3F7-2FF55BF6D9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36493E-7ED3-47DA-8C82-6EBC438523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9" descr="durban-titl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038320" y="160020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942240" y="64245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C69CDC-19A1-4938-81EF-052FE16602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6" descr="durban-slide.jpg"/>
          <p:cNvPicPr/>
          <p:nvPr/>
        </p:nvPicPr>
        <p:blipFill>
          <a:blip r:embed="rId2"/>
          <a:stretch/>
        </p:blipFill>
        <p:spPr>
          <a:xfrm>
            <a:off x="0" y="0"/>
            <a:ext cx="16606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durban-titl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BF3937-EA57-4637-95C9-9B0C820343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sldNum" idx="4"/>
          </p:nvPr>
        </p:nvSpPr>
        <p:spPr>
          <a:xfrm>
            <a:off x="2556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BAC1AC-D707-49B7-AC50-EF4BD8C4E02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sldNum" idx="5"/>
          </p:nvPr>
        </p:nvSpPr>
        <p:spPr>
          <a:xfrm>
            <a:off x="2556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4F8A27-FA22-40F2-B1B3-D1FFCE45C17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D1DBBA-48BD-4B5E-B28F-505096462D04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sldNum" idx="9"/>
          </p:nvPr>
        </p:nvSpPr>
        <p:spPr>
          <a:xfrm>
            <a:off x="2556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9B13D0-6BA1-4637-A7E8-5F7402DD168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31880" y="4676760"/>
            <a:ext cx="5461200" cy="202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lga Cavalli, PhD Eng</a:t>
            </a:r>
            <a:br>
              <a:rPr sz="24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rgentina GAC Representativ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rector South School on Internet Gove</a:t>
            </a:r>
            <a:r>
              <a:rPr b="0" lang="es-ES" sz="2000" spc="-1" strike="noStrike">
                <a:solidFill>
                  <a:srgbClr val="558ed5"/>
                </a:solidFill>
                <a:latin typeface="Arial"/>
              </a:rPr>
              <a:t>rna</a:t>
            </a:r>
            <a:r>
              <a:rPr b="0" lang="es-ES" sz="2000" spc="-1" strike="noStrike">
                <a:solidFill>
                  <a:srgbClr val="1f497d"/>
                </a:solidFill>
                <a:latin typeface="Arial"/>
              </a:rPr>
              <a:t>nc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www.gobernanzainternet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Picture 1" descr="IC_AtLarge_Logo.png"/>
          <p:cNvPicPr/>
          <p:nvPr/>
        </p:nvPicPr>
        <p:blipFill>
          <a:blip r:embed="rId1"/>
          <a:stretch/>
        </p:blipFill>
        <p:spPr>
          <a:xfrm>
            <a:off x="-185760" y="4676760"/>
            <a:ext cx="2023920" cy="2166840"/>
          </a:xfrm>
          <a:prstGeom prst="rect">
            <a:avLst/>
          </a:prstGeom>
          <a:ln w="0">
            <a:noFill/>
          </a:ln>
        </p:spPr>
      </p:pic>
      <p:sp>
        <p:nvSpPr>
          <p:cNvPr id="312" name="Título 1"/>
          <p:cNvSpPr/>
          <p:nvPr/>
        </p:nvSpPr>
        <p:spPr>
          <a:xfrm>
            <a:off x="239760" y="841320"/>
            <a:ext cx="856764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At- Large Multi-Stakeholder Policy Roundt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200"/>
            </a:b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_x0016_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New gTLDs: Addressing 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Consumer and Public Interest Concerns</a:t>
            </a:r>
            <a:br>
              <a:rPr sz="3200"/>
            </a:br>
            <a:br>
              <a:rPr sz="3200"/>
            </a:br>
            <a:r>
              <a:rPr b="0" lang="es-ES" sz="4800" spc="-1" strike="noStrike">
                <a:solidFill>
                  <a:srgbClr val="ffffff"/>
                </a:solidFill>
                <a:latin typeface="Calibri"/>
              </a:rPr>
              <a:t>Geographic Names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C principles regarding new gTLDs - 200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037960" y="1708200"/>
            <a:ext cx="6892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gTLDs should respect_x0016_national sensitivities regarding terms with national, cultural, geographic and religious signific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gTLDs should not prejudice the application of the principle of national sovereign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et naming system is a public resource and it must be  administered in the public and common inte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C principles regarding new gTLDs - 200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038320" y="192420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ANN should avoid country, territory or place names, and country, territory or regional language or people descriptions, unless in agreement with the relevant governments or public authori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  <p:sp>
        <p:nvSpPr>
          <p:cNvPr id="319" name="Rectángulo 1"/>
          <p:cNvSpPr/>
          <p:nvPr/>
        </p:nvSpPr>
        <p:spPr>
          <a:xfrm>
            <a:off x="1959120" y="6108840"/>
            <a:ext cx="672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https://gacweb.icann.org/download/attachments/28278837/gTLD_principles_0.pdf?version=1&amp;modificationDate=1312358178000&amp;api=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plicant Guideb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038320" y="143676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a geo nam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ital city na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ty names where applicants declare that they intend to use the gTLD for purposes associated with the city 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-national place names listed in the ISO 3166-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onal names appearing on the list of UNESCO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onal names on the UN’s “Composition of macro geographical (continental) regions, geographical sub-regions, and selected economic and other group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newgtlds.icann.org/en/applicants/ag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plicant Guideb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038320" y="143676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 the event of any doubt, it is in the applicant’s interest to consult with relevant governments and public authorities and enlist their support or non-objection prior to submission of the application, in order to preclude possible objections and pre-address any ambiguities concerning the string and applicable requir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y war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C Ad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on: Independent Objector - Governments – Private - ALA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istered marks vs gT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038320" y="1829880"/>
            <a:ext cx="664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TLDs are glob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emarks are registered in specific classes under national established reg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registered trademarks should be respected, not only 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umer confusion should be avoi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 level: GAC principles regarding new gTL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038320" y="160020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plicant registries of new gTLDs should pledg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dopt procedures for blocking, at no cost and on demand of governments, public authorities or IGOs, names with national or geographic signific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nsure procedures to allow governments, public authorities and IGOs to chanllenge abuses of names with national or geogaphic significance at the second level of a new gT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387520"/>
            <a:ext cx="7772400" cy="24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Picture 1" descr="IC_AtLarge_Logo.png"/>
          <p:cNvPicPr/>
          <p:nvPr/>
        </p:nvPicPr>
        <p:blipFill>
          <a:blip r:embed="rId1"/>
          <a:stretch/>
        </p:blipFill>
        <p:spPr>
          <a:xfrm>
            <a:off x="-185760" y="4691160"/>
            <a:ext cx="2023920" cy="2166840"/>
          </a:xfrm>
          <a:prstGeom prst="rect">
            <a:avLst/>
          </a:prstGeom>
          <a:ln w="0">
            <a:noFill/>
          </a:ln>
        </p:spPr>
      </p:pic>
      <p:sp>
        <p:nvSpPr>
          <p:cNvPr id="334" name="Title 4"/>
          <p:cNvSpPr/>
          <p:nvPr/>
        </p:nvSpPr>
        <p:spPr>
          <a:xfrm>
            <a:off x="1631880" y="4676760"/>
            <a:ext cx="5461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lga Cavalli, PhD E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rgentina GAC Representativ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rector South School on Internet Gove</a:t>
            </a:r>
            <a:r>
              <a:rPr b="0" lang="es-ES" sz="2000" spc="-1" strike="noStrike">
                <a:solidFill>
                  <a:srgbClr val="558ed5"/>
                </a:solidFill>
                <a:latin typeface="Arial"/>
              </a:rPr>
              <a:t>rnan</a:t>
            </a:r>
            <a:r>
              <a:rPr b="0" lang="es-ES" sz="2000" spc="-1" strike="noStrike">
                <a:solidFill>
                  <a:srgbClr val="1f497d"/>
                </a:solidFill>
                <a:latin typeface="Arial"/>
              </a:rPr>
              <a:t>c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www.gobernanzainternet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15:15:36Z</dcterms:created>
  <dc:creator>Lynn Lipinski</dc:creator>
  <dc:description/>
  <cp:keywords>Template ICANN 47</cp:keywords>
  <dc:language>en-US</dc:language>
  <cp:lastModifiedBy>Olga Cavalli</cp:lastModifiedBy>
  <dcterms:modified xsi:type="dcterms:W3CDTF">2013-07-15T11:39:30Z</dcterms:modified>
  <cp:revision>49</cp:revision>
  <dc:subject/>
  <dc:title>ICANN 47 Durban Template</dc:title>
</cp:coreProperties>
</file>