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DD0F-744D-4C0F-8266-F083AF29F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991F-782F-4D13-A749-0D7580669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F7D5-E9D3-4200-B02C-94062E896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E858-C420-4873-9EDD-0FD019F90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E8FA-069C-49F8-99D8-8F3E71A1EB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D194-09D6-4A36-AD5A-17449A346F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04376-82C1-4614-95AF-006EB48F5C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FFDD-6B9D-4F86-896B-C6E92118FF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E79C-8EE8-4FF5-BD4C-1A884689BC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666C-062D-4CA7-90C9-ADF27EC5F7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F86D-D2A9-401F-84D0-A00211061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11EC-DCBE-4125-9B6B-B351209EC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6076-9261-435E-9D14-13068386B7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022C-6A69-45C4-A9ED-408316C116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1D035-D1EC-40DA-8908-5806B48C14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8970-12F2-4F7A-8615-8F1E695B3E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3D1D-BE14-411C-BED8-D6E9BEFC72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6E5C-9740-4D57-832C-279AA92D60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F25-8512-4B60-ACF5-7181D4E9B6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827-5BB0-4AE1-A080-199AF6EF80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FE5-C326-479B-95E2-C03F31A51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A0B9-7405-42DF-BBB2-4DBA0D788E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287-3739-4F5D-B055-72DF1133DA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2BC-D988-4011-9050-332F96A99E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ED4-27F8-481F-837C-58B1601F2C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E1A-5D2D-4A40-85D1-4913BEB909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9FE-62CE-4E99-90F1-5133348921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47C-D3BF-4A7B-89D1-D36E9FBB7C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2D8-552B-45F9-8F84-72B4087C26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E52-11EA-4010-8E8D-BC813C0800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74F-98BC-4ECD-AA8B-155935FF6C3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90969-C4E9-45C6-9F97-DAB286009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26D4-7945-4E11-9D7F-32A6F501ACC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2F262-37C1-4D6A-AEC0-1D9D2A35DDC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EE178-7ECC-4C96-9C0E-00CAAC30C4F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59932-668A-4B0B-A22B-BE4A390FA07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6B945-2998-4384-9A07-2C99929928E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47017-CD31-42C9-B2AE-B7F994AE073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A4B58-CD88-43F8-8FEE-C74BD3C88A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BCEB5-B62E-41B9-B86A-4CD5C6AAA9A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FE2BB-69D8-49D3-BE98-30C3C35392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3FD2E-1D63-4EE1-AF89-782E3911FEE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54698-F615-40DF-8A11-0D7F275EB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95EC-A8FB-4DFF-AB07-3D080BAB31D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D1120-3A8D-4D04-9D2B-62CC507C1D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CC904-8E24-4C2C-873C-554C2E2363B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77C1E-C13A-40BF-A0D3-A96247F6F65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C4995-35B0-4A0B-B0B3-9072BF83411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D6DCD-A998-4176-96DF-19C08DB85BB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1A741-DD47-4562-A398-1DE0147062D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5BBE8-FEE2-4438-B79A-0D11E009F8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9616F-CAE3-4F41-9AD6-858B8D45153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D08B9-8748-4777-86D9-613416FF51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3B62D-18AD-490B-9290-90D5B5AC2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F897-F280-42BF-882F-92F9AD8D6BE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2B431-8079-4D43-8C6C-ABD675251F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B5182-A37E-48EF-BD1B-9A5922C30D4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EDAD7-3AD0-448D-98D5-1013A78BDE9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717A8-35DA-4487-83ED-56D586A7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76BB2-5632-469B-B3D8-F9CAE048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81213-FCAE-49A1-86CA-79486C1F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80992-7CB9-436A-AF3E-BCFA2FF3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5BFAA-3438-4FD0-ABEA-0609E41C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C8C32-6C0D-4F88-931A-89E42C9D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B195F-6838-4480-9E08-35B9BA5D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369F-AC04-4D38-91FB-40C6BFF2DC9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84500-22C6-4DAF-BC61-C6DB454E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BA94F-E59E-45C7-970B-B2578074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830EE-2C85-4998-8B79-BBD377DB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88AB3-DBB4-460A-ACFC-CD557874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24FAF-2B30-4CBF-9667-CE3F5E05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5C70-465C-49F9-B7AA-31720FF3CFD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0ED0D-AFA1-4C4E-BBFF-7471B560DAF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F36FF-B260-4873-B4C2-139059518C0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BE253-CED9-4A14-B8EB-853723D2644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9D09-A0C9-4C2D-B413-A5E2CE405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776A-5646-403C-8774-FAF1EC1777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747BC-2E2C-4CCE-8441-636F57FE9F2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EFF5-EA81-49ED-8DE3-1A9DE069196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ECE5-FDCB-4227-873B-C725A4AB6C6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F337-9720-4AF8-B3B3-1CAF8E0B3BF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D6D0-5615-41B3-98F8-9FC72E130B9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245E-F7EE-44EE-A82D-AB41379B45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2AB12-D71D-4F62-923A-64C62032E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EE29C-41B0-4DAF-917F-05CAB564D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5BDF4-3565-4CF5-8105-F626769EF6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3FE37-84AA-4C4A-8885-00F1CC07E8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CBD48-80D7-46E7-BB5B-DB1FC37628D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0087D-A34E-40E0-B30C-CE637C4205D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2FDF7-8D58-46C9-860F-55DC1B75B71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C0A48-BE9A-4126-9F38-A06B620731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n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767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12" name="Título 1"/>
          <p:cNvSpPr/>
          <p:nvPr/>
        </p:nvSpPr>
        <p:spPr>
          <a:xfrm>
            <a:off x="239760" y="841320"/>
            <a:ext cx="8567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At- Large Multi-Stakeholder Policy Round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_x0016_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ew gTLDs: Addressing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nsumer and Public Interest Concerns</a:t>
            </a:r>
            <a:br>
              <a:rPr sz="3200"/>
            </a:br>
            <a:br>
              <a:rPr sz="3200"/>
            </a:b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Geographic Nam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37960" y="1708200"/>
            <a:ext cx="689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respect_x0016_national sensitivities regarding terms with national, cultural, geographic and religious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not prejudice the application of the principle of national sovereig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naming system is a public resource and it must be  administered in the public and commo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038320" y="1924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should avoid country, territory or place names, and country, territory or regional language or people descriptions, unless in agreement with the relevant governments or public author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  <p:sp>
        <p:nvSpPr>
          <p:cNvPr id="319" name="Rectángulo 1"/>
          <p:cNvSpPr/>
          <p:nvPr/>
        </p:nvSpPr>
        <p:spPr>
          <a:xfrm>
            <a:off x="1959120" y="61088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ttps://gacweb.icann.org/download/attachments/28278837/gTLD_principles_0.pdf?version=1&amp;modificationDate=1312358178000&amp;api=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geo na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city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y names where applicants declare that they intend to use the gTLD for purposes associated with the cit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-national place names listed in the ISO 3166-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appearing on the list of UNESCO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on the UN’s “Composition of macro geographical (continental) regions, geographical sub-regions, and selected economic and other group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newgtlds.icann.org/en/applicants/ag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 the event of any doubt, it is in the applicant’s interest to consult with relevant governments and public authorities and enlist their support or non-objection prior to submission of the application, in order to preclude possible objections and pre-address any ambiguities concerning the string and applicable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Ad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on: Independent Objector - Governments – Private - AL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ed marks vs g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038320" y="1829880"/>
            <a:ext cx="664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LDs are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marks are registered in specific classes under national established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gistered trademarks should be respected, not only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confusion should be avo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level: GAC principles regarding new gT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plicant registries of new gTLDs should pledg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opt procedures for blocking, at no cost and on demand of governments, public authorities or IGOs, names with national or geographic signific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sure procedures to allow governments, public authorities and IGOs to chanllenge abuses of names with national or geogaphic significance at the second level of a new gT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34" name="Title 4"/>
          <p:cNvSpPr/>
          <p:nvPr/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n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Olga Cavalli</cp:lastModifiedBy>
  <dcterms:modified xsi:type="dcterms:W3CDTF">2013-07-15T11:39:30Z</dcterms:modified>
  <cp:revision>49</cp:revision>
  <dc:subject/>
  <dc:title>ICANN 47 Durban Template</dc:title>
</cp:coreProperties>
</file>