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A69C7-FDC2-4D79-AB18-53B1D5C16F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96A47-E035-40D1-B97C-55D10797AC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8E875-FDE6-4E13-BFC3-7890F612CC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E8757-F1AF-470D-8149-3386740944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52082D-D3F5-4F1E-B4BE-CA315B45DCE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1B3946-714B-4266-8F54-C689FBD0AA1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7FDBD0-F2A2-4ADF-A258-C992493AB31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751790-1752-4816-9E7D-99E7B66ADA1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119F3-76E7-49AC-A7E3-1249114C6A1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29D477-A239-4CAF-9F70-0D15F264B28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4C4607-760F-4EF2-BE08-0339775FA36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D629F-EA39-445E-B7D5-D764CF85D4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BFF65E-55DE-4370-A73E-3D6689E1AB9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B68C3C-6747-4D8B-976D-67974680CA4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2C6A06-A14A-45F6-86A9-94E5606631F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78D102-597A-4E59-8BF8-7F7841801D3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5872FB-0B1C-47E5-BB5F-43280BED0B1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5E006-BCD1-4286-ABB9-D5011FDCBC4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221B-1524-4770-915B-EB7D07A8FB5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7651-A11D-427D-8287-B27FC02A7AF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E9C8-5817-499E-9E2E-7954CEC95B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F4EAD-BD70-4BDF-BF4C-5AAE5D98AF0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6AB7-AD8F-47D6-8166-C764CF1ABB3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613B-E9C1-43E8-81E9-C6FF63F4D8F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4ADA-CF03-4B47-96AE-905AF5C167C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ECEB-BF0C-4A4B-8DAE-0BD575F0627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6F2D-3F8F-4940-815F-299CC195727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0D4A-E822-4215-8171-175834E45A6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EF0E-C6DE-4EDC-9754-6A54DEE8A7D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7F6B-E8C5-492A-A9CA-1F2B4D57F5F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4CA3-CB3D-4B2C-B801-2BBCB26EBEDB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BF6021-0679-4274-9C15-04D076C39F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6ADC4-4210-4E33-81FF-D9D436D1A89B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1DF8F1-8598-44A6-98BE-86E6B11431A0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C2B19E-FDDB-4713-897B-708621CEFA61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CA1FA1-1C7C-4765-93F8-B91CAAE99A54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7EE565-CB04-49B2-A1DA-F37DB36AEC12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AEF14D-2D84-46FD-A6D2-BA178518FEF0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ADEA2B-F0E6-4E03-979D-AA90CE16DB95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6B594E-03D4-4292-A094-DFC50A312444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806A46-6D71-4B51-8ED0-3E3CD1CF78B5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CA011D-BA11-40C7-B638-C8F60FA1E29F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83EF9C-F66F-4C2D-9661-3C5C886CB3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1C2C1-9C33-40D9-B20F-EEBFDDF1B855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2C67A1-CE98-45D7-A94C-C0FBD938EAC4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17BE0B-A024-49E3-9BD6-EC876ED0D634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F05BBB-394F-4564-8EF4-5C1C85F9D896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17DECA-0428-44F7-BF7F-23D6C942B787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0403A0-1F7C-4795-A509-EC38D74646CF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8B152F-90E5-40D8-A7D1-101CEC058760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30DF02-E53F-419F-8276-A1064BB5C02D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E80806-A379-4B84-8E49-E6C08C5BE690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8DB1DC-CA49-47E1-B664-A668A43804C0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2607A6-CEA4-4FE5-ACCD-7A376C4156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546CC-7E4F-4A2D-8C8E-9C016D663148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F258B1-99A8-4CA5-AB65-2E0DD668821A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B864AD-9876-4569-9A8E-F4131FA88C51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CA2B71-8C62-4144-8246-318DDA235532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8234BB-2107-422F-B180-5C3049275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387BDC-996B-4A67-89C8-192D7E43F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422254-F1FA-451C-8A4B-36200A0B2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152CD0-6667-46A7-BA8D-B49230649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F76F67-7D26-4A06-9474-687E0FA12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47C02E-1FC2-429A-B616-E54EFC969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7B14F4-3148-4EBA-B525-BB889D0F6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0958B-57EE-4809-88C6-202715F74055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AA2868-91E6-4A18-850E-7C9F60324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5FF020-4BD9-47C9-9EE7-1E0A0BD62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38A1D4-033C-4AA1-B266-8C9ADC896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56E8F4-D8FF-4B2A-A539-9F15793CE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819C5D-C693-41FC-8668-A857F64FC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0C6715-A2C5-4B55-9943-2423828CE23A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E38F07-B4B4-4EDF-B15A-650DE3A86414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75498B-C680-47E7-AE33-F593512D535E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475917-F6C0-46A0-A778-5EBF1BC0F270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E9E656-EA72-4DC9-8C6E-F0D5A5D90D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34AFA-7F84-46C2-A45A-CB7E8C4E01C4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85C1FE-D4F8-4135-BBFA-0FFD173003D9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D16457-359B-4500-896C-3CFC32605CC3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516FC4-FF16-46A8-AAC0-F23C4473BE0D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63CA15-7825-4AEF-9E97-22F403A3BECE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EC00BC-260E-4AF7-812B-0E9BCE2BD209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3B2423-0818-4A5C-9FA0-16BC70E02299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BBE303-3299-4EC8-8E3E-5A60D99CFF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DA7386-1EAB-4807-94E9-66ABB276F13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9" descr="durban-titl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38320" y="274320"/>
            <a:ext cx="664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2038320" y="1600200"/>
            <a:ext cx="664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6942240" y="64245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2C8B3D-6477-4EF7-BACE-3F419E63B67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6" descr="durban-slide.jpg"/>
          <p:cNvPicPr/>
          <p:nvPr/>
        </p:nvPicPr>
        <p:blipFill>
          <a:blip r:embed="rId2"/>
          <a:stretch/>
        </p:blipFill>
        <p:spPr>
          <a:xfrm>
            <a:off x="0" y="0"/>
            <a:ext cx="166068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3" descr="durban-2pg-bar.jpg"/>
          <p:cNvPicPr/>
          <p:nvPr/>
        </p:nvPicPr>
        <p:blipFill>
          <a:blip r:embed="rId2"/>
          <a:stretch/>
        </p:blipFill>
        <p:spPr>
          <a:xfrm>
            <a:off x="0" y="6102360"/>
            <a:ext cx="9024840" cy="755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9" descr="durban-titl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5AB653-69F4-4F77-B317-9704106CEFD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3" descr="durban-2pg-bar.jpg"/>
          <p:cNvPicPr/>
          <p:nvPr/>
        </p:nvPicPr>
        <p:blipFill>
          <a:blip r:embed="rId2"/>
          <a:stretch/>
        </p:blipFill>
        <p:spPr>
          <a:xfrm>
            <a:off x="0" y="6102360"/>
            <a:ext cx="9024840" cy="75564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sldNum" idx="4"/>
          </p:nvPr>
        </p:nvSpPr>
        <p:spPr>
          <a:xfrm>
            <a:off x="25560" y="648180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94B28C-6F7D-4379-BD87-CE470D7CB308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3" descr="durban-2pg-bar.jpg"/>
          <p:cNvPicPr/>
          <p:nvPr/>
        </p:nvPicPr>
        <p:blipFill>
          <a:blip r:embed="rId2"/>
          <a:stretch/>
        </p:blipFill>
        <p:spPr>
          <a:xfrm>
            <a:off x="0" y="6102360"/>
            <a:ext cx="9024840" cy="75564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1"/>
          <p:cNvSpPr>
            <a:spLocks noGrp="1"/>
          </p:cNvSpPr>
          <p:nvPr>
            <p:ph type="sldNum" idx="5"/>
          </p:nvPr>
        </p:nvSpPr>
        <p:spPr>
          <a:xfrm>
            <a:off x="25560" y="648180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FEF4A3-BA6E-4AD3-9987-7A8E21565C46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3" descr="durban-2pg-bar.jpg"/>
          <p:cNvPicPr/>
          <p:nvPr/>
        </p:nvPicPr>
        <p:blipFill>
          <a:blip r:embed="rId2"/>
          <a:stretch/>
        </p:blipFill>
        <p:spPr>
          <a:xfrm>
            <a:off x="0" y="6102360"/>
            <a:ext cx="9024840" cy="755640"/>
          </a:xfrm>
          <a:prstGeom prst="rect">
            <a:avLst/>
          </a:prstGeom>
          <a:ln w="0">
            <a:noFill/>
          </a:ln>
        </p:spPr>
      </p:pic>
      <p:sp>
        <p:nvSpPr>
          <p:cNvPr id="233" name="PlaceHolder 1"/>
          <p:cNvSpPr>
            <a:spLocks noGrp="1"/>
          </p:cNvSpPr>
          <p:nvPr>
            <p:ph type="dt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B782F8-8134-4C6C-9A71-EFF49DA5D10B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3" descr="durban-2pg-bar.jpg"/>
          <p:cNvPicPr/>
          <p:nvPr/>
        </p:nvPicPr>
        <p:blipFill>
          <a:blip r:embed="rId2"/>
          <a:stretch/>
        </p:blipFill>
        <p:spPr>
          <a:xfrm>
            <a:off x="0" y="6102360"/>
            <a:ext cx="9024840" cy="75564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 type="sldNum" idx="9"/>
          </p:nvPr>
        </p:nvSpPr>
        <p:spPr>
          <a:xfrm>
            <a:off x="25560" y="648180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484BD7-BB03-4290-AED1-B4A61E8314D5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631880" y="4676760"/>
            <a:ext cx="5461200" cy="202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Olga Cavalli, PhD Eng</a:t>
            </a:r>
            <a:br>
              <a:rPr sz="2400"/>
            </a:b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rgentina GAC Representative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irector South School on Internet Gove</a:t>
            </a:r>
            <a:r>
              <a:rPr b="0" lang="es-ES" sz="2000" spc="-1" strike="noStrike">
                <a:solidFill>
                  <a:srgbClr val="558ed5"/>
                </a:solidFill>
                <a:latin typeface="Arial"/>
              </a:rPr>
              <a:t>rna</a:t>
            </a:r>
            <a:r>
              <a:rPr b="0" lang="es-ES" sz="2000" spc="-1" strike="noStrike">
                <a:solidFill>
                  <a:srgbClr val="1f497d"/>
                </a:solidFill>
                <a:latin typeface="Arial"/>
              </a:rPr>
              <a:t>nce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www.gobernanzainternet.or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1" name="Picture 1" descr="IC_AtLarge_Logo.png"/>
          <p:cNvPicPr/>
          <p:nvPr/>
        </p:nvPicPr>
        <p:blipFill>
          <a:blip r:embed="rId1"/>
          <a:stretch/>
        </p:blipFill>
        <p:spPr>
          <a:xfrm>
            <a:off x="-185760" y="4676760"/>
            <a:ext cx="2023920" cy="2166840"/>
          </a:xfrm>
          <a:prstGeom prst="rect">
            <a:avLst/>
          </a:prstGeom>
          <a:ln w="0">
            <a:noFill/>
          </a:ln>
        </p:spPr>
      </p:pic>
      <p:sp>
        <p:nvSpPr>
          <p:cNvPr id="312" name="Título 1"/>
          <p:cNvSpPr/>
          <p:nvPr/>
        </p:nvSpPr>
        <p:spPr>
          <a:xfrm>
            <a:off x="239760" y="841320"/>
            <a:ext cx="8567640" cy="32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alibri"/>
              </a:rPr>
              <a:t>At- Large Multi-Stakeholder Policy Roundtab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200"/>
            </a:b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_x0016_</a:t>
            </a:r>
            <a:br>
              <a:rPr sz="3200"/>
            </a:b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New gTLDs: Addressing </a:t>
            </a:r>
            <a:br>
              <a:rPr sz="3200"/>
            </a:b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Consumer and Public Interest Concerns</a:t>
            </a:r>
            <a:br>
              <a:rPr sz="3200"/>
            </a:br>
            <a:br>
              <a:rPr sz="3200"/>
            </a:br>
            <a:r>
              <a:rPr b="0" lang="es-ES" sz="4800" spc="-1" strike="noStrike">
                <a:solidFill>
                  <a:srgbClr val="ffffff"/>
                </a:solidFill>
                <a:latin typeface="Calibri"/>
              </a:rPr>
              <a:t>Geographic Names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038320" y="274320"/>
            <a:ext cx="664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AC principles regarding new gTLDs - 200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2037960" y="1708200"/>
            <a:ext cx="6892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gTLDs should respect_x0016_national sensitivities regarding terms with national, cultural, geographic and religious signific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gTLDs should not prejudice the application of the principle of national sovereign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ernet naming system is a public resource and it must be  administered in the public and common intere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5" name="Picture 1" descr="IC_AtLarge_Logo.png"/>
          <p:cNvPicPr/>
          <p:nvPr/>
        </p:nvPicPr>
        <p:blipFill>
          <a:blip r:embed="rId1"/>
          <a:stretch/>
        </p:blipFill>
        <p:spPr>
          <a:xfrm>
            <a:off x="-212760" y="1944720"/>
            <a:ext cx="1892160" cy="20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038320" y="274320"/>
            <a:ext cx="664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AC principles regarding new gTLDs - 200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2038320" y="1924200"/>
            <a:ext cx="664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CANN should avoid country, territory or place names, and country, territory or regional language or people descriptions, unless in agreement with the relevant governments or public authoriti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8" name="Picture 1" descr="IC_AtLarge_Logo.png"/>
          <p:cNvPicPr/>
          <p:nvPr/>
        </p:nvPicPr>
        <p:blipFill>
          <a:blip r:embed="rId1"/>
          <a:stretch/>
        </p:blipFill>
        <p:spPr>
          <a:xfrm>
            <a:off x="-212760" y="1944720"/>
            <a:ext cx="1892160" cy="2027160"/>
          </a:xfrm>
          <a:prstGeom prst="rect">
            <a:avLst/>
          </a:prstGeom>
          <a:ln w="0">
            <a:noFill/>
          </a:ln>
        </p:spPr>
      </p:pic>
      <p:sp>
        <p:nvSpPr>
          <p:cNvPr id="319" name="Rectángulo 1"/>
          <p:cNvSpPr/>
          <p:nvPr/>
        </p:nvSpPr>
        <p:spPr>
          <a:xfrm>
            <a:off x="1959120" y="6108840"/>
            <a:ext cx="6727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https://gacweb.icann.org/download/attachments/28278837/gTLD_principles_0.pdf?version=1&amp;modificationDate=1312358178000&amp;api=v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038320" y="274320"/>
            <a:ext cx="664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plicant Guideboo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2038320" y="1436760"/>
            <a:ext cx="664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is a geo nam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pital city nam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ity names where applicants declare that they intend to use the gTLD for purposes associated with the city na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-national place names listed in the ISO 3166-2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gional names appearing on the list of UNESCO reg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gional names on the UN’s “Composition of macro geographical (continental) regions, geographical sub-regions, and selected economic and other groupin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ttp://newgtlds.icann.org/en/applicants/agb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2" name="Picture 1" descr="IC_AtLarge_Logo.png"/>
          <p:cNvPicPr/>
          <p:nvPr/>
        </p:nvPicPr>
        <p:blipFill>
          <a:blip r:embed="rId1"/>
          <a:stretch/>
        </p:blipFill>
        <p:spPr>
          <a:xfrm>
            <a:off x="-212760" y="1944720"/>
            <a:ext cx="1892160" cy="20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038320" y="274320"/>
            <a:ext cx="664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plicant Guideboo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2038320" y="1436760"/>
            <a:ext cx="664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In the event of any doubt, it is in the applicant’s interest to consult with relevant governments and public authorities and enlist their support or non-objection prior to submission of the application, in order to preclude possible objections and pre-address any ambiguities concerning the string and applicable requiremen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rly war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C Advi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bjection: Independent Objector - Governments – Private - ALA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5" name="Picture 1" descr="IC_AtLarge_Logo.png"/>
          <p:cNvPicPr/>
          <p:nvPr/>
        </p:nvPicPr>
        <p:blipFill>
          <a:blip r:embed="rId1"/>
          <a:stretch/>
        </p:blipFill>
        <p:spPr>
          <a:xfrm>
            <a:off x="-212760" y="1944720"/>
            <a:ext cx="1892160" cy="20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038320" y="274320"/>
            <a:ext cx="664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gistered marks vs gTL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2038320" y="1829880"/>
            <a:ext cx="664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TLDs are glob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demarks are registered in specific classes under national established regul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registered trademarks should be respected, not only 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umer confusion should be avoid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8" name="Picture 1" descr="IC_AtLarge_Logo.png"/>
          <p:cNvPicPr/>
          <p:nvPr/>
        </p:nvPicPr>
        <p:blipFill>
          <a:blip r:embed="rId1"/>
          <a:stretch/>
        </p:blipFill>
        <p:spPr>
          <a:xfrm>
            <a:off x="-212760" y="1944720"/>
            <a:ext cx="1892160" cy="20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038320" y="274320"/>
            <a:ext cx="664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cond level: GAC principles regarding new gTLD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2038320" y="1600200"/>
            <a:ext cx="664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Aplicant registries of new gTLDs should pledge t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Adopt procedures for blocking, at no cost and on demand of governments, public authorities or IGOs, names with national or geographic significan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Ensure procedures to allow governments, public authorities and IGOs to chanllenge abuses of names with national or geogaphic significance at the second level of a new gTL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1" name="Picture 1" descr="IC_AtLarge_Logo.png"/>
          <p:cNvPicPr/>
          <p:nvPr/>
        </p:nvPicPr>
        <p:blipFill>
          <a:blip r:embed="rId1"/>
          <a:stretch/>
        </p:blipFill>
        <p:spPr>
          <a:xfrm>
            <a:off x="-212760" y="1944720"/>
            <a:ext cx="1892160" cy="20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2387520"/>
            <a:ext cx="7772400" cy="245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"/>
              </a:rPr>
              <a:t>Thank you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3" name="Picture 1" descr="IC_AtLarge_Logo.png"/>
          <p:cNvPicPr/>
          <p:nvPr/>
        </p:nvPicPr>
        <p:blipFill>
          <a:blip r:embed="rId1"/>
          <a:stretch/>
        </p:blipFill>
        <p:spPr>
          <a:xfrm>
            <a:off x="-185760" y="4691160"/>
            <a:ext cx="2023920" cy="2166840"/>
          </a:xfrm>
          <a:prstGeom prst="rect">
            <a:avLst/>
          </a:prstGeom>
          <a:ln w="0">
            <a:noFill/>
          </a:ln>
        </p:spPr>
      </p:pic>
      <p:sp>
        <p:nvSpPr>
          <p:cNvPr id="334" name="Title 4"/>
          <p:cNvSpPr/>
          <p:nvPr/>
        </p:nvSpPr>
        <p:spPr>
          <a:xfrm>
            <a:off x="1631880" y="4676760"/>
            <a:ext cx="54612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Olga Cavalli, PhD E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rgentina GAC Representative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irector South School on Internet Gove</a:t>
            </a:r>
            <a:r>
              <a:rPr b="0" lang="es-ES" sz="2000" spc="-1" strike="noStrike">
                <a:solidFill>
                  <a:srgbClr val="558ed5"/>
                </a:solidFill>
                <a:latin typeface="Arial"/>
              </a:rPr>
              <a:t>rnan</a:t>
            </a:r>
            <a:r>
              <a:rPr b="0" lang="es-ES" sz="2000" spc="-1" strike="noStrike">
                <a:solidFill>
                  <a:srgbClr val="1f497d"/>
                </a:solidFill>
                <a:latin typeface="Arial"/>
              </a:rPr>
              <a:t>ce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www.gobernanzainternet.or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13T15:15:36Z</dcterms:created>
  <dc:creator>Lynn Lipinski</dc:creator>
  <dc:description/>
  <cp:keywords>Template ICANN 47</cp:keywords>
  <dc:language>en-US</dc:language>
  <cp:lastModifiedBy>Olga Cavalli</cp:lastModifiedBy>
  <dcterms:modified xsi:type="dcterms:W3CDTF">2013-07-15T11:39:30Z</dcterms:modified>
  <cp:revision>49</cp:revision>
  <dc:subject/>
  <dc:title>ICANN 47 Durban Template</dc:title>
</cp:coreProperties>
</file>