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06A8-9A84-4273-AA11-8310D5A1C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39F6E-A2E1-46C1-9087-BE7C37A00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FBB1-4D36-4B75-B2E8-18F2872C8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47F4-72C3-4ABA-A739-8C0E13F29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BEEF-3172-4502-A7CC-FA3049D03B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B6EF-023B-4E30-B91D-06A9813E84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F84F-FC95-406D-B6C1-F505998445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D616-2FC2-4411-B10F-A7927D3EAB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9537-6A5A-4A04-8719-BA7EAAB881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3CFDB-401F-459B-BFA1-3E528449B4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0BE4A-38FF-41A4-A1DF-5E0FF3E806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26FA-C3F3-4BF6-B25C-106993F52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5ED58-F80C-4D0C-AAFF-3158BC2340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C6325-8E73-4A4B-A7C6-FD573B2714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D39F1-8C5B-4676-BAA2-95291BDEE3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7D71C-C07D-42AC-9CAE-1ED53BF4A9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C0014-5ABE-4815-884F-2A259A868C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9116-F154-4AF0-B1E8-6609751A9A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BB7-F4AA-419F-8A1D-31F193F077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AB6-93AD-494C-8D6F-284A306F92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889-A930-4B7F-AEC1-FE5EE9F40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01E2-81F1-4D0E-9EE2-7D4EC77B96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752-58E0-4BAE-9703-DF6CAD3B4A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FEAD-AFBD-4D3B-A78C-6EA87344D2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8DB-2055-484D-B2FF-B866F45D656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ED07-84EC-43D0-9F29-1B2F44577B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DD0-E7E4-43AB-B2DD-BB9C913DDC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2B9A-49EF-4E5E-9529-A57EC6E6D6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BF1-64C3-46CB-B82A-1642591591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BB7-982B-4D41-AA6E-6F28000007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34E2-2CE4-4534-B120-EDD6C644686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B0DD0-027A-4766-9255-2ABD2C4C2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6C79-1216-43BF-8183-0EF77B9EEE1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89AC9-A654-4A66-A83D-425ED4B3863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E46FC-6C54-48E8-B507-FAC7DC71AAD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63DB2-5637-4BB0-8303-AE2A7D00C2F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0DE2B-01DD-45FE-8263-798AB78065B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A3F16-E3FD-46BD-A099-9F6D9DCD368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432D5-5387-483A-A5F2-B01AE6ABE66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23130-B9CC-4A26-8B5E-698DE3BF0AB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C8CA4-C454-45A7-80D5-DB52322A35C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C587C-968F-4C72-90D5-0001B600932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C5FBF-3B3E-4AB2-9D04-8A25EBCF1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2CD2-416D-41F0-85E6-FD8EDC42333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BF041-1EC3-4CBB-9CA7-F2D5DF73EDF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88F84-489D-42DA-B6FD-7FC3F282B2E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D54B3-8571-40E4-B68D-EBB97479DDB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66767-CFE2-4470-BEEC-D8ACFC56D72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49D20-FAA3-41AF-B634-CC8FE3E227A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95A5F-334B-4611-80D2-0E22C06D92F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F6B6F-C99C-405C-A9BC-AF6432959E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4FFCB-FA07-4989-B735-F981186D49F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BFD14-42ED-4A58-8200-F4B3DEAC1CA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0D27F-7166-4C76-A1CD-CFE362DAF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853C1-E844-4EA7-851B-E9848128EE0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43E76-C222-4A3D-895C-937DA06F306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D3BE02-D5DB-4017-A470-0C11A121A1D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13F5C-21E3-4FC7-9083-9C58C030D07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6C131A-E671-4A6F-A821-BA2541E3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D6977-94FF-421C-AA3C-EBE11C48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A9980A-8970-40D0-AA81-0F4CE81D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64860-C813-453C-9D5D-2087E8C7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0DD6A-4852-4A15-9282-ED6F3956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F264B-66DF-4DBC-9830-FD36ED4A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54B6B-410D-4C8D-A2CB-03FCE523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82FA-9273-481A-B43B-BFA293FE775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AAA75-DA9F-4E6C-B680-EE674C6F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6CD39-CA56-44CB-80D8-224A53F2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1C067-7402-4C83-ABEF-746E95C0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AEFBD-E796-4586-9B63-DAF3FD88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265574-E06F-43F4-B88C-ABAA4415A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F00E8-B6BB-4074-946B-309A8A6D5CB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5B52-A3A3-4EE8-AAF7-433654C0232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B1041-94B2-48E4-92B6-5EB86244362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90B09-0903-40BD-A6CA-9956AEECC58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6E4B8-813B-441E-93D3-C548C5FE7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6928-DB4C-4E41-A00C-06976CE7B3A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D7F8F-BBC5-48B7-AF37-6FA51BABF19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429D8-AFE4-498F-B6EB-D3667A5201A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0BA1D-5B5F-4878-A96E-C22E9C4F251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8B9E5-3DA8-4B0B-A286-774276881FA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31018-9914-4E52-8602-245C9C3AE5A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2A39A-A55D-4ADA-999A-0F945BF4098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07642-3857-4F03-B70F-CCC3D015B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AFECD-6FB5-4FD5-87A5-430195045A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942240" y="6424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34B68-0020-4605-AC5A-F7F11DD9D0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urban-slide.jpg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EB64E-46ED-475E-BB10-A0E4C7A68F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7BA1D-8BE2-4FBF-8D8B-813F004E4E98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6270F-EB10-4E28-B7A7-1E9DA26E143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E7A27-FD82-4ADC-9A6E-3516D090727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ldNum" idx="9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771EB-5431-4BF6-AE1A-7BCB5A2F305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n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767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12" name="Título 1"/>
          <p:cNvSpPr/>
          <p:nvPr/>
        </p:nvSpPr>
        <p:spPr>
          <a:xfrm>
            <a:off x="239760" y="841320"/>
            <a:ext cx="8567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At- Large Multi-Stakeholder Policy Round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_x0016_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ew gTLDs: Addressing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nsumer and Public Interest Concerns</a:t>
            </a:r>
            <a:br>
              <a:rPr sz="3200"/>
            </a:br>
            <a:br>
              <a:rPr sz="3200"/>
            </a:b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Geographic Nam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037960" y="1708200"/>
            <a:ext cx="689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respect_x0016_national sensitivities regarding terms with national, cultural, geographic and religious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not prejudice the application of the principle of national sovereig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naming system is a public resource and it must be  administered in the public and common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038320" y="1924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should avoid country, territory or place names, and country, territory or regional language or people descriptions, unless in agreement with the relevant governments or public author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  <p:sp>
        <p:nvSpPr>
          <p:cNvPr id="319" name="Rectángulo 1"/>
          <p:cNvSpPr/>
          <p:nvPr/>
        </p:nvSpPr>
        <p:spPr>
          <a:xfrm>
            <a:off x="1959120" y="61088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ttps://gacweb.icann.org/download/attachments/28278837/gTLD_principles_0.pdf?version=1&amp;modificationDate=1312358178000&amp;api=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 geo na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 city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ty names where applicants declare that they intend to use the gTLD for purposes associated with the cit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-national place names listed in the ISO 3166-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appearing on the list of UNESCO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on the UN’s “Composition of macro geographical (continental) regions, geographical sub-regions, and selected economic and other group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newgtlds.icann.org/en/applicants/ag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 the event of any doubt, it is in the applicant’s interest to consult with relevant governments and public authorities and enlist their support or non-objection prior to submission of the application, in order to preclude possible objections and pre-address any ambiguities concerning the string and applicable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w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Ad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on: Independent Objector - Governments – Private - AL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ed marks vs g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038320" y="1829880"/>
            <a:ext cx="664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LDs are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marks are registered in specific classes under national established reg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gistered trademarks should be respected, not only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confusion should be avo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level: GAC principles regarding new gT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plicant registries of new gTLDs should pledg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opt procedures for blocking, at no cost and on demand of governments, public authorities or IGOs, names with national or geographic signific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sure procedures to allow governments, public authorities and IGOs to chanllenge abuses of names with national or geogaphic significance at the second level of a new gT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911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34" name="Title 4"/>
          <p:cNvSpPr/>
          <p:nvPr/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n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5:15:36Z</dcterms:created>
  <dc:creator>Lynn Lipinski</dc:creator>
  <dc:description/>
  <cp:keywords>Template ICANN 47</cp:keywords>
  <dc:language>en-US</dc:language>
  <cp:lastModifiedBy>Olga Cavalli</cp:lastModifiedBy>
  <dcterms:modified xsi:type="dcterms:W3CDTF">2013-07-15T11:39:30Z</dcterms:modified>
  <cp:revision>49</cp:revision>
  <dc:subject/>
  <dc:title>ICANN 47 Durban Template</dc:title>
</cp:coreProperties>
</file>