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C3DF2-5372-4F48-B9E5-48223A0B9B9A}"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50452-8FA9-4936-94CD-41F9E34F78E7}"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6BDFB-E395-4EA0-B9F1-C5F75D6C3A1E}"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7D28C5B-A70B-44A6-A5E0-758DC25BA6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8A16EB4-C578-4175-9CB0-2725CE3F3C7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2B0373B-BE03-47BB-BFE8-BA0FDE4FAD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87830FF-E691-4E94-AEF5-CFE19EA147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761B1BB-8AC2-4934-A0AE-684F5BDBB7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96E50A2-637E-496A-9D99-E9E9864EAB4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040A069-414F-4185-B132-D9E551815D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6E27488-0580-4222-AFCD-F058CD6540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89CDE0E-C443-4675-9224-63CC56D6BB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2F777CB-57E0-486A-B33A-DACD45F8D3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CEA1761-19D3-4CA0-8888-FA17D3F95A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31A5DBE-D69D-4BEC-B637-C57C393954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025A359-3417-4BAF-9CFA-E740EEC850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2631BD9-F84D-41A0-9BD4-CBDA243E15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77CA1CC-0C8D-49CD-B96E-EAA26A798CC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B3A0787-2BBD-4CAB-85D2-0897C2B3EB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88F58AF-8941-4C78-B912-F949976F941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E8CAAD2-0E13-4BF1-BD2C-445A9EFACE9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C307A32-BC08-4DB5-8CFF-5AF01D18FDC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17D4F3C-4782-478B-8CBD-F2E75BFCF8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19E8785-42FE-4EA1-8E5B-F108899959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FD2267-82E1-41FE-836C-7CBDE20399F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0C91A8A-7F2D-47F4-BE3C-36E10EEF1D0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E5F46E8-D0BD-40C0-BB80-EAEA6086C2E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9C085AE-1D7C-4C53-BA5E-3936D83242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18D8B358-23FD-4245-8519-97D13597877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4BF79D5-1DB9-4924-B8EE-4B7683849E0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FA89002-31B3-4BDD-A86C-A90051E297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EA837CD-EE17-45F8-BA0A-AFC48A1DB0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5DB1FC5-621F-4095-827E-3AA74D886D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C12B35C-A3C3-40BB-B56D-416BA5F32C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3838E27-418F-482F-85E4-823A2F86C5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188F6A3-E506-4030-BD19-4C71F2AA54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FB33793-F775-44AD-B9DD-6C63C39E465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222C7DE-BBC3-4006-87C4-2CF1D55525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59E9CE7-3BF1-432F-B2C7-BCF23095DB2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67B2DCD-DF53-4BDC-91A7-F9DEA1BA7B4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AC6D510-1554-4F2B-B949-778DBC9AACD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239B7B0-6A78-48D8-BBA1-1CA06054843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24EFA3C-9EC1-43C3-BE01-CF99056675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9F2720B-12A6-47C9-8258-091B7AA29F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B342DD5-3582-4532-91C2-5378FC3AD0B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CE64CE3-AB6F-4696-B038-12B2F56F9F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404F97D3-94E6-4C24-8A0D-9F73951C26B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BFF24F2-B331-4433-AED9-9DF2469BBDC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27E9FA5-2E72-4D39-ADB6-918A1D5BC51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902A9B4-884C-4325-95E6-05911CEF81B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6F9EDF4-AE47-48B5-9FDF-66C357A24EE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65E62436-702D-4501-A2B6-010A48359BE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AA872263-9082-476F-A5FA-37BA8818E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9217FAA2-DEC1-4EC8-8CAD-997C4C595AF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C63F851-8131-44D2-AFEA-447615B72A5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3045C80-2B68-4B72-8873-353EF60E618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080F1A09-7782-4271-9813-3283EEB37B9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1E5BB07-86AC-4A19-BD74-1FBC9E2E96B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819266F7-A921-48EA-91F4-E7B0921BF40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074704BA-EF42-48C3-A253-10B2531D081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F99C5F8-551D-4B0D-BA66-27916DACE30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B15E054-3BCB-47CE-9E55-C4E6B28F96B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F7C7EAD-154B-4D1E-80F0-064C533AA8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C6F9A2B6-DE18-4885-982C-A45B321820D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DABF579D-C6E2-49E6-BBCA-90747C8569F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8CF421A2-6A02-469D-95DD-F2428DDED5A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0889D00-B090-4ACE-BFC3-4A6051586C9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621E86C-AA22-4A7F-AA50-FC15A928783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4125985-1F34-4196-8B09-C780318ED1B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49A3E973-87C6-4F7A-91E0-CBE8474536D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E8366864-445B-4F72-B726-2FD94C0F1E6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3065602F-E990-4CB9-AE7E-D27D3901899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3164A78-C02D-4AEE-B94C-383C5BF5BD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FC7D003-4CEA-4EA9-AF67-A1CD4CDE836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7E1726CC-2A69-467C-84D1-3654A68C8C1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B4F8A906-92C2-4833-9B9A-161B64A97EA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B376E1EB-44F6-453F-B6B6-7FD84D0FF46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EECA79D6-CBAE-4FF4-8960-232854D4DA3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567582FE-704B-4126-9B77-08A239C9B02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6861E40-381C-4397-8082-5C6DF655AAD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8711C3C-3997-4013-8428-1D5E477E40D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C4CF9DF-C6A5-464F-A5F7-F27155EFBCD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165D8BC4-CDFA-48B2-91BD-DAE4A06EDE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6710745C-24C2-42DE-96EA-B71D55CB4EC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B749164-83CE-4937-B2AD-AA8175784B4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DF94262-6CFD-4297-8E2F-FB31C6304D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3584D48-9F96-4647-8469-827FEECC29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14654E-38FB-4441-8696-AC6DB7A211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628ADB-993C-4616-A6EF-4D47517017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73AC5F5-E429-4916-9354-6C60413ED9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B84348-BD96-46F1-A62A-07839CC363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4FA96E-599E-428B-9B21-1F03EFDA94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70DE49-2DAA-4DDE-BE5E-7892968963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FA7E0DF-E2CC-4CD9-9D6C-8423966A87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A30F9CC-8375-4D7F-BF17-C3F3A210E65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0552555-93E6-4C6C-ADEC-5F942930DAE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10DE47A-B47B-487C-B1E9-9C9D78E39A7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FE6DE69-9595-4D28-909A-B860EB5083F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A971A5C1-7943-4E78-B3D1-3DD6DF272C3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2E89DCB-861D-4401-B825-1EC72CFE8AA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4277184C-217F-4FB7-AADF-2045F1C423C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675912F2-20A5-41FC-AE8E-F16C6BD9455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EC3BD50-6C1A-49C5-9535-6DC74223A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5274B30-E8B3-438D-B301-F249C58F4ED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3573631-1ACA-47B7-90B4-B834E0EAA35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63CE4B8-8BB5-4C62-AA2F-768640EB55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522EB63B-B55A-46D7-AC59-A51C0449EC6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8DE3C44-BE53-466D-85E1-8285C37AAB7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28ECC9C-4C6E-4676-A22A-203A145C49C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057C19B-347A-409B-889D-DECB0077BE0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0C2DF3F7-C347-4B18-BBBC-C04CBD04D89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2E4DA4FD-A1BF-45AF-B056-0DDA6CEDA90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7B139DF3-9ED5-4CF8-AC41-45987E9F3D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23CDFB19-6F5B-44FE-A5F2-54D7056AB18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BE29DC4-E55B-4941-B80E-3FF3305EA72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ECF4312-EC73-4B14-A8AC-A5B1206C8D0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D1FE7EA-7118-4905-82F0-CEC94AF71D0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2AB4ED20-5136-4C31-BD77-EB606DBEF88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765639E1-3C67-4F7B-83A2-190B5572277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C97D55CE-A981-46CB-87C8-84ED41E14EC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7691E81-C2AA-4B3C-86C8-3CB09264FAF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576135F-DD0B-4053-9C67-4543871F164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70A814B-818F-4571-96EB-B6E285D640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D7E4C1C-729C-46E3-A87F-AEC947FCC77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EB523CF-8348-4D73-878E-0B6EA7C7815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3D51950-F493-4F01-ACB4-774624A5385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D9F8A78-CA15-4823-8800-236205778DF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6B1EB4E-CDA8-4885-AFF8-C1A1225E346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4DE0609-BEF8-4DA5-9658-F749BE4C8D6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E72291C-63FC-4BCB-BC7E-311A94700A5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2DA9D94-8CC0-4FAF-B6A9-1561A668DC6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045BCE7-AFB4-4A77-8E82-2A04DABA04B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C917387-4763-4893-8ACC-6834D84957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33E56911-35EE-40BE-90B7-56AD4D3616B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618401C-A6B3-4562-9B25-FA56EDDD483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A91424E1-650A-4FFA-AC1C-960E81018B5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0D99EBC5-02BA-42E2-9BB2-324FE5B217A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4EB48A56-5729-47F9-9D39-E962C3DD113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054EEE3A-E9AF-4D94-8528-A988616AC16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AA7E32E-E89B-4149-81BE-BE717A448F6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982E2480-C86A-4817-9B57-ACC4EDDE9DA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6CB865AE-8325-4198-9563-704AEE13F6B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1DEA077B-47D3-43A2-A88C-F54051918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56A44C6B-D3E5-4521-9E94-7888504E5E8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EF71C79-2DBE-4837-9FFC-CE62F9D13A9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474D9386-C7C9-4654-87CD-C5491471C9A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0A106942-9D4E-472C-8875-2425DB21541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309CA888-F098-40D7-9EF3-BB1FB15A361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9E454A42-0437-4ECA-AF0B-5183FDDAB12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26EA8961-3FDF-448E-B2A8-B7605692E5E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A035C2D-173F-4ABE-8B0C-D8643568374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AE76AD0-44DE-4244-9B8F-22D6E8FDB01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3E4F1C74-1A2F-48F6-8DAE-5E71F1E2C16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C122C82-5D95-4529-BFE0-25D79F5D817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4CA114F5-5734-4CB0-BE53-E9A656C6C5A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4D8B6F4F-835B-4893-A51C-5DB4BD9E5DD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5E99487-1463-4D41-910E-BF6391BEE9A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969EAD7A-EF3E-46B5-ABD0-C8CB660837B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414A61A0-CBB4-4248-A7B5-A35C4A705C5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C0AF2274-0D73-48F5-93B7-A74DA1C9F2B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FD544B9F-5C5C-4EE2-BDCA-333445660E3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66B9FD8B-E001-47CD-8581-7A6E5D81DD1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11C9FCBA-881E-4329-A609-1AEB6EBAE5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B06E436-7EC8-4BB2-848F-B69E0D48F6A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BB1AEBD-F87A-4A44-AF14-881CB2A0771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B80B01F3-68C2-4436-B007-5DF7A8F0501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882104AF-ABDA-45D5-9BD1-F831204A336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08D2629C-A717-4D80-AAA6-0A39F7D9EDD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1839198-C009-4E75-85FB-73CDEAC31DC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286B6AC-1B78-46D2-A797-1B202266D5C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72F23E2-9E35-48FA-A2F0-ED310F8A957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F177F6A-8842-4FA6-83BA-11C19F17C7F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F10EC7A7-E96C-4513-86AB-6654F1149E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4685456-77BA-42D8-94DD-F5B53843506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22360CB-8283-489C-B5A1-9A436F34689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766404A-8F19-4620-AC17-C4B1967D8D7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946BBEA-C230-45D9-920F-8C3AF0093CC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F299010-9942-479F-9217-C5DCEC2FF6E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75AB43E-ECD2-4F30-AA6D-554B874DFC2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7C88C4C-D989-49C8-980B-23C12B11A9B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D9E98BC-E5FA-498C-8FCC-7C2A0CAA935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69D6C2E-5463-418E-ABD1-A65B641AD06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404E3A6-3A83-4554-B6BB-8F9F3C146A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C64C343-04C5-4E54-A0D0-0A5CDEAAEB51}"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06609B7-A4E1-4717-859A-FEEEB017D0E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9C3993D-5C6A-42AF-A2FC-2A1A98DA873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1205419-DE44-4CBF-A91D-A69F8B49408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34E6AF5-448C-4D64-8168-D998D0B3274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C95BB96-7415-4130-8A48-1E0CD569CEA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44DA7C9-2824-40F3-A0BC-F2B0CDCE272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F824BDD-09C9-41DA-B59F-33698DC4AD9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18F482A-AC9A-465C-AA15-2E9FB8678CD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75F894E-70F9-4283-9F12-D3365C2F96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220E1FB-AA45-4272-9934-E2755668DD5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183645F-61C1-46FA-ADDD-A159D5D0B5D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BBF510A-C7A5-454C-8060-5E0F8D402A3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557864F-D74D-481E-B5C6-D9D953963F8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193B407-7C3A-4313-AA53-3BB5CCEB5D6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502F476-59E8-45FC-A8B0-000FF6CF7C1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FCB88D6-B785-49BD-88B8-F96B7B2AECA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528D7AB-82E1-4AA9-A284-F94B5824555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1E9C0B5-BB20-4F7E-B76E-5C0C3F60842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1C6BE60-D4FF-4E99-B2AA-8A6803255F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7F710E9-882A-4030-B6AF-6FE660188D0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E210D31-A79F-4F0C-B003-2C04759539C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53708F66-5E09-43D4-983E-BE9C67DBC2F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C985C82E-9ADA-4F52-88F5-EDE771E7D7A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88D9ABEA-0CF0-4D10-B5D9-D3C0908A21A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D81E5181-7A8D-4D16-A46A-3A5FC49CABF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B84AD9E0-8095-4DBE-AA73-145131F2C66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C22DC46-C933-478D-B0DB-3D6527E9739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EABE161E-3501-4151-8974-9027F1EAAE6B}"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03689BAA-3696-404E-845E-CD5E106716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9B8497D3-1413-4C92-8458-927892813580}"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48AF77BF-D7D5-4C94-B15C-8A95AB48DB0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6D0F0089-30AB-4AC6-BACC-AC65FB38E0A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046F7E0-2399-4BE1-B414-1F42E02E3D6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F9982DF9-9149-441B-BEB5-C677888721A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A663FFFF-7BAB-4DDF-AEBB-F7AF6C64C333}"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B80B1FB3-AE3A-4749-A421-0F22CC8EA767}"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785B8E33-DFC3-44B4-A976-50EF0E7ED64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37054132-E30E-4D0D-83C2-6714709923B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80205447-E3E2-40A9-9B9B-533E152049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553C4ACE-FFA4-407E-AF6B-68D3BD58B11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FCBDA10-602C-4C9C-B3BF-9A77CDD1A8B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85AA1824-9D08-4382-A7DC-377AF8A0877D}"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2249DB49-2550-4094-A95F-550387CFBCC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D434335B-D7FE-4A47-829A-4F5793CA2692}"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AC73D2E-8EBD-4B88-90B5-86ECD5EEF93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904D935B-0222-4A9B-8ECF-376A57C5F39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078EB9B0-5E92-4C48-ACD6-48DBF490327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0A9A745E-2CF2-47DB-9170-ECE70E52C8A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0917DC93-20E6-4870-B21A-1C390E9316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0873EBAB-7CC8-4B7B-AE24-1BC0D8C343D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E7D82AD-90C5-4B10-BC99-39B8094612D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AE3ADAB9-44F8-41DC-8B4C-3DF2A41B83F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92CB28FB-0C7A-4F4B-99D7-3A65B06A995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44C02CB0-4BE4-43B0-8848-F87D4C940A5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49B835B9-E3EA-4825-BCA2-743143A49B0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E1B0B9D0-15FE-4BA8-A0E5-D889AE558AD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D7DA1F61-0CC2-4EAD-9975-6C159637047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0A4D859F-5477-47BE-8BED-506ACD25CCE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BCD14221-39E0-4578-A0F0-D2358A4C82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1CCFC16B-855D-4F3B-BEE7-F90A02D8994B}"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27B1D693-5BA9-459C-8493-5A0E205D50C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19AD5B1B-DC39-4B30-A5E3-5C72F5EE936A}"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7A9C28D4-75C0-4278-AB34-152C072E624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E591907C-F015-4DFA-8836-154479366F70}"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6E870C48-690C-4E3E-A3D2-F55B6651935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B648E25E-BA3C-4767-AF9E-87068C71ABE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88279D4C-132D-49E6-8FDF-B771C42377E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5BDADDDC-18D9-426B-A58F-BE2B67299EF6}"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BF97E58-BF75-48E1-B0C8-3B82394E72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7C1AFAF2-FFC4-4A8D-A7C8-F4752D79C7C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80B115CF-E552-48CA-A901-F06E77C880E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505273EE-CE3F-41BB-88EA-349293059C0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5DA7EFCB-C627-4E7B-873C-A622E528159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6C69A076-7BBF-427B-A1FF-08C82C7749F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8D2BBCB2-CDE0-460E-9D44-095A38A750A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CF4D1069-D1ED-43DD-938E-C72CFA9A6CF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759D6509-6EF8-4B94-9891-61C53298AC9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9F3A4AA5-F4F0-4879-B725-0B80F5E1959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06F35BDC-6621-4D12-B2E1-B64A3157B6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297743D1-3F7E-42D5-AF98-A6B4F835223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674F1E9B-D2A8-4B37-B09F-BCDF0E1B22C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25B48E6B-B153-4EA9-B4D9-2FDDC4202CD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00D9A5DF-E41F-430C-A426-37A889E1764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C1036459-769F-4280-93A5-B4A6008AB94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8E56ED37-1A0E-4509-A700-4A6EE204521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4948E907-A499-48E0-BA4F-74F0A2E8B24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E680F0C1-CF0E-483A-99C6-8B1D726290D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573F1C30-075B-4FCE-9F14-31BED5CD0BD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FD0296FC-015B-4BEB-B468-35A2CC7203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95FB8-0C74-4783-94D5-BDFAB707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C80C79B1-C833-4538-A99B-4BCBF5AE8C0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6489AA0B-F893-4C90-A245-1544095FE24D}"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DD77AD0D-7B08-42F0-9E73-FAC1114876E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CE0332C6-92D9-4BDB-B5AF-A740AF09F72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864236CE-FC1D-4DEA-9DE7-80D0CA97A28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BA61B2BC-C93C-4A8B-9928-C8C5910ED11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BEC9B166-0778-4499-B31E-F61ECED0D83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9E5FBD24-2056-459D-8AAC-03FACA0253C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6492BFAC-FA55-4144-B502-838E74220C3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7E32570-584D-46FA-9E5E-77E5E036A27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E6AC-595B-4DA4-80A5-0A72A3983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A96421DB-7945-44C2-A459-104BCF1128A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FCD5DAD-4C14-4C2A-9D9F-1DD9C4E454B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019FC5A6-CE7E-4B7C-B6A8-78781208A93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9E46C661-40C1-4863-ADB7-5539B4CEBEC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7D5B29B4-A903-40EA-BF07-CEC3E6E80B0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2654B978-4E7A-483B-B840-F57D2AC89BF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FD0922F1-2C21-4AC2-92A4-23B9826E9AE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AA6A4AC6-B84F-4E62-AD49-FEF257B9071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0C3EFF80-1056-4100-A307-1617859BCF5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D02DC9FB-C446-414F-934D-77F8EC7EEB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6C2F-BE5A-4101-8022-FB72DA61A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9CDDA4E1-1C61-4257-9A4E-7310E5393B6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769057CF-C9BD-461D-94A3-30BE736AA6A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767A205F-D459-446C-94B7-4FBD3E1D41F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39C00D03-0A12-40DA-879F-4B7D2BD1756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CB80720E-E1F2-4486-B78A-414DE8F6935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AE23E2A1-8773-4013-A0EB-B3D92233349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B8BE5AF3-654C-45B1-83DF-BC25808391F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4C24D8E-0682-4427-A9EB-D07A0C6EA878}"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ED22CAD2-EAED-4E58-9522-D00767E49DB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D0E03EE3-3652-4C48-962B-BD5DD3D33A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0F072-AF21-415A-B313-8D377497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C8C1FC56-FD58-410B-A60D-C504E8F0327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E7608AF8-C0B0-4741-BF90-39BE24CEE44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ABE02E59-0183-4FF8-85C1-DD9F6A36690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114B6E19-27F3-4B28-BEB8-08ADE0289DE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2B95C860-DAD2-4A47-B9E9-53217A0F322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228B824D-AEC6-43AA-97A4-DA9F44FC4C8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7950BC67-9369-4BAB-BA55-847B1EC8693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7C0FD29C-A657-41C1-AE1E-D12F2DF7C46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97F2701D-B702-4E85-A471-25EE3BEE5A0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5C030FB7-B153-4B55-A9DF-226A97D658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B3CD-C7BF-4D8C-AE6D-47328D5AD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B3BB5E9-CE6D-480B-97C5-845EFF3667D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115CE7AB-53D5-437B-B39C-B6C8BC86AF2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E8E2A6EB-1E56-4273-8203-6C9D11B7B2D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42CCB2D3-1034-442C-B842-CC3FD7334C0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3689918D-815D-4E83-9209-776A01340AD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824155B8-C03C-4405-A882-D89536E0C43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ACDF28CB-B262-4DE7-A6C0-7F6D1E5EFAD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FB149D7B-8ABC-46AC-A8D4-B79225D4CAF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C6A594E8-EED2-45DA-A6FF-79405780B7E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E53CF986-B1B4-459D-8D96-E2357ECC3F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00AD4-AFB5-4B5E-BDFA-4A7B4921D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91F96456-95CC-4C90-AD5B-C8CA41FDD41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652E5A2-B409-456E-8739-978704CBC1C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359A1BF5-C049-4A14-9B40-DCCA7624058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5657B418-C507-4FDF-9A95-BB051232A8F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B409FF25-2994-41CF-9239-DDF867F2B61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873E5683-D61F-4D99-8361-0A9B0D32F6A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C1FDB582-3439-42AB-9CE0-84E15226B8E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58FA4732-D352-4322-944D-9883AB5A58E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F370E6D-5C28-4959-B47D-36C1922E1DF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F145457D-1942-423C-A2B8-CE1450D47E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22891-B598-468C-AD1B-86184073D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D9DD372B-D574-4261-A032-628CED22A8F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310ADA17-3615-4C20-A9C3-B9E5F4D344F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DC3934D0-C78F-47D5-B451-39963E1CA27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BDEB15D-B3E6-4463-A177-4E8DC96E373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0CA1CB08-E3A6-4A20-9D11-E79C92780DB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A4A3D5DD-C00B-455A-A080-79B21BF8B0F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CCE30C89-C457-42CF-AFE1-9EA53DA900A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FC733D93-A78A-4952-8F84-4A00EE01099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A4EA54A5-E642-4903-897F-A60374F3423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5D37E344-1992-43E3-ABE0-50422BB0FD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086A-2CDD-43AC-BAC2-4F4349D66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D843FC2-3E70-46A1-8D45-55EB4058889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5416F31-279E-4A33-AAAF-830DD4540AE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1E05A9B7-5686-4A6E-B469-F33839D5539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DFE02A5B-4562-422F-A2C3-D6D31C732A5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AD914060-DF1A-4476-825C-D36515678F3C}"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4EDA3B9-2FA4-4957-ACC4-352E4785639B}"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D4F0845-C91B-4DA7-BEF6-367B94190F3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DC7F6C3-AAA2-403F-AD45-C4CEE9C4BDD5}"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5AE600EE-D038-40B2-9826-38549A688558}"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DA295F4C-EA15-4293-9758-5D0AB26EF7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7206-4184-40B2-9615-9EF9732EB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2E11484C-D9EA-4F23-ACCD-A46328BCBDF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F939D711-4792-4A32-978B-EE64CDB5D26E}"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2C149903-8D27-4088-96AB-8CC1D50A928D}"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972841EC-6AA1-43F7-AD5C-EB77284A15DC}"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16D7713D-7BF6-4C77-99BB-E13F3EBEDE7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0333F42A-2A22-4F42-A14E-96A33A83F970}"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8B328DFC-D102-4B0C-94F4-519D0B4F1051}"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0C74AE3-8DC9-4DDB-8856-EA6F44F79521}"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DA41FE21-0F8C-46AE-A922-F2CC0B2FBF2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E7780C35-DE39-496F-BBCB-6CD124DB23A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5C874-03C2-4DFA-BAB0-657D6892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6175D5D4-9BB9-4843-BF63-CB6E89956A5F}"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D944F94D-2D3F-4882-9AEC-F2FE20003A02}"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022003E4-E551-4FEE-B241-E3D57ADDA55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EBB03362-9EF3-43B6-B1A3-E4CBAB9FC04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83030253-511E-4BFE-855E-92BE0F22C20A}"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D8FCD1E4-A840-4EA0-8FFC-149AD8253584}"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C2D66A98-7591-485C-B065-33EA6376A9D2}"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BF91BC24-C8D0-49D1-90DA-DD1B2DB0951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AAA330F0-5B8F-4FFC-932F-B78878F7DE0F}"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02E8970B-7192-411F-ABCB-A8B3F37561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E2B8A-B882-49D3-90C4-4D1D3C8AD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D99E521B-C06D-4DDF-AFA9-66A682547130}"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5C2EB1C9-8582-4137-AE6C-CE42F36EB4C5}"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14DC7A74-3B8B-4C48-9078-675418AE6CE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393A4A86-B6D8-4B5E-8C91-3487DDA4493B}"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0EB3C60E-E516-43F2-BAC1-EC23109F631C}"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1F5D246A-59A4-476D-B835-58CF4D683DEE}"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44B30FD8-A427-4DCA-B891-A2EDA4FDB324}"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189E7506-876C-4DEC-8428-846C16CD6989}"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11384EC8-6C1A-4D4C-BE2B-07D1C6627859}"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1ADD355C-3D4D-407E-9C8C-575A2215D2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A8F57-37E0-4744-AC82-D1F2B3E31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1085F856-C613-4E0D-A8B7-6D6BC5063BC2}"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55854584-2F79-4533-9840-42435EC36222}"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9F9DBBA3-18E1-4F4C-BD2D-117BD76FAB39}"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BC9729C0-85E6-41C4-AA79-AC36935771A6}"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7C2B7563-5881-4392-A4E6-D36F7A466568}"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3E959B85-F17A-4392-844D-4432C5CD975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CF033070-B9D4-4609-B708-B6CF992D0A1F}"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FB430160-B5BE-4FE9-84D5-9539616FFDF4}"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C46F85C4-5B34-489B-88DC-D6206BDF0E07}"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0C57BC53-89E0-4093-9455-3D11E2D3EF3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439239-17B8-48DD-8E95-72D49A15382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5D4707DC-BACB-4480-A5D8-655D94431A3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56C4F179-433E-413A-8A0F-065C5E6034C1}"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9EB2F93B-99F8-4838-B8D1-81F93340379C}"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429D5B78-BE5C-4D5B-BCA4-6365E0076D97}"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BC24527A-C674-4D32-B99F-E312B579742C}"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776FC5C4-4E4B-414C-AC9E-247B9CBEAEC4}"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BE7DB7F0-7EEB-47DF-8673-1A3657592D6F}"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1488C68A-3D6E-4205-AED2-49D39DF9F3CA}"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858FBE59-28E7-4104-98E8-D7D67D8061B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180D106C-3891-46A7-A9A4-558D3F378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C2AD5CE-7182-4CAF-9DB0-ED8429D414B6}"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2A7DE1F4-A596-4E54-B62B-0B71D17D5099}"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98F9E374-3262-41F2-9EA2-82215E9CDF00}"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9E33BD22-853C-4E20-9D18-1F023B2F6D7C}"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6B1A7693-3D89-456A-BCC7-89644FAA68AB}"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DA3C9F14-9329-49AC-A549-D74DE8840E90}"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81C9E05A-5216-4354-9CCE-0A85225FBC4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100EB076-30B0-4FD9-9CEA-3FB3D7A766C5}"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CA8A88DD-CF30-407E-BF8C-649FD58B9DC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E2FA5F43-9176-48CE-80E1-531751BE2CD4}"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A88DBC9B-67D3-4AAC-9564-E6ED667B40D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8E9402-0697-4B06-8A26-2555CCCF4D5F}"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67631AFD-FEBD-4A8D-BD8D-4B8F44350912}"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71BC7716-AC66-4652-A7DF-1C3325F76A82}"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F5D339CB-3473-4E7A-ACBC-F1954FF9920A}"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53A96C41-6592-4135-9BC2-353111417F63}"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37956E17-B791-479B-A516-78529E360E72}"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66235360-7DE7-4DD0-9382-554218D7AD0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3A008AAD-CD08-4552-8889-36C928DDF961}"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3C60143D-EDB5-45CF-B52C-F1F3693BBA7E}"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1AAB3F07-B2F2-47B1-9A3B-0AC85B33E7F7}"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D011611D-160B-4A7D-AF4C-550A39AE174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908BAE6-DB90-48CA-B93F-C5DFB3A8EADA}"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7520E5E5-27B5-4652-8DE4-D4E2909EA383}"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AA0BD87E-0251-4501-B8C3-886BCB6F7F42}"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F1385B4F-99CF-4BA0-B5CA-C08D077F5E38}"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1CFA36AA-7139-4D6D-BE9F-AD55BC482037}"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3CEE04D7-E42B-4BE0-BBCD-753ABE93B1B6}"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FFDF28C8-4AF9-49A5-BDC0-94E5D7D3CBA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26C86498-0EB7-4653-A02E-99FD493C57CD}"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C9B7DDBC-08A0-4D48-915F-487A5E2364C9}"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AB08E97C-C8F9-4EA4-AA79-88AEBDEB3664}"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2B9A2AD9-CE1C-4187-9C7E-4D336ECA31C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28C467C-8407-4B1F-906B-FD978A6D7C6E}"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0EF58DC3-F88C-4A18-8DAD-09B14B3FB84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3AD8ED68-6523-43D8-83DC-BDB868580BD7}"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5B0F9938-D49F-4B55-A709-32E0C4B8C5E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C8AD6404-9AB1-4439-B2D2-6CC0EB7E2B3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3565903F-A940-4471-BB98-7BED32B114C1}"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B4F6F85F-D3ED-48ED-A8EF-D996B6BAA11A}"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F091B932-7FAE-4CDF-97DE-742CBC85366A}"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2E04CE3C-774B-4569-95F0-DAD599F59D5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2778C0E8-02E8-4595-BBC0-7D92951AF272}"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FD72F001-0C92-4F4C-9BAF-843B56E1C23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B47CF5F-B65E-4954-AC01-DEA18289DC8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BB95A97B-9045-4095-A2C6-F32E34C1D2FA}"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B54C97D-B157-4463-A78B-00D6846F2E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20A4BB1-9C93-41A4-97D3-6DE77D22CB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20EB26E-9CD3-4273-A90E-A48B567E2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032428E-266C-4503-B66D-E37F462676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CAF2EEE-7AF5-421D-A9BE-2781B2C56E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6BB295B-2A63-404D-8A7F-81C9856429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2B34163-0614-4EC1-8DFB-FB204C14B0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44EFC0E-F96E-4AC5-A1D0-5A7197699F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320CD59-B6C8-4713-A03A-DE3CE090E6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EBB23A-37E6-4D1D-8E34-7A0E3A3539B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39ACFAF-099B-4B3F-9817-A9FA4B819C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EF2E859-AF51-45D1-8511-78057F5C59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687C60BD-4091-423E-ADD1-5DA5C29B16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265AAE7D-A096-4B19-BDAB-2AB3AA017B44}"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2415E0C0-124F-4E41-B100-4E4ED8FA0C77}"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5C68487C-6E49-496C-B6F1-ADD9EF5C5D6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CC44CAA4-EA97-41E6-90F4-DD224A8C374B}"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D35249D3-AC31-4E20-85D5-DDA82CF0DA65}"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5060A6DC-6695-495F-A58C-FB1FB674034D}"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38763F1-92DC-4CD5-A60C-3EAD8DEC198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F3C928-91D4-4296-926F-21D9DD20FC53}"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C817C2D0-4331-498B-8B94-9F08A7E0D113}"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BA068327-D9BB-4FA3-9C87-8CAF8306FB4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31371CFE-7C95-4D78-B393-AD62EBFFC05E}"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034F8C17-8974-4F21-B695-31AF68AD5CEB}"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30C89B4A-1EEF-4C78-9B5D-8922AD6270A8}"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BA65A497-45AB-4DA3-8309-812495C51A3B}"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AA6634EE-2991-4A05-94A6-A318910FD3E8}"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E7F12F36-B9AC-4213-BB00-5795675B2B5C}"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5BCCA346-E80C-4383-9E0C-9ADC46B53515}"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9E2CC8F8-4EFE-4149-A9E7-2FF31774D4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2C1D41-A982-4C4C-80DF-539904B7F351}"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762C469E-4C2A-4382-A314-19B96618BA79}"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9E6C566-1746-4619-9FCB-65FC6EDD6724}"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7939382-ED02-4DBA-861A-1CEC28390D5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CFBA444B-2E3B-45D8-8056-3FAD9CC7224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479B5489-E4AC-49D6-A217-28BC61DD3E5E}"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EF4B86E8-DFA1-48B3-9B89-05E3D2A19A9C}"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2DD4B4B9-1A14-461D-8D22-6D0D09EADB86}"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B7BA6015-ED8C-466D-998F-EE870A36AAA9}"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B94D5F60-6309-4C70-8AB8-AB4EA4A3F615}"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07D8F349-39FB-4630-93FE-873F29B8C9B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768AFD-578E-48F7-95B9-547D63E01942}"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72C7CBAD-9E5B-40DF-9B61-2C62FFA6801D}"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CE593147-DF0E-47D9-ACB5-BD8E9A2B5AA2}"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BE575DB8-0500-418A-9B98-3D9C1555BC1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80EFD9F2-A368-4262-92BE-E236D20668E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3EFE554B-21BD-49FA-B039-85D1083ECAD1}"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C3AAC85F-C49C-4E9D-BC53-788163C63B96}"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76A95C01-C058-4884-9C46-9FC3C1B8F6CC}"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D45A679E-9862-41E1-8970-72C1E7B98305}"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B06060FF-FE51-4689-B7C2-05B3166C1449}"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92238F5-8045-4968-BEE1-7CB08B245D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DA85F72-EE2F-400B-AFA6-E758833BCD6A}"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99AA7B23-1C29-4F27-823A-EC33E68D5F3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AE2F6112-360B-4E7A-A8F7-44BE5A2FE711}"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DE3DF178-EF2D-4C3F-A06C-BF5153495A0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917EB934-338F-4D11-A4FD-E163132D0A03}"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8C8A6015-8F24-4484-8B85-934AAC07BA28}"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D0DFE34-9A45-4967-AFCE-0600087DBD8B}"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CE54D93-BFFB-4BED-BFBF-085C396E538C}"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99A93630-027A-4E27-B0E7-E8E65ED9A3E0}"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8891310-E535-41E5-9E6F-E62382107F3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DD347823-8048-493E-A1CC-DCFB26566B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5FF097E-0167-45D3-8E60-AE7FB9E2B017}"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AAA4F299-B812-46E3-8318-3DA9E3E7D49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F14249F-3964-4320-BA74-EEC069F7D368}"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D9CA5DF-467E-4704-A741-A3D98158889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974FA3B-33A7-4F15-8C72-D814A8B39F1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2E20C69-89C1-4E2C-81CA-A8479386452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EBE8482-4A19-4C4E-8D3D-C187E4198ED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F8BDEAD-6DC1-4CFE-ADE6-121B4781C9A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5156AEF-0D35-4B87-9DF3-FD1346C546A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59E0CBC-28D6-4BAD-8DD6-CE48191CB16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466DFFC-DEE0-4A8D-9DCE-CC88FDFE140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018191-F5EE-4A00-846E-02386EBAC975}"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C0256CD-8603-4D8A-A2B7-77FF1D4AFD8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1A680107-2B7A-478D-8F5C-EEEE98C952A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FB55C43-79A5-4CAA-8751-822E8420405B}"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D0F602-5559-4851-B5AC-BA393B647AE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B051B8-F4BD-4C20-86B8-0AD3B31DF80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BBBAE1-74E6-4BD4-8FB5-29E4E3B0F0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1BAC2CA-4995-4402-9761-FCC1799C3E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555BBE4-4647-43DE-8B36-99E18ECDF4F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349BA5-1711-44CA-A287-A5C1995F5C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A89D6B-333F-4288-BA69-ED970EB5DBE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E216E2-9214-4527-A4CA-CAD2524BAC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B51BF9-7938-473C-86DC-95A123498AF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EFD5A54-F9C0-4613-AC3E-5D87ED9A6F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BAFBE00-9432-4E6E-8AAB-F727C15209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B53809-6FB7-4165-A5C4-BA01EC9AA06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97C9F6-FAAF-4631-B32A-91E71E8DB99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26BCA50-F3C6-45C2-9276-C3E1CC19014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355631-A2B5-4942-AA33-B9AEE45FC27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A5C1281-D6CC-4C8A-89E4-0758F5358F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F833AE3-3BBA-4788-8914-075658C1E12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C74C53-E796-4FEB-9D65-08B596BBBD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917141-3821-4BCD-93A8-EA125E0AA8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776F56-7956-40B0-8313-FB8AAC453D2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AA04501-F309-4BC9-A347-6961D97E7FE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D0CA8BB-83B1-4C83-822B-A5BBF3492A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0178E73-704C-4662-8382-B3E661030F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606FD36-6D9D-4492-AD66-43474061FA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7C165EC-F915-432B-8432-22E6087CF16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6E823C8-8DBF-4159-9951-FCB01575E11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0B75FE5-A5BA-432B-A04C-1554462117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475E0F7-CDD9-49C5-AA27-61A0156403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9271B9A-179A-4A20-A2EA-442B3ACD3CC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4AB8B71-168B-46E8-B625-73FB1B4AE4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7C38E09-6677-4A74-A4DC-CF427F20EF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0B64E6A-7830-45D6-9BAD-5FBAC5E7A53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BF9BF53-A79C-4125-9968-DFB627A29A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578F41C-70C1-4238-80AE-F4F10F736FB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B828681-CE3F-4643-8B4B-FF85AE71FAD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9E2CEA-F6C7-415B-8698-6E441C5AAC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85D6727-FD84-4AB5-9420-69744E0A9E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55973E0-AD94-4C35-887A-C1B45F6E3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02986-80DF-484F-8E05-B0E8F831D8F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0E3AF-BF48-432C-B902-099CF16846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72F7A-2355-46BC-9169-E227B10D6B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E1F61-B9BC-458B-BB0D-7FB2E09908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5AC55-DBFF-4F34-B833-94B2EB82BF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FE773-582D-43F3-B990-9DA150A289B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D3E2E-6E30-4829-88FB-554A72879CC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4AFBA-C47C-4507-B1C2-30A09EFE7E56}"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98AB9-CCB3-4CBF-B2EA-5B107B4AD12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5070D-1A7F-47CD-A790-8E884041C0A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DD63A-CD25-41EC-B015-F42D0147F38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5B11C-AD1A-4A28-97AA-D1D4D01122F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70B2B-14FE-4818-ACCA-0CDD09A1E07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59D29-9F33-4EAA-8730-BB52898F508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8A599-1CD7-4EE1-BCFA-92420D74ABE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FAC15-AE86-4544-A301-FF54FB05AC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DFD63-C30E-4A17-A930-4CBD18DADD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1CDA5-F593-4AF8-B3AB-802ACB708AB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86855-9DC3-4101-BE79-0ECB2165D4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8870D-1C5F-4A05-A2DB-3770FDDF5F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7E1EC-69FF-47CB-960A-4509017641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64235-D2A1-406C-8AAA-4284147DA9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BDEC6-8B95-49BF-AECA-D61ED32EFA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CAE4A-687E-4B49-8FB9-42E702A89F2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83C27-9381-4D50-8D34-E861841D09E4}"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20112-06E7-4DEB-8620-DCB9567F0037}"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040C1-F636-4426-A65B-E44968A7CBB2}"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C7154-849C-4334-B34C-CD66CEF39BEC}"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EC506-E7F0-4CA1-A4FE-E1C7784539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4EF9A-ECFB-4DBA-80FF-4CE13E664933}"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850E9-74E9-463B-A611-965836C3BAD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475C9-8039-4193-945B-FE2C4ACF31C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9BC24-F2AA-4E30-B15E-2E7A0ADBA21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89D2E-C69B-45FA-817D-A175E50BAC7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1FE37-77D1-40CF-8929-FCF086ED86B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0D68E-1581-4472-886D-15BB392313D4}"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175AD-7B7A-43DE-9BEA-B48FD059540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A1C6F-F00C-4154-ADC8-7352E951E6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F3B90-93A4-4872-9C13-5CFC2A2CD82E}"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3AE42-B875-42F0-B8C2-9C542A04F72C}"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9EB24-ED77-4A74-A1A5-BAEE778B29B8}"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2B937-1FD5-4868-9311-9F7B1BE17F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550D9-2808-4119-8266-2E911FB2CFD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8F328-0474-47A3-9690-66665FA54B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130E2-1806-4F9D-863D-E4D369A3B44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3E3D0-04CA-4EA5-B355-5F78C3F4CC3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ED3DB-606D-463C-9EEE-6E36852C402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B3ABC-BB22-4EDD-8517-8C9F05423C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63E13-811D-4991-A719-5EBB50965FC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D423E-B99A-47F6-8596-D9FB4F5F505D}"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1C68D-4EC7-4910-8716-F08AEC16E93E}"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BAA45-844D-4465-9F6C-E8B1E184514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D0C68-DE92-4723-968A-66C54D74DE8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7B903-3209-4076-80C1-A9C0E5EBA9F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D3F8C-0B93-4C31-BB0E-68BFCC3AE27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6433D-CE9D-4B08-9B39-714BB4FC710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F0B2F-1632-4842-869C-3FB2098BE1A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