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2" name="PlaceHolder 2"/>
          <p:cNvSpPr>
            <a:spLocks noGrp="1"/>
          </p:cNvSpPr>
          <p:nvPr>
            <p:ph type="dt" idx="5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517DE-EE82-4F02-BA19-7B11FD7C47AA}" type="datetime">
              <a:rPr b="0" lang="en-US" sz="1200" spc="-1" strike="noStrike">
                <a:solidFill>
                  <a:srgbClr val="000000"/>
                </a:solidFill>
                <a:latin typeface="Trebuchet MS"/>
              </a:rPr>
              <a:t>07/31/26</a:t>
            </a:fld>
            <a:endParaRPr b="0" lang="en-US" sz="1200" spc="-1" strike="noStrike">
              <a:solidFill>
                <a:srgbClr val="000000"/>
              </a:solidFill>
              <a:latin typeface="Times New Roman"/>
            </a:endParaRPr>
          </a:p>
        </p:txBody>
      </p:sp>
      <p:sp>
        <p:nvSpPr>
          <p:cNvPr id="1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1995" name="PlaceHolder 5"/>
          <p:cNvSpPr>
            <a:spLocks noGrp="1"/>
          </p:cNvSpPr>
          <p:nvPr>
            <p:ph type="ftr" idx="5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6" name="PlaceHolder 6"/>
          <p:cNvSpPr>
            <a:spLocks noGrp="1"/>
          </p:cNvSpPr>
          <p:nvPr>
            <p:ph type="sldNum" idx="5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799B1-B86F-43B3-81B4-F4728D2B04F8}"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EEF6A-5AA6-4C53-8C2F-F46543E43C25}"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B824BD3-38A0-4721-895F-A7005443EDB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90946FA4-6149-4C56-8063-DADE5F612B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A52FD5C-7D24-4172-BC3B-4424BB30FB7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688CE8F-6D07-4E59-9D1F-33BA6D6843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A70CE9E-64DA-4E62-A14D-E81427556F7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D0BDFDF-7B7B-4633-8218-E566A312A7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0DD8A6B-0C43-4946-BFC2-FA2CCA551EB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A6EFA5B2-7BD2-4324-B0FA-021DB7390BE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2377A33F-E098-4879-A0B2-CE7099530CE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CAD0664-062B-48B6-B82A-C34BAC1A45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C498700-AF7D-4747-82BE-B2CE6555EFC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7F3E75B-CD75-4ABC-9164-7C33590EE5B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04C0B34-2B22-416E-A03D-171674772FB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00ADFC6B-DD48-48FA-B8F1-81FC8495796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76570D9-9911-4200-8BE9-7BDE406ADDF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822FF0A-DF14-4186-BAD6-DDAE5C07442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0FA68DC-9412-4EF8-B6FD-3EA9539AE21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7BC760D-876A-42F2-8BFE-FBBBC0157F7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1C0B2DD-9595-49BA-8A07-BCE4089B67B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0E9968FA-D785-4E3E-A8D4-372FE4D1C1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A02F544-9572-460B-8926-81C55DFADFD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F1E21D8-1951-461C-9576-A281B12D7A4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9E4F265-65FE-4DD0-B647-A2C778DF39B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D976406-80FD-4513-A6CC-3342153F350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1EFEFFC-DE8A-4175-8BDA-9DBECE8AA2F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A2DBB830-AB84-4AFF-ABAD-2148B366DCB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05F004A3-2220-4032-A337-5DA7355950E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94A46CD-9C43-464B-9C29-754F3DA508A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AFF987A-A51B-4618-A693-F2394720BD2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D8326AA-E266-4ED9-AA8C-9AF880C385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1BBCCCE-234F-40CD-AAAF-D42379133D6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1353E81C-D411-4B07-9709-B21C202C18E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3EDEFF6-4828-4748-8821-D3AE908F61C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E809FC9-D98E-40BC-92A2-7FD5B31ACF7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4DFAE16-26CD-454A-9570-E5F0E4293A1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A743BF7-63E4-473B-9E3E-5AF3BD4E3FF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C55CFEF-7FFB-4ECD-BB1C-2E7ADDAE851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1EC095EC-C125-42E6-9341-5AC17C4E69C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6B42C68-79B7-492B-B3A6-F4190F7196F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BD3EEDE-7BC3-41FA-8DE2-527A5CA66C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15A8A92-CFDB-41F0-8D44-0FD19450CF6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8FB99D9-A785-464D-BD81-6F97D658A43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BD6AE5F-B11D-4892-A773-346F2DA3253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85F7A655-FF2B-4F96-9539-E71505FE385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C6673602-444D-4748-951C-BEB7DDA9310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643382B-8E2A-43C0-8061-91948E1B2A8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9BBFF003-6ABE-4104-A5F1-7BF2F1E1B6C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6C1A126E-2424-428C-94C5-FB564E5E887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940E0AC9-2EE1-40A7-B905-B49A5082F52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DFC8D9C2-13E7-4313-952A-ACCBBF4900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CF03DF37-6397-42E9-ADAA-F636A9CCC0B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5865CC1A-5FB9-42CB-9391-5FAFDA4CE75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48D1A90-5BB4-4DA2-9CF5-A5226BBCA9A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8076C19-4486-45E5-B3BC-5F47909E910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70A58CC3-7533-4A3F-BF15-7C541CA94D7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65F7BF22-C48D-4256-8B2D-15DA247C0E9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2B38DF1A-F083-4CD1-A72B-39E468D5977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42B02CB-E5E8-464B-A5E8-593977888DE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8FC6F9FB-FBB2-475D-ACF5-8A302396811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4B0AF0E4-5082-42DF-8FB9-9A03EEE892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EB38CBE0-6843-4038-BA8A-C58E800A9E9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24BC0CE6-1566-48C2-8A73-2529441A1B8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BC8748DF-4D57-4867-B9FA-2CF862AC62A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6B8B3AE0-F6BF-485D-8E18-99A907C3C64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20C4B3D8-F9BF-4C40-B146-0E3E7473A80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45929915-F109-46E9-AAFA-6CE19E78A5A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15775AE9-57E0-4081-9CA7-692BE0E2ADE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5AB96B61-43F1-4E53-B559-93FC0FF1E25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50C5B59E-CC3C-492E-AF67-E812BB16D0E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5513198-7542-4206-94D0-D0BC12D2C0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D957E8E0-1A67-49E5-B403-861D7F73425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0C9112EB-489F-4DEC-B014-5E8F5A31EDA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EF08BA08-9AC0-4005-910B-55C5F9F45D0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54226836-542A-4E9C-A089-2BBA20CBCE1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13378DFD-3948-4592-9F05-6AED85E0E03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1482EBDF-E179-48D7-B0EB-7EE86CA8D86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B37B4D9-B45E-4E57-81FA-705F0ED8044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B961F700-59DE-4C25-8017-27DD37705E7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D837BD6F-EAFD-41C5-A829-1DAFA0C80AC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86515F8B-7637-41C2-B981-0D97C6FAE7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99CB2422-A26F-485A-9938-C2617AF9727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619D249-AB88-49DF-8EA9-77398CDAEE6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771E4A8-57AA-49E4-AD7A-1FB961741A4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08F560-D19F-45A9-A6E5-F3E574761F9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6E8F6AE-1ABB-447E-8C43-0EA5DDF2F54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2FA284-5796-4A1C-9379-8909E6B087A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17391D8-C212-48B5-BB46-AB061942E0E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74604CF-C471-4722-A80E-ACEBB5918EC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0F325B9-7532-4C2F-AFAA-65B824EE39C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726A2D-A403-4296-A22A-A6846800FEA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DDD3106-B718-444A-86DA-19513A2FEED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2323383-3C65-4F5C-96AF-C3B1BCB449F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18B76C9-FB6C-4ACF-B6D1-F5E2BA3339C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B849674-A849-4D72-ADA1-C6BBE548069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D4057C43-F37D-49DF-A97D-73253523008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AC662412-A531-46A0-9DC2-3C7B8D1E978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5C4990AF-B717-4457-B50F-83A804D63C4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2E3831E6-004F-496E-BE09-F4C877D0C47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00B3D558-F5F0-4F31-9D99-7D70A95B610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FA3B00F-E1ED-49AC-BA27-5A7DEA7891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53A901B-2BF6-4FD9-BC39-43FC692E418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90A5B74B-3383-457E-A64F-4F3A11D1A74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5C243D95-BE02-4017-B94D-8A554F75099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40CD923F-5B8F-4874-92B4-A622AD38874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3D974E8C-D3E2-439F-BEC7-643E63B31FF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61836EE-4967-48F7-A8FA-FF6C5C1D096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41337F9E-8F4D-4D4A-A94A-3B21636C4D4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25E74AD1-4C86-4C9F-B59A-81D9965D1F6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55491A5B-83FC-45B6-8C4B-00EE73D9D8E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5462850F-37DC-486A-8ED1-1388BA234B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AC1B1D07-B96C-4B1F-86ED-71756C7854F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A6F494D4-6DF3-4D08-9A5D-5091A5952C9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1132D881-7069-4D81-9964-163F2600F67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C731EF07-0FED-417E-934E-3EAA1F97393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85B90D7D-FF21-433D-9DD9-104108AEC59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45395F96-8E0F-4137-999A-E2188976D9C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F4ECD9F6-C545-42BF-9C4C-570E0B8E8AA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CFD001E-96B4-4EBE-915F-70759595C9C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A7EAD23-6327-4A0E-9CE5-CF8230913E1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D525AA8-71E4-40A9-B15B-27A682BE90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4585244-07C5-4108-8FE5-E3DC73CBF13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E06F395B-CC14-4124-9F3A-1726446D4CB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BB1E96F-F7FF-48D3-B42A-594E15B2D42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2876B6B-2087-4DE6-8E78-848A05979E8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09BCE87-2FB5-4E83-9BD6-0E7FA644925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6C7E851-ED84-4890-9765-D10192D5520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22B5FC6-8B62-4E80-A2EB-D2410898E4B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A8BF67A-BA60-4572-B1A5-30265024515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1D914ED-4649-4A10-8896-EA557706270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71830CD-BCB9-47F3-8048-0E7D2A6D2E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81A7F247-007A-49CF-8C18-BBFC0442BBF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6AC69430-CC09-4838-ADDD-9BF1426E4B1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DD5C1008-8490-4841-8374-19939101140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E4A9CAA5-A23D-4AE6-8E21-19D63D0141B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2EB7B301-774E-48C0-B41B-F457977DF13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7A787E94-5E4B-4989-94D6-136E7670BDB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BF7C93EB-012C-4C27-B000-29F54BAC6E9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CEE3FA3D-799A-4B1E-B9FC-901FEEDCAA2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E70BC8C3-BA28-4CF5-9C86-54E3A9C9965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AADAFDF0-A355-427F-816D-3232616C77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A9A27B54-DA6A-4BBA-9439-B9008EE0A1C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E2D5A93-FA38-4350-B88E-4993E73ED8A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2B3DB530-557B-4B32-B72A-F0E62B7E18B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6386A9A0-4921-4AC5-BD13-3214F33068E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A529B19F-0FE9-42EE-9FF5-0A3744D05C2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CFB75B33-95FA-49ED-8AF2-B094A7A7594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40C788E8-5E91-49D6-B11F-E951DCA0CFA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6A1E7C1C-DB04-496A-927E-AC5CEDB2D4A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A12A64F6-D9B2-4236-B409-E4BCD8F2261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9E4E01A-EC87-476F-8935-8D11E1A1011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972DA43B-BA1E-4FA7-BEC5-7181FC84BBA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72050133-7EDA-4A33-865D-290E7D75D9F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F3DBAA4D-092B-4C73-8514-4DEACEC7B48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D7A93E5-DBB8-4488-8A69-CBCD5404FEB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62ECD754-6542-4E04-BDEF-8CA8417DEEA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F2B5D4BF-9C51-4235-8986-A9D8D0C3832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9FFEAF74-53B7-464D-B8E6-A97FCDC499B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07CF359E-A92A-49EA-B8EC-55E5582773D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13C13A52-98FB-4A6F-A60A-9F79B9BFDA1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7531AD5C-AC72-4EB1-B808-5D9ACB72E5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77065006-AF82-4586-B14A-0E620455A8F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2954104C-BC87-45E3-9FEF-49E678A2DC4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EFEBE782-8A66-4EF5-B8C3-4C692F35ACD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72206AE2-4529-43BE-A070-7FF10570752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8ABB7533-8025-4700-9580-3E1A165F3E5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9DE8D41-D13A-4FD9-9A83-DEFF89E8715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F79BC9A-B711-41F5-8D7A-84657106C93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75CADB3-F037-4EAB-AFBD-C77B0BC38DA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FDCB6D8F-A33E-44C1-8554-CAF2F399065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CF721805-EBB5-4C4D-9286-580C9804BD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52FC863F-F3A2-44B1-B89D-FE6B5E8A8FA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E4ED17A-477D-4936-9694-84D19EA75D7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3F7BE1F-10D6-4C68-B8A0-2E5DC801A2B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2FB773C-4AB7-46AE-8523-9D21746271C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39643403-9397-4936-9B21-6F275013CDF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A75FF227-4153-44E9-82A9-6006596B23E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B82201F8-E761-4E4E-85E4-9A65C79DE72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7EDB7DD-B12D-46C2-908A-1DD68255B523}"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925D185-2805-43FD-ABFB-17B13726CEC4}"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3C5A7AE-52D4-402E-900A-7FB3A8F533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E014E7F-F3A3-477F-8122-18D0C48AC4B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014E8AB8-5B7B-43DF-AE34-709EA3CAF2EA}"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BFC4B2C6-F5F8-46A1-B191-151F770475E9}"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CF38E0C-9AEB-4BCD-A2C1-B2B63FBC216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013B117-E805-43E2-AEFC-933204582D56}"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CAAFDBC-40CE-4A45-82D6-99077ED361C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02F523E-826E-4993-968F-1B67E233E711}"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4868C85D-A85D-486F-98C4-08826D9CC971}"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7CFE8093-573A-40DC-BD92-592BA8425E1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4B623DF-D1A7-413F-8846-E64AD1042E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F2BB832-EBE5-4DB6-A138-05E155317EA5}"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46DB2EB-98B6-417E-9C87-8C916B1B9B0B}"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D8688D4-5EBC-4C28-B4AF-29E3062CD8A8}"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8B8205A4-0BEA-47DA-859E-B4143186BBCB}"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E36ED24C-A99F-4C86-814B-4AD6E50C6B9C}"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B96E80B-32FB-4353-9BDE-C5A8DEB7B141}"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ACF3EA3-8864-48F0-8585-D10B73EF466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A4A20B3-8802-43E6-B5C0-4EE5711A79F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4BE7AD8-2F4B-4F0B-BB00-B4F8D6EF1E1A}"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95E4E8BC-74FB-40D5-99A3-5F2FC979D0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72CDBCEC-5BF7-4A91-B9BE-C34629513A72}"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33F32FED-6120-42C7-BD5E-788F8FE7DD9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E051EFBE-53BC-4073-9CC7-9B76DC533577}"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9DBADB28-436C-4F04-919A-DA31088480A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A16126FF-32D3-47D1-A0AE-85B9748D52D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8AEB5C38-3A32-4F1D-BC6D-11E178552078}"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1A4BB0D8-1C84-443E-A4F3-7E82AF0DD09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C2F06729-801D-4B8D-A36C-5C9F0CD97FE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2A00E1B6-D69E-4683-8855-F741A8F686C2}"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9AD6A84D-D032-49E4-9C99-160FB5B84F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357A2664-BBD6-49C9-AD82-7F1CC5F4569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9B50DFC4-A49B-4041-9C5A-E3FB463AD17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76430CB4-9DB8-413A-ADC6-2F111C84219A}"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872CCAB-4334-44D3-912C-7135105AAE3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9ED18673-251F-46F5-AD2D-469DD041E3E9}"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F68CF311-DA84-4A53-A743-BA03B649E48A}"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50DDEEA5-17CF-48DA-97F0-196D9C2EDED1}"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EE6E02C3-3300-4C79-B4E4-7737DCADDABB}"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8E3745D7-55DC-4DE9-B086-08C5BF164189}"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2F11C8D5-D33C-470C-8853-B978289BB51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BC68358A-2439-4424-A612-8D5CEAD6F279}"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33FFC85E-42F7-48DC-AF2F-42405AAE1F38}"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7509D9DC-882A-491B-98BD-A46E4CFA60E4}"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B8F22203-4735-4BB3-BCC9-548FA44B6BA8}"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18B0247C-0A2D-4C4C-B9B0-1AF68B722DE2}"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4D2FA8D4-3F62-4AC7-B5C8-6979ED0F0C8E}"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7CE123D2-90AC-467F-93CB-1C9BFFE6901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DC104007-B6F9-45EA-BDE9-4BC006C38FB5}"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99AB049A-8574-4976-93C1-DECF0213F0F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EC18DE96-A8A9-49C8-87D6-06818F8A3B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10FBD2DD-9D3A-499E-876C-033554EAD07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47602067-0DD6-4AB8-83DE-9C693B71906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C67C536C-6DEF-4696-90CC-7E9A3C603683}"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D6E251EA-C05D-4670-B3B1-0FB867AD732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B5B95A86-BB53-4624-A2D9-04738300FA1C}"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8E1106BE-FE73-42E9-8939-87728D46785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C707178D-B660-4270-A93B-A251EE03709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62D051D0-6398-4025-A433-2C12AD0B9AFE}"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F35E6192-C097-43F1-AF72-31C71A2CD0E2}"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EEFBF172-A02B-49AC-8418-43A4C0C6E7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B6439F08-DFBF-42C8-A972-A86FFEA0052E}"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17327565-10BB-49E4-A63D-B1439D25ADDA}"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1B6B5C5C-5B23-4825-A7E4-423AD707297F}"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5F567D50-804D-4D31-8177-B62D7E4A3AB1}"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9B9216BE-2EA3-4598-87A1-0A05234A21A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4FC81152-22A2-4119-9491-D4BA61C92FC2}"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59EB4601-BF97-4EC0-A599-0B29ED67CECC}"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0C76D520-6AF3-42F8-8B7E-AA5C6EC7DB70}"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4EB42F51-66CE-4061-8B27-5BD7A756B284}"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346FC32F-072F-494E-B20E-3D75C2A52D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785353E2-0952-41C0-B510-1A5085D696CF}"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6EE2D118-D560-4B2A-8A5B-4FA543B90F60}"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D43DF120-A710-404A-9F32-CE12732860F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931D59C5-BCE5-4118-A1FA-0935AAE022C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CC168B35-3AAC-4C32-86E9-1623E0D8D1B3}"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2A697DA2-AA9D-4B21-8FBC-45DF8201A45B}"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A8A589DF-6E90-464A-BA78-E1085259B09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3C9E5A90-64DB-45DE-B384-CB148A046F6F}"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0C609EF9-B52C-403F-A7B2-525EE2D196B8}"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C3EBB325-1B45-45AD-A1BC-B98C737DE3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AB68C57A-D7C1-4A4E-8530-AF738A2C0E16}"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63645780-9EDC-4298-B766-AD050D7772BC}"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1530E7E1-6AC8-4B89-AF8E-3108C35C6C1B}"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522E918B-91D2-4B8A-8D7E-8CDA7536D00E}"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48373127-82CE-4D8D-82AD-A8606E0A3D8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E1CEF096-EECB-4E96-9313-F4971FB28E1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6DB18568-F462-4ECC-B3CC-5D49C8E93853}"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359F7D4B-12D6-46BC-B7E5-0981C125A05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A0E41677-E267-4433-AD17-0C29CFDCCCE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76EC25D8-1A88-4AB9-A23B-BE5EEF5F6A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8E34C-B223-442D-A797-A9E790BCE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FBA8A06A-53EF-4990-8593-702C1E5CB74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7EDF5997-DBE8-43A5-AC9F-062E064DEA34}"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06201B10-63B8-41CA-9CEF-1C3936372C35}"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BF5C6772-E77B-466E-B2FE-50858EF04278}"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569AF235-3359-47A1-ABE3-EC36DD603BF8}"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C48D7651-A181-4641-90B5-6609725CB10B}"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51B0FB90-D8C9-4E6B-B97C-96B38885ED24}"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66B085AA-5521-44D4-985C-E15EF134D9BD}"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296E4BA6-F76E-48AB-96B2-EE8AE32A46B7}"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20AAA481-44C1-486C-BD22-D8AEE5AB314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D871B-7D47-4C21-82AB-1BDABB030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D11008D2-2FDE-4BD1-BDCC-8A3133689716}"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011FDA9C-1875-409C-AC73-06788FBEC7CF}"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E7C447BD-3EC4-4A88-8F0C-5638DCECB25E}"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503AAD12-6D89-43B1-94D1-36D5D8964D68}"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E56EA4CC-B9F0-468C-BC8B-F76907103766}"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42D606B9-FDF6-45E9-8AA7-1FBCFDBC7D29}"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46627271-8A71-4FE0-AA4C-B9E040153BAF}"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EEB28254-F8E2-45BB-B104-4F2CD23C5D23}"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24345D90-F0FF-405E-862A-33ECEEAEADDF}"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13D4B9F5-3E03-400D-BE4D-B55580420ED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6F850-D1EC-4E3D-AA5A-F77F1D989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24F3C04C-83C1-4F61-AB9C-DD1761F5ED5E}"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4D614E02-7A71-4FAA-BA7F-70240F978927}"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62C182B1-C206-46D3-B970-A157DA815F4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902B0D37-C69B-421B-A973-53686D54B0C1}"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D7AF68E8-F6B7-4500-96F0-34419CA732DB}"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C78A8336-138F-4B58-BC1E-62D5F38832C8}"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EDB65FD7-1A00-4477-8023-1C766F0F809C}"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17C2E0A8-84B9-403E-ACE5-0F3C572FB06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8EBA7F4E-DA8F-403D-B184-DA927DBAAC4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5F350571-CA7A-46C8-9F31-46B7FFC39A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E35AE-E9B9-43CF-8EF5-6CA01CB5C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C29DFBDF-61B8-423A-9E46-8CE0FF1AFB4A}"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C19D3709-83D6-406E-81CE-ADEF17D47FE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478C5DD4-FA24-4D02-8A93-C709687E88CA}"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2B2A37B6-F8DA-47BF-9644-2518FFBF9EE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3EE89E28-FBCE-4E8C-85AE-D6748891AC6E}"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C4CA24A4-CA88-480B-B2E0-64F64E3DAFBB}"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D565C1DA-F785-4AAB-9718-C96D683A3D77}"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687A308D-6406-4CC1-8DB3-304C975E3E26}"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587A3F92-4BD5-46D5-A42E-6C4EC0597031}"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D9CFB432-FF70-4FA2-8D00-9CDFFC67C5F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D24DC-92D1-4A1B-ACC6-3348C342D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FC4B6047-E5EB-45AE-86BD-283CCA30E23C}"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6EEA7A65-EBB2-4DC3-8DC4-D08E53C372ED}"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F586CEDA-65EC-432C-B9EB-814133C991A1}"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8E633399-5CA7-4057-BB35-BC57D3D840A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71145EB6-2F8C-486D-9C23-32513E675D95}"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C1F6B289-C09F-4C64-ADB8-D7991C3ED6C4}"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E24527B4-40A5-40D7-8F7B-8CFBFBA0913E}"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10EEEF7B-2613-48C5-A8CF-4B4C043E2341}"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62CA8D0E-EBA9-4726-AABC-052DA63304A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FE852D4F-9773-4FC8-9934-38DFC36C5F8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0269D-F15E-4AB7-947A-48D427874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E8D12157-02BA-4931-B74B-08D4E51B9128}"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1BFE62D4-0566-4E66-8DFF-073DB4E73213}"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60ACE968-A065-4160-B924-590858FEC5C6}"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65C21C6D-772C-498A-AB94-E8C61CE31A56}"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60BF6BF2-2073-46D2-B209-CAA9030F931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798E6782-196D-4BD9-805F-531B5E58CA96}"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1BCE398C-F01A-48A5-AC92-6E3A5551EAA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D807DD41-6382-4E05-8EE0-209EF788682F}"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09666523-7CBF-42F8-BFDE-E6BCC6CAB755}"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9479F108-9B38-4E56-9F2F-ABC6898DA0B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57386-F8A0-4B93-9376-E8341BD4E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10F85653-CA24-4DCF-A8D0-688C4909C86A}"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6A6CB386-9232-4717-B745-8385F7E30312}"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3252F0C0-67D9-4E2E-A2CF-B7D677B0F630}"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947FD9D1-006C-4BA4-8512-7907DC1ABE00}"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C27C50B7-5BF9-4B5E-B851-A3A685FA9A81}"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3F2274CC-6D6D-428A-A331-1B1DB5D5F5A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C709BB9C-4303-4BF3-ADD2-BD10911917A2}"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39E5E68C-5DB7-40D1-A214-BDEA386D9D16}"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F98D1789-D23C-4D50-BB5F-0A181DF36803}"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42FB4185-35D2-4063-8A9D-404D4527362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D1F6E-3629-4A07-9025-E1CF84AE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E9974494-A49B-43C2-859B-5FA7C563931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F74D0874-9E2B-4DE9-94D9-BC43657DFC1F}"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BEE26D30-C471-4EA6-B431-0943B2CD126F}"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9CE262DB-42DD-4CA7-9459-A3C7D5221D97}"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21DB8120-F67B-4A46-A68D-9DBFA3E34F4F}"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E2A337AB-7CCC-48CC-A79A-AEE4506C19A0}"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849518B4-B172-4010-A0BA-3B2E94A65289}"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103CC808-7694-4D6F-8A01-CE38786FBF18}"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0D2C088F-08EC-4996-B2EF-32B23B6C7F3D}"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A4E5726A-4C90-4D7A-A581-D611DF2F468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DAB36-AC8F-4154-9D8E-C47668E1E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871CDC01-82B8-47E5-86BC-DAAB6D8AC523}"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9046E08D-7CC6-4BCF-945C-F9093A14A01D}"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B518A118-4052-4C6F-BA2E-CC8B7967B87B}"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8EA12520-49E4-4D22-8C10-8F917D1F6BD2}"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801D8F7A-E435-4ACE-9105-5ADE9B8CFDF4}"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812E09A6-95CF-44DE-BFA5-7C73B1C13940}"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DD7B6ACA-3430-48CA-BD8E-67C3F16B4294}"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2CD7880A-6D77-4031-B98F-D8170D9A8E2D}"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695B1F53-15D2-432B-A123-475ADC33EEC9}"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6D9B94AB-1039-4C37-BEAF-C960920787F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30F82-DD3F-4FA3-B136-0DB94059B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C062C8B9-AF25-4FC6-9D6F-29773F536232}"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83391579-DB32-493B-9BCA-605AC09F0E46}"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5BC92F18-726D-4CD5-8348-353B77B45C57}"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36C4C297-8232-4946-9D04-1747AC02B54E}"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41FBFCBA-0D38-452E-94DA-34667801E854}"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8ADAB721-FD20-438E-A684-25CDDA46FCA0}"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94FDAF9E-ADED-42E9-8D93-3765E56CA99A}"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CDD7EDB4-E3A5-441F-BDAC-E7B1B03BAF05}"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6A8BF030-DD6F-4FF4-B290-0DDCE19A47EF}"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B6CCDE2B-62B7-43F1-B06C-8250209B6D3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F273C-0D8C-4622-B4EA-2A4655B8B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786CD4DE-B6EF-443B-82F3-51C9D46F40AF}"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8159FE7E-4011-4297-A5A5-64850666F9E9}"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088F6A43-F813-40DC-969E-4191D533396E}"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66E230EC-33B5-4F87-A881-4D73E9753C51}"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7A36C738-5FC1-4DFA-9C93-B77D687857E1}"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8BABB8E1-36BA-4552-9CF7-2BFCC540AA51}"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79615E3F-85B3-4C47-AB6D-2F1F3E92CA27}"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82C9BF1B-3623-431E-8524-1627DBD68CF1}"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2A3B560A-4663-4C6A-AB4B-F14B917F3312}"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29372EC8-D95E-4546-8DA0-DF378A3F607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18B0F-FBA0-4311-AA92-EBF97045B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C7C09396-3EE9-44ED-A7BE-CB090BA1AB17}"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107A43F6-6373-45F4-8880-5CFC004C52B2}"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79BA306E-82F8-4FB5-B19C-542A17D16E6E}"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EC8FB555-C71A-4962-8D38-555BAB1570E4}"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7F94CED6-D4A4-4639-973D-70A5731190A2}"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D3B9A189-C985-4DF8-9DB1-C3513B9237B5}"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32231C4C-66CC-44B6-949F-A6388E06870B}"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0DE87D5D-3D8B-4FED-91D5-EAF8C7A7706B}"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3431DEDF-8BC4-468D-A3A5-52F96605470D}"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2BEB6309-5120-4788-8586-5F51FB0905E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06DCAC-0B70-4583-9609-17EB6D2E8BD0}"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099A0D50-34E5-4DAA-91CB-2F407F0113A6}"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C6E19DDA-8EFD-41EA-B59D-5A539AA78847}"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17CA07B5-78FE-4EC4-A8B4-BA223307FF19}"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E3E67BD8-3847-4026-9650-B448FDAFC338}"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D473A4A1-A0BD-4FAE-9080-B510F568A3E3}"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403853BB-570D-4693-97D2-C2390EB0E61C}"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AB4299E2-C2ED-4425-B0E8-4427190CCBAB}"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F9F08CFF-CF46-4F5D-9514-E282E5DFA59F}"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3"/>
          </p:nvPr>
        </p:nvSpPr>
        <p:spPr/>
        <p:txBody>
          <a:bodyPr/>
          <a:p>
            <a:fld id="{231CCFB8-5DEE-4FB4-BAA1-8592B359B1AF}"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E3DF1FD9-AB46-4EE4-B765-67AFB1DF5B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C38A97-DEE0-47D0-97FA-2A9B5CCA06CC}"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E5D52C06-FAA6-45F1-A4EB-B38D464486DF}"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DF9284DD-A6AB-4BB1-B574-A6B5279E1941}"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9E0DE325-6B77-4C80-AA7A-D52C73CEB752}"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3"/>
          </p:nvPr>
        </p:nvSpPr>
        <p:spPr/>
        <p:txBody>
          <a:bodyPr/>
          <a:p>
            <a:fld id="{2BC9EF29-BA88-4FD2-9BE4-E3A94DE2DD7A}"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3"/>
          </p:nvPr>
        </p:nvSpPr>
        <p:spPr/>
        <p:txBody>
          <a:bodyPr/>
          <a:p>
            <a:fld id="{1130F4EE-13D7-4C04-BDA3-6730378D7E51}"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0301369-F729-4145-98EC-08D06826C1A0}"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1E8FE585-4D15-4F1B-8417-E67B7D1E6A5E}"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1C28628C-6A7A-41F5-8159-4343F5260D67}"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6B73E670-D697-402E-A15C-08F0A8663772}"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28016A28-E233-49ED-AEA2-8A6B1744131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61D47A5-C115-489C-B7C8-BCC5BD83A5C6}"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08D6F29C-D8CC-47CA-BD51-9D049965152B}"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FCDDB616-61A4-4988-A143-CE0B9B70E1C4}"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5D0D6DEC-CFD0-466A-9D3A-47EE57CE605B}"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4D896C57-D251-4D84-AB24-307714912AA6}"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000E3E34-B1F6-4793-AE6A-C6F7CB9BE6EA}"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ADD6C059-416B-426E-A13F-CA3AC2CBED49}"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F7581DDE-7984-4FAF-A518-78506785B635}"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14274F2E-C995-4823-A665-195631CAC206}"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39E43854-02B9-41BD-AE2E-D9F85AB4A929}"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CEB727B0-C1C8-4412-A3C8-DAB796CE31A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002EF4A-0A61-4C12-A829-B8AE72E99753}"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AFC5FFB5-926D-440E-A612-55B757CDFF6B}"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C8853BD2-DC91-4BD8-BDA8-3537BA9479C2}"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58DCEFD8-2220-4841-9FD9-55FBF47DD436}"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D51E41C3-0643-425D-9375-DA1F79BB88FA}"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2E3C0F85-EEBB-41D3-A2E3-AB305E5F0CF1}"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FE12595D-9D77-437F-AB60-9709AD060689}"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0E148619-7366-453D-B74A-E3A71A33557A}"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C34A6579-F846-48EF-9E73-358198AF063A}"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7EC2C328-7D78-46FC-8056-356257E25082}"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00528FDA-B63A-472A-8843-528C5D35288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81D6A2F-F974-4652-BB95-F4AB6C7654E1}"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F77AFCA8-F681-4FB9-A7B4-7ECC3D6A14BD}"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4A1CED94-2A88-4F73-A7AA-F9398AEF8F00}"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BCC2DBF1-D94E-4BA7-844F-A407940904DE}"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DCD860CB-6480-4716-811C-EEEDC06224EF}"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824B6F97-5C58-48E8-9EBC-84AD767DCF77}"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2ECCA8FB-4F3E-4C08-87A1-87B3493EC59F}"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E59B4379-AB14-4A89-A461-9963A45DFA85}"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35774695-FFB9-49BB-AD0A-FDF5E84541C1}"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90253FDB-2256-4146-A612-43B01ADA6B89}"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8C2E1B19-E620-42AF-98D6-F2D7702A94C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64C3A9F-C45A-4A09-A590-91A07C9449B5}"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7D165ADC-69D1-48C1-B33B-1225A27E9BDE}"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87598661-8BAA-4A49-A799-86EFA4661D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23D02D8-9E57-4B87-A8ED-AD5A7A360D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102EFB4-7245-4714-AD6F-DC28752656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755B304-9B71-4710-9E25-0540F50A26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48EAF60-15F1-487D-98D9-AF962D7908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1D67A7D-B1AB-4F46-9832-ACD2EA263C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A743707-E803-407D-A555-E5195113D0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F2798AA-36D0-4D94-9E7A-DCE90545F5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B5B48A9-796D-4F8B-B663-F001255B1E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EF0826D-25E2-45E4-BEE1-74396C83D10D}"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3AF089F-A3A7-40EF-8EA1-7083A03AED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E7A6A751-2D44-48F6-9EFA-A8B5484E80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6307E58-1533-4485-B964-E396238C7E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4F9C8CDF-46D1-4EB0-AE28-938BEB36BF01}"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56C5D610-03BE-4565-95B6-DEDF95C588E6}"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E349C0AE-450F-456D-A8D1-FB74A1E6142F}"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5128C128-A316-4E31-AE82-18FDED4788E3}"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8049C26B-909E-4949-8E8E-B1E46CFE08D5}"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D167BB62-9654-403B-A378-2B24162F4529}"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DF69C8EE-2991-422B-87BC-D4F94DBC587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68A5B2C-5985-451D-BFC3-3E6181C8D1DA}"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1D4F7F0D-E3ED-4AE9-B801-ED747804AD71}"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B8CDEE66-16D4-4967-A993-82C27146536C}"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FBBE831A-AABB-4D21-BFE4-33C9B231B82B}"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67D2A394-715E-4AED-93DF-A13B2FC91CBF}"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5D4969CF-10A0-4C88-9700-8550A02D4DCE}"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A5C09364-2E78-436F-B120-40DC6CAF6AC1}"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BEEB00AF-2660-40A7-A80D-D52D01EE940B}"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3F750AE2-648D-4DAB-B8B9-5C295A103C43}"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9E824B0B-D140-4364-B3FD-09A2D102B004}"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86FED089-8F49-4322-A179-93D63AAD02C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9D7EC95-B37A-4771-88F9-15169AC94DF1}"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D6B1BA04-ACCC-44C3-A954-1A46176E14E8}"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A251A30E-1A43-45BB-84CA-ED972E9B2C42}"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CD3A322D-3863-42BB-B0B6-5E817CDC891A}"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F3FC72A6-5F49-48E7-8159-1FEE0CBED7E1}"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2AFA8611-5B8A-4E23-8C92-666AE0D71D7E}"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AA46BCD1-32EF-4700-9D1B-497FD3FCF525}"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29F67349-F00C-4D8B-9AC0-26496C02DCD7}"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2235362D-6347-4018-8E2D-439FA8BF3D40}"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1B5B9FD0-5191-47F3-8973-9DAE6E6CBEB5}"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A9409377-FA71-4D04-823D-F02B5BA8628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4A177B5-0E5B-48F5-866A-7FDF075122C5}"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A5F3472C-5EEB-4E64-89D9-886D794FFC05}"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8DF8C715-5C09-4B7B-87E1-F792E64CE7B6}"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051E2E62-724A-42BB-A6AB-C25229BB80E6}"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ED22509F-E43A-4C53-A33D-0A021F916799}"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E4E892F2-862B-49DD-B860-E208DF178F5D}"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E9CE61DA-9F0D-4F38-BB03-9828866F81BE}"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AE8FD557-B946-42D0-AFE7-E0B8CD8CA0D8}"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F3B1FF13-3D31-4E3C-AA37-70E6FE59670A}"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9C04043D-7B51-4B17-BC77-3D7B1144BB42}"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CC1AB401-6F04-4CF3-A476-A7D2393694E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D71CAF8-1431-4D00-8171-3D1BDAEAAD50}"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62A40E0A-0AA6-4C78-8D81-0241EF9CC803}"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CC5502C2-A0BA-4641-AF94-C7DFD0A72798}"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EC93A92D-13B6-471C-9437-244DA17619ED}"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814EA2BE-EB7F-446F-A3B8-B78092F5A72E}"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57D65828-4869-485E-B787-9CC2341D53F7}"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02CF1FD5-ABEF-47D0-A1F8-0F08E7F89A7D}"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24B9DA5F-2C5E-46E3-9116-C34375680123}"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079B1DBE-83D6-48C3-B888-C9F309888FF2}"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D1605861-38A1-4ED9-BA53-3BE41957E1A4}"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99B9915B-8D18-4DD5-A1E6-8C656224ED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39CC65D-E76A-474E-BDF2-E99A561DC48E}"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2455F1E3-22D4-4E84-BB55-AA837241AA56}"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BAE7C538-6564-43F4-868B-2AD05671C8A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FAB6A30-350B-403A-9236-A76442A5EBF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D0B8112-49AD-47C6-93BD-EF3A4A2D592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99B3661-1BF3-4455-B00F-561BB856AB6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BB89696-75CF-44DF-AFB5-D05606DEDD2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8B67E9A-FB85-449F-8301-7707D3755CE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EA0986D-21F1-4FF5-9842-602E9CC21ED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6039097-41E6-4597-A7D3-A91FC408972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CEC9BE0-521B-49FA-825D-E0431947992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0BC34B9-3E46-4E83-B206-9884A6A68576}"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2C809A6-7549-4D60-A4BB-A180AF9FA72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FB8D545F-D425-45DE-9072-87FD4E777D93}"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975D7FA2-A7C8-4439-B468-67F7AE77DD27}"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34957F-261A-4397-AC34-200303585BA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B528798-F219-4EEB-AEBA-E963574D871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2C0B3F-E198-42F9-AF95-39E327C9BBD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FE7C9F9-754A-455A-867B-665DEDCB8E8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139EB57-51D8-4493-AE0D-930BD9133C1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A2C2423-920E-4A2E-A0CC-7C0353A54E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E1CE38E-1994-4398-A821-D1CAD941763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8EEA503-74FF-4360-84FF-6332602F78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45BF561-0825-451C-BB01-8B1B94BA577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69F7D54-8D67-4F97-A9F6-A25B49D6973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F2690D4-A359-43D9-9D07-E871080E016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B841B4B-CD58-4220-BD4F-8027046E194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FAEDFAE-8803-45DD-A228-7C989AC4FFF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688EFC8-21E4-486A-822F-20CDBFDC53C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3383525-063C-4479-B2BF-1D2B6121D22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BFDD7973-B12B-4313-B2BE-9688ED163D1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C716633-718C-4EBF-95DE-B7FFB7992DE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8078B1B-D67B-447C-ABB1-1BEC88702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7150A78-CDFD-4A3A-A55F-0630938839E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D9AFF7-A80D-4994-AA55-CC09605910F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F818FA5-6AF0-4152-BDEA-578CF10AD6B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73C1992-95F9-4763-BD8B-57FC37378A0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9C68D9C-EA41-4B1A-8A1A-DFBD931E957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1B64CC6-406A-4CA0-A280-57A5ACD5B3E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8E87AF6-BE40-40B2-A442-B5902603818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B7740FB-2C77-4EB3-955E-54CFBF2133B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1A0D6D0-1B79-4C6D-BD7E-0923C554F5A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334EFCF4-9C82-4E2A-93B6-A459138841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AFAA77E-559F-4FF0-8CA5-210FA4BC0E1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C99972E-13E8-4576-A1BE-ECC3D9531B3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2771945-11ED-43AE-88E7-9272F18A62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BA8E214-8FB9-46C6-BB7D-58D09674244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0E8E466-E9C6-444F-B6EE-3A33A62694C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A655A673-9808-46D7-A5D8-8595A9B1845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E0D0D5E6-0593-42B3-9273-1D8041E0BDC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954DFA-A532-42A8-8112-A5F12D3A054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370114E-B84E-4E57-A3BB-0F3DF74523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1870E02-9ABC-4934-A04A-92552C95AD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4B152-7582-4F65-80C3-95C053A08C4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DD116-B453-4DE0-8E04-FEEC10915C0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pic>
        <p:nvPicPr>
          <p:cNvPr id="435" name="Picture 8" descr="shadow_rule.jpg"/>
          <p:cNvPicPr/>
          <p:nvPr/>
        </p:nvPicPr>
        <p:blipFill>
          <a:blip r:embed="rId3"/>
          <a:stretch/>
        </p:blipFill>
        <p:spPr>
          <a:xfrm>
            <a:off x="2394000" y="1371600"/>
            <a:ext cx="349200" cy="4648320"/>
          </a:xfrm>
          <a:prstGeom prst="rect">
            <a:avLst/>
          </a:prstGeom>
          <a:ln w="0">
            <a:noFill/>
          </a:ln>
        </p:spPr>
      </p:pic>
      <p:sp>
        <p:nvSpPr>
          <p:cNvPr id="436"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6CA4A-2A2E-40CD-A48D-5B2CA589B8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bkg1.jpg"/>
          <p:cNvPicPr/>
          <p:nvPr/>
        </p:nvPicPr>
        <p:blipFill>
          <a:blip r:embed="rId2"/>
          <a:stretch/>
        </p:blipFill>
        <p:spPr>
          <a:xfrm>
            <a:off x="0" y="1440"/>
            <a:ext cx="9144000" cy="6855120"/>
          </a:xfrm>
          <a:prstGeom prst="rect">
            <a:avLst/>
          </a:prstGeom>
          <a:ln w="0">
            <a:noFill/>
          </a:ln>
        </p:spPr>
      </p:pic>
      <p:pic>
        <p:nvPicPr>
          <p:cNvPr id="474" name="Picture 8" descr="shadow_rule.jpg"/>
          <p:cNvPicPr/>
          <p:nvPr/>
        </p:nvPicPr>
        <p:blipFill>
          <a:blip r:embed="rId3"/>
          <a:stretch/>
        </p:blipFill>
        <p:spPr>
          <a:xfrm>
            <a:off x="2394000" y="1371600"/>
            <a:ext cx="349200" cy="4648320"/>
          </a:xfrm>
          <a:prstGeom prst="rect">
            <a:avLst/>
          </a:prstGeom>
          <a:ln w="0">
            <a:noFill/>
          </a:ln>
        </p:spPr>
      </p:pic>
      <p:sp>
        <p:nvSpPr>
          <p:cNvPr id="475"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FC3C6-ABCA-449E-B162-0BEBB7A0BB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pic>
        <p:nvPicPr>
          <p:cNvPr id="513" name="Picture 8" descr="shadow_rule.jpg"/>
          <p:cNvPicPr/>
          <p:nvPr/>
        </p:nvPicPr>
        <p:blipFill>
          <a:blip r:embed="rId3"/>
          <a:stretch/>
        </p:blipFill>
        <p:spPr>
          <a:xfrm>
            <a:off x="2394000" y="1371600"/>
            <a:ext cx="349200" cy="4648320"/>
          </a:xfrm>
          <a:prstGeom prst="rect">
            <a:avLst/>
          </a:prstGeom>
          <a:ln w="0">
            <a:noFill/>
          </a:ln>
        </p:spPr>
      </p:pic>
      <p:sp>
        <p:nvSpPr>
          <p:cNvPr id="514"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49888-77E3-486B-BCAB-5C00602424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10" descr="bkg1.jpg"/>
          <p:cNvPicPr/>
          <p:nvPr/>
        </p:nvPicPr>
        <p:blipFill>
          <a:blip r:embed="rId2"/>
          <a:stretch/>
        </p:blipFill>
        <p:spPr>
          <a:xfrm>
            <a:off x="0" y="1440"/>
            <a:ext cx="9144000" cy="6855120"/>
          </a:xfrm>
          <a:prstGeom prst="rect">
            <a:avLst/>
          </a:prstGeom>
          <a:ln w="0">
            <a:noFill/>
          </a:ln>
        </p:spPr>
      </p:pic>
      <p:pic>
        <p:nvPicPr>
          <p:cNvPr id="552" name="Picture 8" descr="shadow_rule.jpg"/>
          <p:cNvPicPr/>
          <p:nvPr/>
        </p:nvPicPr>
        <p:blipFill>
          <a:blip r:embed="rId3"/>
          <a:stretch/>
        </p:blipFill>
        <p:spPr>
          <a:xfrm>
            <a:off x="2394000" y="1371600"/>
            <a:ext cx="349200" cy="4648320"/>
          </a:xfrm>
          <a:prstGeom prst="rect">
            <a:avLst/>
          </a:prstGeom>
          <a:ln w="0">
            <a:noFill/>
          </a:ln>
        </p:spPr>
      </p:pic>
      <p:sp>
        <p:nvSpPr>
          <p:cNvPr id="553"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6754C-71DB-406E-8732-4FA066732AD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10" descr="bkg1.jpg"/>
          <p:cNvPicPr/>
          <p:nvPr/>
        </p:nvPicPr>
        <p:blipFill>
          <a:blip r:embed="rId2"/>
          <a:stretch/>
        </p:blipFill>
        <p:spPr>
          <a:xfrm>
            <a:off x="0" y="1440"/>
            <a:ext cx="9144000" cy="6855120"/>
          </a:xfrm>
          <a:prstGeom prst="rect">
            <a:avLst/>
          </a:prstGeom>
          <a:ln w="0">
            <a:noFill/>
          </a:ln>
        </p:spPr>
      </p:pic>
      <p:pic>
        <p:nvPicPr>
          <p:cNvPr id="591" name="Picture 8" descr="shadow_rule.jpg"/>
          <p:cNvPicPr/>
          <p:nvPr/>
        </p:nvPicPr>
        <p:blipFill>
          <a:blip r:embed="rId3"/>
          <a:stretch/>
        </p:blipFill>
        <p:spPr>
          <a:xfrm>
            <a:off x="2394000" y="1371600"/>
            <a:ext cx="349200" cy="4648320"/>
          </a:xfrm>
          <a:prstGeom prst="rect">
            <a:avLst/>
          </a:prstGeom>
          <a:ln w="0">
            <a:noFill/>
          </a:ln>
        </p:spPr>
      </p:pic>
      <p:sp>
        <p:nvSpPr>
          <p:cNvPr id="592"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PlaceHolder 3"/>
          <p:cNvSpPr>
            <a:spLocks noGrp="1"/>
          </p:cNvSpPr>
          <p:nvPr>
            <p:ph type="sldNum" idx="1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7A581-D2FF-4793-A8ED-DC09AD1AB5C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bkg1.jpg"/>
          <p:cNvPicPr/>
          <p:nvPr/>
        </p:nvPicPr>
        <p:blipFill>
          <a:blip r:embed="rId2"/>
          <a:stretch/>
        </p:blipFill>
        <p:spPr>
          <a:xfrm>
            <a:off x="0" y="1440"/>
            <a:ext cx="9144000" cy="6855120"/>
          </a:xfrm>
          <a:prstGeom prst="rect">
            <a:avLst/>
          </a:prstGeom>
          <a:ln w="0">
            <a:noFill/>
          </a:ln>
        </p:spPr>
      </p:pic>
      <p:pic>
        <p:nvPicPr>
          <p:cNvPr id="632" name="Picture 8" descr="shadow_rule.jpg"/>
          <p:cNvPicPr/>
          <p:nvPr/>
        </p:nvPicPr>
        <p:blipFill>
          <a:blip r:embed="rId3"/>
          <a:stretch/>
        </p:blipFill>
        <p:spPr>
          <a:xfrm>
            <a:off x="2394000" y="1371600"/>
            <a:ext cx="349200" cy="4648320"/>
          </a:xfrm>
          <a:prstGeom prst="rect">
            <a:avLst/>
          </a:prstGeom>
          <a:ln w="0">
            <a:noFill/>
          </a:ln>
        </p:spPr>
      </p:pic>
      <p:sp>
        <p:nvSpPr>
          <p:cNvPr id="633" name="PlaceHolder 1"/>
          <p:cNvSpPr>
            <a:spLocks noGrp="1"/>
          </p:cNvSpPr>
          <p:nvPr>
            <p:ph type="sldNum" idx="1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081CE-8661-457F-8B9C-2DDA11319FED}"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Picture 10" descr="bkg1.jpg"/>
          <p:cNvPicPr/>
          <p:nvPr/>
        </p:nvPicPr>
        <p:blipFill>
          <a:blip r:embed="rId2"/>
          <a:stretch/>
        </p:blipFill>
        <p:spPr>
          <a:xfrm>
            <a:off x="0" y="1440"/>
            <a:ext cx="9144000" cy="6855120"/>
          </a:xfrm>
          <a:prstGeom prst="rect">
            <a:avLst/>
          </a:prstGeom>
          <a:ln w="0">
            <a:noFill/>
          </a:ln>
        </p:spPr>
      </p:pic>
      <p:pic>
        <p:nvPicPr>
          <p:cNvPr id="671" name="Picture 8" descr="shadow_rule.jpg"/>
          <p:cNvPicPr/>
          <p:nvPr/>
        </p:nvPicPr>
        <p:blipFill>
          <a:blip r:embed="rId3"/>
          <a:stretch/>
        </p:blipFill>
        <p:spPr>
          <a:xfrm>
            <a:off x="2394000" y="1371600"/>
            <a:ext cx="349200" cy="4648320"/>
          </a:xfrm>
          <a:prstGeom prst="rect">
            <a:avLst/>
          </a:prstGeom>
          <a:ln w="0">
            <a:noFill/>
          </a:ln>
        </p:spPr>
      </p:pic>
      <p:sp>
        <p:nvSpPr>
          <p:cNvPr id="672" name="PlaceHolder 1"/>
          <p:cNvSpPr>
            <a:spLocks noGrp="1"/>
          </p:cNvSpPr>
          <p:nvPr>
            <p:ph type="sldNum" idx="1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1BF77-DFB0-4058-B6F7-192D2C5BC8F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10" descr="bkg1.jpg"/>
          <p:cNvPicPr/>
          <p:nvPr/>
        </p:nvPicPr>
        <p:blipFill>
          <a:blip r:embed="rId2"/>
          <a:stretch/>
        </p:blipFill>
        <p:spPr>
          <a:xfrm>
            <a:off x="0" y="1440"/>
            <a:ext cx="9144000" cy="6855120"/>
          </a:xfrm>
          <a:prstGeom prst="rect">
            <a:avLst/>
          </a:prstGeom>
          <a:ln w="0">
            <a:noFill/>
          </a:ln>
        </p:spPr>
      </p:pic>
      <p:pic>
        <p:nvPicPr>
          <p:cNvPr id="710" name="Picture 8" descr="shadow_rule.jpg"/>
          <p:cNvPicPr/>
          <p:nvPr/>
        </p:nvPicPr>
        <p:blipFill>
          <a:blip r:embed="rId3"/>
          <a:stretch/>
        </p:blipFill>
        <p:spPr>
          <a:xfrm>
            <a:off x="2394000" y="1371600"/>
            <a:ext cx="349200" cy="4648320"/>
          </a:xfrm>
          <a:prstGeom prst="rect">
            <a:avLst/>
          </a:prstGeom>
          <a:ln w="0">
            <a:noFill/>
          </a:ln>
        </p:spPr>
      </p:pic>
      <p:sp>
        <p:nvSpPr>
          <p:cNvPr id="711" name="PlaceHolder 1"/>
          <p:cNvSpPr>
            <a:spLocks noGrp="1"/>
          </p:cNvSpPr>
          <p:nvPr>
            <p:ph type="sldNum" idx="2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C04FF-1076-4BAF-A0CA-DED6EB179BC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0" descr="bkg1.jpg"/>
          <p:cNvPicPr/>
          <p:nvPr/>
        </p:nvPicPr>
        <p:blipFill>
          <a:blip r:embed="rId2"/>
          <a:stretch/>
        </p:blipFill>
        <p:spPr>
          <a:xfrm>
            <a:off x="0" y="1440"/>
            <a:ext cx="9144000" cy="6855120"/>
          </a:xfrm>
          <a:prstGeom prst="rect">
            <a:avLst/>
          </a:prstGeom>
          <a:ln w="0">
            <a:noFill/>
          </a:ln>
        </p:spPr>
      </p:pic>
      <p:pic>
        <p:nvPicPr>
          <p:cNvPr id="749" name="Picture 8" descr="shadow_rule.jpg"/>
          <p:cNvPicPr/>
          <p:nvPr/>
        </p:nvPicPr>
        <p:blipFill>
          <a:blip r:embed="rId3"/>
          <a:stretch/>
        </p:blipFill>
        <p:spPr>
          <a:xfrm>
            <a:off x="2394000" y="1371600"/>
            <a:ext cx="349200" cy="4648320"/>
          </a:xfrm>
          <a:prstGeom prst="rect">
            <a:avLst/>
          </a:prstGeom>
          <a:ln w="0">
            <a:noFill/>
          </a:ln>
        </p:spPr>
      </p:pic>
      <p:sp>
        <p:nvSpPr>
          <p:cNvPr id="750" name="PlaceHolder 1"/>
          <p:cNvSpPr>
            <a:spLocks noGrp="1"/>
          </p:cNvSpPr>
          <p:nvPr>
            <p:ph type="sldNum" idx="2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A300F-E30C-433B-876A-38FAD06A95C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10" descr="bkg1.jpg"/>
          <p:cNvPicPr/>
          <p:nvPr/>
        </p:nvPicPr>
        <p:blipFill>
          <a:blip r:embed="rId2"/>
          <a:stretch/>
        </p:blipFill>
        <p:spPr>
          <a:xfrm>
            <a:off x="0" y="1440"/>
            <a:ext cx="9144000" cy="6855120"/>
          </a:xfrm>
          <a:prstGeom prst="rect">
            <a:avLst/>
          </a:prstGeom>
          <a:ln w="0">
            <a:noFill/>
          </a:ln>
        </p:spPr>
      </p:pic>
      <p:pic>
        <p:nvPicPr>
          <p:cNvPr id="788" name="Picture 8" descr="shadow_rule.jpg"/>
          <p:cNvPicPr/>
          <p:nvPr/>
        </p:nvPicPr>
        <p:blipFill>
          <a:blip r:embed="rId3"/>
          <a:stretch/>
        </p:blipFill>
        <p:spPr>
          <a:xfrm>
            <a:off x="2394000" y="1371600"/>
            <a:ext cx="349200" cy="4648320"/>
          </a:xfrm>
          <a:prstGeom prst="rect">
            <a:avLst/>
          </a:prstGeom>
          <a:ln w="0">
            <a:noFill/>
          </a:ln>
        </p:spPr>
      </p:pic>
      <p:sp>
        <p:nvSpPr>
          <p:cNvPr id="789" name="PlaceHolder 1"/>
          <p:cNvSpPr>
            <a:spLocks noGrp="1"/>
          </p:cNvSpPr>
          <p:nvPr>
            <p:ph type="sldNum" idx="2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2D6127-4597-4E00-954A-084E8865D30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10" descr="bkg1.jpg"/>
          <p:cNvPicPr/>
          <p:nvPr/>
        </p:nvPicPr>
        <p:blipFill>
          <a:blip r:embed="rId2"/>
          <a:stretch/>
        </p:blipFill>
        <p:spPr>
          <a:xfrm>
            <a:off x="0" y="1440"/>
            <a:ext cx="9144000" cy="6855120"/>
          </a:xfrm>
          <a:prstGeom prst="rect">
            <a:avLst/>
          </a:prstGeom>
          <a:ln w="0">
            <a:noFill/>
          </a:ln>
        </p:spPr>
      </p:pic>
      <p:pic>
        <p:nvPicPr>
          <p:cNvPr id="827" name="Picture 8" descr="shadow_rule.jpg"/>
          <p:cNvPicPr/>
          <p:nvPr/>
        </p:nvPicPr>
        <p:blipFill>
          <a:blip r:embed="rId3"/>
          <a:stretch/>
        </p:blipFill>
        <p:spPr>
          <a:xfrm>
            <a:off x="2394000" y="1371600"/>
            <a:ext cx="349200" cy="4648320"/>
          </a:xfrm>
          <a:prstGeom prst="rect">
            <a:avLst/>
          </a:prstGeom>
          <a:ln w="0">
            <a:noFill/>
          </a:ln>
        </p:spPr>
      </p:pic>
      <p:sp>
        <p:nvSpPr>
          <p:cNvPr id="828" name="PlaceHolder 1"/>
          <p:cNvSpPr>
            <a:spLocks noGrp="1"/>
          </p:cNvSpPr>
          <p:nvPr>
            <p:ph type="sldNum" idx="2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EC495-76C7-4BD8-83D4-D6ED49523FC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Picture 10" descr="bkg1.jpg"/>
          <p:cNvPicPr/>
          <p:nvPr/>
        </p:nvPicPr>
        <p:blipFill>
          <a:blip r:embed="rId2"/>
          <a:stretch/>
        </p:blipFill>
        <p:spPr>
          <a:xfrm>
            <a:off x="0" y="1440"/>
            <a:ext cx="9144000" cy="6855120"/>
          </a:xfrm>
          <a:prstGeom prst="rect">
            <a:avLst/>
          </a:prstGeom>
          <a:ln w="0">
            <a:noFill/>
          </a:ln>
        </p:spPr>
      </p:pic>
      <p:pic>
        <p:nvPicPr>
          <p:cNvPr id="866" name="Picture 8" descr="shadow_rule.jpg"/>
          <p:cNvPicPr/>
          <p:nvPr/>
        </p:nvPicPr>
        <p:blipFill>
          <a:blip r:embed="rId3"/>
          <a:stretch/>
        </p:blipFill>
        <p:spPr>
          <a:xfrm>
            <a:off x="2394000" y="1371600"/>
            <a:ext cx="349200" cy="4648320"/>
          </a:xfrm>
          <a:prstGeom prst="rect">
            <a:avLst/>
          </a:prstGeom>
          <a:ln w="0">
            <a:noFill/>
          </a:ln>
        </p:spPr>
      </p:pic>
      <p:sp>
        <p:nvSpPr>
          <p:cNvPr id="867"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25147-DCA0-4ACF-A4A5-F897B817043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10" descr="bkg1.jpg"/>
          <p:cNvPicPr/>
          <p:nvPr/>
        </p:nvPicPr>
        <p:blipFill>
          <a:blip r:embed="rId2"/>
          <a:stretch/>
        </p:blipFill>
        <p:spPr>
          <a:xfrm>
            <a:off x="0" y="1440"/>
            <a:ext cx="9144000" cy="6855120"/>
          </a:xfrm>
          <a:prstGeom prst="rect">
            <a:avLst/>
          </a:prstGeom>
          <a:ln w="0">
            <a:noFill/>
          </a:ln>
        </p:spPr>
      </p:pic>
      <p:pic>
        <p:nvPicPr>
          <p:cNvPr id="905" name="Picture 8" descr="shadow_rule.jpg"/>
          <p:cNvPicPr/>
          <p:nvPr/>
        </p:nvPicPr>
        <p:blipFill>
          <a:blip r:embed="rId3"/>
          <a:stretch/>
        </p:blipFill>
        <p:spPr>
          <a:xfrm>
            <a:off x="2394000" y="1371600"/>
            <a:ext cx="349200" cy="4648320"/>
          </a:xfrm>
          <a:prstGeom prst="rect">
            <a:avLst/>
          </a:prstGeom>
          <a:ln w="0">
            <a:noFill/>
          </a:ln>
        </p:spPr>
      </p:pic>
      <p:sp>
        <p:nvSpPr>
          <p:cNvPr id="906"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6539F-35DB-4326-B4B4-76E5E3182B7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0" descr="bkg1.jpg"/>
          <p:cNvPicPr/>
          <p:nvPr/>
        </p:nvPicPr>
        <p:blipFill>
          <a:blip r:embed="rId2"/>
          <a:stretch/>
        </p:blipFill>
        <p:spPr>
          <a:xfrm>
            <a:off x="0" y="1440"/>
            <a:ext cx="9144000" cy="6855120"/>
          </a:xfrm>
          <a:prstGeom prst="rect">
            <a:avLst/>
          </a:prstGeom>
          <a:ln w="0">
            <a:noFill/>
          </a:ln>
        </p:spPr>
      </p:pic>
      <p:pic>
        <p:nvPicPr>
          <p:cNvPr id="944" name="Picture 8" descr="shadow_rule.jpg"/>
          <p:cNvPicPr/>
          <p:nvPr/>
        </p:nvPicPr>
        <p:blipFill>
          <a:blip r:embed="rId3"/>
          <a:stretch/>
        </p:blipFill>
        <p:spPr>
          <a:xfrm>
            <a:off x="2394000" y="1371600"/>
            <a:ext cx="349200" cy="4648320"/>
          </a:xfrm>
          <a:prstGeom prst="rect">
            <a:avLst/>
          </a:prstGeom>
          <a:ln w="0">
            <a:noFill/>
          </a:ln>
        </p:spPr>
      </p:pic>
      <p:sp>
        <p:nvSpPr>
          <p:cNvPr id="94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298D1-B2A1-497C-9EE9-5C05916792B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0" descr="bkg1.jpg"/>
          <p:cNvPicPr/>
          <p:nvPr/>
        </p:nvPicPr>
        <p:blipFill>
          <a:blip r:embed="rId2"/>
          <a:stretch/>
        </p:blipFill>
        <p:spPr>
          <a:xfrm>
            <a:off x="0" y="1440"/>
            <a:ext cx="9144000" cy="6855120"/>
          </a:xfrm>
          <a:prstGeom prst="rect">
            <a:avLst/>
          </a:prstGeom>
          <a:ln w="0">
            <a:noFill/>
          </a:ln>
        </p:spPr>
      </p:pic>
      <p:pic>
        <p:nvPicPr>
          <p:cNvPr id="983" name="Picture 8" descr="shadow_rule.jpg"/>
          <p:cNvPicPr/>
          <p:nvPr/>
        </p:nvPicPr>
        <p:blipFill>
          <a:blip r:embed="rId3"/>
          <a:stretch/>
        </p:blipFill>
        <p:spPr>
          <a:xfrm>
            <a:off x="2394000" y="1371600"/>
            <a:ext cx="349200" cy="4648320"/>
          </a:xfrm>
          <a:prstGeom prst="rect">
            <a:avLst/>
          </a:prstGeom>
          <a:ln w="0">
            <a:noFill/>
          </a:ln>
        </p:spPr>
      </p:pic>
      <p:sp>
        <p:nvSpPr>
          <p:cNvPr id="984" name="PlaceHolder 1"/>
          <p:cNvSpPr>
            <a:spLocks noGrp="1"/>
          </p:cNvSpPr>
          <p:nvPr>
            <p:ph type="sldNum" idx="2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B8A0D-4E50-48DC-A56E-F7C6A0D009D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0" descr="bkg1.jpg"/>
          <p:cNvPicPr/>
          <p:nvPr/>
        </p:nvPicPr>
        <p:blipFill>
          <a:blip r:embed="rId2"/>
          <a:stretch/>
        </p:blipFill>
        <p:spPr>
          <a:xfrm>
            <a:off x="0" y="1440"/>
            <a:ext cx="9144000" cy="6855120"/>
          </a:xfrm>
          <a:prstGeom prst="rect">
            <a:avLst/>
          </a:prstGeom>
          <a:ln w="0">
            <a:noFill/>
          </a:ln>
        </p:spPr>
      </p:pic>
      <p:pic>
        <p:nvPicPr>
          <p:cNvPr id="1022" name="Picture 8" descr="shadow_rule.jpg"/>
          <p:cNvPicPr/>
          <p:nvPr/>
        </p:nvPicPr>
        <p:blipFill>
          <a:blip r:embed="rId3"/>
          <a:stretch/>
        </p:blipFill>
        <p:spPr>
          <a:xfrm>
            <a:off x="2394000" y="1371600"/>
            <a:ext cx="349200" cy="4648320"/>
          </a:xfrm>
          <a:prstGeom prst="rect">
            <a:avLst/>
          </a:prstGeom>
          <a:ln w="0">
            <a:noFill/>
          </a:ln>
        </p:spPr>
      </p:pic>
      <p:sp>
        <p:nvSpPr>
          <p:cNvPr id="1023" name="PlaceHolder 1"/>
          <p:cNvSpPr>
            <a:spLocks noGrp="1"/>
          </p:cNvSpPr>
          <p:nvPr>
            <p:ph type="sldNum" idx="2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452F6-276C-48BF-B66D-6595501FCD4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0" descr="bkg1.jpg"/>
          <p:cNvPicPr/>
          <p:nvPr/>
        </p:nvPicPr>
        <p:blipFill>
          <a:blip r:embed="rId2"/>
          <a:stretch/>
        </p:blipFill>
        <p:spPr>
          <a:xfrm>
            <a:off x="0" y="1440"/>
            <a:ext cx="9144000" cy="6855120"/>
          </a:xfrm>
          <a:prstGeom prst="rect">
            <a:avLst/>
          </a:prstGeom>
          <a:ln w="0">
            <a:noFill/>
          </a:ln>
        </p:spPr>
      </p:pic>
      <p:pic>
        <p:nvPicPr>
          <p:cNvPr id="1061" name="Picture 8" descr="shadow_rule.jpg"/>
          <p:cNvPicPr/>
          <p:nvPr/>
        </p:nvPicPr>
        <p:blipFill>
          <a:blip r:embed="rId3"/>
          <a:stretch/>
        </p:blipFill>
        <p:spPr>
          <a:xfrm>
            <a:off x="2394000" y="1371600"/>
            <a:ext cx="349200" cy="4648320"/>
          </a:xfrm>
          <a:prstGeom prst="rect">
            <a:avLst/>
          </a:prstGeom>
          <a:ln w="0">
            <a:noFill/>
          </a:ln>
        </p:spPr>
      </p:pic>
      <p:sp>
        <p:nvSpPr>
          <p:cNvPr id="1062" name="PlaceHolder 1"/>
          <p:cNvSpPr>
            <a:spLocks noGrp="1"/>
          </p:cNvSpPr>
          <p:nvPr>
            <p:ph type="sldNum" idx="2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9446B-D941-455F-A828-31EDC4BFCB4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0" descr="bkg1.jpg"/>
          <p:cNvPicPr/>
          <p:nvPr/>
        </p:nvPicPr>
        <p:blipFill>
          <a:blip r:embed="rId2"/>
          <a:stretch/>
        </p:blipFill>
        <p:spPr>
          <a:xfrm>
            <a:off x="0" y="1440"/>
            <a:ext cx="9144000" cy="6855120"/>
          </a:xfrm>
          <a:prstGeom prst="rect">
            <a:avLst/>
          </a:prstGeom>
          <a:ln w="0">
            <a:noFill/>
          </a:ln>
        </p:spPr>
      </p:pic>
      <p:pic>
        <p:nvPicPr>
          <p:cNvPr id="1100" name="Picture 8" descr="shadow_rule.jpg"/>
          <p:cNvPicPr/>
          <p:nvPr/>
        </p:nvPicPr>
        <p:blipFill>
          <a:blip r:embed="rId3"/>
          <a:stretch/>
        </p:blipFill>
        <p:spPr>
          <a:xfrm>
            <a:off x="2394000" y="1371600"/>
            <a:ext cx="349200" cy="4648320"/>
          </a:xfrm>
          <a:prstGeom prst="rect">
            <a:avLst/>
          </a:prstGeom>
          <a:ln w="0">
            <a:noFill/>
          </a:ln>
        </p:spPr>
      </p:pic>
      <p:sp>
        <p:nvSpPr>
          <p:cNvPr id="1101" name="PlaceHolder 1"/>
          <p:cNvSpPr>
            <a:spLocks noGrp="1"/>
          </p:cNvSpPr>
          <p:nvPr>
            <p:ph type="sldNum" idx="3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6C6AE-2CA5-4CCD-AB38-528C2E03B86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0" descr="bkg1.jpg"/>
          <p:cNvPicPr/>
          <p:nvPr/>
        </p:nvPicPr>
        <p:blipFill>
          <a:blip r:embed="rId2"/>
          <a:stretch/>
        </p:blipFill>
        <p:spPr>
          <a:xfrm>
            <a:off x="0" y="1440"/>
            <a:ext cx="9144000" cy="6855120"/>
          </a:xfrm>
          <a:prstGeom prst="rect">
            <a:avLst/>
          </a:prstGeom>
          <a:ln w="0">
            <a:noFill/>
          </a:ln>
        </p:spPr>
      </p:pic>
      <p:pic>
        <p:nvPicPr>
          <p:cNvPr id="1139" name="Picture 8" descr="shadow_rule.jpg"/>
          <p:cNvPicPr/>
          <p:nvPr/>
        </p:nvPicPr>
        <p:blipFill>
          <a:blip r:embed="rId3"/>
          <a:stretch/>
        </p:blipFill>
        <p:spPr>
          <a:xfrm>
            <a:off x="2394000" y="1371600"/>
            <a:ext cx="349200" cy="4648320"/>
          </a:xfrm>
          <a:prstGeom prst="rect">
            <a:avLst/>
          </a:prstGeom>
          <a:ln w="0">
            <a:noFill/>
          </a:ln>
        </p:spPr>
      </p:pic>
      <p:sp>
        <p:nvSpPr>
          <p:cNvPr id="1140" name="PlaceHolder 1"/>
          <p:cNvSpPr>
            <a:spLocks noGrp="1"/>
          </p:cNvSpPr>
          <p:nvPr>
            <p:ph type="sldNum" idx="3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CF5A6-30E6-4718-A71F-86AF35979C3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0" descr="bkg1.jpg"/>
          <p:cNvPicPr/>
          <p:nvPr/>
        </p:nvPicPr>
        <p:blipFill>
          <a:blip r:embed="rId2"/>
          <a:stretch/>
        </p:blipFill>
        <p:spPr>
          <a:xfrm>
            <a:off x="0" y="1440"/>
            <a:ext cx="9144000" cy="6855120"/>
          </a:xfrm>
          <a:prstGeom prst="rect">
            <a:avLst/>
          </a:prstGeom>
          <a:ln w="0">
            <a:noFill/>
          </a:ln>
        </p:spPr>
      </p:pic>
      <p:pic>
        <p:nvPicPr>
          <p:cNvPr id="1178" name="Picture 8" descr="shadow_rule.jpg"/>
          <p:cNvPicPr/>
          <p:nvPr/>
        </p:nvPicPr>
        <p:blipFill>
          <a:blip r:embed="rId3"/>
          <a:stretch/>
        </p:blipFill>
        <p:spPr>
          <a:xfrm>
            <a:off x="2394000" y="1371600"/>
            <a:ext cx="349200" cy="4648320"/>
          </a:xfrm>
          <a:prstGeom prst="rect">
            <a:avLst/>
          </a:prstGeom>
          <a:ln w="0">
            <a:noFill/>
          </a:ln>
        </p:spPr>
      </p:pic>
      <p:sp>
        <p:nvSpPr>
          <p:cNvPr id="1179" name="PlaceHolder 1"/>
          <p:cNvSpPr>
            <a:spLocks noGrp="1"/>
          </p:cNvSpPr>
          <p:nvPr>
            <p:ph type="sldNum" idx="3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95A59-FA24-4BB9-B4CF-1C7010E40F2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0" descr="bkg1.jpg"/>
          <p:cNvPicPr/>
          <p:nvPr/>
        </p:nvPicPr>
        <p:blipFill>
          <a:blip r:embed="rId2"/>
          <a:stretch/>
        </p:blipFill>
        <p:spPr>
          <a:xfrm>
            <a:off x="0" y="1440"/>
            <a:ext cx="9144000" cy="6855120"/>
          </a:xfrm>
          <a:prstGeom prst="rect">
            <a:avLst/>
          </a:prstGeom>
          <a:ln w="0">
            <a:noFill/>
          </a:ln>
        </p:spPr>
      </p:pic>
      <p:pic>
        <p:nvPicPr>
          <p:cNvPr id="1217" name="Picture 8" descr="shadow_rule.jpg"/>
          <p:cNvPicPr/>
          <p:nvPr/>
        </p:nvPicPr>
        <p:blipFill>
          <a:blip r:embed="rId3"/>
          <a:stretch/>
        </p:blipFill>
        <p:spPr>
          <a:xfrm>
            <a:off x="2394000" y="1371600"/>
            <a:ext cx="349200" cy="4648320"/>
          </a:xfrm>
          <a:prstGeom prst="rect">
            <a:avLst/>
          </a:prstGeom>
          <a:ln w="0">
            <a:noFill/>
          </a:ln>
        </p:spPr>
      </p:pic>
      <p:sp>
        <p:nvSpPr>
          <p:cNvPr id="1218" name="PlaceHolder 1"/>
          <p:cNvSpPr>
            <a:spLocks noGrp="1"/>
          </p:cNvSpPr>
          <p:nvPr>
            <p:ph type="sldNum" idx="3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39527-3CBC-4EC5-98AD-10A09BD6CCE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0" descr="bkg1.jpg"/>
          <p:cNvPicPr/>
          <p:nvPr/>
        </p:nvPicPr>
        <p:blipFill>
          <a:blip r:embed="rId2"/>
          <a:stretch/>
        </p:blipFill>
        <p:spPr>
          <a:xfrm>
            <a:off x="0" y="1440"/>
            <a:ext cx="9144000" cy="6855120"/>
          </a:xfrm>
          <a:prstGeom prst="rect">
            <a:avLst/>
          </a:prstGeom>
          <a:ln w="0">
            <a:noFill/>
          </a:ln>
        </p:spPr>
      </p:pic>
      <p:pic>
        <p:nvPicPr>
          <p:cNvPr id="1256" name="Picture 8" descr="shadow_rule.jpg"/>
          <p:cNvPicPr/>
          <p:nvPr/>
        </p:nvPicPr>
        <p:blipFill>
          <a:blip r:embed="rId3"/>
          <a:stretch/>
        </p:blipFill>
        <p:spPr>
          <a:xfrm>
            <a:off x="2394000" y="1371600"/>
            <a:ext cx="349200" cy="4648320"/>
          </a:xfrm>
          <a:prstGeom prst="rect">
            <a:avLst/>
          </a:prstGeom>
          <a:ln w="0">
            <a:noFill/>
          </a:ln>
        </p:spPr>
      </p:pic>
      <p:sp>
        <p:nvSpPr>
          <p:cNvPr id="1257" name="PlaceHolder 1"/>
          <p:cNvSpPr>
            <a:spLocks noGrp="1"/>
          </p:cNvSpPr>
          <p:nvPr>
            <p:ph type="sldNum" idx="3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407CD-2929-42DC-B4CC-CC196F0360F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0" descr="bkg1.jpg"/>
          <p:cNvPicPr/>
          <p:nvPr/>
        </p:nvPicPr>
        <p:blipFill>
          <a:blip r:embed="rId2"/>
          <a:stretch/>
        </p:blipFill>
        <p:spPr>
          <a:xfrm>
            <a:off x="0" y="1440"/>
            <a:ext cx="9144000" cy="6855120"/>
          </a:xfrm>
          <a:prstGeom prst="rect">
            <a:avLst/>
          </a:prstGeom>
          <a:ln w="0">
            <a:noFill/>
          </a:ln>
        </p:spPr>
      </p:pic>
      <p:pic>
        <p:nvPicPr>
          <p:cNvPr id="1295" name="Picture 8" descr="shadow_rule.jpg"/>
          <p:cNvPicPr/>
          <p:nvPr/>
        </p:nvPicPr>
        <p:blipFill>
          <a:blip r:embed="rId3"/>
          <a:stretch/>
        </p:blipFill>
        <p:spPr>
          <a:xfrm>
            <a:off x="2394000" y="1371600"/>
            <a:ext cx="349200" cy="4648320"/>
          </a:xfrm>
          <a:prstGeom prst="rect">
            <a:avLst/>
          </a:prstGeom>
          <a:ln w="0">
            <a:noFill/>
          </a:ln>
        </p:spPr>
      </p:pic>
      <p:sp>
        <p:nvSpPr>
          <p:cNvPr id="1296" name="PlaceHolder 1"/>
          <p:cNvSpPr>
            <a:spLocks noGrp="1"/>
          </p:cNvSpPr>
          <p:nvPr>
            <p:ph type="sldNum" idx="35"/>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E568F-D8A3-4917-9961-80B5F5AAA63A}" type="slidenum">
              <a:rPr b="0" lang="en-US" sz="2400" spc="-1" strike="noStrike">
                <a:solidFill>
                  <a:srgbClr val="ffffff"/>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0" descr="bkg1.jpg"/>
          <p:cNvPicPr/>
          <p:nvPr/>
        </p:nvPicPr>
        <p:blipFill>
          <a:blip r:embed="rId2"/>
          <a:stretch/>
        </p:blipFill>
        <p:spPr>
          <a:xfrm>
            <a:off x="0" y="1440"/>
            <a:ext cx="9144000" cy="6855120"/>
          </a:xfrm>
          <a:prstGeom prst="rect">
            <a:avLst/>
          </a:prstGeom>
          <a:ln w="0">
            <a:noFill/>
          </a:ln>
        </p:spPr>
      </p:pic>
      <p:pic>
        <p:nvPicPr>
          <p:cNvPr id="1334" name="Picture 8" descr="shadow_rule.jpg"/>
          <p:cNvPicPr/>
          <p:nvPr/>
        </p:nvPicPr>
        <p:blipFill>
          <a:blip r:embed="rId3"/>
          <a:stretch/>
        </p:blipFill>
        <p:spPr>
          <a:xfrm>
            <a:off x="2394000" y="1371600"/>
            <a:ext cx="349200" cy="4648320"/>
          </a:xfrm>
          <a:prstGeom prst="rect">
            <a:avLst/>
          </a:prstGeom>
          <a:ln w="0">
            <a:noFill/>
          </a:ln>
        </p:spPr>
      </p:pic>
      <p:sp>
        <p:nvSpPr>
          <p:cNvPr id="1335" name="PlaceHolder 1"/>
          <p:cNvSpPr>
            <a:spLocks noGrp="1"/>
          </p:cNvSpPr>
          <p:nvPr>
            <p:ph type="sldNum" idx="3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8FE4A-5041-4605-8022-728BE27DABF8}"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0" descr="bkg1.jpg"/>
          <p:cNvPicPr/>
          <p:nvPr/>
        </p:nvPicPr>
        <p:blipFill>
          <a:blip r:embed="rId2"/>
          <a:stretch/>
        </p:blipFill>
        <p:spPr>
          <a:xfrm>
            <a:off x="0" y="1440"/>
            <a:ext cx="9144000" cy="6855120"/>
          </a:xfrm>
          <a:prstGeom prst="rect">
            <a:avLst/>
          </a:prstGeom>
          <a:ln w="0">
            <a:noFill/>
          </a:ln>
        </p:spPr>
      </p:pic>
      <p:pic>
        <p:nvPicPr>
          <p:cNvPr id="1373" name="Picture 8" descr="shadow_rule.jpg"/>
          <p:cNvPicPr/>
          <p:nvPr/>
        </p:nvPicPr>
        <p:blipFill>
          <a:blip r:embed="rId3"/>
          <a:stretch/>
        </p:blipFill>
        <p:spPr>
          <a:xfrm>
            <a:off x="2394000" y="1371600"/>
            <a:ext cx="349200" cy="4648320"/>
          </a:xfrm>
          <a:prstGeom prst="rect">
            <a:avLst/>
          </a:prstGeom>
          <a:ln w="0">
            <a:noFill/>
          </a:ln>
        </p:spPr>
      </p:pic>
      <p:sp>
        <p:nvSpPr>
          <p:cNvPr id="1374" name="PlaceHolder 1"/>
          <p:cNvSpPr>
            <a:spLocks noGrp="1"/>
          </p:cNvSpPr>
          <p:nvPr>
            <p:ph type="sldNum" idx="3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3FD43-E332-4719-8FBF-3948A6075C52}"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137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10" descr="bkg1.jpg"/>
          <p:cNvPicPr/>
          <p:nvPr/>
        </p:nvPicPr>
        <p:blipFill>
          <a:blip r:embed="rId2"/>
          <a:stretch/>
        </p:blipFill>
        <p:spPr>
          <a:xfrm>
            <a:off x="0" y="1440"/>
            <a:ext cx="9144000" cy="6855120"/>
          </a:xfrm>
          <a:prstGeom prst="rect">
            <a:avLst/>
          </a:prstGeom>
          <a:ln w="0">
            <a:noFill/>
          </a:ln>
        </p:spPr>
      </p:pic>
      <p:pic>
        <p:nvPicPr>
          <p:cNvPr id="1414" name="Picture 8" descr="shadow_rule.jpg"/>
          <p:cNvPicPr/>
          <p:nvPr/>
        </p:nvPicPr>
        <p:blipFill>
          <a:blip r:embed="rId3"/>
          <a:stretch/>
        </p:blipFill>
        <p:spPr>
          <a:xfrm>
            <a:off x="2394000" y="1371600"/>
            <a:ext cx="349200" cy="4648320"/>
          </a:xfrm>
          <a:prstGeom prst="rect">
            <a:avLst/>
          </a:prstGeom>
          <a:ln w="0">
            <a:noFill/>
          </a:ln>
        </p:spPr>
      </p:pic>
      <p:sp>
        <p:nvSpPr>
          <p:cNvPr id="1415" name="PlaceHolder 1"/>
          <p:cNvSpPr>
            <a:spLocks noGrp="1"/>
          </p:cNvSpPr>
          <p:nvPr>
            <p:ph type="sldNum" idx="3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CF798-1BFA-440B-B610-24D78C5A738F}"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10" descr="bkg1.jpg"/>
          <p:cNvPicPr/>
          <p:nvPr/>
        </p:nvPicPr>
        <p:blipFill>
          <a:blip r:embed="rId2"/>
          <a:stretch/>
        </p:blipFill>
        <p:spPr>
          <a:xfrm>
            <a:off x="0" y="1440"/>
            <a:ext cx="9144000" cy="6855120"/>
          </a:xfrm>
          <a:prstGeom prst="rect">
            <a:avLst/>
          </a:prstGeom>
          <a:ln w="0">
            <a:noFill/>
          </a:ln>
        </p:spPr>
      </p:pic>
      <p:sp>
        <p:nvSpPr>
          <p:cNvPr id="1453" name="PlaceHolder 1"/>
          <p:cNvSpPr>
            <a:spLocks noGrp="1"/>
          </p:cNvSpPr>
          <p:nvPr>
            <p:ph type="sldNum" idx="3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28D6D-6291-4CBE-9D71-6711A1DD2FD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0" name="Picture 10" descr="bkg1.jpg"/>
          <p:cNvPicPr/>
          <p:nvPr/>
        </p:nvPicPr>
        <p:blipFill>
          <a:blip r:embed="rId2"/>
          <a:stretch/>
        </p:blipFill>
        <p:spPr>
          <a:xfrm>
            <a:off x="0" y="1440"/>
            <a:ext cx="9144000" cy="6855120"/>
          </a:xfrm>
          <a:prstGeom prst="rect">
            <a:avLst/>
          </a:prstGeom>
          <a:ln w="0">
            <a:noFill/>
          </a:ln>
        </p:spPr>
      </p:pic>
      <p:sp>
        <p:nvSpPr>
          <p:cNvPr id="1491" name="PlaceHolder 1"/>
          <p:cNvSpPr>
            <a:spLocks noGrp="1"/>
          </p:cNvSpPr>
          <p:nvPr>
            <p:ph type="sldNum" idx="4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DA696-DCCD-42D2-9BDF-118B005817A4}" type="datetime">
              <a:rPr b="0" lang="en-US" sz="1200" spc="-1" strike="noStrike">
                <a:solidFill>
                  <a:srgbClr val="898989"/>
                </a:solidFill>
                <a:latin typeface="Trebuchet MS"/>
              </a:rPr>
              <a:t>07/31/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3A3A7-C151-4ACD-ABFE-C40BC7B0576E}"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0" descr="bkg1.jpg"/>
          <p:cNvPicPr/>
          <p:nvPr/>
        </p:nvPicPr>
        <p:blipFill>
          <a:blip r:embed="rId2"/>
          <a:stretch/>
        </p:blipFill>
        <p:spPr>
          <a:xfrm>
            <a:off x="0" y="1440"/>
            <a:ext cx="9144000" cy="6855120"/>
          </a:xfrm>
          <a:prstGeom prst="rect">
            <a:avLst/>
          </a:prstGeom>
          <a:ln w="0">
            <a:noFill/>
          </a:ln>
        </p:spPr>
      </p:pic>
      <p:sp>
        <p:nvSpPr>
          <p:cNvPr id="1529" name="PlaceHolder 1"/>
          <p:cNvSpPr>
            <a:spLocks noGrp="1"/>
          </p:cNvSpPr>
          <p:nvPr>
            <p:ph type="sldNum" idx="4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AD069-80AA-472B-80C7-8EA1DA76F0E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10" descr="bkg1.jpg"/>
          <p:cNvPicPr/>
          <p:nvPr/>
        </p:nvPicPr>
        <p:blipFill>
          <a:blip r:embed="rId2"/>
          <a:stretch/>
        </p:blipFill>
        <p:spPr>
          <a:xfrm>
            <a:off x="0" y="1440"/>
            <a:ext cx="9144000" cy="6855120"/>
          </a:xfrm>
          <a:prstGeom prst="rect">
            <a:avLst/>
          </a:prstGeom>
          <a:ln w="0">
            <a:noFill/>
          </a:ln>
        </p:spPr>
      </p:pic>
      <p:sp>
        <p:nvSpPr>
          <p:cNvPr id="1567" name="PlaceHolder 1"/>
          <p:cNvSpPr>
            <a:spLocks noGrp="1"/>
          </p:cNvSpPr>
          <p:nvPr>
            <p:ph type="sldNum" idx="42"/>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10" descr="bkg1.jpg"/>
          <p:cNvPicPr/>
          <p:nvPr/>
        </p:nvPicPr>
        <p:blipFill>
          <a:blip r:embed="rId2"/>
          <a:stretch/>
        </p:blipFill>
        <p:spPr>
          <a:xfrm>
            <a:off x="0" y="1440"/>
            <a:ext cx="9144000" cy="6855120"/>
          </a:xfrm>
          <a:prstGeom prst="rect">
            <a:avLst/>
          </a:prstGeom>
          <a:ln w="0">
            <a:noFill/>
          </a:ln>
        </p:spPr>
      </p:pic>
      <p:sp>
        <p:nvSpPr>
          <p:cNvPr id="1605"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6" name="PlaceHolder 1"/>
          <p:cNvSpPr>
            <a:spLocks noGrp="1"/>
          </p:cNvSpPr>
          <p:nvPr>
            <p:ph type="sldNum" idx="4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DCEAC-B7F1-46D8-B4F7-512F867514B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0" descr="bkg1.jpg"/>
          <p:cNvPicPr/>
          <p:nvPr/>
        </p:nvPicPr>
        <p:blipFill>
          <a:blip r:embed="rId2"/>
          <a:stretch/>
        </p:blipFill>
        <p:spPr>
          <a:xfrm>
            <a:off x="0" y="1440"/>
            <a:ext cx="9144000" cy="6855120"/>
          </a:xfrm>
          <a:prstGeom prst="rect">
            <a:avLst/>
          </a:prstGeom>
          <a:ln w="0">
            <a:noFill/>
          </a:ln>
        </p:spPr>
      </p:pic>
      <p:sp>
        <p:nvSpPr>
          <p:cNvPr id="1644"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5" name="PlaceHolder 1"/>
          <p:cNvSpPr>
            <a:spLocks noGrp="1"/>
          </p:cNvSpPr>
          <p:nvPr>
            <p:ph type="sldNum" idx="4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8B248-8720-45A1-A2B0-4D895022872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2" name="Picture 10" descr="bkg1.jpg"/>
          <p:cNvPicPr/>
          <p:nvPr/>
        </p:nvPicPr>
        <p:blipFill>
          <a:blip r:embed="rId2"/>
          <a:stretch/>
        </p:blipFill>
        <p:spPr>
          <a:xfrm>
            <a:off x="0" y="1440"/>
            <a:ext cx="9144000" cy="6855120"/>
          </a:xfrm>
          <a:prstGeom prst="rect">
            <a:avLst/>
          </a:prstGeom>
          <a:ln w="0">
            <a:noFill/>
          </a:ln>
        </p:spPr>
      </p:pic>
      <p:sp>
        <p:nvSpPr>
          <p:cNvPr id="1683" name="PlaceHolder 1"/>
          <p:cNvSpPr>
            <a:spLocks noGrp="1"/>
          </p:cNvSpPr>
          <p:nvPr>
            <p:ph type="sldNum" idx="4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EB77A-6918-47D6-BC09-9F21B15D0CC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kg1.jpg"/>
          <p:cNvPicPr/>
          <p:nvPr/>
        </p:nvPicPr>
        <p:blipFill>
          <a:blip r:embed="rId2"/>
          <a:stretch/>
        </p:blipFill>
        <p:spPr>
          <a:xfrm>
            <a:off x="0" y="1440"/>
            <a:ext cx="9144000" cy="6855120"/>
          </a:xfrm>
          <a:prstGeom prst="rect">
            <a:avLst/>
          </a:prstGeom>
          <a:ln w="0">
            <a:noFill/>
          </a:ln>
        </p:spPr>
      </p:pic>
      <p:sp>
        <p:nvSpPr>
          <p:cNvPr id="1721" name="PlaceHolder 1"/>
          <p:cNvSpPr>
            <a:spLocks noGrp="1"/>
          </p:cNvSpPr>
          <p:nvPr>
            <p:ph type="sldNum" idx="46"/>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3B4A7-9C05-4B2C-9945-004B61316972}"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10" descr="bkg1.jpg"/>
          <p:cNvPicPr/>
          <p:nvPr/>
        </p:nvPicPr>
        <p:blipFill>
          <a:blip r:embed="rId2"/>
          <a:stretch/>
        </p:blipFill>
        <p:spPr>
          <a:xfrm>
            <a:off x="0" y="1440"/>
            <a:ext cx="9144000" cy="6855120"/>
          </a:xfrm>
          <a:prstGeom prst="rect">
            <a:avLst/>
          </a:prstGeom>
          <a:ln w="0">
            <a:noFill/>
          </a:ln>
        </p:spPr>
      </p:pic>
      <p:sp>
        <p:nvSpPr>
          <p:cNvPr id="1759" name="PlaceHolder 1"/>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12C82-EDC1-4696-B83D-043D056D7ED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60" name="PlaceHolder 2"/>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1" name="PlaceHolder 3"/>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9E568-7098-41B4-8657-5407EFF022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8" name="Picture 10" descr="bkg1.jpg"/>
          <p:cNvPicPr/>
          <p:nvPr/>
        </p:nvPicPr>
        <p:blipFill>
          <a:blip r:embed="rId2"/>
          <a:stretch/>
        </p:blipFill>
        <p:spPr>
          <a:xfrm>
            <a:off x="0" y="1440"/>
            <a:ext cx="9144000" cy="6855120"/>
          </a:xfrm>
          <a:prstGeom prst="rect">
            <a:avLst/>
          </a:prstGeom>
          <a:ln w="0">
            <a:noFill/>
          </a:ln>
        </p:spPr>
      </p:pic>
      <p:sp>
        <p:nvSpPr>
          <p:cNvPr id="1799" name="PlaceHolder 1"/>
          <p:cNvSpPr>
            <a:spLocks noGrp="1"/>
          </p:cNvSpPr>
          <p:nvPr>
            <p:ph type="sldNum" idx="50"/>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714CA-0144-44C1-B12C-ADC4B6DB91CA}"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6" name="Picture 10" descr="bkg1.jpg"/>
          <p:cNvPicPr/>
          <p:nvPr/>
        </p:nvPicPr>
        <p:blipFill>
          <a:blip r:embed="rId2"/>
          <a:stretch/>
        </p:blipFill>
        <p:spPr>
          <a:xfrm>
            <a:off x="0" y="1440"/>
            <a:ext cx="9144000" cy="6855120"/>
          </a:xfrm>
          <a:prstGeom prst="rect">
            <a:avLst/>
          </a:prstGeom>
          <a:ln w="0">
            <a:noFill/>
          </a:ln>
        </p:spPr>
      </p:pic>
      <p:sp>
        <p:nvSpPr>
          <p:cNvPr id="1837" name="PlaceHolder 1"/>
          <p:cNvSpPr>
            <a:spLocks noGrp="1"/>
          </p:cNvSpPr>
          <p:nvPr>
            <p:ph type="sldNum" idx="5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7C880-2736-4252-8836-1A73AAB60EFB}"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4" name="Picture 10" descr="bkg1.jpg"/>
          <p:cNvPicPr/>
          <p:nvPr/>
        </p:nvPicPr>
        <p:blipFill>
          <a:blip r:embed="rId2"/>
          <a:stretch/>
        </p:blipFill>
        <p:spPr>
          <a:xfrm>
            <a:off x="0" y="1440"/>
            <a:ext cx="9144000" cy="6855120"/>
          </a:xfrm>
          <a:prstGeom prst="rect">
            <a:avLst/>
          </a:prstGeom>
          <a:ln w="0">
            <a:noFill/>
          </a:ln>
        </p:spPr>
      </p:pic>
      <p:sp>
        <p:nvSpPr>
          <p:cNvPr id="1875" name="PlaceHolder 1"/>
          <p:cNvSpPr>
            <a:spLocks noGrp="1"/>
          </p:cNvSpPr>
          <p:nvPr>
            <p:ph type="sldNum" idx="52"/>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8803F-515E-4A91-B156-613ADB69F65A}"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30034-42AE-4A6F-983D-CC74D7451FC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10" descr="bkg1.jpg"/>
          <p:cNvPicPr/>
          <p:nvPr/>
        </p:nvPicPr>
        <p:blipFill>
          <a:blip r:embed="rId2"/>
          <a:stretch/>
        </p:blipFill>
        <p:spPr>
          <a:xfrm>
            <a:off x="0" y="1440"/>
            <a:ext cx="9144000" cy="6855120"/>
          </a:xfrm>
          <a:prstGeom prst="rect">
            <a:avLst/>
          </a:prstGeom>
          <a:ln w="0">
            <a:noFill/>
          </a:ln>
        </p:spPr>
      </p:pic>
      <p:sp>
        <p:nvSpPr>
          <p:cNvPr id="1913" name="PlaceHolder 1"/>
          <p:cNvSpPr>
            <a:spLocks noGrp="1"/>
          </p:cNvSpPr>
          <p:nvPr>
            <p:ph type="sldNum" idx="5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Picture 10" descr="bkg1.jpg"/>
          <p:cNvPicPr/>
          <p:nvPr/>
        </p:nvPicPr>
        <p:blipFill>
          <a:blip r:embed="rId2"/>
          <a:stretch/>
        </p:blipFill>
        <p:spPr>
          <a:xfrm>
            <a:off x="0" y="1440"/>
            <a:ext cx="9144000" cy="6855120"/>
          </a:xfrm>
          <a:prstGeom prst="rect">
            <a:avLst/>
          </a:prstGeom>
          <a:ln w="0">
            <a:noFill/>
          </a:ln>
        </p:spPr>
      </p:pic>
      <p:sp>
        <p:nvSpPr>
          <p:cNvPr id="1951"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91292-A116-4402-B269-2837751E580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952"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3"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1D290-C050-40CE-8710-F43E87A376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97BA7-2B98-4899-B069-6C6C370B2EB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56B02-1282-42D2-9F03-9F3D5734A4E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2D654-DB28-4EB1-83DE-A86F9D5DD05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8E80FB-CAD4-4DA2-860E-C058556F865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743200" y="1600200"/>
            <a:ext cx="594360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n Dec-2010 ICANN Board requested advice from ALAC, GAC, GNSO and ccNSO on definition, measures, and 3-year targets, for </a:t>
            </a:r>
            <a:r>
              <a:rPr b="0" lang="en-GB" sz="2400" spc="-1" strike="noStrike" u="sng">
                <a:solidFill>
                  <a:srgbClr val="000000"/>
                </a:solidFill>
                <a:uFillTx/>
                <a:latin typeface="Trebuchet MS"/>
              </a:rPr>
              <a:t>competition</a:t>
            </a:r>
            <a:r>
              <a:rPr b="0" lang="en-GB" sz="2400" spc="-1" strike="noStrike">
                <a:solidFill>
                  <a:srgbClr val="000000"/>
                </a:solidFill>
                <a:latin typeface="Trebuchet MS"/>
              </a:rPr>
              <a:t>, </a:t>
            </a:r>
            <a:r>
              <a:rPr b="0" lang="en-GB" sz="2400" spc="-1" strike="noStrike" u="sng">
                <a:solidFill>
                  <a:srgbClr val="000000"/>
                </a:solidFill>
                <a:uFillTx/>
                <a:latin typeface="Trebuchet MS"/>
              </a:rPr>
              <a:t>consumer trust</a:t>
            </a:r>
            <a:r>
              <a:rPr b="0" lang="en-GB" sz="2400" spc="-1" strike="noStrike">
                <a:solidFill>
                  <a:srgbClr val="000000"/>
                </a:solidFill>
                <a:latin typeface="Trebuchet MS"/>
              </a:rPr>
              <a:t>, and </a:t>
            </a:r>
            <a:r>
              <a:rPr b="0" lang="en-GB" sz="2400" spc="-1" strike="noStrike" u="sng">
                <a:solidFill>
                  <a:srgbClr val="000000"/>
                </a:solidFill>
                <a:uFillTx/>
                <a:latin typeface="Trebuchet MS"/>
              </a:rPr>
              <a:t>consumer choice</a:t>
            </a:r>
            <a:r>
              <a:rPr b="0" lang="en-GB" sz="2400" spc="-1" strike="noStrike">
                <a:solidFill>
                  <a:srgbClr val="000000"/>
                </a:solidFill>
                <a:latin typeface="Trebuchet MS"/>
              </a:rPr>
              <a:t> in the context of the DNS.</a:t>
            </a:r>
            <a:endParaRPr b="0" lang="en-US" sz="24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Trebuchet MS"/>
              </a:rPr>
              <a:t>This advice should help the </a:t>
            </a:r>
            <a:r>
              <a:rPr b="0" i="1" lang="en-GB" sz="2400" spc="-1" strike="noStrike">
                <a:solidFill>
                  <a:srgbClr val="ff0000"/>
                </a:solidFill>
                <a:latin typeface="Trebuchet MS"/>
              </a:rPr>
              <a:t>Affirmation</a:t>
            </a:r>
            <a:r>
              <a:rPr b="0" lang="en-GB" sz="2400" spc="-1" strike="noStrike">
                <a:solidFill>
                  <a:srgbClr val="ff0000"/>
                </a:solidFill>
                <a:latin typeface="Trebuchet MS"/>
              </a:rPr>
              <a:t> review team measure the success of the new gTLD program</a:t>
            </a:r>
            <a:endParaRPr b="0" lang="en-US" sz="2400" spc="-1" strike="noStrike">
              <a:solidFill>
                <a:srgbClr val="000000"/>
              </a:solidFill>
              <a:latin typeface="Arial"/>
            </a:endParaRPr>
          </a:p>
        </p:txBody>
      </p:sp>
      <p:sp>
        <p:nvSpPr>
          <p:cNvPr id="1998" name="PlaceHolder 1"/>
          <p:cNvSpPr>
            <a:spLocks noGrp="1"/>
          </p:cNvSpPr>
          <p:nvPr>
            <p:ph type="title"/>
          </p:nvPr>
        </p:nvSpPr>
        <p:spPr>
          <a:xfrm>
            <a:off x="304560" y="152280"/>
            <a:ext cx="8381880" cy="9144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000000"/>
              </a:solidFill>
              <a:latin typeface="Calibri"/>
            </a:endParaRPr>
          </a:p>
        </p:txBody>
      </p:sp>
      <p:sp>
        <p:nvSpPr>
          <p:cNvPr id="1999"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D5B25-D220-4E45-9931-4B66FAC89B3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00" name="Picture 1" descr="j0289893.jpg"/>
          <p:cNvPicPr/>
          <p:nvPr/>
        </p:nvPicPr>
        <p:blipFill>
          <a:blip r:embed="rId1"/>
          <a:stretch/>
        </p:blipFill>
        <p:spPr>
          <a:xfrm>
            <a:off x="0" y="2370240"/>
            <a:ext cx="2608200" cy="17287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203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2008A-B916-4F9B-BD4A-0F8BDC730BC4}"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2032" name="TextBox 5"/>
          <p:cNvSpPr/>
          <p:nvPr/>
        </p:nvSpPr>
        <p:spPr>
          <a:xfrm>
            <a:off x="279360" y="954000"/>
            <a:ext cx="31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dvice considered by GNSO, ALAC</a:t>
            </a:r>
            <a:endParaRPr b="0" lang="en-US" sz="2000" spc="-1" strike="noStrike">
              <a:solidFill>
                <a:srgbClr val="000000"/>
              </a:solidFill>
              <a:latin typeface="Arial"/>
            </a:endParaRPr>
          </a:p>
        </p:txBody>
      </p:sp>
      <p:sp>
        <p:nvSpPr>
          <p:cNvPr id="2033" name="Pentagon 6"/>
          <p:cNvSpPr/>
          <p:nvPr/>
        </p:nvSpPr>
        <p:spPr>
          <a:xfrm>
            <a:off x="5924520" y="3494160"/>
            <a:ext cx="2982960" cy="263520"/>
          </a:xfrm>
          <a:custGeom>
            <a:avLst/>
            <a:gdLst>
              <a:gd name="textAreaLeft" fmla="*/ 0 w 2982960"/>
              <a:gd name="textAreaRight" fmla="*/ 2983320 w 2982960"/>
              <a:gd name="textAreaTop" fmla="*/ 0 h 263520"/>
              <a:gd name="textAreaBottom" fmla="*/ 263880 h 263520"/>
            </a:gdLst>
            <a:ahLst/>
            <a:rect l="textAreaLeft" t="textAreaTop" r="textAreaRight" b="textAreaBottom"/>
            <a:pathLst>
              <a:path w="21600" h="21600">
                <a:moveTo>
                  <a:pt x="0" y="0"/>
                </a:moveTo>
                <a:lnTo>
                  <a:pt x="20646" y="0"/>
                </a:lnTo>
                <a:lnTo>
                  <a:pt x="21600" y="10800"/>
                </a:lnTo>
                <a:lnTo>
                  <a:pt x="2064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4" name="TextBox 9"/>
          <p:cNvSpPr/>
          <p:nvPr/>
        </p:nvSpPr>
        <p:spPr>
          <a:xfrm>
            <a:off x="314280" y="3440160"/>
            <a:ext cx="359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ff begins recording metrics</a:t>
            </a:r>
            <a:endParaRPr b="0" lang="en-US" sz="2000" spc="-1" strike="noStrike">
              <a:solidFill>
                <a:srgbClr val="000000"/>
              </a:solidFill>
              <a:latin typeface="Arial"/>
            </a:endParaRPr>
          </a:p>
        </p:txBody>
      </p:sp>
      <p:sp>
        <p:nvSpPr>
          <p:cNvPr id="203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203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203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2038" name="TextBox 13"/>
          <p:cNvSpPr/>
          <p:nvPr/>
        </p:nvSpPr>
        <p:spPr>
          <a:xfrm>
            <a:off x="314280" y="4203720"/>
            <a:ext cx="44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Affirmation Review</a:t>
            </a:r>
            <a:r>
              <a:rPr b="0" lang="en-US" sz="2000" spc="-1" strike="noStrike">
                <a:solidFill>
                  <a:srgbClr val="000000"/>
                </a:solidFill>
                <a:latin typeface="Arial"/>
              </a:rPr>
              <a:t> of new gTLD program</a:t>
            </a:r>
            <a:endParaRPr b="0" lang="en-US" sz="2000" spc="-1" strike="noStrike">
              <a:solidFill>
                <a:srgbClr val="000000"/>
              </a:solidFill>
              <a:latin typeface="Arial"/>
            </a:endParaRPr>
          </a:p>
        </p:txBody>
      </p:sp>
      <p:sp>
        <p:nvSpPr>
          <p:cNvPr id="203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2040" name="TextBox 16"/>
          <p:cNvSpPr/>
          <p:nvPr/>
        </p:nvSpPr>
        <p:spPr>
          <a:xfrm>
            <a:off x="304920" y="25938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w gTLDs delegated</a:t>
            </a:r>
            <a:endParaRPr b="0" lang="en-US" sz="2000" spc="-1" strike="noStrike">
              <a:solidFill>
                <a:srgbClr val="000000"/>
              </a:solidFill>
              <a:latin typeface="Arial"/>
            </a:endParaRPr>
          </a:p>
        </p:txBody>
      </p:sp>
      <p:sp>
        <p:nvSpPr>
          <p:cNvPr id="2041" name="Pentagon 17"/>
          <p:cNvSpPr/>
          <p:nvPr/>
        </p:nvSpPr>
        <p:spPr>
          <a:xfrm>
            <a:off x="5791320" y="2646360"/>
            <a:ext cx="2387520" cy="263520"/>
          </a:xfrm>
          <a:custGeom>
            <a:avLst/>
            <a:gdLst>
              <a:gd name="textAreaLeft" fmla="*/ 0 w 2387520"/>
              <a:gd name="textAreaRight" fmla="*/ 2387880 w 2387520"/>
              <a:gd name="textAreaTop" fmla="*/ 0 h 263520"/>
              <a:gd name="textAreaBottom" fmla="*/ 263880 h 263520"/>
            </a:gdLst>
            <a:ahLst/>
            <a:rect l="textAreaLeft" t="textAreaTop" r="textAreaRight" b="textAreaBottom"/>
            <a:pathLst>
              <a:path w="21600" h="21600">
                <a:moveTo>
                  <a:pt x="0" y="0"/>
                </a:moveTo>
                <a:lnTo>
                  <a:pt x="20408" y="0"/>
                </a:lnTo>
                <a:lnTo>
                  <a:pt x="21600" y="10800"/>
                </a:lnTo>
                <a:lnTo>
                  <a:pt x="20408"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2" name="TextBox 18"/>
          <p:cNvSpPr/>
          <p:nvPr/>
        </p:nvSpPr>
        <p:spPr>
          <a:xfrm>
            <a:off x="304920" y="1716120"/>
            <a:ext cx="299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oard considers advice and adopts metrics</a:t>
            </a:r>
            <a:endParaRPr b="0" lang="en-US" sz="2000" spc="-1" strike="noStrike">
              <a:solidFill>
                <a:srgbClr val="000000"/>
              </a:solidFill>
              <a:latin typeface="Arial"/>
            </a:endParaRPr>
          </a:p>
        </p:txBody>
      </p:sp>
      <p:sp>
        <p:nvSpPr>
          <p:cNvPr id="2043" name="TextBox 21"/>
          <p:cNvSpPr/>
          <p:nvPr/>
        </p:nvSpPr>
        <p:spPr>
          <a:xfrm>
            <a:off x="304920" y="496404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are to targets for adopted metrics</a:t>
            </a:r>
            <a:endParaRPr b="0" lang="en-US" sz="2000" spc="-1" strike="noStrike">
              <a:solidFill>
                <a:srgbClr val="000000"/>
              </a:solidFill>
              <a:latin typeface="Arial"/>
            </a:endParaRPr>
          </a:p>
        </p:txBody>
      </p:sp>
      <p:sp>
        <p:nvSpPr>
          <p:cNvPr id="2044" name="Rectangle 25"/>
          <p:cNvSpPr/>
          <p:nvPr/>
        </p:nvSpPr>
        <p:spPr>
          <a:xfrm>
            <a:off x="3486240" y="1171440"/>
            <a:ext cx="93348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5" name="Rectangle 26"/>
          <p:cNvSpPr/>
          <p:nvPr/>
        </p:nvSpPr>
        <p:spPr>
          <a:xfrm>
            <a:off x="4419720" y="1905120"/>
            <a:ext cx="10033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046" name="Straight Arrow Connector 4"/>
          <p:cNvCxnSpPr/>
          <p:nvPr/>
        </p:nvCxnSpPr>
        <p:spPr>
          <a:xfrm>
            <a:off x="4419360" y="1523880"/>
            <a:ext cx="1080" cy="334080"/>
          </a:xfrm>
          <a:prstGeom prst="straightConnector1">
            <a:avLst/>
          </a:prstGeom>
          <a:ln w="25560">
            <a:solidFill>
              <a:srgbClr val="4f81bd"/>
            </a:solidFill>
            <a:miter/>
            <a:tailEnd len="med" type="triangle" w="med"/>
          </a:ln>
        </p:spPr>
      </p:cxnSp>
      <p:sp>
        <p:nvSpPr>
          <p:cNvPr id="204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204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9" name="Rectangle 35"/>
          <p:cNvSpPr/>
          <p:nvPr/>
        </p:nvSpPr>
        <p:spPr>
          <a:xfrm>
            <a:off x="6445080" y="4346640"/>
            <a:ext cx="64152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2" name="Rectangle 38"/>
          <p:cNvSpPr/>
          <p:nvPr/>
        </p:nvSpPr>
        <p:spPr>
          <a:xfrm>
            <a:off x="5423040" y="3494160"/>
            <a:ext cx="50148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3" name="Rectangle 24"/>
          <p:cNvSpPr/>
          <p:nvPr/>
        </p:nvSpPr>
        <p:spPr>
          <a:xfrm>
            <a:off x="8464680" y="5011560"/>
            <a:ext cx="5331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4" name="Rectangle 7"/>
          <p:cNvSpPr/>
          <p:nvPr/>
        </p:nvSpPr>
        <p:spPr>
          <a:xfrm>
            <a:off x="7086600" y="4203720"/>
            <a:ext cx="1447920" cy="2984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2C110-B9EB-45E6-9857-8377C960B4DF}"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2002"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000000"/>
              </a:solidFill>
              <a:latin typeface="Calibri"/>
            </a:endParaRPr>
          </a:p>
        </p:txBody>
      </p:sp>
      <p:sp>
        <p:nvSpPr>
          <p:cNvPr id="2003" name=""/>
          <p:cNvSpPr txBox="1"/>
          <p:nvPr/>
        </p:nvSpPr>
        <p:spPr>
          <a:xfrm>
            <a:off x="2743200" y="1282320"/>
            <a:ext cx="6167520" cy="4584600"/>
          </a:xfrm>
          <a:prstGeom prst="rect">
            <a:avLst/>
          </a:prstGeom>
          <a:noFill/>
          <a:ln w="0">
            <a:noFill/>
          </a:ln>
        </p:spPr>
        <p:txBody>
          <a:bodyPr lIns="90000" rIns="90000" tIns="46800" bIns="46800" anchor="t">
            <a:normAutofit/>
          </a:bodyPr>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by Board.</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9F8AB-A24E-4277-AD1A-BE3657D18CC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6" name="Text Placeholder 4"/>
          <p:cNvSpPr/>
          <p:nvPr/>
        </p:nvSpPr>
        <p:spPr>
          <a:xfrm>
            <a:off x="387360" y="91440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a:t>
            </a:r>
            <a:r>
              <a:rPr b="0" lang="en-US" sz="2800" spc="-1" strike="noStrike">
                <a:solidFill>
                  <a:srgbClr val="000000"/>
                </a:solidFill>
                <a:latin typeface="Trebuchet MS"/>
              </a:rPr>
              <a:t>: Actual and potential Internet users and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Trust</a:t>
            </a:r>
            <a:r>
              <a:rPr b="1" lang="en-US" sz="2800" spc="-1" strike="noStrike">
                <a:solidFill>
                  <a:srgbClr val="000000"/>
                </a:solidFill>
                <a:latin typeface="Trebuchet MS"/>
              </a:rPr>
              <a:t>: </a:t>
            </a:r>
            <a:r>
              <a:rPr b="0" lang="en-US" sz="2800" spc="-1" strike="noStrike">
                <a:solidFill>
                  <a:srgbClr val="000000"/>
                </a:solidFill>
                <a:latin typeface="Trebuchet MS"/>
              </a:rPr>
              <a:t>The confidence Consumers have in the DNS.  This include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 trust in the consistency of name resolution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 confidence that a TLD registry operator is fulfilling the Registry</a:t>
            </a:r>
            <a:r>
              <a:rPr b="0" lang="ja-JP" sz="2800" spc="-1" strike="noStrike">
                <a:solidFill>
                  <a:srgbClr val="000000"/>
                </a:solidFill>
                <a:latin typeface="Trebuchet MS"/>
              </a:rPr>
              <a:t>’</a:t>
            </a:r>
            <a:r>
              <a:rPr b="0" lang="en-US" sz="2800" spc="-1" strike="noStrike">
                <a:solidFill>
                  <a:srgbClr val="000000"/>
                </a:solidFill>
                <a:latin typeface="Trebuchet MS"/>
              </a:rPr>
              <a:t>s proposed purpose and is complying with ICANN policies </a:t>
            </a:r>
            <a:r>
              <a:rPr b="0" lang="en-US" sz="2800" spc="-1" strike="noStrike">
                <a:solidFill>
                  <a:srgbClr val="ff0000"/>
                </a:solidFill>
                <a:latin typeface="Trebuchet MS"/>
              </a:rPr>
              <a:t>and applicable national laws</a:t>
            </a:r>
            <a:r>
              <a:rPr b="0" lang="en-US" sz="2800" spc="-1" strike="noStrike">
                <a:solidFill>
                  <a:srgbClr val="000000"/>
                </a:solidFill>
                <a:latin typeface="Trebuchet MS"/>
              </a:rPr>
              <a:t> and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i) confidence in ICANN</a:t>
            </a:r>
            <a:r>
              <a:rPr b="0" lang="ja-JP" sz="2800" spc="-1" strike="noStrike">
                <a:solidFill>
                  <a:srgbClr val="000000"/>
                </a:solidFill>
                <a:latin typeface="Trebuchet MS"/>
              </a:rPr>
              <a:t>’</a:t>
            </a:r>
            <a:r>
              <a:rPr b="0" lang="en-US" sz="2800" spc="-1" strike="noStrike">
                <a:solidFill>
                  <a:srgbClr val="000000"/>
                </a:solidFill>
                <a:latin typeface="Trebuchet MS"/>
              </a:rPr>
              <a:t>s compliance function</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691F3-36E9-44BA-BACE-3C7A1BFE58D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9" name="Text Placeholder 4"/>
          <p:cNvSpPr/>
          <p:nvPr/>
        </p:nvSpPr>
        <p:spPr>
          <a:xfrm>
            <a:off x="304920" y="83808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Choice</a:t>
            </a:r>
            <a:r>
              <a:rPr b="1" lang="en-US" sz="2800" spc="-1" strike="noStrike">
                <a:solidFill>
                  <a:srgbClr val="000000"/>
                </a:solidFill>
                <a:latin typeface="Trebuchet MS"/>
              </a:rPr>
              <a:t>: </a:t>
            </a:r>
            <a:r>
              <a:rPr b="0" lang="en-US" sz="28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1" lang="en-US" sz="2800" spc="-1" strike="noStrike">
                <a:solidFill>
                  <a:srgbClr val="000000"/>
                </a:solidFill>
                <a:latin typeface="Trebuchet MS"/>
              </a:rPr>
              <a:t>: </a:t>
            </a:r>
            <a:r>
              <a:rPr b="0" lang="en-US" sz="2800" spc="-1" strike="noStrike">
                <a:solidFill>
                  <a:srgbClr val="000000"/>
                </a:solidFill>
                <a:latin typeface="Trebuchet MS"/>
              </a:rPr>
              <a:t>Quantity, diversity, and the potential for market rivalry of gTLDs, TLD registry operators, and registrar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213C9-DED8-4481-8CA5-0C993922846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2"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Trust </a:t>
            </a:r>
            <a:r>
              <a:rPr b="0" lang="en-US" sz="2400" spc="-1" strike="noStrike">
                <a:solidFill>
                  <a:srgbClr val="000000"/>
                </a:solidFill>
                <a:latin typeface="Trebuchet MS"/>
              </a:rPr>
              <a:t>metrics measure confidence in registrations and resolutions, and that TLD Operators are fulfilling their stated promise and complying with applicable national laws.</a:t>
            </a:r>
            <a:endParaRPr b="0" lang="en-US" sz="2400" spc="-1" strike="noStrike">
              <a:solidFill>
                <a:srgbClr val="000000"/>
              </a:solidFill>
              <a:latin typeface="Arial"/>
            </a:endParaRPr>
          </a:p>
          <a:p>
            <a:pPr lvl="1" marL="743040" indent="-285840">
              <a:lnSpc>
                <a:spcPct val="100000"/>
              </a:lnSpc>
              <a:spcBef>
                <a:spcPts val="1225"/>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ptime for registry &amp; registrar service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Survey consumer trust relative to pre-expansion</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Contract / policy breach notices &amp; complai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DRP/URS cases &amp; decisions against registra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Law enforcement &amp; legal action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Relative incidence of spam, fraud, malware, botnets </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Actual policies vs proposed Mission (Q18)</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4"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FF7F9-39A5-4816-BA5F-987391C529C0}"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5"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Choice </a:t>
            </a:r>
            <a:r>
              <a:rPr b="0" lang="en-US" sz="2400" spc="-1" strike="noStrike">
                <a:solidFill>
                  <a:srgbClr val="000000"/>
                </a:solidFill>
                <a:latin typeface="Trebuchet MS"/>
              </a:rPr>
              <a:t>metrics measure range of options available to consumers to make meaningful distinctions when choosing TLDs. </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eographic diversity of registrants/registrar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hare of new gTLDs having same domain in legacy TLD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ensive or duplicate registration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 of IDN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TLDs in other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registrars offering IDN scripts in other language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r/registrant awareness/understanding of requirements</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D0830-4039-4C23-9035-B50A4E1EFB74}"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8"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0" lang="en-US" sz="2800" spc="-1" strike="noStrike">
                <a:solidFill>
                  <a:srgbClr val="000000"/>
                </a:solidFill>
                <a:latin typeface="Trebuchet MS"/>
              </a:rPr>
              <a:t> metrics to measure the actual market rivalry of TLDs, TLD Operators, Service Providers, and Registrars.</a:t>
            </a:r>
            <a:endParaRPr b="0" lang="en-US" sz="2800" spc="-1" strike="noStrike">
              <a:solidFill>
                <a:srgbClr val="000000"/>
              </a:solidFill>
              <a:latin typeface="Arial"/>
            </a:endParaRPr>
          </a:p>
          <a:p>
            <a:pPr marL="177840">
              <a:lnSpc>
                <a:spcPct val="10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Quantity of new TLDs and new entrant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hare of registrations with new entrant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unique" &amp; total registration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wholesale &amp; retail price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tudy of innovation in new gTLDs</a:t>
            </a:r>
            <a:endParaRPr b="0" lang="en-US" sz="2800" spc="-1" strike="noStrike">
              <a:solidFill>
                <a:srgbClr val="000000"/>
              </a:solidFill>
              <a:latin typeface="Arial"/>
            </a:endParaRPr>
          </a:p>
          <a:p>
            <a:pPr lvl="1" marL="743040" indent="-285840">
              <a:lnSpc>
                <a:spcPct val="12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177840">
              <a:lnSpc>
                <a:spcPct val="12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AC’s Consumer Perspective:</a:t>
            </a:r>
            <a:br>
              <a:rPr sz="4000"/>
            </a:br>
            <a:r>
              <a:rPr b="0" i="1" lang="en-US" sz="4000" spc="-1" strike="noStrike">
                <a:solidFill>
                  <a:srgbClr val="ff0000"/>
                </a:solidFill>
                <a:latin typeface="Calibri"/>
              </a:rPr>
              <a:t>What’s Missing</a:t>
            </a:r>
            <a:endParaRPr b="0" lang="en-US" sz="4000" spc="-1" strike="noStrike">
              <a:solidFill>
                <a:srgbClr val="000000"/>
              </a:solidFill>
              <a:latin typeface="Calibri"/>
            </a:endParaRPr>
          </a:p>
        </p:txBody>
      </p:sp>
      <p:sp>
        <p:nvSpPr>
          <p:cNvPr id="2020" name=""/>
          <p:cNvSpPr txBox="1"/>
          <p:nvPr/>
        </p:nvSpPr>
        <p:spPr>
          <a:xfrm>
            <a:off x="457200" y="1430280"/>
            <a:ext cx="8229600" cy="45259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d-user confusion</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owth in use of both domain-based and non-domain-based alternatives for resource acces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laints to, and action taken by, police, regulatory agencies and advocacy group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arency of contact information and domain-allocation policie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of new gTLD promotion to end user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chnical issues (incl application support)</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304560" y="151920"/>
            <a:ext cx="8381880" cy="1143000"/>
          </a:xfrm>
          <a:prstGeom prst="rect">
            <a:avLst/>
          </a:prstGeom>
          <a:noFill/>
          <a:ln w="0">
            <a:noFill/>
          </a:ln>
        </p:spPr>
        <p:txBody>
          <a:bodyPr lIns="64440" rIns="64440" tIns="32040" bIns="32040" anchor="ctr">
            <a:noAutofit/>
          </a:bodyPr>
          <a:p>
            <a:pPr indent="0">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Next Steps</a:t>
            </a:r>
            <a:endParaRPr b="0" lang="en-US" sz="3600" spc="-1" strike="noStrike">
              <a:solidFill>
                <a:srgbClr val="000000"/>
              </a:solidFill>
              <a:latin typeface="Calibri"/>
            </a:endParaRPr>
          </a:p>
        </p:txBody>
      </p:sp>
      <p:sp>
        <p:nvSpPr>
          <p:cNvPr id="2022"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CANN Board reacts to advice from ALAC and GNSO</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ff begins capturing data for metrics</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Trebuchet MS"/>
              </a:rPr>
              <a:t>Affirmation</a:t>
            </a:r>
            <a:r>
              <a:rPr b="0" lang="en-US" sz="2800" spc="-1" strike="noStrike">
                <a:solidFill>
                  <a:srgbClr val="000000"/>
                </a:solidFill>
                <a:latin typeface="Trebuchet MS"/>
              </a:rPr>
              <a:t> Review Team forms to begin review, one year after delegation of new gTLDs</a:t>
            </a:r>
            <a:endParaRPr b="0" lang="en-US" sz="2800" spc="-1" strike="noStrike">
              <a:solidFill>
                <a:srgbClr val="000000"/>
              </a:solidFill>
              <a:latin typeface="Calibri"/>
            </a:endParaRPr>
          </a:p>
          <a:p>
            <a:pPr marL="457200" indent="0">
              <a:lnSpc>
                <a:spcPct val="100000"/>
              </a:lnSpc>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023"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D8E6D-DD98-457A-B842-C8FA40E74D5C}"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24"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8:27:24Z</dcterms:created>
  <dc:creator>Tom Hodgson</dc:creator>
  <dc:description/>
  <dc:language>en-US</dc:language>
  <cp:lastModifiedBy>Julia Charvolen</cp:lastModifiedBy>
  <cp:lastPrinted>2011-03-03T09:26:23Z</cp:lastPrinted>
  <dcterms:modified xsi:type="dcterms:W3CDTF">2013-07-15T08:51:12Z</dcterms:modified>
  <cp:revision>329</cp:revision>
  <dc:subject/>
  <dc:title>Slide 1</dc:title>
</cp:coreProperties>
</file>