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567CB-3AE0-46B2-B0DF-508F8EEBFD9F}"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9E8EE-DEB4-40CB-B2E8-FF8100F7B1FF}"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8EBB5-EF77-4774-BC4E-A81989AA7998}"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645DB9F-3B60-46EA-97EC-D07E59FBB2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497C637C-72BA-4181-ACD8-4B1AD8A9A6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1998C2E8-3EF0-4736-A52E-3D6B66982D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A3FFAA6-4C03-4166-A3CB-275407425B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D266D3E-ACDD-489F-9999-ABFFF6A1FF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4B80298-357C-4C1E-BE91-3320B9F0F8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2F3A48F-C140-47A9-9992-F094E7715C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13A19630-876B-45C8-9384-7085106B1B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7AA8D2F-FD5A-4BEE-BC67-25D5028C44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3995E8-A516-4F07-93FF-5C7C70C9CF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C33FA8E-3702-4377-8D38-67A86939613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C5D1590-7E34-47B5-A6B5-28048EB130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73A9EAD-9593-4B7C-A957-35FDBBE2D9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2270F85-6B31-4BD5-B68C-75A2959AD57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40C4CA68-48A9-4566-BA73-9C803F80B9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84D7A4B-6FCA-40D4-B553-FCCE49EC13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B7CE3E5-C8EA-490F-93A8-2079D534CE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68E19C9-57F4-4879-ADD1-A1A6B6C1F2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0CC4485-905B-4813-AC4D-36F0B0F88F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CCFB683-3E5D-4CA2-ACC7-52BE83759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101F7A7-1846-4D1F-9501-79CFF021B0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C076E96-131D-420B-A2A0-1DFC40C132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090D3F1-6511-4B82-9F92-8CB50657040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F2DF9B4-AA9D-4536-B388-84C68C25DD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286C3BC-5D41-46E7-B013-199B13259B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07B1C6D-37AA-447C-BCE8-671B6BFCC3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B4BDB9B-058C-4233-B276-2FAC04B27E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33D6550-8094-4490-9392-280CAA870D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D50B718-AC96-4C48-8AE3-6B77F5D07D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72171BF-BDB1-45F1-9DAA-22E562D64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E652E22-626B-4BAD-9C53-23C4748DF74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4825C0A-F644-4E2B-91F8-69D074EC56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C5286B6-CF77-4378-A436-47FB7E6540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9C8004E-D06B-474F-872C-B374F97F76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EECE28A-7026-4169-8015-AB5408AF3F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FF077C1-38AD-4CE3-AB1F-A504152D9C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4E34DA8-F491-4D33-8C0A-D18430A9FBA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B90DA35-DFDD-4067-AFE5-EA7A01DA7A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E2F7634-0F7C-43B8-A4F5-3BCA5BEC26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A5E36DF-F888-4DD5-8F2F-8FC21C44E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57034D1-791E-4DD4-8AF6-0A5E714565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221DFE9-4F6D-4B52-8C67-C3090FF911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4AE4061-2F1F-4D83-9F42-8B64DD650F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8512294-CA43-4744-B508-47FF45170C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6138E3D-28BC-4B93-824D-4A3EBA5D023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853AAD1-CCCB-41E7-8D3D-1D12996E455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3BD671D3-F470-48D6-9FC9-5CDB1F0C2D2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7EEA14F3-8082-45C6-8FD1-C0FA36BA616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C95F0A5F-1B8C-42BC-BC41-23ABB4506BC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D6755405-E443-4226-A960-8B335BA72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6C596643-AEF5-45AF-BCF6-0368DB8E37F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BF5979D-9B4D-4698-BDD5-8A5A2641F1C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8928BBC-5EF1-468D-87D6-F2997E3FE07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CEAFE40-C23F-47FE-B721-4C14B9791BA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F034D92-4CAC-4899-A38B-ECC4AF7FE72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180B9E3A-97DB-495E-8851-33971916280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FA803C6D-7C6D-4B29-954C-C620CB12E07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93281A9-3D21-4964-BA8D-C5ED7297AB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7F7278BC-A55E-4BA2-A5EB-B20AC8AD5C9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0CB6756F-128C-4BCB-9603-61D25E8AF8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59BBA2E-8A33-4B47-84CE-274924F61CB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A91CE753-039C-4F0A-8071-B5D804198A9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1F34E28-8581-4B2E-8D69-B8502078355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D485CBC5-A8D0-4731-8796-742023B18F9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55D5818-87D8-4445-A0D4-6C76C94A1BE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68C8FEA-CB40-44AB-8F34-2AAFE59E44A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90E4D16-0F90-4859-86C7-303642B116A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8BD4E343-1E94-4016-B36C-55C394F7F9C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AC407198-9663-400A-9FA7-15773B2DB9A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FCD070-70CE-4BE7-871F-DA50CC6B48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965D4E4-FDE0-41FF-B5DF-469813A4768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80DD06A-8CFB-4310-9433-9DEBA33489D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D4D6BAF5-E733-4655-B711-5E62120EAB0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E1EEC144-054C-48FB-A311-5AC2B4F1230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72693E00-6A7B-427A-8798-2E75E983435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C915052-0CFF-4D39-B7BA-C2243EE424B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7DDE226-12FE-4116-B1EC-83D4CF9EE69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33C074C-C214-44AE-9C13-067CCD81FE1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5E6F2C4-606A-4D02-B04A-5549EA869BC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DAB3536F-67E3-4CC9-AE5B-9A9F890BC8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1FEE8AE-2B6C-44F6-ABB3-BD66124F209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AABD880-3976-4221-A1BD-0BBFC91111B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DA0C4F-9FB9-495D-9481-7D447A4B46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A10D5C-2C79-4D76-818C-79F5B0021D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E9BF096-56C2-428B-9895-E2396B8717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43384F-12BB-402A-A44F-3F3F3FEB5C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4E164C-F1ED-4B35-9708-CA6C7F0F9C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899480-B0D0-43A0-B85F-4D3B31EF35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C2EB6C-BF14-48F9-8AE1-A3F859F100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B57353-75CD-4F9A-8061-52B6569B56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59CCE7-D9CE-40F7-8645-D2EE34C2F8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D6FB2DE-9BD6-4F5F-B5AF-A931D1AAC11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9915F9D-3054-4D12-A200-D320403A878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C9E296E-6AD3-4F23-AECF-9497892DB4C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6220050-CC11-4C4D-A569-5955430276D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47948DD6-D5CF-467D-A712-07256AFA7E7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F18F3DD-B9B4-4A55-A87A-AD5D93AFD49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00035C86-5C5F-49DB-BE28-7DE4D223296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20F2C68E-EC8A-4E6C-BE43-313CBD49BF9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8DC0895-5339-48D8-824B-E334B113F8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DE8DEC3-4E1F-40C8-8999-92EF4670B81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1CA6AD9-7C9C-4B87-BB07-05568A0F3F2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710E73A-86C2-4285-B6B7-EB846ED2C08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AAFB4330-1E30-48D5-8E69-27DF5B1CC3D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DA3AF0BA-E3EC-46F7-9433-948F958B3EC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4C5B92D-6FC1-4450-A197-B3D2F6B49E7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0308A79F-BEE4-4E37-980F-3F286BC4ECC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EA937895-D680-4E47-9067-2C109DD150A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10EBB783-7277-4743-9736-6AE7A7FD437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13323B24-1574-436E-ACC7-D77BB54EC3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1A807613-95C6-404F-B62D-C48EBC2BB03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8D0D066-DDD7-4DBB-B7BC-C07338D0BB4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5E61301-94D1-4D67-8BD1-CFA4F0D3AA0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EF19DBE-B6C8-4986-8AA6-1B117E7F226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DFF63170-F1B4-40DA-978C-6B699A5C188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9E990325-2B38-4B9A-BC23-34EBB61B26B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748E4FB7-4574-4E9D-B1F4-A873F859377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B574B28-1CAF-4C58-851D-84099360405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F26973E-3AC2-490A-8702-CD256FD62BD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0D3E8E3-1999-4F56-9F4E-2A3AB97F5E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7BC0E56-4346-474A-8559-96CD9F1C31C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1577DB3-2B2B-4E57-9471-B5B7967CC1A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7340693-A385-4F22-9820-7BDBB6E589D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2506FCB-DE01-48BE-8BEB-9E2C247B3D0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090CE23-AB82-4880-B616-6F8575635D6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6D1565B-4E33-4E71-BAA9-EE2CEA14E3C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27561AB-E06D-4901-A428-08965D7CB77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A51BE237-A661-42A9-8222-D0F5E710111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512F9E4-6E3F-46C8-B106-CF6051C589C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C0423B4-DF01-425E-8A7A-2261EEA16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92DF9F4-E668-45A5-9567-D91A171FE37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8DDF9009-46A1-404E-9501-78711D1BCA9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6A19A3F5-A4BE-4683-B649-67866D6C71D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B5DEFC7D-B902-4098-AA9A-BE9BAFF8BB1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855C19B3-7F5D-45B0-9438-140944D9D54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B43A5F53-4708-47F3-A53B-46B639604A2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E0EB74CD-EF9F-4EE8-A684-E8EC975CFB3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7EBE230-523F-4043-8E4B-3F836E0E948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DE7E27F2-3B2B-4202-AD60-815B44265B6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E4D3DE44-3EDD-439C-B882-D0B869DFE8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35D15C84-E20E-45C6-B775-208E069F854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2CC0246-332D-4261-B272-A17560B12D1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0A940A05-6AC9-4712-86CD-2B37BB05BE9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90CA509-62E3-4C88-9215-4481B179D2A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3F4D852-A5C8-4E93-AE0F-F75EE519D86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370090EF-7C9E-46F7-A90D-F214D16CE9D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A9823A5F-5083-4DA8-9F5D-B82822E0DE0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570501C-9F2D-4564-AC46-743AE195C30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4C642DC-92D3-462A-9899-C4307BBD22E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2FE98E8-0C6C-4CFF-A8F2-4426A90C05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42D1800-34FD-45DE-967C-45A2D1A1AC0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AAEF6D97-C371-4F3A-A979-C910BC6E58A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1AF2CA83-BCAF-4EEE-BAFB-7EEBB201107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7E964AC-AD30-4F4A-940B-802A50A412E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453D6FB5-3155-48FB-B501-CB36ABCA4F6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B84592E4-FB0E-42D0-B95B-7CB87B4A50C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4390E33A-7AD7-4C22-A870-E7822073B32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6221B567-9848-4CA6-89B3-344E48FF520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58F9E295-C106-485B-9B8B-5599DDC7A3C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4EE2B224-ED43-4507-99DE-2E9080C2DF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60B07483-F858-4B0B-95DD-026F687E3AE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130D6696-FC02-45D7-89A8-C9E50AD5ECE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19B13541-0999-4BDB-B424-3E2D36D5EDD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D82A02C9-F327-458E-B0D2-4F93C8F5DB7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93CD0327-4573-4923-8E59-1CE31296CCD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C393662-E8C0-47EC-B16E-92D0D5F73B7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219243E-7F5B-473D-AF65-56661C16A62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A4B44D0-EE4C-4EBB-A4A5-ADF4454F333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EB5BBEA-B746-4678-9839-973E6C52D5E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8B0EE9E3-DF47-46A1-B691-A779D0A4FB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F5CE93E-542E-4C60-8E0D-C6991379141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2CB3323-9530-4E10-9893-9C31788DD33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F714411-6A47-46E9-AF9E-C440043106F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2B4D292-B08E-49D3-8203-B4DA2402269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2C6C954-5CD6-4D34-9CD8-01F077273F3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30CDEA07-F581-4B51-89DF-FB738889BF9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AE5CF51-8B35-4C02-B52F-ED5CCEC27B0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CF0461E-3DE7-4B50-99E6-90D15C05BBD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4664E2F-C254-428F-BB94-F21B52C05AB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026BB23-FF5D-4C98-A879-52BAB0331E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30EE068-5026-4CB1-A130-53430038119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ABC9021-0958-41AF-82F9-A622DB927DC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6EACCE6-E823-40DE-B253-A572032EA60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D0EC4D5-FD51-46B2-A28D-9B8F89DD3B6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F4595E0-4FA9-477E-BC50-3DF569496E8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FA3F9B5-E0E2-4FBD-AD5B-2039345182D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097655A-7A8F-40DE-9BCF-FDC7C9CFB40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AA74B4C-CA2F-44A2-BFE5-923B54EBAE9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16526C8-CE9A-4680-899D-1B4C9E634C7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1EA0B46-206B-4722-A7AC-61B0D64472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35F60AC-4A6C-4BAB-9092-25032BA7132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C71AEF7-3D66-4F38-9D81-250E01812D0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E8976C1-51ED-4C69-867B-42B21A708DD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5C20F2C-CE9E-4FB5-A411-363A9B1B63A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BB2638D-510A-41DB-824C-1E787FF0012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CFBED0B-39B5-4BF2-B496-B10945AF999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0781D31-CE0A-4DD4-B5DF-E959C389777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0F5F9D1-85F7-46EA-BC7B-936A8F5C63B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8A85CA2-7979-4037-B42A-0044949600C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CEBD73B-DF24-4039-A60A-318398E8BC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88EBD94-7F15-42DC-95C2-AA054028875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4B93649B-D473-40B4-A9EC-78E444ACA44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9CCEFD2F-9AE2-4158-8CA8-446E856EACB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194F2F49-FE27-4FB9-BD7F-159BF3A5471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4B0C0B66-8567-4050-A680-99CE2F27F4E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C8879A89-E7F0-434F-85B9-19F6F202AEE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20690C2A-111F-4675-B6FA-96D2415E267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075A977-853E-458A-91E4-23BE06F8BCB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D77FBB4-25D5-4A21-80F5-61325F7A687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90B51EB-AE6A-49CC-9812-970C8ED915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90DF9BE2-EF6C-4495-8B74-1A83A39F291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9133752B-B3EC-4E2F-87C1-46C62FA8516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38869CB2-0D1D-41F2-B17A-065FA5CF98C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2D3FC01-F75B-4A67-BFD3-673BE10BAD9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7ED5AB40-5CF7-4728-BC2C-3ED797375C3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7484752F-D75D-4983-9427-0D402860E84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833D9885-7C13-4F6C-971E-43D9A683D7B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69115B6B-1E8F-4C99-9A1F-F0B4CC4ADEA8}"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326AD165-2219-4AC0-8384-111D3AED824E}"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DF58637C-894B-4EA3-8832-0A6DA587E7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992304E0-F17C-4F22-9219-72C318CED98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B1C5A87-2B1D-49F3-A658-35FE73E5852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57BA95AD-AE1A-44B9-8E7E-0904C0B7B5A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DCDDB54A-CE0F-43BC-B9B1-29AA7D7E5D7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2360FBB8-6B9F-4332-AFDE-32A4249C914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0AA5F2D-A0C6-4AD1-8BA7-EEDC76846DF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16A54B3F-5F2C-47FF-8335-5ABEB2E9FEE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93B02A90-6EA1-4E59-89EB-51327114A5E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B0033A5-1DB5-4C56-80D2-DD5E2E625DD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0D27AE47-3399-4517-87E1-5E1101D7F5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2A0E4A0E-1886-432B-A065-7E94629AFA0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BBFC9015-220A-44FA-80B7-828462C3E47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A6707DC5-5303-4D66-ABD4-F393A4D6A8E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C1F46C9A-415D-488A-8C61-7E6FD03EF88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8260A37-B21D-4D0A-BD18-124E16F78B9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807B3D02-2A37-48AB-B1BF-65166A08619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6FF6C81E-EFDF-4F21-8633-69D210D61E7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D901642-743E-4292-8616-FCF896DDC75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92400D51-82FB-4771-A01F-FBB9A306BA4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E2400109-D7B1-4BE3-ADDF-B53F125D61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6E122AC1-448B-4A08-AA14-01EA06D5556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F6DE48BD-62E9-46F3-9F8B-49B20643D56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EC6DE162-3391-4ADC-822F-F582A3ECCF2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C3B8ADA5-AB42-4CB7-AD3C-3B5FC5B5A517}"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3CCE9FBC-134B-438F-9C62-2F32CEF9F7A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5583EE92-063B-42E4-88ED-23AD5CD47A5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C2430265-07A2-45F8-91D4-C16420ADB25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2DCB0E3F-F9E8-46D9-99DD-1AF21A297F78}"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ABA3E076-0160-4976-962A-4406A7B4DB5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9FFA904E-1726-4E65-8A8C-0599FCEB3D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2649E9B7-2FFB-42FE-917F-8A6EC463649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E3B8F93F-93C2-412E-8537-7E7FB16A719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2DC72BA1-E1BD-44F9-9F68-5AA4EB48E73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C72ABE12-7745-42D7-A19A-A5D67CD2ED7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80F74EDF-788A-4CC0-AE55-E9130289AD1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AF5C3965-EC91-4017-AE00-D56446631D2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60E4991C-6F69-4F0F-9C4D-61952C65B7C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64F05513-A96E-4D0D-9AE4-E30ADBC9D39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0222B799-D742-4DC8-82E4-5AD30407AB1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CA441A99-7247-4A7E-8EBA-D839D29B13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5EB6B2ED-98E1-45B7-AFA6-0EDEF5BE61D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128C2662-41E3-4561-A8F7-02D57F2E54B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1C5D9FE4-9638-4EA1-A1E7-F5D025A8312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8C073C78-B849-45F9-968E-C5D8072E71A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EF23374E-ADFD-4DEB-8F60-D2BAA3879F3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C01BC577-916E-4D52-82C9-4EB01D96ACB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27E3B66C-F21D-492C-A6EF-9789F518D34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5E4A1E8A-EA9D-4A4E-A0A2-BEB1B371035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A7BD427B-09E4-4885-9CD1-907E1405973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7B1E4AA2-46F2-499D-9D0E-40E22CAA95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E20FF-BE2B-451F-8377-206E1B51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A365DE6D-111A-454A-8142-75B1E532C3D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CCC74A6B-474E-46A2-BFC5-4592E355BFD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32A533C7-68A1-4235-B326-407F0808CD1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4A2FFC53-8836-45C1-90A7-F63ABD486CE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4066578C-8894-42A5-8C06-697C0F052E6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E2B4A35E-86CB-4F51-A2EF-B0F768F3A5C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D4043CC2-531E-461F-ABF8-3EBC018CF31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E484001E-697A-4E32-84C8-B28DB284312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FDDE5D03-1C81-433E-BA8F-E9AA884A0D5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7F64EAD1-E8ED-4B68-A205-BADD232E47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41D8E-84F1-4FE5-90B7-EB467200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7688A521-EB01-4E3B-BA57-681B2DD5339C}"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EF5C56AE-6865-42B4-9D14-F5ECEC429E2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82A4FFE9-7BF0-46F3-857C-5A80DC26269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EF65FF86-88D2-4F7E-9032-936D99A1FC0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535B2C25-E97A-4A8D-B902-295A4E4DE39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2EC2426-4C45-4ECE-8E7C-073D237BE80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648D5213-DD88-45F1-B058-64F5202AC36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F723B858-2934-418F-8A9A-51A4AEE3FFB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769FF178-DA1F-49BC-9BB0-C93C1408AA8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661ACD7C-3205-4326-B63E-357C45E722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4CA0-8077-4BC4-8745-F8FB928E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6D6E512F-170F-4288-93E2-0E6B68D2764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D6CE94DC-FBE5-400C-A674-C96FA68B9A1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37480388-5283-4BA3-A370-50A91EEBB69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BD77806F-4F05-4F13-A984-33B6B6E9712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AD836582-113A-4635-B7B7-19B14BF9118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7B510CB4-BE4F-4C64-AAA0-EC408D6D3C0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193B016D-4564-4B39-82D1-864D1AF06EF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2628AC6-9BCD-49A7-AB33-55731E64C38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44D3BB2B-B313-4D0D-90B5-6E8883EE93D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F36A47CE-291B-432D-86AB-697C28093E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E1F6-1EC8-41AF-B882-87E654ED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978A2CBA-776D-4758-B131-011DB626F1B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9EE4F4E4-083A-4ABF-9FCF-D84B2345735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5C471257-7B69-4697-8C03-C1ADA12E8A7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776DF91B-BFA3-4025-BFD6-FE8320CA3D7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0453E794-1FF5-4426-BC6C-450F68D7136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D1D28D9A-4D9A-4D88-926D-DE9465A5B9C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FEBA0E8F-2D66-4C08-8752-811A91D9FB3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CC4CE317-5EB8-4C80-A41F-45A6DC3E58B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FB36376B-181B-416D-8225-0AAF4263D81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99355F4-A142-4C64-8D77-A1833E0609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2A18-6A32-4E95-AB2E-DA91850C3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013FEF93-FD7D-4867-B03D-54F846DF61C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F3C00193-9A2F-419B-B7D9-D66B212C11A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ECCCB0A6-60A5-472B-81AF-859AAB29ED0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246F3C7D-6B86-4023-8FDD-A13D25354C9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5DA3CA57-A95A-46D8-AF3C-D9BA4CE80DB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1DEAAD7-96CB-4485-92EE-18463963F79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50555574-18CA-46F8-9D95-4A4D452DCFD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E37A1E4-7849-4F46-8B6C-A5056DF43D4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B457909-B5C4-471D-9ABC-E08C69E65F7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BA7A45D7-B3EF-4320-8570-0020E8A6EA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8D65B-911B-4C38-87A0-AD55595A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831C884B-664B-4ABD-AE6D-7CDA90524FB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E0704BB-396B-437E-BD17-E26F8D7B4FE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8D2F1472-5D88-43C8-BED6-0D30968BDEE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51B2B0D0-FFB8-4B90-ACC0-0D639BA1C39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B47EF7BB-E35C-4FFE-8EB6-1FA5D91ECBC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C1211A8E-C2F3-4568-9B81-9C3F7A1B132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216CB727-E579-46A8-A137-02788D4ECD3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C5DC337-6F00-4956-94AD-97FCDAD812F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BD65FBB-D8C5-41FE-894C-D7F70E56B9D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5D6C9D0-B859-441B-BB9F-AC46CDD3462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DF3D-80C5-49D8-BBEB-575F5F69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FFA9C68F-561B-4F9D-9F76-C305BACC05C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C830B3E2-E557-4521-92D3-B2D0C7EA8A7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2DD1F2AA-B03A-45CA-9511-57350884400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F6E0EB8-98AF-4739-9BC0-788A1FC30FAC}"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419F7B1F-2D10-4A95-BFBA-988F31503E7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6A918208-7745-48D3-8B57-B728B0EB76B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3E1788B0-0ADE-439E-ABBB-1E079678617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833D1330-E266-43DA-8D5B-7348D65C9D5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C7A5818E-5022-48B7-9ABE-DEA9C77FC9C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A7F2FCFD-43D3-4942-81FE-32FC3B80857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2FFA-8474-4AA0-B45C-87FD2FF4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30682104-7A49-4171-9D3E-E5217DCE51F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D75FD900-3C9C-4EC1-851E-676EA0B26D0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C066D8D-B2E4-403A-8E67-13F0051FB8C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53444EA9-8397-4004-966C-A1CC421F600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F6FD504E-8319-44A3-B4D6-BDAD53A275F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01BC729-882E-4D52-9A66-6629E478974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6268588A-7A29-40BE-B2ED-30120407A92B}"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B2E5A77E-922A-42BB-93D5-B5FF089EFAA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00D4EAB0-F046-4A78-9A24-A045FF5546A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F50D5F03-90FD-4955-AA32-194F4930AB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34B9-641A-4B0C-B09F-A449648B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BB5F52FD-91FC-411B-849D-E4620D6558B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14A4B0B-9043-4233-AE0F-E0065C390D3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BCF59EC-D5EC-4A44-95D2-863CD5D454A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5770985-96C2-4BBA-B1CA-0EE4E117BCC0}"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12F1A279-8F36-4F6A-9C0D-69D9E79528D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2C5E2ED5-57FE-4B8E-8907-CF9BAD70877F}"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F043E484-D403-49A2-BC10-BDAEF3D92B4D}"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EA130B4-02B4-40A8-A425-1B52A2694769}"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EC3D52DD-5E94-4E5A-865B-183070EC6E7A}"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395BD840-A7B5-4A4F-BE4C-53B2A9EE0B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3CC7-904C-4587-9EE9-8D55A396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A0A95AA-95A6-4236-8641-0A394F982B8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6C61C8AF-0B2B-4520-B172-C7BBC9CC1DB7}"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BBF72B68-1986-41C0-808D-C79F50D60766}"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27F416E0-7C95-4EE7-A206-27C6E0E86A05}"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7D7E6855-0AB1-431B-AA7D-1321A3F3FFBD}"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8AE09342-3440-45CD-8DFD-64CF9BFFF22D}"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E3665B9-2776-456F-BDE2-F72F8A8CDCE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4DFA704D-C739-46DD-8E24-32E2758FE86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D7B1F8BE-6974-42BB-9B41-881B223147E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E648E414-B0BC-4AAB-8921-942E54D540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2EC3A-8E51-4E2E-BFE0-FF415D26B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1105DB72-F161-492B-85F1-E7DA944A65B7}"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1873F1E0-80C7-42E9-9F18-4E295C04515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C1241E4A-DB36-47BB-A09F-13FE3BDA7F8C}"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1E715639-37D0-42AE-A738-A36DF1392D8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41A047FD-481B-4D08-BC1D-4A0AE1793F8C}"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7F6880DF-C8E1-4AC0-A0A7-6B86C70A47CF}"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0D16E395-31A9-4C94-8856-D060A10F8F1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7D1FE076-71A6-47B5-8CB9-91E491225076}"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BF9EF08C-4CCF-41C4-9959-92DFF50AD5E7}"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848795C8-5449-4B46-8B14-DDCAAC32C7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8DF58-A354-4D50-B0E2-119AEFFF0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1C10BE14-84D4-482D-BE1A-0160D989B67D}"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64D7223-D485-4B6C-A93E-8266A730D767}"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7ADDA379-49DA-4FCF-8368-1DC1F181150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6968514C-8ED8-43D3-A121-60668E5C5D9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B12234D1-FDCE-4B8F-96D5-513822F5B3F9}"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BBF80BC5-485D-4ADC-8C28-997E8EFE933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346E1F91-9E8E-4B2E-813F-47C283AE70A3}"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065304C2-00B0-4D16-97FB-267D773EDE51}"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7420B623-9AFB-4D45-8B4E-B1637EFC29F3}"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C34785D0-050B-4805-AC61-404A3F6F1A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795BF4-1E9A-4EA7-8A5E-0B6A20DDDAD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9CCE07B2-BF39-4A08-9110-B8C4CE1E6C6A}"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D0632A06-E13F-413E-923C-F006F47BA8D7}"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37F01786-5E42-418A-8DD9-B9F4F49FEA76}"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0BCD4C9-54B4-43FA-8F74-0FACF0064347}"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BCB2DE24-27CD-49DB-AF1E-27B7C45A294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EE930438-6D11-425A-980C-BFD891E92719}"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85B18F0E-389A-4633-BEA4-8FA044F762BC}"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AD9E12A3-29ED-4D81-88FC-8BA451781B0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72A14F18-2FEA-45B8-9236-1793A66606D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39253B94-870E-40F1-A087-15264EEEC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62A4FA3-AB8F-4863-8790-21BC2F357A0B}"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C4D44E95-59CF-496A-825B-8C19C10BAB6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A758B45A-0283-42CB-A7BB-D245532C4962}"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8B4987DA-3657-4E58-BD43-5283A90FA5F6}"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F3C6580E-9CA8-49AE-8DE9-F44798013DB6}"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21863735-878A-4B07-966B-FD02ADDA3E64}"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268F93E-B05B-4E14-B035-CD5AA7862C3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7C59DBE4-FCFA-4D9C-BE60-BBB29681C21C}"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D9CEE3EE-5B55-4C0B-B097-EC1E40E19EE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F2B5E6CC-3015-414D-9D4F-0FF38CFDD8D6}"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5EB5DD4B-31A3-460D-B850-79FED522A7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09DA4B-967C-40B6-BE98-9C98DFFE93A2}"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98C70201-F176-4F39-ACE7-DA8D1DCB3D89}"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8F7059FB-3158-48EC-914A-233919B1A3F9}"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2F835235-703E-4C0A-A2D0-342290E93CF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E3A47474-2EBA-4EAE-A9D3-2EAF4527FEE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28E8E32A-92FD-4514-BE4B-79C0C3F1724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FDD69132-9E0D-49F5-B5F5-E224D5D86C7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D39EC8F9-2478-47BE-BB59-53FA3E1FC6C8}"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691D278-C144-428E-A9FB-5443715452CE}"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2516BD07-4ADC-4DFD-9B87-7B64050F5E33}"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D0D810FD-293F-4D88-B956-3D83B79A30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CA614A-C8E8-49D5-8889-D4186F7C3F18}"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8258770F-BC53-4D18-936E-7272708882BB}"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445C72BF-F403-4ACD-AF3A-8A295673227A}"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54E58A1A-56A2-4BB4-852C-FC9A4B657709}"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8795EE6D-6D7F-4310-B050-1D421F1955DF}"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33E6268-49AA-41A2-82C6-D4C6F165B0A5}"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D0D93052-0E9E-4888-8167-51C49055096B}"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BBB69ACE-BD57-46E2-B7E0-780AD119F5C0}"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DFE680B5-BE77-45A4-BE66-5F31CDF19D03}"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1ED44B10-5F38-4515-8683-8DAABF8F994F}"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6763A67-EC1C-4CE2-8092-4452A423BF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4960C87-6A0E-48D7-9AA9-4A60FE79EED9}"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A556E9C0-C205-4AF3-9886-206BFCC0D221}"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31C5F576-0EF9-4CC6-8082-5CC343EFEAB5}"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2954E2DE-8416-40E8-835B-A58BD3071C1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3F5D72BE-27B9-45D8-A6BD-87683C3F66AB}"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92AEB911-76DF-4926-AC7A-C4F90C3789F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B5B963C6-A225-4C17-845B-03272DA8381E}"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DD3A3CF-6D78-44BD-BC21-FF0E00F75185}"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43282C9-2720-4540-AFD5-AF8FE8811E7B}"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A5414C3F-7226-4C09-965C-B7D933E0828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74E8A955-C900-49BA-A593-3A2885B3257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8CB51FB-C116-4DC1-B0FB-D2C53CCB089B}"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852877CA-9DC6-4D7B-B476-E239BDE39CA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96A20B7-4A06-49F9-87AF-1AAC1A26CC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EDBC4DC-DAD2-4CBB-9666-98DC2F9587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EFB20CC-D01F-4629-8C44-70273E55C9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8590CE3-AAFF-497F-9AF6-D8170ABA2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ECB6389-F3B6-4987-A1CE-04C596FF30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6571014-3314-4B77-9698-71E637DB5A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9820FB3-F728-476E-BE66-7558F3DD5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B99F88B-2DF4-499C-999C-911BF6D7F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44D88F1-225F-4AFC-98B0-750541C94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8F19F1-959A-4CB4-85DE-62315C311E6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46CD912-19DE-42C3-AC48-87057B7B7D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78C9EC4-036A-4793-80EA-33F3A82651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99586A0-2C12-4480-9C02-51C5E46C27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DECCAA2-0F29-4438-9710-E3E190E29E7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337453E7-187D-4CAC-BF10-74453235C9E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D5027B4F-E514-44BA-AF41-C7138F46282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57D4CC47-1EA9-42C5-A2E7-3D1B53790FE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A3D90AF0-6374-4EB2-B1F2-67A39E37FAE2}"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00FDEB2B-A514-46C4-81CB-052FEAA7B7E3}"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10A9EC3A-86BD-4C2B-B4D1-52444736CB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202AB1-7DF5-4662-AEAA-F185D32DD17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1C02B793-1BDC-4605-B535-BFC1487327F3}"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3738879B-6272-41C8-9096-CC49D4E40259}"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2FD908F0-4368-4A6C-9A4F-FB0F8C394BC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53FAA406-DD5D-4A31-8AE3-A576FBA5579D}"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57C9E3C5-E8F1-4DE7-940E-D44C841CB6E2}"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06C4E4D6-8F9C-4462-8383-06322E689BC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B869FC3-D6A4-4619-8CF9-E7B64EFC1E00}"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04351ABC-1EB1-4092-9E56-87F4CBE67863}"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BE0D8EBB-3B45-4A76-ADF0-CB3E1553A7D8}"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8AD16A14-ED60-414A-8FF3-B795488055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427543-ECC5-4CF5-A0D9-E02A19A07629}"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4CF71921-02AA-4B10-B058-B1A86C6992DD}"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3EC2124D-CE97-48C5-BBF3-0BEE8535F983}"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A48F564-2C9E-45EF-9078-5F0452D958A4}"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099533E4-0336-49B4-AEE6-96445EDCDFD5}"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F5EE42AD-6EFE-4043-8611-67794D0258A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77A06EE8-30EE-4345-A104-B17065502D91}"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455178F4-8F90-4C4F-A4E5-FE296FDAB42D}"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B8432561-8C10-4658-8400-90D228C3EC2C}"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48AF2E62-34BB-4BDB-BF5C-B6B53523BB6B}"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3E410068-524B-417A-BA33-4A5FCB2CCB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63409F-E2D0-40BF-84B5-9EC033868F59}"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6476EF4F-6D64-404E-8C0E-16D6BF65E834}"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32D36675-4338-46EA-B186-83780628E77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595EA335-3F43-448F-8C20-77A24DB49D42}"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FCEC0265-772E-44D8-A1B5-4C6675A5111D}"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AEB4284C-8800-4D59-BDDA-EF44CE4A2FF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53C8F3D5-AC18-42ED-BD3B-EA4CF636895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98941C30-5A35-4846-B619-434653E4465D}"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20A6CDAB-0322-42B0-9283-E25AC74484B9}"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61CAE8EE-803B-4C62-BC13-7CFB672CFDCA}"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BB17C50-9C8F-4C12-A57A-38760697AA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F5CEE8-ACB9-4EB6-8AF6-7E8A3DD1AD3C}"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0ACD4811-A67B-4BEC-AC92-981F882DF8F7}"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80C3867-5BF9-4ED1-B4AF-72C16A1CCC56}"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7D45101C-04A3-4905-B277-9268E0873A66}"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C093459C-53D3-4AB2-97B4-D14943476B72}"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E9684C3F-F54E-49D1-ACF6-35DC9399255F}"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A826A78-351E-487C-9B8F-7B76BF8E6897}"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86CB4CF-4098-48C9-A1F7-7D0A5B9BF9C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D9D354D5-1AEF-40FB-A9EE-C2A875CF48EC}"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24366F36-1320-4195-B0C7-E9B8DC0EF9C9}"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0436167E-5911-42FC-BB23-4404A5A5B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A4E4374-997E-4CF6-A9EC-C9200ED3B09A}"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8E3CC29D-4F19-4B30-AC96-38253FC7A407}"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31146C53-2A44-47B5-BFC2-62CCD614995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6881E14-A71D-40FA-811B-51E47BEC472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9541189-6847-47AE-997E-406E0545310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FA90673-8518-4D40-A5BD-8CC0E56BEC8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B199734-240B-4CA7-942A-19EB0F7DAFF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2B3FA0C-4908-44A7-B480-3592A61A80D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04EB961-7B8A-465C-9BDE-11BCCCCE921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36C78D0-E2BF-4943-BEB5-AE720E57FF8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58FC186-4591-4436-9DED-29DA4DA2041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F897EAD-A61E-4647-BA98-B25D63BBC0D6}"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3FC207B-87DE-4D32-B622-D972E1669FC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A4830A7-1811-4564-90F5-9B9238F2F6C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C6D06C2-338F-4585-B3C8-96B5234CA71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62DC4B-E05D-4BE1-91FF-004AAA2290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59A8B1-D698-40FD-B099-E53CE136930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586629-EA2F-4D71-BDBF-06B90492D8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7A17C53-3307-463A-9A70-2A39E36F80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14B1577-7780-468E-8D2C-AC6ED51124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7B3A21-B802-4667-9300-60D9CEABB4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D77363-159F-445B-8FF8-149DE3C6AF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BC8228-B540-4357-8CEF-8D34C3020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66215A8-E50D-4BBC-A82C-8635FDC5FD6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DA8A4CC-F2C8-4E25-B6DA-02FEDC1FE2E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7F389B6-6611-4827-BC6A-BFAF6508F17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1C84ED-9657-4321-9BA6-E12F5C49A5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B56FA2-A86A-4947-AF6D-DBCDAC71F53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20F1CA-2678-4C3A-97AD-617998D0AF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55CA19-9477-4E78-9D3C-F0E1B6C1C5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DB613D5-711F-46E6-B785-74C5AD2D30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B86CBE7-FB79-4EDA-962C-01B16E76E6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660399-6A3E-4886-8559-ED54A94AC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9078C2-AB8D-43CE-BE19-9D617483F0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B5019A-B9DB-4A5C-A000-B2E598E752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E38DCED-8EBF-441D-B78F-3222B37F17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E983033-5661-487E-8F1F-9D163228F4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657F2C3-8360-4F4A-8AFF-CC74611692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8FAF41-E9B6-4F61-B516-74554BA08C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4726F6D-7B77-49A3-A86A-2C4A4AB0E9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F4243F1-38C1-454B-B893-938E49193A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88A17D2-C3D5-4E06-9D1B-3DE3262284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73B2B5D-A910-4825-861D-4CF0BDCA55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8463943-0A04-4327-81A5-4071C196BE0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78BF805-6E04-4DBC-8CAD-AD452F836F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AF3247A-87F2-40A4-BDCA-CE1DFC1C5A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277C06B-ED2B-403B-8173-B382B6D3C0E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CB228EF-077B-49FD-887B-FC8D0C04ED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AB97D0B-AC4E-4EFE-A493-68E9BF8CA4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9A5B961-3B2C-4595-961F-0769DCAFB7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7E759F-B912-4694-A3FE-6B7C45CA47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FBB89DF-7C53-4B13-8689-6528E9F8C0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183D23E-2BFD-483A-AF58-17E74B1B2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FF1C7-E7D3-4C9A-AB9E-5F69B0E0E40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A58B5-CE5D-455F-936F-C23D112129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9E42A-3620-4C7A-8E70-EEDDFA5E40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D4E03-3298-4AC3-B7DD-39D12C1B40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CAF20-2DD7-41C5-BF96-597DF4489B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BF118-C90B-437B-8640-6BA429A58F9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B33FC-829F-475A-9E3C-48F291AF4F6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C467C-EF08-4B77-BD74-5DF61845A992}"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C0AE8-19F5-4CA1-BC5B-5A188761FC0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3D42E-C0EF-4FE7-8576-8A7D71CBF0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D8309-4501-4F7E-B699-75F7103EB19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E1A39-CA51-460A-85E8-8A278EE5600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143E6-0DB5-44B3-BD98-7602121250E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F0637-7355-4EC6-9FE0-F44D69232D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30C9B-EB03-4A28-801E-8E2A2053ACE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0E6D8-DD22-4F76-A393-0751D54D2F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22034-A27C-4F0C-AAE7-C1AC1BC264E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FCD76-85D1-48BA-8E07-7B9C6CB2AB2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CF666-A8E7-4441-8355-031B7369FF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86022-8856-4539-A7C7-5B7550EB4F8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D6D81-588D-4DF8-9C77-B79873E0C1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13BF5-3735-49D2-A06B-AC06FF563DC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E6461-50A4-4170-B118-06E91AB4BCF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7276B-94BB-4170-98DF-188360FDEAF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E6DF9-FA33-4A55-9349-549B606ED0B5}"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66AA2-9A2B-4F10-BDF3-A0203AAEA03B}"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56084-8924-49E1-95E7-F24440640293}"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9ECB2-5FDA-4D57-A1A7-4F9783DCB04A}"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4BC39-5C64-4BE3-9092-8FDA4EFE539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C0259-A54D-46BA-A11D-BC5A99800E21}"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369E8-6AEF-4709-AAB6-8219ED52F60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24A4B-A794-49D4-A392-770B7C5E1B5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79442-FD30-4B06-95B1-572060B9E62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E08CE-8C69-4F96-A279-7FE0FDC0CBF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AE43E-C302-4DF6-A727-8DF4EED6642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6DFA6-0E8A-460B-BFE0-054B853D07E8}"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A3F0B-9836-4A33-920F-4E557F7F0C6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19F17-1130-483C-A7B0-F5A80F229D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D940F-78FD-412A-89BC-7A0AF0DC8295}"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56882-24C8-4E73-8E48-F84285AD9F44}"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F9BDC-047B-4FD1-9179-F79D614A0D07}"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62839-617C-44E1-9CC3-5290041B05E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2189F-8562-4933-BF24-0160A67A5FB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3B43B-E3C0-48DC-A248-D8A4721739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B9C76-0D8B-49DA-B777-B826970B7C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E8C86-BEF6-46C0-9E61-678C9DB7E8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E1DAC-9A43-4DE1-BD51-628F0D058F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4527D-0B1C-4F80-AE24-B598C48471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1DF8D-D705-4D42-90D7-2E04E0A25F2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741DA-A91B-47B9-9289-023A8E9245B7}"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E27E9-37A9-4301-8D3A-2AEAF4C3BFC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31373-4286-4899-A10B-138315A2D2A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53443-2DA8-4EE8-916E-B68BA29D72F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73392-231E-48ED-8174-09B3859B21A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24291-1FD0-49A6-93A0-C93204376CD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14EE7-C4B9-49BC-8FB6-12DC954F20E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48975-873E-4A66-ABC3-02BFA3F030A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