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2" name="PlaceHolder 2"/>
          <p:cNvSpPr>
            <a:spLocks noGrp="1"/>
          </p:cNvSpPr>
          <p:nvPr>
            <p:ph type="dt" idx="5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7FA72-2153-48DB-B928-79E0C95D50D5}"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1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1995" name="PlaceHolder 5"/>
          <p:cNvSpPr>
            <a:spLocks noGrp="1"/>
          </p:cNvSpPr>
          <p:nvPr>
            <p:ph type="ftr" idx="5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6" name="PlaceHolder 6"/>
          <p:cNvSpPr>
            <a:spLocks noGrp="1"/>
          </p:cNvSpPr>
          <p:nvPr>
            <p:ph type="sldNum" idx="5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FC1F0-F406-45AE-BD1D-780BAE1BF77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FF2B9-6B65-4956-8742-4090CF1AAA16}"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DFF7755-4348-4113-A397-10F884F1BE3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53C54F18-EBB4-4A65-AF37-1B82DEBB116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58963C4-C1C5-407B-B244-4CE62400CF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F9B8880-C374-4302-B58A-6D368AD384A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602970A-7F81-4C9C-BE8C-7B7E206D596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326308D-4CF2-4703-B96D-3F1C1B4DB9C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423DC5B-7344-40E1-9E5B-304F93774F2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58B6338F-685B-4B2A-AEB1-2C9E0CFD53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122F4D39-95BD-48FC-8F6D-57DAAB09AD2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A5611A8-F7FC-4125-BC6D-C29859B37D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8C448B1-07EF-408D-B596-CE84ADF24CD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A926F81-4833-446C-B6B3-6B17281BA7D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9CF4A7B-D3FB-4211-ACEC-FAE99D06735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0EA9935F-6477-4B53-BCE2-E3B9A5E799F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04026E8-BFEC-4E5D-BDEE-6B6C10FEE00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8F8174B-0B8D-445F-9C54-A173275A46C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283C15B-74D7-4459-B07E-38F7C66FDF1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744440F-D5AC-46D6-8512-47A4FD4A39C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93063F9-069F-44D2-95D0-051D4FA24E7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6A70C774-4BEB-49BC-8FA4-08DE1046EE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EE4E5433-643B-4AB0-B4C7-0807A693620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F3B2B63-0B45-435A-9A3D-E48B068C6DB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BE0DFAE-88C8-4029-868D-D91168039A1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F0B0B63-DC72-415F-9259-D915F88DE81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CD3D323-11AE-4742-B624-E115E6BE13C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FB6F01BB-DF3D-4ACA-B72F-DDFEBA818B4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070C76CE-62AF-4C6A-8994-45F1476D83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C76584E-D715-44E4-95FE-D34E116D55B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5086FD2-A013-4641-BD84-E8320FBD49D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D073CC9-7F46-4EB7-8921-D3183E81ED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5D6724D-07F2-4623-900B-5E8453AD034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6553F7D-2F63-4647-BFE1-A3F34709A52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36917CDB-DA1F-49F3-85C9-4B262E45DB4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6AFD5AE-5FD7-4224-AF3E-2FC70C1CAD9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0F863F7-6735-42AD-B42D-F79745FCB83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A57310F-819C-4DEC-BF4E-0AAE6C7E15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32788691-62EB-4452-AF1E-CD9C5965148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C24333E8-C5D8-46A1-AE34-34D74C62AA7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06DB0E16-7C65-4426-8CF8-43F354C139D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CD25E5A-2A99-431D-A6DD-0A9D9D922A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7181EC8-22E8-4C39-A33C-29EB43A8D9A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A78653E-266D-4AAE-A9B4-03CD4F5E418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E201438-3B2F-420F-A495-F7EE1CA2EC7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CD5ECF35-90E0-426D-8A2F-B02677AE725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3E7DC879-7745-4468-880A-2AC32C7E0FC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7344BFF-21AC-4B0E-B1FF-8B485DBA796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BD565F7B-9C5D-4C7F-8392-7BEA67B83AAE}"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69CCC1F5-468D-4645-8A99-EB0F6030160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498F50AA-06B1-469D-9935-0A1C24E9F69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A82D105B-99BB-4589-B92D-DCEB4D487F9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7E6B8209-4BF0-46BD-9A0B-4F7158198B7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2570943-FED8-4E00-8F29-7137C2CBC80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BC64EB6B-7278-44D1-9923-DA74B3281DC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FD48971A-FA59-4186-8796-FBE4812DEDE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9E025DF7-DB98-4612-BA81-E90C4492B4E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7ACFEF3C-0C4F-44EE-9B93-BCE9A503322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AAEE1479-F71F-4C59-BBFC-9C3A7677171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060E036-D8EB-412B-9A64-FB8FEE3F139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C69A4A2E-D6C1-4AAF-8119-120030A6144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0BFEAF76-E12A-4F1B-B2F5-2C9878A9BC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6F58F85B-A469-4215-9071-02A64F8C6F3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C68F3A3A-26E4-4CD6-BF8A-C8E890D6D11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E7B41F42-26CC-4E9F-9379-6F0B7583AC88}"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B35A3272-F9E5-4391-B9BD-D2301F6C97B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50BDD7BE-7858-41BE-B72A-F8CF5CE68A6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EAEC35E0-F151-4FF6-B3F8-BB4427ECA72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10CFC46E-6109-4FBA-B7AD-2C82337DA65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2A1798B6-22FB-4410-9A21-A4B2F7AF1FD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47A7C49D-117E-49E7-8ABA-8B0E39102D9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B0F2F3C-361A-43D7-9F57-71F05AED72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E61FB842-58EB-4002-A6A9-F7E044FBFB3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A0F4C703-18E5-498E-9816-467773BA965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B96AB362-0530-402A-9867-A867A3ACACE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8F8C07CF-FF2C-4B5B-8170-891097FB8B3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294F91A5-E4FB-4254-BC2A-FEE06D5FF9C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C332C09F-FD6C-478A-8569-F1F0ABC2E251}"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B09296D-4745-4E3F-9284-0499FE97B18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FFF02B8-8FF6-490C-9F0C-EEF1092F235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8DD9E768-364D-4064-9B8C-0BF1A4F7D87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518A60BD-3C9A-4B44-907A-252743EFA6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D6DC348A-8547-41A8-B714-1B65BB00EE7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A8F0C66-20FF-4343-B409-EB372262F82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DBD24C4-D380-4D02-9D7C-143BAEC459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D0B7338-E172-4E70-900D-55C58AE77C4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310475E-08AA-4AB5-B02C-E429BFBCA50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7CF6846-0780-4EA2-A837-E255CED682C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A51ADEC-1484-4099-BD8A-02CECB1FAB3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E5E55F-6A74-40F1-AFA0-F9113B2F130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2E31CA8-89A6-419E-9E91-84DF6DAAB04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427BCC9-29BD-4C75-A21F-6B10664E42D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6E1330-311C-4DD3-99A7-880F03D288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3E397E8-EF05-4750-96DA-CA2ACE17B58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5835C43-E405-4252-AA97-60755D1D645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9E8DA5C-BFED-4BE9-8176-475EE783C50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F33B769-8054-4507-A22C-104E4967FFF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62721C97-1398-4105-AB7E-7350A163CE7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8EE697B5-881B-44BC-AD92-741874710ED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B99A0C83-A306-47F5-8655-43A39AF7C19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E4F60867-DC98-4AB9-9396-EF15ACAC643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CD629C65-0FED-46F9-8929-674BD5D89C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BF9FED4E-2B3A-414A-A46C-B9C37A81EF8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4EAAB337-690D-4CA9-B514-EA3CF9E9736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95C1E161-463E-410C-BFFD-A7C25953808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3DB391DB-06D6-4186-9CD4-A4D989B7A3A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1EA58C56-0A41-4FB8-A780-B839414B88B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76BF1F6-C914-4ED9-818E-A35533AEF2C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D9067E9A-D2FC-4245-9E56-664EC017C39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2C7236D4-ED95-45B4-AE8D-1F34662234E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450FDB13-A19E-47D3-984E-2FCBC47E73A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FCA6A7DD-135A-4E0A-A7BC-7DC500F8DA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F3941B05-B4C6-4E15-B2F6-10B526A37E9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53DC44B4-4006-4C24-97DE-E1B569ADA35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285BA9C8-3055-4E6D-B2AE-98B35DCB2AB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DD070BFE-170B-4842-A3AE-62C38AE4365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49EB25C3-D060-42C2-8711-24B1EC8E2BF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A6C03E62-864D-4609-831D-55397635724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C27798F7-CD47-4828-8DC9-3748ACB12C7D}"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0A8F87E-F651-41E1-B8FB-1BE47B2F340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203D5F5-F344-4561-8385-B2ABD00371C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82E8130-A109-41F7-9574-87E0CF9A91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2937DF42-4796-4CA9-BF7C-B4C864DC473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AB3E077D-FBC5-429A-8E27-9CE45B82534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35D5B6DA-27AE-4925-9F67-A97A6F3B968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F997594-243B-4DA5-856D-3B08B05879E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8AD7451C-DD34-45CD-873F-699F325637B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F3F1C2D-BA82-404A-B96F-F00D3DCA032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DDF59BE0-1ADB-454F-9515-612C856835F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F3B4F53-5276-4E90-824C-2CFBDD4E904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3D10A5CD-A372-44DA-ABC2-A3936187D72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BBF4F7D-FA91-44E6-B003-91FAA272AB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D4ADB617-CDE5-49BA-83C6-0CC80CDF950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3088DB23-A3BC-4115-9E1F-ABB440C84DB9}"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7D457AE1-19E7-4D02-BD5C-2C979514C05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7A262A51-FB3E-4356-960D-C650F63BF62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41186620-AA56-40D9-96F2-382D3B0B89D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9A7394CE-DF10-48BF-9223-D1582AD1498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608EA69E-3BE8-4B51-A696-1166923B357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353F4D8C-1318-479F-AE3B-471B24A09E1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B6527F99-58E1-4285-855D-4EE1334813F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CFC2DA6D-09E8-4760-BF1E-E29B10AF49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85A8E0A2-37D7-48D0-AEB1-AC8F7485C05D}"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00D1153-CBFF-470D-90A8-ADC91B7D3A04}"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9014D969-18B5-4D4C-951E-57538CEDF63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9A91CB40-68E2-442F-8F49-BF303428C1D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6AC114E1-F7C5-43F5-B633-BB09B93B34B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257F3811-5679-4014-B1F2-D7F2BF2AF30B}"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2A9C8942-1F56-4023-98BB-1494703799E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993CF81A-DD7D-43EB-86B3-DBEF514FED4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C07D442-AB36-425F-B603-A4F6C2899B1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886A9A58-F7D4-47A5-BC2F-14F3A6834C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A4537EFC-276C-4486-8D3B-B6D52557F04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850BE378-1CE7-4499-A023-91CFF8162A5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0B7A2D8C-DC07-4F4C-9CA6-C3559608E89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0B454356-2ABA-4572-9B8D-4AA7D0BEA52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C1A13601-BEDD-4A04-9FCB-4B609C37291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A0D27657-6B53-4E86-ADFB-B69D15657CD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2B538CE6-0AC9-46E9-9499-58C8BD0AFA4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1392E6C4-9A86-4174-8020-719C163EC6E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FD2CC279-0985-4529-A082-9CDB5B25A9B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C6E2D50B-7BB9-4F24-AA88-A28FDD2ACE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0F54B994-94B7-4656-9FAE-76B4F9840E9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9824DFD6-A249-43E5-A5F9-FDB2E9B9DE8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04BC2990-6109-4900-ADD5-F05BC607079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DCC6EEFF-B6C2-4DB9-8BBD-CA0BB28A919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987C1933-10CC-421C-9107-2DDE3AA6C8E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913950FD-8B6C-436E-A438-36A94FB6634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AD7CCE4-F25D-455C-B4AB-0F5EC0C4409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4EB071C-4A35-4F61-8AA1-5AB88789EC5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D0C7136-81F2-4258-95FC-C8C41E4FBF6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0EC20875-A177-4F8E-9115-E4E5481C8C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C2C9A0D5-9C91-4A57-8C24-BEE835C6DED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753308F-003E-4905-AB96-0EE873349A5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C4740AC-9DE7-477D-BCE0-9575204FD55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C581549-6519-4F40-9301-34A269D94FD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A1BB3A7-AF9E-4F62-A465-550C07F87A9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E2F5579C-EA63-495F-8589-60E2C0A60637}"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208D314F-9E07-4637-82E3-56B4F91D17C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43E88EA9-3C26-4A1B-A17B-D35AD64920A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DD5EB2A6-2D51-46D3-BE99-E425349AF39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E75F8CD-85DF-4C4D-A52A-85B33E8C87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585D7C15-4E9C-4349-969F-87ECEF2B489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A122820E-B3C8-40B9-B55F-C50BD06BBA4F}"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5FEF70FE-E020-40F1-8EF9-D1FD0DE9D51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935E77F-8A39-42FB-8D13-4441CC67B34B}"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5BBA87F-ACE7-4736-A731-283C5B70F61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15B9C59-F38E-45D5-B907-D3207E848E9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7C0C41B-6634-4009-9E71-E22A2B322DA3}"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981FBD8-7824-4AB2-8D84-ABCDCC3AE988}"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73746BCA-4D97-4D3B-9544-395264CC23E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E2E2F1D2-14E6-4A50-ABB3-DA5CA7C02D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8079FE9-D1FA-4091-AE3E-2918E2A967D5}"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60EC4094-B873-46D2-946F-F0D2A954BED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E5BD7A0-1A24-4928-BF43-4B62047B93E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7CDFFD89-F760-4BC2-BC0B-1E8F63AD13B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1DAC0D8A-010C-414B-B7F9-B973877E8A1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BC71649-74A6-4CB2-B3C7-1E5D20C18C20}"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6A17F8E-0E9D-47EE-B8FD-362AAC1103C5}"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03B6957-B087-4B3E-BDCD-78AC6C607EB8}"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0D1C75E5-CA6E-438B-AFE9-E966DDA5E7F2}"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CE2854B-2A82-432B-B8EB-C104ED9975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9FA9FF05-A8C4-45E4-B42F-45D9D224539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E2F328C-C6E1-4AEF-9BEE-879A4F13E5BA}"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85A46E96-EBE4-484D-B1FB-F1BF6D07D723}"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5D2A535C-0540-4F75-9181-7F4AA3CB3AC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DEC42DC0-8519-4BF7-B156-DE0512081F0C}"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93FE5239-CBAC-4022-B9D7-A3BCECC4C796}"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C803C0C2-3046-455E-95F6-4B3ED924206E}"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9FEFC5DE-EBF3-4203-AE61-2BAD401DEB3C}"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936AE5A1-A572-49FC-AC90-1FAF2D2CCAE8}"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80430852-1E09-43D0-84BB-C44E62260C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272D9DE1-2AC9-4460-89DD-9309FE6A919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B94DC839-67AD-4665-8C40-30989F8F84D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204EBBBD-0E88-4E7C-9B8F-272A5090B57C}"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2E43B06-3E14-44CF-9790-FA8680BB5936}"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92302298-7E34-41FD-B211-686FDE0996F2}"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E9C1DED0-AB0F-481E-8B5B-85EFC4A1D5C1}"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C5917AC1-7DAD-4793-AF04-09D9C64366DB}"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8902157A-C21E-403A-8142-5B7F5FFEA348}"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2FB8055C-9B89-43F0-9FF8-455DAD0B8F23}"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0BE35FFD-D98E-4250-BFB1-FF259A03F84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0A4C7A0F-DACF-4FE0-81C4-C5F0BCD9AB57}"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EB1D83C5-36E0-4104-AE21-F2BC9CB66C2A}"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3FD9927D-9C5E-4843-B4E4-4DD1F7E6B3C1}"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FC4029F1-98FF-4C00-A84F-783438C7B7F7}"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592F3C22-0BA0-4A6B-999B-BF8852EBB039}"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3395E28-D298-4469-B3BB-FF29FD2BF420}"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38770756-1C50-4C8C-BC47-8736BCE628E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85DEE6A1-637C-48D9-A0EE-948D22D64A4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6469A712-2103-43C3-BF95-0E52C282BB61}"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ADBFDDDF-EBBF-493F-8D14-C8A7A9DA310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AD368735-0E64-44BE-9D59-8DAE3E7B9B47}"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0D755356-92C5-44D0-89E1-1EB3402CCA6B}"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50935F06-4992-4AAB-98C9-627D401A26E4}"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26CC4EBC-B48E-4E96-874F-1AB91C998254}"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6801C84E-1539-4693-A609-37565E1C8115}"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BB3E90EF-9EBE-4D97-AB33-7CF3F70B2639}"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A5A1F1B3-59A9-41CB-8277-763D18E01A9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55575B32-F6D5-4765-A2D6-8CC642653734}"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3EF0A6D9-776B-4C78-A463-609243638DB0}"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0CB0F8DC-D1F2-4D51-9E80-9A86F269B1B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FD96CAA2-F42B-49C0-BF48-DFF8CD5BD008}"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1B992B98-2E60-474E-9AC4-7EC5B22C71FB}"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85AB5EC7-01C0-4C25-803C-D464E8A46FA9}"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B83C5684-6FF6-41B6-95CB-769043DEBE0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066679DC-F755-4BEF-A97B-AD0448EB4E3F}"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BBD1F9FA-24B1-447A-B2C3-72D6B4B7E835}"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C8AD1B7E-F745-4979-9A03-047A7C5E2283}"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214B9994-3748-48CC-AC5C-0B91B89D3A7F}"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97E2366A-1099-48D9-BAFD-89E9F215E08C}"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568A199A-18E1-4CF7-816C-1B26100E8B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F976B681-C7A1-46B8-83C2-1FA05CF9AD3A}"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2377DA16-9744-4424-B72F-B3DC63BDA8F4}"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99E8CC9C-6F32-4BAF-8344-2E93EBBFF351}"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F5F6174F-46FD-4430-9AB8-A965A0BFD08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8B2BE664-767F-48B9-8C2A-B091E5F3547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3673F175-5448-4BC9-A14E-641AAA5B40DA}"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ACF9B3A3-0C2D-45F6-BCBC-BB78ED13E73F}"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EBC22423-8B05-4D12-9421-C31C40AA984D}"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5CF351A2-7495-4119-A623-B2F13F0C816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F48F3100-AA00-4666-9ABD-AB8113DFFF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F6FEB414-F3F5-4C38-AB01-E7AE4FBB4441}"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E843937-D49A-4A5C-8D4D-930010F450F6}"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0715AB12-3AA4-444F-A522-C3D3A719F2BC}"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314B1A0E-71FD-4382-9A3A-41A022482DBF}"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0EA4A94F-23B7-4B5D-A33F-EC8B6B1CC7B8}"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4E19E090-07D5-4861-8F7C-C0773B1861DA}"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C7123C96-7DD0-4A92-A54E-34233A6F6C0F}"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3D942C03-CF0D-40B7-A43A-EF24274B14F3}"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B61A374B-3E1C-4C4C-9665-0347239B4F25}"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3FE55C25-3826-45B4-A785-97570884A72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6B326-D6F2-4DBF-B236-FD4EB8183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95F927B3-8D53-457A-B3AD-8C16706F3A47}"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D0A1959F-5ACC-4C84-9CCD-A98B2B66DD0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A2925F99-E452-44BB-98FC-0B6255811AB8}"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B3BF6BE8-4EBF-4D01-BC31-80E91429B6C2}"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410CC19D-926E-49B1-A815-DA63B2C1960E}"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09CA6435-5B3E-4A2D-B423-8AB15B52741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3DBF3760-9862-4C23-BEE4-14D4F602B27A}"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8633EE03-FEEC-4C8D-B30D-EDF55209EAC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080ECDA4-2848-4247-9E56-DC9C3C898798}"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4E8ACB3B-A919-4F47-867D-304E0B79953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444BA-3618-49EA-82E2-208E08670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BDE1F619-0E4C-4015-9345-FA47B98E9BD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10C21052-F020-44A0-A32F-B2B9F399A018}"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9AF9FE53-00E5-40F5-841B-2543938C82D2}"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7D4B62F1-9684-447C-AB76-4C1692DFA0A6}"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754D9B6E-777F-4CB3-8FA4-DE8E97573158}"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41A0C07F-14FC-44B0-A425-56DC721242EC}"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2BE132FC-8891-4A32-A797-7455FC4D36DC}"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C5D9D328-E32C-4AB1-8846-E7108C8A6153}"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6B93E308-C865-40BD-A11C-08414CFEE6C7}"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D336C41E-AEDF-44E9-B761-FC53AB2325C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22C58-FF33-44E2-B195-0180FFE08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C6CD471C-11E5-407D-9796-27F670454E5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95839A87-A60E-4B00-BA5E-ED89755361C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8627BB81-716E-4086-A3F8-C0CBF4988F69}"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319D5611-C356-4DDE-8D78-394B05FE47CE}"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BE62F788-DC3C-4F39-9BE2-B5460430F91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905A1F04-D5CF-4A5C-8471-BADD1C2DAF64}"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45DD4286-714A-42FB-A3F1-FFAFC279813D}"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A7686BF6-1BFC-4B18-9CE4-724A6135004B}"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B28C2A9C-17CB-4036-8916-468B3B9FE742}"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7FB24B4D-632E-454E-B7C5-FB8441F73A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63B12-9E2B-43CD-9C36-9F0F83BA9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7DB122F4-B149-4086-B6DE-62C7CDC6BC2C}"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3BEF1154-FD3B-4914-B225-092457DCC634}"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19B29B53-2804-4ED6-8F7E-C6CE03B30029}"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3A71539D-449B-4AE4-A133-939BC50CDC31}"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BA5CDE7F-C553-41F5-8EB8-3964ACE17535}"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28282DFF-5A9F-400F-98EF-31430BA4D7E4}"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1B6A193A-7C6D-4C93-ADC1-9952B3C4C9F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B208FB4F-5643-4F2B-8A28-399A7D5C503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920C7478-1D6A-428E-B941-2402CDEF78D5}"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85A1286C-C7A1-4766-AB69-DBCE4DBC099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8FC5F-83D4-46EC-BDCF-3563E02E3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52BFDA6E-D2FE-4380-BA05-D6997B81F43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68058476-B033-4636-AA4E-380B1993A1BC}"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61559319-7531-47C1-AD30-944906AED936}"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22FD1E89-F324-4F8E-90CC-D8FDA378EF82}"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B49D7198-8229-44F1-B8DC-593E82B17341}"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C6E64111-88A2-4F5A-AA09-315BBF766261}"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F7C3E97D-A01D-4472-898C-27979659284D}"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17799ACC-DD1E-43B9-9E31-16D645EC81D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49BE576F-5B0E-4D9F-AC21-C82AA67AF8A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08B72CAD-5585-4B96-BFE3-A1C1E8E086C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1AECE-9D27-4231-884E-7E80D488C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6EAD815A-687E-41D7-A275-4BD87A86C0EE}"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6BA5D71E-0D33-464E-A244-351F796C64E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69A5A559-2793-4DB9-98CE-B746876E92F5}"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57906706-DB24-4BC0-A808-1B1CB473EB4D}"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CC944F7A-7558-425F-823C-B7C1903133F9}"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C6AD817F-62BC-4B7E-A7B7-09B158FC05B2}"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455B99BE-BF4D-4678-8C60-1094A6BA8590}"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E74BF08F-1DC2-49B2-9CFF-922FEF53C9CF}"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4D04E29B-0D7A-4FA2-9A09-0D504F3E339F}"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A36E2C81-3339-4E02-9903-BCE282A03A4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4E81F-073C-4772-8FCB-A70500D8A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5BACF9B8-B367-43C8-8DF0-0840E81BADE8}"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552D2EA4-6F76-4328-A5D7-33309EFC37E9}"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FAA37A88-18F0-4F34-B73C-FF84232128C8}"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7C464696-7AE5-456B-AB63-B2C98990ACC2}"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8A22E46F-86A1-4930-AB56-6D9DD2902F39}"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922D391B-E081-4DFC-93F2-0E0A94520553}"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24A86AB3-1C41-4718-ADD3-E909F556827F}"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4F7C6D9C-FCDE-49AE-918C-7DE6CE311EF6}"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F0450173-B647-41BC-AA19-4FFBD2A3109C}"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57AEBE8D-7E0F-4E8F-A14A-6A8B241BBD6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AB3E0-F9B1-4098-9C29-31D6612F4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1D60AC9C-DF37-4972-BF69-6906E0A1B24E}"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E865455E-DD47-4830-BD47-55C950CFB4C1}"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CEB97E9A-BDF3-49B6-8E57-4B65A87F18FA}"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90931EA9-772F-4733-AF9F-DE67F91E5302}"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C6ECD3F5-078A-4C6C-9533-481021208572}"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8C6A1367-B439-47A6-9522-663DD3E69EA5}"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DEFA4E1E-5B27-486A-8CB2-313C08AF5CBA}"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BDE07D77-8CB8-4E9A-AD2A-90A2DC24E29C}"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09AF09FD-8F53-4F6A-A352-904CB2F79351}"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85B41FB4-3CBB-445E-A6AB-43FA57C2B88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76BAF-8DEE-4067-B549-EECCB366A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3B1D2FFE-A7F7-4E43-B498-484D93B6A119}"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E89961BF-BC95-41C1-817C-BDBD119E0289}"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44DAE7F7-FA19-41E0-BB6C-D603BE381DC6}"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C40D77DE-7F9E-43B1-8A9F-9F0D576FBA63}"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EC5AE64F-361E-4E91-8280-1DE9401C786D}"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E560E3BE-15FB-425A-B074-E2BCCA2DDD7C}"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E2F79472-6239-4D79-8402-57B7F46D00F1}"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275461D6-1350-4FCA-8DC5-B70EE755308C}"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371E3BB5-37FB-4510-B558-DFFCF6D8EF26}"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7FC249C9-F089-4427-85C4-BC8E51ED294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F951C-FADE-4DB5-9FDE-7C5A342E5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12BC9535-E456-4F77-8F43-38259E09DF5A}"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4FBC422B-82C4-4331-9C90-B7BB614FFFA7}"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60EC58C3-BD73-435B-B40C-C3FA37574BC8}"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313042BE-238B-406B-80D0-95FBAAA7C6D1}"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C23BAF31-484F-4E97-B269-88036D1E8FF2}"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6C1A5452-BF7C-4C66-9B67-A170E7A189D2}"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A77FA23D-6CE5-451E-864F-102B72E3C8D0}"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51C96CAC-2912-4A7D-9064-4C5C52FA6CF4}"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CE5958AD-C090-42CF-818A-3832EC7B7E5B}"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5B9571B4-35DA-44F2-9019-3297B61BFD1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D0A66-0708-43D7-B519-BAD8680ED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074EFB38-A04E-4D3F-96F6-6C53CD8C4194}"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C20FA43D-66CB-4676-930F-B442CE2E71E3}"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22816E9C-75E1-4929-93B2-D0361AB4B2C8}"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02A2B980-F7DA-4BB6-85C9-A793ECAADF87}"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A9406610-09A4-4FD5-A666-40E1517B7783}"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5C55600C-B4E8-42F5-9669-328416B0D3C2}"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4EAE036E-7FEF-4393-85EE-29B6B7BE6C81}"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5525246C-3C20-4D83-AB64-C62F631BE910}"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1C34AE6C-AF82-44C9-B40B-FDF090549BBC}"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8DEF30CA-F4B0-4B91-96CA-B08D90FB177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BA682-2C80-4A95-B38D-CB1DE946E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6DD295E8-7D78-43F9-BAF8-0165EAC8F98A}"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AD458447-503C-47B0-A3B3-BBC1492DE075}"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3DCD8151-05F4-46CC-839B-4AB6192F7540}"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6DCDF6AD-3218-4205-8192-DCAD926AE7BD}"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5C691208-9DB3-4EF5-956A-C36DD409A874}"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53A051EA-AC93-46FB-848F-368E573D38BA}"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F0585901-BFCD-4CA6-BC2E-7214657D0381}"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4E5CC68A-4509-492B-9F00-CC5418B90D58}"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A0994930-CC5C-49D7-B016-63F1F1210DED}"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B89B1243-4AA0-4DFE-939A-39835594D9E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A646AA-F98E-4BED-8F1C-24A64E258559}"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F1587964-9090-4B39-BB61-D5CA70F2FDCE}"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17F30C18-9EBE-4118-BF9E-08E93B7169A2}"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15F8B780-4A8A-43F6-B415-1250F0AAAE95}"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237256D9-4D5D-40A3-9D84-AA271103DCAE}"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3CD04E19-DB5C-43CB-BC1B-5797440CFC11}"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33E86C69-784D-4EE5-8C0B-BC101EDD4F57}"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35965CFD-FC71-4E42-B68A-ED59A080A632}"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605AF8E8-C748-481D-88A2-1534A7E3EF06}"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3"/>
          </p:nvPr>
        </p:nvSpPr>
        <p:spPr/>
        <p:txBody>
          <a:bodyPr/>
          <a:p>
            <a:fld id="{AE4DEFC2-BE5D-4029-AE5A-3640580A2A9F}"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A6FEBD40-A1FD-4E53-99CC-6D4A24A934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87A8C46-4A64-4ED6-80A2-F479E44318EC}"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358CDB64-DFA3-4F34-81C6-DC771DF030B2}"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49C3D33D-315F-489F-B8E0-67CD15EC264F}"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456CD864-DC0B-46EF-A419-4D7E045EF9DE}"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3"/>
          </p:nvPr>
        </p:nvSpPr>
        <p:spPr/>
        <p:txBody>
          <a:bodyPr/>
          <a:p>
            <a:fld id="{DD84D60C-BBF7-4A3E-8CAB-DC7054DA7476}"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3"/>
          </p:nvPr>
        </p:nvSpPr>
        <p:spPr/>
        <p:txBody>
          <a:bodyPr/>
          <a:p>
            <a:fld id="{3DAF6612-4267-4521-8704-2FB8DEF9F2EB}"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31DDE441-2BF3-478C-B682-B530423BC9BA}"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6780E995-D6A4-4774-B22A-EA4AF529ECF8}"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9A53F409-2DF0-4A27-BFB5-45A7B314CC94}"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AE198F0F-DEE1-433E-B80D-29F6563E0427}"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E9EB5A20-3CD0-4C5A-95E9-4C6AC809236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704863E-BEBC-4FC8-9996-F51140C867A8}"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46E05F53-A148-499E-B41B-CDF0AAAD45DF}"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1AAD1C85-67D1-4C6E-9FD7-A35BCADF77F1}"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313E1A6A-6A9B-4F0F-9841-AE11EDB981C8}"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3DA5D415-8562-46C6-8A7A-79465964E83F}"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B4E36927-8267-4B18-8960-AC875B5C90FE}"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CCAFD20B-F274-4975-855D-25BDA902EB66}"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2CD6551D-8363-479F-94ED-9F39A3675D7E}"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9AA26EE6-22CE-47AC-9B38-DF8630D5128B}"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6165444F-6F7F-41C7-8E5B-0AD6D16C170D}"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5AFC85C3-141F-497A-B3C9-611704DFD2E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5DD4AB7-CE10-4A79-9B5E-FF805E17745D}"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8F91F68E-54AA-4CE7-A3CA-9FA73A10A8BE}"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12CD77BE-9698-4AE0-B6C8-18081AF78DAC}"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D83F3B78-D7D6-479F-B631-A72845CBB52B}"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5DCD563D-DE40-48EF-9F40-A14FF9B2BC12}"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8F8A8D12-36D0-4C53-A98C-E25088A1164E}"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9B528837-8991-4A5C-932B-41E35D7A87D2}"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50B35563-9011-41C0-BD01-B6DC5EBB6261}"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BC4D627B-8308-46E6-8973-8EBB43E19A9C}"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4B35493E-2EB6-49EA-BC9E-34057D2AF700}"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38AEA32A-20F6-4EC7-9056-1992B1973C8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E535485B-DC90-41CA-B222-1FA77D3B6DCC}"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3864B90F-BAEF-4B44-B5F1-053AD70FC751}"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4B7E9270-39B2-4E42-800E-9CBBC7AFC7C6}"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58091DD0-4FBB-4503-8C6F-A0FB1C83D812}"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783B1FF4-062D-4E99-ACF7-D2C110730B01}"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E44EF4C6-4C7C-47D6-A5CC-43A121DAA0D9}"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1716F009-D2A3-459E-AA1B-0C613107EDC5}"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8CF9E484-1BA3-4810-BBF8-79BAE101C057}"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168E5DB0-E991-4809-946F-CE250A1E524E}"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1A77E064-0827-4C65-B490-E262D00215EA}"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EF83A8A8-BFE5-4A2F-868F-1BBF762CE68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CAED7AC-929B-4E86-9CDB-F075BF7E2388}"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53E51445-1DDB-41D6-AB41-765E03FBBBD1}"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AA4FBBAB-E97D-4FBF-B883-5D66D873EE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B1474524-799F-4C44-B557-CDF3784CA2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2D4D1BD-019D-493A-9B8D-21FEA73EDD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8C96285-4DDF-4221-AB81-AAA3AC7C95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CD806CCC-B71F-4667-ABC4-C4AC2C0864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1909627-CFCB-43A6-8359-EFC932E9D8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A065033-980D-4376-AA0E-FA66E7F502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2167E23-BC9C-45BA-81F1-26CD2B2645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0FFA983-2715-4E6A-B734-3BF11FBB5C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B46203B-C3FA-47E9-9269-6595C977F0DB}"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5192E1D8-094D-4909-96C2-928450483B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7209A08-5411-4C46-9CA6-87AB6366A6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A1A00ABC-83F8-46F9-9233-3970BA1C7E9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D52BB418-6EB6-4283-9BD5-589FA4443109}"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F7C9E440-EB0A-43E1-AD05-247E74CAAED5}"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28D22056-CDEB-493C-8B46-6593F2C18564}"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96832A9F-6820-43A5-995B-5270AED6C810}"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2EF112E3-8F11-48E7-A64A-D190765E8756}"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C363C4C9-7E05-48EA-8B3C-24831E621EA1}"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7471E239-4379-4354-BFB4-166B6D82D7E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A99D6D-CDE7-4061-A798-7558532FE607}"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4D750DB5-F76F-4071-91A8-86FA1AB2F3EA}"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98BB8F0B-1854-46DD-AAE2-0C0C0147AF68}"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B5DCC58E-20A7-48E2-91E5-321BF9E60C21}"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38867C89-28B6-4E88-B2CF-0071FEFC154D}"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A8AD730D-B71E-41BD-84F4-B9706A46DAEC}"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F5F50F61-105E-44E6-A9F9-DE9FACCD20FD}"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E2842141-40E8-40B1-8467-97748E793D87}"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C75F5E49-B231-4804-BFF3-5DF593383E23}"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27795D00-1AF5-460E-B011-24191787BF0D}"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DA0799C2-42A8-4D71-A090-AA00367FFCB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D8602AB-D17D-48EA-9864-F4E3190518CE}"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5603100C-4813-4FF3-BD6C-921C541E75D4}"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BF14A477-B397-4DFF-A400-8C80D9CD81F4}"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F6970E20-9286-4A66-9B04-A80C3587D1D4}"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6799EC2B-1927-4536-B7BF-CD6A91CC2764}"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5A232BB7-879A-4A3A-9955-89A58AC10252}"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D5B3C000-40CC-4FB6-A508-89102022FD2C}"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E0947A1F-5E2B-4E3B-98EF-83D23A78E02F}"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4720D5A3-C41A-4837-8908-FE1A0F415A52}"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2754F7F4-47E9-4546-A052-4EAB5C233A47}"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4B271968-95C9-4684-B365-ECBECEFDE67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3637822-D99E-4350-AFA9-84C7C95DA47D}"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7097852B-F45F-4DD4-9852-A2C03A9FB96D}"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4E6FD8F7-C9AB-4096-91C9-C96829D257A4}"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B1A3E3FF-43E5-4C65-A7E1-930E2F046EFB}"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DA3AFC0C-4DB1-452B-9CB7-9A20E45BDFD6}"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5074A89C-AD4F-467D-B092-1B341E077849}"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E207A7BD-3F84-4BC5-A609-C032F114CA1E}"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212185D7-2A83-4CB7-9207-E394AF46E2B7}"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B61596F5-FCE8-474C-8DE2-D53FA463E62C}"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1241030B-D257-4F38-8E02-C498C197B2E7}"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5592835B-2B4F-4339-948E-7DC4A10439E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A02D4D8-A09A-493C-B360-6B24D40829E3}"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33797CEE-727E-4674-A797-18F83EB20CD6}"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FD94F2CD-1378-4796-A45E-ABF2CF272DF4}"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66242230-3915-4282-AB16-972DFC25D24D}"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A3B2D13D-AE05-4799-A673-7D39AD2F4809}"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73F3FBFE-1FC0-4340-ABE0-DFD2DD6A098E}"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24340362-C1A9-49D4-A04C-F436AC358DF6}"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CA94FEE4-6216-4595-8E0B-64B08AEBF08C}"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A1E7AD19-0D07-48C1-8428-0B3FC557195B}"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82DE397B-687B-4B0F-8C29-D54A6D674564}"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C00ED025-7B66-44A7-ADC0-32A9FFDFD1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F634AA9-5BCE-4FDD-B11C-883CEF0E5522}"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EAD3CCE8-3449-406C-8762-AD11078A885D}"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A0782657-0EC2-4B92-94D4-E7E37D55E321}"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13DB655A-CD6C-421A-8191-E420CFBDDCA6}"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EAE4DB2E-715F-434B-8D85-1EDCE93C44FF}"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E6A4BFA3-F1C8-4349-A4BE-CF90366C6D6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DC09FCC-EB51-403F-B295-57177E1DC47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8F482FB8-4C4F-42CF-844E-B734CEFB9B7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2EDCC49-1242-4D88-AD26-9BC1880586D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69538D05-E23F-40D7-B384-8CA817A20872}"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5D23EF7-8C2E-4AFE-9404-988CF95F373D}"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A112001-71AF-4BD8-9442-82E992A784E1}"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DA439310-CBC2-4ED1-A308-BC56D59F338C}"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406B22C6-A96E-4708-98C2-AE5AFCE0312F}"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EBBC4B63-C155-4F14-A9CC-A11A19424448}"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194A92A-7C20-456E-BAEE-72CB8ED83E7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A261B4B-F5D3-4146-A925-49549036852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D68133D-B7BE-4A0F-9FF7-FA0EAD502A6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8DFB1FD-95C6-4C8A-842C-F0F933DC443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614CAD5-E660-4FCF-8663-BF83542F612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98D167-27BA-4F3E-A4D3-C65FF919F42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BAAA050-05F7-49CF-B4A3-4DD962390BC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C7A8AE4-E0ED-4196-9234-E1B7F5E0DF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17AC943-9B2E-4FA1-A5C6-0513379A5B6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E21294E-98EF-4258-96C3-500A66D159C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669EAB4-973C-41D4-8075-E9B6E01C233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CFF866C-8278-416A-9676-98B387FA4D2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2FAB331-9B00-4370-ACD7-7B2783A1059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B14ABCF-90D9-4ADB-8282-B41D9EE87AC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AC565E5-6C02-410F-A544-9A7A5A03DF7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9D950A6A-E513-45F4-8A5D-3877A43D04B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44D73C0-C5C0-4A77-84D9-5E957E25958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CCF04D6-4A96-48EF-B881-9CFC825134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38F9C3A-7F9C-4466-B424-8BFEC67AAA4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49E6B29-CD75-404B-91B5-3B7F7AF1F10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67EC02-3891-42B8-A9D7-8048CE8ACA0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B8136FC-1245-4064-8477-094FC6DA51F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24E70BC-13C9-4E6D-89E6-A0DDD5D9A02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7FA4A2D-A8FC-4519-AF43-F402A6BC887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4B5358A-F9EB-47EE-82E3-9274DEF8641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CEFA1455-9CA5-4D23-8747-D48323CE99C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71DFBE7-A1BC-4191-AFC4-B9D0736914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05195846-A8BA-4205-B0FD-CF6BC0CAA8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7C212623-19CB-4815-856A-98FFFB70A9E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5F692C5-A37E-40DA-8100-BD6E7D7CE93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0CEACAB-F429-4C01-A885-57376ED2120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93314F8-8728-49DF-97AA-CF63541CA31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33F7AE6-D1F0-460C-BFF5-323B63D8CE5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21DAE63A-0B52-4EB9-88A3-8C3F43574BE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7A90488A-F5E1-4764-BB2B-0156182C1C4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AF9AED6-B37E-4302-89E7-150C2F26B5C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99D1EBEC-9EDE-4ADC-8747-0154B25ED21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33D7982-D431-4370-B5B1-A0169DCE3B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48F82-1E1D-4839-9FF3-EB680D98573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4A94A4-885A-4478-9031-57EA4D5A3FA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pic>
        <p:nvPicPr>
          <p:cNvPr id="435" name="Picture 8" descr="shadow_rule.jpg"/>
          <p:cNvPicPr/>
          <p:nvPr/>
        </p:nvPicPr>
        <p:blipFill>
          <a:blip r:embed="rId3"/>
          <a:stretch/>
        </p:blipFill>
        <p:spPr>
          <a:xfrm>
            <a:off x="2394000" y="1371600"/>
            <a:ext cx="349200" cy="4648320"/>
          </a:xfrm>
          <a:prstGeom prst="rect">
            <a:avLst/>
          </a:prstGeom>
          <a:ln w="0">
            <a:noFill/>
          </a:ln>
        </p:spPr>
      </p:pic>
      <p:sp>
        <p:nvSpPr>
          <p:cNvPr id="436"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AA78CD-C13D-4814-971D-BDD0A28F8E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bkg1.jpg"/>
          <p:cNvPicPr/>
          <p:nvPr/>
        </p:nvPicPr>
        <p:blipFill>
          <a:blip r:embed="rId2"/>
          <a:stretch/>
        </p:blipFill>
        <p:spPr>
          <a:xfrm>
            <a:off x="0" y="1440"/>
            <a:ext cx="9144000" cy="6855120"/>
          </a:xfrm>
          <a:prstGeom prst="rect">
            <a:avLst/>
          </a:prstGeom>
          <a:ln w="0">
            <a:noFill/>
          </a:ln>
        </p:spPr>
      </p:pic>
      <p:pic>
        <p:nvPicPr>
          <p:cNvPr id="474" name="Picture 8" descr="shadow_rule.jpg"/>
          <p:cNvPicPr/>
          <p:nvPr/>
        </p:nvPicPr>
        <p:blipFill>
          <a:blip r:embed="rId3"/>
          <a:stretch/>
        </p:blipFill>
        <p:spPr>
          <a:xfrm>
            <a:off x="2394000" y="1371600"/>
            <a:ext cx="349200" cy="4648320"/>
          </a:xfrm>
          <a:prstGeom prst="rect">
            <a:avLst/>
          </a:prstGeom>
          <a:ln w="0">
            <a:noFill/>
          </a:ln>
        </p:spPr>
      </p:pic>
      <p:sp>
        <p:nvSpPr>
          <p:cNvPr id="475"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827894-DC7C-4202-9F6F-B175EC150A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pic>
        <p:nvPicPr>
          <p:cNvPr id="513" name="Picture 8" descr="shadow_rule.jpg"/>
          <p:cNvPicPr/>
          <p:nvPr/>
        </p:nvPicPr>
        <p:blipFill>
          <a:blip r:embed="rId3"/>
          <a:stretch/>
        </p:blipFill>
        <p:spPr>
          <a:xfrm>
            <a:off x="2394000" y="1371600"/>
            <a:ext cx="349200" cy="4648320"/>
          </a:xfrm>
          <a:prstGeom prst="rect">
            <a:avLst/>
          </a:prstGeom>
          <a:ln w="0">
            <a:noFill/>
          </a:ln>
        </p:spPr>
      </p:pic>
      <p:sp>
        <p:nvSpPr>
          <p:cNvPr id="514"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5310D6-2914-45C8-A91C-265C72EF69F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10" descr="bkg1.jpg"/>
          <p:cNvPicPr/>
          <p:nvPr/>
        </p:nvPicPr>
        <p:blipFill>
          <a:blip r:embed="rId2"/>
          <a:stretch/>
        </p:blipFill>
        <p:spPr>
          <a:xfrm>
            <a:off x="0" y="1440"/>
            <a:ext cx="9144000" cy="6855120"/>
          </a:xfrm>
          <a:prstGeom prst="rect">
            <a:avLst/>
          </a:prstGeom>
          <a:ln w="0">
            <a:noFill/>
          </a:ln>
        </p:spPr>
      </p:pic>
      <p:pic>
        <p:nvPicPr>
          <p:cNvPr id="552" name="Picture 8" descr="shadow_rule.jpg"/>
          <p:cNvPicPr/>
          <p:nvPr/>
        </p:nvPicPr>
        <p:blipFill>
          <a:blip r:embed="rId3"/>
          <a:stretch/>
        </p:blipFill>
        <p:spPr>
          <a:xfrm>
            <a:off x="2394000" y="1371600"/>
            <a:ext cx="349200" cy="4648320"/>
          </a:xfrm>
          <a:prstGeom prst="rect">
            <a:avLst/>
          </a:prstGeom>
          <a:ln w="0">
            <a:noFill/>
          </a:ln>
        </p:spPr>
      </p:pic>
      <p:sp>
        <p:nvSpPr>
          <p:cNvPr id="553"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3B8B91-46CA-4F57-BE31-410A5FE6FC8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10" descr="bkg1.jpg"/>
          <p:cNvPicPr/>
          <p:nvPr/>
        </p:nvPicPr>
        <p:blipFill>
          <a:blip r:embed="rId2"/>
          <a:stretch/>
        </p:blipFill>
        <p:spPr>
          <a:xfrm>
            <a:off x="0" y="1440"/>
            <a:ext cx="9144000" cy="6855120"/>
          </a:xfrm>
          <a:prstGeom prst="rect">
            <a:avLst/>
          </a:prstGeom>
          <a:ln w="0">
            <a:noFill/>
          </a:ln>
        </p:spPr>
      </p:pic>
      <p:pic>
        <p:nvPicPr>
          <p:cNvPr id="591" name="Picture 8" descr="shadow_rule.jpg"/>
          <p:cNvPicPr/>
          <p:nvPr/>
        </p:nvPicPr>
        <p:blipFill>
          <a:blip r:embed="rId3"/>
          <a:stretch/>
        </p:blipFill>
        <p:spPr>
          <a:xfrm>
            <a:off x="2394000" y="1371600"/>
            <a:ext cx="349200" cy="4648320"/>
          </a:xfrm>
          <a:prstGeom prst="rect">
            <a:avLst/>
          </a:prstGeom>
          <a:ln w="0">
            <a:noFill/>
          </a:ln>
        </p:spPr>
      </p:pic>
      <p:sp>
        <p:nvSpPr>
          <p:cNvPr id="592"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PlaceHolder 3"/>
          <p:cNvSpPr>
            <a:spLocks noGrp="1"/>
          </p:cNvSpPr>
          <p:nvPr>
            <p:ph type="sldNum" idx="1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FDA9E-8657-46EC-A472-ED8A513C18C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bkg1.jpg"/>
          <p:cNvPicPr/>
          <p:nvPr/>
        </p:nvPicPr>
        <p:blipFill>
          <a:blip r:embed="rId2"/>
          <a:stretch/>
        </p:blipFill>
        <p:spPr>
          <a:xfrm>
            <a:off x="0" y="1440"/>
            <a:ext cx="9144000" cy="6855120"/>
          </a:xfrm>
          <a:prstGeom prst="rect">
            <a:avLst/>
          </a:prstGeom>
          <a:ln w="0">
            <a:noFill/>
          </a:ln>
        </p:spPr>
      </p:pic>
      <p:pic>
        <p:nvPicPr>
          <p:cNvPr id="632" name="Picture 8" descr="shadow_rule.jpg"/>
          <p:cNvPicPr/>
          <p:nvPr/>
        </p:nvPicPr>
        <p:blipFill>
          <a:blip r:embed="rId3"/>
          <a:stretch/>
        </p:blipFill>
        <p:spPr>
          <a:xfrm>
            <a:off x="2394000" y="1371600"/>
            <a:ext cx="349200" cy="4648320"/>
          </a:xfrm>
          <a:prstGeom prst="rect">
            <a:avLst/>
          </a:prstGeom>
          <a:ln w="0">
            <a:noFill/>
          </a:ln>
        </p:spPr>
      </p:pic>
      <p:sp>
        <p:nvSpPr>
          <p:cNvPr id="633" name="PlaceHolder 1"/>
          <p:cNvSpPr>
            <a:spLocks noGrp="1"/>
          </p:cNvSpPr>
          <p:nvPr>
            <p:ph type="sldNum" idx="1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74AB1-C435-4F04-A93E-313BB0DB543F}"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Picture 10" descr="bkg1.jpg"/>
          <p:cNvPicPr/>
          <p:nvPr/>
        </p:nvPicPr>
        <p:blipFill>
          <a:blip r:embed="rId2"/>
          <a:stretch/>
        </p:blipFill>
        <p:spPr>
          <a:xfrm>
            <a:off x="0" y="1440"/>
            <a:ext cx="9144000" cy="6855120"/>
          </a:xfrm>
          <a:prstGeom prst="rect">
            <a:avLst/>
          </a:prstGeom>
          <a:ln w="0">
            <a:noFill/>
          </a:ln>
        </p:spPr>
      </p:pic>
      <p:pic>
        <p:nvPicPr>
          <p:cNvPr id="671" name="Picture 8" descr="shadow_rule.jpg"/>
          <p:cNvPicPr/>
          <p:nvPr/>
        </p:nvPicPr>
        <p:blipFill>
          <a:blip r:embed="rId3"/>
          <a:stretch/>
        </p:blipFill>
        <p:spPr>
          <a:xfrm>
            <a:off x="2394000" y="1371600"/>
            <a:ext cx="349200" cy="4648320"/>
          </a:xfrm>
          <a:prstGeom prst="rect">
            <a:avLst/>
          </a:prstGeom>
          <a:ln w="0">
            <a:noFill/>
          </a:ln>
        </p:spPr>
      </p:pic>
      <p:sp>
        <p:nvSpPr>
          <p:cNvPr id="672" name="PlaceHolder 1"/>
          <p:cNvSpPr>
            <a:spLocks noGrp="1"/>
          </p:cNvSpPr>
          <p:nvPr>
            <p:ph type="sldNum" idx="1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CA137-E6C6-46DF-939D-07AD13F95C7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10" descr="bkg1.jpg"/>
          <p:cNvPicPr/>
          <p:nvPr/>
        </p:nvPicPr>
        <p:blipFill>
          <a:blip r:embed="rId2"/>
          <a:stretch/>
        </p:blipFill>
        <p:spPr>
          <a:xfrm>
            <a:off x="0" y="1440"/>
            <a:ext cx="9144000" cy="6855120"/>
          </a:xfrm>
          <a:prstGeom prst="rect">
            <a:avLst/>
          </a:prstGeom>
          <a:ln w="0">
            <a:noFill/>
          </a:ln>
        </p:spPr>
      </p:pic>
      <p:pic>
        <p:nvPicPr>
          <p:cNvPr id="710" name="Picture 8" descr="shadow_rule.jpg"/>
          <p:cNvPicPr/>
          <p:nvPr/>
        </p:nvPicPr>
        <p:blipFill>
          <a:blip r:embed="rId3"/>
          <a:stretch/>
        </p:blipFill>
        <p:spPr>
          <a:xfrm>
            <a:off x="2394000" y="1371600"/>
            <a:ext cx="349200" cy="4648320"/>
          </a:xfrm>
          <a:prstGeom prst="rect">
            <a:avLst/>
          </a:prstGeom>
          <a:ln w="0">
            <a:noFill/>
          </a:ln>
        </p:spPr>
      </p:pic>
      <p:sp>
        <p:nvSpPr>
          <p:cNvPr id="711" name="PlaceHolder 1"/>
          <p:cNvSpPr>
            <a:spLocks noGrp="1"/>
          </p:cNvSpPr>
          <p:nvPr>
            <p:ph type="sldNum" idx="2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4C4A3-AC19-4008-801E-3605DD299E2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0" descr="bkg1.jpg"/>
          <p:cNvPicPr/>
          <p:nvPr/>
        </p:nvPicPr>
        <p:blipFill>
          <a:blip r:embed="rId2"/>
          <a:stretch/>
        </p:blipFill>
        <p:spPr>
          <a:xfrm>
            <a:off x="0" y="1440"/>
            <a:ext cx="9144000" cy="6855120"/>
          </a:xfrm>
          <a:prstGeom prst="rect">
            <a:avLst/>
          </a:prstGeom>
          <a:ln w="0">
            <a:noFill/>
          </a:ln>
        </p:spPr>
      </p:pic>
      <p:pic>
        <p:nvPicPr>
          <p:cNvPr id="749" name="Picture 8" descr="shadow_rule.jpg"/>
          <p:cNvPicPr/>
          <p:nvPr/>
        </p:nvPicPr>
        <p:blipFill>
          <a:blip r:embed="rId3"/>
          <a:stretch/>
        </p:blipFill>
        <p:spPr>
          <a:xfrm>
            <a:off x="2394000" y="1371600"/>
            <a:ext cx="349200" cy="4648320"/>
          </a:xfrm>
          <a:prstGeom prst="rect">
            <a:avLst/>
          </a:prstGeom>
          <a:ln w="0">
            <a:noFill/>
          </a:ln>
        </p:spPr>
      </p:pic>
      <p:sp>
        <p:nvSpPr>
          <p:cNvPr id="750" name="PlaceHolder 1"/>
          <p:cNvSpPr>
            <a:spLocks noGrp="1"/>
          </p:cNvSpPr>
          <p:nvPr>
            <p:ph type="sldNum" idx="2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F03F0-8669-48B9-94AF-DD3D983FB5B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10" descr="bkg1.jpg"/>
          <p:cNvPicPr/>
          <p:nvPr/>
        </p:nvPicPr>
        <p:blipFill>
          <a:blip r:embed="rId2"/>
          <a:stretch/>
        </p:blipFill>
        <p:spPr>
          <a:xfrm>
            <a:off x="0" y="1440"/>
            <a:ext cx="9144000" cy="6855120"/>
          </a:xfrm>
          <a:prstGeom prst="rect">
            <a:avLst/>
          </a:prstGeom>
          <a:ln w="0">
            <a:noFill/>
          </a:ln>
        </p:spPr>
      </p:pic>
      <p:pic>
        <p:nvPicPr>
          <p:cNvPr id="788" name="Picture 8" descr="shadow_rule.jpg"/>
          <p:cNvPicPr/>
          <p:nvPr/>
        </p:nvPicPr>
        <p:blipFill>
          <a:blip r:embed="rId3"/>
          <a:stretch/>
        </p:blipFill>
        <p:spPr>
          <a:xfrm>
            <a:off x="2394000" y="1371600"/>
            <a:ext cx="349200" cy="4648320"/>
          </a:xfrm>
          <a:prstGeom prst="rect">
            <a:avLst/>
          </a:prstGeom>
          <a:ln w="0">
            <a:noFill/>
          </a:ln>
        </p:spPr>
      </p:pic>
      <p:sp>
        <p:nvSpPr>
          <p:cNvPr id="789" name="PlaceHolder 1"/>
          <p:cNvSpPr>
            <a:spLocks noGrp="1"/>
          </p:cNvSpPr>
          <p:nvPr>
            <p:ph type="sldNum" idx="2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ED5E0-4385-4F52-9ECE-0967CD36BA9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10" descr="bkg1.jpg"/>
          <p:cNvPicPr/>
          <p:nvPr/>
        </p:nvPicPr>
        <p:blipFill>
          <a:blip r:embed="rId2"/>
          <a:stretch/>
        </p:blipFill>
        <p:spPr>
          <a:xfrm>
            <a:off x="0" y="1440"/>
            <a:ext cx="9144000" cy="6855120"/>
          </a:xfrm>
          <a:prstGeom prst="rect">
            <a:avLst/>
          </a:prstGeom>
          <a:ln w="0">
            <a:noFill/>
          </a:ln>
        </p:spPr>
      </p:pic>
      <p:pic>
        <p:nvPicPr>
          <p:cNvPr id="827" name="Picture 8" descr="shadow_rule.jpg"/>
          <p:cNvPicPr/>
          <p:nvPr/>
        </p:nvPicPr>
        <p:blipFill>
          <a:blip r:embed="rId3"/>
          <a:stretch/>
        </p:blipFill>
        <p:spPr>
          <a:xfrm>
            <a:off x="2394000" y="1371600"/>
            <a:ext cx="349200" cy="4648320"/>
          </a:xfrm>
          <a:prstGeom prst="rect">
            <a:avLst/>
          </a:prstGeom>
          <a:ln w="0">
            <a:noFill/>
          </a:ln>
        </p:spPr>
      </p:pic>
      <p:sp>
        <p:nvSpPr>
          <p:cNvPr id="828" name="PlaceHolder 1"/>
          <p:cNvSpPr>
            <a:spLocks noGrp="1"/>
          </p:cNvSpPr>
          <p:nvPr>
            <p:ph type="sldNum" idx="2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90AA8A-9437-4F98-A1C2-8EE871201AC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Picture 10" descr="bkg1.jpg"/>
          <p:cNvPicPr/>
          <p:nvPr/>
        </p:nvPicPr>
        <p:blipFill>
          <a:blip r:embed="rId2"/>
          <a:stretch/>
        </p:blipFill>
        <p:spPr>
          <a:xfrm>
            <a:off x="0" y="1440"/>
            <a:ext cx="9144000" cy="6855120"/>
          </a:xfrm>
          <a:prstGeom prst="rect">
            <a:avLst/>
          </a:prstGeom>
          <a:ln w="0">
            <a:noFill/>
          </a:ln>
        </p:spPr>
      </p:pic>
      <p:pic>
        <p:nvPicPr>
          <p:cNvPr id="866" name="Picture 8" descr="shadow_rule.jpg"/>
          <p:cNvPicPr/>
          <p:nvPr/>
        </p:nvPicPr>
        <p:blipFill>
          <a:blip r:embed="rId3"/>
          <a:stretch/>
        </p:blipFill>
        <p:spPr>
          <a:xfrm>
            <a:off x="2394000" y="1371600"/>
            <a:ext cx="349200" cy="4648320"/>
          </a:xfrm>
          <a:prstGeom prst="rect">
            <a:avLst/>
          </a:prstGeom>
          <a:ln w="0">
            <a:noFill/>
          </a:ln>
        </p:spPr>
      </p:pic>
      <p:sp>
        <p:nvSpPr>
          <p:cNvPr id="867"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C8BC8-9E6F-4DED-8AC3-83636ED70EB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10" descr="bkg1.jpg"/>
          <p:cNvPicPr/>
          <p:nvPr/>
        </p:nvPicPr>
        <p:blipFill>
          <a:blip r:embed="rId2"/>
          <a:stretch/>
        </p:blipFill>
        <p:spPr>
          <a:xfrm>
            <a:off x="0" y="1440"/>
            <a:ext cx="9144000" cy="6855120"/>
          </a:xfrm>
          <a:prstGeom prst="rect">
            <a:avLst/>
          </a:prstGeom>
          <a:ln w="0">
            <a:noFill/>
          </a:ln>
        </p:spPr>
      </p:pic>
      <p:pic>
        <p:nvPicPr>
          <p:cNvPr id="905" name="Picture 8" descr="shadow_rule.jpg"/>
          <p:cNvPicPr/>
          <p:nvPr/>
        </p:nvPicPr>
        <p:blipFill>
          <a:blip r:embed="rId3"/>
          <a:stretch/>
        </p:blipFill>
        <p:spPr>
          <a:xfrm>
            <a:off x="2394000" y="1371600"/>
            <a:ext cx="349200" cy="4648320"/>
          </a:xfrm>
          <a:prstGeom prst="rect">
            <a:avLst/>
          </a:prstGeom>
          <a:ln w="0">
            <a:noFill/>
          </a:ln>
        </p:spPr>
      </p:pic>
      <p:sp>
        <p:nvSpPr>
          <p:cNvPr id="906"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60D9B-C830-4D4C-B052-311B5B34ADD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0" descr="bkg1.jpg"/>
          <p:cNvPicPr/>
          <p:nvPr/>
        </p:nvPicPr>
        <p:blipFill>
          <a:blip r:embed="rId2"/>
          <a:stretch/>
        </p:blipFill>
        <p:spPr>
          <a:xfrm>
            <a:off x="0" y="1440"/>
            <a:ext cx="9144000" cy="6855120"/>
          </a:xfrm>
          <a:prstGeom prst="rect">
            <a:avLst/>
          </a:prstGeom>
          <a:ln w="0">
            <a:noFill/>
          </a:ln>
        </p:spPr>
      </p:pic>
      <p:pic>
        <p:nvPicPr>
          <p:cNvPr id="944" name="Picture 8" descr="shadow_rule.jpg"/>
          <p:cNvPicPr/>
          <p:nvPr/>
        </p:nvPicPr>
        <p:blipFill>
          <a:blip r:embed="rId3"/>
          <a:stretch/>
        </p:blipFill>
        <p:spPr>
          <a:xfrm>
            <a:off x="2394000" y="1371600"/>
            <a:ext cx="349200" cy="4648320"/>
          </a:xfrm>
          <a:prstGeom prst="rect">
            <a:avLst/>
          </a:prstGeom>
          <a:ln w="0">
            <a:noFill/>
          </a:ln>
        </p:spPr>
      </p:pic>
      <p:sp>
        <p:nvSpPr>
          <p:cNvPr id="94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0E3E3-77EA-4BB5-9290-35BB386B3CB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0" descr="bkg1.jpg"/>
          <p:cNvPicPr/>
          <p:nvPr/>
        </p:nvPicPr>
        <p:blipFill>
          <a:blip r:embed="rId2"/>
          <a:stretch/>
        </p:blipFill>
        <p:spPr>
          <a:xfrm>
            <a:off x="0" y="1440"/>
            <a:ext cx="9144000" cy="6855120"/>
          </a:xfrm>
          <a:prstGeom prst="rect">
            <a:avLst/>
          </a:prstGeom>
          <a:ln w="0">
            <a:noFill/>
          </a:ln>
        </p:spPr>
      </p:pic>
      <p:pic>
        <p:nvPicPr>
          <p:cNvPr id="983" name="Picture 8" descr="shadow_rule.jpg"/>
          <p:cNvPicPr/>
          <p:nvPr/>
        </p:nvPicPr>
        <p:blipFill>
          <a:blip r:embed="rId3"/>
          <a:stretch/>
        </p:blipFill>
        <p:spPr>
          <a:xfrm>
            <a:off x="2394000" y="1371600"/>
            <a:ext cx="349200" cy="4648320"/>
          </a:xfrm>
          <a:prstGeom prst="rect">
            <a:avLst/>
          </a:prstGeom>
          <a:ln w="0">
            <a:noFill/>
          </a:ln>
        </p:spPr>
      </p:pic>
      <p:sp>
        <p:nvSpPr>
          <p:cNvPr id="984" name="PlaceHolder 1"/>
          <p:cNvSpPr>
            <a:spLocks noGrp="1"/>
          </p:cNvSpPr>
          <p:nvPr>
            <p:ph type="sldNum" idx="2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1F4D5F-A541-42F3-B1D1-4A1EB81EF8F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0" descr="bkg1.jpg"/>
          <p:cNvPicPr/>
          <p:nvPr/>
        </p:nvPicPr>
        <p:blipFill>
          <a:blip r:embed="rId2"/>
          <a:stretch/>
        </p:blipFill>
        <p:spPr>
          <a:xfrm>
            <a:off x="0" y="1440"/>
            <a:ext cx="9144000" cy="6855120"/>
          </a:xfrm>
          <a:prstGeom prst="rect">
            <a:avLst/>
          </a:prstGeom>
          <a:ln w="0">
            <a:noFill/>
          </a:ln>
        </p:spPr>
      </p:pic>
      <p:pic>
        <p:nvPicPr>
          <p:cNvPr id="1022" name="Picture 8" descr="shadow_rule.jpg"/>
          <p:cNvPicPr/>
          <p:nvPr/>
        </p:nvPicPr>
        <p:blipFill>
          <a:blip r:embed="rId3"/>
          <a:stretch/>
        </p:blipFill>
        <p:spPr>
          <a:xfrm>
            <a:off x="2394000" y="1371600"/>
            <a:ext cx="349200" cy="4648320"/>
          </a:xfrm>
          <a:prstGeom prst="rect">
            <a:avLst/>
          </a:prstGeom>
          <a:ln w="0">
            <a:noFill/>
          </a:ln>
        </p:spPr>
      </p:pic>
      <p:sp>
        <p:nvSpPr>
          <p:cNvPr id="1023" name="PlaceHolder 1"/>
          <p:cNvSpPr>
            <a:spLocks noGrp="1"/>
          </p:cNvSpPr>
          <p:nvPr>
            <p:ph type="sldNum" idx="2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C6D7B-A8E1-40EA-B43C-7FB6E9A6499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0" descr="bkg1.jpg"/>
          <p:cNvPicPr/>
          <p:nvPr/>
        </p:nvPicPr>
        <p:blipFill>
          <a:blip r:embed="rId2"/>
          <a:stretch/>
        </p:blipFill>
        <p:spPr>
          <a:xfrm>
            <a:off x="0" y="1440"/>
            <a:ext cx="9144000" cy="6855120"/>
          </a:xfrm>
          <a:prstGeom prst="rect">
            <a:avLst/>
          </a:prstGeom>
          <a:ln w="0">
            <a:noFill/>
          </a:ln>
        </p:spPr>
      </p:pic>
      <p:pic>
        <p:nvPicPr>
          <p:cNvPr id="1061" name="Picture 8" descr="shadow_rule.jpg"/>
          <p:cNvPicPr/>
          <p:nvPr/>
        </p:nvPicPr>
        <p:blipFill>
          <a:blip r:embed="rId3"/>
          <a:stretch/>
        </p:blipFill>
        <p:spPr>
          <a:xfrm>
            <a:off x="2394000" y="1371600"/>
            <a:ext cx="349200" cy="4648320"/>
          </a:xfrm>
          <a:prstGeom prst="rect">
            <a:avLst/>
          </a:prstGeom>
          <a:ln w="0">
            <a:noFill/>
          </a:ln>
        </p:spPr>
      </p:pic>
      <p:sp>
        <p:nvSpPr>
          <p:cNvPr id="1062" name="PlaceHolder 1"/>
          <p:cNvSpPr>
            <a:spLocks noGrp="1"/>
          </p:cNvSpPr>
          <p:nvPr>
            <p:ph type="sldNum" idx="2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A397B-D9C6-46FC-800C-F75C5D84BF2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0" descr="bkg1.jpg"/>
          <p:cNvPicPr/>
          <p:nvPr/>
        </p:nvPicPr>
        <p:blipFill>
          <a:blip r:embed="rId2"/>
          <a:stretch/>
        </p:blipFill>
        <p:spPr>
          <a:xfrm>
            <a:off x="0" y="1440"/>
            <a:ext cx="9144000" cy="6855120"/>
          </a:xfrm>
          <a:prstGeom prst="rect">
            <a:avLst/>
          </a:prstGeom>
          <a:ln w="0">
            <a:noFill/>
          </a:ln>
        </p:spPr>
      </p:pic>
      <p:pic>
        <p:nvPicPr>
          <p:cNvPr id="1100" name="Picture 8" descr="shadow_rule.jpg"/>
          <p:cNvPicPr/>
          <p:nvPr/>
        </p:nvPicPr>
        <p:blipFill>
          <a:blip r:embed="rId3"/>
          <a:stretch/>
        </p:blipFill>
        <p:spPr>
          <a:xfrm>
            <a:off x="2394000" y="1371600"/>
            <a:ext cx="349200" cy="4648320"/>
          </a:xfrm>
          <a:prstGeom prst="rect">
            <a:avLst/>
          </a:prstGeom>
          <a:ln w="0">
            <a:noFill/>
          </a:ln>
        </p:spPr>
      </p:pic>
      <p:sp>
        <p:nvSpPr>
          <p:cNvPr id="1101" name="PlaceHolder 1"/>
          <p:cNvSpPr>
            <a:spLocks noGrp="1"/>
          </p:cNvSpPr>
          <p:nvPr>
            <p:ph type="sldNum" idx="3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DAFB0-A9DC-49F5-9427-999F3380375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0" descr="bkg1.jpg"/>
          <p:cNvPicPr/>
          <p:nvPr/>
        </p:nvPicPr>
        <p:blipFill>
          <a:blip r:embed="rId2"/>
          <a:stretch/>
        </p:blipFill>
        <p:spPr>
          <a:xfrm>
            <a:off x="0" y="1440"/>
            <a:ext cx="9144000" cy="6855120"/>
          </a:xfrm>
          <a:prstGeom prst="rect">
            <a:avLst/>
          </a:prstGeom>
          <a:ln w="0">
            <a:noFill/>
          </a:ln>
        </p:spPr>
      </p:pic>
      <p:pic>
        <p:nvPicPr>
          <p:cNvPr id="1139" name="Picture 8" descr="shadow_rule.jpg"/>
          <p:cNvPicPr/>
          <p:nvPr/>
        </p:nvPicPr>
        <p:blipFill>
          <a:blip r:embed="rId3"/>
          <a:stretch/>
        </p:blipFill>
        <p:spPr>
          <a:xfrm>
            <a:off x="2394000" y="1371600"/>
            <a:ext cx="349200" cy="4648320"/>
          </a:xfrm>
          <a:prstGeom prst="rect">
            <a:avLst/>
          </a:prstGeom>
          <a:ln w="0">
            <a:noFill/>
          </a:ln>
        </p:spPr>
      </p:pic>
      <p:sp>
        <p:nvSpPr>
          <p:cNvPr id="1140" name="PlaceHolder 1"/>
          <p:cNvSpPr>
            <a:spLocks noGrp="1"/>
          </p:cNvSpPr>
          <p:nvPr>
            <p:ph type="sldNum" idx="3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FA42C2-C749-42A0-8182-721BE676693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0" descr="bkg1.jpg"/>
          <p:cNvPicPr/>
          <p:nvPr/>
        </p:nvPicPr>
        <p:blipFill>
          <a:blip r:embed="rId2"/>
          <a:stretch/>
        </p:blipFill>
        <p:spPr>
          <a:xfrm>
            <a:off x="0" y="1440"/>
            <a:ext cx="9144000" cy="6855120"/>
          </a:xfrm>
          <a:prstGeom prst="rect">
            <a:avLst/>
          </a:prstGeom>
          <a:ln w="0">
            <a:noFill/>
          </a:ln>
        </p:spPr>
      </p:pic>
      <p:pic>
        <p:nvPicPr>
          <p:cNvPr id="1178" name="Picture 8" descr="shadow_rule.jpg"/>
          <p:cNvPicPr/>
          <p:nvPr/>
        </p:nvPicPr>
        <p:blipFill>
          <a:blip r:embed="rId3"/>
          <a:stretch/>
        </p:blipFill>
        <p:spPr>
          <a:xfrm>
            <a:off x="2394000" y="1371600"/>
            <a:ext cx="349200" cy="4648320"/>
          </a:xfrm>
          <a:prstGeom prst="rect">
            <a:avLst/>
          </a:prstGeom>
          <a:ln w="0">
            <a:noFill/>
          </a:ln>
        </p:spPr>
      </p:pic>
      <p:sp>
        <p:nvSpPr>
          <p:cNvPr id="1179" name="PlaceHolder 1"/>
          <p:cNvSpPr>
            <a:spLocks noGrp="1"/>
          </p:cNvSpPr>
          <p:nvPr>
            <p:ph type="sldNum" idx="3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721ECA-E919-484D-A9C8-CCE41791290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0" descr="bkg1.jpg"/>
          <p:cNvPicPr/>
          <p:nvPr/>
        </p:nvPicPr>
        <p:blipFill>
          <a:blip r:embed="rId2"/>
          <a:stretch/>
        </p:blipFill>
        <p:spPr>
          <a:xfrm>
            <a:off x="0" y="1440"/>
            <a:ext cx="9144000" cy="6855120"/>
          </a:xfrm>
          <a:prstGeom prst="rect">
            <a:avLst/>
          </a:prstGeom>
          <a:ln w="0">
            <a:noFill/>
          </a:ln>
        </p:spPr>
      </p:pic>
      <p:pic>
        <p:nvPicPr>
          <p:cNvPr id="1217" name="Picture 8" descr="shadow_rule.jpg"/>
          <p:cNvPicPr/>
          <p:nvPr/>
        </p:nvPicPr>
        <p:blipFill>
          <a:blip r:embed="rId3"/>
          <a:stretch/>
        </p:blipFill>
        <p:spPr>
          <a:xfrm>
            <a:off x="2394000" y="1371600"/>
            <a:ext cx="349200" cy="4648320"/>
          </a:xfrm>
          <a:prstGeom prst="rect">
            <a:avLst/>
          </a:prstGeom>
          <a:ln w="0">
            <a:noFill/>
          </a:ln>
        </p:spPr>
      </p:pic>
      <p:sp>
        <p:nvSpPr>
          <p:cNvPr id="1218" name="PlaceHolder 1"/>
          <p:cNvSpPr>
            <a:spLocks noGrp="1"/>
          </p:cNvSpPr>
          <p:nvPr>
            <p:ph type="sldNum" idx="3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3D7D5-A72F-43DD-98B1-6E32DBC6338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0" descr="bkg1.jpg"/>
          <p:cNvPicPr/>
          <p:nvPr/>
        </p:nvPicPr>
        <p:blipFill>
          <a:blip r:embed="rId2"/>
          <a:stretch/>
        </p:blipFill>
        <p:spPr>
          <a:xfrm>
            <a:off x="0" y="1440"/>
            <a:ext cx="9144000" cy="6855120"/>
          </a:xfrm>
          <a:prstGeom prst="rect">
            <a:avLst/>
          </a:prstGeom>
          <a:ln w="0">
            <a:noFill/>
          </a:ln>
        </p:spPr>
      </p:pic>
      <p:pic>
        <p:nvPicPr>
          <p:cNvPr id="1256" name="Picture 8" descr="shadow_rule.jpg"/>
          <p:cNvPicPr/>
          <p:nvPr/>
        </p:nvPicPr>
        <p:blipFill>
          <a:blip r:embed="rId3"/>
          <a:stretch/>
        </p:blipFill>
        <p:spPr>
          <a:xfrm>
            <a:off x="2394000" y="1371600"/>
            <a:ext cx="349200" cy="4648320"/>
          </a:xfrm>
          <a:prstGeom prst="rect">
            <a:avLst/>
          </a:prstGeom>
          <a:ln w="0">
            <a:noFill/>
          </a:ln>
        </p:spPr>
      </p:pic>
      <p:sp>
        <p:nvSpPr>
          <p:cNvPr id="1257" name="PlaceHolder 1"/>
          <p:cNvSpPr>
            <a:spLocks noGrp="1"/>
          </p:cNvSpPr>
          <p:nvPr>
            <p:ph type="sldNum" idx="3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2DB35-5CCB-4C0B-A233-DC87465E4B4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0" descr="bkg1.jpg"/>
          <p:cNvPicPr/>
          <p:nvPr/>
        </p:nvPicPr>
        <p:blipFill>
          <a:blip r:embed="rId2"/>
          <a:stretch/>
        </p:blipFill>
        <p:spPr>
          <a:xfrm>
            <a:off x="0" y="1440"/>
            <a:ext cx="9144000" cy="6855120"/>
          </a:xfrm>
          <a:prstGeom prst="rect">
            <a:avLst/>
          </a:prstGeom>
          <a:ln w="0">
            <a:noFill/>
          </a:ln>
        </p:spPr>
      </p:pic>
      <p:pic>
        <p:nvPicPr>
          <p:cNvPr id="1295" name="Picture 8" descr="shadow_rule.jpg"/>
          <p:cNvPicPr/>
          <p:nvPr/>
        </p:nvPicPr>
        <p:blipFill>
          <a:blip r:embed="rId3"/>
          <a:stretch/>
        </p:blipFill>
        <p:spPr>
          <a:xfrm>
            <a:off x="2394000" y="1371600"/>
            <a:ext cx="349200" cy="4648320"/>
          </a:xfrm>
          <a:prstGeom prst="rect">
            <a:avLst/>
          </a:prstGeom>
          <a:ln w="0">
            <a:noFill/>
          </a:ln>
        </p:spPr>
      </p:pic>
      <p:sp>
        <p:nvSpPr>
          <p:cNvPr id="1296" name="PlaceHolder 1"/>
          <p:cNvSpPr>
            <a:spLocks noGrp="1"/>
          </p:cNvSpPr>
          <p:nvPr>
            <p:ph type="sldNum" idx="35"/>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A8DD1-24A1-4EF0-8C5F-AA6A2ECC929D}" type="slidenum">
              <a:rPr b="0" lang="en-US" sz="2400" spc="-1" strike="noStrike">
                <a:solidFill>
                  <a:srgbClr val="ffffff"/>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0" descr="bkg1.jpg"/>
          <p:cNvPicPr/>
          <p:nvPr/>
        </p:nvPicPr>
        <p:blipFill>
          <a:blip r:embed="rId2"/>
          <a:stretch/>
        </p:blipFill>
        <p:spPr>
          <a:xfrm>
            <a:off x="0" y="1440"/>
            <a:ext cx="9144000" cy="6855120"/>
          </a:xfrm>
          <a:prstGeom prst="rect">
            <a:avLst/>
          </a:prstGeom>
          <a:ln w="0">
            <a:noFill/>
          </a:ln>
        </p:spPr>
      </p:pic>
      <p:pic>
        <p:nvPicPr>
          <p:cNvPr id="1334" name="Picture 8" descr="shadow_rule.jpg"/>
          <p:cNvPicPr/>
          <p:nvPr/>
        </p:nvPicPr>
        <p:blipFill>
          <a:blip r:embed="rId3"/>
          <a:stretch/>
        </p:blipFill>
        <p:spPr>
          <a:xfrm>
            <a:off x="2394000" y="1371600"/>
            <a:ext cx="349200" cy="4648320"/>
          </a:xfrm>
          <a:prstGeom prst="rect">
            <a:avLst/>
          </a:prstGeom>
          <a:ln w="0">
            <a:noFill/>
          </a:ln>
        </p:spPr>
      </p:pic>
      <p:sp>
        <p:nvSpPr>
          <p:cNvPr id="1335" name="PlaceHolder 1"/>
          <p:cNvSpPr>
            <a:spLocks noGrp="1"/>
          </p:cNvSpPr>
          <p:nvPr>
            <p:ph type="sldNum" idx="3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8388F3-0B91-4CD1-9FAE-8B81D1B5F8DD}"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0" descr="bkg1.jpg"/>
          <p:cNvPicPr/>
          <p:nvPr/>
        </p:nvPicPr>
        <p:blipFill>
          <a:blip r:embed="rId2"/>
          <a:stretch/>
        </p:blipFill>
        <p:spPr>
          <a:xfrm>
            <a:off x="0" y="1440"/>
            <a:ext cx="9144000" cy="6855120"/>
          </a:xfrm>
          <a:prstGeom prst="rect">
            <a:avLst/>
          </a:prstGeom>
          <a:ln w="0">
            <a:noFill/>
          </a:ln>
        </p:spPr>
      </p:pic>
      <p:pic>
        <p:nvPicPr>
          <p:cNvPr id="1373" name="Picture 8" descr="shadow_rule.jpg"/>
          <p:cNvPicPr/>
          <p:nvPr/>
        </p:nvPicPr>
        <p:blipFill>
          <a:blip r:embed="rId3"/>
          <a:stretch/>
        </p:blipFill>
        <p:spPr>
          <a:xfrm>
            <a:off x="2394000" y="1371600"/>
            <a:ext cx="349200" cy="4648320"/>
          </a:xfrm>
          <a:prstGeom prst="rect">
            <a:avLst/>
          </a:prstGeom>
          <a:ln w="0">
            <a:noFill/>
          </a:ln>
        </p:spPr>
      </p:pic>
      <p:sp>
        <p:nvSpPr>
          <p:cNvPr id="1374" name="PlaceHolder 1"/>
          <p:cNvSpPr>
            <a:spLocks noGrp="1"/>
          </p:cNvSpPr>
          <p:nvPr>
            <p:ph type="sldNum" idx="3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7812E-431F-4D72-92C8-26C42138D2E3}"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137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10" descr="bkg1.jpg"/>
          <p:cNvPicPr/>
          <p:nvPr/>
        </p:nvPicPr>
        <p:blipFill>
          <a:blip r:embed="rId2"/>
          <a:stretch/>
        </p:blipFill>
        <p:spPr>
          <a:xfrm>
            <a:off x="0" y="1440"/>
            <a:ext cx="9144000" cy="6855120"/>
          </a:xfrm>
          <a:prstGeom prst="rect">
            <a:avLst/>
          </a:prstGeom>
          <a:ln w="0">
            <a:noFill/>
          </a:ln>
        </p:spPr>
      </p:pic>
      <p:pic>
        <p:nvPicPr>
          <p:cNvPr id="1414" name="Picture 8" descr="shadow_rule.jpg"/>
          <p:cNvPicPr/>
          <p:nvPr/>
        </p:nvPicPr>
        <p:blipFill>
          <a:blip r:embed="rId3"/>
          <a:stretch/>
        </p:blipFill>
        <p:spPr>
          <a:xfrm>
            <a:off x="2394000" y="1371600"/>
            <a:ext cx="349200" cy="4648320"/>
          </a:xfrm>
          <a:prstGeom prst="rect">
            <a:avLst/>
          </a:prstGeom>
          <a:ln w="0">
            <a:noFill/>
          </a:ln>
        </p:spPr>
      </p:pic>
      <p:sp>
        <p:nvSpPr>
          <p:cNvPr id="1415" name="PlaceHolder 1"/>
          <p:cNvSpPr>
            <a:spLocks noGrp="1"/>
          </p:cNvSpPr>
          <p:nvPr>
            <p:ph type="sldNum" idx="3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433A7-40A5-41FF-879B-23E376FE9D35}"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10" descr="bkg1.jpg"/>
          <p:cNvPicPr/>
          <p:nvPr/>
        </p:nvPicPr>
        <p:blipFill>
          <a:blip r:embed="rId2"/>
          <a:stretch/>
        </p:blipFill>
        <p:spPr>
          <a:xfrm>
            <a:off x="0" y="1440"/>
            <a:ext cx="9144000" cy="6855120"/>
          </a:xfrm>
          <a:prstGeom prst="rect">
            <a:avLst/>
          </a:prstGeom>
          <a:ln w="0">
            <a:noFill/>
          </a:ln>
        </p:spPr>
      </p:pic>
      <p:sp>
        <p:nvSpPr>
          <p:cNvPr id="1453" name="PlaceHolder 1"/>
          <p:cNvSpPr>
            <a:spLocks noGrp="1"/>
          </p:cNvSpPr>
          <p:nvPr>
            <p:ph type="sldNum" idx="3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1D98BD-30A2-4E4C-B5D5-FA5116665A0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0" name="Picture 10" descr="bkg1.jpg"/>
          <p:cNvPicPr/>
          <p:nvPr/>
        </p:nvPicPr>
        <p:blipFill>
          <a:blip r:embed="rId2"/>
          <a:stretch/>
        </p:blipFill>
        <p:spPr>
          <a:xfrm>
            <a:off x="0" y="1440"/>
            <a:ext cx="9144000" cy="6855120"/>
          </a:xfrm>
          <a:prstGeom prst="rect">
            <a:avLst/>
          </a:prstGeom>
          <a:ln w="0">
            <a:noFill/>
          </a:ln>
        </p:spPr>
      </p:pic>
      <p:sp>
        <p:nvSpPr>
          <p:cNvPr id="1491" name="PlaceHolder 1"/>
          <p:cNvSpPr>
            <a:spLocks noGrp="1"/>
          </p:cNvSpPr>
          <p:nvPr>
            <p:ph type="sldNum" idx="4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473A8-B1C4-43BB-B6CF-FF619A127711}"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B24211-596E-46C5-98CC-7DDC819FE7C0}"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0" descr="bkg1.jpg"/>
          <p:cNvPicPr/>
          <p:nvPr/>
        </p:nvPicPr>
        <p:blipFill>
          <a:blip r:embed="rId2"/>
          <a:stretch/>
        </p:blipFill>
        <p:spPr>
          <a:xfrm>
            <a:off x="0" y="1440"/>
            <a:ext cx="9144000" cy="6855120"/>
          </a:xfrm>
          <a:prstGeom prst="rect">
            <a:avLst/>
          </a:prstGeom>
          <a:ln w="0">
            <a:noFill/>
          </a:ln>
        </p:spPr>
      </p:pic>
      <p:sp>
        <p:nvSpPr>
          <p:cNvPr id="1529" name="PlaceHolder 1"/>
          <p:cNvSpPr>
            <a:spLocks noGrp="1"/>
          </p:cNvSpPr>
          <p:nvPr>
            <p:ph type="sldNum" idx="4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3360E-9F5E-4A0C-A3C4-4F1F60CB17C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10" descr="bkg1.jpg"/>
          <p:cNvPicPr/>
          <p:nvPr/>
        </p:nvPicPr>
        <p:blipFill>
          <a:blip r:embed="rId2"/>
          <a:stretch/>
        </p:blipFill>
        <p:spPr>
          <a:xfrm>
            <a:off x="0" y="1440"/>
            <a:ext cx="9144000" cy="6855120"/>
          </a:xfrm>
          <a:prstGeom prst="rect">
            <a:avLst/>
          </a:prstGeom>
          <a:ln w="0">
            <a:noFill/>
          </a:ln>
        </p:spPr>
      </p:pic>
      <p:sp>
        <p:nvSpPr>
          <p:cNvPr id="1567" name="PlaceHolder 1"/>
          <p:cNvSpPr>
            <a:spLocks noGrp="1"/>
          </p:cNvSpPr>
          <p:nvPr>
            <p:ph type="sldNum" idx="42"/>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10" descr="bkg1.jpg"/>
          <p:cNvPicPr/>
          <p:nvPr/>
        </p:nvPicPr>
        <p:blipFill>
          <a:blip r:embed="rId2"/>
          <a:stretch/>
        </p:blipFill>
        <p:spPr>
          <a:xfrm>
            <a:off x="0" y="1440"/>
            <a:ext cx="9144000" cy="6855120"/>
          </a:xfrm>
          <a:prstGeom prst="rect">
            <a:avLst/>
          </a:prstGeom>
          <a:ln w="0">
            <a:noFill/>
          </a:ln>
        </p:spPr>
      </p:pic>
      <p:sp>
        <p:nvSpPr>
          <p:cNvPr id="1605"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6" name="PlaceHolder 1"/>
          <p:cNvSpPr>
            <a:spLocks noGrp="1"/>
          </p:cNvSpPr>
          <p:nvPr>
            <p:ph type="sldNum" idx="4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2578C0-E4C1-487C-ACCD-091DE11B556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0" descr="bkg1.jpg"/>
          <p:cNvPicPr/>
          <p:nvPr/>
        </p:nvPicPr>
        <p:blipFill>
          <a:blip r:embed="rId2"/>
          <a:stretch/>
        </p:blipFill>
        <p:spPr>
          <a:xfrm>
            <a:off x="0" y="1440"/>
            <a:ext cx="9144000" cy="6855120"/>
          </a:xfrm>
          <a:prstGeom prst="rect">
            <a:avLst/>
          </a:prstGeom>
          <a:ln w="0">
            <a:noFill/>
          </a:ln>
        </p:spPr>
      </p:pic>
      <p:sp>
        <p:nvSpPr>
          <p:cNvPr id="1644"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5" name="PlaceHolder 1"/>
          <p:cNvSpPr>
            <a:spLocks noGrp="1"/>
          </p:cNvSpPr>
          <p:nvPr>
            <p:ph type="sldNum" idx="4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81E7B-050B-4DDA-AA51-E0CE8D98834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2" name="Picture 10" descr="bkg1.jpg"/>
          <p:cNvPicPr/>
          <p:nvPr/>
        </p:nvPicPr>
        <p:blipFill>
          <a:blip r:embed="rId2"/>
          <a:stretch/>
        </p:blipFill>
        <p:spPr>
          <a:xfrm>
            <a:off x="0" y="1440"/>
            <a:ext cx="9144000" cy="6855120"/>
          </a:xfrm>
          <a:prstGeom prst="rect">
            <a:avLst/>
          </a:prstGeom>
          <a:ln w="0">
            <a:noFill/>
          </a:ln>
        </p:spPr>
      </p:pic>
      <p:sp>
        <p:nvSpPr>
          <p:cNvPr id="1683" name="PlaceHolder 1"/>
          <p:cNvSpPr>
            <a:spLocks noGrp="1"/>
          </p:cNvSpPr>
          <p:nvPr>
            <p:ph type="sldNum" idx="4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EDB2C-5686-4925-BE1B-9B0B11E4083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kg1.jpg"/>
          <p:cNvPicPr/>
          <p:nvPr/>
        </p:nvPicPr>
        <p:blipFill>
          <a:blip r:embed="rId2"/>
          <a:stretch/>
        </p:blipFill>
        <p:spPr>
          <a:xfrm>
            <a:off x="0" y="1440"/>
            <a:ext cx="9144000" cy="6855120"/>
          </a:xfrm>
          <a:prstGeom prst="rect">
            <a:avLst/>
          </a:prstGeom>
          <a:ln w="0">
            <a:noFill/>
          </a:ln>
        </p:spPr>
      </p:pic>
      <p:sp>
        <p:nvSpPr>
          <p:cNvPr id="1721" name="PlaceHolder 1"/>
          <p:cNvSpPr>
            <a:spLocks noGrp="1"/>
          </p:cNvSpPr>
          <p:nvPr>
            <p:ph type="sldNum" idx="46"/>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2D09B-9C52-48AF-9443-3F195836844E}"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10" descr="bkg1.jpg"/>
          <p:cNvPicPr/>
          <p:nvPr/>
        </p:nvPicPr>
        <p:blipFill>
          <a:blip r:embed="rId2"/>
          <a:stretch/>
        </p:blipFill>
        <p:spPr>
          <a:xfrm>
            <a:off x="0" y="1440"/>
            <a:ext cx="9144000" cy="6855120"/>
          </a:xfrm>
          <a:prstGeom prst="rect">
            <a:avLst/>
          </a:prstGeom>
          <a:ln w="0">
            <a:noFill/>
          </a:ln>
        </p:spPr>
      </p:pic>
      <p:sp>
        <p:nvSpPr>
          <p:cNvPr id="1759" name="PlaceHolder 1"/>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F9452-9A18-4EE7-8D6D-5D884E34385D}"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760" name="PlaceHolder 2"/>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1" name="PlaceHolder 3"/>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13C6A9-6611-41AB-A5DA-1A8B558635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8" name="Picture 10" descr="bkg1.jpg"/>
          <p:cNvPicPr/>
          <p:nvPr/>
        </p:nvPicPr>
        <p:blipFill>
          <a:blip r:embed="rId2"/>
          <a:stretch/>
        </p:blipFill>
        <p:spPr>
          <a:xfrm>
            <a:off x="0" y="1440"/>
            <a:ext cx="9144000" cy="6855120"/>
          </a:xfrm>
          <a:prstGeom prst="rect">
            <a:avLst/>
          </a:prstGeom>
          <a:ln w="0">
            <a:noFill/>
          </a:ln>
        </p:spPr>
      </p:pic>
      <p:sp>
        <p:nvSpPr>
          <p:cNvPr id="1799" name="PlaceHolder 1"/>
          <p:cNvSpPr>
            <a:spLocks noGrp="1"/>
          </p:cNvSpPr>
          <p:nvPr>
            <p:ph type="sldNum" idx="50"/>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0D6D02-2101-4AC3-80C9-1B0D85D1AF12}"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6" name="Picture 10" descr="bkg1.jpg"/>
          <p:cNvPicPr/>
          <p:nvPr/>
        </p:nvPicPr>
        <p:blipFill>
          <a:blip r:embed="rId2"/>
          <a:stretch/>
        </p:blipFill>
        <p:spPr>
          <a:xfrm>
            <a:off x="0" y="1440"/>
            <a:ext cx="9144000" cy="6855120"/>
          </a:xfrm>
          <a:prstGeom prst="rect">
            <a:avLst/>
          </a:prstGeom>
          <a:ln w="0">
            <a:noFill/>
          </a:ln>
        </p:spPr>
      </p:pic>
      <p:sp>
        <p:nvSpPr>
          <p:cNvPr id="1837" name="PlaceHolder 1"/>
          <p:cNvSpPr>
            <a:spLocks noGrp="1"/>
          </p:cNvSpPr>
          <p:nvPr>
            <p:ph type="sldNum" idx="5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4515C2-361A-48ED-AFCA-D7A065B6CF0A}"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4" name="Picture 10" descr="bkg1.jpg"/>
          <p:cNvPicPr/>
          <p:nvPr/>
        </p:nvPicPr>
        <p:blipFill>
          <a:blip r:embed="rId2"/>
          <a:stretch/>
        </p:blipFill>
        <p:spPr>
          <a:xfrm>
            <a:off x="0" y="1440"/>
            <a:ext cx="9144000" cy="6855120"/>
          </a:xfrm>
          <a:prstGeom prst="rect">
            <a:avLst/>
          </a:prstGeom>
          <a:ln w="0">
            <a:noFill/>
          </a:ln>
        </p:spPr>
      </p:pic>
      <p:sp>
        <p:nvSpPr>
          <p:cNvPr id="1875" name="PlaceHolder 1"/>
          <p:cNvSpPr>
            <a:spLocks noGrp="1"/>
          </p:cNvSpPr>
          <p:nvPr>
            <p:ph type="sldNum" idx="52"/>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946E3-D550-4818-9F3F-080279758F36}"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BAF9E-A5E4-48C9-AFCF-0CEA6D8B619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10" descr="bkg1.jpg"/>
          <p:cNvPicPr/>
          <p:nvPr/>
        </p:nvPicPr>
        <p:blipFill>
          <a:blip r:embed="rId2"/>
          <a:stretch/>
        </p:blipFill>
        <p:spPr>
          <a:xfrm>
            <a:off x="0" y="1440"/>
            <a:ext cx="9144000" cy="6855120"/>
          </a:xfrm>
          <a:prstGeom prst="rect">
            <a:avLst/>
          </a:prstGeom>
          <a:ln w="0">
            <a:noFill/>
          </a:ln>
        </p:spPr>
      </p:pic>
      <p:sp>
        <p:nvSpPr>
          <p:cNvPr id="1913" name="PlaceHolder 1"/>
          <p:cNvSpPr>
            <a:spLocks noGrp="1"/>
          </p:cNvSpPr>
          <p:nvPr>
            <p:ph type="sldNum" idx="5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Picture 10" descr="bkg1.jpg"/>
          <p:cNvPicPr/>
          <p:nvPr/>
        </p:nvPicPr>
        <p:blipFill>
          <a:blip r:embed="rId2"/>
          <a:stretch/>
        </p:blipFill>
        <p:spPr>
          <a:xfrm>
            <a:off x="0" y="1440"/>
            <a:ext cx="9144000" cy="6855120"/>
          </a:xfrm>
          <a:prstGeom prst="rect">
            <a:avLst/>
          </a:prstGeom>
          <a:ln w="0">
            <a:noFill/>
          </a:ln>
        </p:spPr>
      </p:pic>
      <p:sp>
        <p:nvSpPr>
          <p:cNvPr id="1951"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33059-53FD-433F-818F-2D15C82FC1E4}"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952"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3"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C2D96C-B0E7-4848-8094-8A6EE3407D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CE3B8-6A24-41C8-906A-91ACEA56455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332BDA-78D1-4975-8900-0F315317CC2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3FB34-B0D0-4912-BC80-302C4ECC2FA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A1ABB-2217-45AB-8EF5-46F058BE7D7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743200" y="1600200"/>
            <a:ext cx="594360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n Dec-2010 ICANN Board requested advice from ALAC, GAC, GNSO and ccNSO on definition, measures, and 3-year targets, for </a:t>
            </a:r>
            <a:r>
              <a:rPr b="0" lang="en-GB" sz="2400" spc="-1" strike="noStrike" u="sng">
                <a:solidFill>
                  <a:srgbClr val="000000"/>
                </a:solidFill>
                <a:uFillTx/>
                <a:latin typeface="Trebuchet MS"/>
              </a:rPr>
              <a:t>competition</a:t>
            </a:r>
            <a:r>
              <a:rPr b="0" lang="en-GB" sz="2400" spc="-1" strike="noStrike">
                <a:solidFill>
                  <a:srgbClr val="000000"/>
                </a:solidFill>
                <a:latin typeface="Trebuchet MS"/>
              </a:rPr>
              <a:t>, </a:t>
            </a:r>
            <a:r>
              <a:rPr b="0" lang="en-GB" sz="2400" spc="-1" strike="noStrike" u="sng">
                <a:solidFill>
                  <a:srgbClr val="000000"/>
                </a:solidFill>
                <a:uFillTx/>
                <a:latin typeface="Trebuchet MS"/>
              </a:rPr>
              <a:t>consumer trust</a:t>
            </a:r>
            <a:r>
              <a:rPr b="0" lang="en-GB" sz="2400" spc="-1" strike="noStrike">
                <a:solidFill>
                  <a:srgbClr val="000000"/>
                </a:solidFill>
                <a:latin typeface="Trebuchet MS"/>
              </a:rPr>
              <a:t>, and </a:t>
            </a:r>
            <a:r>
              <a:rPr b="0" lang="en-GB" sz="2400" spc="-1" strike="noStrike" u="sng">
                <a:solidFill>
                  <a:srgbClr val="000000"/>
                </a:solidFill>
                <a:uFillTx/>
                <a:latin typeface="Trebuchet MS"/>
              </a:rPr>
              <a:t>consumer choice</a:t>
            </a:r>
            <a:r>
              <a:rPr b="0" lang="en-GB" sz="2400" spc="-1" strike="noStrike">
                <a:solidFill>
                  <a:srgbClr val="000000"/>
                </a:solidFill>
                <a:latin typeface="Trebuchet MS"/>
              </a:rPr>
              <a:t> in the context of the DNS.</a:t>
            </a:r>
            <a:endParaRPr b="0" lang="en-US" sz="24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Trebuchet MS"/>
              </a:rPr>
              <a:t>This advice should help the </a:t>
            </a:r>
            <a:r>
              <a:rPr b="0" i="1" lang="en-GB" sz="2400" spc="-1" strike="noStrike">
                <a:solidFill>
                  <a:srgbClr val="ff0000"/>
                </a:solidFill>
                <a:latin typeface="Trebuchet MS"/>
              </a:rPr>
              <a:t>Affirmation</a:t>
            </a:r>
            <a:r>
              <a:rPr b="0" lang="en-GB" sz="2400" spc="-1" strike="noStrike">
                <a:solidFill>
                  <a:srgbClr val="ff0000"/>
                </a:solidFill>
                <a:latin typeface="Trebuchet MS"/>
              </a:rPr>
              <a:t> review team measure the success of the new gTLD program</a:t>
            </a:r>
            <a:endParaRPr b="0" lang="en-US" sz="2400" spc="-1" strike="noStrike">
              <a:solidFill>
                <a:srgbClr val="000000"/>
              </a:solidFill>
              <a:latin typeface="Arial"/>
            </a:endParaRPr>
          </a:p>
        </p:txBody>
      </p:sp>
      <p:sp>
        <p:nvSpPr>
          <p:cNvPr id="1998" name="PlaceHolder 1"/>
          <p:cNvSpPr>
            <a:spLocks noGrp="1"/>
          </p:cNvSpPr>
          <p:nvPr>
            <p:ph type="title"/>
          </p:nvPr>
        </p:nvSpPr>
        <p:spPr>
          <a:xfrm>
            <a:off x="304560" y="152280"/>
            <a:ext cx="8381880" cy="9144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000000"/>
              </a:solidFill>
              <a:latin typeface="Calibri"/>
            </a:endParaRPr>
          </a:p>
        </p:txBody>
      </p:sp>
      <p:sp>
        <p:nvSpPr>
          <p:cNvPr id="1999"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F4E53-89AC-427F-937B-9C62761C580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00" name="Picture 1" descr="j0289893.jpg"/>
          <p:cNvPicPr/>
          <p:nvPr/>
        </p:nvPicPr>
        <p:blipFill>
          <a:blip r:embed="rId1"/>
          <a:stretch/>
        </p:blipFill>
        <p:spPr>
          <a:xfrm>
            <a:off x="0" y="2370240"/>
            <a:ext cx="2608200" cy="17287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203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A3710-6ECC-4C58-8A4F-33A2FA83207E}"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2032" name="TextBox 5"/>
          <p:cNvSpPr/>
          <p:nvPr/>
        </p:nvSpPr>
        <p:spPr>
          <a:xfrm>
            <a:off x="279360" y="954000"/>
            <a:ext cx="31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dvice considered by GNSO, ALAC</a:t>
            </a:r>
            <a:endParaRPr b="0" lang="en-US" sz="2000" spc="-1" strike="noStrike">
              <a:solidFill>
                <a:srgbClr val="000000"/>
              </a:solidFill>
              <a:latin typeface="Arial"/>
            </a:endParaRPr>
          </a:p>
        </p:txBody>
      </p:sp>
      <p:sp>
        <p:nvSpPr>
          <p:cNvPr id="2033" name="Pentagon 6"/>
          <p:cNvSpPr/>
          <p:nvPr/>
        </p:nvSpPr>
        <p:spPr>
          <a:xfrm>
            <a:off x="5924520" y="3494160"/>
            <a:ext cx="2982960" cy="263520"/>
          </a:xfrm>
          <a:custGeom>
            <a:avLst/>
            <a:gdLst>
              <a:gd name="textAreaLeft" fmla="*/ 0 w 2982960"/>
              <a:gd name="textAreaRight" fmla="*/ 2983320 w 2982960"/>
              <a:gd name="textAreaTop" fmla="*/ 0 h 263520"/>
              <a:gd name="textAreaBottom" fmla="*/ 263880 h 263520"/>
            </a:gdLst>
            <a:ahLst/>
            <a:rect l="textAreaLeft" t="textAreaTop" r="textAreaRight" b="textAreaBottom"/>
            <a:pathLst>
              <a:path w="21600" h="21600">
                <a:moveTo>
                  <a:pt x="0" y="0"/>
                </a:moveTo>
                <a:lnTo>
                  <a:pt x="20646" y="0"/>
                </a:lnTo>
                <a:lnTo>
                  <a:pt x="21600" y="10800"/>
                </a:lnTo>
                <a:lnTo>
                  <a:pt x="2064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4" name="TextBox 9"/>
          <p:cNvSpPr/>
          <p:nvPr/>
        </p:nvSpPr>
        <p:spPr>
          <a:xfrm>
            <a:off x="314280" y="3440160"/>
            <a:ext cx="359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ff begins recording metrics</a:t>
            </a:r>
            <a:endParaRPr b="0" lang="en-US" sz="2000" spc="-1" strike="noStrike">
              <a:solidFill>
                <a:srgbClr val="000000"/>
              </a:solidFill>
              <a:latin typeface="Arial"/>
            </a:endParaRPr>
          </a:p>
        </p:txBody>
      </p:sp>
      <p:sp>
        <p:nvSpPr>
          <p:cNvPr id="203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203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203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2038" name="TextBox 13"/>
          <p:cNvSpPr/>
          <p:nvPr/>
        </p:nvSpPr>
        <p:spPr>
          <a:xfrm>
            <a:off x="314280" y="4203720"/>
            <a:ext cx="44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Affirmation Review</a:t>
            </a:r>
            <a:r>
              <a:rPr b="0" lang="en-US" sz="2000" spc="-1" strike="noStrike">
                <a:solidFill>
                  <a:srgbClr val="000000"/>
                </a:solidFill>
                <a:latin typeface="Arial"/>
              </a:rPr>
              <a:t> of new gTLD program</a:t>
            </a:r>
            <a:endParaRPr b="0" lang="en-US" sz="2000" spc="-1" strike="noStrike">
              <a:solidFill>
                <a:srgbClr val="000000"/>
              </a:solidFill>
              <a:latin typeface="Arial"/>
            </a:endParaRPr>
          </a:p>
        </p:txBody>
      </p:sp>
      <p:sp>
        <p:nvSpPr>
          <p:cNvPr id="203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2040" name="TextBox 16"/>
          <p:cNvSpPr/>
          <p:nvPr/>
        </p:nvSpPr>
        <p:spPr>
          <a:xfrm>
            <a:off x="304920" y="25938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w gTLDs delegated</a:t>
            </a:r>
            <a:endParaRPr b="0" lang="en-US" sz="2000" spc="-1" strike="noStrike">
              <a:solidFill>
                <a:srgbClr val="000000"/>
              </a:solidFill>
              <a:latin typeface="Arial"/>
            </a:endParaRPr>
          </a:p>
        </p:txBody>
      </p:sp>
      <p:sp>
        <p:nvSpPr>
          <p:cNvPr id="2041" name="Pentagon 17"/>
          <p:cNvSpPr/>
          <p:nvPr/>
        </p:nvSpPr>
        <p:spPr>
          <a:xfrm>
            <a:off x="5791320" y="2646360"/>
            <a:ext cx="2387520" cy="263520"/>
          </a:xfrm>
          <a:custGeom>
            <a:avLst/>
            <a:gdLst>
              <a:gd name="textAreaLeft" fmla="*/ 0 w 2387520"/>
              <a:gd name="textAreaRight" fmla="*/ 2387880 w 2387520"/>
              <a:gd name="textAreaTop" fmla="*/ 0 h 263520"/>
              <a:gd name="textAreaBottom" fmla="*/ 263880 h 263520"/>
            </a:gdLst>
            <a:ahLst/>
            <a:rect l="textAreaLeft" t="textAreaTop" r="textAreaRight" b="textAreaBottom"/>
            <a:pathLst>
              <a:path w="21600" h="21600">
                <a:moveTo>
                  <a:pt x="0" y="0"/>
                </a:moveTo>
                <a:lnTo>
                  <a:pt x="20408" y="0"/>
                </a:lnTo>
                <a:lnTo>
                  <a:pt x="21600" y="10800"/>
                </a:lnTo>
                <a:lnTo>
                  <a:pt x="20408"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2" name="TextBox 18"/>
          <p:cNvSpPr/>
          <p:nvPr/>
        </p:nvSpPr>
        <p:spPr>
          <a:xfrm>
            <a:off x="304920" y="1716120"/>
            <a:ext cx="299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oard considers advice and adopts metrics</a:t>
            </a:r>
            <a:endParaRPr b="0" lang="en-US" sz="2000" spc="-1" strike="noStrike">
              <a:solidFill>
                <a:srgbClr val="000000"/>
              </a:solidFill>
              <a:latin typeface="Arial"/>
            </a:endParaRPr>
          </a:p>
        </p:txBody>
      </p:sp>
      <p:sp>
        <p:nvSpPr>
          <p:cNvPr id="2043" name="TextBox 21"/>
          <p:cNvSpPr/>
          <p:nvPr/>
        </p:nvSpPr>
        <p:spPr>
          <a:xfrm>
            <a:off x="304920" y="496404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are to targets for adopted metrics</a:t>
            </a:r>
            <a:endParaRPr b="0" lang="en-US" sz="2000" spc="-1" strike="noStrike">
              <a:solidFill>
                <a:srgbClr val="000000"/>
              </a:solidFill>
              <a:latin typeface="Arial"/>
            </a:endParaRPr>
          </a:p>
        </p:txBody>
      </p:sp>
      <p:sp>
        <p:nvSpPr>
          <p:cNvPr id="2044" name="Rectangle 25"/>
          <p:cNvSpPr/>
          <p:nvPr/>
        </p:nvSpPr>
        <p:spPr>
          <a:xfrm>
            <a:off x="3486240" y="1171440"/>
            <a:ext cx="93348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5" name="Rectangle 26"/>
          <p:cNvSpPr/>
          <p:nvPr/>
        </p:nvSpPr>
        <p:spPr>
          <a:xfrm>
            <a:off x="4419720" y="1905120"/>
            <a:ext cx="10033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046" name="Straight Arrow Connector 4"/>
          <p:cNvCxnSpPr/>
          <p:nvPr/>
        </p:nvCxnSpPr>
        <p:spPr>
          <a:xfrm>
            <a:off x="4419360" y="1523880"/>
            <a:ext cx="1080" cy="334080"/>
          </a:xfrm>
          <a:prstGeom prst="straightConnector1">
            <a:avLst/>
          </a:prstGeom>
          <a:ln w="25560">
            <a:solidFill>
              <a:srgbClr val="4f81bd"/>
            </a:solidFill>
            <a:miter/>
            <a:tailEnd len="med" type="triangle" w="med"/>
          </a:ln>
        </p:spPr>
      </p:cxnSp>
      <p:sp>
        <p:nvSpPr>
          <p:cNvPr id="204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204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9" name="Rectangle 35"/>
          <p:cNvSpPr/>
          <p:nvPr/>
        </p:nvSpPr>
        <p:spPr>
          <a:xfrm>
            <a:off x="6445080" y="4346640"/>
            <a:ext cx="64152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2" name="Rectangle 38"/>
          <p:cNvSpPr/>
          <p:nvPr/>
        </p:nvSpPr>
        <p:spPr>
          <a:xfrm>
            <a:off x="5423040" y="3494160"/>
            <a:ext cx="50148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3" name="Rectangle 24"/>
          <p:cNvSpPr/>
          <p:nvPr/>
        </p:nvSpPr>
        <p:spPr>
          <a:xfrm>
            <a:off x="8464680" y="5011560"/>
            <a:ext cx="5331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4" name="Rectangle 7"/>
          <p:cNvSpPr/>
          <p:nvPr/>
        </p:nvSpPr>
        <p:spPr>
          <a:xfrm>
            <a:off x="7086600" y="4203720"/>
            <a:ext cx="1447920" cy="2984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E45BD-665C-4B4D-8186-30C7D33B8F06}"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2002"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000000"/>
              </a:solidFill>
              <a:latin typeface="Calibri"/>
            </a:endParaRPr>
          </a:p>
        </p:txBody>
      </p:sp>
      <p:sp>
        <p:nvSpPr>
          <p:cNvPr id="2003" name=""/>
          <p:cNvSpPr txBox="1"/>
          <p:nvPr/>
        </p:nvSpPr>
        <p:spPr>
          <a:xfrm>
            <a:off x="2743200" y="1282320"/>
            <a:ext cx="6167520" cy="4584600"/>
          </a:xfrm>
          <a:prstGeom prst="rect">
            <a:avLst/>
          </a:prstGeom>
          <a:noFill/>
          <a:ln w="0">
            <a:noFill/>
          </a:ln>
        </p:spPr>
        <p:txBody>
          <a:bodyPr lIns="90000" rIns="90000" tIns="46800" bIns="46800" anchor="t">
            <a:normAutofit/>
          </a:bodyPr>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by Board.</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618F5-45AA-4E83-824B-4EE91A10F848}"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6" name="Text Placeholder 4"/>
          <p:cNvSpPr/>
          <p:nvPr/>
        </p:nvSpPr>
        <p:spPr>
          <a:xfrm>
            <a:off x="387360" y="91440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a:t>
            </a:r>
            <a:r>
              <a:rPr b="0" lang="en-US" sz="2800" spc="-1" strike="noStrike">
                <a:solidFill>
                  <a:srgbClr val="000000"/>
                </a:solidFill>
                <a:latin typeface="Trebuchet MS"/>
              </a:rPr>
              <a:t>: Actual and potential Internet users and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Trust</a:t>
            </a:r>
            <a:r>
              <a:rPr b="1" lang="en-US" sz="2800" spc="-1" strike="noStrike">
                <a:solidFill>
                  <a:srgbClr val="000000"/>
                </a:solidFill>
                <a:latin typeface="Trebuchet MS"/>
              </a:rPr>
              <a:t>: </a:t>
            </a:r>
            <a:r>
              <a:rPr b="0" lang="en-US" sz="2800" spc="-1" strike="noStrike">
                <a:solidFill>
                  <a:srgbClr val="000000"/>
                </a:solidFill>
                <a:latin typeface="Trebuchet MS"/>
              </a:rPr>
              <a:t>The confidence Consumers have in the DNS.  This include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 trust in the consistency of name resolution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 confidence that a TLD registry operator is fulfilling the Registry</a:t>
            </a:r>
            <a:r>
              <a:rPr b="0" lang="ja-JP" sz="2800" spc="-1" strike="noStrike">
                <a:solidFill>
                  <a:srgbClr val="000000"/>
                </a:solidFill>
                <a:latin typeface="Trebuchet MS"/>
              </a:rPr>
              <a:t>’</a:t>
            </a:r>
            <a:r>
              <a:rPr b="0" lang="en-US" sz="2800" spc="-1" strike="noStrike">
                <a:solidFill>
                  <a:srgbClr val="000000"/>
                </a:solidFill>
                <a:latin typeface="Trebuchet MS"/>
              </a:rPr>
              <a:t>s proposed purpose and is complying with ICANN policies </a:t>
            </a:r>
            <a:r>
              <a:rPr b="0" lang="en-US" sz="2800" spc="-1" strike="noStrike">
                <a:solidFill>
                  <a:srgbClr val="ff0000"/>
                </a:solidFill>
                <a:latin typeface="Trebuchet MS"/>
              </a:rPr>
              <a:t>and applicable national laws</a:t>
            </a:r>
            <a:r>
              <a:rPr b="0" lang="en-US" sz="2800" spc="-1" strike="noStrike">
                <a:solidFill>
                  <a:srgbClr val="000000"/>
                </a:solidFill>
                <a:latin typeface="Trebuchet MS"/>
              </a:rPr>
              <a:t> and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i) confidence in ICANN</a:t>
            </a:r>
            <a:r>
              <a:rPr b="0" lang="ja-JP" sz="2800" spc="-1" strike="noStrike">
                <a:solidFill>
                  <a:srgbClr val="000000"/>
                </a:solidFill>
                <a:latin typeface="Trebuchet MS"/>
              </a:rPr>
              <a:t>’</a:t>
            </a:r>
            <a:r>
              <a:rPr b="0" lang="en-US" sz="2800" spc="-1" strike="noStrike">
                <a:solidFill>
                  <a:srgbClr val="000000"/>
                </a:solidFill>
                <a:latin typeface="Trebuchet MS"/>
              </a:rPr>
              <a:t>s compliance function</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96151-6469-4E6E-97A5-359517E31DBF}"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9" name="Text Placeholder 4"/>
          <p:cNvSpPr/>
          <p:nvPr/>
        </p:nvSpPr>
        <p:spPr>
          <a:xfrm>
            <a:off x="304920" y="83808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Choice</a:t>
            </a:r>
            <a:r>
              <a:rPr b="1" lang="en-US" sz="2800" spc="-1" strike="noStrike">
                <a:solidFill>
                  <a:srgbClr val="000000"/>
                </a:solidFill>
                <a:latin typeface="Trebuchet MS"/>
              </a:rPr>
              <a:t>: </a:t>
            </a:r>
            <a:r>
              <a:rPr b="0" lang="en-US" sz="28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1" lang="en-US" sz="2800" spc="-1" strike="noStrike">
                <a:solidFill>
                  <a:srgbClr val="000000"/>
                </a:solidFill>
                <a:latin typeface="Trebuchet MS"/>
              </a:rPr>
              <a:t>: </a:t>
            </a:r>
            <a:r>
              <a:rPr b="0" lang="en-US" sz="2800" spc="-1" strike="noStrike">
                <a:solidFill>
                  <a:srgbClr val="000000"/>
                </a:solidFill>
                <a:latin typeface="Trebuchet MS"/>
              </a:rPr>
              <a:t>Quantity, diversity, and the potential for market rivalry of gTLDs, TLD registry operators, and registrar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EFD71A-FD3D-4D2B-8A1E-5C77690558ED}"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2"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Trust </a:t>
            </a:r>
            <a:r>
              <a:rPr b="0" lang="en-US" sz="2400" spc="-1" strike="noStrike">
                <a:solidFill>
                  <a:srgbClr val="000000"/>
                </a:solidFill>
                <a:latin typeface="Trebuchet MS"/>
              </a:rPr>
              <a:t>metrics measure confidence in registrations and resolutions, and that TLD Operators are fulfilling their stated promise and complying with applicable national laws.</a:t>
            </a:r>
            <a:endParaRPr b="0" lang="en-US" sz="2400" spc="-1" strike="noStrike">
              <a:solidFill>
                <a:srgbClr val="000000"/>
              </a:solidFill>
              <a:latin typeface="Arial"/>
            </a:endParaRPr>
          </a:p>
          <a:p>
            <a:pPr lvl="1" marL="743040" indent="-285840">
              <a:lnSpc>
                <a:spcPct val="100000"/>
              </a:lnSpc>
              <a:spcBef>
                <a:spcPts val="1225"/>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ptime for registry &amp; registrar service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Survey consumer trust relative to pre-expansion</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Contract / policy breach notices &amp; complai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DRP/URS cases &amp; decisions against registra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Law enforcement &amp; legal action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Relative incidence of spam, fraud, malware, botnets </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Actual policies vs proposed Mission (Q18)</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4"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0741E-04E2-4E34-94E9-A613E564593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5"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Choice </a:t>
            </a:r>
            <a:r>
              <a:rPr b="0" lang="en-US" sz="2400" spc="-1" strike="noStrike">
                <a:solidFill>
                  <a:srgbClr val="000000"/>
                </a:solidFill>
                <a:latin typeface="Trebuchet MS"/>
              </a:rPr>
              <a:t>metrics measure range of options available to consumers to make meaningful distinctions when choosing TLDs. </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eographic diversity of registrants/registrar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hare of new gTLDs having same domain in legacy TLD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ensive or duplicate registration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 of IDN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TLDs in other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registrars offering IDN scripts in other language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r/registrant awareness/understanding of requirements</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0BEE5-0A61-4CAD-A771-45364EC689F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8"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0" lang="en-US" sz="2800" spc="-1" strike="noStrike">
                <a:solidFill>
                  <a:srgbClr val="000000"/>
                </a:solidFill>
                <a:latin typeface="Trebuchet MS"/>
              </a:rPr>
              <a:t> metrics to measure the actual market rivalry of TLDs, TLD Operators, Service Providers, and Registrars.</a:t>
            </a:r>
            <a:endParaRPr b="0" lang="en-US" sz="2800" spc="-1" strike="noStrike">
              <a:solidFill>
                <a:srgbClr val="000000"/>
              </a:solidFill>
              <a:latin typeface="Arial"/>
            </a:endParaRPr>
          </a:p>
          <a:p>
            <a:pPr marL="177840">
              <a:lnSpc>
                <a:spcPct val="10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Quantity of new TLDs and new entrant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hare of registrations with new entrant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unique" &amp; total registration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wholesale &amp; retail price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tudy of innovation in new gTLDs</a:t>
            </a:r>
            <a:endParaRPr b="0" lang="en-US" sz="2800" spc="-1" strike="noStrike">
              <a:solidFill>
                <a:srgbClr val="000000"/>
              </a:solidFill>
              <a:latin typeface="Arial"/>
            </a:endParaRPr>
          </a:p>
          <a:p>
            <a:pPr lvl="1" marL="743040" indent="-285840">
              <a:lnSpc>
                <a:spcPct val="12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177840">
              <a:lnSpc>
                <a:spcPct val="12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AC’s Consumer Perspective:</a:t>
            </a:r>
            <a:br>
              <a:rPr sz="4000"/>
            </a:br>
            <a:r>
              <a:rPr b="0" i="1" lang="en-US" sz="4000" spc="-1" strike="noStrike">
                <a:solidFill>
                  <a:srgbClr val="ff0000"/>
                </a:solidFill>
                <a:latin typeface="Calibri"/>
              </a:rPr>
              <a:t>What’s Missing</a:t>
            </a:r>
            <a:endParaRPr b="0" lang="en-US" sz="4000" spc="-1" strike="noStrike">
              <a:solidFill>
                <a:srgbClr val="000000"/>
              </a:solidFill>
              <a:latin typeface="Calibri"/>
            </a:endParaRPr>
          </a:p>
        </p:txBody>
      </p:sp>
      <p:sp>
        <p:nvSpPr>
          <p:cNvPr id="2020" name=""/>
          <p:cNvSpPr txBox="1"/>
          <p:nvPr/>
        </p:nvSpPr>
        <p:spPr>
          <a:xfrm>
            <a:off x="457200" y="1430280"/>
            <a:ext cx="8229600" cy="45259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d-user confusion</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owth in use of both domain-based and non-domain-based alternatives for resource acces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laints to, and action taken by, police, regulatory agencies and advocacy group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arency of contact information and domain-allocation policie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of new gTLD promotion to end user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chnical issues (incl application support)</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304560" y="151920"/>
            <a:ext cx="8381880" cy="1143000"/>
          </a:xfrm>
          <a:prstGeom prst="rect">
            <a:avLst/>
          </a:prstGeom>
          <a:noFill/>
          <a:ln w="0">
            <a:noFill/>
          </a:ln>
        </p:spPr>
        <p:txBody>
          <a:bodyPr lIns="64440" rIns="64440" tIns="32040" bIns="32040" anchor="ctr">
            <a:noAutofit/>
          </a:bodyPr>
          <a:p>
            <a:pPr indent="0">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Next Steps</a:t>
            </a:r>
            <a:endParaRPr b="0" lang="en-US" sz="3600" spc="-1" strike="noStrike">
              <a:solidFill>
                <a:srgbClr val="000000"/>
              </a:solidFill>
              <a:latin typeface="Calibri"/>
            </a:endParaRPr>
          </a:p>
        </p:txBody>
      </p:sp>
      <p:sp>
        <p:nvSpPr>
          <p:cNvPr id="2022"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CANN Board reacts to advice from ALAC and GNSO</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ff begins capturing data for metrics</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Trebuchet MS"/>
              </a:rPr>
              <a:t>Affirmation</a:t>
            </a:r>
            <a:r>
              <a:rPr b="0" lang="en-US" sz="2800" spc="-1" strike="noStrike">
                <a:solidFill>
                  <a:srgbClr val="000000"/>
                </a:solidFill>
                <a:latin typeface="Trebuchet MS"/>
              </a:rPr>
              <a:t> Review Team forms to begin review, one year after delegation of new gTLDs</a:t>
            </a:r>
            <a:endParaRPr b="0" lang="en-US" sz="2800" spc="-1" strike="noStrike">
              <a:solidFill>
                <a:srgbClr val="000000"/>
              </a:solidFill>
              <a:latin typeface="Calibri"/>
            </a:endParaRPr>
          </a:p>
          <a:p>
            <a:pPr marL="457200" indent="0">
              <a:lnSpc>
                <a:spcPct val="100000"/>
              </a:lnSpc>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023"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E3B652-C51E-4EC2-BD85-F005BA1176D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24"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8:27:24Z</dcterms:created>
  <dc:creator>Tom Hodgson</dc:creator>
  <dc:description/>
  <dc:language>en-US</dc:language>
  <cp:lastModifiedBy>Julia Charvolen</cp:lastModifiedBy>
  <cp:lastPrinted>2011-03-03T09:26:23Z</cp:lastPrinted>
  <dcterms:modified xsi:type="dcterms:W3CDTF">2013-07-15T08:51:12Z</dcterms:modified>
  <cp:revision>329</cp:revision>
  <dc:subject/>
  <dc:title>Slide 1</dc:title>
</cp:coreProperties>
</file>