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601.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553.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419.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13.xml" ContentType="application/vnd.openxmlformats-officedocument.presentationml.slideLayout+xml"/>
  <Override PartName="/ppt/slideLayouts/slideLayout612.xml" ContentType="application/vnd.openxmlformats-officedocument.presentationml.slideLayout+xml"/>
  <Override PartName="/ppt/slideLayouts/slideLayout179.xml" ContentType="application/vnd.openxmlformats-officedocument.presentationml.slideLayout+xml"/>
  <Override PartName="/ppt/slideLayouts/slideLayout576.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611.xml" ContentType="application/vnd.openxmlformats-officedocument.presentationml.slideLayout+xml"/>
  <Override PartName="/ppt/slideLayouts/slideLayout178.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217.xml" ContentType="application/vnd.openxmlformats-officedocument.presentationml.slideLayout+xml"/>
  <Override PartName="/ppt/slideLayouts/slideLayout216.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18.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6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43.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75.xml.rels" ContentType="application/vnd.openxmlformats-package.relationships+xml"/>
  <Override PartName="/ppt/slideLayouts/_rels/slideLayout12.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2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64.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147.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555.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503.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69.xml.rels" ContentType="application/vnd.openxmlformats-package.relationships+xml"/>
  <Override PartName="/ppt/slideLayouts/_rels/slideLayout51.xml.rels" ContentType="application/vnd.openxmlformats-package.relationships+xml"/>
  <Override PartName="/ppt/slideLayouts/_rels/slideLayout582.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218.xml.rels" ContentType="application/vnd.openxmlformats-package.relationships+xml"/>
  <Override PartName="/ppt/slideLayouts/_rels/slideLayout594.xml.rels" ContentType="application/vnd.openxmlformats-package.relationships+xml"/>
  <Override PartName="/ppt/slideLayouts/_rels/slideLayout22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54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13.xml.rels" ContentType="application/vnd.openxmlformats-package.relationships+xml"/>
  <Override PartName="/ppt/slideLayouts/_rels/slideLayout11.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0.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88.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46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16.xml.rels" ContentType="application/vnd.openxmlformats-package.relationships+xml"/>
  <Override PartName="/ppt/slideLayouts/_rels/slideLayout7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89.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87.xml.rels" ContentType="application/vnd.openxmlformats-package.relationships+xml"/>
  <Override PartName="/ppt/slideLayouts/_rels/slideLayout566.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158.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542.xml.rels" ContentType="application/vnd.openxmlformats-package.relationships+xml"/>
  <Override PartName="/ppt/slideLayouts/_rels/slideLayout143.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89.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96.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28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469.xml.rels" ContentType="application/vnd.openxmlformats-package.relationships+xml"/>
  <Override PartName="/ppt/slideLayouts/_rels/slideLayout117.xml.rels" ContentType="application/vnd.openxmlformats-package.relationships+xml"/>
  <Override PartName="/ppt/slideLayouts/_rels/slideLayout323.xml.rels" ContentType="application/vnd.openxmlformats-package.relationships+xml"/>
  <Override PartName="/ppt/slideLayouts/_rels/slideLayout297.xml.rels" ContentType="application/vnd.openxmlformats-package.relationships+xml"/>
  <Override PartName="/ppt/slideLayouts/_rels/slideLayout65.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Lst>
  <p:notesMasterIdLst>
    <p:notesMasterId r:id="rId53"/>
  </p:notesMasterIdLst>
  <p:sldIdLst>
    <p:sldId id="256" r:id="rId54"/>
    <p:sldId id="257" r:id="rId55"/>
    <p:sldId id="258" r:id="rId56"/>
    <p:sldId id="259" r:id="rId57"/>
    <p:sldId id="260" r:id="rId58"/>
    <p:sldId id="261" r:id="rId59"/>
    <p:sldId id="262" r:id="rId60"/>
    <p:sldId id="263" r:id="rId61"/>
    <p:sldId id="264" r:id="rId62"/>
    <p:sldId id="26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notesMaster" Target="notesMasters/notesMaster1.xml"/><Relationship Id="rId54" Type="http://schemas.openxmlformats.org/officeDocument/2006/relationships/slide" Target="slides/slide1.xml"/><Relationship Id="rId55" Type="http://schemas.openxmlformats.org/officeDocument/2006/relationships/slide" Target="slides/slide2.xml"/><Relationship Id="rId56" Type="http://schemas.openxmlformats.org/officeDocument/2006/relationships/slide" Target="slides/slide3.xml"/><Relationship Id="rId57" Type="http://schemas.openxmlformats.org/officeDocument/2006/relationships/slide" Target="slides/slide4.xml"/><Relationship Id="rId58" Type="http://schemas.openxmlformats.org/officeDocument/2006/relationships/slide" Target="slides/slide5.xml"/><Relationship Id="rId59" Type="http://schemas.openxmlformats.org/officeDocument/2006/relationships/slide" Target="slides/slide6.xml"/><Relationship Id="rId60" Type="http://schemas.openxmlformats.org/officeDocument/2006/relationships/slide" Target="slides/slide7.xml"/><Relationship Id="rId61" Type="http://schemas.openxmlformats.org/officeDocument/2006/relationships/slide" Target="slides/slide8.xml"/><Relationship Id="rId62" Type="http://schemas.openxmlformats.org/officeDocument/2006/relationships/slide" Target="slides/slide9.xml"/><Relationship Id="rId63" Type="http://schemas.openxmlformats.org/officeDocument/2006/relationships/slide" Target="slides/slide1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2" name="PlaceHolder 2"/>
          <p:cNvSpPr>
            <a:spLocks noGrp="1"/>
          </p:cNvSpPr>
          <p:nvPr>
            <p:ph type="dt" idx="5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9E7A8-FE2D-4C19-9632-46ECC9C6FC12}"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1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1995" name="PlaceHolder 5"/>
          <p:cNvSpPr>
            <a:spLocks noGrp="1"/>
          </p:cNvSpPr>
          <p:nvPr>
            <p:ph type="ftr" idx="5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96" name="PlaceHolder 6"/>
          <p:cNvSpPr>
            <a:spLocks noGrp="1"/>
          </p:cNvSpPr>
          <p:nvPr>
            <p:ph type="sldNum" idx="5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32B9C-34B9-41C1-A87A-CBB27BEF982E}"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78FAA-7DAB-4804-B03B-045BAE9FF321}"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B4FF67E0-43ED-443C-9955-6FE8885A37E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7262F92F-0DA3-4A37-B436-99B5CBED8C1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B52573FD-2C55-421D-A8C5-22FABDE9CF4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91C18CE-72CB-40B0-B36F-056D7871EDC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F81F9D8-E273-4070-9D04-0FDC5ABB9CA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0045C98-0983-4C19-8956-390F4BF3A9A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2D1F8D5-C518-4376-ACEC-E4848DA5B6D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24C1BDCF-0BC5-4713-9DF3-66899C39766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67A094AE-080E-475C-B646-28A52256637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1C4E6C8-0F6A-4B30-857E-3C48B0B317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972B2AA-BFB8-4357-AF5A-DDB66366CBD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1173D31-E483-4863-8AF8-898704DD50A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E6CB1CA1-DE66-4B3D-BE2A-CF1ECF2DA1D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B85F5C86-EC9B-49A4-B805-80F24A0FA24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0C8DB260-1228-4FD1-BA13-BBBA4B2C834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B0A205D-7932-4997-8F34-8F048563BA9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9A8BB08-1B6B-4D33-942E-4735DEEFDB2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A5FBA22-784D-4ACE-9C06-84ABA455111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263768DE-4A99-4B41-92A5-C5C670A13BB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E78A701C-FDCD-4DBF-B97F-598D708B6F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0DB88F0E-D6B7-4147-851C-C42E4C68E25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0640A5C-30B6-4E0B-808C-AF8AA93E98A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7F43065-79EF-4040-921A-90A82AB53B6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FBB9C6F-1B76-4E2A-A134-C16D597CF12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7549639-0002-4845-BC53-CC96E853E5C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F371F48E-BF02-4DEF-A4EB-FDA5F514784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4673BC03-D4F8-4A55-ADCE-EE62C4C4629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93DF6A0-1EDD-4879-B234-11D6A320103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4DC5E63-897A-4F57-A526-8F534F05E36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6247BF3-FB09-4CA8-8414-3821E949BD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4B24E64-11EF-4AD1-BC91-D712FBD0310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B32D21AA-30A1-4D04-9BAF-1C237F60D5A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04B928D4-0600-475F-9E76-8C2EE4D9B93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A9E5A2F-0498-4942-B07E-701B0161BB0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F1DE1ABD-506B-425C-A88B-7185EAE3DC8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78F32F2-AC18-4FB0-8687-9594E286197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DFC1676-1270-4E68-B06E-A0A3F85D392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32A99969-7216-4008-B1B8-BBACE9B6AF3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0C58F389-AEFC-44B8-9A2B-930314C176F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24E07BD-4002-4F91-9BF4-158792E643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06553F9-E94F-4014-A740-041736C19BA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BB2C8C4-E9E2-45F4-9D2F-A304A4BD4DC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6D56994D-860F-4E9C-93B5-105E245F689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E958A693-141E-463D-8CC7-E81CE7F6FD4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F4CF9B77-9E52-4977-98C9-CB3185DCA8F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B874FE0-F3BC-4F6F-A227-F36914C6A4E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E57DA38A-A956-4A2B-A11F-EB8F375D525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BF319DE6-A1E4-4DC4-B239-AF18F932829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AE31D1D2-F483-4EEF-BE49-196F29E18EB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BBDA6056-9D27-4CB2-ABCD-AC2037C529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7DF6A970-36A7-48BB-B793-289A0F7E265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D1C5149F-7AB1-4231-AB04-7959A107AE0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F0C966C0-B8AE-4A8E-97F4-DCD1B07A412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CC9F14C6-117E-4E88-ABE3-5CB7D04C0CC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7EAE06B6-C2BC-48CC-9EA2-0CFA058160B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0A18D029-BDB3-45B2-ADE0-3600FF5EE35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1D498E68-8740-40EC-B3BD-16D1A0CEF5B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BB088B9-251F-479A-8D6E-53B5379907E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2D2821C3-0C91-46A8-952B-669A4EEB40B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C456EA8B-EE8E-4A4A-97E7-3E45CBA7FC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E72E0AE9-E2CF-40F9-BD40-A629DA76E0F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7564B53C-8740-498A-9444-404F4308AAE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F0839A42-25FA-4BFB-9323-BC5F606A6DC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BD92D988-CC0E-4656-A3AC-22F27454F3C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576F8572-1736-418D-8AEE-E0089EEDC89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1A9EF679-520F-4CB0-9143-E2FD078094F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3CF29E24-3D9F-4CF4-99F4-DF8BDD71F02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11BAEF81-882E-4E0C-A624-2D641BE1597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1ADDBE10-33E0-4C64-9910-C19D1892C17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A1DF271-AF1D-441B-9E89-A1B767B858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F3729165-8C00-4B0D-8F7A-D4E7C73C4BA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7C98F588-B24D-45DB-A930-49DE1901405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29991871-0E2F-40BB-B4E9-BC74ADF1E63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81DB593C-D67B-4FB0-A059-D905C39A664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56F3979A-1E89-4FFC-B12D-25800DF3A6A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78B3BADB-DE56-4B07-BE65-EA863EF3699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1D34583E-87DF-4795-A072-8A605F6D7C7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09254375-A6AB-4E8E-A49B-C513A61B79A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21A6CA78-9C01-4E25-BEB0-75686332F32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D06C060C-7EE2-4744-B067-188B8BB981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7F8E910C-2983-4169-92C7-315A886207A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78B0399-A1AA-481D-93EE-6DF115F5B3D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45DCC43-AAC7-4B09-8C27-0D6883B4258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9DDCE00-757B-4398-9835-5E4E1773441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E435435-25BB-4B1B-9789-292FE13C316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7421E4A-612D-4547-8C6A-8E8966A0ADC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A668306-9429-44CB-A452-982ACBAB131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5EF1654-143F-4CA1-9CC4-BA088382C40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F632FB4-7670-4C7F-96B2-763968077EF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FE81B7F-1814-481C-822B-181A88B4E9A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B7A28B2-43C1-452F-B934-8914CAA3DF7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07C9E4B-3ACA-41EF-B746-30FC0130DCD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549EAE0-BB84-482A-9928-D1E193DD45C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4466DEA-D3C4-4AEF-A302-5268E0A9F28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D2143B6A-D1ED-43E0-BE4B-56A9D2E5E76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8BB692C1-53F9-4415-8FD4-9109853F4CE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900F6BB2-2E7B-4E6C-A7AF-0E21265CFA4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A2729FE9-20E4-46AA-863A-CC2B66A6EC5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6A74C6F6-30E2-4B8E-9DD6-862F2216591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3B78A9FC-F064-442E-A951-FEA0C70C61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6DD0AA72-0799-44AC-B77E-9779B146F62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505C114-05F2-4C22-8C79-7FBE4D5E7FD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78D640B4-120B-43A1-ACD4-8E2994CFA24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E3B5351E-BF54-4C90-B940-6D24CD1ECEC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BD81D71B-C3C7-4D7A-929C-5FD6C723C68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C165CC4-DA02-48E5-807F-5AF99786727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8159A3EE-8D5D-4908-8F1A-B1FC724DA3D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4ACF083F-A67C-4C01-9FF2-C791FBE899E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FDCAAD91-FF09-44DF-9FCE-F3E65E7C9FA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E2D968E9-704A-4D7D-AE12-831313176E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5D24712C-9D81-4C7F-AEF8-320F9D0DE37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246F23AF-594C-495C-8BFE-C9B212B6A7E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CE4BE49E-6FDA-49F7-9D0F-88240AD9F2B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CAEE62A3-5BD3-4FD9-A6AA-9617FFC12BE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CE46A93E-82D8-4DED-95F0-03EB1DF202B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CCCD3081-E41A-4B0A-9A14-F76A707B6B3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10681AEE-2621-481C-9E82-5DC1C2E6142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EBF0EB4-D856-43DC-8383-8DCBDCFAC4C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EBFF461F-3E44-4D49-8532-FC5B335CB10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EB72595F-4DB1-47B6-B87C-FBA2EC80FE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B13B0E21-D4D3-4FB1-9EE8-53F63ACC778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A65011F4-CFC0-45D9-83F3-20EE98FFB01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535E9DED-B62B-4D60-826F-5C41FDC42C55}"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0C33BD3-5957-4765-898C-AE686A1DEF3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C9A67DF-C103-4C8B-8DDC-163FC32F0AB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D4A65AF-8191-49D6-9963-C3EA14AA25B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6816FA3-F013-4411-B698-2461C044ED6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B86C0805-3FBE-4D38-B585-51E82BAFAF8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C8E351BF-3DC2-483C-8DD7-768583AAF2E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744AE6E1-D95C-4390-87E8-27EB7D95CF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F0B99147-8C4E-45E8-A469-E05CF8C88B8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4B090258-4888-42C6-A641-92EBB5B40AB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C3333AEF-82AA-4D38-B757-0015CF72527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EDED8C90-1B58-4B8D-8CDD-8A2FE7D3D30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CF8AAE25-0323-4AA5-AF05-FCBFF6EB497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F93CFEC9-AF7F-48FC-833F-000D823F903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E6A65CC8-D117-4C3B-9406-724917B811B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290AE4E6-76BD-4ABF-9583-FC3A12AD8C5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3D3572C2-C6D4-4E2B-BCDF-3F308B00192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2B124C9D-E904-4EDD-B484-CCFFBDC89C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3C670F95-52F7-4F3F-B0E4-A180B224322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DC62626-EAF4-4014-B7A6-647100F198E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A127570F-CFF1-4A40-96F1-B1CF36250E4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6AA0145E-69CB-4FE4-B3DB-D7856EE71AA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402D2193-45EE-468D-BC5D-624FB4D3CC7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2BEA59EC-1610-4797-9C4B-93F96B4D680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B43BE4BC-0C7F-42F4-BBA6-F7860138818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8C56FDDD-043B-48CF-9E87-199784D0402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9CD331F5-DD81-42E4-B01F-05D16690521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C9977722-B42C-4F68-86C2-A7F65B6A4D4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8BE969B5-A778-4EA4-872B-48C749F7EBB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A6680D17-4BF4-40AF-BAC7-1D69C0C1BA5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A96B5CD6-1485-40D6-B6C0-C74BFE613CE9}"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2D0D97A4-CFDB-42A4-B2D6-FBE038AE4A6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72D9DF62-0226-435A-A34B-EDEBA49DD7A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09184C97-4365-4C76-AA01-9EDEFB2AB58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0F6BB018-0ED0-4A49-BACA-762A22EA8EE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3"/>
          </p:nvPr>
        </p:nvSpPr>
        <p:spPr/>
        <p:txBody>
          <a:bodyPr/>
          <a:p>
            <a:fld id="{14B84C1F-361A-4FE6-9D97-C8DB106F5BE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ACC8674A-3256-49FD-9E9F-097F2A23B80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F4464614-0B3E-4CD7-ACBD-DD7D9CC4FE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754AF878-A385-4015-A6C3-16205C2F436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C98281D8-735F-4E86-A0FB-A5EB8DE991C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27A713EA-E70A-411B-84CA-1C5F104C318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C0A23BD4-3431-4F11-8398-5247DF2732B7}"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1C89700B-BDA4-43BA-9324-39864823659A}"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D371DF2-CCA4-40D4-92A5-E7833EF7706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B46908E-93FB-4723-9015-B45EBB5AEA0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A831BA8-6909-4666-8447-95FB583C5208}"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D04AC3CE-E087-4A6B-874F-AFB035613833}"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AAC42454-26ED-409B-91B4-EAADA4AB38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ECF422E8-1F95-4079-87FC-6F99F19FA0E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CAA6C51-2897-44F7-A094-999E644A59B2}"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82F3952-1194-40EC-A21A-3CBDB8CD770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F0EDE68-C6DD-4E02-BFAB-783F87F51FF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C974B633-3BAA-465A-A3E1-4AF5326AEE1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E60AD189-AC39-4F48-965E-23580075075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F2183142-CE0E-4FA5-859D-62629BDB2E9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C7A2BB5-F500-4F6F-8364-952CABE98E82}"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6D5BB23A-3DF7-47F7-8095-AC40503B6362}"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87A2C08B-8427-4095-B9FA-28C0529359A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63BC0081-D4B1-425E-94AC-40ADF3BB828C}"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CBFCA24D-F49D-4B1B-ACA1-2ACFA59F744A}"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4C2E8CEB-95F4-4BEA-8760-6680E0D2F7FD}"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0715072-ADEF-4145-A865-A5FB290B892B}"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3AB5F4B-F014-43AD-88D7-EDC71E9C1E50}"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274AFC7-7968-4951-A3BD-485D2B8CA43B}"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9015FB38-7226-45D6-A11E-B4A8BB2213D7}"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C0D0263E-333A-418A-A22A-6E5F9823617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6A85674E-FAAE-4175-913B-4D0D631B347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ED89576-F492-4E8A-8FF4-414A219B35E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9C0AC0CB-19A0-4A2C-9681-9650DF0730A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CE26B1C7-0933-4F9F-9F86-FAB3BB9F7663}"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05FD3C31-05BC-4F1E-B461-5C93BAD4CDAE}"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44FBB61A-EA4B-437B-8513-96C3FB778AEE}"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AD8FF4C8-C731-4749-ACD5-51E765DE6ED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068C1963-5176-4485-B3CF-AF310665DEAC}"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2B8646C-92AB-4847-B039-42F7AC2A8194}"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B3B4196-1123-460C-93C7-5166E9F4F987}"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3FA334A-F142-466A-8280-EAAACC70C40E}"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14E933AB-A342-47AE-A8C2-9881A1705B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7BA60255-80EF-4EEF-9990-7692FFBA6050}"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7B304E8F-F27A-4587-93B0-A375D22FA00D}"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6B341E5F-DFC2-4D44-B31C-D244F80E6900}"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D76B9A8F-9F6D-45C3-B730-CB93430D199E}"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52EDE8E2-6217-4B76-9A69-75E8F88A97CB}"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7"/>
          </p:nvPr>
        </p:nvSpPr>
        <p:spPr/>
        <p:txBody>
          <a:bodyPr/>
          <a:p>
            <a:fld id="{69A791B3-41D3-40C4-831C-4CD27A51A333}"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7"/>
          </p:nvPr>
        </p:nvSpPr>
        <p:spPr/>
        <p:txBody>
          <a:bodyPr/>
          <a:p>
            <a:fld id="{164499FC-5931-4293-A5C1-80691FC2492A}"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C676ED05-7C78-4EAB-951A-2F2EAA19ABA3}"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A6E5D6AC-484A-4552-B4C7-F4D43E761400}"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D272D693-4973-4B72-8663-71BE5D11DF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05A25CD7-1AD4-410F-9CF8-BB5B4742B838}"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7"/>
          </p:nvPr>
        </p:nvSpPr>
        <p:spPr/>
        <p:txBody>
          <a:bodyPr/>
          <a:p>
            <a:fld id="{4ECE3A5A-3A4A-4CA2-BEE9-AD0A392FC1F6}"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7"/>
          </p:nvPr>
        </p:nvSpPr>
        <p:spPr/>
        <p:txBody>
          <a:bodyPr/>
          <a:p>
            <a:fld id="{BC0D67B9-AB27-4736-8FEB-457387249FAE}"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3B25900-3087-4B46-AE5B-C671BE62F29D}"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33C6CDA7-E492-4937-93BA-A2B2B0B25CE5}"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A4E44424-F333-4D3E-8ECB-E3F5A3F4DE16}"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A27580EB-DE51-4874-8898-FD165A4462F2}"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7D2ECE3F-0035-4D5E-970E-649D1177EF06}"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AC7D65EA-A591-4EFB-A178-9CBA78C0E04F}"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5BF92116-F5D9-44C4-899E-346E29D6A80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E6B76323-E3A6-4444-B087-CD1795247AB3}"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B610D7C6-B987-47F7-BCB0-AE8AAFD3BAC4}"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39EBBC81-B06C-41CF-83A4-FA1323BB66F9}"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B008B36E-89D7-4CCD-B7D0-FA36B18A948E}"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226CDB79-0C5E-4538-A5ED-8C48E1E1BFC6}"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AE699B96-2804-42B4-8141-BE146E1FC28F}"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B2BD1631-0AB4-41CD-92DF-FAF62A70E6C9}"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3B2512FE-99AE-4032-824A-25598A99CE2D}"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A6E42C9A-9BD2-4B0A-9316-B21A3D398A6F}"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AFE63268-0226-4C10-AACA-EBD77AD33F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6CA71309-416D-42D8-8274-612AE637EE03}"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3982DB44-6F75-43B9-86AC-AB73D75FB861}"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FAF14187-C0BE-4048-8AA9-5A43EE7ACF11}"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33F7BA46-3368-4C5A-96E9-8DA73F442F81}"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7623A3DA-3F61-4870-99D5-AB29F41C3FBA}"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4D397E6D-55A2-40F2-BDC0-79ED7CF8C63C}"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0ED3085E-E785-4DFA-9CF7-6C39F05D934C}"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FD5D8933-1DD1-4B97-9D05-467F0345417E}"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7CE7800A-0C54-40D8-BBDC-4D0466E66216}"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D6A643A1-0B68-41B7-AF2D-CB73BBC60B5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08FC5713-B3F7-4FD3-98DD-5E076CFB713A}"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0"/>
          </p:nvPr>
        </p:nvSpPr>
        <p:spPr/>
        <p:txBody>
          <a:bodyPr/>
          <a:p>
            <a:fld id="{7819DA05-7D07-417E-B230-886B28FB3EDA}"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0"/>
          </p:nvPr>
        </p:nvSpPr>
        <p:spPr/>
        <p:txBody>
          <a:bodyPr/>
          <a:p>
            <a:fld id="{7BC275F9-F63D-4366-B69E-DC26CB2D3EE9}"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3739D2F5-E40E-4FC4-B921-06D0780216D9}"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DDA02564-D8B7-461C-8BBE-EDBFE737200C}"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713B8756-90BC-4EB8-ACB4-041E88688AE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222406AA-DB1B-4F73-9374-B8F64AD1AEE4}"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0"/>
          </p:nvPr>
        </p:nvSpPr>
        <p:spPr/>
        <p:txBody>
          <a:bodyPr/>
          <a:p>
            <a:fld id="{0592D353-2B38-4B2F-97C1-272D0E3FD0F7}"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0"/>
          </p:nvPr>
        </p:nvSpPr>
        <p:spPr/>
        <p:txBody>
          <a:bodyPr/>
          <a:p>
            <a:fld id="{3FDAE5F7-44EE-4F51-99FE-5B24C322B821}"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AC22584D-4EFF-4FF2-8BF3-8E639AF5842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0ABB0C62-60E2-44FD-9546-982359D144EE}"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A3ACB309-D52B-4421-9DD7-845CBADF593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FD93A14D-1508-42D9-80C4-13331FB6C044}"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1"/>
          </p:nvPr>
        </p:nvSpPr>
        <p:spPr/>
        <p:txBody>
          <a:bodyPr/>
          <a:p>
            <a:fld id="{F6C5448B-8876-4871-BD22-45534FE6B982}"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1"/>
          </p:nvPr>
        </p:nvSpPr>
        <p:spPr/>
        <p:txBody>
          <a:bodyPr/>
          <a:p>
            <a:fld id="{456D66DA-9549-40EB-955F-61AA70E2D5AA}"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CD814123-04C1-4417-BB7C-6B49CB7022D1}"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51B6443F-B355-41F9-8325-2156BB964918}"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84BE3468-1262-4766-A690-91C539608E6C}"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48065791-89E3-4AF0-B7DD-EE2E978BA177}"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1"/>
          </p:nvPr>
        </p:nvSpPr>
        <p:spPr/>
        <p:txBody>
          <a:bodyPr/>
          <a:p>
            <a:fld id="{B53989CF-E955-4F62-91B7-01673F32CA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1"/>
          </p:nvPr>
        </p:nvSpPr>
        <p:spPr/>
        <p:txBody>
          <a:bodyPr/>
          <a:p>
            <a:fld id="{3B5BE8F1-01B2-4E18-9A90-D16F5F0B692C}"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F660CDB1-A145-4904-BB23-50D1C3DC49FF}"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72D17D56-2C30-400A-8364-3EE81CD6B225}"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4015284D-AECD-4521-8BDE-B195F31D6EDD}"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591BAF9A-CC3C-483C-A6A2-B42F7DA8FF58}"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2"/>
          </p:nvPr>
        </p:nvSpPr>
        <p:spPr/>
        <p:txBody>
          <a:bodyPr/>
          <a:p>
            <a:fld id="{7DA666FB-9394-48E0-9C5A-729277485F4C}"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2"/>
          </p:nvPr>
        </p:nvSpPr>
        <p:spPr/>
        <p:txBody>
          <a:bodyPr/>
          <a:p>
            <a:fld id="{423FAA88-05A5-4069-B361-F1FF093E91C1}"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7582A511-A3EB-4FF0-8C09-7F53ED73EC7B}"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FBDABA74-BDD2-40A6-9E7F-A2F437DC6103}"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A79857C5-AABA-428D-841C-60CA08927A8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C2AD9-A3EF-4E52-9E21-0A122AD64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11FD1B5D-B3C9-4E09-96D1-474D316DF5A8}"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2"/>
          </p:nvPr>
        </p:nvSpPr>
        <p:spPr/>
        <p:txBody>
          <a:bodyPr/>
          <a:p>
            <a:fld id="{C1271563-06AF-423B-B31B-346D8A12C59C}"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2"/>
          </p:nvPr>
        </p:nvSpPr>
        <p:spPr/>
        <p:txBody>
          <a:bodyPr/>
          <a:p>
            <a:fld id="{A1C82E9C-90BF-4508-AADB-BB23C09BC2DF}"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406ACD32-81DF-4B85-958B-A22E402AB699}"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59389685-39CD-4CD9-8C44-EEEDF30794A9}"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1184730F-378A-46F8-96D1-F32D68753CD5}"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0923F2B7-B566-4EBE-9E28-D0DEBCE8EE4F}"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3"/>
          </p:nvPr>
        </p:nvSpPr>
        <p:spPr/>
        <p:txBody>
          <a:bodyPr/>
          <a:p>
            <a:fld id="{AD550F57-D285-4A48-92BC-4A9FFEB976AE}"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9149DC6F-0339-4416-A9F5-5A8B1A5033F3}"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EE4E4DCC-BFAA-4474-B7B3-A6CC8250B49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25B4F-3398-4756-8DF6-E965F440B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49CD2A75-E346-405E-9992-CAAD0B93C34E}"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17F6FB5F-4091-427C-8E4E-AFD76F2C98F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0CCD48A9-2A28-4663-908D-6559B16A78E8}"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8F539598-EB2B-4436-BCA7-7A1147D3E8BE}"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BBBFF88A-313D-401D-ACA2-8C488CF123BA}"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F1126C2C-5DD0-4E85-939B-4640CA19D226}"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FAB4A8E6-09B8-409B-876E-8F9FF247733B}"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52E10BC1-900C-4EEC-8BDA-FE1EAB111183}"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5501A594-EF02-446F-A2D3-F2BE450470C5}"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4"/>
          </p:nvPr>
        </p:nvSpPr>
        <p:spPr/>
        <p:txBody>
          <a:bodyPr/>
          <a:p>
            <a:fld id="{89D8D97F-E6D0-4048-A075-670D068853B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7750C-6EA0-41EF-B4CD-C53FD6031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33568F70-E190-4485-9DF7-F95A6B831A5E}"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0ECD80C4-F0B1-40E0-B533-B0CE82643C2F}"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1608F210-AE92-40BD-B0D1-FF43E8BCB1DD}"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5CBCD5A4-275B-4289-8575-E1740FE8E654}"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DA2281B1-C52C-443E-8609-3A0821FC8B1C}"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53DD8482-8B00-48DB-B6D9-209985F60327}"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9742A2D1-82EA-49A0-881E-A3DFDAFA7EB8}"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08E99727-3B42-4EEE-B62B-728350F38E53}"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9C016DBB-A93B-4ABC-8B30-7C636318A65D}"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36E1DA32-8F7E-42A5-A8BF-D4A09158B1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FEBBF-CD2D-4B5F-A6DB-803B1C8B7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28E6E4BC-A019-49E0-B056-2C9A0876823C}"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5"/>
          </p:nvPr>
        </p:nvSpPr>
        <p:spPr/>
        <p:txBody>
          <a:bodyPr/>
          <a:p>
            <a:fld id="{3D4795C1-C237-4F36-BA23-48EC83C80679}"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4EAA62DA-0AAE-4D07-90AC-3D46764FCF50}"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5F455173-20E8-417C-B626-D9EA847B18AD}"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A66A3A51-3A98-4BC7-9C4A-00881B04A56B}"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0851D5B7-3BE1-4CE5-9BA3-4D8E8C7C30A6}"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6A12BAC4-5A93-4B4F-95EC-F06BF7B4A3CB}"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92756C2E-A4C9-4613-9625-D96B65CDB375}"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4916A20D-6F9C-4079-8582-BC2F70AB3F71}"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11FDF285-5715-416A-BA7D-FDAC6183943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F3A31-1297-4F02-AB38-68378CB57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E45C77D1-0CE0-4C60-87C0-7FB5C650D015}"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58AA5E78-5E7E-4ECA-9323-021ABD22110B}"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A58C8E23-E6EB-4C6D-90CC-D8FF670A8E57}"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6"/>
          </p:nvPr>
        </p:nvSpPr>
        <p:spPr/>
        <p:txBody>
          <a:bodyPr/>
          <a:p>
            <a:fld id="{F40D383A-55F0-4889-BDF4-E9167D68B813}"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35B03325-1659-48AF-8615-79C09DB08A49}"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ADA87EE9-B6A3-4169-94A1-5781AB0F090D}"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1A4838A2-7084-4183-92B5-935511889C56}"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C5E38309-BA95-40B1-8DEB-2447199C63E6}"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7E1B0A73-5089-4443-8B59-3B7AAC51958F}"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B64CF8CA-0B09-463C-9E36-7A4DF761DF9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A8FD4-F81C-400D-BD76-38B45E3C2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676DFA88-D4CD-415C-AAFB-0403A86BF954}"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FDB36D54-5E77-422D-8A0E-E98D757DD4D3}"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D74C549B-0176-4243-89C9-59D132D1DFB6}"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9954ADF1-7703-424C-B1D2-154E846E21A2}"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7D6B83E5-B58D-4608-82F3-E55237ED90C9}"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845BEDDB-AC4B-4BAD-9AE1-E684E0836403}"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10FE47D8-6F88-48F1-B0CD-43F12E7068DD}"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3AE94D87-13D6-4C26-894D-785481B95F2C}"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5C307E12-E3C5-4BA3-9C51-725B7C660CF9}"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F2F12A92-828E-40AA-A770-24996D89700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8F6F9-D691-42C2-B4AC-664962B14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1EFC484A-629E-456E-9896-8334EDF3D851}"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2149B3B9-690F-46F4-AF6B-B36459FA3A2E}"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020028A5-2252-4995-9605-085962EF6156}"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75686032-8590-48FE-8B67-4C7EF270EE54}"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55CD29DB-CE57-400C-834E-B2663EEFC5B0}"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8D2C83A3-F956-4B33-B6AB-44966409D3BF}"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20CA3D81-DE44-4539-A155-1DC2CA780957}"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BA24A0B5-B166-4047-8BBB-4ED215733E6B}"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1D9AD8C2-038E-4B4B-A059-EA94340B07D6}"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4689B735-3176-4267-B17B-62E3C7285D0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23CC4-9253-45BD-9CD6-134896F0F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92851FA1-F7E0-4A6E-8C82-A2AE8C8C59DE}"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CB612223-154F-4F85-B3FA-6F048855CC53}"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699D4526-506A-427B-B371-57687DE05826}"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C3437125-21D3-4231-8640-B11BB2AF322A}"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D66F8914-5B21-487F-A497-932B74F32ED0}"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E86A3DF2-F62A-4B77-82A8-013D043697C4}"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1439F7FE-C9CB-4820-9C74-28B1C02226FE}"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819CD30D-761D-4DEB-995F-877657B82963}"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ED13035F-16EF-4BDB-AF1D-A05849CCF9AB}"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2190C5AD-0F5B-4FC2-B68F-AB48D6B1A5C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24570-7EAB-4AB5-ABE3-72F07968B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C8BB8EDF-D964-47DD-AD91-B085EEC34915}"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B97DAC15-7B5F-4B18-AFD5-F0BE49F29E34}"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0DD8B20A-975E-4BCD-9AE7-C1A5171A78FF}"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3DA6E5E1-A86D-4694-B4FD-D7428EE25C6F}"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65E53088-5A0D-467E-92FF-B7D07767CB1C}"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8DE491C4-E6CA-4D7A-B967-7BC852116EEF}"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7C296868-45DD-48BF-A7AB-C50AB66DA171}"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D97789BF-8EBF-4EF7-B1CC-491852DE3763}"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6F3D6E37-BA94-4A6D-B51B-22F23113E6AE}"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3712555C-9413-417E-B0AA-6AC5E108865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DC544-89DC-4675-B528-D9D478B9C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2EF4813C-8604-4DCC-8F00-2049DFEB7463}"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178218C9-B96E-4C92-A621-9E48A47D5B0B}"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7BE9AAE6-F469-4EB2-BCF8-E2F33116BD78}"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FE1C1BB8-6DE0-4E7D-A5A5-FD8B2D10CFCD}"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31725F87-90EE-4CF7-8495-FC5B652EA1A6}"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6AAA3AF8-6887-489F-BE45-D44FA263CAC2}"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5FDCE532-3499-4D83-86E2-6085794512AE}"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D214687C-0E96-4149-A57A-A7D56A36B1AF}"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E7BF6554-19C1-40A6-8554-2D7E8F83C91A}"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338FFF32-B71F-40F2-A328-BE5E3A2252E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70FE3-FE76-49C7-BD6E-14B6D76D5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8B39A046-6426-4578-8A82-FD1824EB254D}"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090E8143-ACDA-40AC-A4B5-DACAE0B78FDD}"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140B2370-81B4-4C79-B920-CC383CC9AF94}"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1"/>
          </p:nvPr>
        </p:nvSpPr>
        <p:spPr/>
        <p:txBody>
          <a:bodyPr/>
          <a:p>
            <a:fld id="{8797F235-C51D-4F39-955A-59DC14EE9747}"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1"/>
          </p:nvPr>
        </p:nvSpPr>
        <p:spPr/>
        <p:txBody>
          <a:bodyPr/>
          <a:p>
            <a:fld id="{C194216E-8373-4B75-AE13-E0D2B7A02391}"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65A6B255-503F-4A4B-A8F2-DFE3C15C3901}"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BFBDE1B5-56CB-4F48-9633-12CE0BE1DD36}"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58A9D71C-0F8A-470F-B9A0-955130ACB207}"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B52A3F71-317F-45AD-BBC2-A2A3C6CE8691}"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1"/>
          </p:nvPr>
        </p:nvSpPr>
        <p:spPr/>
        <p:txBody>
          <a:bodyPr/>
          <a:p>
            <a:fld id="{A56CA04E-AD8C-4AC7-AF45-8A7238680F3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2F99A-9F65-4FB2-90EF-292D6ABDD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1"/>
          </p:nvPr>
        </p:nvSpPr>
        <p:spPr/>
        <p:txBody>
          <a:bodyPr/>
          <a:p>
            <a:fld id="{26A5E205-EA64-428E-ABDA-2EB39BBD52F2}"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59CE4066-0E85-4028-A877-4CCA19D18F4F}"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23793821-1601-4764-AD4F-9049E05D45D0}"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BA3753AC-C5C8-4270-8C35-600E56580505}"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BDE917DA-7D5B-401B-B7EA-8D1C9EA19ACC}"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2"/>
          </p:nvPr>
        </p:nvSpPr>
        <p:spPr/>
        <p:txBody>
          <a:bodyPr/>
          <a:p>
            <a:fld id="{F57C6D28-CCDC-447D-A997-B5C01BCF45C9}"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2"/>
          </p:nvPr>
        </p:nvSpPr>
        <p:spPr/>
        <p:txBody>
          <a:bodyPr/>
          <a:p>
            <a:fld id="{64BAAAAD-91C4-458E-8190-42B297342A52}"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2C020713-01D2-4766-9A76-884B1FB198CF}"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89701C31-9A67-408F-B0C5-32D5B6DA8F9E}"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BE8B7597-814A-46D6-BEE6-747A55EABEB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E42405-5023-49A2-B694-84FE515804AE}"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913B0FEE-1764-4EB6-A5EB-6EBA1BA3BFB3}"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2"/>
          </p:nvPr>
        </p:nvSpPr>
        <p:spPr/>
        <p:txBody>
          <a:bodyPr/>
          <a:p>
            <a:fld id="{6E26AC47-E46B-43D9-8DB4-8E5535B00579}"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2"/>
          </p:nvPr>
        </p:nvSpPr>
        <p:spPr/>
        <p:txBody>
          <a:bodyPr/>
          <a:p>
            <a:fld id="{EB64ABA2-4278-4DBC-BBEA-BF7170855BE8}"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3DABF675-15CD-4529-BBE6-32FC1F4CB3D0}"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B2FD513B-8126-4022-A6E7-1238D8757A6D}"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0F00E059-DDA8-4800-868C-0CE25B950431}"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5C0BF088-7CE9-40AD-B3CD-72342C20FB68}"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3"/>
          </p:nvPr>
        </p:nvSpPr>
        <p:spPr/>
        <p:txBody>
          <a:bodyPr/>
          <a:p>
            <a:fld id="{DC547AAF-6996-442C-BDEF-98D1122DEA9F}"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3"/>
          </p:nvPr>
        </p:nvSpPr>
        <p:spPr/>
        <p:txBody>
          <a:bodyPr/>
          <a:p>
            <a:fld id="{ACB1C432-92C3-420C-9562-D6931A15E3CC}"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132372FF-3D4C-454D-A005-288835D2F5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7CB4660-5A25-4D08-9B0B-9C00CEC957D0}"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C4CFB5AB-3AC4-4EFD-8CE6-09FE236484EB}"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0FAC3348-E298-44F0-9D87-6C7FF71F0CEA}"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86B04805-E9E8-4269-86C2-EAF3BC53D1EA}"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3"/>
          </p:nvPr>
        </p:nvSpPr>
        <p:spPr/>
        <p:txBody>
          <a:bodyPr/>
          <a:p>
            <a:fld id="{0C830273-060C-49E5-9DF5-067E0848650A}"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3"/>
          </p:nvPr>
        </p:nvSpPr>
        <p:spPr/>
        <p:txBody>
          <a:bodyPr/>
          <a:p>
            <a:fld id="{F1AF7B40-EBD1-477A-AD2B-A2BCBF99A4B2}"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8BBDFC48-7E15-4EC9-A11C-26844FC463F4}"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131595F7-3077-4B33-90F5-249C1E9BCF2B}"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BEE480AF-9F21-462E-93E3-44E5E71F91CD}"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5A1FCBB8-947D-4BF7-B461-1FB29016492C}"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4"/>
          </p:nvPr>
        </p:nvSpPr>
        <p:spPr/>
        <p:txBody>
          <a:bodyPr/>
          <a:p>
            <a:fld id="{FD7EC2A4-C465-4DEE-AC68-4C3E54D438C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EA6D546-48AC-4DC6-B3B4-548D3F2D0408}"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4"/>
          </p:nvPr>
        </p:nvSpPr>
        <p:spPr/>
        <p:txBody>
          <a:bodyPr/>
          <a:p>
            <a:fld id="{2A49D9A5-2288-4290-BC28-36B77C85C2C2}"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00AA3A42-D5B4-41C9-A64D-A51BFFA21BF5}"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17031C93-5F91-4E54-B973-4F346B7611F1}"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77BD0666-10B6-43AB-BB60-E40FF399E695}"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4D927443-B71E-492F-AF95-C1336C431535}"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4"/>
          </p:nvPr>
        </p:nvSpPr>
        <p:spPr/>
        <p:txBody>
          <a:bodyPr/>
          <a:p>
            <a:fld id="{6427FB6A-9A0F-4CD9-8ABE-D4C1C40BA6F2}"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4"/>
          </p:nvPr>
        </p:nvSpPr>
        <p:spPr/>
        <p:txBody>
          <a:bodyPr/>
          <a:p>
            <a:fld id="{1542CD3B-C12B-4E98-9649-610454AECFC0}"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B7323C20-3964-41A6-83B7-40BD2DC793D4}"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78E995B0-1E91-4BBE-8349-790B0BB1D03F}"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8DAA41A6-1E68-467F-A5DE-6E514F581A3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C59CADD-251E-4232-A444-AAEF6C4AE322}"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051F7937-B812-40A0-A686-22692969B995}"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5"/>
          </p:nvPr>
        </p:nvSpPr>
        <p:spPr/>
        <p:txBody>
          <a:bodyPr/>
          <a:p>
            <a:fld id="{EC622EAD-FB0D-4275-9E4B-90372C54EF11}"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5EA77B68-3B02-4829-84CB-7AE3D659D62F}"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623B4F3C-F84D-44B3-A4C9-826AE911A7F6}"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40A46B5F-8E94-4B82-98AE-C55C363DCBD4}"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3E4599FB-B1D6-454C-9A18-68E44E9C1B6C}"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0904E33D-DC0B-43A4-A83E-DAACD153EF14}"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30975504-D8C3-4FBD-ABA4-2A2D60E00AAC}"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48D79BB6-85E4-4AD0-9A23-267D36A8877E}"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7ED3932E-831E-49DA-8A40-7DE9EDDD68B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BA56898-0EA3-4752-8380-6DAADF0D2A81}"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E977BB14-B32A-4BA9-843B-D819486948B6}"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4540368A-3F80-473B-90C6-8849A5ED542F}"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DC11B01F-0F63-4884-85BF-1E9B0FCBA124}"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6"/>
          </p:nvPr>
        </p:nvSpPr>
        <p:spPr/>
        <p:txBody>
          <a:bodyPr/>
          <a:p>
            <a:fld id="{E998CFDB-B100-4E2B-BEF9-2AF5822F3302}"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6"/>
          </p:nvPr>
        </p:nvSpPr>
        <p:spPr/>
        <p:txBody>
          <a:bodyPr/>
          <a:p>
            <a:fld id="{9BA2E041-504A-4F98-AD7A-362341720D9F}"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28D11C2F-A800-433A-8BF5-52EEB68C54AA}"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95526E53-7C2A-49D5-AD76-26FA0940140C}"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8FE27797-5083-4854-9A5C-F5AA97166416}"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18D02257-38D7-4E20-B988-C9AA6AFC0BF4}"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6"/>
          </p:nvPr>
        </p:nvSpPr>
        <p:spPr/>
        <p:txBody>
          <a:bodyPr/>
          <a:p>
            <a:fld id="{B28F2B7A-4957-431F-87BF-833EDBA64C8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3116764-910D-4AB3-A663-1FE46E9F40BB}"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6"/>
          </p:nvPr>
        </p:nvSpPr>
        <p:spPr/>
        <p:txBody>
          <a:bodyPr/>
          <a:p>
            <a:fld id="{0FFC57CE-3416-407C-945A-3242A6105E7F}"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D43810C6-D3CC-4C19-811B-0516612730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AB568B2-4102-4BDD-BC18-929334D9C4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35E9D87-EF25-436D-A5AA-B862900C1E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AF6AA97B-2247-4319-8ED4-215724907A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4007443-38EA-4AC7-9810-ACC367A1C4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FBB2AFE-167F-4482-AAD8-B4373731AB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787D1F4-506F-4CC7-8613-D59110684A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00C7FCF-DCEC-43FA-ABF3-2454B5E6DF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0B9CA97-2C29-4BAC-BE29-C8C40CC8D2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182408-C600-479C-A3F3-0E73136CE6E0}"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84C3326-9FAC-4F56-9ED4-26B9B7B5B0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C8E2783A-F171-42A4-A5E2-249354D544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FDD471CE-9231-4B19-B71B-30B1CABA2E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FEA829B6-74B1-4F7F-A3FD-E0E7325A8496}"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06DDF89E-873F-4ADA-B545-4C8DF0D3C55C}"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AA788A24-A9BB-40D4-84B0-697161EEC4ED}"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2908C7D1-AD6E-42B3-8FA1-23DFBDC1A46D}"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0"/>
          </p:nvPr>
        </p:nvSpPr>
        <p:spPr/>
        <p:txBody>
          <a:bodyPr/>
          <a:p>
            <a:fld id="{5199C925-52B0-450E-BDB2-0864846B8663}"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0"/>
          </p:nvPr>
        </p:nvSpPr>
        <p:spPr/>
        <p:txBody>
          <a:bodyPr/>
          <a:p>
            <a:fld id="{6AE72D43-0494-4817-A033-F236AB061E37}"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CA8A1721-C25D-4EB3-BA61-9353C87EECA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1F2ACBA-DEFB-4936-B851-DBB813400964}"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A98EC550-AD8A-4883-A4CA-6118649FDB7D}"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FC68EEE2-18AF-45DD-BE18-81FB12628010}"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16C93F26-76F0-4C34-A27F-A6A670246411}"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0"/>
          </p:nvPr>
        </p:nvSpPr>
        <p:spPr/>
        <p:txBody>
          <a:bodyPr/>
          <a:p>
            <a:fld id="{9CD75AF6-9A42-432C-BAE7-0F8EE7451460}"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0"/>
          </p:nvPr>
        </p:nvSpPr>
        <p:spPr/>
        <p:txBody>
          <a:bodyPr/>
          <a:p>
            <a:fld id="{C2CF123D-02FE-4D3D-8C79-FC007C88E6B0}"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13704180-5596-4083-921B-965E45812C74}"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7C82F419-646E-4DB5-9161-3D1924DB1ED9}"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1B28AF04-C5E0-4DEC-98E6-05ABEA3A9800}"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0A29B584-1686-4175-993D-1F34D249C115}"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DDAD8535-BAE3-4D93-BF74-65A52E57F64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4B3CC8C-DF83-4CAA-9840-8064B6A7203C}"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2C9FAA26-F1AD-4619-BC3B-96C2A42EE1B8}"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EE22BD1C-6440-4036-B023-33ED0B992E91}"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9F3A3345-1A04-4585-8601-E2D872AE3F61}"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A8BB901E-7E94-4EFD-B2C8-75BFFFD7A170}"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0DC64CDA-155B-419A-B565-F12D7B999B56}"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EC8F19D8-B94E-4C58-957A-32EA68E8176B}"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4802BA88-66FF-4136-887B-83E8AFBE54EF}"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9B7C1823-355C-45F4-A648-3D5422FC6C40}"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B451B058-49C4-4E7C-B6D9-47A3113DDEF2}"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5CE54982-4F89-4547-9706-07ED1CF3B69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E200C70-7DB4-428A-AEB4-966FE2FA20BC}"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0CCB9B83-4043-4C44-BC37-572CA1ECB3F3}"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2"/>
          </p:nvPr>
        </p:nvSpPr>
        <p:spPr/>
        <p:txBody>
          <a:bodyPr/>
          <a:p>
            <a:fld id="{D462A1D5-0732-4941-83E3-8D4BB5887132}"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2"/>
          </p:nvPr>
        </p:nvSpPr>
        <p:spPr/>
        <p:txBody>
          <a:bodyPr/>
          <a:p>
            <a:fld id="{8E6DF805-B21D-4C01-825B-32821136058F}"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52C77042-586C-4818-A72F-B072970C9A67}"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B75D105D-82C6-416B-B376-8334EE79E22D}"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9ADC5F50-D963-430B-88F3-6484600E085F}"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2637D6B8-AB35-498E-A228-E427DBBE25C8}"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2"/>
          </p:nvPr>
        </p:nvSpPr>
        <p:spPr/>
        <p:txBody>
          <a:bodyPr/>
          <a:p>
            <a:fld id="{67B66574-2F9F-4661-8E54-1CDD255675AC}"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2"/>
          </p:nvPr>
        </p:nvSpPr>
        <p:spPr/>
        <p:txBody>
          <a:bodyPr/>
          <a:p>
            <a:fld id="{A22FC2C3-1FD2-4671-A5C7-D86A4F5890C5}"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1937B510-67FB-4D57-8DC4-9CE9B7CB81F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238154C-F680-4E39-8335-AB435A521FFE}"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CBF2F700-CE83-4E94-BF74-F2F688377C1E}"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76F3BD9A-CA5F-4F3C-9C3B-E38AEFDF3CEC}"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41BD0CBD-58F9-40C1-AD44-543E25E592D8}"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D9C28BC9-6198-41CB-A53D-29711FDF0305}"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FE0A330F-9F1F-4CA6-A5BC-F364DCC3ABF5}"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FB052371-79D4-4049-818E-9CFC0E289146}"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81FB83F4-F774-4DE9-A0A3-22D5B6C33BBA}"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793EAC6E-7297-4F80-92D7-B36AE2735D3D}"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925D7172-820D-4A43-A53E-D42B24530050}"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94D5F2A7-E404-488E-A093-F9D7C57F88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DE2555E-3935-41BA-AD4C-342315331865}"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FFCEF455-11BA-4260-B9E9-0E46B31BA7A1}"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551CDD23-1CE7-4490-B730-3701D60FEDF2}"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8C24982B-385D-4645-A795-86D426E4B480}"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6103F62B-7A96-406B-AD38-4D5330B710FD}"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379C4EE1-61A5-4E6F-AA19-2FAA56B8B6E0}"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CD3A6C1D-858A-4FB8-8077-AFCE33B6E34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E5464F8B-7B48-44F6-A226-A27C5FE28025}"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78211E9-7634-4E38-9267-1E862237604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EB0462C-BD7D-4831-B0EA-67ECEA29D69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8FF59255-B60E-4BAC-B921-1137A42C087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AD6EC55-64AA-4D86-B290-7450FFC069D4}"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5356E72E-58E8-478C-A03D-D1237560580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8892B7CC-3D3D-4BDA-B1D0-0954C20B9A59}"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580248D2-4B71-4538-8C53-1B30DCF6F738}"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9BF3F3B-A04B-4F3C-AE51-68C9F236977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3839B25-1A25-47D3-BCCA-156AF448960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26740E3-A040-46F0-BA76-508CE8297C1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5FB29F09-935B-4D23-B914-B397F2CCBE1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F648C36-6015-4207-AC9D-37034A71867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B58DBB8-B649-4A63-A093-2368B05F615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CBA4465-25E0-4F64-8039-EEA8988E742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B9A5FDC-2C3E-4859-B78C-3A4396D53F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9071B0C-7F37-4E47-A0DE-612D1567EE8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ACCBAFC-3611-404F-8AA3-56A63D8081A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CBA3ACB-9F08-40D3-86F7-C12F04F370F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0B25C43-8632-4268-AC0C-04AD1373313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AB82E69-0DF4-4CCA-9F56-9BA69C7E77C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2B5B049-BD43-46BD-8A8D-41D91C64812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B598CC3-526C-4EF8-81C1-91E374D9A5E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C7C39FAC-5268-4D63-A4D0-2B71E5B7175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C380EB3-99BF-4B13-ABEF-60F31EF20C6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197D3C7-5B49-4EC6-8889-545C68701C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BDBE652-85C1-4B37-AB3C-9F066C72196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DE730D2-CADB-4714-97B3-43BD615C485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FDC3506-6DD4-492C-9E42-ADE554F3F61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8F927C2-0C86-4A2B-90E3-0A0445B280E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CAA19B7-F874-4660-B407-EC468747D0D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172D0DD-60FB-458C-9FB1-E4DA0F9D090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AF882B8-E865-4C9A-9861-49C3A83A828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A9E998E-23A7-4F78-BF34-06A5D33C141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AEABB62-BA1F-45E9-BE01-24BEA963CBF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D935F2D5-01DC-4352-A632-FC633FCF15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1494EDFC-76C0-47EB-8C18-7DFFDFA9A4E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03C3411-E481-48DF-974A-37D91B4A0A0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3202222-976D-4E32-BFF2-F5EC9FE09A6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04EECF3-26DD-4ACA-86EC-71F0349A5A2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BEAD91E-C70C-4657-9520-FA5DAF50366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5686CAF2-BEE3-4BDE-B65F-3E533754CFB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39A692D7-8909-48BC-8F74-61779CC8F1A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1B6B7F1-1ADE-4DBC-A38F-6C21A3F893C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5FC1439-88AF-41B6-AC3F-75A581FA6F7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B3E1C22-C209-4E2C-8A54-0DA438F9BA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CA3AD-3517-4852-A3A1-7B3EEAFD758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FCB53A-52A3-4BE9-B80A-513F0B9A3F0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pic>
        <p:nvPicPr>
          <p:cNvPr id="435" name="Picture 8" descr="shadow_rule.jpg"/>
          <p:cNvPicPr/>
          <p:nvPr/>
        </p:nvPicPr>
        <p:blipFill>
          <a:blip r:embed="rId3"/>
          <a:stretch/>
        </p:blipFill>
        <p:spPr>
          <a:xfrm>
            <a:off x="2394000" y="1371600"/>
            <a:ext cx="349200" cy="4648320"/>
          </a:xfrm>
          <a:prstGeom prst="rect">
            <a:avLst/>
          </a:prstGeom>
          <a:ln w="0">
            <a:noFill/>
          </a:ln>
        </p:spPr>
      </p:pic>
      <p:sp>
        <p:nvSpPr>
          <p:cNvPr id="436"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86F72-1F63-4F9A-B4B5-C8553D67D5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10" descr="bkg1.jpg"/>
          <p:cNvPicPr/>
          <p:nvPr/>
        </p:nvPicPr>
        <p:blipFill>
          <a:blip r:embed="rId2"/>
          <a:stretch/>
        </p:blipFill>
        <p:spPr>
          <a:xfrm>
            <a:off x="0" y="1440"/>
            <a:ext cx="9144000" cy="6855120"/>
          </a:xfrm>
          <a:prstGeom prst="rect">
            <a:avLst/>
          </a:prstGeom>
          <a:ln w="0">
            <a:noFill/>
          </a:ln>
        </p:spPr>
      </p:pic>
      <p:pic>
        <p:nvPicPr>
          <p:cNvPr id="474" name="Picture 8" descr="shadow_rule.jpg"/>
          <p:cNvPicPr/>
          <p:nvPr/>
        </p:nvPicPr>
        <p:blipFill>
          <a:blip r:embed="rId3"/>
          <a:stretch/>
        </p:blipFill>
        <p:spPr>
          <a:xfrm>
            <a:off x="2394000" y="1371600"/>
            <a:ext cx="349200" cy="4648320"/>
          </a:xfrm>
          <a:prstGeom prst="rect">
            <a:avLst/>
          </a:prstGeom>
          <a:ln w="0">
            <a:noFill/>
          </a:ln>
        </p:spPr>
      </p:pic>
      <p:sp>
        <p:nvSpPr>
          <p:cNvPr id="475"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E55B59-6F04-4D2D-B309-655180D338F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pic>
        <p:nvPicPr>
          <p:cNvPr id="513" name="Picture 8" descr="shadow_rule.jpg"/>
          <p:cNvPicPr/>
          <p:nvPr/>
        </p:nvPicPr>
        <p:blipFill>
          <a:blip r:embed="rId3"/>
          <a:stretch/>
        </p:blipFill>
        <p:spPr>
          <a:xfrm>
            <a:off x="2394000" y="1371600"/>
            <a:ext cx="349200" cy="4648320"/>
          </a:xfrm>
          <a:prstGeom prst="rect">
            <a:avLst/>
          </a:prstGeom>
          <a:ln w="0">
            <a:noFill/>
          </a:ln>
        </p:spPr>
      </p:pic>
      <p:sp>
        <p:nvSpPr>
          <p:cNvPr id="514"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82B5E7-2C87-4A0A-A385-ACF226F191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10" descr="bkg1.jpg"/>
          <p:cNvPicPr/>
          <p:nvPr/>
        </p:nvPicPr>
        <p:blipFill>
          <a:blip r:embed="rId2"/>
          <a:stretch/>
        </p:blipFill>
        <p:spPr>
          <a:xfrm>
            <a:off x="0" y="1440"/>
            <a:ext cx="9144000" cy="6855120"/>
          </a:xfrm>
          <a:prstGeom prst="rect">
            <a:avLst/>
          </a:prstGeom>
          <a:ln w="0">
            <a:noFill/>
          </a:ln>
        </p:spPr>
      </p:pic>
      <p:pic>
        <p:nvPicPr>
          <p:cNvPr id="552" name="Picture 8" descr="shadow_rule.jpg"/>
          <p:cNvPicPr/>
          <p:nvPr/>
        </p:nvPicPr>
        <p:blipFill>
          <a:blip r:embed="rId3"/>
          <a:stretch/>
        </p:blipFill>
        <p:spPr>
          <a:xfrm>
            <a:off x="2394000" y="1371600"/>
            <a:ext cx="349200" cy="4648320"/>
          </a:xfrm>
          <a:prstGeom prst="rect">
            <a:avLst/>
          </a:prstGeom>
          <a:ln w="0">
            <a:noFill/>
          </a:ln>
        </p:spPr>
      </p:pic>
      <p:sp>
        <p:nvSpPr>
          <p:cNvPr id="553"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36536-88E8-49E0-87BD-01B364C054FF}"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Picture 10" descr="bkg1.jpg"/>
          <p:cNvPicPr/>
          <p:nvPr/>
        </p:nvPicPr>
        <p:blipFill>
          <a:blip r:embed="rId2"/>
          <a:stretch/>
        </p:blipFill>
        <p:spPr>
          <a:xfrm>
            <a:off x="0" y="1440"/>
            <a:ext cx="9144000" cy="6855120"/>
          </a:xfrm>
          <a:prstGeom prst="rect">
            <a:avLst/>
          </a:prstGeom>
          <a:ln w="0">
            <a:noFill/>
          </a:ln>
        </p:spPr>
      </p:pic>
      <p:pic>
        <p:nvPicPr>
          <p:cNvPr id="591" name="Picture 8" descr="shadow_rule.jpg"/>
          <p:cNvPicPr/>
          <p:nvPr/>
        </p:nvPicPr>
        <p:blipFill>
          <a:blip r:embed="rId3"/>
          <a:stretch/>
        </p:blipFill>
        <p:spPr>
          <a:xfrm>
            <a:off x="2394000" y="1371600"/>
            <a:ext cx="349200" cy="4648320"/>
          </a:xfrm>
          <a:prstGeom prst="rect">
            <a:avLst/>
          </a:prstGeom>
          <a:ln w="0">
            <a:noFill/>
          </a:ln>
        </p:spPr>
      </p:pic>
      <p:sp>
        <p:nvSpPr>
          <p:cNvPr id="592" name="PlaceHolder 1"/>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3"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4" name="PlaceHolder 3"/>
          <p:cNvSpPr>
            <a:spLocks noGrp="1"/>
          </p:cNvSpPr>
          <p:nvPr>
            <p:ph type="sldNum" idx="1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7BD20-F5BC-4DB7-BB28-0D8B35612AC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10" descr="bkg1.jpg"/>
          <p:cNvPicPr/>
          <p:nvPr/>
        </p:nvPicPr>
        <p:blipFill>
          <a:blip r:embed="rId2"/>
          <a:stretch/>
        </p:blipFill>
        <p:spPr>
          <a:xfrm>
            <a:off x="0" y="1440"/>
            <a:ext cx="9144000" cy="6855120"/>
          </a:xfrm>
          <a:prstGeom prst="rect">
            <a:avLst/>
          </a:prstGeom>
          <a:ln w="0">
            <a:noFill/>
          </a:ln>
        </p:spPr>
      </p:pic>
      <p:pic>
        <p:nvPicPr>
          <p:cNvPr id="632" name="Picture 8" descr="shadow_rule.jpg"/>
          <p:cNvPicPr/>
          <p:nvPr/>
        </p:nvPicPr>
        <p:blipFill>
          <a:blip r:embed="rId3"/>
          <a:stretch/>
        </p:blipFill>
        <p:spPr>
          <a:xfrm>
            <a:off x="2394000" y="1371600"/>
            <a:ext cx="349200" cy="4648320"/>
          </a:xfrm>
          <a:prstGeom prst="rect">
            <a:avLst/>
          </a:prstGeom>
          <a:ln w="0">
            <a:noFill/>
          </a:ln>
        </p:spPr>
      </p:pic>
      <p:sp>
        <p:nvSpPr>
          <p:cNvPr id="633" name="PlaceHolder 1"/>
          <p:cNvSpPr>
            <a:spLocks noGrp="1"/>
          </p:cNvSpPr>
          <p:nvPr>
            <p:ph type="sldNum" idx="1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1F0F1-E733-4C65-9CE1-436BB55E08D3}"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Picture 10" descr="bkg1.jpg"/>
          <p:cNvPicPr/>
          <p:nvPr/>
        </p:nvPicPr>
        <p:blipFill>
          <a:blip r:embed="rId2"/>
          <a:stretch/>
        </p:blipFill>
        <p:spPr>
          <a:xfrm>
            <a:off x="0" y="1440"/>
            <a:ext cx="9144000" cy="6855120"/>
          </a:xfrm>
          <a:prstGeom prst="rect">
            <a:avLst/>
          </a:prstGeom>
          <a:ln w="0">
            <a:noFill/>
          </a:ln>
        </p:spPr>
      </p:pic>
      <p:pic>
        <p:nvPicPr>
          <p:cNvPr id="671" name="Picture 8" descr="shadow_rule.jpg"/>
          <p:cNvPicPr/>
          <p:nvPr/>
        </p:nvPicPr>
        <p:blipFill>
          <a:blip r:embed="rId3"/>
          <a:stretch/>
        </p:blipFill>
        <p:spPr>
          <a:xfrm>
            <a:off x="2394000" y="1371600"/>
            <a:ext cx="349200" cy="4648320"/>
          </a:xfrm>
          <a:prstGeom prst="rect">
            <a:avLst/>
          </a:prstGeom>
          <a:ln w="0">
            <a:noFill/>
          </a:ln>
        </p:spPr>
      </p:pic>
      <p:sp>
        <p:nvSpPr>
          <p:cNvPr id="672" name="PlaceHolder 1"/>
          <p:cNvSpPr>
            <a:spLocks noGrp="1"/>
          </p:cNvSpPr>
          <p:nvPr>
            <p:ph type="sldNum" idx="1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DDEF0-ABDB-48C0-AEF8-7BE320E7B55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10" descr="bkg1.jpg"/>
          <p:cNvPicPr/>
          <p:nvPr/>
        </p:nvPicPr>
        <p:blipFill>
          <a:blip r:embed="rId2"/>
          <a:stretch/>
        </p:blipFill>
        <p:spPr>
          <a:xfrm>
            <a:off x="0" y="1440"/>
            <a:ext cx="9144000" cy="6855120"/>
          </a:xfrm>
          <a:prstGeom prst="rect">
            <a:avLst/>
          </a:prstGeom>
          <a:ln w="0">
            <a:noFill/>
          </a:ln>
        </p:spPr>
      </p:pic>
      <p:pic>
        <p:nvPicPr>
          <p:cNvPr id="710" name="Picture 8" descr="shadow_rule.jpg"/>
          <p:cNvPicPr/>
          <p:nvPr/>
        </p:nvPicPr>
        <p:blipFill>
          <a:blip r:embed="rId3"/>
          <a:stretch/>
        </p:blipFill>
        <p:spPr>
          <a:xfrm>
            <a:off x="2394000" y="1371600"/>
            <a:ext cx="349200" cy="4648320"/>
          </a:xfrm>
          <a:prstGeom prst="rect">
            <a:avLst/>
          </a:prstGeom>
          <a:ln w="0">
            <a:noFill/>
          </a:ln>
        </p:spPr>
      </p:pic>
      <p:sp>
        <p:nvSpPr>
          <p:cNvPr id="711" name="PlaceHolder 1"/>
          <p:cNvSpPr>
            <a:spLocks noGrp="1"/>
          </p:cNvSpPr>
          <p:nvPr>
            <p:ph type="sldNum" idx="2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CFF19-616F-4AFD-89DB-2A2FF993882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Picture 10" descr="bkg1.jpg"/>
          <p:cNvPicPr/>
          <p:nvPr/>
        </p:nvPicPr>
        <p:blipFill>
          <a:blip r:embed="rId2"/>
          <a:stretch/>
        </p:blipFill>
        <p:spPr>
          <a:xfrm>
            <a:off x="0" y="1440"/>
            <a:ext cx="9144000" cy="6855120"/>
          </a:xfrm>
          <a:prstGeom prst="rect">
            <a:avLst/>
          </a:prstGeom>
          <a:ln w="0">
            <a:noFill/>
          </a:ln>
        </p:spPr>
      </p:pic>
      <p:pic>
        <p:nvPicPr>
          <p:cNvPr id="749" name="Picture 8" descr="shadow_rule.jpg"/>
          <p:cNvPicPr/>
          <p:nvPr/>
        </p:nvPicPr>
        <p:blipFill>
          <a:blip r:embed="rId3"/>
          <a:stretch/>
        </p:blipFill>
        <p:spPr>
          <a:xfrm>
            <a:off x="2394000" y="1371600"/>
            <a:ext cx="349200" cy="4648320"/>
          </a:xfrm>
          <a:prstGeom prst="rect">
            <a:avLst/>
          </a:prstGeom>
          <a:ln w="0">
            <a:noFill/>
          </a:ln>
        </p:spPr>
      </p:pic>
      <p:sp>
        <p:nvSpPr>
          <p:cNvPr id="750" name="PlaceHolder 1"/>
          <p:cNvSpPr>
            <a:spLocks noGrp="1"/>
          </p:cNvSpPr>
          <p:nvPr>
            <p:ph type="sldNum" idx="2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2C967-3549-44BB-A094-051AA919B05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10" descr="bkg1.jpg"/>
          <p:cNvPicPr/>
          <p:nvPr/>
        </p:nvPicPr>
        <p:blipFill>
          <a:blip r:embed="rId2"/>
          <a:stretch/>
        </p:blipFill>
        <p:spPr>
          <a:xfrm>
            <a:off x="0" y="1440"/>
            <a:ext cx="9144000" cy="6855120"/>
          </a:xfrm>
          <a:prstGeom prst="rect">
            <a:avLst/>
          </a:prstGeom>
          <a:ln w="0">
            <a:noFill/>
          </a:ln>
        </p:spPr>
      </p:pic>
      <p:pic>
        <p:nvPicPr>
          <p:cNvPr id="788" name="Picture 8" descr="shadow_rule.jpg"/>
          <p:cNvPicPr/>
          <p:nvPr/>
        </p:nvPicPr>
        <p:blipFill>
          <a:blip r:embed="rId3"/>
          <a:stretch/>
        </p:blipFill>
        <p:spPr>
          <a:xfrm>
            <a:off x="2394000" y="1371600"/>
            <a:ext cx="349200" cy="4648320"/>
          </a:xfrm>
          <a:prstGeom prst="rect">
            <a:avLst/>
          </a:prstGeom>
          <a:ln w="0">
            <a:noFill/>
          </a:ln>
        </p:spPr>
      </p:pic>
      <p:sp>
        <p:nvSpPr>
          <p:cNvPr id="789" name="PlaceHolder 1"/>
          <p:cNvSpPr>
            <a:spLocks noGrp="1"/>
          </p:cNvSpPr>
          <p:nvPr>
            <p:ph type="sldNum" idx="2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8211CD-81B5-4E1F-99EF-4AA03046D68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10" descr="bkg1.jpg"/>
          <p:cNvPicPr/>
          <p:nvPr/>
        </p:nvPicPr>
        <p:blipFill>
          <a:blip r:embed="rId2"/>
          <a:stretch/>
        </p:blipFill>
        <p:spPr>
          <a:xfrm>
            <a:off x="0" y="1440"/>
            <a:ext cx="9144000" cy="6855120"/>
          </a:xfrm>
          <a:prstGeom prst="rect">
            <a:avLst/>
          </a:prstGeom>
          <a:ln w="0">
            <a:noFill/>
          </a:ln>
        </p:spPr>
      </p:pic>
      <p:pic>
        <p:nvPicPr>
          <p:cNvPr id="827" name="Picture 8" descr="shadow_rule.jpg"/>
          <p:cNvPicPr/>
          <p:nvPr/>
        </p:nvPicPr>
        <p:blipFill>
          <a:blip r:embed="rId3"/>
          <a:stretch/>
        </p:blipFill>
        <p:spPr>
          <a:xfrm>
            <a:off x="2394000" y="1371600"/>
            <a:ext cx="349200" cy="4648320"/>
          </a:xfrm>
          <a:prstGeom prst="rect">
            <a:avLst/>
          </a:prstGeom>
          <a:ln w="0">
            <a:noFill/>
          </a:ln>
        </p:spPr>
      </p:pic>
      <p:sp>
        <p:nvSpPr>
          <p:cNvPr id="828" name="PlaceHolder 1"/>
          <p:cNvSpPr>
            <a:spLocks noGrp="1"/>
          </p:cNvSpPr>
          <p:nvPr>
            <p:ph type="sldNum" idx="2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3848E-45CA-4E75-B07F-73528182888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5" name="Picture 10" descr="bkg1.jpg"/>
          <p:cNvPicPr/>
          <p:nvPr/>
        </p:nvPicPr>
        <p:blipFill>
          <a:blip r:embed="rId2"/>
          <a:stretch/>
        </p:blipFill>
        <p:spPr>
          <a:xfrm>
            <a:off x="0" y="1440"/>
            <a:ext cx="9144000" cy="6855120"/>
          </a:xfrm>
          <a:prstGeom prst="rect">
            <a:avLst/>
          </a:prstGeom>
          <a:ln w="0">
            <a:noFill/>
          </a:ln>
        </p:spPr>
      </p:pic>
      <p:pic>
        <p:nvPicPr>
          <p:cNvPr id="866" name="Picture 8" descr="shadow_rule.jpg"/>
          <p:cNvPicPr/>
          <p:nvPr/>
        </p:nvPicPr>
        <p:blipFill>
          <a:blip r:embed="rId3"/>
          <a:stretch/>
        </p:blipFill>
        <p:spPr>
          <a:xfrm>
            <a:off x="2394000" y="1371600"/>
            <a:ext cx="349200" cy="4648320"/>
          </a:xfrm>
          <a:prstGeom prst="rect">
            <a:avLst/>
          </a:prstGeom>
          <a:ln w="0">
            <a:noFill/>
          </a:ln>
        </p:spPr>
      </p:pic>
      <p:sp>
        <p:nvSpPr>
          <p:cNvPr id="867"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22731-5514-4A09-BC20-CD49C8297E5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4" name="Picture 10" descr="bkg1.jpg"/>
          <p:cNvPicPr/>
          <p:nvPr/>
        </p:nvPicPr>
        <p:blipFill>
          <a:blip r:embed="rId2"/>
          <a:stretch/>
        </p:blipFill>
        <p:spPr>
          <a:xfrm>
            <a:off x="0" y="1440"/>
            <a:ext cx="9144000" cy="6855120"/>
          </a:xfrm>
          <a:prstGeom prst="rect">
            <a:avLst/>
          </a:prstGeom>
          <a:ln w="0">
            <a:noFill/>
          </a:ln>
        </p:spPr>
      </p:pic>
      <p:pic>
        <p:nvPicPr>
          <p:cNvPr id="905" name="Picture 8" descr="shadow_rule.jpg"/>
          <p:cNvPicPr/>
          <p:nvPr/>
        </p:nvPicPr>
        <p:blipFill>
          <a:blip r:embed="rId3"/>
          <a:stretch/>
        </p:blipFill>
        <p:spPr>
          <a:xfrm>
            <a:off x="2394000" y="1371600"/>
            <a:ext cx="349200" cy="4648320"/>
          </a:xfrm>
          <a:prstGeom prst="rect">
            <a:avLst/>
          </a:prstGeom>
          <a:ln w="0">
            <a:noFill/>
          </a:ln>
        </p:spPr>
      </p:pic>
      <p:sp>
        <p:nvSpPr>
          <p:cNvPr id="906"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7AD82-C828-4B29-8E1F-CFBFF983DCC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10" descr="bkg1.jpg"/>
          <p:cNvPicPr/>
          <p:nvPr/>
        </p:nvPicPr>
        <p:blipFill>
          <a:blip r:embed="rId2"/>
          <a:stretch/>
        </p:blipFill>
        <p:spPr>
          <a:xfrm>
            <a:off x="0" y="1440"/>
            <a:ext cx="9144000" cy="6855120"/>
          </a:xfrm>
          <a:prstGeom prst="rect">
            <a:avLst/>
          </a:prstGeom>
          <a:ln w="0">
            <a:noFill/>
          </a:ln>
        </p:spPr>
      </p:pic>
      <p:pic>
        <p:nvPicPr>
          <p:cNvPr id="944" name="Picture 8" descr="shadow_rule.jpg"/>
          <p:cNvPicPr/>
          <p:nvPr/>
        </p:nvPicPr>
        <p:blipFill>
          <a:blip r:embed="rId3"/>
          <a:stretch/>
        </p:blipFill>
        <p:spPr>
          <a:xfrm>
            <a:off x="2394000" y="1371600"/>
            <a:ext cx="349200" cy="4648320"/>
          </a:xfrm>
          <a:prstGeom prst="rect">
            <a:avLst/>
          </a:prstGeom>
          <a:ln w="0">
            <a:noFill/>
          </a:ln>
        </p:spPr>
      </p:pic>
      <p:sp>
        <p:nvSpPr>
          <p:cNvPr id="94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52069-AB6D-46C6-8280-6B9BDA8E4A8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Picture 10" descr="bkg1.jpg"/>
          <p:cNvPicPr/>
          <p:nvPr/>
        </p:nvPicPr>
        <p:blipFill>
          <a:blip r:embed="rId2"/>
          <a:stretch/>
        </p:blipFill>
        <p:spPr>
          <a:xfrm>
            <a:off x="0" y="1440"/>
            <a:ext cx="9144000" cy="6855120"/>
          </a:xfrm>
          <a:prstGeom prst="rect">
            <a:avLst/>
          </a:prstGeom>
          <a:ln w="0">
            <a:noFill/>
          </a:ln>
        </p:spPr>
      </p:pic>
      <p:pic>
        <p:nvPicPr>
          <p:cNvPr id="983" name="Picture 8" descr="shadow_rule.jpg"/>
          <p:cNvPicPr/>
          <p:nvPr/>
        </p:nvPicPr>
        <p:blipFill>
          <a:blip r:embed="rId3"/>
          <a:stretch/>
        </p:blipFill>
        <p:spPr>
          <a:xfrm>
            <a:off x="2394000" y="1371600"/>
            <a:ext cx="349200" cy="4648320"/>
          </a:xfrm>
          <a:prstGeom prst="rect">
            <a:avLst/>
          </a:prstGeom>
          <a:ln w="0">
            <a:noFill/>
          </a:ln>
        </p:spPr>
      </p:pic>
      <p:sp>
        <p:nvSpPr>
          <p:cNvPr id="984" name="PlaceHolder 1"/>
          <p:cNvSpPr>
            <a:spLocks noGrp="1"/>
          </p:cNvSpPr>
          <p:nvPr>
            <p:ph type="sldNum" idx="2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C36FA-9B1D-4531-836C-E9FC22690D3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1" name="Picture 10" descr="bkg1.jpg"/>
          <p:cNvPicPr/>
          <p:nvPr/>
        </p:nvPicPr>
        <p:blipFill>
          <a:blip r:embed="rId2"/>
          <a:stretch/>
        </p:blipFill>
        <p:spPr>
          <a:xfrm>
            <a:off x="0" y="1440"/>
            <a:ext cx="9144000" cy="6855120"/>
          </a:xfrm>
          <a:prstGeom prst="rect">
            <a:avLst/>
          </a:prstGeom>
          <a:ln w="0">
            <a:noFill/>
          </a:ln>
        </p:spPr>
      </p:pic>
      <p:pic>
        <p:nvPicPr>
          <p:cNvPr id="1022" name="Picture 8" descr="shadow_rule.jpg"/>
          <p:cNvPicPr/>
          <p:nvPr/>
        </p:nvPicPr>
        <p:blipFill>
          <a:blip r:embed="rId3"/>
          <a:stretch/>
        </p:blipFill>
        <p:spPr>
          <a:xfrm>
            <a:off x="2394000" y="1371600"/>
            <a:ext cx="349200" cy="4648320"/>
          </a:xfrm>
          <a:prstGeom prst="rect">
            <a:avLst/>
          </a:prstGeom>
          <a:ln w="0">
            <a:noFill/>
          </a:ln>
        </p:spPr>
      </p:pic>
      <p:sp>
        <p:nvSpPr>
          <p:cNvPr id="1023" name="PlaceHolder 1"/>
          <p:cNvSpPr>
            <a:spLocks noGrp="1"/>
          </p:cNvSpPr>
          <p:nvPr>
            <p:ph type="sldNum" idx="2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978EA-562F-4F2E-9950-596790E6104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10" descr="bkg1.jpg"/>
          <p:cNvPicPr/>
          <p:nvPr/>
        </p:nvPicPr>
        <p:blipFill>
          <a:blip r:embed="rId2"/>
          <a:stretch/>
        </p:blipFill>
        <p:spPr>
          <a:xfrm>
            <a:off x="0" y="1440"/>
            <a:ext cx="9144000" cy="6855120"/>
          </a:xfrm>
          <a:prstGeom prst="rect">
            <a:avLst/>
          </a:prstGeom>
          <a:ln w="0">
            <a:noFill/>
          </a:ln>
        </p:spPr>
      </p:pic>
      <p:pic>
        <p:nvPicPr>
          <p:cNvPr id="1061" name="Picture 8" descr="shadow_rule.jpg"/>
          <p:cNvPicPr/>
          <p:nvPr/>
        </p:nvPicPr>
        <p:blipFill>
          <a:blip r:embed="rId3"/>
          <a:stretch/>
        </p:blipFill>
        <p:spPr>
          <a:xfrm>
            <a:off x="2394000" y="1371600"/>
            <a:ext cx="349200" cy="4648320"/>
          </a:xfrm>
          <a:prstGeom prst="rect">
            <a:avLst/>
          </a:prstGeom>
          <a:ln w="0">
            <a:noFill/>
          </a:ln>
        </p:spPr>
      </p:pic>
      <p:sp>
        <p:nvSpPr>
          <p:cNvPr id="1062" name="PlaceHolder 1"/>
          <p:cNvSpPr>
            <a:spLocks noGrp="1"/>
          </p:cNvSpPr>
          <p:nvPr>
            <p:ph type="sldNum" idx="2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12CFC5-A88F-441A-B6C1-C19C6BE9A36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9" name="Picture 10" descr="bkg1.jpg"/>
          <p:cNvPicPr/>
          <p:nvPr/>
        </p:nvPicPr>
        <p:blipFill>
          <a:blip r:embed="rId2"/>
          <a:stretch/>
        </p:blipFill>
        <p:spPr>
          <a:xfrm>
            <a:off x="0" y="1440"/>
            <a:ext cx="9144000" cy="6855120"/>
          </a:xfrm>
          <a:prstGeom prst="rect">
            <a:avLst/>
          </a:prstGeom>
          <a:ln w="0">
            <a:noFill/>
          </a:ln>
        </p:spPr>
      </p:pic>
      <p:pic>
        <p:nvPicPr>
          <p:cNvPr id="1100" name="Picture 8" descr="shadow_rule.jpg"/>
          <p:cNvPicPr/>
          <p:nvPr/>
        </p:nvPicPr>
        <p:blipFill>
          <a:blip r:embed="rId3"/>
          <a:stretch/>
        </p:blipFill>
        <p:spPr>
          <a:xfrm>
            <a:off x="2394000" y="1371600"/>
            <a:ext cx="349200" cy="4648320"/>
          </a:xfrm>
          <a:prstGeom prst="rect">
            <a:avLst/>
          </a:prstGeom>
          <a:ln w="0">
            <a:noFill/>
          </a:ln>
        </p:spPr>
      </p:pic>
      <p:sp>
        <p:nvSpPr>
          <p:cNvPr id="1101" name="PlaceHolder 1"/>
          <p:cNvSpPr>
            <a:spLocks noGrp="1"/>
          </p:cNvSpPr>
          <p:nvPr>
            <p:ph type="sldNum" idx="3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324D6-3596-4CC8-9D6D-FFC5ADE8C06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10" descr="bkg1.jpg"/>
          <p:cNvPicPr/>
          <p:nvPr/>
        </p:nvPicPr>
        <p:blipFill>
          <a:blip r:embed="rId2"/>
          <a:stretch/>
        </p:blipFill>
        <p:spPr>
          <a:xfrm>
            <a:off x="0" y="1440"/>
            <a:ext cx="9144000" cy="6855120"/>
          </a:xfrm>
          <a:prstGeom prst="rect">
            <a:avLst/>
          </a:prstGeom>
          <a:ln w="0">
            <a:noFill/>
          </a:ln>
        </p:spPr>
      </p:pic>
      <p:pic>
        <p:nvPicPr>
          <p:cNvPr id="1139" name="Picture 8" descr="shadow_rule.jpg"/>
          <p:cNvPicPr/>
          <p:nvPr/>
        </p:nvPicPr>
        <p:blipFill>
          <a:blip r:embed="rId3"/>
          <a:stretch/>
        </p:blipFill>
        <p:spPr>
          <a:xfrm>
            <a:off x="2394000" y="1371600"/>
            <a:ext cx="349200" cy="4648320"/>
          </a:xfrm>
          <a:prstGeom prst="rect">
            <a:avLst/>
          </a:prstGeom>
          <a:ln w="0">
            <a:noFill/>
          </a:ln>
        </p:spPr>
      </p:pic>
      <p:sp>
        <p:nvSpPr>
          <p:cNvPr id="1140" name="PlaceHolder 1"/>
          <p:cNvSpPr>
            <a:spLocks noGrp="1"/>
          </p:cNvSpPr>
          <p:nvPr>
            <p:ph type="sldNum" idx="3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19726-08A0-4B27-88E9-38E4C20D29F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10" descr="bkg1.jpg"/>
          <p:cNvPicPr/>
          <p:nvPr/>
        </p:nvPicPr>
        <p:blipFill>
          <a:blip r:embed="rId2"/>
          <a:stretch/>
        </p:blipFill>
        <p:spPr>
          <a:xfrm>
            <a:off x="0" y="1440"/>
            <a:ext cx="9144000" cy="6855120"/>
          </a:xfrm>
          <a:prstGeom prst="rect">
            <a:avLst/>
          </a:prstGeom>
          <a:ln w="0">
            <a:noFill/>
          </a:ln>
        </p:spPr>
      </p:pic>
      <p:pic>
        <p:nvPicPr>
          <p:cNvPr id="1178" name="Picture 8" descr="shadow_rule.jpg"/>
          <p:cNvPicPr/>
          <p:nvPr/>
        </p:nvPicPr>
        <p:blipFill>
          <a:blip r:embed="rId3"/>
          <a:stretch/>
        </p:blipFill>
        <p:spPr>
          <a:xfrm>
            <a:off x="2394000" y="1371600"/>
            <a:ext cx="349200" cy="4648320"/>
          </a:xfrm>
          <a:prstGeom prst="rect">
            <a:avLst/>
          </a:prstGeom>
          <a:ln w="0">
            <a:noFill/>
          </a:ln>
        </p:spPr>
      </p:pic>
      <p:sp>
        <p:nvSpPr>
          <p:cNvPr id="1179" name="PlaceHolder 1"/>
          <p:cNvSpPr>
            <a:spLocks noGrp="1"/>
          </p:cNvSpPr>
          <p:nvPr>
            <p:ph type="sldNum" idx="3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02513-6523-43C4-A84D-BF1B7F2AF50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6" name="Picture 10" descr="bkg1.jpg"/>
          <p:cNvPicPr/>
          <p:nvPr/>
        </p:nvPicPr>
        <p:blipFill>
          <a:blip r:embed="rId2"/>
          <a:stretch/>
        </p:blipFill>
        <p:spPr>
          <a:xfrm>
            <a:off x="0" y="1440"/>
            <a:ext cx="9144000" cy="6855120"/>
          </a:xfrm>
          <a:prstGeom prst="rect">
            <a:avLst/>
          </a:prstGeom>
          <a:ln w="0">
            <a:noFill/>
          </a:ln>
        </p:spPr>
      </p:pic>
      <p:pic>
        <p:nvPicPr>
          <p:cNvPr id="1217" name="Picture 8" descr="shadow_rule.jpg"/>
          <p:cNvPicPr/>
          <p:nvPr/>
        </p:nvPicPr>
        <p:blipFill>
          <a:blip r:embed="rId3"/>
          <a:stretch/>
        </p:blipFill>
        <p:spPr>
          <a:xfrm>
            <a:off x="2394000" y="1371600"/>
            <a:ext cx="349200" cy="4648320"/>
          </a:xfrm>
          <a:prstGeom prst="rect">
            <a:avLst/>
          </a:prstGeom>
          <a:ln w="0">
            <a:noFill/>
          </a:ln>
        </p:spPr>
      </p:pic>
      <p:sp>
        <p:nvSpPr>
          <p:cNvPr id="1218" name="PlaceHolder 1"/>
          <p:cNvSpPr>
            <a:spLocks noGrp="1"/>
          </p:cNvSpPr>
          <p:nvPr>
            <p:ph type="sldNum" idx="3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9E7FF9-44F7-4AB4-9243-DCB5441CC3C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Picture 10" descr="bkg1.jpg"/>
          <p:cNvPicPr/>
          <p:nvPr/>
        </p:nvPicPr>
        <p:blipFill>
          <a:blip r:embed="rId2"/>
          <a:stretch/>
        </p:blipFill>
        <p:spPr>
          <a:xfrm>
            <a:off x="0" y="1440"/>
            <a:ext cx="9144000" cy="6855120"/>
          </a:xfrm>
          <a:prstGeom prst="rect">
            <a:avLst/>
          </a:prstGeom>
          <a:ln w="0">
            <a:noFill/>
          </a:ln>
        </p:spPr>
      </p:pic>
      <p:pic>
        <p:nvPicPr>
          <p:cNvPr id="1256" name="Picture 8" descr="shadow_rule.jpg"/>
          <p:cNvPicPr/>
          <p:nvPr/>
        </p:nvPicPr>
        <p:blipFill>
          <a:blip r:embed="rId3"/>
          <a:stretch/>
        </p:blipFill>
        <p:spPr>
          <a:xfrm>
            <a:off x="2394000" y="1371600"/>
            <a:ext cx="349200" cy="4648320"/>
          </a:xfrm>
          <a:prstGeom prst="rect">
            <a:avLst/>
          </a:prstGeom>
          <a:ln w="0">
            <a:noFill/>
          </a:ln>
        </p:spPr>
      </p:pic>
      <p:sp>
        <p:nvSpPr>
          <p:cNvPr id="1257" name="PlaceHolder 1"/>
          <p:cNvSpPr>
            <a:spLocks noGrp="1"/>
          </p:cNvSpPr>
          <p:nvPr>
            <p:ph type="sldNum" idx="3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6AD35A-0788-42C3-A3CF-BC0863EC547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4" name="Picture 10" descr="bkg1.jpg"/>
          <p:cNvPicPr/>
          <p:nvPr/>
        </p:nvPicPr>
        <p:blipFill>
          <a:blip r:embed="rId2"/>
          <a:stretch/>
        </p:blipFill>
        <p:spPr>
          <a:xfrm>
            <a:off x="0" y="1440"/>
            <a:ext cx="9144000" cy="6855120"/>
          </a:xfrm>
          <a:prstGeom prst="rect">
            <a:avLst/>
          </a:prstGeom>
          <a:ln w="0">
            <a:noFill/>
          </a:ln>
        </p:spPr>
      </p:pic>
      <p:pic>
        <p:nvPicPr>
          <p:cNvPr id="1295" name="Picture 8" descr="shadow_rule.jpg"/>
          <p:cNvPicPr/>
          <p:nvPr/>
        </p:nvPicPr>
        <p:blipFill>
          <a:blip r:embed="rId3"/>
          <a:stretch/>
        </p:blipFill>
        <p:spPr>
          <a:xfrm>
            <a:off x="2394000" y="1371600"/>
            <a:ext cx="349200" cy="4648320"/>
          </a:xfrm>
          <a:prstGeom prst="rect">
            <a:avLst/>
          </a:prstGeom>
          <a:ln w="0">
            <a:noFill/>
          </a:ln>
        </p:spPr>
      </p:pic>
      <p:sp>
        <p:nvSpPr>
          <p:cNvPr id="1296" name="PlaceHolder 1"/>
          <p:cNvSpPr>
            <a:spLocks noGrp="1"/>
          </p:cNvSpPr>
          <p:nvPr>
            <p:ph type="sldNum" idx="35"/>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05F60-1378-42AC-97A8-BB36AD4EC842}" type="slidenum">
              <a:rPr b="0" lang="en-US" sz="2400" spc="-1" strike="noStrike">
                <a:solidFill>
                  <a:srgbClr val="ffffff"/>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3" name="Picture 10" descr="bkg1.jpg"/>
          <p:cNvPicPr/>
          <p:nvPr/>
        </p:nvPicPr>
        <p:blipFill>
          <a:blip r:embed="rId2"/>
          <a:stretch/>
        </p:blipFill>
        <p:spPr>
          <a:xfrm>
            <a:off x="0" y="1440"/>
            <a:ext cx="9144000" cy="6855120"/>
          </a:xfrm>
          <a:prstGeom prst="rect">
            <a:avLst/>
          </a:prstGeom>
          <a:ln w="0">
            <a:noFill/>
          </a:ln>
        </p:spPr>
      </p:pic>
      <p:pic>
        <p:nvPicPr>
          <p:cNvPr id="1334" name="Picture 8" descr="shadow_rule.jpg"/>
          <p:cNvPicPr/>
          <p:nvPr/>
        </p:nvPicPr>
        <p:blipFill>
          <a:blip r:embed="rId3"/>
          <a:stretch/>
        </p:blipFill>
        <p:spPr>
          <a:xfrm>
            <a:off x="2394000" y="1371600"/>
            <a:ext cx="349200" cy="4648320"/>
          </a:xfrm>
          <a:prstGeom prst="rect">
            <a:avLst/>
          </a:prstGeom>
          <a:ln w="0">
            <a:noFill/>
          </a:ln>
        </p:spPr>
      </p:pic>
      <p:sp>
        <p:nvSpPr>
          <p:cNvPr id="1335" name="PlaceHolder 1"/>
          <p:cNvSpPr>
            <a:spLocks noGrp="1"/>
          </p:cNvSpPr>
          <p:nvPr>
            <p:ph type="sldNum" idx="3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112CAC-B615-4432-AAF1-115EF760E5CE}"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2" name="Picture 10" descr="bkg1.jpg"/>
          <p:cNvPicPr/>
          <p:nvPr/>
        </p:nvPicPr>
        <p:blipFill>
          <a:blip r:embed="rId2"/>
          <a:stretch/>
        </p:blipFill>
        <p:spPr>
          <a:xfrm>
            <a:off x="0" y="1440"/>
            <a:ext cx="9144000" cy="6855120"/>
          </a:xfrm>
          <a:prstGeom prst="rect">
            <a:avLst/>
          </a:prstGeom>
          <a:ln w="0">
            <a:noFill/>
          </a:ln>
        </p:spPr>
      </p:pic>
      <p:pic>
        <p:nvPicPr>
          <p:cNvPr id="1373" name="Picture 8" descr="shadow_rule.jpg"/>
          <p:cNvPicPr/>
          <p:nvPr/>
        </p:nvPicPr>
        <p:blipFill>
          <a:blip r:embed="rId3"/>
          <a:stretch/>
        </p:blipFill>
        <p:spPr>
          <a:xfrm>
            <a:off x="2394000" y="1371600"/>
            <a:ext cx="349200" cy="4648320"/>
          </a:xfrm>
          <a:prstGeom prst="rect">
            <a:avLst/>
          </a:prstGeom>
          <a:ln w="0">
            <a:noFill/>
          </a:ln>
        </p:spPr>
      </p:pic>
      <p:sp>
        <p:nvSpPr>
          <p:cNvPr id="1374" name="PlaceHolder 1"/>
          <p:cNvSpPr>
            <a:spLocks noGrp="1"/>
          </p:cNvSpPr>
          <p:nvPr>
            <p:ph type="sldNum" idx="3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04604-6092-4A28-B1A9-D6D5FBB672F4}"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
        <p:nvSpPr>
          <p:cNvPr id="137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3" name="Picture 10" descr="bkg1.jpg"/>
          <p:cNvPicPr/>
          <p:nvPr/>
        </p:nvPicPr>
        <p:blipFill>
          <a:blip r:embed="rId2"/>
          <a:stretch/>
        </p:blipFill>
        <p:spPr>
          <a:xfrm>
            <a:off x="0" y="1440"/>
            <a:ext cx="9144000" cy="6855120"/>
          </a:xfrm>
          <a:prstGeom prst="rect">
            <a:avLst/>
          </a:prstGeom>
          <a:ln w="0">
            <a:noFill/>
          </a:ln>
        </p:spPr>
      </p:pic>
      <p:pic>
        <p:nvPicPr>
          <p:cNvPr id="1414" name="Picture 8" descr="shadow_rule.jpg"/>
          <p:cNvPicPr/>
          <p:nvPr/>
        </p:nvPicPr>
        <p:blipFill>
          <a:blip r:embed="rId3"/>
          <a:stretch/>
        </p:blipFill>
        <p:spPr>
          <a:xfrm>
            <a:off x="2394000" y="1371600"/>
            <a:ext cx="349200" cy="4648320"/>
          </a:xfrm>
          <a:prstGeom prst="rect">
            <a:avLst/>
          </a:prstGeom>
          <a:ln w="0">
            <a:noFill/>
          </a:ln>
        </p:spPr>
      </p:pic>
      <p:sp>
        <p:nvSpPr>
          <p:cNvPr id="1415" name="PlaceHolder 1"/>
          <p:cNvSpPr>
            <a:spLocks noGrp="1"/>
          </p:cNvSpPr>
          <p:nvPr>
            <p:ph type="sldNum" idx="3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370CC-82EC-4D2D-937F-F09B62700DC4}"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2" name="Picture 10" descr="bkg1.jpg"/>
          <p:cNvPicPr/>
          <p:nvPr/>
        </p:nvPicPr>
        <p:blipFill>
          <a:blip r:embed="rId2"/>
          <a:stretch/>
        </p:blipFill>
        <p:spPr>
          <a:xfrm>
            <a:off x="0" y="1440"/>
            <a:ext cx="9144000" cy="6855120"/>
          </a:xfrm>
          <a:prstGeom prst="rect">
            <a:avLst/>
          </a:prstGeom>
          <a:ln w="0">
            <a:noFill/>
          </a:ln>
        </p:spPr>
      </p:pic>
      <p:sp>
        <p:nvSpPr>
          <p:cNvPr id="1453" name="PlaceHolder 1"/>
          <p:cNvSpPr>
            <a:spLocks noGrp="1"/>
          </p:cNvSpPr>
          <p:nvPr>
            <p:ph type="sldNum" idx="3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795AB-B194-4876-903A-5804DB8B536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0" name="Picture 10" descr="bkg1.jpg"/>
          <p:cNvPicPr/>
          <p:nvPr/>
        </p:nvPicPr>
        <p:blipFill>
          <a:blip r:embed="rId2"/>
          <a:stretch/>
        </p:blipFill>
        <p:spPr>
          <a:xfrm>
            <a:off x="0" y="1440"/>
            <a:ext cx="9144000" cy="6855120"/>
          </a:xfrm>
          <a:prstGeom prst="rect">
            <a:avLst/>
          </a:prstGeom>
          <a:ln w="0">
            <a:noFill/>
          </a:ln>
        </p:spPr>
      </p:pic>
      <p:sp>
        <p:nvSpPr>
          <p:cNvPr id="1491" name="PlaceHolder 1"/>
          <p:cNvSpPr>
            <a:spLocks noGrp="1"/>
          </p:cNvSpPr>
          <p:nvPr>
            <p:ph type="sldNum" idx="4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1039F-829E-452C-B669-3EA578DA2540}"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C5893-4C7A-4DA2-9FB6-71CA9E8C7043}"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10" descr="bkg1.jpg"/>
          <p:cNvPicPr/>
          <p:nvPr/>
        </p:nvPicPr>
        <p:blipFill>
          <a:blip r:embed="rId2"/>
          <a:stretch/>
        </p:blipFill>
        <p:spPr>
          <a:xfrm>
            <a:off x="0" y="1440"/>
            <a:ext cx="9144000" cy="6855120"/>
          </a:xfrm>
          <a:prstGeom prst="rect">
            <a:avLst/>
          </a:prstGeom>
          <a:ln w="0">
            <a:noFill/>
          </a:ln>
        </p:spPr>
      </p:pic>
      <p:sp>
        <p:nvSpPr>
          <p:cNvPr id="1529" name="PlaceHolder 1"/>
          <p:cNvSpPr>
            <a:spLocks noGrp="1"/>
          </p:cNvSpPr>
          <p:nvPr>
            <p:ph type="sldNum" idx="4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2DC473-E179-4366-BC46-FBC13F24E63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6" name="Picture 10" descr="bkg1.jpg"/>
          <p:cNvPicPr/>
          <p:nvPr/>
        </p:nvPicPr>
        <p:blipFill>
          <a:blip r:embed="rId2"/>
          <a:stretch/>
        </p:blipFill>
        <p:spPr>
          <a:xfrm>
            <a:off x="0" y="1440"/>
            <a:ext cx="9144000" cy="6855120"/>
          </a:xfrm>
          <a:prstGeom prst="rect">
            <a:avLst/>
          </a:prstGeom>
          <a:ln w="0">
            <a:noFill/>
          </a:ln>
        </p:spPr>
      </p:pic>
      <p:sp>
        <p:nvSpPr>
          <p:cNvPr id="1567" name="PlaceHolder 1"/>
          <p:cNvSpPr>
            <a:spLocks noGrp="1"/>
          </p:cNvSpPr>
          <p:nvPr>
            <p:ph type="sldNum" idx="42"/>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4" name="Picture 10" descr="bkg1.jpg"/>
          <p:cNvPicPr/>
          <p:nvPr/>
        </p:nvPicPr>
        <p:blipFill>
          <a:blip r:embed="rId2"/>
          <a:stretch/>
        </p:blipFill>
        <p:spPr>
          <a:xfrm>
            <a:off x="0" y="1440"/>
            <a:ext cx="9144000" cy="6855120"/>
          </a:xfrm>
          <a:prstGeom prst="rect">
            <a:avLst/>
          </a:prstGeom>
          <a:ln w="0">
            <a:noFill/>
          </a:ln>
        </p:spPr>
      </p:pic>
      <p:sp>
        <p:nvSpPr>
          <p:cNvPr id="1605"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6" name="PlaceHolder 1"/>
          <p:cNvSpPr>
            <a:spLocks noGrp="1"/>
          </p:cNvSpPr>
          <p:nvPr>
            <p:ph type="sldNum" idx="4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9CB084-D9CC-47D6-96EA-D1DC90F412C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3" name="Picture 10" descr="bkg1.jpg"/>
          <p:cNvPicPr/>
          <p:nvPr/>
        </p:nvPicPr>
        <p:blipFill>
          <a:blip r:embed="rId2"/>
          <a:stretch/>
        </p:blipFill>
        <p:spPr>
          <a:xfrm>
            <a:off x="0" y="1440"/>
            <a:ext cx="9144000" cy="6855120"/>
          </a:xfrm>
          <a:prstGeom prst="rect">
            <a:avLst/>
          </a:prstGeom>
          <a:ln w="0">
            <a:noFill/>
          </a:ln>
        </p:spPr>
      </p:pic>
      <p:sp>
        <p:nvSpPr>
          <p:cNvPr id="1644"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5" name="PlaceHolder 1"/>
          <p:cNvSpPr>
            <a:spLocks noGrp="1"/>
          </p:cNvSpPr>
          <p:nvPr>
            <p:ph type="sldNum" idx="4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B96A1B-14A1-4649-A132-B670A3D9732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2" name="Picture 10" descr="bkg1.jpg"/>
          <p:cNvPicPr/>
          <p:nvPr/>
        </p:nvPicPr>
        <p:blipFill>
          <a:blip r:embed="rId2"/>
          <a:stretch/>
        </p:blipFill>
        <p:spPr>
          <a:xfrm>
            <a:off x="0" y="1440"/>
            <a:ext cx="9144000" cy="6855120"/>
          </a:xfrm>
          <a:prstGeom prst="rect">
            <a:avLst/>
          </a:prstGeom>
          <a:ln w="0">
            <a:noFill/>
          </a:ln>
        </p:spPr>
      </p:pic>
      <p:sp>
        <p:nvSpPr>
          <p:cNvPr id="1683" name="PlaceHolder 1"/>
          <p:cNvSpPr>
            <a:spLocks noGrp="1"/>
          </p:cNvSpPr>
          <p:nvPr>
            <p:ph type="sldNum" idx="4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C91E3-D2A6-4DDF-BB56-7DCFDE180A2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0" name="Picture 10" descr="bkg1.jpg"/>
          <p:cNvPicPr/>
          <p:nvPr/>
        </p:nvPicPr>
        <p:blipFill>
          <a:blip r:embed="rId2"/>
          <a:stretch/>
        </p:blipFill>
        <p:spPr>
          <a:xfrm>
            <a:off x="0" y="1440"/>
            <a:ext cx="9144000" cy="6855120"/>
          </a:xfrm>
          <a:prstGeom prst="rect">
            <a:avLst/>
          </a:prstGeom>
          <a:ln w="0">
            <a:noFill/>
          </a:ln>
        </p:spPr>
      </p:pic>
      <p:sp>
        <p:nvSpPr>
          <p:cNvPr id="1721" name="PlaceHolder 1"/>
          <p:cNvSpPr>
            <a:spLocks noGrp="1"/>
          </p:cNvSpPr>
          <p:nvPr>
            <p:ph type="sldNum" idx="46"/>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EC8CC-4BE2-40B1-832B-7098C9CF8777}"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8" name="Picture 10" descr="bkg1.jpg"/>
          <p:cNvPicPr/>
          <p:nvPr/>
        </p:nvPicPr>
        <p:blipFill>
          <a:blip r:embed="rId2"/>
          <a:stretch/>
        </p:blipFill>
        <p:spPr>
          <a:xfrm>
            <a:off x="0" y="1440"/>
            <a:ext cx="9144000" cy="6855120"/>
          </a:xfrm>
          <a:prstGeom prst="rect">
            <a:avLst/>
          </a:prstGeom>
          <a:ln w="0">
            <a:noFill/>
          </a:ln>
        </p:spPr>
      </p:pic>
      <p:sp>
        <p:nvSpPr>
          <p:cNvPr id="1759" name="PlaceHolder 1"/>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9C705-FDB4-4582-8021-C4F7944A9A01}"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760" name="PlaceHolder 2"/>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1" name="PlaceHolder 3"/>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D71D3-74A4-42FB-B20C-596C1B9A33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8" name="Picture 10" descr="bkg1.jpg"/>
          <p:cNvPicPr/>
          <p:nvPr/>
        </p:nvPicPr>
        <p:blipFill>
          <a:blip r:embed="rId2"/>
          <a:stretch/>
        </p:blipFill>
        <p:spPr>
          <a:xfrm>
            <a:off x="0" y="1440"/>
            <a:ext cx="9144000" cy="6855120"/>
          </a:xfrm>
          <a:prstGeom prst="rect">
            <a:avLst/>
          </a:prstGeom>
          <a:ln w="0">
            <a:noFill/>
          </a:ln>
        </p:spPr>
      </p:pic>
      <p:sp>
        <p:nvSpPr>
          <p:cNvPr id="1799" name="PlaceHolder 1"/>
          <p:cNvSpPr>
            <a:spLocks noGrp="1"/>
          </p:cNvSpPr>
          <p:nvPr>
            <p:ph type="sldNum" idx="50"/>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99F0B-DF8F-4DDE-9E3D-3F7A244C3C4E}"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6" name="Picture 10" descr="bkg1.jpg"/>
          <p:cNvPicPr/>
          <p:nvPr/>
        </p:nvPicPr>
        <p:blipFill>
          <a:blip r:embed="rId2"/>
          <a:stretch/>
        </p:blipFill>
        <p:spPr>
          <a:xfrm>
            <a:off x="0" y="1440"/>
            <a:ext cx="9144000" cy="6855120"/>
          </a:xfrm>
          <a:prstGeom prst="rect">
            <a:avLst/>
          </a:prstGeom>
          <a:ln w="0">
            <a:noFill/>
          </a:ln>
        </p:spPr>
      </p:pic>
      <p:sp>
        <p:nvSpPr>
          <p:cNvPr id="1837" name="PlaceHolder 1"/>
          <p:cNvSpPr>
            <a:spLocks noGrp="1"/>
          </p:cNvSpPr>
          <p:nvPr>
            <p:ph type="sldNum" idx="5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7286B-3AD3-43BD-8385-B2D528059303}"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4" name="Picture 10" descr="bkg1.jpg"/>
          <p:cNvPicPr/>
          <p:nvPr/>
        </p:nvPicPr>
        <p:blipFill>
          <a:blip r:embed="rId2"/>
          <a:stretch/>
        </p:blipFill>
        <p:spPr>
          <a:xfrm>
            <a:off x="0" y="1440"/>
            <a:ext cx="9144000" cy="6855120"/>
          </a:xfrm>
          <a:prstGeom prst="rect">
            <a:avLst/>
          </a:prstGeom>
          <a:ln w="0">
            <a:noFill/>
          </a:ln>
        </p:spPr>
      </p:pic>
      <p:sp>
        <p:nvSpPr>
          <p:cNvPr id="1875" name="PlaceHolder 1"/>
          <p:cNvSpPr>
            <a:spLocks noGrp="1"/>
          </p:cNvSpPr>
          <p:nvPr>
            <p:ph type="sldNum" idx="52"/>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A6F6F-92DC-4E51-B60F-3BB0EF7A0E5E}"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C775C3-FEC4-4963-BF93-DC8D2B994C2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2" name="Picture 10" descr="bkg1.jpg"/>
          <p:cNvPicPr/>
          <p:nvPr/>
        </p:nvPicPr>
        <p:blipFill>
          <a:blip r:embed="rId2"/>
          <a:stretch/>
        </p:blipFill>
        <p:spPr>
          <a:xfrm>
            <a:off x="0" y="1440"/>
            <a:ext cx="9144000" cy="6855120"/>
          </a:xfrm>
          <a:prstGeom prst="rect">
            <a:avLst/>
          </a:prstGeom>
          <a:ln w="0">
            <a:noFill/>
          </a:ln>
        </p:spPr>
      </p:pic>
      <p:sp>
        <p:nvSpPr>
          <p:cNvPr id="1913" name="PlaceHolder 1"/>
          <p:cNvSpPr>
            <a:spLocks noGrp="1"/>
          </p:cNvSpPr>
          <p:nvPr>
            <p:ph type="sldNum" idx="5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0" name="Picture 10" descr="bkg1.jpg"/>
          <p:cNvPicPr/>
          <p:nvPr/>
        </p:nvPicPr>
        <p:blipFill>
          <a:blip r:embed="rId2"/>
          <a:stretch/>
        </p:blipFill>
        <p:spPr>
          <a:xfrm>
            <a:off x="0" y="1440"/>
            <a:ext cx="9144000" cy="6855120"/>
          </a:xfrm>
          <a:prstGeom prst="rect">
            <a:avLst/>
          </a:prstGeom>
          <a:ln w="0">
            <a:noFill/>
          </a:ln>
        </p:spPr>
      </p:pic>
      <p:sp>
        <p:nvSpPr>
          <p:cNvPr id="1951"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BB93D-63F3-4166-BD47-7F3E7CB80CC4}"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952"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3"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548BAB-C9EB-4AD5-8996-4C7F9D65A1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6A9E5-6EEB-4A60-94E1-E608E43CB7B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BC832-80DF-4CD3-9BD0-049592DA8C5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8D3A1-70D7-4035-88F7-A8D19ED2748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AB037-8604-42C8-8EE8-6609A8B4A0B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0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1"/>
          <p:cNvSpPr/>
          <p:nvPr/>
        </p:nvSpPr>
        <p:spPr>
          <a:xfrm>
            <a:off x="2743200" y="1600200"/>
            <a:ext cx="594360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n Dec-2010 ICANN Board requested advice from ALAC, GAC, GNSO and ccNSO on definition, measures, and 3-year targets, for </a:t>
            </a:r>
            <a:r>
              <a:rPr b="0" lang="en-GB" sz="2400" spc="-1" strike="noStrike" u="sng">
                <a:solidFill>
                  <a:srgbClr val="000000"/>
                </a:solidFill>
                <a:uFillTx/>
                <a:latin typeface="Trebuchet MS"/>
              </a:rPr>
              <a:t>competition</a:t>
            </a:r>
            <a:r>
              <a:rPr b="0" lang="en-GB" sz="2400" spc="-1" strike="noStrike">
                <a:solidFill>
                  <a:srgbClr val="000000"/>
                </a:solidFill>
                <a:latin typeface="Trebuchet MS"/>
              </a:rPr>
              <a:t>, </a:t>
            </a:r>
            <a:r>
              <a:rPr b="0" lang="en-GB" sz="2400" spc="-1" strike="noStrike" u="sng">
                <a:solidFill>
                  <a:srgbClr val="000000"/>
                </a:solidFill>
                <a:uFillTx/>
                <a:latin typeface="Trebuchet MS"/>
              </a:rPr>
              <a:t>consumer trust</a:t>
            </a:r>
            <a:r>
              <a:rPr b="0" lang="en-GB" sz="2400" spc="-1" strike="noStrike">
                <a:solidFill>
                  <a:srgbClr val="000000"/>
                </a:solidFill>
                <a:latin typeface="Trebuchet MS"/>
              </a:rPr>
              <a:t>, and </a:t>
            </a:r>
            <a:r>
              <a:rPr b="0" lang="en-GB" sz="2400" spc="-1" strike="noStrike" u="sng">
                <a:solidFill>
                  <a:srgbClr val="000000"/>
                </a:solidFill>
                <a:uFillTx/>
                <a:latin typeface="Trebuchet MS"/>
              </a:rPr>
              <a:t>consumer choice</a:t>
            </a:r>
            <a:r>
              <a:rPr b="0" lang="en-GB" sz="2400" spc="-1" strike="noStrike">
                <a:solidFill>
                  <a:srgbClr val="000000"/>
                </a:solidFill>
                <a:latin typeface="Trebuchet MS"/>
              </a:rPr>
              <a:t> in the context of the DNS.</a:t>
            </a:r>
            <a:endParaRPr b="0" lang="en-US" sz="24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0000"/>
                </a:solidFill>
                <a:latin typeface="Trebuchet MS"/>
              </a:rPr>
              <a:t>This advice should help the </a:t>
            </a:r>
            <a:r>
              <a:rPr b="0" i="1" lang="en-GB" sz="2400" spc="-1" strike="noStrike">
                <a:solidFill>
                  <a:srgbClr val="ff0000"/>
                </a:solidFill>
                <a:latin typeface="Trebuchet MS"/>
              </a:rPr>
              <a:t>Affirmation</a:t>
            </a:r>
            <a:r>
              <a:rPr b="0" lang="en-GB" sz="2400" spc="-1" strike="noStrike">
                <a:solidFill>
                  <a:srgbClr val="ff0000"/>
                </a:solidFill>
                <a:latin typeface="Trebuchet MS"/>
              </a:rPr>
              <a:t> review team measure the success of the new gTLD program</a:t>
            </a:r>
            <a:endParaRPr b="0" lang="en-US" sz="2400" spc="-1" strike="noStrike">
              <a:solidFill>
                <a:srgbClr val="000000"/>
              </a:solidFill>
              <a:latin typeface="Arial"/>
            </a:endParaRPr>
          </a:p>
        </p:txBody>
      </p:sp>
      <p:sp>
        <p:nvSpPr>
          <p:cNvPr id="1998" name="PlaceHolder 1"/>
          <p:cNvSpPr>
            <a:spLocks noGrp="1"/>
          </p:cNvSpPr>
          <p:nvPr>
            <p:ph type="title"/>
          </p:nvPr>
        </p:nvSpPr>
        <p:spPr>
          <a:xfrm>
            <a:off x="304560" y="152280"/>
            <a:ext cx="8381880" cy="9144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000000"/>
              </a:solidFill>
              <a:latin typeface="Calibri"/>
            </a:endParaRPr>
          </a:p>
        </p:txBody>
      </p:sp>
      <p:sp>
        <p:nvSpPr>
          <p:cNvPr id="1999"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9046C-9346-4036-9630-8230AD58040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00" name="Picture 1" descr="j0289893.jpg"/>
          <p:cNvPicPr/>
          <p:nvPr/>
        </p:nvPicPr>
        <p:blipFill>
          <a:blip r:embed="rId1"/>
          <a:stretch/>
        </p:blipFill>
        <p:spPr>
          <a:xfrm>
            <a:off x="0" y="2370240"/>
            <a:ext cx="2608200" cy="172872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203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9B3025-213F-4A5F-9B02-AC944B581D08}"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2032" name="TextBox 5"/>
          <p:cNvSpPr/>
          <p:nvPr/>
        </p:nvSpPr>
        <p:spPr>
          <a:xfrm>
            <a:off x="279360" y="954000"/>
            <a:ext cx="31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dvice considered by GNSO, ALAC</a:t>
            </a:r>
            <a:endParaRPr b="0" lang="en-US" sz="2000" spc="-1" strike="noStrike">
              <a:solidFill>
                <a:srgbClr val="000000"/>
              </a:solidFill>
              <a:latin typeface="Arial"/>
            </a:endParaRPr>
          </a:p>
        </p:txBody>
      </p:sp>
      <p:sp>
        <p:nvSpPr>
          <p:cNvPr id="2033" name="Pentagon 6"/>
          <p:cNvSpPr/>
          <p:nvPr/>
        </p:nvSpPr>
        <p:spPr>
          <a:xfrm>
            <a:off x="5924520" y="3494160"/>
            <a:ext cx="2982960" cy="263520"/>
          </a:xfrm>
          <a:custGeom>
            <a:avLst/>
            <a:gdLst>
              <a:gd name="textAreaLeft" fmla="*/ 0 w 2982960"/>
              <a:gd name="textAreaRight" fmla="*/ 2983320 w 2982960"/>
              <a:gd name="textAreaTop" fmla="*/ 0 h 263520"/>
              <a:gd name="textAreaBottom" fmla="*/ 263880 h 263520"/>
            </a:gdLst>
            <a:ahLst/>
            <a:rect l="textAreaLeft" t="textAreaTop" r="textAreaRight" b="textAreaBottom"/>
            <a:pathLst>
              <a:path w="21600" h="21600">
                <a:moveTo>
                  <a:pt x="0" y="0"/>
                </a:moveTo>
                <a:lnTo>
                  <a:pt x="20646" y="0"/>
                </a:lnTo>
                <a:lnTo>
                  <a:pt x="21600" y="10800"/>
                </a:lnTo>
                <a:lnTo>
                  <a:pt x="2064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4" name="TextBox 9"/>
          <p:cNvSpPr/>
          <p:nvPr/>
        </p:nvSpPr>
        <p:spPr>
          <a:xfrm>
            <a:off x="314280" y="3440160"/>
            <a:ext cx="359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ff begins recording metrics</a:t>
            </a:r>
            <a:endParaRPr b="0" lang="en-US" sz="2000" spc="-1" strike="noStrike">
              <a:solidFill>
                <a:srgbClr val="000000"/>
              </a:solidFill>
              <a:latin typeface="Arial"/>
            </a:endParaRPr>
          </a:p>
        </p:txBody>
      </p:sp>
      <p:sp>
        <p:nvSpPr>
          <p:cNvPr id="203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203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203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2038" name="TextBox 13"/>
          <p:cNvSpPr/>
          <p:nvPr/>
        </p:nvSpPr>
        <p:spPr>
          <a:xfrm>
            <a:off x="314280" y="4203720"/>
            <a:ext cx="4486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Affirmation Review</a:t>
            </a:r>
            <a:r>
              <a:rPr b="0" lang="en-US" sz="2000" spc="-1" strike="noStrike">
                <a:solidFill>
                  <a:srgbClr val="000000"/>
                </a:solidFill>
                <a:latin typeface="Arial"/>
              </a:rPr>
              <a:t> of new gTLD program</a:t>
            </a:r>
            <a:endParaRPr b="0" lang="en-US" sz="2000" spc="-1" strike="noStrike">
              <a:solidFill>
                <a:srgbClr val="000000"/>
              </a:solidFill>
              <a:latin typeface="Arial"/>
            </a:endParaRPr>
          </a:p>
        </p:txBody>
      </p:sp>
      <p:sp>
        <p:nvSpPr>
          <p:cNvPr id="203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2040" name="TextBox 16"/>
          <p:cNvSpPr/>
          <p:nvPr/>
        </p:nvSpPr>
        <p:spPr>
          <a:xfrm>
            <a:off x="304920" y="259380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ew gTLDs delegated</a:t>
            </a:r>
            <a:endParaRPr b="0" lang="en-US" sz="2000" spc="-1" strike="noStrike">
              <a:solidFill>
                <a:srgbClr val="000000"/>
              </a:solidFill>
              <a:latin typeface="Arial"/>
            </a:endParaRPr>
          </a:p>
        </p:txBody>
      </p:sp>
      <p:sp>
        <p:nvSpPr>
          <p:cNvPr id="2041" name="Pentagon 17"/>
          <p:cNvSpPr/>
          <p:nvPr/>
        </p:nvSpPr>
        <p:spPr>
          <a:xfrm>
            <a:off x="5791320" y="2646360"/>
            <a:ext cx="2387520" cy="263520"/>
          </a:xfrm>
          <a:custGeom>
            <a:avLst/>
            <a:gdLst>
              <a:gd name="textAreaLeft" fmla="*/ 0 w 2387520"/>
              <a:gd name="textAreaRight" fmla="*/ 2387880 w 2387520"/>
              <a:gd name="textAreaTop" fmla="*/ 0 h 263520"/>
              <a:gd name="textAreaBottom" fmla="*/ 263880 h 263520"/>
            </a:gdLst>
            <a:ahLst/>
            <a:rect l="textAreaLeft" t="textAreaTop" r="textAreaRight" b="textAreaBottom"/>
            <a:pathLst>
              <a:path w="21600" h="21600">
                <a:moveTo>
                  <a:pt x="0" y="0"/>
                </a:moveTo>
                <a:lnTo>
                  <a:pt x="20408" y="0"/>
                </a:lnTo>
                <a:lnTo>
                  <a:pt x="21600" y="10800"/>
                </a:lnTo>
                <a:lnTo>
                  <a:pt x="20408"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2" name="TextBox 18"/>
          <p:cNvSpPr/>
          <p:nvPr/>
        </p:nvSpPr>
        <p:spPr>
          <a:xfrm>
            <a:off x="304920" y="1716120"/>
            <a:ext cx="2997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oard considers advice and adopts metrics</a:t>
            </a:r>
            <a:endParaRPr b="0" lang="en-US" sz="2000" spc="-1" strike="noStrike">
              <a:solidFill>
                <a:srgbClr val="000000"/>
              </a:solidFill>
              <a:latin typeface="Arial"/>
            </a:endParaRPr>
          </a:p>
        </p:txBody>
      </p:sp>
      <p:sp>
        <p:nvSpPr>
          <p:cNvPr id="2043" name="TextBox 21"/>
          <p:cNvSpPr/>
          <p:nvPr/>
        </p:nvSpPr>
        <p:spPr>
          <a:xfrm>
            <a:off x="304920" y="4964040"/>
            <a:ext cx="50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are to targets for adopted metrics</a:t>
            </a:r>
            <a:endParaRPr b="0" lang="en-US" sz="2000" spc="-1" strike="noStrike">
              <a:solidFill>
                <a:srgbClr val="000000"/>
              </a:solidFill>
              <a:latin typeface="Arial"/>
            </a:endParaRPr>
          </a:p>
        </p:txBody>
      </p:sp>
      <p:sp>
        <p:nvSpPr>
          <p:cNvPr id="2044" name="Rectangle 25"/>
          <p:cNvSpPr/>
          <p:nvPr/>
        </p:nvSpPr>
        <p:spPr>
          <a:xfrm>
            <a:off x="3486240" y="1171440"/>
            <a:ext cx="93348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5" name="Rectangle 26"/>
          <p:cNvSpPr/>
          <p:nvPr/>
        </p:nvSpPr>
        <p:spPr>
          <a:xfrm>
            <a:off x="4419720" y="1905120"/>
            <a:ext cx="10033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2046" name="Straight Arrow Connector 4"/>
          <p:cNvCxnSpPr/>
          <p:nvPr/>
        </p:nvCxnSpPr>
        <p:spPr>
          <a:xfrm>
            <a:off x="4419360" y="1523880"/>
            <a:ext cx="1080" cy="334080"/>
          </a:xfrm>
          <a:prstGeom prst="straightConnector1">
            <a:avLst/>
          </a:prstGeom>
          <a:ln w="25560">
            <a:solidFill>
              <a:srgbClr val="4f81bd"/>
            </a:solidFill>
            <a:miter/>
            <a:tailEnd len="med" type="triangle" w="med"/>
          </a:ln>
        </p:spPr>
      </p:cxnSp>
      <p:sp>
        <p:nvSpPr>
          <p:cNvPr id="204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204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9" name="Rectangle 35"/>
          <p:cNvSpPr/>
          <p:nvPr/>
        </p:nvSpPr>
        <p:spPr>
          <a:xfrm>
            <a:off x="6445080" y="4346640"/>
            <a:ext cx="64152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2" name="Rectangle 38"/>
          <p:cNvSpPr/>
          <p:nvPr/>
        </p:nvSpPr>
        <p:spPr>
          <a:xfrm>
            <a:off x="5423040" y="3494160"/>
            <a:ext cx="50148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3" name="Rectangle 24"/>
          <p:cNvSpPr/>
          <p:nvPr/>
        </p:nvSpPr>
        <p:spPr>
          <a:xfrm>
            <a:off x="8464680" y="5011560"/>
            <a:ext cx="5331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4" name="Rectangle 7"/>
          <p:cNvSpPr/>
          <p:nvPr/>
        </p:nvSpPr>
        <p:spPr>
          <a:xfrm>
            <a:off x="7086600" y="4203720"/>
            <a:ext cx="1447920" cy="2984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BBD8F-6A99-4F0D-AF86-37A0DDD3B441}"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2002"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000000"/>
              </a:solidFill>
              <a:latin typeface="Calibri"/>
            </a:endParaRPr>
          </a:p>
        </p:txBody>
      </p:sp>
      <p:sp>
        <p:nvSpPr>
          <p:cNvPr id="2003" name=""/>
          <p:cNvSpPr txBox="1"/>
          <p:nvPr/>
        </p:nvSpPr>
        <p:spPr>
          <a:xfrm>
            <a:off x="2743200" y="1282320"/>
            <a:ext cx="6167520" cy="4584600"/>
          </a:xfrm>
          <a:prstGeom prst="rect">
            <a:avLst/>
          </a:prstGeom>
          <a:noFill/>
          <a:ln w="0">
            <a:noFill/>
          </a:ln>
        </p:spPr>
        <p:txBody>
          <a:bodyPr lIns="90000" rIns="90000" tIns="46800" bIns="46800" anchor="t">
            <a:normAutofit/>
          </a:bodyPr>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by Board.</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6F4EB-C8AA-45EC-8C52-7FB5AB278E3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6" name="Text Placeholder 4"/>
          <p:cNvSpPr/>
          <p:nvPr/>
        </p:nvSpPr>
        <p:spPr>
          <a:xfrm>
            <a:off x="387360" y="91440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a:t>
            </a:r>
            <a:r>
              <a:rPr b="0" lang="en-US" sz="2800" spc="-1" strike="noStrike">
                <a:solidFill>
                  <a:srgbClr val="000000"/>
                </a:solidFill>
                <a:latin typeface="Trebuchet MS"/>
              </a:rPr>
              <a:t>: Actual and potential Internet users and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Trust</a:t>
            </a:r>
            <a:r>
              <a:rPr b="1" lang="en-US" sz="2800" spc="-1" strike="noStrike">
                <a:solidFill>
                  <a:srgbClr val="000000"/>
                </a:solidFill>
                <a:latin typeface="Trebuchet MS"/>
              </a:rPr>
              <a:t>: </a:t>
            </a:r>
            <a:r>
              <a:rPr b="0" lang="en-US" sz="2800" spc="-1" strike="noStrike">
                <a:solidFill>
                  <a:srgbClr val="000000"/>
                </a:solidFill>
                <a:latin typeface="Trebuchet MS"/>
              </a:rPr>
              <a:t>The confidence Consumers have in the DNS.  This include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 trust in the consistency of name resolution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 confidence that a TLD registry operator is fulfilling the Registry</a:t>
            </a:r>
            <a:r>
              <a:rPr b="0" lang="ja-JP" sz="2800" spc="-1" strike="noStrike">
                <a:solidFill>
                  <a:srgbClr val="000000"/>
                </a:solidFill>
                <a:latin typeface="Trebuchet MS"/>
              </a:rPr>
              <a:t>’</a:t>
            </a:r>
            <a:r>
              <a:rPr b="0" lang="en-US" sz="2800" spc="-1" strike="noStrike">
                <a:solidFill>
                  <a:srgbClr val="000000"/>
                </a:solidFill>
                <a:latin typeface="Trebuchet MS"/>
              </a:rPr>
              <a:t>s proposed purpose and is complying with ICANN policies </a:t>
            </a:r>
            <a:r>
              <a:rPr b="0" lang="en-US" sz="2800" spc="-1" strike="noStrike">
                <a:solidFill>
                  <a:srgbClr val="ff0000"/>
                </a:solidFill>
                <a:latin typeface="Trebuchet MS"/>
              </a:rPr>
              <a:t>and applicable national laws</a:t>
            </a:r>
            <a:r>
              <a:rPr b="0" lang="en-US" sz="2800" spc="-1" strike="noStrike">
                <a:solidFill>
                  <a:srgbClr val="000000"/>
                </a:solidFill>
                <a:latin typeface="Trebuchet MS"/>
              </a:rPr>
              <a:t> and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i) confidence in ICANN</a:t>
            </a:r>
            <a:r>
              <a:rPr b="0" lang="ja-JP" sz="2800" spc="-1" strike="noStrike">
                <a:solidFill>
                  <a:srgbClr val="000000"/>
                </a:solidFill>
                <a:latin typeface="Trebuchet MS"/>
              </a:rPr>
              <a:t>’</a:t>
            </a:r>
            <a:r>
              <a:rPr b="0" lang="en-US" sz="2800" spc="-1" strike="noStrike">
                <a:solidFill>
                  <a:srgbClr val="000000"/>
                </a:solidFill>
                <a:latin typeface="Trebuchet MS"/>
              </a:rPr>
              <a:t>s compliance function</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22114-9A1F-4717-B97E-02A31FA4A467}"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9" name="Text Placeholder 4"/>
          <p:cNvSpPr/>
          <p:nvPr/>
        </p:nvSpPr>
        <p:spPr>
          <a:xfrm>
            <a:off x="304920" y="83808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Choice</a:t>
            </a:r>
            <a:r>
              <a:rPr b="1" lang="en-US" sz="2800" spc="-1" strike="noStrike">
                <a:solidFill>
                  <a:srgbClr val="000000"/>
                </a:solidFill>
                <a:latin typeface="Trebuchet MS"/>
              </a:rPr>
              <a:t>: </a:t>
            </a:r>
            <a:r>
              <a:rPr b="0" lang="en-US" sz="28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1" lang="en-US" sz="2800" spc="-1" strike="noStrike">
                <a:solidFill>
                  <a:srgbClr val="000000"/>
                </a:solidFill>
                <a:latin typeface="Trebuchet MS"/>
              </a:rPr>
              <a:t>: </a:t>
            </a:r>
            <a:r>
              <a:rPr b="0" lang="en-US" sz="2800" spc="-1" strike="noStrike">
                <a:solidFill>
                  <a:srgbClr val="000000"/>
                </a:solidFill>
                <a:latin typeface="Trebuchet MS"/>
              </a:rPr>
              <a:t>Quantity, diversity, and the potential for market rivalry of gTLDs, TLD registry operators, and registrar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BAAE85-98DB-4F42-AD4E-CA34C7186BFF}"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2"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Trust </a:t>
            </a:r>
            <a:r>
              <a:rPr b="0" lang="en-US" sz="2400" spc="-1" strike="noStrike">
                <a:solidFill>
                  <a:srgbClr val="000000"/>
                </a:solidFill>
                <a:latin typeface="Trebuchet MS"/>
              </a:rPr>
              <a:t>metrics measure confidence in registrations and resolutions, and that TLD Operators are fulfilling their stated promise and complying with applicable national laws.</a:t>
            </a:r>
            <a:endParaRPr b="0" lang="en-US" sz="2400" spc="-1" strike="noStrike">
              <a:solidFill>
                <a:srgbClr val="000000"/>
              </a:solidFill>
              <a:latin typeface="Arial"/>
            </a:endParaRPr>
          </a:p>
          <a:p>
            <a:pPr lvl="1" marL="743040" indent="-285840">
              <a:lnSpc>
                <a:spcPct val="100000"/>
              </a:lnSpc>
              <a:spcBef>
                <a:spcPts val="1225"/>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ptime for registry &amp; registrar service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Survey consumer trust relative to pre-expansion</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Contract / policy breach notices &amp; complai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DRP/URS cases &amp; decisions against registra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Law enforcement &amp; legal action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Relative incidence of spam, fraud, malware, botnets </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Actual policies vs proposed Mission (Q18)</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4"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3EB23-457E-4A72-8A7A-B28779C0514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5"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Choice </a:t>
            </a:r>
            <a:r>
              <a:rPr b="0" lang="en-US" sz="2400" spc="-1" strike="noStrike">
                <a:solidFill>
                  <a:srgbClr val="000000"/>
                </a:solidFill>
                <a:latin typeface="Trebuchet MS"/>
              </a:rPr>
              <a:t>metrics measure range of options available to consumers to make meaningful distinctions when choosing TLDs. </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eographic diversity of registrants/registrar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Share of new gTLDs having same domain in legacy TLD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Defensive or duplicate registration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 of IDN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TLDs in other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registrars offering IDN scripts in other language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r/registrant awareness/understanding of requirements</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633EE7-012F-4E82-90A1-03EDDEC9B669}"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8"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0" lang="en-US" sz="2800" spc="-1" strike="noStrike">
                <a:solidFill>
                  <a:srgbClr val="000000"/>
                </a:solidFill>
                <a:latin typeface="Trebuchet MS"/>
              </a:rPr>
              <a:t> metrics to measure the actual market rivalry of TLDs, TLD Operators, Service Providers, and Registrars.</a:t>
            </a:r>
            <a:endParaRPr b="0" lang="en-US" sz="2800" spc="-1" strike="noStrike">
              <a:solidFill>
                <a:srgbClr val="000000"/>
              </a:solidFill>
              <a:latin typeface="Arial"/>
            </a:endParaRPr>
          </a:p>
          <a:p>
            <a:pPr marL="177840">
              <a:lnSpc>
                <a:spcPct val="10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Quantity of new TLDs and new entrant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hare of registrations with new entrant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unique" &amp; total registration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wholesale &amp; retail price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tudy of innovation in new gTLDs</a:t>
            </a:r>
            <a:endParaRPr b="0" lang="en-US" sz="2800" spc="-1" strike="noStrike">
              <a:solidFill>
                <a:srgbClr val="000000"/>
              </a:solidFill>
              <a:latin typeface="Arial"/>
            </a:endParaRPr>
          </a:p>
          <a:p>
            <a:pPr lvl="1" marL="743040" indent="-285840">
              <a:lnSpc>
                <a:spcPct val="12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177840">
              <a:lnSpc>
                <a:spcPct val="12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LAC’s Consumer Perspective:</a:t>
            </a:r>
            <a:br>
              <a:rPr sz="4000"/>
            </a:br>
            <a:r>
              <a:rPr b="0" i="1" lang="en-US" sz="4000" spc="-1" strike="noStrike">
                <a:solidFill>
                  <a:srgbClr val="ff0000"/>
                </a:solidFill>
                <a:latin typeface="Calibri"/>
              </a:rPr>
              <a:t>What’s Missing</a:t>
            </a:r>
            <a:endParaRPr b="0" lang="en-US" sz="4000" spc="-1" strike="noStrike">
              <a:solidFill>
                <a:srgbClr val="000000"/>
              </a:solidFill>
              <a:latin typeface="Calibri"/>
            </a:endParaRPr>
          </a:p>
        </p:txBody>
      </p:sp>
      <p:sp>
        <p:nvSpPr>
          <p:cNvPr id="2020" name=""/>
          <p:cNvSpPr txBox="1"/>
          <p:nvPr/>
        </p:nvSpPr>
        <p:spPr>
          <a:xfrm>
            <a:off x="457200" y="1430280"/>
            <a:ext cx="8229600" cy="4525920"/>
          </a:xfrm>
          <a:prstGeom prst="rect">
            <a:avLst/>
          </a:prstGeom>
          <a:noFill/>
          <a:ln w="0">
            <a:noFill/>
          </a:ln>
        </p:spPr>
        <p:txBody>
          <a:bodyPr lIns="90000" rIns="90000" tIns="46800" bIns="46800" anchor="t">
            <a:normAutofit fontScale="95000"/>
          </a:bodyPr>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d-user confusion</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rowth in use of both domain-based and non-domain-based alternatives for resource acces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laints to, and action taken by, police, regulatory agencies and advocacy group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parency of contact information and domain-allocation policie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uracy of new gTLD promotion to end user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chnical issues (incl application support)</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title"/>
          </p:nvPr>
        </p:nvSpPr>
        <p:spPr>
          <a:xfrm>
            <a:off x="304560" y="151920"/>
            <a:ext cx="8381880" cy="1143000"/>
          </a:xfrm>
          <a:prstGeom prst="rect">
            <a:avLst/>
          </a:prstGeom>
          <a:noFill/>
          <a:ln w="0">
            <a:noFill/>
          </a:ln>
        </p:spPr>
        <p:txBody>
          <a:bodyPr lIns="64440" rIns="64440" tIns="32040" bIns="32040" anchor="ctr">
            <a:noAutofit/>
          </a:bodyPr>
          <a:p>
            <a:pPr indent="0">
              <a:lnSpc>
                <a:spcPct val="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Next Steps</a:t>
            </a:r>
            <a:endParaRPr b="0" lang="en-US" sz="3600" spc="-1" strike="noStrike">
              <a:solidFill>
                <a:srgbClr val="000000"/>
              </a:solidFill>
              <a:latin typeface="Calibri"/>
            </a:endParaRPr>
          </a:p>
        </p:txBody>
      </p:sp>
      <p:sp>
        <p:nvSpPr>
          <p:cNvPr id="2022"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CANN Board reacts to advice from ALAC and GNSO</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ff begins capturing data for metrics</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Trebuchet MS"/>
              </a:rPr>
              <a:t>Affirmation</a:t>
            </a:r>
            <a:r>
              <a:rPr b="0" lang="en-US" sz="2800" spc="-1" strike="noStrike">
                <a:solidFill>
                  <a:srgbClr val="000000"/>
                </a:solidFill>
                <a:latin typeface="Trebuchet MS"/>
              </a:rPr>
              <a:t> Review Team forms to begin review, one year after delegation of new gTLDs</a:t>
            </a:r>
            <a:endParaRPr b="0" lang="en-US" sz="2800" spc="-1" strike="noStrike">
              <a:solidFill>
                <a:srgbClr val="000000"/>
              </a:solidFill>
              <a:latin typeface="Calibri"/>
            </a:endParaRPr>
          </a:p>
          <a:p>
            <a:pPr marL="457200" indent="0">
              <a:lnSpc>
                <a:spcPct val="100000"/>
              </a:lnSpc>
              <a:spcBef>
                <a:spcPts val="601"/>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023"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2FA1E-D89D-4A8E-91E3-598EF5C44AC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24"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8:27:24Z</dcterms:created>
  <dc:creator>Tom Hodgson</dc:creator>
  <dc:description/>
  <dc:language>en-US</dc:language>
  <cp:lastModifiedBy>Julia Charvolen</cp:lastModifiedBy>
  <cp:lastPrinted>2011-03-03T09:26:23Z</cp:lastPrinted>
  <dcterms:modified xsi:type="dcterms:W3CDTF">2013-07-15T08:51:12Z</dcterms:modified>
  <cp:revision>329</cp:revision>
  <dc:subject/>
  <dc:title>Slide 1</dc:title>
</cp:coreProperties>
</file>