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1C98F6-B79C-4C72-A593-9F18BF6F204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938C82-8171-41D6-B70F-E5985342D5F9}"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EC7AA4-1242-4812-BE5D-3CCBF00E0E42}"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78112FE-0BD7-44B4-94BA-EAB5E5FE5DD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A9F07B5-BA7A-48EE-826C-663C87571CF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28460B8-83D8-44F3-836D-C5D0B32CCD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E7FA4AB-2F33-42FC-8F57-DBE5462ADF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F5431F3-634A-4EFB-B226-353582827C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849A44F-40A6-4DF8-A4B5-BC890691CE2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3FA7A04-17F8-4DA1-94E5-0EB4C32C411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EED2F39-9656-4FA2-B82E-1187D820323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852987B1-565A-449A-8382-65B0AD6E480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93976CE-34ED-4CFF-BA0C-11ED27F811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172AC1A-7DE9-442A-A4B3-3324A1BD89C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60C2BFD8-060A-4EF1-B408-47DFE177398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B8C8044-3E0F-4D23-9940-4384CD08422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EE1D9B7-3428-4CAF-B2CF-490D062E0B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EB00D69A-BEB4-4BC5-BFF4-A0BC841BD21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28ABB3D-4782-4601-9B55-8AB6A1FCD06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D227994-691C-467D-BAD6-63537616D65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6F13BBA-7470-46AB-834E-8DF03BD1A2D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2C4F359-D9A3-43BC-904B-CFABA2099A0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E8F5392-C806-47F3-BD1B-A4D4629D45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A950012-E4C6-4BE3-A6E8-57BD32049A6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3EAC1C5-3135-4837-A540-27619719A1F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A079DA64-52E4-4747-8C1D-F21A1426E8D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E330894-FE70-44B3-8E9A-7FF6BC72020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DC50CAD-1C7A-4BE7-9F9F-DA8C97E20B7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FF888E0-28F5-4253-A068-9FB5DFAB6A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65D0564-F744-4A08-925F-5AE1511AABC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7159AAC-1278-4F12-B8AE-D19C58862BD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CBF6383-768C-4A5C-8FA9-D010CC90896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CAA3F43-B2A4-4AFB-B160-66811EFF2F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26907CF-7B4C-4755-BEB6-E5C6DC7D05C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2A5F924D-6B22-4AD3-B21C-9F9DF023B6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A1EF5AC0-BB8C-49A6-87BC-0291A02BF31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1EFB93B-231E-4580-A7AA-00F5B364919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D35E34E4-003B-4767-9B0C-F8088448981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7ED55886-480B-4DFB-BA85-A23ABB619C9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CB488C2-D6B6-489E-B7ED-0006F4D0653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4442592-F136-4746-BC2A-72350F6491A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E96335E-A822-48FF-AFB1-6503588961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33A2654-2ECE-4ACF-82F5-CE256EE5A3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4967AB4-E88A-4E9E-B754-5CAADEE26B2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C5E8F2D-0144-493B-AA92-E7218C91FD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FA2280E-88D7-4F1C-9A1F-EBE5482761B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E351AE3-0D51-43C0-B490-305BC00A68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8E14BA70-FFB5-4473-9F83-5BD6F02011C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5712EE-3383-459A-B033-1310419993A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84981A26-7AF1-4CA0-8F5C-DC57D981B5A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3F2D76D-CAE0-4F23-A642-B4FCE1AFBD7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4A5DF610-F10A-4255-9A9D-99DC8E7FAE7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F6C4871A-84CC-4DA4-BB9E-DD537B7AC1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59089BE-3528-4070-8F15-BB0E085F3BF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4C7B8C1-7EF8-4911-912C-87D7FE203E1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3E144D37-6CA4-4BC4-BDF3-EBB57A13E9D5}"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84CAEEC5-1627-4518-8E04-3321E5AF206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BE2E7B9A-B017-408F-AEDE-FDE42065B36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100D26E9-C778-47D3-B51A-50174EAD10E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C8A4DB92-F8E0-4447-B79D-6CFE3EE2541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BAE3483-E5B2-43B5-B465-A6596C2DDC9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F23C97B-19EB-4DB0-84D8-57E3ACFEFA8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25671835-B935-4B4C-861C-2691EC14DC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56140C2C-D693-44F1-848A-4D00A591C17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E455E54C-FF3E-4180-A1EC-9DCF11D0552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44E30525-0F06-4069-92AF-F9BDEFA0712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B2AD463-6B3E-43ED-980F-1296257C01A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9E2C1FF5-67AA-46A5-9DB7-4F1716CF717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E436A13-1A3E-45C6-80E6-D0A7571C8D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8A7C648C-A2BE-45A1-BDB0-EB049F34DEA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A49A35E2-59C3-4490-BBF2-A8C2E03DE48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8ED14F9C-C389-4B21-BE2F-6794A7AF75C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7DE9CA6-9ADF-4E5C-ADDE-4D8CECAEAF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93DA1EF9-391E-4A22-BFA2-3629E89F178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CFE51642-36DC-400F-BE07-3F3239FA1C5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2168C32B-1296-4A25-9695-97616EBE322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FDA7FF82-184F-40C7-B9A5-1D2693CE2BD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A7B8200B-2B2B-4CF5-B8A5-04E7B7D338F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8FC0D86-E288-4556-BD42-C5F286189C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F9CB7A61-826B-4137-ACA7-71FDE5819CD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687E010-D541-47FB-B289-8E58585AC56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544CE670-2863-48C2-883B-835F3E085C7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FAD34818-369E-4207-8C01-588C64E7E7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A7377F44-79A0-4293-8141-6ABC37788FE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1ED94E-9877-47C1-8433-AFD9CFD326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08365F-2DAC-4ADE-B06B-533EF58602B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8A99EE6-3004-4027-ADAD-F7A7F41F3E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678C70-FDBD-47BE-8243-86291A1B4E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304F323-AAF9-4923-9B71-513510362D2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6A8FAA-3FC4-4D78-A546-048FF8A8DDB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3A71F7-7E35-4791-8CC4-D9DE98A137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CFFF2A6-1B5F-49C5-8E08-6F706E22C54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07DDE9C-C72B-456C-B91A-410CDE6C26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4745D5B-D363-41D1-9362-8AED915C67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942DE2A-0B37-4990-B8D5-8C71AFB441E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E56B259-F7EF-41AC-BDD2-A0159CAAE7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5B8CF1A-4495-4E44-BE0F-905BA0DADD1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5DF7AF6-12A3-4A7C-A011-8EA75C31F1A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3EE5FCE-71F5-48AE-A908-C1690BBBAD3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19EB8C9-E156-4216-B262-21D15970120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969B1B29-95DF-4680-9B62-935924BD766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15830FB4-53C2-4CEB-A07E-0989D322F9D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0C7B7900-040D-4840-96C8-B8B37FB06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B1FD9E1-0AB5-4916-A721-E47A9DEC00E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A87A801-CAEE-4C5D-93C6-C4BA1A34E3E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11691D5F-F69E-4309-9ED9-02FE70C7F38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92E88D6E-EEB9-4E5A-991E-D788D7465E3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67A16BAD-6612-467C-BB2C-FCAA8FF5E8E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2A50674-B93D-4C9C-86EE-82AA18E61C6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FB60D09-59F5-415A-9A46-90C8FA248C7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3ECF256-F93E-47C1-93AC-0FA94EF0805F}"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B9F5D52F-7C31-45BB-8BE8-E6E3A3856E4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866F5002-2FAF-4EA5-BCF0-E532B84F10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D308293D-4B70-4111-8F38-9205C5369D6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EF0B0C74-13A1-4F4D-8D6E-703C266D3E8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E539C0B-CDB3-4C50-9166-E72C096CA30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F96D129C-E06E-498F-BA29-CDE00E5C4BF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D42654F-E033-4B2A-80B9-D878AA06AD9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68BFE85C-E8F9-4E28-B2F0-5E90259EFBF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1C33DFB8-2E7C-44C1-92FE-1A020FA19746}"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3CC58B8-B639-41FE-8DE6-5C70678AEDD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BCD164F5-D6AA-4ACD-BB17-FB390188A1B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DDEC9D7-B4BC-4BC9-8B27-D84FEB7B8B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F685140-62D5-461C-B0FC-9E3571291BD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43AEE94-DAB7-4D0B-8CAC-83BC95BC049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B1BFACF-F8A4-436D-9126-7447DF8E839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771AE0C-3796-4AFE-820E-AA2D9BA17DB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D9B44863-3BCE-4820-95B2-6AC0F2B8909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9F3C1B7-AD02-483D-99D8-DA57FBA7714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116E90BF-A975-4A2D-8955-F28E03777D88}"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3FB24C80-37C3-49B5-9476-AE2BEE4F2FC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F9287D2C-B558-4C1B-B295-A7F8EDFA3DC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58A3C37-6755-47CF-B404-0B0A6D121F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C88984F6-EF41-48CF-9072-5D2987F5C0E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4BBA8851-3BDF-4294-868D-CB3F5E6F692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315A55AA-871A-484A-A263-D8782401A71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300F37DD-0255-4567-8AD8-A6CC9E07A7B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1C8600EA-FD7C-4893-8E6C-275E18B6E1C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1662590-2E48-439B-8B62-61DF4A68F2F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B6A996DB-BDC1-4EFB-9CB5-AF94E1BC1FC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41AF3339-F24A-4E79-9317-E1E0903DBE1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674176AB-849A-4B49-9647-03334CA0E8A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5D7879C3-9C0E-4771-90DA-3567E34918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E6375679-586F-45A5-B2DB-0A64A68175A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25E7427-66B1-4E58-AA72-2412C559759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2A95FC4C-2D70-4599-B47D-25A7F5BD7B5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5852269A-85E4-4232-80D0-500501BAB6E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34D10A0B-33AF-4836-936B-7E133AD066D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4411402D-CBC5-4975-BBC4-1340E35C939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1A81C3BE-9A4F-410B-989D-DCF30616FAAD}"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FF362281-A86A-422F-AFDC-FEBF120920D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D37FF4D-1B3B-4BC2-AE73-BE678EB322F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B941D347-7526-4281-A842-A233287040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4502C01B-3F7F-4222-838B-EF1D126322D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2A9E6E66-7B7F-4C6B-BC3D-BD8DD063BA2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58944588-ACE6-4FA2-9E4A-5B393785D5F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21CFF2C-F6E6-42B6-BD2D-691B2482C46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BB7A2CED-E85A-4488-A0A4-DF88B488444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D98671A3-91C0-4DC9-A678-A1E142BFEB0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9E75AE09-7D2A-4180-A371-1AC1F0DB23D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E843867C-7EE7-4D0E-B618-FC855E844C53}"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F5744586-BBD5-4DAB-AE12-B049C14E9B3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FBE756A-1940-414A-8B2D-278E7410A7D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8D299AA6-E35C-4720-8A60-0C64C8BCE89F}"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B1D68BFC-02AE-48E3-8876-793CEA9A551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03D5B303-7F5F-48E2-82C4-E14946EEA7E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0934DCDD-B063-4222-A584-A7EDCBA41F1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08ABD44F-F041-4DDF-98C4-E8ECB5A0E74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5076C7E-5650-46AD-8522-9B114849DB4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D055176-8DC2-4F46-B0CD-671D9FD0BD30}"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D462410C-279D-4A9A-8E78-692D6FCD48A6}"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B576B14-C499-4E01-AB0D-5EEBB0437107}"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1F81DB5-6579-42C2-847E-BE041925B7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B9E82151-1911-4433-B241-37E7B2598FA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8A14E1A-94D7-479E-8ECE-B4F610D623D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FB3D1FA-8B87-436F-B646-2020342A518B}"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5B85263-5A18-4F54-8204-81471EAF083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0011EC54-5BCF-43F4-B6B0-44464438BB4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30FFA141-3699-44A5-B100-D598EF6EB59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5B97A010-8BAD-42AA-B04E-98329E60705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18CD2D8-4993-4E11-BF63-9680D5C91C9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0EA3ED7A-D4AE-4B29-8CED-0CFB832F684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7761D32-8E31-4582-8E86-CDCA0F8119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8D5F53F2-4BB1-4B17-941D-E7D1D16E9E0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77CC0B8-6128-46B6-BEEB-331147A33B8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0AB5F05C-F23D-4347-BB64-50E28621CE6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4DB0BE0-0075-439A-9A7F-22CCDC10CBE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E1F2109-FAE4-4423-B035-83F3E13D4086}"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AD9E05C0-67C0-4638-9C74-5A1BBC5432B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D1DD42B4-8C86-44F9-A369-58EA761B1DD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F3EE3EC-DA35-4AC4-A0D2-F8B257680CA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D2941782-AD1D-410E-85F8-91BC6D1AE79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AC29221-AC2A-429C-AD72-414C7CF2F4F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33EB6E5-6B53-43C1-A0DF-69234F8DA85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0535FCA-4C74-4FE6-901E-CB1A859AE0F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8D9B2DE2-A75C-487B-B428-0C728EC485F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8235E0D0-A9EC-4CFE-8951-34D681256D5F}"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75BA3C33-F219-454B-A5A5-57CA7B9F118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78F86C5-BE28-4D2A-BA77-733591A1173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027A066-ADDA-4CB8-8525-57D8A46F0971}"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9182FF9-BD8A-4CAB-A324-4257FA2F9FF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F15E4F1-CDFA-4B7F-90E7-7D0BB4BF7A3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8E649A0C-D485-4A52-BB13-C639FE2C6D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82BEABD6-6F0E-471D-9462-EF184758A60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F782561-9E2A-4DAC-AFFC-F90F8B531D7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929BAD1D-A7FD-4E59-A52F-D3862B61DBC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1A45EABF-5CE3-407A-8931-00D0DE1C7EB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C4EEBFB1-DC2D-41B0-A9A1-1ACF3EEA03D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2BA9925A-82AD-412C-8D3C-6766BBD78B5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86620C8A-7E28-4133-8B09-EFCC3CE4EA9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3EBD9EB4-DD6C-458C-BF8A-35519A4A09D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FE4A3EA5-B977-4DF2-8FEC-82EBDA22215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8D80B078-2ADE-49EF-A670-D042ABAB07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28C879AF-8DF2-42FB-9D76-3DCFA9622F9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F1F8B25E-D2E1-49F1-8A99-8B28D803866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B3A47864-EA4F-417B-BBF9-D1CD5B758D91}"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859FAC6-FEC8-4BED-9BE8-01CB9F47B46C}"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F318CFA9-57C1-4FF7-A1B0-54CC4E8B4644}"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3C738F96-96D6-453E-9B2B-2CF456FE7C25}"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71B12A07-BA53-43F1-AA4B-F6CB680EF3CE}"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68AFE467-18B1-41BD-9565-71ECFBF0CCA1}"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C7E963B4-B5E1-40CE-B13F-B2FEAA4767B2}"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A77C3FF2-2B52-46DC-B57D-E20537E0DD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60D75C22-EC03-4421-AFEE-30480D0D467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9A45EA25-6354-43B2-9E92-0BF7F80E4E00}"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3BBF0E64-E7B5-4159-9286-0BAD3D3A1326}"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BBF22D1E-2969-44A8-A166-20B33C15D6A0}"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A92C4264-C623-4D78-8BB3-EE54AD284E68}"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1C65709D-7964-493F-9316-491C46FE079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83F3B4AE-2C08-48C6-A189-757E12A95F88}"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09061244-B210-4117-904C-AE80670E6575}"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F7B38A1F-5115-460A-8962-7105A8CE54F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8FDCE1E3-F416-42BC-B3CB-9B20BB9111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176E211A-F474-4D07-AF0D-F79B9BC92DB4}"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F278C5C2-1FE6-48FF-BA8D-708B73605543}"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E26AF99D-F3F1-4EEF-BE6D-36FDCDF8F15B}"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F06C4EE1-BAF2-462B-8BDC-0F311090E93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1321BDB6-82FD-4774-9B62-2FFBB9501C0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7B8AAD93-867D-4BAC-AEB7-2D689637ED1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92EEA865-56CB-46D8-9B4B-FDA38DAC2895}"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D3C74D2-F9FE-4D07-BF44-A9FF60152D57}"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3C4C7744-B5ED-434A-A755-21C6B04D5398}"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E29AC47F-A40F-4507-9C32-ACBD73F8D54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4542B712-C009-4D71-AB87-B6B6DC2325F4}"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10AAE261-3D89-4753-93CD-2FE754971E20}"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F4E8EE57-A3CD-469F-B4CA-A8E03BE52EE1}"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C215757A-19AF-4319-9380-23479936EB7B}"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45D55D09-8B4B-409D-AA39-FFCA97D7304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BA1CF0E8-D508-4396-BBC8-E8E5214E04A5}"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C430BCDE-ABBF-43AF-85B0-A431A24E0F3B}"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BAFB2C0F-6714-4D8B-8B5E-314B7F02294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FB7D54D7-0745-4040-A1F6-29823D6F05CF}"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A61209C-E7B3-4047-8273-2589D5F158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0EBE6C7A-53A0-441F-AC2C-4191BAF182A4}"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D16BA031-A8B7-4C49-B1BD-903BBFF89E7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59789571-A6EE-4852-BFA9-DE8696B461CD}"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FAACC9B1-3C5E-4DB1-81BB-6380C17EDA9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5BF5CE92-FD4D-438E-BB83-66179639280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19A90FF0-D6E7-47C9-BD1B-D1B7AE5AD22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D26D4218-60EA-42B1-9145-5CE8FA31353C}"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DC58B2E7-1179-4847-BC29-0ECD9939D4F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5A0364BC-D402-48D4-85E8-73B4645456C5}"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11049000-540C-4D8C-9F9F-8F96098F7E6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F30E70F1-495E-4A2C-9E64-3989964A49C8}"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8291355C-23C5-4407-B2B5-8BA2AAA9F14A}"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95C040B9-AE63-4C02-B7B1-D07D9F9A4B82}"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709D89A1-FA46-4BFD-B4C8-AFF933F23F2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1C64E28B-DB8C-4C6E-9514-C4AF3D9C793B}"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9FE8F610-02D1-4ED5-8605-66DA3BAFC3EF}"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57E80CF3-7D26-4A3E-992F-1784CB409526}"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933AE5AE-1E87-4821-ACDD-21EDFBA7392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EF09637A-6A79-4E06-9026-9C61E1426BF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4B8BA345-9748-46BA-B692-1B2A2D382E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78508-65CB-4EBD-A82D-B3741075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D40D0125-17B6-4E88-A0DC-B634FF592CE0}"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193518BF-6626-4200-9BD7-DE66006AE57E}"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7AFD0135-0DBD-4D5D-917D-630C4510FEB7}"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C99E99F-C717-4868-A9DF-413C1596C983}"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A89EA3D5-5EC4-4488-BC61-64562321AF47}"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CD48F8B2-DC0F-4428-943D-316FE833C965}"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FD2E4FEA-3D43-4F6A-A75C-E91E8E73B3B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8F02D052-B280-4971-9D67-8465220443C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B7981495-5EAB-4934-BAFB-C64ACCCA7090}"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D25007F2-8969-4347-B6B8-E043B2D1BCD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E3808-9808-4A12-8F17-306709E97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2ED8DB31-5798-4784-9DB9-FD86D9B4CC62}"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09401903-2DE9-49D4-9A0F-49CB31CB28C2}"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D526D099-472A-4FA6-8744-9E868A667B7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98D5C71A-1216-4251-BA57-40520589CE0D}"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CA83BA44-78B2-4F08-B1A0-204E72B4EFC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9D16D7A-A16F-4A39-953C-C8D1BC3E3833}"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58D8EEF4-3B7F-459D-81A7-34392C839F5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0621F98E-D4A2-4E5F-BEBB-71D15A30362F}"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1CED5001-21FE-417C-94F1-CDD0330CF08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3DFAC050-2D29-464E-8BEB-C0149ECE1C0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1121F-8C28-4A1F-AB41-0E2EDD992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C20D9343-0CF5-4531-A05A-68ADB9CA1E5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C0C012FB-3F18-47A9-B1BB-7F1541F35EF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108FECFA-2E96-4298-9100-5F29763A094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99DA7AA3-C276-44FE-AF90-6D5A4F42218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B6CF679D-5873-4E4B-BC4C-609CBED80ED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A58D945A-1B4E-4F4A-83E1-6F6A26BD86EE}"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DCDD82ED-EDA4-46DB-9FF7-34FB0EF060A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8305CB57-D72B-478A-B311-815890279646}"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7F8535D5-FD6B-4468-93A2-8683B7E8059B}"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9F95A62B-629B-4AB2-BB73-7C4F9B8062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6D13F-6B4A-48F6-B337-B77CA41F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B71A5E38-C6DC-4510-8BEB-0D83E83970F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D2559FEA-57A0-4DC8-81D1-F88319AC00A4}"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F097233E-0F6B-41BD-8C81-4CB7B96E473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BBFD3B19-76AF-48C6-9CDC-377AA67F5D0C}"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0876169-54F7-481A-B1DA-952D7931F007}"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88D4EF9E-7E91-4279-A99D-23DB79CF0BD2}"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B1962771-E7EA-4E2E-B721-AAAE2DB8AB17}"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4F037747-D4D3-4BAD-A788-3F0F57C3EE9B}"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004BD83F-D06B-4643-ACB1-774C86C248D3}"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4F23EBA1-4913-47CA-90BD-009E71A131F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E62A3-9725-4BF5-8941-D27AEE3E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55C6B601-3889-4978-AFD7-E04CDCCD5FC4}"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74EA77A4-8293-47E8-B972-593E992A97D4}"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7763FD96-2A08-4225-85FF-6C08CCAD458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CFB5AE24-7E60-4131-B166-B75D807BD8DF}"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3E0AE00C-9CA2-4735-B12C-38DBE77C0A6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7DF4C663-6A0D-4269-8479-DC7BE893488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DDD18DC8-ED3D-4780-AD4D-9CA7EDC0249D}"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28D84CC2-BEE5-4D6B-A255-FE1C551D8B2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7D66396F-57BC-45F6-96F4-0D95C4672A57}"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F0251B4A-9713-40D3-993F-308FBE7353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862A-91B4-4776-8F7F-4C72FE1CB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92AD7221-68E5-4158-AA54-36457820A87D}"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50E582DD-2D5E-4E7D-A465-B370C62CA53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787FC575-1653-47D2-BF6C-EFC0C0C56D9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A22DAE46-A6BF-479B-B2A9-CE867A25466A}"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29C7FBD6-CC49-41D5-893D-FE5DFC348418}"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A1474E0F-4481-4A74-98E7-A2B1756BD6BF}"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522D5E05-AED1-461A-AFCF-8DC99AE8FDA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884AB096-57A6-4612-B224-5F92737E7D6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0F668961-53D5-473E-B8B2-DC60654D5E99}"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79809DDE-0393-4A69-99E3-1BF3112AB90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F449-4A20-4ACC-A79B-7E0DD9EE5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B827AF7C-5210-4AE0-8D44-0E946764166F}"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45C032ED-A487-4653-B10B-A9407ED333D8}"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D9345FBC-D51C-4664-9A84-9363D3306904}"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1EA4DBBE-C805-4325-8DF5-92C044B478BF}"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A4555CAA-DDA3-4A18-9DEA-1AA9DFFD2290}"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BED737A0-73F0-42DA-BC85-501F8F126BE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E93A293E-C53C-41CE-A8E6-15E55C7C1DE2}"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32771530-83DB-4FE1-8F3F-1B7CE70947E9}"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68F89CED-20EE-468C-A59F-47650ABD66D2}"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BE7CB886-7CBA-4F9A-9B72-44AEDF2A5E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D98B4-A4F6-4311-8590-231726440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C66436C0-1727-4FE4-8630-8789BE7561E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3979760-475A-4738-A7AC-544267BBC72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1E3A64B6-33AE-42BC-983E-799F47E98182}"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D08C587B-52FE-4542-9EBD-8ADAD613262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37C3BC0B-0EB5-43A5-8428-75C223F20D70}"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AD50E465-5F42-47D2-9300-7CFF5508F61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FBACCD7-0332-48AD-A9B3-D560789DCF07}"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831357FD-9798-4159-9BA6-4518D54B0FE7}"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EB6BEC80-10C2-4444-9EE3-06790D6D35C1}"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84737CFB-ED21-4319-851D-79E8D959C02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EBFA2-D7F3-466B-A458-2931DDBE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9B4166F0-B9CB-40AB-8697-F9ACF7A088A5}"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801A984A-9F46-45F1-9494-2F70A1D65FDD}"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DF2747F-0BAE-4AC4-864A-17BD4915C087}"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643B376D-20CB-4343-9206-76D29D4A7B31}"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91E2F83E-C970-45CA-A17D-C12CD96F5A70}"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6BD37D34-2F09-4CA4-9417-938AFFA4F671}"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7D37477D-0F87-48FA-82D2-C2A30CAC371C}"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AEEFB9CF-6381-4558-B7A2-BAFDFEE0F842}"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1B686F81-AD76-486B-B64D-C73D45C8768A}"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C38AD355-24F6-4960-80F4-70D60CAA7D2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57B2F-DF53-4492-A343-AE58BAB0F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BE11BD1E-ADE4-42B6-8893-39F74F57D40F}"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7A0D481E-5344-457E-A430-B67EDF2EDEB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AF89A510-5E77-45EE-9726-9CB09AF48ED0}"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796CEB88-D802-4258-A6A5-5ED9EB0C328C}"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3F8DAD42-97D2-42F3-996B-0093C7CFC5B9}"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18840EDC-FACD-4A7C-98DC-31991BA58C6A}"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6A1A6545-3D0A-42FB-9482-5399F88D2A62}"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4BCF7B4D-4337-450C-9AAA-8E1AB03697D5}"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E28741F4-1C56-499A-B211-0151C838253C}"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A2FBC454-8C20-43F0-BDC6-0497E8BCF55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AEBEC-5B68-4BA0-82AA-9933DA0DB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F59828C2-8117-43EC-AE0E-0434396AF08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03F9B458-2385-4289-84E4-38E7F2624C24}"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2446EC94-113A-4814-B36B-2E7C25C23BFA}"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ACC7B03E-95D1-4FF2-A925-54DCF04E277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3DDF524A-61CA-4577-BD34-6041FB621840}"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4BABB569-A36F-459D-8555-4CAC665B4A95}"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F64E15A8-EBAA-41E6-BF33-EF929A05703A}"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37C199E9-F97D-41B9-846C-0D759B23B122}"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82AE889C-FA1E-472A-B2D9-812CADF13924}"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3C24B96F-A49F-42EE-9D08-BF8E17C3229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0BD35-9F1A-4BBA-8B3E-4F01BB48D8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F617E089-5105-41D9-9164-61999E333788}"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7555AAC4-7D0B-4A2E-95D6-AB79B5AE22B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F7C67603-A0E0-4135-8B77-A85B7DB4846C}"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4B75E666-D7CD-4AC3-B907-6A4CF89A9ADD}"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D86EC1E6-466E-41A5-8DB2-04BFC9A14A3D}"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3E79D4F7-DF9D-4325-9C7C-7AC46CEB4C56}"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2E81F87A-87FE-4E27-AEF9-E1F782782EA8}"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E7F91AE0-5AB8-41C4-B443-94390FDB7C2F}"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5294DD8D-755C-45FD-8E88-021C6BE472C5}"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0381317A-8F43-46F6-BC69-FB93731B583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1D04C6-EC7B-4957-8B00-F221D2A1773B}"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D98E6FA4-2316-4D41-8979-D6D1E230C585}"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CFCC5F2C-8FAF-467B-8590-BC7B8F11B09A}"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EA629317-7C61-4B18-880D-871ABEBE3DB0}"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BEB9EF9F-5169-4EC1-8D65-55B89EA71D3D}"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0A29115B-5015-4E73-86B9-DD11868345D5}"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A1764B69-9042-4870-8953-FBC56C9E5CA2}"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6B3CFE3F-828A-4F83-8DB5-C37B99FB645F}"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610C378F-AE18-4144-901A-12D2A471C16A}"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96D82D45-0D43-485C-B0EE-648B414EB659}"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67578536-63FB-4FAF-95AC-5088E77D94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C3C0C04-C5B3-4361-846A-9B008D5181A9}"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23784C03-CC90-49F3-8B4B-4705E555AB8B}"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32F32FC4-BF22-4052-BA6C-4BD134696024}"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E2A644DA-04F0-41A2-AF67-5BF75C36612F}"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8C192ACB-1A98-470B-8C0F-ED7ADF9EE46C}"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1722A688-3991-4102-A5C4-F46432DA2E7F}"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16957CF-E3A1-411B-A710-4D141E831CC2}"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D3FAD8BC-7815-46F6-9125-0BB08ACEB54D}"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DAF8A92D-DA5A-4867-86D6-EE14F4338EFD}"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3463C0A0-A683-4A63-B0D8-6C93A27C4ED1}"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6441A671-B55B-4514-9E78-EB5C47761A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8858C3-840A-4E5F-B3C0-ABC41DC8320A}"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12FDFE02-C8C3-4F91-8D11-8DE0BA3EFE80}"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CE96F756-E751-4317-BF32-633DEB2BE3BC}"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17146B6A-2C2E-4F61-9662-156289165266}"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0EECE92A-2EF9-488F-970D-FF2BFA557CDE}"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9563CD92-1FBE-4AF1-A939-E879F109DB1A}"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F6384565-5889-43BD-AEBB-6F0C2022130A}"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536A0276-7AA9-425E-8596-AFCDC5BE6511}"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A4CE05BC-FA07-4C95-B34B-03B2B39A7520}"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ACD7F407-2A13-4104-8D8F-2E8A321771F4}"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812389B9-7614-4FFA-9A0B-7F8CB9EFD64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152B31-36BC-4D07-8541-9A66212CFBF1}"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D044576A-BB0A-489F-BE22-CE046960CD0D}"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45B7A4DF-603D-49D4-B269-2C6D6FC93577}"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D18EC447-C41D-4544-82BA-329AD652A9AF}"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C5D7D4BB-67DD-42F5-990F-0F22A6246D86}"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37EB2D7A-23C1-43DC-B23F-4EAA3B13A98C}"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7ECB2B12-047D-4D81-9235-A65C9D518658}"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9035D1F-5B59-41F4-A4EE-79BA614929EC}"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BC3EEB88-C953-440A-8D9C-A0FE1CDB064E}"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7CE76662-94F5-4587-BB92-03373129122D}"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3F8E4911-A5DF-4B24-B096-7AC15CE374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FE871B8-10DF-4064-A45B-DFBA87E37BFD}"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57E59226-2A46-4A95-8072-AFD5F992AFD0}"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519D209F-8A3C-4432-B494-F549FD067E34}"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7CF6D904-E250-4C15-95E5-AA56A3C84B6D}"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AD1D15B8-29FB-42DB-A03D-8EE07284BE21}"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5A9F95D3-D6D8-456F-8130-5EA44E5752FB}"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7AAC700E-B2D2-46F3-9403-1F3F001255D9}"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D133CDB3-734E-4576-A7D6-CE7EA460D4CD}"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5B828C70-45FD-47EB-AA16-6194796400A5}"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AE4E44D4-20FC-45AB-8401-F8BABB49AED3}"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DD41D8CC-587C-4F27-B5EF-5D8403241EB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83DEF5B-22A2-4121-821E-C1BB9A9518E1}"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C5D3C374-2F51-452F-8EB1-04EA42A379ED}"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1C5EB0F-955C-4807-80D2-DE81DD64F9B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D2C71AC-1B4F-46A0-8F85-A6550E659F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21552DF7-8DB0-4825-B28D-7A43237B1C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52BE666-99B2-4462-B6AF-C7EA7C125E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A87B3EB-F17A-4D70-9C1A-D931CA3AE0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880E3A4-5F76-413E-8770-5F04254A1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DFC8723-085C-45FD-B534-D32A186EAD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48BA035-5C82-4DFD-BBAE-A92FBBB524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7EFFEDC-8348-4175-87FB-6C01C50F1F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60A54B-28DC-4854-B187-E858055E7DE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8DD283D-88DE-4737-A07C-F494808ECD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F901B462-0337-44B1-BD61-FC48BC0E3A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758AD5F-10FD-4D09-A76E-31525B5180F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3421E4AB-0531-4DA5-9FCA-6FD28D428BAD}"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CF213923-1BBA-44D5-837E-3C988366D5CA}"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1240255A-103A-4632-974D-1A1D443A6FFD}"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E34505C1-8711-41F4-95B9-EC2A66CF10E9}"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FDE6A27E-3E67-4EA9-BE9A-5F675C3541F1}"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D9FDD371-6F63-404A-BDBB-97F937B7930F}"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BE2EDED-CCB5-437E-B375-D2EEFF564AC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9081E54-0B19-424F-A7A5-9012DFBD9F44}"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E83846F3-E5E6-4586-93E9-5E3CF1CCAA91}"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B98CE82A-F7F3-40D8-8572-0F699B194914}"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FE637584-261A-492D-964D-A6DA1CBCEC5B}"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2FC59E97-6486-46BF-B365-25B9B69A6319}"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E103F7C2-8D56-4359-AB8A-197B947E5C95}"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2148D6F-4A53-46CC-A7D1-4455E7DBE48D}"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F9A82B07-4F32-4ED6-8864-9411110ADA7C}"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E34F5A48-9A36-4F47-BE05-C8A7D9406CB5}"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82D3C59A-6979-408B-981E-FA9EC4B05D59}"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3E4B77A9-FA07-4022-9C1A-EB8CBE35F1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1D26F69-216E-4E0D-A20E-2E4CF3F2E295}"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ED0026AE-34CE-4FDA-9C16-A69AC3FE0161}"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35A5AA13-72AC-4AD4-80C5-ED6C2DA87B70}"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C43787B-DF05-436C-B622-291E89C14634}"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2AEF4A9A-D672-4B3C-93FA-F30FDD7AD577}"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EDD4C658-9C80-4CD2-9A0D-13F329DB7BE3}"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FA7B88DE-165F-460C-B6D9-DB3E248D9A8A}"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B933F4BE-8B8A-44CB-A88E-2DDEB205212C}"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29774B3-9969-4BF5-8C56-4125220DF3BC}"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610C4632-276B-441B-B162-B9C6036BC9D3}"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529BE47D-4C12-4A3B-8CD3-0F7811B412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FFA3055-41F1-4FC3-8818-8AE070038D47}"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937EADA3-1F5A-4B05-A60A-15EEC25AB295}"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D12464EF-13CF-4F0B-A46E-A6D6E7AAE44C}"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45D3363B-10C3-44E7-B5B8-CDA5F572297A}"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22D979FD-8C28-455D-9872-A8030157B38F}"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62109CDB-C222-4794-AC87-BC916F5F020B}"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4CEE1E38-3228-4B81-BA49-A8FE42E3F034}"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226ED18E-573E-4D7E-BCB6-4109F9EEEDFA}"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49E3102F-DBE6-4783-9089-A7D2239A2D20}"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FDF95C4A-BC64-449E-A9B6-F4042EDC8E98}"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CC310627-8709-4CD7-8287-51B09C31F82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F26AA1A-C3DA-4A1A-86DE-2391A1B4A06B}"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33119971-F25F-44EF-9A32-440E3BDD1866}"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CEC9330B-DA2D-4150-82BF-D5D5925A14F2}"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4F079188-5C8D-438A-90FB-7B977505DBB6}"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D4EE16E8-AD86-4427-BF94-0A31E5FA6F67}"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EB7A7E1F-E1E1-4416-A53F-0CD885E59C36}"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42879EBA-2003-4BE2-8D26-A37A1CE2E982}"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AF4A900-7C6E-4711-8B56-CB8F53DEBDDD}"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2BA751BD-559A-4D2E-A508-0928206AC530}"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70428EB0-C2FF-426E-9E96-9E61BD13FBC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65635C28-55E7-4E6A-A443-257F96E107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B279684-36EA-46A0-8D9D-70E0067EA020}"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B7DE4C43-5828-46ED-9EEA-223798EACC1F}"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20FB36D8-96F3-4C01-8B6A-698A79FABE5B}"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DC1D2FC5-F950-4DE9-8676-C0AAE0475FE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2C2025C6-9774-416E-B9EB-86E3C483EE5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3F6998EB-CDD3-45F9-A2E9-39756BD9F6F4}"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39E5A83E-BCB4-4870-9428-20BAE5D2DB34}"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170AADC3-D14D-41E6-BF2E-764B473657C9}"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D42A635F-24C4-4706-9BA0-E12C052C307B}"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FDF7B9F2-1158-49F1-B566-2251DA0AFC38}"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C41044AC-4FCE-4FCC-A708-33DF73038BB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D6D676-DE55-43B3-9EBB-C38B0C30FAB4}"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B55DF067-B6ED-4AB3-A605-1C9AABDD762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665EBC81-AB6F-4339-AD7D-CC5DEE00EEE5}"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0767FED2-7325-489A-B5C8-3C14BE3476A8}"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EA3AD3C-F928-400D-932E-D54EC9E60D1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5649DE-1280-4E50-AC7A-3BC7C6C73EB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63861F3-867B-4469-9508-8E6EC6A52B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773D6E3-F0C5-4CC1-83E0-05EE7E7028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1598CA5-B29A-427C-B3A9-28A1EB798C2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834FD7-D4C3-4D88-B77F-2ACB63502E3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7AC83EF-8B59-4770-A347-0D907D7FF3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1207200-989B-48A1-8B9E-62DE317EEC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904B678-17C3-4931-A819-1257B5FB68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18DD927-CC62-4718-9145-8127F9720C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E630941-C8FB-4E64-B431-6B647991435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C1A8948-4B0E-4E7F-88CA-F9174B8F5EB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D0BE91A-6D1D-4501-8519-0DEDC36F4A9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0F7F09-19CA-4044-AD53-33611D00EA0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305E6E-92B2-4E0F-9C73-E73084D33F0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81172552-F789-47C1-81DB-ABA806FBD52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A063663D-61C5-485C-A0AE-CDA570FE0D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657635-208E-40DF-B131-F0AACC4D6C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32E08A-6D51-4844-9AAC-2BD866A51A1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8B80ED-DA81-410A-BB89-E602CF56F3C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70C3384-3D3E-47EC-BCF3-9C6A5C1D836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BB02830-DBA8-44E4-8E4C-9DA0C3A46F8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C57F512-F3BD-4A5C-9DC0-CD24D26EAE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9A4BECB-A90D-4D78-9BD5-5D89F96FD8F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EB196FD-E89D-43F7-901A-1AFA98A3F90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97588C9-E9A5-4607-97CD-388780D10A0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D7DEDD18-7933-4E54-822D-057DED9AF54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C183225-0F1F-4816-9D4B-7CB66704A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E4CBEA6-5966-494B-ACF3-9F439D67C3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3CFD2B1-C137-4052-88D7-EB526BB67D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EC9D744-838E-430F-B5EE-25458FDFDB4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4ABDA62A-90F7-457E-9AEA-F4E77E8858A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710C077-2AE3-4E23-99F3-0DB1C86A38D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86442264-DB42-415F-81F5-D886C0CB22B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F423B5C-A249-4BEB-A144-A808831FB07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9A92EAA-65F8-4803-87B8-26124F03894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06F879A-B9AE-4A8E-813E-305227C784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1801A8E-86D0-405D-9167-7313C8D76E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786A0-F11B-46B9-B738-8B5799DD820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4F2EC-0CED-43D7-AA38-B520AB4830E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779561-6ACC-4C6D-8028-4782C19C80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FEDB9-CB1F-44C0-A7D8-8D938D1700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B24A9-180A-40B5-92EA-83943D2473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6FDBA-C2B0-463C-B11C-6CDB00A3C7F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C4693-E974-4568-A627-91D2FFB53703}"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B2CD8-6739-4209-8FC6-48119FD99C4B}"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29436-84F5-4383-8112-ED6BE87FDFF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25CCF-661C-46A7-9C81-5A161AEF293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BACE2-E718-40FB-901E-4D8111FDCCC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5D288-24A3-4E24-B638-D51E2632DA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84840-21B3-48D2-8759-96DB964BE75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7CD71-C97B-4217-B3F8-5AD4D84A9AA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8A2B7-44D0-4E45-A805-EDDB3B5A5E1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7F651-7235-4B6C-9FC4-E60EA82B758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859E2C-B632-456A-BC2C-D6BDA0C761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B439A-BF06-406B-BC93-360B7750187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05978-1CD7-443F-B4D2-D4416024495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F977B2-7A38-4574-A4EE-5FE1BD1068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B5F1F-DC54-4212-B1E0-8B9562B3B4E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F48A6E-6060-4183-90A5-3B8593CC9E1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7132CE-B3D6-4B8F-B347-35057A37130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26180-EE6D-45BC-9692-5CB362FBE05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A074A-B43D-4D62-9D2F-996FFBE83606}"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6D2ED-03FF-4118-93C3-8F193C9B4A12}"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313EFC-D3C8-4037-9035-D0DA2B695B1B}"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CD8048-619C-47B5-A294-739B0E5CAC60}"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AC1A5-F74C-4C40-A926-0851155892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CDF674-E3BA-45AF-A73A-A3AE0224CD0D}"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CD0F8-2146-4333-A62E-7226E9EE0077}"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A85CA7-6133-40A1-8326-4A1C0CAB8E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AE1009-E459-4CDB-83F9-4269D54635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D6239-64C0-4811-A745-36AA3100E62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06B76-2DC1-437F-995A-5E5AA12BF57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D83FC-0F06-46F0-BBF3-0407EE6A255D}"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2ED220-B21F-46E2-85DA-EB95E3E4128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1F09F-C94E-4D33-B096-84171DEA0B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EFBD1-EF96-4D78-A05E-5FDD07722A93}"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63504-F8ED-422E-BE97-6F0CFE97B537}"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7988F-2429-4034-B492-B723E3201E30}"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5A0D6-B435-4DEB-B066-CB157AF2AC5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3FF2B-951C-4E30-8D86-6187A2E4BF2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3B4A5-D0FD-45D4-B55E-DB126B23F8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DD512-91BC-47CF-A5D2-C23AC34B2D7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5EE21-F40B-4E20-8996-A55B75CBEA5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A8263-B55B-48FB-9FCB-C8A48D47B29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E44AB-8A2E-4C62-BE77-57DD79C539D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7942A-4C22-4946-8F20-2E2C158101C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F5172-94B5-42F6-8F46-E15918F97DCF}"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537F3E-4213-4119-9107-7B19192106F9}"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9678D-2B8F-46B3-89E4-639A2A4BAA2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D7DAF-2C44-448B-945F-D0584BF4252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79468-57D5-4E25-8D83-EB0CB8D4004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2B944-3357-46CF-854F-AEFBE103971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2A2988-9B28-4B77-A268-75A61E4A86B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8EC48-A58B-41FA-ABB5-75128B5E5FD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