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2D0A0-194C-452D-8455-621953D23D36}"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138C8-6B87-463C-9AAA-EE2BC16CCED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C3D56-C3C2-4819-BC34-74D0D4781FF7}"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81A68B4-68F9-4A14-A579-3E1BAF5EF0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E5BB327-3EF2-45CE-B835-C586B7CE75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C53BEA6-79DD-4967-93BD-84EE77BEA9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D4E0770-013D-4170-B7A9-8EAD038D81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701F582-ADC6-4ECA-B8CF-86F2CE83E9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1CA26A5-15DB-45D3-B8E6-3999A8AA66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D02C2A5-C798-468D-87F1-B4F09AE2BD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526FC3C-71BF-44EA-9E4A-5A976433FB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C62A6B6-576F-4C3B-9CE4-5724C179A1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1626E7-1917-480D-852A-3C879343C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7ADAF07-050C-4CA7-9F18-5F69D7D785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7B41CAF-ADE4-44DD-AE00-D3EADC03BA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B92A493-89E2-49B1-B099-EE7A6A59E81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0A87B23-AE99-48D2-810D-289A311ED8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65F730B-9913-42B4-82CA-77AB818F256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CA58064-4CC4-46BE-87A6-1FA9FB14FD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24581CC-4F43-44C0-A45E-AE6F4AEC8D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B35DBC9-7053-4FAE-B5BE-42BFA2F0B4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9AB7120-DA0F-4174-868E-E09EE70725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EF9B1F5-E7BA-4272-B14B-5F5167C81E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0A883C8-C83B-4552-9901-B2A2222F51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FEBE51C-844D-4AEB-9CEC-4D082AE755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EE5ADA3-1371-451A-A10D-235CAE26926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B31EC66-2B18-401F-A158-9A0C86E1195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B5ED025-11FE-4CEA-B7F6-ACDEF6AF838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2EA6DFA-0BFE-42DF-958A-4CC4B60B2D8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C8268B0-52D3-4BC1-AF98-87D04C19C41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A7DD9E2-1108-42A9-AA41-844FD403AC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D1A7B35-80AC-4F6D-91BF-A395062ADD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2B73F5B-479E-4A83-BD9C-5E0D785263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67C872B-38D2-4839-A152-41E06B18F9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1C242F7-A09D-42A1-918B-1D0589E21B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E5BBA86-D53B-4BB3-8901-08CB8B3EBA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1D4BAE1-CE0F-491D-9140-895574798F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2D7591F-2360-4ADB-8B30-3F7ED16626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D13708D-D2E0-4985-B6E3-B1043ACB60D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8303F13-19D2-4253-B098-DCB04AA14B6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0442E2A-59E8-42AF-92E7-90439893A7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A73E5C87-0295-430D-902F-5F61ECDA021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1B39744-0791-406C-B4B5-A95BAD71B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D881FFC-0B8D-4325-900E-67E879BEF5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874B73E-EC92-4AB7-B248-3053AFB91C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230017D-D27D-4771-80C1-B815EFF770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C801B43-4F55-4290-9EEF-2E3679F021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E9B0697-F33E-4A90-B9C7-E68BC356D17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FF0D3E4-8E86-4B56-B6D9-26E6B8481D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1B2AF62F-948F-4DF3-B44B-0BD6C6A9781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49AA87F1-AC9E-488A-9B11-CB6E8B9C891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2D7DA3DA-79A0-4202-B7B9-2E19A0548AC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634A34D2-1F36-414D-8833-CCC3156425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F397831C-34BC-4B72-BEE1-8C2A724C4B4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4CD7EF4-FC58-4FAD-B5FB-194C8F7F40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B03F53E-092D-49A1-9FDE-C36962F8FA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47DF103-2135-4537-A856-DB20BB89964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2D9D007-6C9A-4C70-A633-F5CAADAEA2D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15652355-6100-4C97-85E1-15A459614E5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998A22E-B723-401F-A785-595B9C60E21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7479C6E-D8AD-4538-804F-600DD853EB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4F03157-1988-4131-AB2B-404FCD7499E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07256E2F-9237-4FED-B3EA-193A17997B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3655828-84C4-4767-849D-3EA22A78A7F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D2933418-A68F-445C-98B0-9DA04BB2673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EFCF29B5-DABD-4721-B9B6-4E7E7741C42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F30B6B9-3DD3-4E83-A360-5D68C2952F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B130079-5C57-4824-8ED0-BAABB4347BD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EFA7B2B-5C13-4027-97F5-29E57F6FC7E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76FDDED-2624-4475-B289-32F502F74B2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01A0CC98-DB25-4267-AA70-7AB3B0699FE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CF203B37-BC0C-4C48-B7B3-A69A0A3F84F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8C030FF-231F-4FC2-9458-93E03AC44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AE936C5-2EE2-4E86-B58E-E9FD3BB8FDC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0F71DA2-C474-4954-B290-0C4F3C55331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671AC12-26F0-4B39-B183-F6D03513598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45451D7A-ECE3-4D37-881E-215F42B0B7D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7F3AEFBD-E809-447F-8E3C-E5FADC86639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63AB0B1-7323-4815-BD6A-539DDC5511F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97B9D9E-E11A-4505-856E-14A3A05B47B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6CE1930-65BC-4CE3-889E-6C0A06535EB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88949564-210F-4A5B-94EF-020A03F86B1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58DC1699-657F-46CB-93FC-9D76786427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129DEEB-EA1D-420A-8F59-B993571F122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31462CE-1FCF-48C0-A0AA-F339C9C9FE0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E975A5B-CA43-4105-A1DA-759F791039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AE6B2C-FAD7-4F61-A243-57F8DD9C92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9B81CF0-34BB-4DEF-9A4D-64D0CA823E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C4B615-8F7F-4169-ABB8-174DF923F7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C58209-48BE-44E2-931B-04BA0FC6F5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5CC98D-0DC6-447C-8EBF-B46356B35F5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8F9230-87D3-4B43-A420-923415734E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951A29-1747-48D1-BBC1-12DAE65E36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F38A8E-18C2-486C-BCBA-20986D6867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BC2EEEC-06CC-4E3D-B4DA-8AA2356364C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D43A78-89E7-440D-8C73-29E42CD414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9E15BC3-370A-449F-86CD-5D2B1DEC2B0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CC69E4C-6F56-4BAB-BF71-72ED70BAA19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AE2C6DE-3FBD-4A61-B6A8-FA5677CBC0B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E5ABDBE0-5695-46F2-8B09-AC63EF332C2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5BBF2A20-392F-437B-A45E-7DCF7BDB131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237CE683-8CB6-4476-B28F-E5613F3D906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D7325E4-AA5E-483E-80F9-8688611AF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73D0D53-DFE8-4FCE-88F6-9C80E4E360B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7B66605-098F-47F4-B87E-5ABA068A807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02D554BB-77F9-44DB-9B30-E99BC03A825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675487A0-4C0D-4C50-978B-A515CDCA54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44E95A82-8E0C-460C-A1D6-C0809ABFCF2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5FD944B-7CB4-4BC6-8C0F-1D96AC038B1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C00DD104-FBB6-49C4-ADBF-EE7CE24825F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9AD39A7-8648-47BD-9FD5-2531BD23D56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F04E8D8D-1CAC-4356-AB1A-DC566B31053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B833B459-58E7-401D-9E80-DC44910F3B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6EFAD898-E2BA-4727-BA95-E21302FA1A6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47B8AE5D-D026-4DE8-9DFF-19387C8B8DB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265FFF2-2D1D-4743-8955-910CB86960D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DF4BDF5-393C-49E8-8A57-1FC05B75ED1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D5B2B08A-FC8B-4C7D-BFA5-D0CABDFF971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1C0CC221-B032-45E1-A63B-5398367BE9D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04C644A-6A26-4B9B-BDF2-01358BC2D3D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89C12C7-897C-4BC5-A4B8-2F18E8BC3B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9CF115D-E4C1-4145-AF85-565215A8439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1201E5E-71A2-4E10-B8D6-134F9697EB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F05EE05-F8C4-4BD4-8347-31E8F1939C3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CABCFFD-D7F3-490B-980E-A3A3150D455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647316D8-9DB5-476E-B14F-F88A68B3889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0578F5A-8B94-4E11-B4CF-62EE92C97FF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8DE72AA-78B0-4AC5-862D-E9BA2BDBA20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BEB477E-91A1-4916-95B3-146D1AFD634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0003512-27FB-41E0-981A-87D5DCD2089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53D82387-0485-47C7-8A93-5491DD7D25D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CD7A032-8E07-4FDF-A937-16EF5A635DC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76FF1B6-36D7-4B64-B87F-B6F8BA7C9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88C74C1-C287-4E7D-A3C8-FFE5632D813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7F73F65A-497B-4046-8797-3F2B69EF332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C43FB4F-389E-48DA-B8DF-9EA6C6AD849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8181D543-5B79-4118-A3D5-C410C2126F1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AA976F3D-6805-4B53-A692-D57738542F6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C2B57479-9965-4A9F-9FC1-A118695B19B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1D530322-29DA-43B7-B866-D4D3BAA0CBB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BCDB33F0-C874-4027-B9BE-917B0904EE3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501D22B6-4612-4B86-82AC-0BA07145B2B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D6B920CF-6AAE-48C3-8D76-CF6D45B2CB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39DA0606-1040-400A-BDF0-737B718197D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788E0ED-2B54-401D-B163-F5C569CE5FA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1D15713-8D97-425C-844E-BC28183FC67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1CAD121-2DC8-43A0-809D-C004F4FDD17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7D28BAE-419B-4BC8-8987-660F84D499B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053023F1-6605-4DF3-AEB0-B5FF971793A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954E96DD-4EC6-4028-9143-6B5F4DA9E8F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C9B4473-FC82-4EAC-99FF-497B5D27F39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8B30CD4-3E6F-45C4-B510-F25701E9D29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184164F-EE4F-4F39-8CE4-2DB23740A0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59E8407D-2F31-481B-8CDE-6E172521152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B17D4475-0A99-4DEA-9724-B7D96D5374A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AFA692CB-81FC-46BF-9CBB-5699A7D7631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968C0B0-1240-4760-AB98-781FCCE6CDE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A474B7E4-4108-4F53-A3A6-F13D67013DC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3A45810-FD41-4E7E-BD3B-91BF83EEDA9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7AD8A728-F464-412D-85A7-7820FEA7512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6D98132B-D9AF-4E27-9200-D7AF1C4917D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06A66EC6-CAA9-492A-813D-EBD7C1DA281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D0803A24-7576-48D6-BFF0-FF2D2BD8A5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B9DC7AB3-FE46-423D-ABE2-0F105DD2399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30344D14-83EA-4DEF-BB35-523FF465211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A821C25B-93B9-4983-8237-61974DBEF24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02DCB4F5-C218-4FE2-B920-6893CA509FA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8A961DE9-4C0A-4AA7-8A4B-47F4262B12B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29038AF-1B35-494F-936A-21804E96861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193657E-5CE5-4BE2-ABD6-DE2239BE965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5025C17-5D43-4E45-A017-9175D5569A8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78ED283-FBEE-4075-AB5D-5000AC7B178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1E450CC-DB16-4DC4-9214-CEA491D260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5A09093-A927-4095-9404-AD816E28FCD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A20979C-05E6-454A-A894-78B0B40D773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B934E86-D220-4320-BD85-CA5E75885EC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A6A2932-B7F3-4EC7-BD43-B0DF3A4A129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21FE6B9-83FA-4C5C-A2DE-0CF2FD327CE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8A649552-FB4A-49BD-962D-290C75C24A8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EB40764-219E-4B5B-A66B-B855477FB54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86BA927-AE54-406E-9187-7768B8970C9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C357271-0603-4128-8FBD-0A5002C1F4E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3D99CC8-DE6C-4F58-A1A9-68F33FA57B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03E95D6-9DF9-478B-A7F3-4D2A566A3AA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589CEB5-C7B5-4177-AF23-F0000533548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7796E3F-2C6E-40E4-B9DE-345D27BB757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EC08CF-B3A1-4BAF-8BFC-89ED63B1493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6573A8C-7349-44E3-818A-0280395383C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F4C3B08-5674-403C-9EDC-CA7E539A14D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6EB438B-48E8-4048-9CCC-FD44410195D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7B93D41-FAAF-4752-8495-2DDBA3A7515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58CB1B8-BF10-48AB-835C-B34606CB04D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0F1D468-F440-4B40-B4C1-9EBF617787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E1CD79E-C3F1-4B8C-890A-4E11BF70C1B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E6E7A06-3E6E-4E5F-AC9A-3E15C1E1FD3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B8F8341-A015-448F-907A-23DB448B810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DCD415B-241E-4940-9A0D-441D74EEB8D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961A42D-15BA-41FA-A391-2E3DC0F8ED1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9EDF69F-9B26-4217-8815-07788473B59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703B796-F3B7-4D86-B77E-88E0D5C537B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2D9F895-27BF-49A8-9783-B99F41FFFA4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2DB3C04-1845-4843-BC8B-68212C2CA8E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238C5475-FDA8-4074-B708-DE431C2812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4EBC44D-78A5-43D1-BE27-09C901DEB5A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6EE9BBC-AA2B-41B4-A13C-178CD52FF37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9B07ABD0-9869-46E3-AA1C-4B8464E1625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348388F0-E274-423E-A357-02A7100367B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F8264891-7FA2-4851-8516-4143BB21CA4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D35B68A4-DEF4-4DB4-9A60-29D6646466E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801A1C6C-13EA-43B1-B913-4C357A746FE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3C6E8426-5C91-4CF7-B2A4-FD172174BE3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368BFDC-2415-490F-B394-9FDBB9660F0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723187D-B0C2-4E41-AD72-D00E9EB6E7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514E8BEF-F2FC-4946-8AC7-3F8B0533FD2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CEAB1EBD-9332-429B-B222-1A188F79199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1A259E9A-2BF0-45C8-BF7E-B390DE1CBCB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E8B950D-B64E-4D03-B5CB-7A649991A07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D03856AA-E9BF-42FF-824A-5EE1A71EF0B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AD136AAA-3FFA-4B55-BEA0-ED8F10400C8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F07A266B-CEE5-4C21-823B-52167DAA33F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982F2E09-FE15-4563-8153-51895CC9F25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3D268C66-72D7-4EB9-A646-2D54DE1D186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EAB20C63-7A15-405A-8772-D056A16461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87774F66-E9C3-476E-A38D-5EE66D25B57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31FD0CB3-63EF-49D5-B75A-C73AA056356B}"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02B9F264-9736-4E7F-ADDF-8ECF3BD335A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69E28846-2AD3-403F-A141-92CD78762B3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AA83B6F8-5BF2-406B-A29D-19A4B168544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5A39124-4A21-4CA6-A091-651943D5C96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18D72B86-D22F-4856-99D5-5D2207010C2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03B433CC-AF4B-4AE4-95D6-5472555DEB2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DFD9C3A-D88F-4754-8406-7433EC20567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1170D335-FC62-4CBC-B473-36FE45E95C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50652858-7AE7-4CEB-9E48-6E0D23D7597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08C1BF16-1275-4757-8199-22AAC0F0DC7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196B10CF-24FF-498F-819F-D1CBACB044B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A086C64-0BB5-45CD-A593-D28DF4DD90E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50825923-CA6B-47D4-92F1-85DB2505AD9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F3093ACE-3F22-4189-8A50-6ACAAF86EFA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9F609A9B-AFA9-4737-B35B-4FB2166D576F}"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CDEFE54-6FDB-45C6-8FBF-4777122B373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AEF4AFB5-EB31-438B-957F-BA930CF26713}"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2CEB77E4-CC39-4946-8306-BA6CD86468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74DFE379-C2A7-45E7-A24C-AA9DB9E167A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F05E6925-2476-4059-A6BF-1C5D661344E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2EEF38EF-A5A4-4C18-AF13-1A03F382D20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19E41932-D144-4CF7-9244-A9CD10878DD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EA5E3C46-EE15-4B0B-AB19-729EB402D16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800122F0-8E71-4EDA-BD6E-0DA4F41B1F8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42A35F65-3FC4-4A2D-9105-57C29630722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36BD842E-7E34-4C20-A9CB-4887C811138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EB343E6B-04A1-4DBF-8D71-5BFFAE55A1C7}"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3C2295B-7157-4BF9-BCA1-9C7DAC6028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768640B0-B6E3-4821-ACFE-C1867AF9C9C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2DC97A82-8DAE-4452-B0A6-D4A4CB2FF98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63141DB3-CA41-4B37-9B0B-B04EAAF0549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6F8DE16E-75FA-46D7-ADDB-B191EA36713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39AB9327-3990-4A69-8D08-33D92360426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61255C69-E6FD-46C4-854E-B3BA411BB67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9D7C91C-95A3-48C0-8B10-A17B74AE250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59E0E9FF-63F5-4C2C-80F2-451003038C6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43219CCC-282B-4CC9-B2D1-57ED388ECFE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AA25C216-A56D-484E-956C-632C598E96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0C967F98-03B1-4EFE-838F-34C40FB94A6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030C154-ABA6-4628-ADD1-97CB31247A4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38584457-612C-4D04-8974-678F15FA8DE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B41B5926-D87F-4388-88CE-3CE909219E1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05EA7817-6182-4A21-BEB1-6E8B9AEDB28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D0241026-986A-43E2-A0B8-B644B061CA0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34EC0B39-6257-47AE-BE6A-3302B3FB994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E84B79A7-A58C-4049-807F-044A79664D4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601B53D0-A031-4EF8-8B8C-55BDF401A7E7}"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013ABD48-2A0D-4C23-9A6F-AAF7EA56E2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08F48-399E-446F-8EF1-4F1F4E39C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B7E315A4-E41A-4DBE-A09E-A98EDA6B657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9C7071A0-61DA-4ACE-8AE1-8362E3103A8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36FC26D5-F707-4CDB-A639-3F3E17CC7FD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A2FBCAC-0105-4921-B1B0-EC8366597FC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C5346580-6B92-4A92-AF55-F7B5FDC8667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F711FCFF-0A68-4BF3-A946-50FA761330B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25B74AAB-F9DE-434C-844A-E7D6C16BED7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8326A7AD-4E38-4EB6-98A7-78215188102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A0B1D90D-31E8-4FE8-B9EC-071C09A4B5D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BC602D8E-9B7F-4B2F-A6C6-D7C22B776E2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76C5D-421B-4F2B-887B-C70EBF43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81DBEDFE-2075-40D3-927A-7928F44E5A7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0553A18-1E35-4D0C-ABFB-44C9DFCD9D4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74C86DCB-2789-4CC9-AD9F-8350912D156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BBDFB308-ADFC-44D6-88C9-8DAADB2C8DD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2ACD7CE8-894D-488C-AB4B-D891825C28C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D029A9F-69B0-46A7-89EB-5896FB4F970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E88DE6F1-E17C-444B-99FA-8F569952C56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95531261-76CC-4C42-ACE7-E1FF7E516B6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4387BE10-9D78-4A59-861F-44B9DEAD0CB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011FC05F-224C-436B-AF8A-4A9CCFD07F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CC3C-ABCA-4D94-8D8C-41E6114C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815E4660-21AD-41D6-A4FA-CEC530EEF469}"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CA396BB-7935-413D-B0ED-BB0624F6E9C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1D2934F-3876-471D-BB84-671B832863D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F9608A58-9758-4EF0-9752-079EA10C9D9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516E0E4D-4BE4-440B-A03B-AF604178E8F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A9C85DD7-FFC0-4087-8C2D-F0A7AB880D0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513FCBBA-A250-439C-807B-90ABBCA309F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95AFB9EA-2CED-49E2-BE25-1C5CD38B113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A0473CB8-6F55-4C4B-9E63-BB53BDDB124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E3908339-AB6D-4093-88BE-462EE50F3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C348-0FDE-431E-BA03-46986832E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F2296046-0767-416E-847B-CD522AA8715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7E37FB25-E355-4F5F-9A81-B8716122AE9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F8C50FB9-5691-4BCD-8FB3-4723B328CC1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3EC0289D-03CC-4722-A4CE-6D6CFEC0C53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43796A8A-2CE4-49CD-B393-FF76F86396E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D99EC7DE-A915-4E3F-80B0-A831FBBB032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9614B594-6D45-4430-89FB-9447C2E260F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2C5B6606-B067-45A5-8949-6C6B6C139A6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70531777-8F95-48CA-A0DC-B538C3B094F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9A976CA-47BB-4FEE-B146-823723BF04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69F02-4202-4143-B9F5-C852F95B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B5B3D95B-7AFE-4F88-846B-356ABF83A33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BF412F88-C191-42A7-BC0B-4EDC3BD72DE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7AD92A08-956D-436F-994E-D83C5F3CD40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CF5FEA9A-9882-4014-9AA7-FD670CB8F70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B545E12A-251F-4F84-9805-72CFECE5402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909B0D5-ED6F-426D-8213-DA00C8E1D8E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762E1F95-BE53-4621-B500-A6EB2BA0E53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52856AC5-6C73-45B3-A7FD-AF1CDBF178C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CA5E6AE-C750-4C1D-B6AA-80382875EBB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A4965B5C-F498-4361-BB24-F07A27B540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060B4-3C31-4589-BBF5-8D73A5ED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E2F13CBB-4133-4DA6-8D49-FD0F0709C53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F34AC90-F702-4E4D-BCBC-C178465E3AEC}"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9B91BC5F-4ED4-452E-B45E-B06A8B12AB2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3614D953-D937-4839-869F-CFA00B85490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C4243CF-3712-4B70-96CD-CF2A1FF1CD6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5998AC47-0FA7-4514-BEC7-3409D407953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EE91DD0A-362E-4159-9160-40166CE3DFC3}"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855DEFD-DFF9-42E9-94C2-D77EE97021F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F681812-6979-47FF-A4DF-2BA4F2E76A1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7C08C67-B7D8-4913-A7C9-E2611EF7C6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07DC-4485-4E8A-99D6-56F6B09F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3473435-4D77-4A4C-BAA0-0D147D0BA48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839D6155-530C-4BE0-88AF-6DF7E5E7065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1AE48689-9890-4478-A021-9222BBD563A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341B702-E7A1-4D19-8048-0FF2E5F76F8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DC0FD058-5F9E-429A-BE6E-F77045B3A6CD}"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CA9BED0C-16E0-479E-9748-5BF74A1088FA}"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BD42062-2DA4-473A-804D-C8551245C0A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16BF4F7D-C7C3-4BA1-A0E4-EC67E4D6216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C083F72F-F5AC-4520-B97D-3A0287445B7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8565E67-AD52-4E91-A88E-AFED8689BC5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6EF5-7C01-45E2-A10C-1114695C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9AB3C9D-3009-469E-AC61-924DA55A96C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F8CB788E-CF86-442B-A715-7391E6D8E08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561BD4B3-5893-47EB-9F30-426A473EFF0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0418D80C-D237-43C8-873D-770347D66F8E}"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81AF24ED-C1CF-4697-BAC8-E196A5E13C61}"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D6DCBB5-2944-421E-941A-2C66C6CFD665}"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B2BF5D37-6866-4B2B-9BD7-37271BED8B7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ABF2E89-4443-44F7-A69A-7946FF98E379}"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57253464-50A7-4B8C-AA9C-C82701F8DCB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8D4B0B43-8666-4948-BBDC-AE64344DBE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E689-C853-4852-BF78-139D6DAB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754FBD5D-95CC-4581-8251-9C6560E2698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1AFD8032-0328-4E8D-86C1-D5520405FD04}"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2DAE36B-AFA7-46AD-9CF9-B3B8E5ADC58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F997D4B-6F18-4FE8-B040-6AEDDB442DE1}"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2B85BE58-7385-4BE4-A3A2-E0DD62999132}"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1AC7AEAE-F7C7-4C36-B2AA-4CEBCE9342C8}"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EE07656E-4D58-48BB-81BC-F1950E737F07}"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0739B39-C2A9-4FB3-9447-AC109B0C364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B5A3ECD4-724D-45C8-AFAF-DF2F3C02940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BBFA7487-0FF5-43C3-9AE8-B4D8FF30C46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EBF77-28C6-43C4-877E-E3EF246B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950E683F-11D9-4787-A7A5-6F4629852ED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0FE7B68D-FE8B-4CEF-8E02-8F8B4D0F425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397537E1-BF8D-4B56-8573-5DC946673A3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08115BB4-8560-4937-9157-4767C28BA12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285D8F5C-1809-4C07-AEFB-F70EB41C4BF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31463DA3-8F30-4DFD-BD97-29B63B355F7B}"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B0AD884C-C287-4B7E-8585-D17E2B6077BB}"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BD1C660A-B009-4778-8920-16108003941F}"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03DA1FA9-7DD2-4F2A-91B9-3CDBE48EE82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7C2E479-7B63-44D6-941C-0373AD0F873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AAB6C-7402-4F65-A773-D4E6AE7B7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66E0152A-C591-4AE8-AF19-24178594D19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8877EFC2-48C4-48D5-AC2E-D38E373D94E2}"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4232CE28-9831-4F85-ABE6-76C34924C35D}"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29F2115D-4351-45B8-AC53-86F561A04D36}"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229AE213-53F1-484A-AC93-C4EDC95A7CDD}"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005B0503-1E45-4F76-9BFE-1C93E40C111D}"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6115090A-20A7-4C08-94E5-53C551DC312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0C763347-5F9E-4E4B-8BD5-6E8DA2CA2B7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0548609A-DDF3-4682-868F-F61E5C39BB10}"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C8FD833A-4BE4-4CAA-943D-E8AD84AC26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7B4A8-ECCF-4346-81EE-95C6FAF70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F1D446DC-5E09-4202-B399-82AFA3D6908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26C0EBE4-2453-4364-9408-2EAEE81F8EE7}"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B7EEB6E6-F8DC-42D4-9453-594BF1FBE88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905F44A6-76D2-4226-B43F-E4B14A1D4D7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B9727075-C565-4526-B5C1-D1918135E1E1}"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ED4E6648-1499-4C50-9B40-EEE689C4A1D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6D69BFAF-2880-4B02-B88F-FDD60DA72B09}"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77475E60-716F-4529-8B1B-F6F470FBC8B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8058353C-E1C9-474E-99CC-D717BAC2FA2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3B998A77-7C77-4477-B512-D1F2695E90C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EE3CD3-93F6-4D63-8405-A145CD990E5C}"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B69EE778-8299-4F3C-965B-EBF1F1FFEAE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80074BBF-BD02-4C1D-9DFD-320D60EE8E1E}"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A56BCF97-4028-4E1A-9A30-FE32F10A36E5}"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6177C1F5-AE38-4F58-A632-AEC90530116E}"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FD5C01B6-5F22-49E9-8D19-4C301526866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B1DAC30F-D2F0-46D6-AE49-FBFD7E2563AB}"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51E482AA-3770-42CD-A857-8BC1160DF1D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AC52517F-01D3-4C72-9BAE-A6DD67F3F178}"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1C1B26CB-A958-43CC-9C17-64EDB310FBA1}"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E56AC93B-DDA3-4CA1-A593-4720EB516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6E8206-D526-4BB6-AB0E-3B6FF45AA4C3}"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E956672E-5E6B-4A44-A6EA-57916FDC86A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CAA2BB7D-003A-460F-AD70-605E1476A91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70DEB231-3BB3-4AC5-A88C-0F266AFD6CAE}"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8D9340FD-9D47-4368-ACC7-14664AB445B8}"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DF30A7BB-61E5-4E1C-A782-4A552296553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370CB8FD-3A3D-4F50-8D20-70F2A29C7AF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92F711FE-9D5A-4AB8-A846-12C01A018A47}"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181016D2-DCFC-44FA-8B56-9D96C8E98749}"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3DCD37D9-5760-4E0C-AF7F-CD505A32038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217F80D9-CBE6-4FB0-B565-05F1723BA1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6CBF36-9D27-4D66-9EC7-AF8D36C3CBBF}"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365265DB-C5C9-4827-9E8E-EDF201A96A8A}"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9B2D48E7-E4D9-4734-8FA1-1AF53A44B2E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493C3B54-EB15-4193-AEB6-0F6133AA289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C2D0A1B5-8F0E-4DA5-B9C0-837742A42BD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287B9D46-1E21-4CC7-A884-AE89510B3EF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477CF5AB-6E59-489F-916B-96CC7F967823}"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EB81AD7A-234F-456F-B29A-B782F11B77B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8E56190-599D-4B1D-918B-CEBFB31DBE0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B9B19E59-1F95-4237-ABA5-56E47979933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A5BB7426-4FD6-4899-8E83-23DB801FE8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2F69B0-34BC-4AB0-8FC2-1F4C7E165F1C}"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4C4F74A4-19C0-4EAB-9219-A21FEAF85C08}"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A25874F2-37E3-4BF7-9D71-1656F072D727}"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63BADE3A-8046-4B79-B846-E229373E78B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94B9270A-8052-4AA8-9C0C-A26470DD6DD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0B870938-68F7-4F45-8CC5-94243710AFD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3D916A5F-9ED5-4733-A262-4143A1D24060}"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7A44EFA8-6C66-4A64-926C-CF76CD3EA010}"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5D9094B7-55BE-42EB-9CE7-9F3E53E3D565}"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D2A88EE5-876E-4E91-AC46-C9F17E9598B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F58D72E-7909-4A49-828E-CAA4FAE928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E1FFD06-E368-4725-B20E-51D81B3F76B2}"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F65C00EE-A443-4004-B661-B18CF8F8CB0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4376B7BD-01AF-4762-A6CD-DC13DCC31AAC}"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C39D6176-951C-497E-B4BE-14A075F1F68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367A8CE8-5BB5-4BD2-BB2B-FE7CCFED2F2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9626E0C0-A5AD-4D73-B969-C782E690A0AE}"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85D91CA4-937B-48FA-862A-6EC5D4A03283}"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A72CC65A-06AA-43F0-A1B3-4A7FB48A918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7E8689C-EFBF-4D6D-86DB-AD8DFC9C513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88A17581-3474-40BF-86AE-9C448B97318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1F13FF13-AA12-4731-BFEF-25CE08E84DD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140117-F8C7-4502-B699-A7B79709CEAB}"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24E30789-618A-427C-A3D3-91611299AF66}"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5F40FE8-5F7B-46B4-AA27-29E1AFA61F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5AC8950-EEE6-4C11-BF91-EE108DD2D0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F06198C-716A-4A5E-8A90-9D082DFCA4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C63A38F-3321-465D-9E73-D6569943B4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F20CDC1-96F5-460C-B154-C723635F86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977F273-F560-4421-8F97-2E56326281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8B8E369-2045-49C5-AED8-EA2B3871E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DF4423C-5153-4242-A585-5FE699442F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B2904DF-7F06-4D4E-A612-DD9897303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B34A0D-08B8-4017-BD2B-DFB3AF060263}"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58F5675-1BD8-4265-B76A-7B47161BCB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DE17998-1D6D-4F07-B75A-C7F5F0BABC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CF53A95-4CEE-4A5B-B0BD-B078536288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81119B4-E12B-4461-A09E-A12EEEAB1D6C}"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E996FA20-6646-48F8-BE73-4A1D6272D61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52CADC69-3298-4E5D-9DD2-A8867846AAB9}"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A39F5EA9-B7C2-4237-86B9-9CBC6501C8E2}"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99E3E1C6-1B9A-43EA-B2B4-C222D3EC3F04}"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42EF6899-B060-455F-971E-8F93E68F3B63}"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1F79B67E-D3AF-43B7-873A-311FF76196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6ACD43-20FD-4249-AC47-E164E7F7D1FD}"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3DB094A-6A28-458C-8C08-8C31EE57C0CB}"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371D0744-55CF-44BE-9F28-E2EBB702008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C70B999D-4256-4C90-8981-041D2E1FD5E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2F057F5C-300D-4259-94AA-1FBD1BE93406}"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9A7D75E9-98F6-4234-A5B1-680821F83DEC}"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6507A6AB-21FC-4495-B469-60FB60D3A625}"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87BE8B8-AC5E-4E18-825E-EC59034093D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46CE419F-BD88-44E4-95D2-6527A43EE0AA}"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3F40E839-9014-4BAD-8E03-9DF2198A4835}"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23C7AE9E-40B1-47DC-96C1-4E0793B5FF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D8891B-54B4-4CC4-BD14-A816BA37B53D}"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A12EF612-1BC4-4270-A57F-A1925C0FA79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BC611FA-081E-473E-A69B-D52386DC36A3}"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785D82B-1768-49F6-B2D4-F411416E93C1}"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92C19889-193D-4EDD-B482-46CB86CD9C19}"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33CBD6A1-7B51-4484-BEF2-D3459A977164}"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DC628436-4D68-4C98-8E93-F13626FD3998}"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077EDB82-2131-4784-A1EE-A2582D82615B}"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684FA52D-D708-4348-A87A-0AAE137D7F75}"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190CCD79-67E9-4F75-B209-B2DAE371858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A25AA91B-8255-4E9A-8201-69825AE0AB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A1CF86-E913-4298-A70F-4C4FF3817E90}"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48F8EC61-7DD8-4553-84B9-62823B4F9FAA}"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2964DDF4-060E-4710-A268-58B56419607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D77EBBA0-B050-4433-B5B0-688014D5A317}"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85740A72-3DB7-4347-A5C0-F933E7F64075}"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8E32B9CA-3CB4-4B8B-AF7B-71B6E38AE48B}"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2B8C4484-8BCE-4992-8993-9052E3A713CF}"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6176B8DB-353D-45C3-8F7F-EC9F1EEC5CE0}"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C2212BD4-CD15-45F5-8A58-6991A76062D3}"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C045A5BE-A87D-4DA9-83B2-E99631A16DB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ADBC18F-4DD5-45CD-B6F3-476E8F956E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7478CEB-3AEA-41E8-9BB8-871ECBDD5ECA}"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4F717EF4-81D5-4C04-A799-144A3B4782E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19E75D3-7B77-458B-90E4-5FCA95CB16D7}"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326B662C-2A28-4391-AEFD-6DC48FF1A234}"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BA9AFFA8-C761-4315-9B4D-2005CC4B2D43}"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E502F776-7F12-40D6-94FD-A7F3C6DAA05A}"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5DB65CF3-A3DE-4149-A224-F7EFC8D94E93}"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1B6B59F-A2AC-49DD-AE74-A00EE9348D1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5C33C77-36C5-4145-9BD2-A5DA56D2ECAC}"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DFD3708D-8B08-48D1-874D-C95C346529A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FF0647C6-C679-423F-9A85-0FFB61E9C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5DF9C56-7809-4C45-B6CF-C44A42444A8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3956C486-A0F4-45E9-B27A-0954108F949A}"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C89AE36-71AB-4892-B81B-5BD454A4C377}"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1BEAF91-8842-4202-8CEA-86A93ACE73F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28CD8F4-8652-4AA0-A37D-402D622D7A8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D7C1B94-C560-4CBE-9FAE-95F60D76288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A665082-38E3-4DFA-B85D-82B844341B9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9F0DB92-05F6-46AB-8504-F84CB1A6FA3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853F52E-6B44-4E0C-AECC-918609934FF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0E76918-C56B-4DF0-8AFB-23E560898E4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8E129C9-D9CD-4C50-AF05-6E607AE5B0A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5B0038-6989-4180-81D2-F812220A35E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753B47C-8640-4E12-A647-3E0E83B5579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EE0FCA6-13B8-426C-9E8B-81165A25342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CAA614E-FAB6-4BE7-AEA6-754727A4989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2B3A3A-B674-4F26-BC63-10C702DA86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79CF29-389A-4E49-B0F0-528FCDCC7F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D2013B-8581-4EB2-93BC-13C3A3BD58C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9694093-FAE5-4471-9D30-2D4832A553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B0B970C-95F3-46F3-8FC2-BF5A1187C78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FC08F0-FC50-4BCC-8570-72D40B9728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AC710C-A763-4D2B-A54D-39EA6A5E28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66AD80-387F-4E21-8CB1-B282050ED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AFF2E8-F7D0-408B-A6FA-F046DD792E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980609-A4D4-4504-AFF9-79DC4EAADB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86D61FA-3287-4FB2-98BE-9176FE5870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6C1425-8FD6-477A-92D2-1B2A0344CE3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234557-A34C-4067-B86E-1CC76B8D81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C66553-F374-4196-9B66-83865EC70A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0A5585-6E5A-4BE5-AB4B-01D3FC7B42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48ACC36-BA2C-4A0D-93AF-447E756726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206D51D-7B75-4BEB-8716-0AEAA96110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7672A6-0760-44A0-8025-88C16C32F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CBE051-9363-494A-91F0-1DA16AADC5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E45DE5-C1A4-4A2C-B148-EA2A1E6069C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F04FE1-B7AE-43E5-9DD0-7DE6A8200C6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34EDA14-8778-4E5F-A523-EBD5F31B40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35A13BA-C4CC-4AC9-8019-EF2A827263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224CE1-B1E9-4216-A89F-871467B5C0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E62C4D8-154A-4121-8CFC-DC02731D7F3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CB1662D-F14F-4D7F-8BC0-8F9FA923F9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68B9E73-8240-4851-972F-F18F536B6E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705609E-336E-4D49-B34F-63D69E5B4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F0430BF-F816-4660-9538-E97256A223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877A1DB-71D4-4E8B-AAE1-87937700D2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8C981F8-AB7C-4E81-A2E7-A4A6C82494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13A1B9B-6313-4E2A-A182-51143FA315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DA715B3-4213-4308-8C1E-A360663080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BB66553-DA03-45EA-BBB6-77B4C89EFAF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E6322D8-9536-46C7-B310-F033FB74A2A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54CAA6-FA0C-4908-909D-C047E0AB97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9FFB9BA-8FC5-41F1-836A-C6C45B0BBA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8A00C63-E333-4235-AE4D-E576FB24AE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59C46-495E-479D-A1E6-A11553E356C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FCD44-7AAF-4514-BB59-81FEA5C578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61831-8B8F-4F5C-915A-5F73E80DBB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FEBBB-889D-4F0F-A986-85BAF75209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2B491-E4B9-49E8-A0DB-BC0520EC47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D36F9-55E2-429D-B9EF-5347402977D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0C1F4-37C5-4A11-BFE6-0E09DBB7136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4054A-8121-4C24-B308-A2712D9173E3}"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A9C84-E6B8-422F-9350-5375B27D131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FC2A0-EAA3-4A1F-8EEF-F96564EEF23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5E123-6D82-4894-8CF2-EB6641F2040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F7F96-F054-419F-A17C-BB0AB84A96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5C4A6-33B6-4E57-A1A3-F9FF4977EE7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0D0AD-C336-4DE8-B0DC-9E77611530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A1CC3-E018-42D7-A2A6-B6A4E45456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CF211-310F-4AB6-BA08-302ECA4597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E2F2A-7D72-45A9-ACCD-773438B9C7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EE4BF-22A1-4F87-9689-1A73DE7995C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433C1-3AB6-4DF5-BBCA-0EB6E7043B1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E45F9-8DB0-461C-84FB-46FAA490A3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B3F25-C276-4A8E-A4A0-AE734555679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B6704-0B41-4C04-A13E-3B041E7CC2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C6D0D-DC7B-41E1-BF3B-8958CEB2C84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1450D-CC8B-418E-AA5E-7F256B2695F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C71DC-67C2-4B8A-B3F2-E7EFA37BE4A4}"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75892-1BAA-45D0-B259-81F7B6A8DE8D}"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3856A-546B-4C9D-8B35-91C503296732}"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84179-A236-4563-B730-1799CA8F30A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D0C6B-60A2-4BF1-A35A-6F3E502254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86C1A-D217-4C8F-B370-33D9560D6159}"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4BA15-F495-431C-924C-04E480BB24C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1CEDA-4823-47F4-8675-78CF6AFC834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E7999-D6F4-417E-8167-3845A93FC3F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99303-D44F-4C79-B0B7-4FBA57E4B1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55359-CA21-4F59-AA56-247E97C087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FABAF-7627-4E27-85E6-EC4BA7CE992A}"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50347-3D92-4203-BF33-22AD1923233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5D00F-5A43-49DF-B544-894A02234B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0DA3D-F6BE-413E-A276-CAC68B1F4A31}"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0CD80-FB3E-4390-82DF-5B9C3D7098E1}"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473C3-1328-4FD4-85F4-D399E59BF256}"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38A31-5C50-40E2-8C70-A946E23DFF2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BC9A4-581F-4D84-8E4A-A10C87A443B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F2141-7F85-49A5-BA3B-26C2EAC8A3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26F2C-5500-4DFA-8118-89CEA0D44B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D9EA3-975A-43E9-8DE1-F1F96FCA508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6DF70-D60F-4A1F-8778-8DE5E606B94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B64C3-7AB6-4C8C-83EB-0EA5D5C8CD9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9FFFC-CCE7-4EE4-A378-0F5AA5167BB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D5AC7-CE38-4137-811C-8022013D3A3A}"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6D17C-5C24-4551-BEBE-6463FD3CD143}"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8B4E5-971E-4FAB-8E15-301921E9394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8AA1D-5D12-4714-845E-0DE7A1AA330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3475A-48CB-45EE-9BED-D1C4D4D1716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798ED-6F1C-4506-B9A0-8A56C89B07F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A2694-F59C-4DF4-B030-36BF679220E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BCDFE-1301-4BEB-98DC-EC4DFAF1825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