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20707-5792-480D-A52D-7CCB4F731233}"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ADAC2-FE1E-469B-A241-1AE6E7F98C1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949DD-8C96-4DF1-9024-943A2474B67A}"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C0EB280-D2F2-4464-AFBD-FC3271E6ED0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4CD1ABB-B1AA-48FC-BDEC-5DAD1B74F7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9B20E1DE-08C8-445F-9B82-036D8AF522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E6F6D55-8741-4148-ABE6-9611403E49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9758496-61DA-42DD-9F2F-6014BBCA07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331DCA4-BE15-49BB-B418-02D5312125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C4F07F9-4E57-48B8-88E0-DD0E6956A2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DF947C4-1ED0-4A3D-B31A-96307A35C4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D96AD7B-2AE6-4C39-840A-22A15834961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59FD3E-1C7C-4ED3-9CB7-9875FABBFA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A3957A0-1E0F-4B08-B99C-056152A5EB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9C11218-489B-4556-B875-FCC3D263DDE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C9DCCE6-E7FB-4667-BFF8-C73DD1444C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B3B117C-A2E9-4EE6-8DA5-7A795788B21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460F19C-E485-4CE1-BD8E-1F266A7226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C1528D0-0B7C-4C02-96EF-F179FFC113C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35BF79B-294A-4B97-AF67-B06DF9A9D95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7B526DB-86AD-4FB4-ADC4-3D84D6B730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D342DAC-7FCE-43EB-90D5-EAD5B8EBC4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F3100E3-B837-4EDB-86AA-16A686EEF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8E277A4-873B-4122-B6A9-B00A9E1E27B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464A841-8C7C-4119-9DF5-46D2E87ED8F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1D08970-8972-4CC6-B61E-AFA64328DA1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BBBDD06-BBFE-4BAF-AE8C-6682E62BA6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6CC93EF-6159-4645-872C-344B119EEB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907D8E8-DA55-4DE5-8766-780AA1A65D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79B895B-9432-4E79-A444-50CF687276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E2D1C24-9C0D-4EF0-910A-7242196927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CFF87B9-948F-4A03-8CAF-F4F3C393CF9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C49B7A4-F109-43ED-B1D8-D618FF13DD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2FD0100-1CB5-4054-AC3A-447F6AA9F82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617F0EEB-099A-4D9A-AFC4-850780FB784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62C750B-FAA9-4496-80EF-FE588AC159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91BFBA3-7996-40DA-963B-20D9C58B84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A5ECB38-D5DE-44AD-9F9A-DC894E0ACF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6EBE2EC-D4F7-46C9-A660-0381A547C5E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E8169EA7-3659-4564-BD08-41B3621DBA3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F3F14E3-0A2E-408A-B5A1-6BA980ADA21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2BC1526-00E8-4C54-8B69-D8798565D99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5B13AE2-FF35-42E8-A242-BC7F690EC4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0E09CC4-036C-4EA0-9044-74FD961C16B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5E51B61-67D3-40AD-BD00-3CD83BF08C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683E664-F93E-4F2A-96B1-2E576C6F90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E582F6A-C267-478B-B4D6-1443216E21C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02B524F-5EE8-4409-9A6F-D281042A557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A327ECE-2B8D-4C8D-B713-6A4B991E9CE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54686A4C-3AC3-4104-98C1-D6BEC11E74B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30E2B905-8DB0-46D1-869D-3441BA6E6D8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05F9760B-8F0F-4D79-A19E-D237C653614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1F045D50-700C-48EE-82A2-2AAC0CB2E7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526EDCB8-B79D-471B-90D1-115FC6FCC90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4450A3B4-9CE6-4286-8F05-B6F06D67622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C73BD400-D781-4C05-9E5A-D6CB3C31CE1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2135725-6170-4C52-A7B7-A16369A9B3B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797B4E45-93BC-44F2-81F4-9BD2BDD6F6D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F424006-B534-4027-9953-2435E59B673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554CF6E2-1F85-4009-A42D-EC1ABA46491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2FE21CD-740F-46C4-847E-53F18F823B8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B1A8A98E-586A-4616-A4FE-469F67E5617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86BB8F0B-93B3-4925-B05A-B81BC21244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BA9D092F-3A3E-419B-9ED6-B797B10FC59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97737C59-CE67-4144-A378-F46DAF0C599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5DB379C9-5A5C-41C1-BB2B-EC5E0D478DB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258C978-E4BF-4B55-8CA4-F2A15929B8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204DCCD-5E81-43F2-9519-53377B8CE68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CF1367E2-6593-41EB-AC59-219C8E669D3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CB8F8720-3681-4FA7-90B2-FDC1F7A909B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A2302705-C4CC-40BB-A393-E0BD59E8CBE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A334AA89-6C71-45ED-A0C9-F1D97CE9D6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42AAC5F-4D2A-4206-9E27-0E694C2D89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EA4DCD7-A6E1-49CD-B4CC-D67686C09C1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39CC109C-C978-4168-A975-EF325D7E36B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9187D56C-53D3-4515-9D96-4B91B8E8A29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2C6DE860-3F0E-4A28-9EBB-C611E2DDF77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92E34A40-E550-4AB6-AA44-CEC5D0DE015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E716E959-8C76-43E5-8E20-E77989268CE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5CA123B7-F7BB-482E-9602-57D3CA8FF66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81EB444-BA62-4E4E-9F30-2A7059DEDAB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B31F86EA-A7EB-413E-BA82-03EC4E4C82D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2CD1B5CA-AB6F-4BD4-AF36-D41CF8149C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75739273-171C-4DCF-8094-0860B063A68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1AD2F1E-1D68-4521-89F6-4434F09109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E6576EE-D4F6-46C9-8FDD-69075896A7F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F19450-FC40-45D6-9EFF-8CB7845292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9324DA-E6AE-4E3F-8066-4B0970944D1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2FDD42-84E0-45E8-B67A-B88BE4379D3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B72BD73-75B4-4EE2-A913-7E42C2A52CA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B605F9-B18A-4CF4-807D-C4AC30FA5B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1ED99A-9354-43B5-B991-22477740F6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C26504-0DF4-404E-B7A7-507FFB3FEF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965F39-87BE-4FD7-A472-EFBB62A2A2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1BDBB08-0080-4B37-89AD-E905E668FA9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DD9524C-39A8-41C8-B200-973777F65B1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5643F7F-CDD9-49A9-A03B-022ECB3A376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70D510B3-9B74-4360-A7C0-8A8ADC367AC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BFCBD90-EEC5-4496-9A6D-42E9D4861C7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BF936108-B7DA-4FB0-947C-976B4EF919D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77EE764F-3B1F-4C1C-809F-71AA6F72867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BB5E4BEF-07D7-445F-8F97-B27C9AD6F2F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A013725-8E1B-49D8-8BE1-206E92BB19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85AD15E-2377-4EDC-8C8B-4014540CE15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24874A95-3E2B-4FAC-8140-8AF456E8885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A4098F6D-FB7C-4B84-8DC8-1435675B978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6B4D90E1-18E2-4831-9210-219423F1EEE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54841709-C02F-4F74-9FDD-2586B9C5F2E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2B9D80D-B62E-44CA-ACE0-4F4571AFC81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787679EE-636E-4CB1-9B29-F724F02E09A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1E456B09-C0C4-49D3-9BEB-3D38B88AAB3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69B99E33-BF3B-4375-B1F3-5D9F6BD72CDD}"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A35DD39F-30F3-4BE5-8467-C1C65EBF5A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ABF1AEC5-63DA-48F2-9CC4-C1BF66AAD0E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C1CEBD6-03AC-4461-9652-85C2CC6224A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2A53348-66D2-43C6-B011-B0956A9271C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E165270-A17B-4DE9-A8B5-E4358389CC8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8F1DAE5F-F88C-4A92-A9CB-B36D5661D77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B0A166F9-7337-412B-A2A4-66F07C32922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3CF4C206-D959-4AEB-8C37-C0759B72DE4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AE05981-E8ED-4D8F-BF88-056049E09FB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BAC84A4-DA03-4B44-9E64-1A45E85F10B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05FBC7B-2AAF-4D9A-975F-F077574CC5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FC79CA8-C861-4450-9E6F-ED9DBBE4D35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C7B7B4E-2A56-4C48-BDE3-9089321858D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739DEBA-14A9-43A3-8C77-F92A418105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3147729-7FD3-418B-BE91-07CF6C11327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4692A5C-18BA-47E1-9654-9A2BAFF0DD9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79D78B4-FF84-4442-B53C-AEF344BA068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C74E861-1D00-4C8C-A7C7-966E52EEF04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2E69560-E80D-4A32-ACC8-4E6E72BDC38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978F270-381D-4999-874E-2C1A4A29358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3E0FEAB-97EF-4519-A6BB-36DA4FFE54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52C51D5D-7CDB-4016-B939-8202B584C8F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92875D31-91B7-435F-94E5-43006ECFE96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CF44F811-570A-49B9-A462-29072A62C2D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0304CB2C-E2B7-4370-9E69-8FFBC30CEE2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A90F73B9-A3C9-4DE9-ADDE-664F15AEE6D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0D71B34-76A2-4F60-B16C-7FD1D548CFD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B9BC024-C2D8-4DC8-90ED-3EBC03C814A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1B3D5FC1-8E4E-4C21-9A3B-51D9FB80A2E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8EBC9D30-C727-4B09-971A-CA07441EE67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21A1ABEA-1C7A-4F9A-B045-926CA94C9E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2AA9CB84-1033-45D2-BC0B-42672923435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6220867-1E76-471B-88DC-FF341594A06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B16B93C2-58B6-4FE9-8701-86A795E8628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0A9D3564-669B-42AD-9593-B45013E566C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DA13DA9F-2B28-4AF2-9459-DDC7D34DFF5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5BB87506-36A0-4A5F-A78E-7480D7CBA83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C3839379-5FCE-45AC-B773-1FF35C14256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03EA473-0093-4D0F-926B-BDDDE0D395B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629A42A-3417-45CB-95CB-BB03C99310B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A28611A-E43F-4275-941A-160967E879B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96EC8C8-036D-49EC-A8F2-4B8868E3FBB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4D2C2840-9507-40E0-A18D-909E49C7451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BEDA044A-B737-4D61-A710-99002AC8467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582D92CF-D4EB-4BB3-A3BA-DC3F30186F6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CB499A87-93E7-4F2B-8FB1-0E792266BD1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17E3CA32-B4F9-444A-9F95-DADBBD08FA9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CCCA2E5A-0A89-41BC-8458-49B0004A668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9F763ABD-E300-4470-A895-5D67191B2C6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12B59129-5027-44CC-8089-182F32FD94B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BABE80BE-01B8-49A3-BB4A-2C711913353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CE4B3DDD-EFBF-4880-9CC5-E23A340A41E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1F9049F4-8FB1-4843-BD1C-4C5E3ED2E3D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60F56278-196C-45AA-B057-248558F5000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A4B7AA7E-C1DF-464F-9A61-AB5A2A5B3C9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500F079A-1E46-46A0-B5B0-8C422DEB208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3DC8D20-C736-456D-AC9F-83BA806DF42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FAAA2C4-342A-4154-9A8F-80B3FE88CA6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CE47EF4-CD08-40A3-9EAF-64674F62219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C66D366-75AD-4075-A456-06655C994C9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DF71376-5DCF-4977-A5B1-4251A3D722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03031A3-FBEF-4975-BBA7-E9B45EC1E67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CC7124F-5F98-4CD5-8A44-707C96D2D88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696FF57-B7D5-4D9B-B252-6DE13B716D5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5C5769B-FF4E-461C-B5B3-54E559F1647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3885FAB-0934-48D7-B732-CE0073130AF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E22B559-1FD1-43E5-921E-49F8F7E93D6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35B151DE-0FA5-4E69-A393-B898EE4FAE3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792B218-9CB8-410E-94D2-703DCE067FA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F2FABC9-9DAC-45E7-935C-CEE937FCA10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33DCE4A-C34A-4B2A-9C95-644F0A4BF2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F81C217-57E4-4ED7-9EF9-FA47CB6D71D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28CECE0-E4FA-46DF-B71B-9A335EE36F7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69FD33BD-1B6D-465E-AEFB-43F16BC2EDA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532F3DE-FB8E-4E18-B4A3-9464044360D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ECC5F35-1DB4-47DB-9101-3D967D0B237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24CF145-661B-42DE-AE8E-EA743C658DB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8438907-3FE7-432D-B4F9-F4DD9E5FD9F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940D321-D03D-4B61-A743-E10607F4DFC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33A08056-F41F-419C-B327-18B75684EAE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9EBB671-EC26-416F-8785-2CD3904611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4A0681B-2F63-46D9-9611-C84FBD164F0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1B7E9CB-F1C4-47C1-AA7A-719FD55273BD}"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F44E4C4-43CE-4D18-8975-E36B510F50C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E2B80654-A7EE-4749-A875-E8AF81624E8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7627E99-19C5-4B4D-BD27-237CF201EF1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0CBAC4E-320C-4C98-94EB-1D086554521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23E4EEF-9ED3-426F-BC1A-E5B978EA201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5981784-57F6-4EDB-8754-B3EB9D2AAE8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45580F7-14C6-48D1-83ED-3DE4187499B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E1FA7ED-8CE8-4A74-9085-AEE4B86DC1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76B3E2E-D4F6-4E5B-BB3C-D03C623710A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B1FD209-53B8-4356-849E-B41F7BFBDC3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E03FA6EB-A360-41F3-9DB6-37A3CD328F6E}"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A05F0E41-66A3-43E5-93EC-872B0568A12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6290EC23-187B-4F79-B1D6-B66BC04496B0}"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D064C51B-7273-4148-8484-D0BE25B3E1F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40D25DE8-3DED-4D92-BAED-0E19280CF11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F0C912F6-508A-40E6-821A-DCC48C37B27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F0A88ED1-B479-4810-B10E-4A207EFBA201}"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135608A-2EE2-4134-8ED9-361323319F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D11F70F7-40E8-4322-85F6-8014FD5403A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CA69B905-E5F0-4DAB-8D52-AD596FB94FB9}"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38054E69-996C-4FA4-A786-A1E0DE9EE9E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E34C0F3-CFE5-4983-95B5-7B1F9F487E53}"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1F81E435-DD3C-4B01-B758-EE7FF654E05D}"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17BA22C8-55FD-4684-820E-6BB6E38E713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BCBC7BA6-843D-4818-80E1-D474CD80179F}"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F3626E46-F077-426D-9314-1E417FAB35B2}"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258CB4CB-8174-4B6F-91C8-66501941B94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890E1A70-340A-4F77-878F-476D3D7AD3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2914EB3B-2A2E-4BD3-9369-0542D2788D3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9188AB79-C5C1-40FA-A52D-5B7443F355C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4B3DE56E-4F84-4357-8CF4-9E9017F8930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9E41CB5E-6949-42A0-93ED-A8CA2ED86F5C}"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9B045482-0171-4E35-BCBB-DD01579F9CFE}"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EDBC129-D68F-4CDB-9C7A-A3EF9711036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BFC7CF93-61CA-4DF8-BD45-428CFD3EE6A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20E55E36-8B3C-476A-81F6-C89B5C17031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E8C4F302-EED6-4811-A84A-67FF86FD301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4008ADA5-1EE1-41BB-800C-3A8614E232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1CDD0ACB-00BD-41E8-8236-E56ACD149DB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B2CA0FE-6253-48F9-80DA-A2BE59F40230}"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8B457A3F-1B1E-49B2-A023-AA438D41728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9801124-67C9-462C-A875-461EDF5FD5B3}"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9304E3B1-B0B2-49D9-8417-7B9C81BC3B4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76D625B2-EB91-45F2-8217-877345044C6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C3B2E5A2-1AE7-47E4-890F-5C483D44C43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4E8DAE4-8EF2-46F0-BEC7-CF364594ADF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052552CC-99AD-4C11-94F9-28D408D3B5B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937568B1-BC21-48BB-B4AE-6CAB7920B8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B58BD8A9-55A3-48D7-8947-AD782139CF1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18E1050B-51E5-45AC-A941-CA34EC6B37A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99714555-96CE-4673-8ADF-923801491C7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B096070E-4919-4895-9715-C2D3E7CE4281}"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24415339-5BE4-4B3A-AE9C-06036F885C19}"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8DA60AE0-9191-4718-8C3E-E4836215837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44A1E886-26B2-4706-8F3E-E8C32BF6F918}"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B0FB97A3-CF7B-4C02-B96D-144FF0D90E2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1B5D77CC-E370-4B8D-ABFF-6B3961F3FFAB}"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80DF6EF4-6E87-4B80-AD8D-EFBBC596C0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C45A12E3-197E-4135-BBC2-B1D73DDFC6B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73A6FAE2-7A24-4798-BB21-2FEEF889508E}"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868E184F-085B-462B-B69A-DEE71D7A9BF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1728052D-FD97-47C8-9939-13644D3EA15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4CE75515-CBAB-416E-B5FA-95803049C874}"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5BE1FAD4-3396-4263-9831-D4DAA4C8AE1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50FFF333-7670-4C9A-8C7C-C8CAC4D5E75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AC04D1A4-5F39-4398-A99C-B661C670ECB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D56B5D21-BE5E-4C12-97D4-14E912364A9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BE9B92FB-351B-4602-ABD9-ABC8884233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6A7BF659-611F-4A8E-8694-575DDABAE18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4FC934C-2791-4F5B-9803-26B3305D391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265CBDE4-40DA-4B08-97C5-D32B587E42D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9432F83D-EFD2-4F83-B97D-C446E8C09FD2}"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EC54F9B1-DE17-4316-867B-7BE94A545BF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F2C60317-C8F5-4E07-9FA6-9B1838D3BC7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347E53C7-AD0F-4EF5-833A-1C427D604DC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F620362E-AB86-40D4-BF1D-EAD3D7E2F140}"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4B87DCF9-9784-4C9B-A118-F7A2B007F60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4AF90A97-D0F7-4042-BC70-CE4ECA7F087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83597-27CE-4C98-A2C5-15D5CE43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240BA547-9398-4804-AB29-B61FED9C4A6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A8533DB4-7A60-41AC-ACE5-836EA428B0F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AA4447D4-6D90-4B2E-9BDE-2BBF001041B0}"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E87C6BB1-1B36-4553-AFC9-524879FB6E3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12B65E8C-1072-4E0C-812A-6320F9FB20DA}"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F6767B58-A161-43B1-B77E-5AFCC6F2CB3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9866A1CE-DDE1-4140-A979-7C263A222200}"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2B40C24E-A13E-483E-AC6A-040638A7C27D}"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F09B94AB-5957-429E-8B0B-74C7D51BBAD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CF36A1E-3D68-4615-91A0-233F6310EC6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20338-8FB0-4365-B3BB-AE861B146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264C42C7-6E0A-43E3-8778-1588BFC1FC0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B7E66B6E-7CF7-4C2C-B4E3-A511063A2FC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037C9FAC-D383-4621-984B-692E77D9414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6388C4FB-1A42-4471-9E2F-2B90834A16C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7191849D-376C-4FCF-82EF-7469F5B3AA3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268431FA-3658-496E-B787-C3F9B63A29C9}"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7F25BBB7-B8F3-4931-A0DC-3DD8482AD8CD}"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8D6C3EBD-74D9-45B5-AC33-11055F02EAC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F558CBEE-1535-426E-8968-993E7AF1507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E4FD3744-5B3F-417C-9C2C-73CC35A80B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C412B-C7A1-4148-9F4C-C7A7F0B59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AD16212B-046C-49DC-B29E-C89255D8DF0B}"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4FFF04CD-8A6C-4E2B-A6BF-C917D6E8CF5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A2DE5B85-6D31-4909-9310-E2243A32156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37EB4E0F-B8AD-4A38-A66F-0343DB9BDE5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47AF3A7D-FC30-42BB-8309-8398BA9EE2C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48D075F7-5015-46A6-AC86-7A3231E2EC6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20B1E76E-C713-4BE8-B7D4-51DA9ABF15E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2686E186-519A-4873-8843-F62A6F1B4A0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70C6D0B9-DD96-41E3-80AA-229BD559D25E}"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B203604D-0A91-428C-A92A-34787292B6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77E03-8261-4F3A-B3BF-01CFAB233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59E07049-5602-4D1D-A8B5-FE69821CDB2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6B111C56-CC09-41A9-89F1-E02F42E3DB9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7D53096D-1D10-490E-8639-006AA088F9CE}"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F820268-D93C-4A4F-9779-C6C8ADB3D9E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772F204A-FAF3-4542-A8FF-8674A5DE59C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79C8477A-7948-40BC-93B9-3E249B5E07C5}"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EEEB5D90-5CF2-43E9-890F-D6B058526B1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9EAC8EE3-0B59-4914-B1BF-26152B87422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C3119A3D-440D-4146-8C3B-BEAF11A2CE5A}"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ED7C042-1231-401A-B7C6-2BA075DCBE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32AED-91E1-4556-9CE5-3CE4D59D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281975A-69E5-4624-8641-D1203FD4F79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E8F6C0F0-0F47-4FFF-BCDF-063232732AB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2C9A71A4-967A-4B31-BEBE-AA6A42291687}"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7BA5CC0A-F91F-4A33-A5AE-196199262FF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E7EE9257-C680-4701-A5A3-5DFD6EC88393}"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B55A27A4-76B1-4140-91DA-07BDB277B00A}"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47745052-C0A4-4279-AD87-4FA740CD696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DB5A7314-48A5-4103-A811-8DFC91EACA7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94CB1905-F3EF-430B-AF32-28D95819688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5DE683D2-D034-4BE5-ADC5-54F69C9E67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2927-09C6-4F80-B958-0176D25AF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6F360C5E-58E7-4FB2-9786-8CE7B1890AB0}"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90938B6F-E4CD-4A49-8379-C127D4A4C14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BA1360A5-143F-4DC4-9BF4-D445DA8A750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C65C36E8-6BB7-4845-9006-6B90102B9F7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0ECB7981-10F2-4C77-BF30-AE725A2B5CB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19F6F069-62A1-4EA8-BD67-DB3F8D15F084}"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C127F00E-6905-4972-A8EA-3870C9F211F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59A1D5B-6BF2-4C7D-82CF-DD68FFB025E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E217D99F-75F4-4F82-ADB5-1B9374FE8CD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CB319CC3-4355-4D8F-8A2D-3F9942B69A9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0EFF-500C-432F-AED6-13D694234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42D20D4B-D9E9-4FF6-80DE-15D9BAAF770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A3024A28-E94F-4EF5-804A-7AB946A7F02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9408873A-AFCF-42D7-8FD1-0C07CE335FF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0975BBF-B1A1-4693-9183-895786BDF13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6D2204D-6F83-4A08-A0C8-D8243D29FAC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2318AFC0-C0B2-4BA1-AF32-A22F62262D9D}"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8528C0EB-6087-42B6-A2C4-7326800F331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E339D42F-6B58-4981-AD0B-71C27DB27E6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CA58A53C-34D3-4E90-8B92-062DF76889B1}"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75C74D70-D81D-4A2E-9948-6BA783E239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624D-CE96-4665-A71E-DF1C784B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C57DD7F5-FFC1-4F21-9DBE-4A1813C72055}"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4914C2F0-9BF1-4953-B580-AB3A180B156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4A0FDAE1-37D4-4856-9D2A-F57B7E9A88E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E3527C7C-6278-4E9F-A35C-229C22CB49A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B1A2BDE6-AD5C-40B7-B4BB-A5F861239A4B}"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43DA72CF-E8BF-45D3-86E9-41CFC62BA303}"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626795D3-C001-4BEE-BC0B-4D44E641BEE2}"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9263D45-FC53-4DFD-9254-B56A7DB7BF5F}"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DD565239-A16E-42C8-84B3-A22A53FB671B}"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D3FB154B-BE55-4E9B-87D2-FB51C233078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C2F67-86A0-4967-ADEC-F9C38EDB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7D72D03E-4A58-40D4-9B28-3E4230EA074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07E80E2E-AA38-450A-91EF-D8A1142AC56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DF703431-5565-4016-8656-7BEA8FF24E3B}"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90DBB7C9-B00F-4241-AEB9-D731DFC70B8C}"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C78D0309-F1A2-49B5-B5DE-731F64D43FA6}"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CB28C96E-DC31-4771-ACD3-397E348C4C65}"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A06E5DFD-D382-4ECB-A2BD-DA4E0BBB4039}"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69136B46-BFA8-43C6-9DFD-3D62470E4A8A}"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C8D6DE5B-8C07-4471-89AC-58446143D6E3}"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27196355-4E44-4284-BB51-DA978993FE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22453-B8F4-4793-93D1-3EFFD8F71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A04D9CBA-8D93-40EF-9D50-87E4F11168F8}"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6D404F48-EB2A-4D11-944C-D3541D19625E}"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18BB6EB1-5B64-401B-802B-2388AD15069E}"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D5B36977-3EE9-4188-8037-1D5F446EE8FF}"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CE91E55B-14E2-479B-B093-7626E264360C}"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BE895620-664F-4C03-9AA4-83611FE7D9DF}"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41B3536F-61A9-498C-809F-19AB1A458DC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6D8633B6-752A-4F9B-95B8-855EB84D4E7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3FB3EBE3-38FA-44E8-90DD-C755959DE2F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1C4D85EF-794C-4A81-816F-CDCE26F753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228FC-C940-4B74-BFC6-26F026C39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310F02C9-3C32-4851-9D08-CA2F26F3E199}"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BEE2BB7F-8500-4596-8250-5D74E97ACE7C}"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B8E8F174-0B93-45F3-8549-9F0FEB5FAD52}"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2AD173EE-4ADB-4FCB-ADF8-AA1C96D70EB7}"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6D570432-453F-4CC9-8B34-CAE8E85F5153}"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F7E41040-6A42-4CE5-A0B5-42B71587326A}"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067EB8FA-D7C0-4A51-BB11-307EF0BE249D}"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ABCD07B6-03A4-4F60-9C9A-6FF0A69AD13D}"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C6FCBED9-E6FA-44C1-BF68-9F802B1ECFFD}"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0DAE08F0-D3ED-4344-92A7-63F44017B07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39612-FB00-4D4D-BC0E-93BB28D47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32CFBC19-B338-48B5-BF48-7BFAF049E4ED}"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92D9A5E8-097D-46E7-B057-D250295878B2}"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66D141CC-1B22-4526-BF82-4A556115FE0F}"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071D3183-4602-4A9F-BA98-0A96587A5CF9}"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E5454A19-3936-4EB5-B0D8-36511A8A0C99}"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C227F6ED-F511-4EFE-8723-C83006896274}"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CC7D5E68-97AB-4C9F-8BC9-2AFE17347C4C}"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B3FFC613-2276-4225-9B0D-E1BBE2C84A9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FCA9DBCC-6B20-4DCF-B187-3540301FA8B3}"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1233E554-7283-4EDA-B0AA-AB9C4B11339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AA26A5-A1C1-4175-8860-9FD50444708B}"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7CC37FC1-54CE-4870-B706-2BC587125E52}"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9D94FB1F-4EDF-4ABD-BF3E-81A7559F1E22}"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D21C8923-CFB5-4875-A7E8-D8969BFFFC01}"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4B81EE05-2A5E-4700-A69A-E5ECF46A366D}"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09A07FCF-1310-41DE-8A7C-DED80585C923}"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0FA8407D-DF8D-4D18-84A8-66D465427211}"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D3C0A3F7-EAD2-49DF-9D36-6B4DB04B99E9}"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3CFFAD36-0D35-4C91-9725-36E5AA02787F}"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4B66CE49-2875-4237-8D86-3B50A353386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97D029C0-25D3-4A69-BA5B-E841D92C0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A377F8-1677-4600-A083-F8A4569A4655}"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8E5E54A2-39F6-4D9D-B5FC-0C70B75A6204}"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6576B3C3-D6A1-4063-A147-9FA983F2CCA2}"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DCFF4775-FFD4-4D01-8D44-7A6CA2D3DECF}"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84142DC2-9EEA-4A4D-8C61-D821E279AB3A}"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9A8157F3-DAED-440E-890C-CF8D39DF04C0}"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B2C62163-626D-4C6E-830F-700A91F54EE4}"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2F38DDF3-D593-4322-ABF6-1AF81F7B885A}"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B5ED3823-2CED-40E2-B275-005759497B0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099DE7F5-7F87-4529-A038-CF1759EECC98}"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5E8BF0E3-223B-4685-95F4-1A0B2E47DE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BB5D655-8DBF-4119-B8CA-41CC7729CF34}"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B65CE24D-E2DC-468E-8353-2DDBF68FDEFA}"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FB08E448-5C84-4163-B0CD-E5D47543DD8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64381E91-FF3E-483F-B6BE-37E5853651FD}"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4A18A4ED-80F8-490C-A129-99F0F5179AEC}"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1BD26F54-9756-40B5-AD31-C742CA431C60}"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7F447D41-5C0B-40A9-A562-17D346083265}"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3FA798B3-BD91-45F3-B2F6-EE533CFD1503}"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60C3B72-0356-4D10-97C2-111792B50181}"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E99B889F-73FE-4F35-9552-27534F19CE34}"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B5640A8D-AF09-408B-81D1-F2B7489796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FCECFA-6D8C-45D0-85E0-3BEC67CAC55B}"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2248C752-67D3-47AA-88A3-BB94CA297601}"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9C4E80EA-353C-4B34-977D-2504805D42FD}"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8F7831FA-7813-4429-9BDF-E2BA4EC2DD23}"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6B332DA6-9412-4946-932E-5B05807109B2}"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A328D419-855A-4999-B3FB-8DE7466B7387}"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A4D4B162-6D4A-4E68-9D0C-5A2083FC7A1A}"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38A51B95-D475-46BE-8695-4395CF5150D9}"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FD9F6630-5D1B-45F4-9D34-CFB31405D61F}"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233FD633-780D-4C13-9B7D-C386D15E7D6A}"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9F7CF79F-EE35-466E-849E-D6D19F814EA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2300234-C496-4753-B66F-7725E0644FA1}"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0D6F0DB7-140A-483C-B8EB-59EFFC47FA5A}"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3426DBBF-79D1-490C-A80D-F790F087C276}"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B8C1FD87-2D40-44F3-90A7-B29E044640C1}"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194E4B00-F6F1-4FBE-A9F4-1266784BA2CE}"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3E1BB4B4-8F71-40EE-B903-0FD73ABFA214}"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ABB10C31-2980-4AE4-BAA3-C005FD9E96D5}"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ED36C043-9203-4026-A09A-086921D3C09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21C04F09-C274-462D-9A43-5F8B23016096}"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8C694A5C-107D-4A73-939D-B93708B74E4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626E14FE-C7FB-4ADE-8BF5-6A1110CF6C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63E2B7A-B024-421A-85E8-B786F11B46B5}"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548599EC-0F0F-4490-A383-47775EA1E734}"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3E1166A2-4B95-41E5-806C-713609216E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83B7A713-9FA8-45A3-B03B-A3E082C9F9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1BA89CF-A805-4B25-A98A-F1ACB1449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25319CB-6D17-40A8-B738-817DD5CE17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04D3CEC-EEB6-4634-915E-D4CB514390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0AB3882-D387-4990-8306-BC17560303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4B4E192-0A97-4F2A-B614-1902C2E41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C2E2160-D935-4F64-8D91-C4279FDE4B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A423B07-1B64-4B91-AC48-9571BFFD10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BD8D5E-375D-41C5-9DEB-FA15091702EA}"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A6E57C3-D78B-47F7-841D-D209C5DC0C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57F1FA2-43CE-4425-8C79-A1898DC884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25C54918-DD87-446C-B71E-17BA3D72B7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4D72BD79-19CB-4C93-8C89-966C845C9446}"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2AC65DFF-805E-4134-A027-564F7EF53A63}"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F7B609CF-746D-42D4-ADF0-9DCB283F474A}"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DF714EAC-3AD6-496D-93E6-67A939BB33E3}"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4CFFF439-8503-4558-AB40-9899C7DA3784}"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D4EA126A-0F0B-4559-8BC7-43A11AF450D0}"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042C49F-D801-4665-AFD8-E8942B8E17F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7F5915-5FCE-4711-8A13-757E22F05FE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AB711881-BFBE-4CAC-B65A-9EB885726D49}"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8924E439-F228-4F59-8B66-C38BFD2BFF6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AE7A3F5E-E40B-4AE5-AF51-A3807F193DB3}"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F10D4553-5826-4031-8968-352ADDCF55F8}"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2DCF5DEC-9E73-4601-85F0-5BF7F34316EB}"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C4F40A8-7F9B-4335-9806-35BCC6858F6B}"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0D811624-C403-422B-8412-BC88AC9D1EBC}"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CCDDF6B9-0F09-4B77-B363-18AE105138BF}"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E74A341D-9A34-4A89-AA14-2E55146A97CC}"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85B6B00B-F534-473C-8992-CDA7B8DE60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C12CD5-8A44-423A-9589-5403A3437585}"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94E63275-A4F2-4788-B9E9-E3819CAD66F0}"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57EB19FE-446F-4265-AE9A-7C879DE6B945}"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36EC4F78-4AF4-4A1D-B061-DD2BAB0D29E3}"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40E801E-7C57-4DCD-A58A-5EDA8B74FB45}"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5ACAD50-4D78-4DC1-B5AC-183445444353}"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263A5599-1A8C-487A-B1F9-A30E87FEA275}"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36240BD6-6B2B-43DF-9CFA-D9B492FEE90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BD43A977-BBF5-4E07-8033-0C0FFF76320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C8FF7FC4-A03E-40A1-9306-E9157867641B}"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88EF25BA-2ECF-4AA0-BE09-900E52944E4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5A2A9A5-7BF7-4239-81D4-DB52C230534B}"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05F2F456-6F05-4E9F-9D7C-6E5B83B5B137}"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08807993-9B24-4578-95E0-F4082B5635C4}"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7B8CA0F6-4AE9-496E-8695-522C377D150A}"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92FA1294-642C-41A7-98FF-C7E112834819}"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79F72530-0A50-4337-BA31-D504F16ECFF3}"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A1D263F4-F493-4905-83C2-B7CAB3E4B5B4}"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8B34E5A3-4C5F-43AC-810C-441B1A40CDDC}"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272469E1-787B-434E-9DEB-107534FF2156}"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9B9321DE-7544-4564-A6FB-9FBE872AFBAF}"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B916B337-71B4-4198-A572-9738FA38D37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CDEEDA4-EFF3-41A5-84AB-ECDBFEFA2053}"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595E39AE-8656-427F-9A44-3EC06DF4AE56}"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B590004C-E2BB-46B6-8AD0-013DE9D25835}"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B81CF8EF-6A09-414A-9DF8-4798DADF2B38}"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EEF2C739-914E-4B32-A579-4D1A7416E0CD}"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12F028E0-7832-470A-BF86-AA9C678A63FE}"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99D3441-3354-4AFF-92B4-907662CFE30A}"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BC703BE7-E28E-4BCB-86FA-318FF35C3C5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48D4E87-3209-41F3-ACE6-7866D9A3C406}"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B33F1A3E-4D46-4EC6-9E99-168265956B83}"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C694F8AD-F338-4FC2-8D05-74BAE37B1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D64EA8B-18A2-4240-8B4D-D9C153E67400}"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CA613A63-142B-4B4B-B8C1-F653236A58C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73DB5C1D-00C4-453C-91F9-BDB5891BD578}"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CBF9B8F-1BF1-4761-8638-0BAD18871A5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EB14136-17AF-4CD9-B35A-2B76BF5C554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D9C4C99-04BE-4EDB-92CE-6469CD620BB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9BA0392-B782-4BE8-A484-43B29165E50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D8299722-DA59-4466-9C05-4A82F433E3E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803D6C9-5E9C-47D2-979F-DA5AA0B0F1C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7EBC22D-4F65-40DC-961C-7C820D10EE1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89544FF-B68F-4D87-B6D6-9A998BB6B45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0F609E2-E56C-428E-A3F4-21EACEA518EA}"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6D200D47-B13C-45BD-B46D-CA737ACDC73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10106DE9-9C0A-4D95-9583-A74D7AF2278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B59B744D-0747-406E-96CC-510245C55D0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8F2F6B4-6F0D-444C-AD5C-240BC70C61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BE2751-1C24-4B71-8B48-166EBB865FD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B490D5F-4E08-4A48-9D3B-E727DC32F4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E8B52B5-A07B-4B76-80AE-29507BF85DF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AAAB6DC-B15F-4407-A539-FB9537C0087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203309-9FCC-4E1A-BD85-5C323E659B6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3678C64-313B-4182-AB51-DA300850AE8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89C597-A13E-4B69-BC68-F26C54B0A9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5CC662-BF23-4118-8E73-3539DB083F6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2F14741-C75B-42F5-B4B9-682EB04735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9F0C857-27EE-40E1-A5EF-FD81C3DB02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39704F-54FB-4372-B764-F9054269F13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D6C08D0-666C-4C74-8752-8136B3D8B09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E731C98-F192-4638-9434-C41361E167D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F409EA-186C-4ABA-8107-85ACEB78B3D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C360EF6-AD35-45EF-963B-88836D001A3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48C84DB-383C-42B2-9B15-93D773FBB53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6115A5-A0B3-47A7-B881-01743B6263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E00664-23A9-4295-9846-6578F43A8A2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5B5C144-BC35-498F-9D0F-50316B1D78E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7F6016-3996-4D52-9194-0CD7BD8D109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52AF489-284D-4BFC-8941-08954681B4F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5424ACB-2C10-4CCE-A5AB-9F114621D4D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5750B5-C440-46FB-8181-D9349630A82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722BE40-EA94-49BF-9A1E-7AB85827CCA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1AB9DB9-AA98-43BA-B689-E40090643E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A16FA120-4DC2-4838-9658-0B8918FC5C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D160882-328F-4CCC-A4E7-1CFEED45AF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A259669-05AE-42D0-87B3-3DB832EA941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CE9C537-4D36-40A4-9D17-012029318F3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0E97F73-8DC2-4968-A9F2-9C67DBD4116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8DA86E2-415E-4177-ABD9-6E0CF9AE969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7696C4B-16C4-4EAF-93A2-114293DD591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77F4A89-4646-42E6-A874-960A128C2AB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CB32BD1-957D-4BF3-B260-D9407DB4780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7C66643-A731-45BD-A5D2-014CCD81FE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4DBBC63-5ABE-448E-A5D8-19FADD480B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46190F9-5DFF-4CE4-A052-DBD57ABD8C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6CDBB-DFD4-4831-8A64-CAB4DFE60F2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ED492-E636-4208-9133-DB985573499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7A456-22E0-41AF-B326-BB773178CF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D79CE-F5FE-44D2-A286-4090C9C528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F6680-47A7-4D54-A854-9D53C9AF52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86A29-624F-4FBE-8861-83276551688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DA5E4-4317-4B6A-9BCD-FC995DCE270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90393-8962-4732-B41C-2D65DF1966CE}"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8DC10-8FBB-4688-90CF-0342661232B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4316D-00EF-4DF4-9FAA-0F9C0E7A37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D2673-041F-4024-BF7F-CFD519A3455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F03E6-16D8-4FFD-A2F6-084CDDF9290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AB527-0977-49E4-A104-B786817135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EAA54-F0DF-4C93-800E-17B426C885C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7ECCB-5381-44D8-8FBF-1D9D592B58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EDE5B-6534-4C44-A248-2823F53D510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6F787-A4A6-467F-9AED-D0480E9A375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F94E7-1959-462C-9D45-362CCAE827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41BBE-DFEC-483F-B3A6-7CA825A27E2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24C5E-B042-468E-8250-E072E4FC11F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1E1DD-E40B-4B11-A4E7-DF86B0496F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21755-0F24-48F7-A20B-FDF3BE98686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4810C-F17D-4FC2-913C-63C57ED3C43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F23FF-D298-4A79-8398-57BEF96ADE6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97728-0F5E-48E2-841C-1564BF189F47}"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A0A0A-9B66-4EDF-BD75-1A2C7CA1DCA7}"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CDAC2-28AC-4CB2-888D-C34ED772E340}"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A8CEF-DC6D-4976-91CC-D05CB03DB8DE}"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3B1BB-678A-420C-A516-A852F08C9E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A933E-0D78-4A0A-B1D3-493623FF225C}"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43060-A2B4-4D46-B1DF-52566442B929}"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5DCB7-CDAE-4E2F-9ABE-B2D6A8378D7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280BF-38A1-42A6-978C-F4D7E9FF502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5A2CC-4143-493E-9D71-4EBD880FB69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17F6C-A53F-4BB7-9A7D-41AC201BBDD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0F3A9-4E0B-4FB4-9E7C-9321E77AE018}"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547E4-7716-42DC-B82A-B133D04EC3A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105D1-0654-40B1-893A-32796C6232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BF8EE-5476-4C73-9744-BE768F43BF26}"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13783-9ED2-4C83-9A3A-8AAAB78AD1DE}"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06F8B6-26E6-4785-89D7-C0DD8474B48F}"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241FE-3BA4-42DE-B3ED-7624BDDD905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C1528-AA38-4250-BD80-7C6B72ED552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5BEFD-ADFE-4DCD-B55A-36A76F3A62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76E30-62E0-4817-A514-B88DAB0C761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27D9F0-79D1-4B3A-8B78-1E79FDAAE59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8C6F0-1C63-43F5-82DB-B314ED713A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E4F02-9F74-4BAB-BEE4-82E01B68B2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8F1EE-BFDC-4019-AD32-2E4B96E3B2F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30E20-914C-4BE1-8829-EC1039A427E4}"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6C8D9-C18D-4F80-82F7-5C4F8E3F598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8BDF9-D6C6-4BBA-8089-D1EDDEE5D68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F515B-64F7-4FC9-81F9-DA164C2E48E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8D5DE-9299-45AA-9CAC-C8C43711843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CBECC-D096-4A11-A729-9B7A14BA71A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08C23-B58D-4877-AF20-F2DA213114F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6FA1D-8D48-4B0C-91C9-FD3E643883B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