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2026D-5BEE-4761-B4E9-762CA64D2920}"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F20120-2688-42AB-A614-C0D148AD7D8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F8729-78AA-41A5-82B1-7F08DE9DFC33}"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4306EF9-55FE-46CE-A3A7-EFF39743BE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937F11C-CB8D-4613-B4AD-82B294C4FC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148AFB5-FA83-4B48-ABFE-07BE2B762C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40D7876-2E80-4BB5-91A2-EC0FAF97302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1EFFE02-AE4A-4D48-ACA7-ABE059CFCFD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FB82586-2D78-4974-B76D-57991934479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73A95AC-A0A8-4C21-A8A6-86561E9384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AC3CDCC-8865-4211-B6F4-26F17906F53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328B740-6AE5-47B5-B338-7B2E2FBED39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3DCD81D-92AF-4A7F-AAA8-AC3A0C8161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76F2997-B5F3-408A-AECE-48B01071BA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27C0225-7D0B-4539-B4DB-0DC78A2DF2E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89364BC-C18A-4294-9A36-5B8D4F0445B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497AE39C-401D-41F4-AE76-862B8CCCCDB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6BF6E3C8-8EFF-4F90-9FCB-419F66FE1EA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ED4AA52-B47F-44D9-94E6-323596C65F1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E7D18F0-E192-4A2C-A414-2FA6F830FAE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0B0EEDD-7155-422A-8D56-96D1A21B2EE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E09F3FB-C82A-487C-BFFE-7B555CD3CD1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31F58443-C864-421B-9073-52F1B63284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27A9CAE-84DB-4A1D-B296-4DC17533EDF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31DE15C-57D3-4304-AF45-6B41839CDE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CBBF0E9-3551-40D6-A84F-B283ED05D7D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1EDE340-4A5C-4AD5-AD8E-0A1AD7B56E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99C0AA8-8582-4525-937B-2AB2EEF7DF4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E66AB1D-8043-4DD1-9188-75ECAA546B0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62D2D7A-1EF4-415C-B076-E8EAD9F76F6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D248461-6B76-4B8C-B696-5675CD2EC23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FD91F0B-861F-4AD5-A686-73623CB06E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F3A91E1-7FDA-49DD-B4BA-BD2062952D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7966BF4-9BA0-4633-9547-5CD58A9D98D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5BF0405-B2FB-4936-9C80-49F446CFEE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FAF1A55-0323-4EE2-A2A8-EA5E185D966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CD07ED1-BDA6-4B79-96A2-4090114645C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B81ED48-0365-494B-B8DF-0FD575A65E9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B80799D-105D-465B-AB04-D9BEC873339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E9F3C02C-639A-41DB-86EA-B50EDA3D6D1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39A283C2-9CE5-484C-9A0C-ABF98200C44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9A699CBA-B09B-42D6-B2C4-FE74BDF81C6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21FBEF9-5A8D-4B36-8577-EB040F0F07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92EB556-D4E5-481C-9083-0C208E6F9FD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4999F93-7BA1-4348-87DC-6D2CFD9525F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474420D-51E1-4FA2-AAEA-3B6D910EBD5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3F708AF-3FE3-48AE-AB94-AC993CA1EBF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A732A2AD-81DD-4DB2-B50D-7453F308648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C98BE6E-19F3-431B-ABC0-38CE0AA06B8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F1AD73F6-6905-418C-BE09-DE643CD5B0A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1319FDD0-4BCC-4688-A7F7-4C3629FD554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5868A939-9EBC-4AA6-9CDA-CEB7B343B48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95A927B6-D15F-47DA-B835-52FFFE17B2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7339FBD6-7FB9-4C5D-AD39-FF768BD02E0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9F51FB5-5353-4D5B-ADC5-BCF60F0378B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9B7768AD-E8BD-4A96-8D9A-09E0903EC1B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333CD9F4-6C95-4002-8002-30ADBBCBE23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A95D1B15-926B-47AE-9E0C-6D6D71FEBE7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FCABB5E8-4027-48CB-8D41-36DD41CABAA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936E71E9-5DD6-4CDD-830C-9690C0B0250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0C93C3D-906B-4B3B-B965-F83A63632C3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65387B7D-510F-45FA-8E07-37CD9A83053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F4AADFFC-F7B0-4250-B397-23C4D096EE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B66A0B2F-A252-4672-BE38-6658CF9DD07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878D7B13-F8FC-4A7B-8D4C-DB093170266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CBA4483D-0D35-40E4-87A6-366E98F8D00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F1D84343-E2D9-4572-93AB-DCB7F197C2C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0F33E8FC-ECE6-4AC8-95F8-0DB0D8A5EF1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7A2D6BA3-BB1A-4426-8C47-8A789BE1B91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AB197263-E283-4B54-8FCE-7F02C1A6337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04591AF3-8C58-4A64-B024-EC85DD3A1D6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F1FA5FFF-2616-4CF1-8535-18430435C75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F8B2470-15F8-47D7-8443-08C988C9E3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454CB041-B07B-4ECF-8530-6EADDB7AC4B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F97896D9-0308-4224-AEAA-F86A3CB99DE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698F10E9-8D82-4F4D-BD57-94551748250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48D135B4-C2C4-4262-BC3A-23627755916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4D7FBB3F-DD69-4195-AFFE-6B3BFD6FD99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46C3BA35-AECB-456A-AD00-A10818BE4F2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8F8F8BAA-EC73-4728-8646-D35986CAF12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783DDDA5-5265-4F05-BF20-E0559C751AD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49DAC57-9F43-47C7-A3E2-0138237BAC5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3DB1AA16-3B1D-4C4B-9922-E888F79078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881EEC9C-8CF5-4639-A731-8F9F90DF64D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3EE8E24-2C2A-441E-90EE-047C4212374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0C047F-36F4-4A2C-878D-4D0534E2D97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A564657-1087-429B-9706-896787F027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FFFC17-9C75-4573-AD15-EE15C2FBEC8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99673BA-8F80-4263-899D-546E178648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F6FA65C-9A5A-4A54-B043-2A4FF70F906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BC4DCB-6FDB-483C-B770-9AE574F1D5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484D9F4-1C4E-47C2-931E-9295D01F98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B57C95-0A1D-4DAA-8BF6-1E1B3E9780A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E0E7DCC-BDA6-4731-9F3D-8E6BE86ED9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5D03381-CCBC-48CE-9A46-5F22AF4A93B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556F96C-590E-4F7A-A2ED-4F240D374E3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64A38B6-A93E-4921-9499-ABA40C52735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E64F11B3-7658-4565-86CF-ECA96E10E4A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9A0A8410-1BB0-41FC-9125-5A653E31818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20C35FB3-FAE0-4C0E-8EE6-74F375E0E80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665F9DC4-6A0C-4307-A700-316144E43F9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93E16168-5566-4778-AC52-F0291BC9FD0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656175FA-3138-48C8-B994-6399C13706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E5DDD4D6-80AA-4B01-98B3-BC7A8F6347B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B6A1778-D7DA-4AD8-822A-8019B938F1E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D485D226-7883-4819-8262-E9D8FA91496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5FB7233C-0317-4A18-8D79-FF94AECB2E1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39A3D292-953C-4B0A-BC9B-0AC090235F1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E2854AC-BF89-4C52-B743-A2AD029BBC5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CAAC276B-5D9D-4A41-936C-4A6F91C94FE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45102D94-E370-4A03-BAE9-9FF2E7974B9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BB768653-83A8-42ED-A3A2-64C01B20191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34460B87-8E89-4739-9498-859F387D54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F5438CB2-2BBF-4021-A71F-880314D78E1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DFDA249F-C134-4910-93DA-B7ED8E44497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814B9D04-ABEC-4F20-83E6-3F3C2EC7213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B88AB698-CC65-40B1-9145-B28866741C8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EF2B7D88-1C3B-4691-ADF4-2FD031A73F0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8089A84F-F5C0-46EA-9351-D84F02D4711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FED087A1-22D0-422A-80FC-6FD487EEC1D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C12B36A-D2D8-42B9-B363-1165A75B296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7FF40E6-AD3B-44B8-BEA6-3E84652F712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2969B9F-05C7-4CC9-9B01-540B729316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BFA2FAF-27D5-4B90-A831-D62EDAF7D16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17C9F248-24C4-4B57-B330-67122E10809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7F23E04-5812-4B86-AEFC-3DB55B4AAE6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EF00430-B037-40FA-886C-138850E4F7E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F219482-F184-4614-AF7F-E406678FDBE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3C13836-02A5-423C-AA07-080D5D42FE9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7ABEFD1-3FD4-4CB9-8572-1FABE40C294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1B8F72D-EE06-4B4A-99F1-88500213993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3D5D1757-4863-4159-83B4-C2479649291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C9C3C12-6022-4554-9F81-8077986A6A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233FBDFB-CF7E-46C1-B60B-B5EAD4323FD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B86CD2C2-4E53-4D24-8A55-8A0BF226991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C7AEFDC5-4F8E-4F15-8AF7-2354B9F2A32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7219F40F-31A9-4745-9C06-C82AFF3EEF1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A9120286-AAE7-4FAF-B523-6E3443EFA74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AEEF616D-5127-418E-ABD2-991A896D3DB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23B2493E-73E5-4D56-9EAF-E9B83128FAF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735C84D1-B48C-4D17-9A5E-FF40A23F925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B2E3FD90-B3DF-460B-95DE-DEA05A8ADEE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A4A8BE57-B037-413C-A742-A2B6478C00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4BACFE7C-239D-4D2B-BB22-30EAFF2BB40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BC12159-720C-46DA-8FB7-3ACA41D9B32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DCEE3855-D091-459E-8C98-51473BDF1F4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E561EB0A-A006-4FB5-8A69-B88DC38918B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0E5C98F-731F-4855-8714-E443D9CBCD5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F36397A3-11AC-4E90-8703-E61183E6E30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CED8B51B-AAB2-436F-802D-09F1EF5FF76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BEB4BEEF-CC8A-4D71-A3D5-4CC108E0B6D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748136A9-202C-4766-9371-0A4FA6C4393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AE5FD44-27E8-42AE-9B6A-C1304CAC152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5197756E-7548-419B-945D-2071633CEC3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BF9D284E-0704-4479-8389-E4356619A58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30737B3C-04D9-4AA5-AEFC-64F14FDDFC3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E980A85-6FFE-4111-94B6-B8E2D234003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CFF43D85-B380-4460-998E-DA12C26751E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F1FC138B-2DD0-42CE-91AE-A2D1B91CFE7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E49AC125-4A11-48CF-820F-485AF690797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7ABA7D38-2975-4B13-8023-AAC231CCC53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5CD22E15-A847-4906-927F-3DA8D32C708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253F5FBC-6178-449A-A172-AEB8BE6A0C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ABFE8A21-1C08-4B34-AFDF-4033C4E3CA7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A914C72A-212A-493F-999C-6139E722354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ABAF0464-2CFA-4D3F-BB5B-0D1FBFD378A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DA0E92A7-A34A-46C6-89B8-FEA9EB5EED5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200CE037-94FF-41DC-BA34-06D7DDF5FB7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1C2BBE8-8DC5-43FD-B5D2-00BE6926963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7AC07F2-91E9-4776-B1CF-850E91E7CFA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C5CE4702-A010-48C3-A2F6-E10E21C68F2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25AFE47-5200-44D0-AAF5-EB87856DEA6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45460839-4185-425D-A7B0-8906EE3DFB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AE2A4164-F864-431A-B5B2-45E3AD6253D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3003211-9C4B-48A3-A77D-5FCDB90E2DA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6D362DC-25EC-4B00-9F2F-F0B84474638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B5F9215-200E-40A6-AEBE-8E7C829A9F5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A877F68F-2B99-4DF3-BF03-BEFAC82F6B8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7E060B8-87BE-4482-AC07-44448B5147E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7782163E-7B25-442B-B346-98944FFDE47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5E4211E-8B1C-4630-B613-E94CFCD2770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652B553-2918-44A1-BC3F-E298D1C9593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E774D23-DD73-4A79-AA89-53EC7A3B54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37CF6E7-473C-4F6D-B649-BE33B6F3DB1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0520A42D-344C-4FB6-AE14-B205DD2F80C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62592CB5-6F3C-4A84-BC85-43DFE6808DF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4314DE2-430B-4B52-AC89-1B4261E2424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6E0C7F7-891E-4D6F-8ED6-E6F5F01AAE7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BEB15E3-01C1-4E72-A243-8824E9EAFBF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FE5E18D-F2C2-47F0-8BBF-3835CB10270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8FEDD13A-9FBF-42DE-A5E1-1C0191DCB15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779F588-FBD0-478F-B592-6BA95C5985E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FCB9D38-7E09-4C21-874B-436236F127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1ACBAB0-1732-47AB-8836-D9D31BCC170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7DFFA64-5635-49EF-9B1D-601C474A7A8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F726226-98E5-410A-9B00-7C79CDEE221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495FFB2-DDF1-4C08-A19E-00664A22E68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8B82E32C-AAC2-4070-A498-16F0717A5B09}"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BF6F937-197B-49BA-9B64-C6E2C64A18F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A55B928-82E2-4A1A-B256-A6E05A16A3DA}"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28E0B1A-3C1B-4467-A806-95641E73A6F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08C2E3D-E69A-4FB9-8BD0-5E79C6B4C028}"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27F0DF4B-962F-4C47-8447-F205D31E07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D8DBE07-1FD4-42FC-88A6-7D0CB1D4D56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FFA78BE-1F30-4402-AE4A-167700B2EA07}"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287AC29C-34AD-442D-B938-2E15708C977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C4FA03F3-5F6A-4C12-A62B-93EF90231E9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114B4E12-9284-4955-824A-9AC7C418B995}"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07DA1163-0E12-44BA-8F0F-ECB099C52A8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2103ACC9-8505-45B8-B7D0-A25B1AB1A015}"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29306991-B015-481C-9D89-3FA780B2CB33}"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4CBEDC28-F413-4951-B416-BB706DD5EAA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E94D6C60-2882-4D40-94FA-AE107A172AF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8039EFD5-F4CD-43CB-9FDC-C587CE74F206}"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A2E67328-B0E4-4DA0-8D62-620520AAEBF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0B926DAD-72FD-47B3-BA02-3B93DF5D29C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045EB3D-B9C4-4D4E-8184-CB5484EF1238}"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C6BC2E5F-C77B-42CE-BEF5-123A456D1E6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23EF0A88-05D7-458B-8B2A-525A4263D8C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138BF6BF-F309-40D9-989A-E8BAE71FD780}"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555E6F6D-B5B6-4F13-8E0B-ADC6F3371E5E}"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D96DA308-8332-4F59-8178-A60621A200DE}"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B0F35A25-4A73-446D-A3B1-86FF8FF8BD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189270CE-D111-4A61-9B30-D2B1A51AE2A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1A9D26C4-AA04-4EEA-962D-2FD3AA5C453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16389DC7-6323-4230-AEE0-B3AF2D57DC31}"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1F93D15F-BD50-480A-B800-4A9BBA61ECCB}"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86BF3D6F-1823-42E4-8CC6-35F586C9DE7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C657A4E2-DDCD-435D-AECE-0788C3F0681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4732B83C-DFB0-47FB-A2E2-ACD6A31AD6D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5703B8C4-E287-469C-992F-A8948B4ED63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885B3031-D50E-4D7A-8AA1-3002EBEB86EC}"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34140736-3A2E-4A42-B329-4746044463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CFB116B3-DA3F-4EEE-985C-22588106F1C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8A64B8A6-14A6-4D22-9832-412C696D304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920827C0-AB87-4468-ABD9-9CDC34B5A69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2E3EA86B-0411-4990-A4D0-81B07943EDB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A1D36681-885A-4C27-8A8F-27416A93BFE3}"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A20E75B2-4FB9-41CF-BC07-BF8A48F9053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7482F1DA-9132-4639-A503-27410A40C0D4}"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35A52A5-3ACE-41DA-84BE-164049DCCAF2}"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0E9EC970-B029-4670-86BA-0C01E142384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7A1DDFC7-ECD5-4053-91BF-3DF961116A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3B67C324-E541-4F11-B353-0AAFD0BD438B}"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5D7279E6-7437-4A74-AB19-70F2F10F719A}"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A76C0281-8E6D-4495-BA5F-C81838176396}"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D230E545-171E-4ADE-90E3-0DD89F9B5E96}"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9C4FB02E-488E-444F-AF89-DBF38BBB3763}"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1654D3AA-BB09-4BD9-9E93-84B26F009EF7}"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2157DBD4-6634-43C3-8AB6-9BAE154B97E4}"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D99C6CFD-DE20-4429-B709-62A1B214820B}"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D287BBE6-6FDE-4A28-B219-CA1A273E001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C785E43B-F285-4951-8B5A-433B3DFF53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D6F1C16D-9D9D-4642-97D9-1345AE3CF17E}"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AEF7326D-7C04-47C2-A23F-92D92790806E}"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4BE0ED48-79A4-4D2A-B83D-82999FF6B34F}"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B196E1A3-C861-4FFD-A592-739542EFD2F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98DE58DF-A35C-4B83-A586-AF9E7D9C8E7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455E7A1F-D044-460B-BD98-7913E6959E1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8D8AB763-21FF-4638-9627-0BB9C8DF308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8B64F62D-B140-4016-9675-0862FA50C172}"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9557CAB6-D658-43EF-ABB9-BAA22247C444}"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DA3E56AC-79F5-4054-A022-9FB81A6CF85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89CE9C74-CEDB-4394-9373-007A26B8D21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2CCA4916-3B6F-4174-9032-6ABD19352AA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22EB57D5-D109-4B5D-AACD-8BF6D8826DE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22CEEB07-EE30-467C-BC2D-6BE67211E8C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4416D47F-FD8F-4E32-9CDA-9513ABCB3D8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5BE2AF75-D9C4-4E82-BA52-2DA6989B2DFD}"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76FD0C5E-05ED-4670-BD23-692DC116AA4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BC672CA1-782C-4386-89DF-B070723A6795}"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D6CA43DF-5B70-44D0-95D6-10DAB44CE17B}"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22324CD4-5510-4139-AB80-0039446290F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8B9BE-9755-4498-BBE7-63D423A3D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E28F170B-2835-4F51-B73D-982AD19A211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69E2AD2B-87DE-419F-BF62-D9998AC677D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6F5ABAE5-6373-4A8B-9395-D56DB6A567C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FADC2F5B-4AA6-436D-8BCE-8383EB57D7E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2B08A926-F6F7-4810-B5BF-6ACA942332F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B42E50E4-FE76-4A56-872D-DC363F030A9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84A9D4A0-3E6B-4C49-BADF-D7394CD73BA0}"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1C4A7EDA-FB9F-4ABB-9853-576238CCBB17}"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F4B2F763-3580-4D69-8B22-EB8FBE03E26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235036AD-3061-4ED0-986D-4D874116EAE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A753F-2C14-45FC-9E1D-1D9071646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5CF48514-7BA3-4D9B-B0B3-7970447F64ED}"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5C7B4090-0752-47E6-A89D-CC860249C0A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B7D8A802-6D85-4CD3-B912-60D537BB53F6}"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C8565C77-C21F-40F8-969D-95DF8D7F6FC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951CD9ED-7826-4560-909B-032D8E196912}"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E3615D8E-10DF-41E7-8535-F1B0A92BD118}"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4A65A89F-4168-44FE-B678-8EA3DD569C9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74A4FE9D-DA16-49DC-8238-C0CC4C5D2035}"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C8FFB974-028A-4AD6-84CB-0019F5F4B388}"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A6BAC16A-DA55-4BAE-A062-58445A5216D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FBA35-C7F6-44DA-8F6C-9E6A268CA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5AE24142-EE55-489D-B58C-023FB43FB80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19B4AA9A-B88E-48F0-B484-6EA20B13282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FC5C46DC-7620-4EB7-B8EB-E1B55AF496F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1480B2D0-2C2B-469A-BB17-EB4D13219CB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89B4BDF8-741F-4FEA-9C78-7024A2E9226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6A288B6B-4BF4-4CD3-9A10-9CDB27FEBFC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DA422706-A4E4-468D-84B4-4D79C583E80E}"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E4DB0E7-6579-4AF4-851B-B6009580E99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47866E92-B8F9-4FC6-9A8D-BB2CF2A39BA0}"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F19D2208-34FB-4A60-A900-E13F8DA69F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6FCD4-DE5C-4C18-B2B9-BA9052570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7D06D7D6-7851-423C-AB61-5F3E3ECF5F9F}"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8B40CB40-A104-4E53-93A1-1B7DD112D3C1}"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89E959FF-F6F8-4C2D-AFBC-28F9DF29009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58D1689A-0DB1-479D-994F-4D0A8430D3D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1AAAC39D-0DB3-441E-8760-9CA72A68F2B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C17C9D2F-71CD-4023-92D6-D1DDB9A45614}"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5E8008BF-02B5-4E7D-BC29-28A897C96C3F}"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CD040742-68BE-42B2-A0F2-87A7F585D40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17EF3A97-80E1-4CB1-B4BB-C566CBF628A5}"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A5F64686-47B4-4ED9-B92E-33DFC060550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060C9-F3DC-45F2-9AE9-50E49DFA8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AD4030C4-2EC9-4A27-9CDE-D1D59FB82BD4}"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5AD75708-12E8-44AA-9B63-2F4CE365B468}"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49252A31-5A86-4A5D-B3DB-9AF2F3AC49F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16F55517-791C-4650-9205-80DBA58E3495}"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5325BF72-6D60-4C94-89F5-D89BC5E0898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3D9650A5-B8C2-486A-935E-9FA87FDEEA33}"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3B794F99-FD18-4E87-8AAD-578EA127CB4C}"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DED46594-7311-40A4-9C93-3A1DF739B28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D62AC669-47CD-4CD8-975F-30BCA7189C29}"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9634AD93-C6EF-4C91-8F1A-C196839B8F8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308EB-1298-48F9-964A-905730D9F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C4967B8B-F05A-492C-8F4D-B884646F9487}"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6F6DF97-8FAF-488E-A3F5-DDA70D2595F3}"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4D627ECB-81BE-4119-9198-C5833596D9AE}"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BE13203F-1BB8-445C-90E7-C5CBFDF9E0DA}"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05A9AD84-E2A6-4177-BF55-8E781A827493}"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32D2E5E2-78FF-4CF0-9EB3-5C0B5189155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3B260B73-EDA8-4054-ADB1-611810AEA329}"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0A741299-F183-4B24-91A2-B3FB39F18ED4}"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41C83AA5-66CA-4EBC-B23A-F32A8CF2C6FC}"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AA87D3CF-546D-4ED6-9A9E-D63D19FB4B6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67CC6-A35F-4517-916E-28284F7B5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DDBB8235-D2E2-4DF4-9BC0-513B65ECAA5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7F2CCEC0-CA1E-493B-87BA-FC58B08A15F8}"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6F188F78-2F59-4705-A7F3-6A589B0C3DF6}"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3FECF68-CB34-4F05-A9D2-7690373E481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A686ED92-6FBF-4D26-BD35-7F1EA546F4E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0AFB33EC-C931-4802-A844-12BF3F6931F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337F1F17-51A3-4A50-9F12-9688F52AC94C}"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6A96D89E-B101-4B68-8448-CAD2CB635ED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A9135C78-4D03-4109-BC97-4DADFE5BFE8E}"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91626937-6062-4673-867F-7CB358A7630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83362-EFC0-4669-ADF9-3F3ED8B5B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24A456E1-5E1B-4546-8707-7AEE4390E8B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1FD8DA21-9EE7-4F6E-9BE7-83258C739565}"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47E343DD-379C-4DA0-9E0F-A91313FF2910}"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B8DCFC46-56EE-48B0-B1A0-1040E3A8D2B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81ACF4F0-8DE9-4AAA-89BF-60B72CF99242}"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2434F8D6-4203-459D-9577-B6C50DFC4DAC}"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07221637-FB7C-47FD-9F6C-B35DF2188BA0}"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F74BB2F8-5123-4193-B922-9D8C2FB8D73B}"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787EFE0F-0E82-49CB-BD7F-0409AA474CC3}"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2AA46918-2F6C-4D5C-808D-42746EF2775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7F5BA-66D8-4F3B-8DEA-C20E2557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EDC6B5AF-E2D8-47B2-88E5-A791666F2522}"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900FC9C1-7A60-4F97-AC4D-0552D9C1541A}"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A8DD49C7-7719-4235-9901-D104733B1AB7}"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55CB8CB2-0BCF-4B18-B6A6-69E43B36288C}"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275286C2-450C-4765-917C-487E6047C657}"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CA2EAF7D-00A3-4A9C-A6E3-4230A512D7AF}"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6B1FA065-7889-4A30-B72F-7F69EB8DE3FE}"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C15A18C7-AD60-4DD5-B4DC-B72CD66CD4C4}"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23F208FF-984C-48D5-9FA1-91F79CE4D67B}"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4C177D99-7F0C-438B-AC81-683E92E924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4267C-1B26-4A41-A89C-9CC0E6075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74AB5E07-6844-4DD0-BE3E-882E1BDE03F3}"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4F3B72E2-0D66-4864-9946-7F078273915B}"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D2ECC8CE-C130-4D01-9B51-5B7854673ED9}"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D630F97E-2915-466F-8DB5-C95F6469385C}"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EBEC2C76-D0D5-4027-9A44-259AFF13BDCA}"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68793E0C-74CF-4F31-8650-DEEAFA2AF6E9}"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BDA4D777-C76A-4720-BF62-6DD2FA365D46}"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173CF500-0C44-40A3-AD00-3E4217FD8E68}"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ADD127BF-BC3F-46D6-8E68-A28F1738C14D}"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D25D774D-77D3-48C4-B6C3-B242E97522C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6A58F-823D-4BBA-8837-917982F32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A95D2811-CAFB-4B46-A854-CE468FED3776}"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6EBE0E6F-2382-4ACC-9797-9A763367F221}"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B0BE939D-457F-4AB2-9BF3-C71D1E08517A}"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01469DA0-2439-41E4-AFE0-B5B9EC8F48C6}"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EB31EE47-AA2C-4033-9DE9-A122DFE30A34}"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7C0E4213-3E6F-4242-A042-A261069BDC58}"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890F4A3B-37BC-4DAB-83F0-868E7F973E13}"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A23B7082-EFD6-4F04-A6E3-3573D9E6D3CE}"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8F122609-4519-48ED-86C0-A58B7B22BAA3}"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9A511379-F7EE-4DC4-B7EA-6BDEDFD23C9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E1858-6907-473F-9B12-D8E12E30A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BE761275-DEC4-40A5-94A4-D9E81E40742E}"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DC1BBDD-C173-4B54-9E94-A1A3FD1039A7}"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6F94AD64-59B9-4916-99A7-3AFB8734CDB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4C752AC2-06F0-45FF-B817-D0B5C16FE548}"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AFE5298D-9714-496A-8F7E-CB2BF56E5120}"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528E8FDE-5FE7-45A2-8CAD-C8FA715087AC}"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D7A2113D-42D4-45CE-BEB0-B6AF1C40BD06}"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BF3B4F11-32D1-400A-9D6D-6D4BE8C0F913}"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5B80F379-8CEE-44FF-957E-FE29F7E3726B}"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900E6356-7D19-41A7-8B3E-844A8A412A9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D70079-51E2-4165-8116-AD20D27E101F}"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5F55BCFC-1B78-4BDE-BFE1-C3839E751319}"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BF567410-CB7D-4BBC-88F6-EBFD4F720FA3}"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342AA85D-6C5E-43C9-B4A7-D739F9BDCCD6}"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EE4790A5-144D-4F29-B60B-9EB257FA291F}"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5D8E5BCE-FA2B-40FF-8953-626AA798C7DA}"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08A933CE-5D05-4A4E-95B5-8E823B4E7A18}"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3C649171-E256-4E92-B897-C1A6CE60AD67}"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04D4A710-11F7-463A-9819-995B1CBF482A}"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13A67CBC-F09A-4BE4-9569-B86CDC5211DA}"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4AF5B156-9D09-4FE9-9B06-9EF4A684C2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3878488-C873-4EFB-BC57-9B05E5B98335}"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13272F83-D4C7-4930-98BC-56F9B290AE5E}"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65E0A440-2507-499E-BA58-CCE66B763533}"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9755E343-4F3E-43E4-8829-F46D49878D95}"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886003F8-0306-4607-8F18-0777DFEF6D5B}"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299F652E-BDFF-4637-A0F9-3EE0B344EADC}"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FF83BAC2-8C3B-49BC-83D9-6195E6416351}"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9C2B3273-7313-4AE5-A439-9F8FDB91682B}"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53B17377-EECC-4E3D-B711-3E6AAC6A90CC}"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B4843941-AFDF-4053-B67F-38FE14E717F7}"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BC5E78B2-A04F-44CD-8E2D-ED170FE8859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9EEB0C0-E720-48C5-B0C8-285406E3AE3D}"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506600C9-4E11-4E90-929D-852510C31456}"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20D84CAC-565D-4A0E-ABB6-168D9BF6FE95}"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A6EE3008-EDE3-4B1E-9F94-C1B41727F4F6}"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DD50F1FD-7771-46F0-B0B2-278DA76039ED}"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252C035F-63C0-41F6-A312-8BD87874C00D}"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E0ED6D15-A93E-4560-9BA1-FDE3DB665FAC}"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C193A313-D0A8-4D51-9C25-4512846CE76D}"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F782D27B-3889-4222-8423-5DAF5BADA444}"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A71D9EB0-CF34-4646-882A-0F39E6F090F4}"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44A06492-ED97-450E-8B8D-B7D67AC5D5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6504999-7DED-4309-850C-DAAA74A91815}"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366C75E0-13CF-45A3-A1CD-8CB451A481A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12EF72C6-3C4D-48CD-94B8-305F8D06639E}"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37F2C174-6A20-4081-BD15-75A2E5868EEF}"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ED014106-9E0A-45FC-8D00-563418CD4D77}"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BBAF1921-6D7A-427E-B9AA-FA8CBABD9DFF}"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BCDE3AD8-AE23-45DA-BA1E-4C5788B8D987}"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4E493D14-13B5-4CBC-B9B5-50729144F8D3}"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76714222-64BE-4DE1-A8FF-AA3516C4343F}"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B63CA07A-B5E6-4608-88FA-4CEA6BC74AB8}"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D23E0458-913E-4B49-AF10-6CD6666D834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710521A-0094-4B4C-8F8F-E4B8371BB23B}"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77BDFD75-CE9D-4039-A474-66B610A1AC1F}"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05826A80-81AE-44E8-A829-8FEDEC65AC54}"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612D32BA-FBFD-4D43-B1CD-223379E8CA70}"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BD8762DD-3868-4418-A535-56718BE86BBC}"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98C5B16A-7F73-4C86-B25B-B43552457353}"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54552D59-CD1F-40AD-852E-FD593335D83D}"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D1E638F3-4E74-40EF-96BE-2582AFC5B6EB}"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90283B22-0A88-4796-98A7-0B22FFD55436}"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D885BDBF-3896-4342-8D48-F497B8BF8F86}"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3309FA2B-C862-4422-B917-29F5326FB01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719B0A4-200D-4AF9-852D-176027704E24}"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1A3F6D24-AA79-4F22-BF81-BA38E11DF87F}"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1D8745C-9CBB-4781-B6F3-4C2A71C1A3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EC6B27A-0029-4FDF-A245-BA1D7223E5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4386687-9F76-4334-B59A-39EDDCC196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351976F-C68F-4105-B56E-FA47C1AA74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6DD07F0-52E7-46AE-8C5B-5A37462921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6C20AD4-7367-4C28-8708-275B5AB313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1EB0CA8-F6AB-4485-B67C-B984625A6C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3A68C54-8F72-4772-AA9B-BCBE41278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4063174-3EFF-4535-8D53-19D7DCD85D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A5F5CE-DB55-40E9-ACAA-6A3A29CD3DC3}"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042FEF1-D848-46B8-A0BD-F68B6A61CE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40F2F70-E6B4-49F3-A162-4A6A8ED1BF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49249FE-9017-4EBE-A62A-927654DBB6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73881A87-68C3-49AD-AC88-17689DDE6DC0}"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82099619-CB19-4B16-A9FC-75848C2A8279}"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65730E6F-CDC6-49EE-8B07-3F2A7B7D0A6F}"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61D7BA27-54A7-43C3-BE35-0A41902F476E}"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B70BCEF0-A2FC-46E1-94C0-1B477CCC8720}"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4B334CFB-886C-4A4E-9220-E019B8B0D833}"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6FB2ADFC-B5CB-44E1-BE9D-4DA0D6D0B98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48475D-31E2-46B6-B67E-892E09FDA3C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91F5B993-C343-469B-856B-207472917332}"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D174CE90-5E99-4908-BE2B-DF1B9EABDB18}"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B7D833D4-39F1-4ADC-B918-03E2835E0CF6}"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9F0C129C-7327-4BCE-83E7-4011BFC58969}"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1FB45EA8-D2B4-4176-AE0E-F69BD3645E0B}"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D062AE21-AA71-4688-8074-7E5CF08ED904}"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188E73F9-4AEA-4D9F-9473-53D33FE54E64}"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0B78995A-1018-46A4-98BC-E2A796D894A4}"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EAA5DE1F-00E9-481B-8C19-A9C0042C0260}"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9DA7D714-07CC-46EB-8CDE-1DA135C593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9BDD15-FCDC-49B8-905D-821BD211058A}"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1464E1D6-ABF4-4927-A334-153FF90E28E7}"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CD71590D-E98E-42A3-8351-6FD1D7FEBAB7}"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B05FEC87-36D8-4AD2-A4BE-AB304DA93A96}"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4179CE8C-D60E-4126-B80E-40118C7CA303}"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27CA0FD1-A003-4D4D-9801-34E7ADBC915A}"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2CBE8C30-130C-44F1-92A5-BCFC85C5AA9E}"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056F5726-D4A0-4167-A04E-9879322A0717}"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6DB0E6D9-CEFA-4308-A0B6-27B275110E1A}"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5687E68B-1EF4-4193-9BC2-3B3A0025E20C}"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7EF2F40F-0F2B-43C2-AFC9-855DEE0E27B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C212916-9C0B-4F21-81B8-63814D9FEFEE}"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C046006A-3AA9-47E6-A479-95CEB8DC546F}"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4BC849BE-5122-48CC-9CF0-06E0D6DC485F}"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C66D697D-1CC0-4AB1-8932-FD71C8BD4F1B}"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CAA9D99C-D769-479E-B196-4D404985564F}"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4C62EDF9-6877-4632-BA55-8F52B4118974}"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DCA0D10D-8865-42D3-85A6-6BB9761D687F}"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E6599DBD-9789-4544-A6E0-418A94FF4BB5}"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EC69D9A4-4F66-462B-A856-883136F72FBA}"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D6C46477-7085-499B-98D4-494A61A6C56B}"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370BFB46-11C6-4CF7-AEBA-01DC7B0C02F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5A19F9A-672A-4735-AEF4-37FF834FBAD6}"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9946D6A7-B7F4-4CAB-8883-6E367AB1D413}"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E3C13828-FA3B-42F7-91B5-031805DA7DE9}"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EE1B7561-859F-44CB-BFDC-93616B91621C}"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E2651516-9739-4E88-86DE-4EAF358DB0B7}"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AF8CD7CB-B609-4292-82E3-E5BA797C1361}"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7C8B3239-63B0-46F5-8302-0B06251DF95B}"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BFDFAE12-203E-4495-A3E0-619B9621560F}"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CFACC274-7B4C-4663-987C-390976BB7924}"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283DF1E8-D474-4CCE-AE39-B1CF1D6143A1}"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B0646FDD-F808-43CE-8834-8D846F1A17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0E17EEB-204E-4E22-8536-9F815EBE19EC}"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F4BCFF82-65AD-4AE6-90AD-3C9218F76836}"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31F3600-6879-438D-A79A-03333533FB07}"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2BE817B-37C3-4D6B-8754-B6ED525952D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EA6FA6F-4C1E-4A81-AD19-B8DC0CC3834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501C9D6-016A-42FD-9064-55787E8254A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9BEA9C1-D3FE-437B-A6FA-0F0BC807651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ABBF988-991A-493E-BD10-B7C1E94498C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0EA6AF3-5849-498B-80A5-3BD2656F5C3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44AA3F7-E3D2-4EBA-B933-54CF3178B15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E4D6AF6-990D-4077-947E-F08DD650B11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08C59DA-2962-4E3B-8A02-EC0E511DFFB0}"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3DCBDC9-C9A9-49D2-9335-AAF01532697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3261E888-C283-456B-ADD7-477BA2F6065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54FACCF-D5F8-404F-9289-F47EFF2A6691}"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572B494-9F5F-4316-A8E7-86E27034646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22E332F-085C-440C-9FAA-B9798E56DF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2F91DB7-8C08-4070-8E02-798F87DB169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89D7613-E459-41DF-A7C5-8921007BAA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F995BCC-BE18-4433-9A52-AF5687C18AD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E3323A-B9BA-4381-9397-ECBE2EED217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CA92E0-0B1A-4ED8-BA88-00DD8DB7663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1A51FB6-4489-492A-AA1C-F4D73A3FCE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E111815-68EF-4AE2-842D-4CEFBC74FD4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9643089-0F40-429F-927E-564F522CB63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9FE30AB-B9F4-4C90-94C6-8E8DA7F2487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6B7ED4-8D69-490C-97BF-45DFA3AB222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2B0D0D1-EE34-4493-A268-436641457F0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6C74D17-1E25-4DA1-9B6A-A852C7F849A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E594BB9-EE15-4B8D-BF36-586FA402CC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11D5A42-B6B8-437D-9A7B-26EDBFCB68D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8679421-3627-49DD-975D-0C99F84335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3080AA7-2056-4893-8929-6140E2C0D7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B1DB7A-9ED0-444A-9858-94AC73CC73F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A136493-8CD1-45E6-A86D-D687016E1FA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E535030-2D28-442F-8578-5088F01D1B5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B6D57AE-295E-4D36-A4C4-B3F15880CE8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2536E7C-E3E4-4855-8077-CE296ABDEA7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4567AF-2571-4F8F-B3F7-6B0E0F6FF08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B9DA5CC-F02E-4811-BF2C-75C95E0123D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C3DB765-F716-4096-89EA-A91C072150A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01F2A9B-D755-4FCB-8764-96A2B591E66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C613579-3CC0-4647-BB4D-1CABC57804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DB33165-638A-43E7-B426-3F175B2015B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E8A8F13-D83F-459A-87FA-9015C0889F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CE9AE53-3985-4577-A049-7287B5D3488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D4E9339-B18E-4BA2-9247-6AA5CE257F1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F3CE70F-7A84-43C0-8DEC-5519AA3985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6B2E5897-D611-474D-A2AF-0AD94FF09FA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15BAA011-119E-4B7F-99BB-50B49C7CD1C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DD4818F-7EFF-4824-9798-60BD0E17EF6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77632DE-7807-4FD1-8D71-7B5E5BFD5F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755F1D2-4AA3-47E7-B3B1-3ADEF54880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6631A-A9D4-42F7-9F19-74071BF2A46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70C70-8011-4E70-B4BD-A5FCF81855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8E550-D65A-4FD4-8509-AF025D0F91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63CE0-5911-48CB-B593-2B4980786D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47CE5-E095-44D9-9AAF-56619C4A28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BB702-EA49-41E2-92DB-67E902E255B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D3A5A-6D7D-40FC-BCB5-12D1433A949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08B5C-C5DF-43FF-8940-EA8A2ECE5820}"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CD201-AA7B-4D0A-AF7C-B612A724D8D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58381-8114-4980-ADBD-84AA9432A64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B3879-8C9C-4880-9039-D0F8678F243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9CAF8-C764-4DC9-B67F-779A24EA607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6DD4B-FD7C-456E-BCC0-2537BE2A94B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2F041-961A-44D7-BC6D-DF052FDA1E7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43688-C427-4C94-B68C-70CA8DE9125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B9205-A668-42C2-A36F-1D83E2A2E3D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189BE-65FD-4C52-954A-6608FFDE720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AD30C-4B2E-438B-837D-6500DC87C97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55827-2018-44C3-8BD3-2B92F8B6A57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977F8-A278-4E94-BFBA-703DF49D280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2AD38-1CD1-4048-82BC-10ACDEABBEF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F26DA-70B2-40CF-86E6-13F94BB0450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752E8-C14E-421C-A15C-7CA64054917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D5634-124E-4C0F-99B7-264E401E661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424B1-26D8-49DA-8CF4-36EB124B0171}"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923AC-86C5-4EE3-A0C8-80BFCA975B87}"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6AC90-04B5-41D1-ADF6-455D0F4A09E5}"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5A599-8A85-4F44-97F9-7089C29963CF}"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29B76-3964-4B0D-B9DF-A8D66CA1001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A7652-711A-4CBD-868E-ED807F7EB7B8}"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7B84E-0F4F-4F29-9736-16815EC76EA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E2076-F945-4057-AEB0-EE627403DA7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A3D43-4ADC-4CE7-AEBC-DE382B2B48C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D38DB-37C3-40F8-BDEE-009F4BCB65C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46FC0-3AB7-480A-9F6B-5810E7161C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BD022-667A-4511-8DB1-6B1A6E389B9F}"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CC2F1-DAA2-4EF1-9412-AF7FB563417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E8DB9-013B-4C17-993C-0E178C64D7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8A531-DE3D-4920-B97A-92281B7B02AA}"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0F8DE-A1ED-4B24-AFA8-AAB79663E8EB}"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BA371-16F3-4220-A166-01084A0C4F79}"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B6C81-E7CC-430D-A844-7EEF614E2DB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1D0ED-F54A-40AD-B379-CC96C4049B9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F564D-7291-4AD8-9C30-7168D6EAAF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2C241-6364-4DA1-BE6A-72B1E49B51D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2BEB5-E60B-4A19-A69F-2A0703FC316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684C4-7526-45AF-B04F-E51FA282B37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1107C-B1AC-4464-B016-2805563D317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AEE1C-4506-4571-895F-90057B5EE3C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E3211-8F40-47C4-BE2A-F9EB9D5A9B31}"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B929B-22B4-4E65-8DE7-FD34AA6CCC6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5B4B6-A1B8-429F-A3A6-BAB74DAA11D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F7C99-155C-4511-9FE0-A904488D7BA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4EC47-256A-4306-BE93-27258CE7ADC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0DAC8-76CC-4CA2-858B-C9C4665E9564}"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6E26D-8CCB-4B4A-9904-0D9B1884C96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64F3A-77DF-4129-B855-2A29F025C73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