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633B9-3754-424D-A8F7-69959C539AE7}"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3C6A6-2A9A-427E-9A06-0BBD926B4BA1}"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66012-B51C-4970-8780-8226A87C7F5C}"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4B2D463-2655-4A7F-AB61-2C766FC9C6C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6868A71-FE15-4CFF-AA87-BCA13CCA21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58F790E0-889E-4A1E-9195-A90C08277F2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5BD6855-5183-48DE-88CE-14D2AED8C6C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2ED3E7A-8B4A-4E77-91B8-7E9583B902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24E3424-F5CE-471A-A1B4-2411A56CFB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7EE8D5E-75BC-4751-AA0C-4579DB2AC87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A50F9A8E-A071-4667-BEE3-9551D45A03D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DF757DB-A5DF-464E-B7B8-995FCCF5CA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DBFF801-69C6-40FA-B038-AC1CD57744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06D68B5-F769-4BD9-BD34-CFCB195943B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FE8104F-AE41-4B0B-8A93-A5C29B570D0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DB5AA89-13AD-4ADD-94E6-8AAEBC831E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F98C8F0-1F4B-49EE-88F6-ED52E17482B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5D49E8D2-52E8-41A0-84E2-A493B7D77BB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820D27A-9D90-4E8C-9988-D99A7FA635E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21EF277-FBD9-4845-AA6B-84DA3282F27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74B664E-7179-4176-8385-846E94B8C20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617A7EC-29F2-43B6-8C20-3DFB64773F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9D1EFE5A-41BA-4507-833D-B44A7909AB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C92B83E-1826-4716-940D-2FE43DC8D36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D9104A2-0362-4D47-B77E-0D31A5C2CC9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E6F3E75-A26E-456B-B006-BB73827171E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8DB073A-35F2-4B60-96FF-7B266981104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47516EE-C618-46E1-BB68-BB578578321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5651983-60E3-4311-A39E-42DAD734C52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8C95011-7BD1-4AC3-86B7-12E8765ED60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B685126-2A21-4DAD-8085-BA7FF5267DA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9AC93A1-7F04-4DA4-ABC8-FE8C4CE21A0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9F7F7F9-7D43-4315-958F-2A1A88424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B38F494-4B8B-4DDD-B5C4-3E302E59F2B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AE128C82-EB48-4411-8BF7-7EC72A2A2F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14EDD7F-CCE3-4256-9B9E-3C0B2ED06B3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5C67BA4-C2F8-4B6C-ABDA-352BF359B31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D95096D-A38B-4988-BE25-943494CDCCE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002AC57-0C3B-4640-95E9-54E57862AA2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3A2DD35-7370-4950-8325-C7209E3B704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3633465B-9ADD-47B6-8E27-10F7438C11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FF57DC27-7200-4E27-836D-E17673CB684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68AFD04-D773-4D74-84CB-BDE3B84F0B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37DD071-D481-4B8E-8E4A-D3C1887651C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F1ADE0B-DC6B-4975-8625-C7576D0D4FA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EF6D6E6-27B1-4497-BCE1-EC7C54D4688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77212F1C-63F6-407A-BD1E-795EA975728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F8662E39-1DB5-47BE-9BCB-C51755E8242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39286A0-86DE-4F43-936D-E85E5875A82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B8CD3E64-AFFD-4B74-96F5-EC41F88F38E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C4EE350E-08BB-45D1-9660-58AE0F776B6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DCA1EEA2-D5BF-43D6-B22C-F947205A3EC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4EC5C32D-10E4-4E76-BB3A-E7B83E5B54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5E0A148C-D42E-4470-A668-27C8C53D7C3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BFCE30E3-0098-49B5-A12D-326786AE166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4D9BBB9A-1BAA-4A0F-847B-AE7CF7DE549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B89AD503-6981-405E-A4DA-F9FE6F238E5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D1F2488F-A9DD-41AE-83FB-7F27FBDEA72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B5662191-6340-48FC-8490-3861C2F182F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839F2CAF-7E35-4DE1-925B-1B4A1E6D7EC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53FFA65-5137-4268-B461-C9A8DA76EAE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7E7E7A24-B3F7-4D9A-8942-280D676CD21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7D24A424-8882-442F-BFE2-D86AFF8614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6D623155-755C-4251-9BBC-72D2E79FA9F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132AC1DB-010B-4F4E-A2AE-86487B6BA24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E19D9ACB-383A-4F4A-A600-35F9B476C9F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6B849EE4-8957-47A1-8103-939A29AE99E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E2B89874-E749-4CFF-861F-B273009AC92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C15E2D3D-89F1-4B9B-8F4C-E812B2C29B1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1A8BC7EE-F0F2-42CF-9BF4-B654E732464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C31E2DB7-0B24-48F1-9234-4BE29E01A84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3B693F11-96D8-45B3-987F-1E2F57E96AB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010D539-92B0-4707-B0E7-D156231C8E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7E786DED-46C7-48C9-9D8D-7C39CE1C004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8B34A38F-CB64-4183-9566-76275E2174B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9C25B7E1-3335-4478-93A3-910570273E2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86555870-6DA9-40A2-8055-890837873FA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FE94FAB3-9FDA-4A63-AAF0-B6139B5879C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2FD3333-D606-4B17-BE96-A09D6823034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39DCFA67-04F9-49EE-A5A5-6D85CDBC78B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39D0002A-F719-4B3F-9E87-7B17937E10D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207E9635-E651-472E-A2C7-8F1414F2FE4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20AE78EA-60F1-4E7A-8780-23F87E8CB9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9D40213A-5FB8-4575-84FE-426972D64AE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7249856-16CF-495B-8520-CAE494DD420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65F2794-8E26-4F38-A6A1-D653565E14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7505F93-66E3-4892-B0F9-52B9C5EC69E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938355C-4024-4078-9106-4F500E96376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89253D2-27FC-4141-84D7-57371557B5D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A8E8E6-173B-4E84-8B6A-991DF70EC91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A3254C-7EB1-4971-B6D9-1B5A1BC69A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04BF421-77EF-4C00-AE72-1F1033519C4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BF6CC5E-E593-40B4-AE74-DA825DF4283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9464B0C-B47E-4624-AC8F-025530A1DDD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F683642-82D4-40CD-84FF-57C6EA2887F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1CB5ED5-B523-4A2C-9CB8-04F654DCC62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222B71B-7780-43D8-80D0-88DB54E0D43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E405D69A-5A5A-4374-8040-9D59BBE0866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F41EC378-3A33-479A-A3C7-56E33F72D01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0EB95A7E-05FA-4E59-A2CF-E8EC9F57CB0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F1F5DD5B-5470-4AB3-9648-F24D31A964D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504D8737-F8BA-44E8-8272-B97D589F178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986DFCC8-7FDE-4238-AAA4-9D94173716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16A72CDA-BE60-4C12-932D-784860DEC27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C2269954-415C-4926-ABBA-04669B73AD8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D2EFB0F4-4BFC-4000-B7DD-A7D5BC24AED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32C42F60-BF43-4B2B-ACB7-7B899480546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16FEAD0B-666B-4819-A0FE-FE21BBC2BA1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E17D260-E924-458E-94CE-5F158BADB74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7027F98C-3DAD-4823-98AC-08FEC4B3C8F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13167C3B-48D2-469A-84E7-2AB93D6DD45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134B142C-EC27-4AC2-8E58-E3928E04ABB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B2F0B5B7-2592-4150-8CB5-D816D153EC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4EF319EE-341D-438B-941B-FC8FEAF48F4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118C19C1-AC3B-4B03-9E0F-D706218F227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29A0472-E3CE-4DC5-B694-91186F1BCBA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02522BBA-116A-4105-A57A-1CDB7437D0C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948298F7-3991-46C7-8A05-09742B96115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E5C62F22-00D2-4586-A18E-7702D8EA333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1E88E05F-7829-4AEE-A405-08CFCBF8188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872DBD9-E323-47FA-B72C-06A2A08A4F7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E828C7D-A34D-4006-93FF-E4932AE1436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FB7AF42-D322-4B60-B571-394F23CEEE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01B5A74-7059-4B57-9EFE-3C086FD9D85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2218BB02-7C3B-4279-AFC6-7BE8B1C7E14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3B046E4D-37CE-4D0D-AA8A-8E98A127165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D5350F9-83A9-434C-B2BF-66AD1C34EAC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EF1970C-E2B1-4DB0-86B1-6E1B656F27E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3BC2784-F0FD-423C-948D-6C2AAB83FFD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70CB9A1-94CB-4D9E-BF0B-C42E771CA90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E50E8E6D-D769-446A-ACDD-620AE97E8B0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EE17439-AF0C-4328-A1B2-089288642C6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403244B9-CA2F-4AE1-ADEA-8E7D20C3DA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89430BDB-07E2-47B5-BB77-E065998BF56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984644B7-A473-4576-9433-5A73483AF07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4C6F418F-ED2F-475F-AC27-9F79D207DD8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966C44F2-C842-41C1-B41C-42237817FD0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422F7D4E-EBF1-43EC-BFC3-F0C9FB04C89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34EF1B7E-8B52-4DA1-99BA-6FD4D663477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1A9B49A7-0D80-4825-A7DE-B615DAC260A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F42E11BD-D85E-4EAB-83E3-A7FBE9F923F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3136F591-EF03-4FBD-88EA-C8F680CF9B5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9C30EB6F-0A9E-4876-839F-82A7587C3D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10D2E3AD-BF91-486D-8B96-65622BA1DD7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155FE05-0C90-4CEF-B03D-9CDA723A107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38C5EB5E-C956-4219-B4C4-48589053501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F936CD85-2850-4861-B370-6FD1569AB52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2B385526-1045-457A-B03C-DFA495949A8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1FB5AA82-51FE-4A39-8A48-FE37F041B2C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EF45F720-5018-4487-94B4-D82B83F672A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31F72AB7-1B48-4A44-9261-6A68B49C1A3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B8B99C1F-C670-4D19-B6FC-E344B50F08A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5DBF97DB-E9EB-4304-8BB0-F1F2A7CFB4F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AEBB6C74-EA1A-4068-9DAB-1831C550FE7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6197FD40-E9E1-46FD-B71E-6D3A94A9289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5BF9F0AA-A73D-4765-9C46-50DE0F245E9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62C3A0E-6119-43DE-BE00-4DDE37539EA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CAD3C609-E6E9-40CA-A8B0-EF012EB2A8F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02D5EB9C-5A0E-4014-95BD-BD58A8E1955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A235E2E0-CFDD-40ED-8EE9-1561A4FFC68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C8ACDE55-7F88-4F3D-A8DF-9095FA8D6CD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AAEE3391-593B-4897-BC4A-D503F2E148B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7AF4EE77-2FB4-4015-BE9F-3181196CBE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C1E4F380-C9B8-40DD-9C07-0588C730DE6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0558552E-77D1-401F-8932-9C62A9AFB637}"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DDAF7B5B-1D78-411D-A5AA-D5B2D21B3FE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DF5B5B19-B5D1-4121-95B6-267AF2223E9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74735E01-15A2-4877-BEE6-9821C60C140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8F69FF96-C577-49E0-AC8B-6BFFCBB4403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B622687-130C-49FD-B4E8-3F84B068522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12E55F1-C7A9-49C6-83AB-B16CC249737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965C295-43B2-40B9-85A1-A731CEFEBFE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B37D627E-7B38-4E07-B400-3A71841969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C33E4D50-6FFC-4DD5-BAF9-83AC667896D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26E3A7C-CB39-4BA3-821E-B70C87B46B4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A64461A-6D1A-4F6E-8E79-F9AEB5BEDD5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A4A484F-F3AD-4B55-9A0D-56D6D10CF0D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A9C21D6-A64B-48DD-893B-3A37616543A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E7C6B388-4A15-413B-BD28-8778C25CDC1A}"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95249DCB-05EE-4E99-B112-4EC3232E233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B0CC10E-8135-4835-8F1C-AA093F3A9B4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5044871-F679-49D7-8361-8E4DA175909A}"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8398C58-9D33-469A-B3EE-6A7044046A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719EF07-68DB-49F5-852C-77B5023D292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C59AF104-7F88-4798-A566-383FAEF9A52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23614739-C910-48A7-AEC0-F7772BC580C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8A6DCF2-CC68-499D-9503-C285733D0214}"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B3A61D4-B282-4F2D-BCE7-3E90EBCC2F43}"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4E168F0-0FD5-49E0-A3C4-66292E9B343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3B3DA70-98F1-4199-853E-5E02F375B81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796F5661-440E-409E-98A1-20E2D8EA058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21D402DA-9EE0-4D98-8F56-7967BC066625}"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3E7FAB3-12C4-4105-9168-0FED01CB42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B3828C1-854F-4665-9F8B-E232EB17DE24}"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3A07F8F-E948-49F3-A91E-8898664AF962}"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A02653A-5D68-429B-875B-2D6ADABFF8E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0ED18D4B-39DC-4439-B7AF-F3C8D7199C7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785A8508-B593-417F-B63E-8E112CBD1D76}"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56B03A4-8400-4B01-AC57-A616E6CC180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0599BF2-4BE3-4694-B08E-9F075A26B35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B2D6EF1-CA8F-4CEE-94A8-712A800CD75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1DA2006-F18B-4A59-9317-561917ECB1F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1394D11F-981D-47A2-9BFB-5C3A17E705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1ED30AA1-907D-4F72-9A2E-6B0B678D5A2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7B1D8EA8-A9F3-4C5F-A872-05A3907227FE}"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41461FC3-454C-44FD-B9D4-0AC1AB426F3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2EEB4E16-7BB8-43DE-B9E4-5D261CBA9380}"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C57FFE39-E5D4-41C6-AA11-62409757867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356A9621-39F0-4E90-984B-C02F450705D6}"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49EF560D-602E-4896-82A7-E9A3B916B9D5}"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6C396913-9B70-4A82-A24C-28E43D712ED7}"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D3821B7B-A16A-49DD-8FB9-02259A873887}"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2B753DCD-E9B2-4EDB-82AF-E06660D4B5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255062B3-5FFA-4241-9699-B76D33EB2EB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E58AC064-2EB8-4D8B-8C64-14512CDBA100}"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556FEE20-4446-464B-A229-90795D432D8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DE59114-7239-4530-8129-E644CE2E7251}"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175FE1D4-5E46-4228-91F5-ABFC08B67EF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0C4AA6F0-F8C4-4E30-AD2C-C04B3E6A16A3}"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FF8C1505-D569-4072-96FD-7E917734812C}"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91D6FAEC-D346-4335-8626-28188FCEEC50}"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D270EEAA-EE0E-4501-8657-81409BD5EFA0}"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050023B0-EBF9-46B5-8398-A09A4FCB26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D2F0298E-21BB-4E20-80E9-F21DE8F13944}"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F823E4A7-D334-4D09-BE33-5AA4CD0E6261}"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3456C1B4-5E6C-4278-9553-4C1AFD8FE8B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1A5C75DF-4759-40D6-9CF6-F0C0AC6D47C3}"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3D40CEB7-084F-4B83-A879-795A7EF6E619}"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ACC91ED-6840-4BE2-98C1-DBB0168F3B5B}"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A16CB5FF-43CB-4B67-B42C-CCBE0EDF0FC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97CE47B4-24F0-486B-B91F-C93731C4A8C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92BEE4AE-D254-4894-B9E8-2157686827C6}"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B0C745D0-EC27-4201-945E-4FD31D2000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4AFB9539-D5B3-422D-834F-1AA32FE866D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B39F7FF8-7791-4C00-831D-C1BC5971F1B7}"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F660BDE7-8AD2-4FD6-B2DB-89E738D36B94}"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C7BA4814-3FE3-484C-A214-D80372191AEC}"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BE9A3B6D-4F3B-4177-9BDC-A2ED14184EA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62318FAA-F4C3-4033-94E4-92FD206181EF}"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5C326F28-63E4-4F44-9096-D6B7E7487B1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448997C9-1244-4918-B2B8-83AFDD4646F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4F588A92-46A0-4DAB-AD8B-3F0ECB29B1F8}"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5956116A-D66B-4E55-955B-EAA294DD278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D6E616DC-E9D4-4554-BC11-0DFC2067E8A2}"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F0EB521F-FB0F-4F0F-9CD6-8C3E323D82AA}"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74C65181-8E91-49F7-A51F-1B9E25F298B4}"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A514A451-16DB-42FF-AE7F-5C6110CB611C}"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3405921C-8995-4F13-A7C7-833C9FAD6D7C}"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F67FB25F-C79D-4EAC-A13B-2DAA9436AC1D}"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FFE22CF6-5C8F-409F-B293-9D12B45CBF7F}"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88C01E37-43DB-4F69-9C24-B504CD6DCE9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9E910196-39C9-4621-94C6-A3C9CC15E592}"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F79B36C0-FAD8-457F-BB67-CC4C84C3E9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91505F1B-4A45-4295-8519-7128375F5EBF}"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E96EB9A5-614E-47D8-84A5-0283B90F2D6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1F3E8602-853E-4368-A4BA-C6DD70F1A477}"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8A4FA5BB-299A-4986-BC12-B3AA92E40FB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E3FE65F0-B2D8-42A5-B95C-39DE69E472B3}"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BBF6FF1E-DB69-44DF-8660-C5208A89FEB1}"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D9FA7547-ED9E-4E67-9B9F-36C0FEB252D8}"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8FB7B4C8-AD0B-43DF-9C55-F2CCCCE75704}"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C562E57F-BED9-4156-8707-AABC126C6C63}"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3B34C1C8-6258-4D24-8A07-358E701EFD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D2ECB9B4-433A-4AC3-B092-517E05CA7149}"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598BC612-88F3-48C2-8D27-76460CFF701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AFA6FFA0-2175-43C5-891E-01A81D484D50}"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1B1BAE15-9975-4B6B-8644-7689BD9CD55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EEE0B5F2-9C47-4F65-A372-942C02EAA57E}"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2EB3BA72-8D09-4788-B698-AF90A47873F7}"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CC07F861-81DD-4351-A314-BF942FDA619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DAF5F7EF-C43C-49D4-A12A-5B2C8EE9365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A961A579-66B7-46B4-806C-E496FDABE50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B5EDE6DE-23D9-4291-A553-FB42137784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9F8C4-2999-4B1C-BC1C-07F7D3A1D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384914D2-7467-4563-9E9A-EC9E0D0D1AE1}"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28A0E77A-C405-4622-B994-2E4254436FAF}"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F7C80D34-39BB-4C57-AE25-8E370291A987}"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241AC582-633C-4702-A4A8-74B0D8946CA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1FB8D707-7FEF-4757-8826-7BF07AC0779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A821F711-78E3-4184-BDE5-0D9D899C6372}"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ACA3B814-B806-48F4-9CD5-F1F42808E71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726C54B1-63B5-46BC-9F2E-700CD39C0973}"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568443AE-1364-4779-AAAA-ED3CDAD9045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B576DECB-67B7-4DFB-B0B1-DD45D01844F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D22A8-5847-4E66-934F-A7138C69F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42C1603C-68EF-416F-AC30-A546F5ABD8B3}"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5E9C8307-2796-40F7-A717-5B6755222ECB}"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3C818AE5-C61F-4067-9747-C6EAB707381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1980FFEB-8FAF-4B44-AE39-2CC395B0C275}"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D6B9BF31-EA3E-486D-9F17-68BC0949C999}"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E6D33AD3-9BBA-4244-B809-DDFB0C687589}"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74707657-558B-49F9-AE22-80EB71CD017E}"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7BCE0340-D72A-41B2-B263-86821C65525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C92C11A5-593D-4C0B-94FC-FC867B939306}"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26E9C37A-D874-4AD2-9FCA-B3EED12E8C9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3F13D-D2DF-49EE-BB59-2C27A18BA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97300991-3165-4203-98B9-B5E06529A233}"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54AD2D23-7CA8-459B-BE8D-47CE16DCB69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E5E9963F-86D8-4FE3-8A22-BD1F06A593A5}"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50D30CC1-607D-486C-9C53-154246989F8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B2003276-C74A-4974-81CA-D4B9327D656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E6531B39-6EAD-4929-9326-55DECEB4A3AE}"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A20889F8-8795-4169-BDAD-208E90013F3E}"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04146EA7-BAEC-4D1E-8269-BE9C974BBFE1}"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E2EB02FB-D301-4CD0-A38F-A094BA9E7A44}"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08C1F6D4-A167-41BE-90C3-D619FC3E45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6B475-8B58-4740-A310-D669D097B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889A82D1-55CB-43A4-8870-44B805B9A831}"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5CED5529-10A5-4982-8DF1-B6D09A33E2E2}"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EB6334D3-E0DB-4A40-8F65-D5AE918DCE6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83100E64-E5AC-4C6D-AA68-B825C28ACF79}"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8492D0CB-A090-40E1-920A-BDCC95B1E719}"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9417431D-FC70-4E48-A845-656693DD62EA}"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994F2BAE-2AC8-4A87-8062-4EE078FF4A7C}"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E394ED9B-31FF-4C4D-9E19-19766A03AF8B}"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6A2A422E-A585-4FF8-8B46-6F1986665BC3}"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0D1F45C3-1286-40DB-9B22-A9D988A24CF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19954-5CA5-4D36-86DA-9E6FBD654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F90F6150-5F16-4266-9C6D-B0A964937D4E}"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56E58E63-D8B3-48BE-9DB7-60B65F20F3B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63E66F4E-5756-4A3D-B124-4BD6FF332711}"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0AB7E77F-3220-41FE-9C68-6DF457A1653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CD34331C-3049-4E5E-A5F2-8BB7C8D55D9B}"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486C9EC3-4C35-4A51-8E9F-69A0854B7AF1}"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A3CE61D6-50F3-41CB-B5B4-BA58309F2DA1}"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A8CAC138-2B5C-4F5F-8C18-6BAF7FDD6D6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E6AB9774-8168-482F-B7CC-25C0D545293F}"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8C41F591-8BFA-4609-9B90-ECFA9032EB4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5E588-C752-43D1-BC86-E49F86BFB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4764C6A6-32F8-4BF7-80FB-3B5D4234CD5E}"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7C707BD8-CEF2-4908-AF4A-32D6F1D363CF}"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97F15B9A-A01C-439B-B819-81CA55925C30}"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A89408CA-1F9B-4196-9E5C-A7497C20DB7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CB2FB329-C5C8-4EBC-9F6D-06F8DA54F65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B1986BD9-9432-4A71-9E06-045A554B1CA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0C78E891-8FD3-4B21-A777-13BE1348406F}"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BAA2D2D6-9D4C-41FF-83C6-5AFA3A9BF8AB}"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7C60E66A-C953-4DA8-B4DE-67B40E9DDA77}"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E5819E8C-AC89-4CF4-AFD9-037CBFB04E7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A7F76-57A2-4813-BC31-CC8A7A4B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23BBA6EB-0865-484C-A23C-6A2F57CAE60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FC10E517-F42D-4060-A593-584A1A0112CD}"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BDECA94A-ED73-4D34-BF7A-03AA3F2A65D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FE8AC7B-850C-4E44-AE60-2A900B5BBC4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90C545DD-A1FD-4CAF-9019-34EF76E56E08}"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5F46D030-9F1E-4C82-BE87-D348492BEB0B}"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2F94E28E-ECCB-4274-B89B-7CEEBA280B3D}"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FFBCD5A0-E6EE-41A4-807C-9510F8168FF4}"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D22FE276-55EE-4859-8914-1DF6A8C431B1}"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4B22DBC5-1E93-49E5-9DD3-2943CDACF6A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84389-8564-4A4C-A7E3-284F5D07A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9817AEFC-C4C9-4B6B-8441-18078F0CE5C0}"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D6F65A3F-B9AF-4197-80CD-11DA8BDC897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F83EFB4D-19AF-4EB2-AD53-BC36EA7A0A0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D5C227AB-D2B1-412C-8E35-FDA1B435FF38}"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62DC7D35-5C9D-445E-A75F-0AD3BFD4705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23B2C4FC-F6AC-4289-AC60-927E5048A06E}"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6B010438-1978-47D5-BD93-27298B70F51B}"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132BB9A3-B72C-4C35-859F-87D859CC5C05}"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3BEE4D4C-B3DA-429E-8A16-A586424481AE}"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174E1DBB-7F52-4AB6-AEC6-2FFD1B43C10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D468E-22F7-4722-9ECC-3AD69B581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ADD5C76E-9656-414E-B849-52189C0A3291}"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4E3E265A-142A-4555-B51C-8CA914FDE88D}"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6FA19661-9C07-4466-B510-A6197CBE30AC}"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7CABAF88-7B6B-43D5-94E0-836A91AA3868}"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642EA800-7AA0-4C2C-9739-4484F2CC845B}"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E5070167-4941-45B0-8AEE-7DAE890E86D4}"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49A2E82B-6FBB-4891-AD74-263A49BDD477}"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794FDA9C-B580-42E5-82D4-53BA676D9F2A}"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A0317950-4E75-4EB0-8B85-8866EDED7AFD}"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0C72A2FE-50DA-4280-B971-19A35BBD24B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E8CA6-AA2F-459E-B928-1488B8EE8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D3733FCB-EE2C-41B4-B30A-866AAA92357A}"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5352B711-C7CA-4ADB-83C5-2C69C154A8DE}"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E4851BE9-133C-45DA-AD13-C50B3B6FE2AA}"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13EB1757-F0C0-47B4-995E-F281FED4F479}"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C3DB42A2-096D-4094-BB19-93480FD94B69}"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0A04516F-34F5-41E3-866E-34376F38E262}"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D601B88D-25C9-448B-9D32-F257E960A070}"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09303473-DB55-4131-AFE9-54602933ECE7}"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44E6A16B-C304-459B-9EE1-0CD31AC8834F}"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4CDD6F4F-2E0F-4DF7-B79E-313269247F1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07700-41BB-4627-868A-7EB6E9F01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7280B021-64F4-413F-8337-31359ADFF7CD}"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077EB06C-950E-4209-9B66-27D000A02A24}"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5B3DE4EC-46C8-4CD0-BE49-60664728DFBE}"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5F1B18E5-C5EB-4693-9548-E0A6AA26F2C3}"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03EB4047-3DC3-43FD-A860-B6A9DF1A297D}"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61462167-25D7-472E-99B5-167424C483D4}"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62F89FAE-F4E8-4F47-AA50-73C51068551C}"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50164219-0E12-41A2-8813-0E53D3AF17EF}"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AC9A9D44-8E05-4789-8955-CD9D8E829816}"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FE4746B8-D7CB-4F5C-9324-1930A21E91D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3F335-1B0D-4201-82DE-04CF2F65C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46CB4B0D-06D5-4138-8F6F-A10056779F54}"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0ACFB00C-664D-4FAD-A450-B321FEE10EF3}"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714EA410-237D-48EB-9D0A-263B11A1A675}"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7DDF4FE7-C92B-4F19-A388-2F6A9596D9E2}"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3A4D9AE8-0ABD-419D-9159-54C541513B82}"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F5D09E1B-AEB2-4FD0-AAEB-FCF4639BD795}"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8D668212-70CF-4DE8-A0F3-F252BEC301B7}"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CDED0F28-2EC7-4664-B887-2AFD90BF178C}"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500F8B0B-01A0-4806-97D7-2688F4280A5D}"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802DD329-CDF1-4C6B-9570-CB8394CAC34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48BF45-C515-44A3-AB62-8F846A3FB63F}"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AB82EEED-950A-4C9F-A5BA-4B1F6C2FCA9E}"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0B36BCC9-3B09-4410-B05B-017156315ED9}"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AEFCB229-CE9E-49C8-BA27-C1187FB10D7D}"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D48A4A88-8681-4792-9C3D-0420EFEAA713}"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EFA255D6-944C-41C2-AF08-A16F53FE525B}"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4EF3EAFC-4199-4EA6-9C81-7392EE9E2E5C}"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529A4982-2784-4D07-B715-87C1C2EA7DDB}"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A0EE075D-9632-4419-AC03-698683F614BC}"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E6ADE9A2-04FE-475E-99C9-C0CFB72BCA75}"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F2CCECE1-E7C4-4841-908E-6446928C1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5D1BC14-9A98-440D-9A21-9F9FE28ADA69}"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81C19884-5C04-43BD-B50B-2873816C243D}"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1DB2C633-1986-466F-8B40-9762B0D8A3F7}"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658F708B-7B7A-4D48-BAC6-53269772417A}"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479DBD3D-B30F-4385-A365-B4F57D5BD729}"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9EB165B7-226A-4884-A365-04B0A571B5AA}"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2BBE554-010E-4104-8B64-2E615AAACAD3}"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FD8FDC07-54E9-43BE-89FB-0A6EFD85AC15}"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2A436D79-186B-47F5-9D84-33D51505BD39}"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A16AC21A-3734-479A-8929-7CC448A98C70}"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19A6E526-525A-4714-A73E-E048225C226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81DB7F0-3632-4E73-B6DA-8B79B4332E13}"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A5ABDD4E-003D-42F0-8123-9F646EB36670}"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CA89B242-C403-4000-8A57-4C37F9BBBB21}"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A83EB78F-918A-488B-908A-E57D4B8F8DF2}"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20467B58-0BA0-4C7D-8058-23EA9AA10D08}"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837973D0-499B-441B-8F1D-C0AD579C34FD}"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2A2C89A3-6C3E-4A3D-B800-C36B50D2259D}"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D36C9A00-5104-491D-B644-30DBAD8D7583}"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0F637B33-2DF9-40B3-AEB5-26002D345E07}"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6F116B3D-F661-4752-868C-41D64F02803E}"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4AA4029D-DA6D-474C-99EB-AB19E0F778C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CC580F0-BFE4-4466-9DEA-55EC1B639908}"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24B2E991-826A-4A19-B54C-770130889DFF}"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36A79DA2-5A0D-48F7-B348-55EAA426F4FD}"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445D4FD6-2D92-4CF0-BA0D-F940C4593376}"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C17F2F51-149E-4C47-8E6F-95194F0D29A7}"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A2C185F6-4B7E-401D-A3D9-58C14B651C21}"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44010D92-43EE-4358-8E66-6E3CADF96562}"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9015D7AA-F414-4E4F-B20B-036B32363F81}"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CC2871FA-435C-4995-BFD3-D92E2E11636E}"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CA594022-9D91-4B69-AA35-58FE4BF0DA15}"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5B950D23-DB78-4295-9F42-E1610318562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3FC05B5-6366-4D58-94E0-9B4D0FABD3F3}"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32B22D90-D3B8-4A8C-8D12-323025F40E1E}"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A7606B3D-67E1-4BD8-A5F8-54DD33E40219}"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4BE3801E-1FAB-4A2F-A7BC-B633BB86A8EE}"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7CB16C6F-E5FE-4409-B3E8-04630925CE6D}"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F1D14034-EAC7-49C6-98B3-CFF10777D367}"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E63E750C-986C-422C-898E-699E247381D6}"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FB630A3D-1A2E-459A-AA4C-9149A7D9B9FD}"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B5F4B629-27E9-4A01-B8BA-1FAAB6EC7EA4}"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E7512BEF-E5EE-44F0-A374-7D99D3E320FF}"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87A6321C-4D64-49E1-B428-0F0CC83EB34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9895DFD-642E-4087-883F-5594BC844263}"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B809BBC4-0DD2-4E6F-93C5-B44CF87D341B}"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CD1816A-F0FD-44C7-B75A-BCDA922989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83F2C3D-765C-42E6-8B8D-AA70798DEB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29A61BD-AEF1-4539-8886-F461BD6874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042809E4-680C-42E8-A042-FC7918A973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6AE62BC-3A4A-46E3-A040-AF89FF3030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1CD786D-0FC5-4DBD-B796-109F8E04BE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BA7576C-D4EB-43EC-B34F-DE0060F1BF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2503A12-5A7D-4390-BCEB-3F40D37E1B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162A284-A594-4493-BC2B-F666BB007C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29F277C-338F-498D-9C93-3562AEB789F8}"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7639CB2-67D6-4562-865C-852401A959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E98A7466-86C5-4978-9776-6EAA1F3B20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C10ED8B-E472-4972-8063-0A515B2A62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C4E4725C-0352-47CA-82E3-A3C5ACA9BA93}"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6C6AFA37-4A11-4755-914F-575F37FF045B}"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FBC0A41D-C5CA-48BA-BCFC-18E190FBA0CE}"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49637715-5C8E-4844-8BA3-642C0FC10109}"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195C7CBB-3CC4-4F8D-B20E-9D4FBD183327}"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CD391CFF-9A9E-478F-94B5-463F7914431E}"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D4028634-62B0-447C-9799-244517B5A38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CDF35C-3C4A-46A9-A95E-5ADED111A029}"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9EF9CB0E-CBB4-482E-9E78-66F5382871F5}"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8AFA284E-457A-4D30-B5F2-3D527851B3FC}"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240BF186-D0C2-499E-A0D5-B65811A7051C}"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D5CADE3A-A0C0-4031-97FE-31014BD1A167}"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69BB4F6C-8ED6-4582-B253-F4E079A7ED43}"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F50E7FAC-C2E7-4375-A923-59DBBD483C44}"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A3DE2C89-9764-4524-AB31-FA0369930265}"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19FA1834-5AD8-4218-9F66-30FDA9A0D325}"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E9C96FFC-C84E-4E2B-BD86-72C0F81BB3A6}"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5AD136A7-D137-4587-8C3E-045408C6CA8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5F2593E-DDF4-45A4-B9EE-84296044845B}"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4378BCCC-0D70-4C9C-AE6D-87C479F5C43A}"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AE940669-23DE-4D82-9D15-F74DC1C48522}"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73AB0AB7-D179-4B56-8B7B-1DF5F77C0829}"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0A0D9358-3801-457C-861E-C6E252ACCEA8}"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79E6E924-F413-4309-A9F5-EFA71BDE854B}"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C337AC9A-A264-49FE-879F-00142C942559}"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B2DAAECB-8119-419F-9EA9-9398DA8D796C}"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ED520828-6B28-440F-B7D4-96EAFD7E1F5E}"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1474667D-9C0D-497F-8867-FAA9824BD5C1}"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58BC48FA-99E8-4B04-925F-78E04330F90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9F160B1-A79F-4D3B-8E5B-6A65BB956756}"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BA3E6562-1238-4B27-B8D5-FFFF09A0BE8F}"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009F5034-DA77-40C5-A672-C198056A0815}"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4DAE5D75-7193-4A3D-8736-B95DFDD32FFA}"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EB5D5A90-1EC9-4150-BEA4-01F9A6047A9E}"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943BBAF8-FBFA-4F66-A799-813383814E20}"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16A1C42D-7514-48F5-BE09-F3B616645963}"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46B3C299-68D1-4A66-AE22-23DA1780F688}"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66F11609-CE7A-4D31-B39A-1CD41BB53938}"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D1061405-EAB3-45F3-A9F3-985A05582A25}"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47C081FD-EC1D-4DB2-A5BA-F55EF7077A0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39038CC-182F-4A6A-B08A-EA905DDC0FAB}"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CABA20E1-0A0E-4D9E-A8FB-7932C00474DA}"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3754E090-E092-42C3-AF00-5C39CDC949EE}"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0E32541E-A947-4EEA-88C3-C3CA5F46387F}"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06573EBD-77E4-4534-BBC9-D287D1E7B394}"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BCCF975D-9CB4-4ADF-88B1-1D8B0E3796B5}"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49AEA0DE-FAF4-4E56-9868-9C86F3C9FE86}"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29392275-122B-441B-8A64-1AA155AC84AD}"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519E4203-C526-44DF-9D3F-D5104D68D961}"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89B67E11-CF16-41CB-946E-C1ECEA6E421F}"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697F325A-2912-4669-9DB7-FE85E4664E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B157579-3916-4435-A6D9-3BC55E868924}"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57BAA662-C5B9-4797-A91F-03818B8CC452}"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DFE5DA6A-10CA-49A6-9AB1-9C5AD981E3DF}"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1A45016-3107-4B98-935E-60B339A22FC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9EB1A00-5605-4E73-87DC-492D8F1B7D4D}"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AE0358B-9524-440A-BF54-2DCAAE3A30A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F2971A1-6AEB-4D82-A0C0-6C41BDA9DD9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ED9AE36-91B7-4108-AB8C-2E91C208B27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006B5DA-A7D2-4344-8336-76CC87DD9BB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330CB6E-DE04-47E8-ACE8-E18BCFFEAF6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8E01A29-38FA-4F43-B6C7-9D5142C5284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E49E384-1856-47A5-A65F-BDC8E7AC01FE}"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D24AB59-EA4B-4992-A76C-F573D3996AD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27AD6F99-CACC-4BB3-8A8B-B6C59E35F628}"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FABEE69-BAF7-4105-B19D-C6DABD950781}"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7C91AC4-F5F4-4739-9BA2-5CD229D3F88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30D678D-996C-4010-9C35-C77FF8719A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39C5240-6998-42F1-AEDB-1903191C2D9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542A68A-0D8A-48C1-96ED-350203BA90C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7E060A3-49DA-4280-9737-A7A3F392818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F53707-30C5-44C8-86E9-26E3B7A26D9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97E01E-2591-4510-8D2E-F32403600DA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FE1F21C-5CDE-497D-B649-A9D418FDA7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177B194-5384-46C4-A15D-8A6D99EC36C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CD9768A-CD95-49D2-A11C-C5CBC51A9A4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675A332-2AA1-4A3F-9DC8-F871509CB4C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71602AB-2955-4BC5-8989-1BE5CF2544F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67D37ED-446A-436B-8FFB-773A3BE9C20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8AD5F40-822C-4E99-A0BD-03B6BE84DFE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1C82628-3145-4DE1-88C6-80C98812441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53E27D4-64DB-48A2-85DF-06AAC449113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9314097-86E7-4C4C-B353-87EC91AAAB8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0CD0B7-543D-4229-92E3-DF36675E84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8A48C2F-3F32-401A-A45C-2844A5193BC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A558F3-5566-40A3-AA57-DEF761D7DF7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F7F17FF-1995-4CD1-A575-DF588455903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806E7EA-08FE-4585-8A9D-B6441271578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6F1F1FC-4A52-4955-A10D-0C439022910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8ECE75C-F9EC-4BC7-8C4A-30AC693DB86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E3A9296-5482-4BB9-BEF5-40C23778FA2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EFC7FC1-B940-499A-9A9F-45215E5109A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FE3AEC8-8015-4863-B362-923DC3E5EE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927460BB-8BA5-4758-B154-1D5FCC5F6C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6EC9BD35-ABC6-4113-9326-252D05E3F9B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E2281E4-A578-48CD-984D-CAE24FDF825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CC9DA21-F53B-400B-9A8F-A1DAF5FBA6D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B1815A1-8DBF-40E7-8840-71948A0EF75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19C9ACD-A12F-4516-A3D1-E90EC4D8814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E39DF34-57EF-49B2-AA24-0B1039D10E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1DDA46C-FA87-405A-B68D-31AAE5989C3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80DBE16-4D77-41B1-AE3F-9E8A8E05533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B584A8B-2A97-4DD8-A332-759A38C2FA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9E4D6BB-D66D-4E55-AA14-519D559F3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5C481-A8D9-4B25-BF2E-232AC2E371B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5C7CC-04DB-4D7A-8C69-5A7D0E3D889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A5EB6-1545-4563-B8A8-2ADFE043D2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83528-0811-4B5B-9A68-F14CEEE6FE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963D6-82E5-41E2-B076-2A1632A224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6F61D-F2B0-4878-BAB1-6ED01FE8B1E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C7519-6CDA-4925-8BD8-B7539F2C37C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AC356-BC06-4ED0-B7A7-368E0CBEDDC8}"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21A4D-FB0C-49E7-89DE-B747DDF2DD2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62F54-BB80-44B9-8D51-41F45D21661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F919B-361C-4B5E-9825-A4E59B1A827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C2CE0-B079-451B-A201-349049BD88B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CFBD4-E996-446C-A9BD-A5ABA710853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874AC-610F-46A0-A65B-578B1B00250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F142C-03B7-41E7-94ED-F73D503815B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436DF-9823-46DB-B4BB-5F99041306D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CE2B8-A9ED-44AB-8BCA-3B14D55260A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037F4-4250-4D09-BD4C-3159F857CEB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B479F-0317-4BD5-8F0E-B50282EC880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3E3F6-3D47-4BC9-AFBC-9944A4A90CD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9204C-9581-4228-A018-3420C8F4C3C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AA16B-3185-439F-98FA-485C61245AB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4085A-3A37-43C6-A2EF-826AA051B96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2742A-5613-4A05-BC6C-51660D61931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E4966-B0F2-4A89-B7EE-BCD745A0D66C}"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3D3EB-312A-43BE-B71B-7371D48247A8}"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1592C-3233-45D6-81AD-33BC65721D69}"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D951E-9AEC-4C67-B912-A60905E2650D}"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C233B-CEC0-463D-BD5E-9549999FA33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13265-C680-48A1-B4B9-0C85325E3A59}"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83A6F-87DE-4C47-A9D5-D470A2B22AB1}"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EB7A2-9458-4097-96AE-2BC0D973237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6FA99-9399-4138-AA5B-28210EB648C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FAC3A-7BB2-422B-A7E0-AD8D6B134D5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48D48-6654-4534-B3A0-A2C033FBD98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D2A3D-C902-452D-ADAC-0B144D063823}"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58A3F-C2BE-46FB-ACF3-44DF3156C900}"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79C80-E9D8-4B3A-A36F-EA48AD8B07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8A9B0-3CA7-4B6E-80F3-E69E6173C5D9}"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A06EA-E7F5-4305-90D3-7BD575CE0CB0}"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5FEE3-6199-4E81-B74D-63008B1BE072}"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10BA2-81E1-4F6D-9C2A-57C5396A6E8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9ED7E-A4DC-48B1-A5ED-BB776A20F26F}"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F01E3-9A48-470E-9279-A461503E72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62BA2-7E9B-4E70-BFB0-AC9B70A9C46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DEE43-969A-4FD5-BC1C-C50E3446140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5C49D-6C77-4232-9141-431F968D4C4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EA3CA-1284-4A0F-8A7B-48B6C185092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4EACD-CE22-495E-AFA9-5D31DBBB8D0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D2E29-DE9B-40CB-85B3-1BD5E0060B64}"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1AF5E-0B42-4615-A509-7E5A03362E08}"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93135-0042-414B-9777-49CDD6EFAF4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4C50B-DA9E-4241-8233-41D30176C6E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BF75A-86B1-4CD5-8B51-70C06E059CB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F5055-DD77-4223-8180-4AE729F6667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C148F-3F75-4400-8511-63C27B200142}"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38FFA-F1B3-437D-B379-EE27F2E619A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