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4A0E9-109F-4096-A82B-3A0EC47DF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Quick over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FD907-143E-4B98-B4CD-29B60D4C288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F7E51-FAB7-45F8-92E4-54749A5FC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19CEC-7BB1-416D-96F3-ACC00A334B7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3AFB5-22E1-4041-BAF0-60CFAAE0709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B61EA-0F8C-42BC-A6C8-A78C3D3BD9F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582E7-F661-4107-96AD-54B3128C997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31E82-EACD-469D-9FC5-71E1185E81C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1A5AE-62B3-4380-B612-4159E016826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C29EE-41DF-4DB0-85D1-F7106578313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1726D-D1C5-469C-8D34-F557ABF39BF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431B8-5A6B-4FEF-96FA-DD377271A44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C2278-529D-49E5-8D72-B953BBCC4CD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952C8B-95E5-40DE-B03A-1BD67BAFF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C49C8-32A7-4BC6-8E1C-EEDCB15E105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974551-3E9E-42A2-A19F-E71BD07E66C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309ED3-E5E8-4143-B241-6EC578211D4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99F627-A887-47A1-9BE6-098E1D44265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51F7BB-C379-47BA-A4E1-1E7A1705DEB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40DE71-8A94-4E3E-A2FF-E6F7A42E8D4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E16B1B-EE25-4881-AE0C-CAEFB32AF5D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1F654C-BF22-4729-81F3-3AA8BA154B5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11B646-4C4C-4EC9-9B7F-6D9E8AFC256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F0EF20-A728-494C-A844-9A1660655D2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B0D47D-E60B-4A68-858F-06EAC2CB6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EDACD-7356-4F9D-B0A9-9C8A73D3AB1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9A408F-C66F-4562-9EBE-3EA88A488A1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A8C3AF-FEA5-4F5E-8006-7C6EAE675F4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639134-ABFC-411E-8DD2-F2279BF7D18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FDD6FA-53A5-44FB-9CE3-06F8BFFB0A1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17FBD1-170C-4EE6-8E04-BCAA80D9893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3EB3A9-AA2F-4EAE-A66F-E50CEFB0E73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25D26D-B490-4024-93AC-311C6180FF8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6B8107-9EBD-42E3-8791-BFF46041F06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CFF9A0-F047-442E-8F84-9B6E355F60A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AAE7E6-4C17-4AEF-B857-C30DEFB79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AD0A5-0AFE-47F4-9A0D-77E48B4D51C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0C0C70-D56B-4920-924C-8EFCD07306F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CD8B74-7342-4476-B4D9-6830DEE8831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411D37-EDE2-4CE6-B43B-3BC04F306CD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60F33-CB02-428B-AA1A-3DFC5F1C7CA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0186B-990E-48FB-9FBD-19FA9DA89BF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F777C-7556-45A5-B632-3D902C43163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0EE24-B052-4255-A418-F5DDD339E55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1F0DF-EEE7-4587-AE02-616B154C25E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028FB-2AF5-4B2F-96C0-A06CFCFC0AE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F96AD-EEBF-48D7-B7CE-DC8FA761AE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2C493-61FB-49F0-AD6E-66D36D5C14C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EF1D9-1C40-4C24-A86D-E76B9E14240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96928-8ADF-4E92-9F1E-4227A88A105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F7C15-A7CB-46BE-96AF-CBB6D2A11DE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52F56-0BC5-4E0D-B25F-3466CB708DB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F3CFD-B636-4263-AA6F-CDF29D99EAE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F22F1E-9FF5-498D-B855-F7DE6597D6F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6F9534-DB13-4EF9-9118-C0D6EA20EEB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BD9345-C320-4759-A618-6DF3BAD89E0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5D767D-77AC-4231-967B-0FCE0E30D43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430A4B-168E-4370-8971-5AA4D92530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70D7B-852C-4633-BA55-FD91D6113C1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82B272-7FEB-4805-B3CC-F8082A153C1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F3BF57-E925-4FAA-82F8-2CFC0B7C6F7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4A2A39-0A79-4D1E-805B-DADB1DABF46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9C4555-33A0-4E81-B0A1-BF349B924DB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29F84B-C34D-4383-B947-C646F3952C4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43237D-1FF8-40B0-A8AE-A76C7AC2FA5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EEA17D-DD6E-477B-B481-8F321BE4A42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709622-2B65-46D2-B345-DA91C5F956A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6CA0E5-8B01-44FE-B0F6-374664DB32C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44BA3C-781F-407F-A99C-8BC1A01C07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C50CA-614E-4418-9CD3-C897D3D7CBD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21EE5C-804F-44F5-8D90-F5CE69C44BC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F0D3E5-3651-4812-B83F-FDCEDFB3C1E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ADBF77-A6C6-43C8-A9EF-E9A5EC87444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2FD780-00D4-4DF9-ACD4-0AAE6C56FC7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DEF58C-BD50-48E4-9A58-259E05EE6C0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7CEE5F-AF32-4E05-BC71-32A53A6E01B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06B451-9384-4873-BAC0-318A04B0958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9157F9-2E49-4295-8A6C-F4384E92BA4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F6A858-1460-44BD-BA69-7AB2F55C51A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3E876-402C-4612-A627-BBDEEE906F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2C939-3019-4F34-AD6D-A66BE03DC34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F6F28-8448-44A4-AC96-E3662BAFF61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3B464-059C-4E8C-B152-157A12060CC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16C15-D9B0-40D0-93C2-6C02E586877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83F59-3FC0-44EB-B6F5-F2FF07EEFF9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F72F9-DED1-4D29-8A7E-E03C4C1AC4A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85743-79C0-42CB-A17F-B342F689F58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C7C86-3554-4E3F-AD62-D16BF7073C9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E74DB-3417-4D40-9541-17E3EF74DD7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7AA5B-9DEB-4716-9628-6DD99B31508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BBAE7-CBBF-40F4-AF96-429C5AEB8E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6FB07-F3B5-43C4-9EDB-93ED2EFA352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3E6BA-6AD0-4478-9B9F-5C0E129151C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75E18C-1C97-40A2-BC66-8B3C2E19931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9AFC83-D728-472E-8C9B-B9C070ECFE6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C0FBB6-C949-4BD4-B730-26210D63F8D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B36310-599A-4135-8AB9-8F4DB579FA2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4EC4FA-2129-462E-863C-596430CA595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A6F2B1-1287-4BBD-8301-1FF559E5D8A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9CBE38-1464-4D12-8AED-9EC5FE7C244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864B66-97EA-4E4D-A4EE-34B29FF2297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0476B1-9162-49A9-9875-69CFBDDAC8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6A377-4A13-4F66-88EC-F2AA2FED53B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503373-DDA4-468F-AF91-ECFBE21B471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13F63F-FDD8-43A5-A566-DCB180447B5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F27B17-5245-4E5C-B67D-F47D3DFFF5F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6A5131-C024-49A3-8072-BF46827727F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689953-0BF3-4579-8D60-72E3401C834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869CF4-99ED-4DB2-A617-70B824FD3E9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6584FC-7B9C-457A-BFBE-174FA77483F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567A7A-D559-402B-AE39-D89CED4FB6E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570139-4E3D-4652-8C33-3F8E405C59D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87A804-F9CB-48D7-935A-06F442E599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8B1C-BB6C-4F7C-8E00-DCDB8C2D3C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5B1AA-A47D-4A03-A5BC-CD0DD6F1C39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B812FC-734B-4190-9C49-277566FA8BE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079CCE-18B2-432D-ABEA-801F881680C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7C2CFB-A592-4D50-9DC9-66A0FF89F48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422E4E-8733-48EE-B4C0-B1BE3A41D07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EAFADB-20B2-46DB-AD7A-A80DF9808F7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8F20E-157D-48F2-9F5A-D49F14B9FE8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DBDD7-A7E8-42C0-B494-A5BA746879E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A5990-F6F4-4B67-B748-D1966B01411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69858-72F7-410D-AF7C-E22BA929DEC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94D89-240B-4044-A761-D0E41B6DEF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D1AD3-B72C-4962-A12A-A2DA4F58CF7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89ADC-F9DB-4471-A19B-6350AC96D3C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5C279-C0A2-4E89-861C-59C96408DDF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62D6D-5F03-4686-88E0-9F96320DA5B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704CD-44B4-414F-B27C-801931377F6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AA553-319E-4959-90C3-11C4C9F7E9C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72820-BE4C-4332-894B-97399DE4983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34760-87AE-4051-9F16-06A9C32E3B0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9EC492-B660-4396-9CDF-066E9DAA2B6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95A7FD-5F0A-4D1D-BF4B-AE55F767AB6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C38FF9-5BBA-447E-8B16-17BAAF4A5B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48E8F-81E5-430A-8161-48027670F51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F5853D-4FE3-42DB-B3C8-5EE2E851EAD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81F59B-B9CF-43E6-A8C3-60AF59626DA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FDDD9D-5BC2-4E71-9499-8871C9DD6C6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163ED2-E015-47B2-957A-326B36AF7A7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D9EC51-5745-42D1-94B9-CFCB814949C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D18AB9-37C4-4FF5-91E7-557AB9478DB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16B5C2-DF19-43A9-A5B6-35C295D7F8F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70972B-83E0-4A21-928C-C67A2C38E92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32B3F7-393C-438E-850B-44AC05EAB4D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4BFF5D-676E-491A-933F-97E2F5E714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82175-4B4F-4F15-9F8A-F69B0AD60F0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A98BEA-65D2-4710-A414-141CE192BC2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880F63-A3FF-4966-BBF7-A6F8D87449E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CE9743-3CCF-4A9C-B5AD-938D0BE31F9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51AEBA-C889-4891-9EC8-91C57C3D86E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11B487-16D5-4765-AB9C-8E8586D1E07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97A4D8-8B49-45D7-B5F9-88F7749BCEC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207475-21F6-4283-B041-1AA3F722159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286431-30CA-4264-B5F5-B3C9720A53F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852136-BF9C-4476-A0D2-6DF77048E70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A68ADC-5ED2-4BF9-B01C-AD34428E09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1C634-08DF-4D3C-A51C-A2608D5CA38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6C8AD1-4CCD-40FA-BC4C-5825B62F831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61DEB-3143-4D06-B74A-D93BCA5550F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E7B38-D701-4551-9760-0AC96CDB418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D5CB8-5B6C-45DF-8A07-BA4E890A997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7AD96-69C6-4303-9980-C1224A38785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44B5B-0714-4EBA-8ADC-37246ADB7DB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40B67-3E54-42FC-9467-7D922057D8B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53F6E-9D55-4BE0-9582-072E9E9B6EC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7480D-FB40-41BA-8391-1F243069151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04005-6D08-4C0C-9475-6700DA08FF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540D-D032-45C9-9368-FB13CC249B2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97EFD-91F5-40A6-AE0F-AF777A766FD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0A4A1-A917-433F-B21B-516D74B832B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77B91-78ED-4296-8B0B-F30C6E97B81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4A2D33-001C-4BF9-8FFE-3B6C7953942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2C0495-1670-42F8-8575-60DBC022569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FB98F2-2C87-443A-8A7D-2BD879F3008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D016A7-B5EB-4BD1-8104-7B15FAC00DA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BC7A21-E464-4495-9D63-E00DA570C0A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935133-9B54-4D24-89FD-AFA5146DD46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E6AD0F-3F65-4319-9C33-5AA0E7FBA6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9FD-F389-4299-AF5A-FBC8B742F11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152076-3EFE-4590-B795-613FE11578E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902B0A-0206-4FDC-BFB0-7BEDF7A15F2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AB473C-B2C0-4B27-BF63-EBE65E416E6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ACF0F8-77E4-482D-8F74-ADCCFF08E26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1D6630-EC7F-4E6F-95BA-653F041EF85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B0F61A-EA1E-43B8-93C9-BDABA9B6F03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AD82E5-AA79-4E76-8C59-8CED13B1958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B7C782-53D2-4644-8126-DD59AF1CC5D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10F48F-A6A6-4AAF-BBF3-291BAC8344A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50B51A-E6B1-4A37-9C73-AF14537336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D785-A287-4199-AA6F-C22DC44B2F3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9DCDF0-70D4-4E9A-8910-827D6927F4E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D462FE-9346-46D1-97C2-F6D9753C038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DC1BDA-C932-4478-AF9A-BFE5D458F4A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862CE8-82CF-4CD1-AB8E-7C187DA0E06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5CAB52-597A-48CB-83BF-B2BA8F445E2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D33E1C-AF00-411F-A13A-3B8ED8C1A50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341218-A5C2-4FC1-BA20-3BC6B53CA0D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265CD-6C92-4DAD-AEB4-79B1AAA6896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04ECE-CEB7-4A52-86B2-5C85A11B641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C579D-90D9-4806-9B09-849BF5B75A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E82A-41A4-408E-A371-46F5E0BB84D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61A20-9F3A-403F-8B05-9BA0E5785EE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03C01-A57D-45ED-AD01-0CB2EBE98EC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51433-3C39-42D3-A2B8-6BE4B36C1D9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79DDA-4431-45C8-B96B-B7D50EE1A21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EFE12-CDEB-48B4-95DA-5A98FEFBC6F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11B2D-8808-4A9A-A559-2E7CD741D1B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065E9-D75C-4D71-85F8-7047863A15A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101EC-798D-4312-A5FB-3D725BE6506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F760D-E7BA-4C7A-8EDA-8BB67DBDD98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E515B-D647-4BBE-8ED9-E2B00DE9E8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D188-A452-4918-8191-D6FD2C43D76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30BC5-C9B7-463E-9055-857F80B32D4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03A0DE-292D-4ACD-8E0E-38775F62E23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E586A3-9419-4911-B449-C3B3587D8F5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28204-7CFE-49AC-92BA-33E4F82B2AD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A4C3F1-14C8-49E6-8957-A9CF82B00A2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255B8-B8E8-46A5-9C75-6365F2FB29D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3E99A-6615-4C1F-AC5E-95CBA358215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A2AE77-303D-4D6F-9D50-EC9A1E6F679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021CC1-D683-43A7-8259-2E8D1649B8A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0EBD7F-0299-4187-A211-561768A619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53394-0C45-4056-895F-4C71498CBB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9B86-D85E-49F7-8B3D-F9B58B8DD66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A2483B-C3E6-4A33-90FA-A0E3A89F2E8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0B6D2B-9D9B-4313-9087-019C68ED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281FF5-4D45-4119-9A90-642AE54D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B308D8-B916-42B8-86D2-5E897662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3CD6E6-CC06-4012-9AF3-F0ACE9A8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D8D29-5DF3-4E81-ABE1-36CE57C8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FFB415-6CEA-406F-B127-54FF42DA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314304-EA10-4760-A66B-0A58416D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DD928-35E6-4032-9D05-539B70AD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58BB7-DD70-48CC-BF42-02EDD21D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B10C-4080-43A1-93AD-71A1B5DCE65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6953CA-A535-4716-892C-95EDFABF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9D4720-BAC2-4D40-B6F5-49C7EEC2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C72AA6-2AEA-43CD-BAD7-DE2D61D5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46E1A4-D0D6-4B48-85C9-A7632C485256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F23DF3-6952-4EF4-A551-17084577E5F5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C42A4D-281A-4CAC-8D78-758C5F85A94C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E30F3B-D9E2-415F-AF40-BE6271FA35E7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10B7C9-74D9-43B5-823D-17C56D2A3ADB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F242C2-FB3D-49EE-8C34-2184735D3C1D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BAC879-5A9B-464F-B947-5E73C70CD9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D570-FB23-4B5E-932A-0BE47E4934FF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0DD846-63AE-4981-80FB-4E6BDC1E36D3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94137E-DCEE-4B92-88FA-64C352569C2D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B75758-D5D5-4633-B9A6-31F3316E39A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41E2DF-63F8-4149-9E94-071581046EF8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9F3D9B-80A2-4270-A026-66CDEACCBD96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1E918-057E-41E8-8C0F-56DABA0BDCC1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99592-B513-44F3-A53D-B41CECC5585E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0739D-95F2-4140-803D-7643CC43F3F0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F3419-C13B-4782-B2F9-BE352D3FBFA9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5F087-D5A2-49A1-A48D-A9D854B411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B034-9764-4B57-9BCE-650AC03508C1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84271-F7C9-477A-AD21-C70D38C7B5C5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AA150-BF5A-442F-B2A1-D461BE29E56F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3C847-C317-428F-BFAB-EA79577D9C72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7A13D-0CDE-4348-B5A6-F55239A48610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5AB9D-A211-4179-AE0C-D31B803D0ABF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C07F6-070B-4174-BEA4-9E19FB282CD3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CB313-7FA1-4C2B-B9D3-7948C68BF3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C423-12B6-4631-9CF6-E080819E9C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A78-91D6-4FE9-A449-74EFB792AD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3F33-1C68-4AA2-96DA-B5081174E1E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537DA-A4B6-4B9C-B5ED-40C796E58D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BEF80-240E-470A-934C-687003737D8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23602-43C0-4215-949E-09815840E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E8AB4-7FCF-4080-A42E-45A578930C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9A2A1-29B1-4A7D-839B-42B8A0D5CF4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4F752-7122-4FB7-8ED8-8AD818C69C3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53FBC-DC9F-4129-AC00-B0E7FB9BFE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2CE23-0046-402E-A4B5-45B0A73C32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E44EE-D310-4D30-8EA4-6BD918EA60D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4771B-4559-4AF2-A9B0-9D7F31F6126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D34FF-7117-481C-9682-49B382C573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59C24-EB43-4EAB-AED0-91E9F493F19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5306F-D6F6-49D8-9BEC-D6AEFAEFA5B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3A161-E3C0-47ED-94BC-DD00CE190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975A8-4072-40D7-8859-0D56635DC17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6EB6B-E0E7-4E37-8F32-16DCDCE9CAC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12A74-010D-488A-932D-58E13CE2BE0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F0097-EB05-47A1-BD5B-640C05ED482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4DE1B-0EE9-4B03-AD6F-380281E9464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901CE-40E3-4CD4-9680-68153EA7F27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39BD8-515B-486C-A19E-6AAF323B3CC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1CF05-553E-44C6-94F4-99FD7F0F21A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E50F3-C3B7-41F7-8873-5B32E62DA9E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9A193-0312-4A35-9F19-0E4955ED6D5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A9E7D-81EC-4BED-A32F-EBD927B77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5EA64-45FB-4862-961D-02707DA860A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38A33-F2AE-4887-9993-246575403E0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B247-2E50-42CB-90DD-D6632187E9A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B1C1-67F0-4AC2-A18B-05E0F9E8A8B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EA6D-EE03-4503-A1A9-70BE1CBC2D0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05CD-B651-4EAF-A874-D9E4E4C0EAE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0873-FE72-4710-B949-F867B976F24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37A6-2416-4ABB-ACB4-4159E5669CB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064B-737A-4C54-8B0A-5B7BAF7071B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448F-9F31-45FA-968D-0D070D4F82C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6E2C-EA6F-478C-9850-C6F950A0A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2A2B-AE17-41B6-BF08-8B07EC46608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B01E-C053-4D6C-9FBD-F21D621F1A0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A99F-9866-45EC-9BB4-FCA1630FA3F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A5A4-D652-469A-86DA-1F77634C6CF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CEBF1E-1187-4DFD-9E18-35246F283EE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65BEA0-A527-47DC-A86D-7BEFEF40251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A88DCA-C23F-4774-9C87-92574735226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478128-5329-4488-90CE-A05819CEBCC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00EE5E-EB59-4F23-BD1A-898483D52F4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44C247-EA71-4F3F-94A5-A28E8E0D878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3B9373-F19A-4687-AD6C-ADC414DFD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0C41-0A45-4441-9464-6A036689D66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9F300B-2B6F-444A-AD0F-52D1C852B03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31DB77-099F-4C6C-BF37-DA2E58E57CB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ECF1C0-BA14-4D6F-A2DC-E0DD3BA4AC3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D55F66-FDBF-44A6-84DC-053DE8BEC8E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19C406-F665-4BFD-8E1E-DF18785D545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A347D-D1C0-46C8-BF2C-894960101BD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00DE2-D64C-4D3F-B242-F698992E5AE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CD149-E47C-4E77-9508-291177C040E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F2E9C-8952-4C08-9774-13F8A52A0F6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338248-B52F-4D67-99A7-83274CDC9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CB79-BCC2-4E9D-8A6D-90C3E0E9F5B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578A1-1A0C-409D-8C3B-C010418CECD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4C171-9C6A-4FAB-A6C1-2C3BAAFAC51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E7CD4E-D16E-4C54-BA5B-B19DA82873B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D8CB4-8539-4F27-9383-115C2CDFBC1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E74078-C2A2-40E0-BC00-AA7BD103DCD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1AFE8-5782-46F1-8C4B-C87CD25A72E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8A54A5-181E-4EB6-9536-A315773F86C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17376-4E8A-4737-9A4E-3237180B4C2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1095E-FD3F-4460-8A00-FA3A09B7F87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509F9-F433-41B8-8AB5-D29A6CD71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EEBC9-5E3B-440E-8CD0-48AEBECC0F5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10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177F6-93DE-4EC0-9CCC-38EC8478E39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ED3DB-CF40-41ED-BAE7-2D154F35B25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FE7CE-11C9-4960-94D0-35604C7E50D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8F7AF-7431-4EC2-B828-245421B42B7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E1707-2D94-45B7-B028-16982DBB15A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D442CE-8051-46F5-A5BC-C243FC2FF15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EDE78-B468-4A61-8E69-6CEE24A41F4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00251-0C21-4F75-B22C-3DC25EC2466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1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6F1F9-8E9D-4ABC-8EB0-D669E055ADC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sldNum" idx="1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F3098-FDD5-48F5-B24A-DEA3959CE81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6A4A9-1ECA-478C-BF40-CC3A48B6057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sldNum" idx="2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2B82F-B4F5-42E5-87E9-B25F158B5B2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04395-67F3-41BA-B231-5991304ED73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94F36-9297-4E07-A759-E638168A2A8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137414-E50A-4A6A-9228-23A2334309E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E7EA8-CBB5-4BDA-A392-800F390BEC1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sldNum" idx="2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28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4EFDC-4A2A-4409-8039-22B8C2C0F92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sldNum" idx="2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 type="sldNum" idx="30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able 4" descr=""/>
          <p:cNvPicPr/>
          <p:nvPr/>
        </p:nvPicPr>
        <p:blipFill>
          <a:blip r:embed="rId2"/>
          <a:stretch/>
        </p:blipFill>
        <p:spPr>
          <a:xfrm>
            <a:off x="414360" y="1579680"/>
            <a:ext cx="8315280" cy="44305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25348D-6ACC-4E9A-9CEB-CA6F3424D26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sc12v5.jpg"/>
          <p:cNvPicPr/>
          <p:nvPr/>
        </p:nvPicPr>
        <p:blipFill>
          <a:blip r:embed="rId2"/>
          <a:stretch/>
        </p:blipFill>
        <p:spPr>
          <a:xfrm>
            <a:off x="457200" y="2117880"/>
            <a:ext cx="8229600" cy="26222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4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4580C4-FAB0-438D-86A0-5FEA44D2009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sc13v5.jpg"/>
          <p:cNvPicPr/>
          <p:nvPr/>
        </p:nvPicPr>
        <p:blipFill>
          <a:blip r:embed="rId2"/>
          <a:stretch/>
        </p:blipFill>
        <p:spPr>
          <a:xfrm>
            <a:off x="457200" y="2111400"/>
            <a:ext cx="8229600" cy="26352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5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8CAB8-AB39-4936-8A1A-B3F693C6CDA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able 4" descr=""/>
          <p:cNvPicPr/>
          <p:nvPr/>
        </p:nvPicPr>
        <p:blipFill>
          <a:blip r:embed="rId2"/>
          <a:stretch/>
        </p:blipFill>
        <p:spPr>
          <a:xfrm>
            <a:off x="414360" y="1579680"/>
            <a:ext cx="8315280" cy="4351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verisign.png"/>
          <p:cNvPicPr/>
          <p:nvPr/>
        </p:nvPicPr>
        <p:blipFill>
          <a:blip r:embed="rId3"/>
          <a:stretch/>
        </p:blipFill>
        <p:spPr>
          <a:xfrm>
            <a:off x="3108240" y="5114880"/>
            <a:ext cx="1067040" cy="7682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6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AD265-5B92-4726-B9A2-88E8109F7A3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7"/>
          </p:nvPr>
        </p:nvSpPr>
        <p:spPr>
          <a:xfrm>
            <a:off x="212760" y="635796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ECE23E-E79F-49BD-BA28-D564B11454B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8"/>
          </p:nvPr>
        </p:nvSpPr>
        <p:spPr>
          <a:xfrm>
            <a:off x="212760" y="635796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89E57-26D5-4A04-9DB2-4858F1CBDB5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9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E69651-F755-4D5D-9293-C17F73C9743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0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TextBox 45"/>
          <p:cNvSpPr/>
          <p:nvPr/>
        </p:nvSpPr>
        <p:spPr>
          <a:xfrm>
            <a:off x="8317080" y="6488280"/>
            <a:ext cx="685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A364D5-1894-496E-BEF2-A0E9DBF88ADC}" type="slidenum">
              <a:rPr b="1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8" name="Rectangle 7" descr=""/>
          <p:cNvPicPr/>
          <p:nvPr/>
        </p:nvPicPr>
        <p:blipFill>
          <a:blip r:embed="rId1"/>
          <a:stretch/>
        </p:blipFill>
        <p:spPr>
          <a:xfrm>
            <a:off x="3809880" y="2590920"/>
            <a:ext cx="1762200" cy="84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the GNSO Counci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615960" y="322740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8680" indent="-3286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ic Names Supporting Organiz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8680" indent="-3286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ible for policy development related to generic Top Level Domain (e.g. .com, .net, .info, .museum, .pro,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8680" indent="-3286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1 Councilors from 6 different constituencies / Stakeholder Groups &amp; Nom Com appoint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8680" indent="-3286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1" name="GNSOcouncilCairo.jpg" descr="/Users/scott/Pictures/iPhoto Library/Modified/2010/Feb 17, 2010/GNSOcouncilCairo.jpg"/>
          <p:cNvPicPr/>
          <p:nvPr/>
        </p:nvPicPr>
        <p:blipFill>
          <a:blip r:embed="rId1"/>
          <a:stretch/>
        </p:blipFill>
        <p:spPr>
          <a:xfrm>
            <a:off x="0" y="1133640"/>
            <a:ext cx="9144000" cy="1761840"/>
          </a:xfrm>
          <a:prstGeom prst="rect">
            <a:avLst/>
          </a:prstGeom>
          <a:ln w="0">
            <a:noFill/>
          </a:ln>
        </p:spPr>
      </p:pic>
      <p:sp>
        <p:nvSpPr>
          <p:cNvPr id="111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83C450-27E4-4B9A-A713-573675907EF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Title 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 GNSO Council Stru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TextBox 45"/>
          <p:cNvSpPr/>
          <p:nvPr/>
        </p:nvSpPr>
        <p:spPr>
          <a:xfrm>
            <a:off x="8317080" y="648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4155D-92B7-4F8D-9A7E-E5467C993DF1}" type="slidenum">
              <a:rPr b="1" lang="en-US" sz="2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Box 5"/>
          <p:cNvSpPr/>
          <p:nvPr/>
        </p:nvSpPr>
        <p:spPr>
          <a:xfrm>
            <a:off x="9455040" y="6858000"/>
            <a:ext cx="1461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Box 7"/>
          <p:cNvSpPr/>
          <p:nvPr/>
        </p:nvSpPr>
        <p:spPr>
          <a:xfrm>
            <a:off x="6297480" y="4516560"/>
            <a:ext cx="11462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Box 2"/>
          <p:cNvSpPr/>
          <p:nvPr/>
        </p:nvSpPr>
        <p:spPr>
          <a:xfrm>
            <a:off x="0" y="6130800"/>
            <a:ext cx="9601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Box 3"/>
          <p:cNvSpPr/>
          <p:nvPr/>
        </p:nvSpPr>
        <p:spPr>
          <a:xfrm>
            <a:off x="8211960" y="6488280"/>
            <a:ext cx="138924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TextBox 4"/>
          <p:cNvSpPr/>
          <p:nvPr/>
        </p:nvSpPr>
        <p:spPr>
          <a:xfrm>
            <a:off x="0" y="6488280"/>
            <a:ext cx="821196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TextBox 5"/>
          <p:cNvSpPr/>
          <p:nvPr/>
        </p:nvSpPr>
        <p:spPr>
          <a:xfrm>
            <a:off x="0" y="6324480"/>
            <a:ext cx="9601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1" name="Picture 3" descr="GNSO-structure.pdf"/>
          <p:cNvPicPr/>
          <p:nvPr/>
        </p:nvPicPr>
        <p:blipFill>
          <a:blip r:embed="rId1"/>
          <a:stretch/>
        </p:blipFill>
        <p:spPr>
          <a:xfrm rot="5400000">
            <a:off x="1422000" y="-576000"/>
            <a:ext cx="6148440" cy="870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GNSO Community Structure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123" name="Picture Placeholder 4" descr=""/>
          <p:cNvPicPr/>
          <p:nvPr/>
        </p:nvPicPr>
        <p:blipFill>
          <a:blip r:embed="rId1"/>
          <a:stretch/>
        </p:blipFill>
        <p:spPr>
          <a:xfrm>
            <a:off x="792000" y="1579680"/>
            <a:ext cx="7693200" cy="4589280"/>
          </a:xfrm>
          <a:prstGeom prst="rect">
            <a:avLst/>
          </a:prstGeom>
          <a:ln w="0">
            <a:noFill/>
          </a:ln>
        </p:spPr>
      </p:pic>
      <p:sp>
        <p:nvSpPr>
          <p:cNvPr id="1124" name="TextBox 5"/>
          <p:cNvSpPr/>
          <p:nvPr/>
        </p:nvSpPr>
        <p:spPr>
          <a:xfrm>
            <a:off x="1300320" y="1981080"/>
            <a:ext cx="275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gistry Stakeholde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6"/>
          <p:cNvSpPr/>
          <p:nvPr/>
        </p:nvSpPr>
        <p:spPr>
          <a:xfrm>
            <a:off x="4869000" y="1981080"/>
            <a:ext cx="282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gistrar Stakeholde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7"/>
          <p:cNvSpPr/>
          <p:nvPr/>
        </p:nvSpPr>
        <p:spPr>
          <a:xfrm>
            <a:off x="1300320" y="4255920"/>
            <a:ext cx="275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Non Commercial Stakeholde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8"/>
          <p:cNvSpPr/>
          <p:nvPr/>
        </p:nvSpPr>
        <p:spPr>
          <a:xfrm>
            <a:off x="4869000" y="4286160"/>
            <a:ext cx="282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mercial Stakeholde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Oval 9"/>
          <p:cNvSpPr/>
          <p:nvPr/>
        </p:nvSpPr>
        <p:spPr>
          <a:xfrm>
            <a:off x="4869000" y="5105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Oval 11"/>
          <p:cNvSpPr/>
          <p:nvPr/>
        </p:nvSpPr>
        <p:spPr>
          <a:xfrm>
            <a:off x="7234200" y="5105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Oval 12"/>
          <p:cNvSpPr/>
          <p:nvPr/>
        </p:nvSpPr>
        <p:spPr>
          <a:xfrm>
            <a:off x="1455840" y="5105520"/>
            <a:ext cx="105084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CU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Oval 13"/>
          <p:cNvSpPr/>
          <p:nvPr/>
        </p:nvSpPr>
        <p:spPr>
          <a:xfrm>
            <a:off x="2811600" y="510552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PO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Oval 17"/>
          <p:cNvSpPr/>
          <p:nvPr/>
        </p:nvSpPr>
        <p:spPr>
          <a:xfrm>
            <a:off x="1376280" y="2819520"/>
            <a:ext cx="1050840" cy="914400"/>
          </a:xfrm>
          <a:prstGeom prst="ellipse">
            <a:avLst/>
          </a:prstGeom>
          <a:solidFill>
            <a:srgbClr val="b8dbed"/>
          </a:soli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T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Oval 18"/>
          <p:cNvSpPr/>
          <p:nvPr/>
        </p:nvSpPr>
        <p:spPr>
          <a:xfrm>
            <a:off x="6019920" y="51181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SPC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135" name="Picture 2" descr="pdp-diagram-v2b[1]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65880"/>
          </a:xfrm>
          <a:prstGeom prst="rect">
            <a:avLst/>
          </a:prstGeom>
          <a:ln w="0">
            <a:noFill/>
          </a:ln>
        </p:spPr>
      </p:pic>
      <p:sp>
        <p:nvSpPr>
          <p:cNvPr id="113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649152-39E4-4B3A-8A7D-6394264B010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itle 1"/>
          <p:cNvSpPr/>
          <p:nvPr/>
        </p:nvSpPr>
        <p:spPr>
          <a:xfrm>
            <a:off x="457200" y="114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GNSO Policy Development Proc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  <a:ea typeface="Trebuchet MS"/>
              </a:rPr>
              <a:t>Concept of </a:t>
            </a:r>
            <a:r>
              <a:rPr b="0" i="1" lang="en-US" sz="3600" spc="-1" strike="noStrike">
                <a:solidFill>
                  <a:srgbClr val="7f7f7f"/>
                </a:solidFill>
                <a:latin typeface="Calibri"/>
                <a:ea typeface="Trebuchet MS"/>
              </a:rPr>
              <a:t>“Consensus Policies”</a:t>
            </a:r>
            <a:endParaRPr b="0" lang="en-US" sz="36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rebuchet MS"/>
              </a:rPr>
              <a:t>ICANN Agreements (Registry and Registrar) require compliance with “Consensus Policies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Follow a specific policy development process (PD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rebuchet MS"/>
              </a:rPr>
              <a:t>Limited to specific topics (“Picket Fence”), such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buClr>
                <a:srgbClr val="7f7f7f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Technical specif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buClr>
                <a:srgbClr val="7f7f7f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Security &amp; Stability of Inter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buClr>
                <a:srgbClr val="7f7f7f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Domain Contact Data (WHOI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rebuchet MS"/>
              </a:rPr>
              <a:t>Examples of consensus policies include: Inter-Registrar Transfer Policy; Uniform Dispute Resolution Policy; Whois Data Reminder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28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D9EB6-71EB-4377-92C2-9EE1E62DF8A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1" name="Picture Placeholder 10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1949400" cy="4135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How can I participate in GNSO?</a:t>
            </a:r>
            <a:endParaRPr b="0" lang="en-US" sz="36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990720" y="1574640"/>
            <a:ext cx="75261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a Public Com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Mailing l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in a Stakeholder Group or Constitu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nteer to Join a Working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 to/attend GNSO Council Mee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Some of the topics currently under discussion</a:t>
            </a:r>
            <a:endParaRPr b="0" lang="en-US" sz="36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990360" y="1574640"/>
            <a:ext cx="78483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r-Registrar Transfer Poli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cking of a domain name subject to UDRP Proceedin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ck’ Who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tection of IOC, Red Cross and IGO nam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trics and Repor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is Stud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nslation and transliteration of Internationalized Registration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For further information</a:t>
            </a:r>
            <a:endParaRPr b="0" lang="en-US" sz="36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http://gnso.icann.or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NSO PDP -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http://gnso.icann.org/en/basics/pdp-process.ht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cribe to the Policy Update - http://www.icann.org/en/resources/policy/upd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A63F6-D6E5-432A-9F20-7CAA9458DE3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8T09:22:11Z</dcterms:created>
  <dc:creator>Marika Konings</dc:creator>
  <dc:description/>
  <dc:language>en-US</dc:language>
  <cp:lastModifiedBy>Julia Charvolen</cp:lastModifiedBy>
  <dcterms:modified xsi:type="dcterms:W3CDTF">2013-07-08T13:16:10Z</dcterms:modified>
  <cp:revision>1</cp:revision>
  <dc:subject/>
  <dc:title>PowerPoint Presentation</dc:title>
</cp:coreProperties>
</file>