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1F1C1-1F7D-4E91-809D-963526F9E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Quick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577AC-9BE6-428D-904F-7769F558697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7F8E-23CB-411D-A0F8-477555B1D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191A2-D6C9-42C8-A407-EC452FA368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558FE-7446-4300-88B6-74514AF424C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2AF4-C362-4ECE-B450-F5B49D8E67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C8C57-97E0-458A-8E11-D792B74505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AE61-871C-4103-9794-08ABDE9C78F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3EB59-1067-486D-AD7F-BA26E0B094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FDBCF-3A2D-4D4A-A8E4-49887DDBDC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A7C9C-2A6E-4654-AA9B-180C78EA9E9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AEC7-7947-4523-9AE5-61528740BB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55DA-C632-4589-AA86-F9E5556AF3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87293-5825-4105-9FDF-F9B841858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B846-44B5-4360-B539-B2F69EDE67B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8B93A-5DBC-4A7D-BE20-C8B2DA334E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88D66-3F75-4844-90C9-56D65537ABC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E872B-1A1A-4628-B09C-96A1FFE4C2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0792C-7E76-4DC2-89EF-F362B9CA3F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9C2C6-4572-4D5A-984D-B10839A7DFE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3FDA7B-E81B-4644-B5B4-D6A7D0877B2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2753D-0E9C-4732-A525-554F74EB97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5BCD71-EB08-40FF-8A76-B2DEEC1F538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F311F0-800A-4EEE-8686-34B36A4A79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4BA87-4915-40CA-A284-06F7CE5A8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DF16-BC58-45B1-BE94-240E33466B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F2B5DD-E232-402B-B0E0-C68977534C8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13529-84B2-41C1-84AD-1A20F1A6977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C4296-F14E-4B70-B905-FD2AAAA906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33DCE-62C2-47ED-A9E4-D6B77B8254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CC108-ACB5-4CE4-829A-9FA7676A5F1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3EE20-0376-4D0C-B1D7-76C8C91A2D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308D5-9813-4885-A397-3D91E6307D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A2F2D-698E-48C0-8080-258B7B8925F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DF1DD-17D6-44B1-8ACB-5BD7A003DB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20A30-D489-4970-B242-07DD2CC09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8327-A1D3-461F-A9F8-D04DCA46844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F241B-1588-42FD-AD12-C2A90CDDD57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FE7BE-4907-4716-921B-B079D80C2F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D9E26-EACC-4251-B005-E03DAB78E13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600BE-4432-41D2-B8DE-D47647512D2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1F3BD-C213-43D8-AEF6-26941267AD2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C656-438B-4CDB-9DE8-20EBFA3E42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873B-8086-4099-8F0A-3BA084727FC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0245-3FB6-48C2-8E76-7FFFB81A0D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1147-F121-48B1-BB24-62ECA8E643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202FF-BD55-4254-B40F-18F18BC87D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FAF7-82A5-490A-98C6-8EE8AF39010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297B-55D8-4ECE-95B3-D195C05CDF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3D863-4D5A-4D84-BC0F-46B50040AAB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3244-658B-4A0F-BE65-02A6249C950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4E060-2E66-42CD-9FBB-9A4C4CE2EBC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38966-AD20-488B-8029-61E4B36345D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222817-0F53-483E-9207-F55852F191C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7AFDF-C42C-4AC0-B478-C4EDB995BEE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6F01F9-3E3A-4EDC-BD22-AA613DE622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627DCD-67E7-4182-8D40-82F089249F8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60764-1C73-43FD-B5C2-3DA927CD5E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6918-0984-4E00-AA0E-2D9907BDFF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5C9C8E-1E3C-4A32-80E8-55CB1CC8578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57A74B-0C8E-46E0-B175-A807F7714A3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3C4AB-C6E7-487A-A567-56735D9696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E56E88-4CCD-490E-86CF-B93F9DC5B7C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EDA74-CABB-40BB-B664-B3EDC040FF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C4216C-6CD3-42EF-90C7-DDB4FF8B472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2430F-96C1-49D9-9E42-54BC78539F3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9CE48-F87C-4476-8CE9-9D1B02A8AB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00BC0-3350-40F7-A969-86B8EFFFDA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E7BF9-7D70-4258-9B90-BCFAF193B3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6943C-92F8-407B-BDCF-93ADB455F5A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83FC0-01A5-49E6-A739-134E70460F4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D531D-0E65-4223-974F-2C67E4A7DBD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C661D-DFD8-4E69-8AC6-02ABA3EB59A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73FD0-2498-4849-B739-5F7DBB32292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2AA54-37B2-43A4-A89B-E61F2CC07E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B17C4-BA6E-4520-A8EE-1B1EEBA5A8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D3B4E-B136-481B-94F5-F12BEC6557D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AD0CE9-ABBE-48F0-99F0-E69217FD10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CDA4D-763D-4272-8D6E-C53C3AA234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C5700-78EB-4E2B-A00F-4B0E189BCC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352B-9007-44FA-A179-A1ED2D1CCE3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7AEC3-76D9-44B8-8DC3-0DC2D4E8840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8F718-3A09-4C79-BAB4-FF8D0207D52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561B1-6D84-4A83-9D6E-D556BB24A3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ECCD0-49EB-4333-B69F-D057BB95A8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A3A7C-F0FA-4A7C-A00D-4EF3C0231FC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9D91-93D9-49C2-83A4-1A2692E5B6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9702-61F7-4E22-A3F9-8086E88F45A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B754-47A0-4A5D-A075-AFC9C529BE0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BCDE5-064F-4E45-8319-7B134DEBF9D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C50A6-EAEE-41CD-813D-E03762CF87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09975-F371-445B-9B28-947A59025C1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E96F3-F74A-4A77-8997-7E89B717EAA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1334A1-B0DF-4702-8CB0-48C4563B6AE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B2792D-14CF-4420-B60C-C4A645ADAB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13A022-2B9C-4EE8-AA58-1DCA3CC5B57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2E1EC-9D14-49F4-9B63-8E3C3819818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D5439-D9BC-4D1A-8AB0-59008EC3AD1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DD62C9-3CD8-4781-B355-A169F484F5B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A2BD8-1A35-4CD1-986F-86A4022691F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B1538-E8D9-4B5E-92DB-6E1406C5C76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AF2B06-9115-401F-BC91-A4E8B3E551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D6D0-B162-4BBE-9E46-9220206830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AE5CE-8797-418E-8E2E-AE9838A6F4B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FD1780-355E-4396-8563-66B7EAF9346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D0C6D-9035-46C8-9842-52559ED4F52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810AC-8857-4B34-BC9A-FC9C2E8FBE4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E6509-642E-4ADD-BBD1-35B503777DC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78E83-9765-4F3F-8AD2-23D62E06E1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6CBF6-BBA0-40A4-A9C5-01DE76D05F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7A067-DB33-4152-838E-E05BDF93251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1AB798-7385-4DA8-BDC1-C2CF016C0E3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E43B2-D9D8-43F3-94C0-255143C8F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9A49-3CA9-421E-B2BF-F97976D6E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6B5B-4F9C-42CE-B492-D4D1FAF30C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6228B-F2CA-45AA-9BDE-1DBA15C68F8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086360-E904-4F7B-93D7-65999CBDE99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F281A5-5FE9-494A-9E6B-1CA68D50277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DDED1-41B6-47E2-B125-8D64CC43B49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F7859-4D01-497E-8BB5-0D2AC32A7C3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29E4A-CA6B-4963-B205-4F685091EAE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E9538-D33B-4E6E-BA84-A8342AD563D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CC01-D116-4952-8A2E-AC627C85EF0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5FED-CD29-4190-8F95-CEFDC6B680C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EED4A-0C19-419A-9EB4-A7C1FCD9CA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A925-3B09-4BE1-BA4C-71101471144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63C1-935E-440E-A9AD-7006F1C3BB6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159F-EBC6-4B67-A7C5-B1A7E141FAE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8511-8E26-4E4E-A767-8DFF638D0F8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3052C-9438-4EE6-BF5A-44BCD21D002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34C60-F43C-483C-A7F8-F1709D89E24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0E274-F1AD-4125-BB34-AE4E0AB55A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342E-F34E-46BC-A4CC-4738F1222C2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8B1171-0404-468D-9FED-4C9F53F0D2B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1E19C4-A213-4F2C-A8F4-FB5192ED2D7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D06E6F-068E-4D61-9EF5-EE69B2012D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09EE4-92B0-4491-958E-BD40032B8EE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BD3308-2233-4FE1-9589-4B316B9CD07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4E3A14-18DA-460F-9057-E9E86E069A2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6ABDE-05FB-4CE1-85CB-C0A4B8C3B74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F3BBC9-9A8D-4B62-BB66-7E743EEEB86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847E0-E590-4F3D-8CAA-32C134A32AC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327BF1-4DE1-4124-BA63-111F26CD72B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0E3F81-332A-4796-AE7C-B427B665E07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9D2C9-B10D-4B61-A910-ACB6C65A54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508395-CED0-4F50-87F0-7A65E911F53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A04EE-B448-4061-BA53-4A8500FD6C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93BA-8287-4B3E-86B4-12650A30E87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C79EE-03EC-43DA-8EF9-2767E3A721A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CFE5F-65B0-47BB-B798-0DA4095EDD4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40DC9E-A254-4BCA-BAEB-BC398263B3C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7B551-7164-48A1-AE4E-DC1841E7A4C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B648F-4A2A-46B4-8027-72CF83946F0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97120-BDCC-4FBB-8DFA-732C6625385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05734-4795-46FB-958C-BB9743A2459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FCC55D-3AD7-4C99-AFF1-211BDF0F961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6203F-671E-4645-A613-D938EA82BC7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EF785-506D-4ADE-9EE3-5619560CDD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E888-9DD5-4A92-A9BD-36210E88AAA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2A552-BAEC-454B-A576-A95F5BDF3E5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7D5F7-E9C8-499E-A2F6-AA1A0DF479D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8A357-48B6-4C1D-A65B-7B4E94DA74A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D3538-0842-4012-AB5E-818DDBC05AB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7CA9D-1840-46E0-A6AC-F93E9BA59D0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30C8-A148-4632-B4EE-5A030152647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3850-7616-40B1-8C6E-D20D636CC95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472BC-DEFC-4708-A7E3-262626C885B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7A1B-3D3D-4E89-9260-9E459E0979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E4EF-C04B-4FC3-9095-C7CE5B724F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B59-BD70-4B88-AE26-32CA7C9397D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303A7-9896-46EA-87C8-9E0B96C3D2A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B23A4-098B-4948-8F7C-6522FE0F46A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17F6-D977-43DC-B02F-37049B868D2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0E8B21-38AF-4824-A3B6-925EDD2D9D5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F2516C-9B29-4A0F-A56A-C9D7F0673E9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BFA2B-FC31-496C-9028-BEFE403F00C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DB93A8-6335-46D8-A1D8-2B5791D0E51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C44E63-F34E-412A-BD91-E505E9823D2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7DECC5-7190-4984-9934-EEEF400D8C5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81FE10-5C64-4F99-8C21-879EC9FA12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98D-FE89-4451-9745-87090D86A3A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735CB9-762C-4A23-9906-DCEB6D6AAA9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982BC-F411-4AFF-9807-95CC1DFD930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30E091-708E-4CA9-84C2-8EADFD3F06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8DFFE-650E-4384-A5C2-926DB2EDD49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105CE6-5F75-4826-99D8-49AAB45BF29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A468D0-7206-46AC-B6F6-BAE9EB4F69D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279C95-436E-44C1-98FC-A0BF5EE6533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56EE5-77D3-426D-B0AE-3B41C64548C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CE869-4703-4D6F-A585-8BE3BC00A5F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AFC6E-04EB-40F7-9448-F5EC3C834A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22C-591F-48EA-8DD1-1D4A18B9971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2851B-8FA3-47A5-BBB3-5769D842E41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CF71D-39BA-4703-B4D6-547136E9E90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918FFB-AE80-4D84-9B25-81A573DF80C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72516A-14D8-434E-AC61-85C4AEC24D3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AABED-FB02-417E-A0F6-B8F5B7C13D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30C06D-3D02-46B5-8A0E-185D0E3A9B6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28202-66C0-4E06-919E-52394F36BA2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0A574-A740-461B-AADF-58202CC95B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BE31-F903-4698-94B9-512D09E3E23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18E0-3FF7-4504-8198-645C1D7BE2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6AB-AC3C-4FAE-AAA5-51DB07C9623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19E05-9FBA-4CF5-B124-AB7DDAC6283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D4181-E6DB-48E9-B02C-2CA48E18F21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1C48-3B29-4C78-B618-CC45C409C1D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BCECA-6C54-4BF4-90D6-7176121F771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9E18E-8884-4C04-8868-99BE3DD8402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C7A4D-38E7-4BB2-AF91-CC6278FD8FD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3A354-1D18-48FD-83E3-F430989E12A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E7B31-D1DD-496B-97E2-43C2757ED48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B98A-400B-46B6-A05B-66DD07FF109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EC3C53-F659-4F4D-9F25-3C8FB66355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F26-79C9-49B6-8B0C-1357CA2E72A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88B65-7F10-44C0-A812-C2FE4EB360B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55F16-D9D5-42DA-9A7C-55512853EEA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3BAC3-A82D-4B2E-85BD-C19B33A94F0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6EA00-7160-4393-BCED-ED6F34693FF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6FEB6-316E-47F3-8AFB-7E16898A476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47CBB6-F057-4C2B-90BF-5ACEEDEFD7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1FD83-BC82-42B8-940C-837222BF161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351E-3270-4EF9-B3A5-6FC2525FFB9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ED5150-19B5-4AE5-AC0E-C1A6516380A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F1A05-162D-49B4-94EA-07FEA2D75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5EBE-F6B5-41EF-97F4-DB93595451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319-46DA-4F77-8107-FCFDC4D3EC7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46417-A69F-4368-A489-7CD8050F2E5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3403A-30A6-421D-B5AB-D97EE7E0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0358C6-0E2F-4C45-8ADE-24FD910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2572D-C008-4E74-9D75-992A45C4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BB185-B165-48D6-8B0F-5629B03D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B8A22B-8588-4E6D-8BBB-2D96D943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D5FC6-65E2-4B3A-AF7B-16959BA3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48D9F-F652-4461-8D6A-9DF00C2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BAACA-AD60-424A-B28E-F78F3039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A773A5-865B-4154-83C9-2BACE06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064-5CAD-4B3B-A27B-2A2AC4D43DDD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6CCF7-F4BD-4324-BD13-7B9CC72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B5ECA-FD08-454C-A99B-5839B4DC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2765E-7E50-4D02-8CD6-4CE3377A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CA1888-2BC3-419B-A073-BDE11C7E352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BE2EE-AAAC-43FD-B56C-149E6A00A8D3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FDD54-335C-4143-BC10-659964C81E4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B9A39-29CF-4B1C-B940-4B5CCF7894A5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D609E5-0E2F-4B10-A40D-B564C2F13FB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27770-D12C-4173-B6B5-B2A112A9138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12C5E8-2469-440A-9F1E-2400764B31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823-FE45-40DC-964C-84CFD2A7746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ECF510-4BEE-4611-8DC3-3D3DDD1FFAD9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85E5E0-57F8-4520-9AE1-75888B1A8A9C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A42BF0-6CBE-458C-973B-333C15C53AE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7332A-030A-42B8-8B25-5120D3E4013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EC790-6F8B-47F2-8E4B-C8D3083BE0A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35A1F-81A6-40D7-8FD2-46C5F45E59BC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EDA3-9BCA-42B9-9596-26C4C4C2E5FD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C4B16-44C6-4A57-80DD-38251B3EF663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77948-B7CE-4EC1-8051-B547577C171C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ECD9B-6885-479F-BA10-3CAE2AD210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D8F-CD9D-4A95-8A72-442633858D90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1D9FB-527B-43BA-B46D-067B1D7A7512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055F1-0E20-4A17-9278-FE98E58A379C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57C0E-7DD9-4211-ADED-6ABACCB0ABD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B0F47-79E9-4393-9476-3E5BF5BFCD6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7A9B3-4902-4DB9-8368-E0774551C9C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3A76A-D761-4E86-9D95-198ADDA5A01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0C814-37E7-42A9-B3DF-2BCF332A33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79A8-B427-4E01-AAA7-05BDB8E078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C9E-23D6-4889-B861-9C23290F4D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160-8A6D-4137-A6F0-F699440A2A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0CE5B-DAA2-41EE-840C-1AF8999159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15EE4-34DD-4C5F-88FB-154EE3B476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BF431-C91E-413E-A2F0-522663DA6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B950-9A39-4927-9608-365BD91CC8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CEFC-080E-4A16-8182-D360AD4506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FD44E-A017-478F-A632-31EFAA3E08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97340-F390-4DEB-B92D-CE8D7C6F09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74593-FC95-4E22-98FB-79D2F1785B7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74675-D86A-44C8-8973-0086DCF1B2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4077-3C62-472A-91A7-98D329117D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E194A-5D5B-4B1A-A43E-064EECD838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7F568-86B5-450E-A1B1-EA9B0129D6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AC10A-EE39-4B7C-BDA0-E58F7C4E200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81615-D414-411A-8C75-5953AE89C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1F319-016B-4C51-8A56-87CB6196DB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01D74-78D6-4E37-9024-1105222FFAE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3FBE6-3C5B-4F9B-92E1-61AE15EEFBF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9A33F-68DF-412E-9E5C-404423FC7C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3F4F2-7E6C-4826-BB62-FCAA468C42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9E2F5-2D83-4B9C-AFFC-145FD5B91E6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BA8D7-D3EB-4644-A407-B950ACD467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22920-C2D6-4D38-8593-57E90DB2AC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1E193-346D-461C-8A67-2EF464F7FD3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A944D-C2E4-49F1-ABD9-CA95BB26FC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0D038-CE3F-4264-8530-AF5BD46FE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0B12-1913-4223-A58B-0388DE4FC8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0F96B-BBEA-46DB-B2D9-A72CA5B205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273-1151-48AE-9C99-CCA443AEC5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6138-100D-48AA-A82B-9D76493A86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4605-FBFC-4EF8-93F8-DAA5BCB613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EE30-A29E-4738-AD2F-1920A22ABC3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AB12-D2F8-45FB-8FAF-01B6B0BEFC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DC97-A61F-4945-8EE8-D26DB286B3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BFFD-C573-4FA6-8746-89F4E9180A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6B49-31A0-4940-92C3-F7F861B9BB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0CA-AF12-42E1-BC14-E6159077C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741E-FDE5-413F-B669-C7D68292C6A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4D3D-8D4E-4707-937E-5C2B5A1D14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847B-C1CF-4D95-B339-31AC9F29FC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FC9B-6D70-406B-ABD5-3D60AC086E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C11F1-0FB2-46B5-8C6E-F700BE8FE8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D6020-5B0A-4F42-9A48-5FA3347557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EFF14-AD92-422F-A1D6-4ABA05C411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8F362-4EA2-4DEA-9313-4CF9B002B4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F8C22-2100-413A-8CC4-08D509D5524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6ECF7F-8299-4AEA-A6FA-792ADF809D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1615D-224B-45E0-8F05-B1D964488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8A94-AAED-430F-8867-50A5BD2C5FF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8806A8-3E92-40B3-9230-C3BA34DE47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7DC68-A3E6-4A42-87CD-2C2995850EF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B51B3-AA0E-44D6-BA2E-647AF96D6D4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3FAAB8-35CD-4043-8407-B218AF30F4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0A7089-A890-41E2-8A97-48D11B9B250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9B212-BE55-4203-99D9-E572236C85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93648-4600-4440-B853-4B1C3FEA35D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4D225-E63B-4BDA-85BD-B0E87AFFD3B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A3AB3-8298-464C-968B-85616D9067B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189A5-2BEF-4B17-AE9C-0A74814CF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C3DF-5130-4CB5-B0D1-6513860CEC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3E2C2-6894-4E91-B617-40E5FE9F60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49857-DC7D-42CA-A047-BCA5FBBE6B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E1E3C-9614-4807-BB4D-8AAB39A479A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7C343-DB4A-4E6F-83DB-ED9706D7847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6F9F9F-542E-4E9C-93CB-1F45F6FAD14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4AAF7-4DD0-4CAC-8E5F-914EE40B39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38654-AB80-4651-96A9-7779CEF4054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FEF40-74D4-499C-8A2A-99700F5D00D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1C8A-BCCB-411A-B9A4-2A773EEA59A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D03E-2F2D-4E3C-B641-F4701D131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E3BE1-F398-4C7B-A572-289A88890C8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10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FAEFA-77D0-4DD7-935F-81FA003451E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3E781-5673-4353-A134-70A90B8C0F0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8E869-B4E4-44CC-B029-A43CDC8B134E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3FB5F-8171-42F2-8142-B2AD4706179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66B8D-A011-4670-903D-6B730E5FB28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97481-BEA1-4498-ABF1-2E7BB5970F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4AA4F-1DFF-464D-B08F-C167AF1DCF1A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A0450-A031-4122-902F-8ECF919348A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51289-4361-4FBB-9CDE-040385DCAB73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sldNum" idx="1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0E11D-A291-4C31-8322-DBAC4C7BAE16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A386F-2643-496B-89C9-8DF1064BFC0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sldNum" idx="2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89710-216C-4745-9BAD-475CC3F99D1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Num" idx="2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959F2-6DA9-4620-83F4-6CDBA81C1A3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2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0C2DE-1FA5-436B-BE51-7D1A4A9C3AD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sldNum" idx="2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AD36A-F999-43DB-96B2-730984625E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sldNum" idx="2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A95D27-4C14-4317-AB3D-77473BEEA8B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5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28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C7827-1B56-4BF3-8BB7-A6E229EB755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Num" idx="29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30"/>
          </p:nvPr>
        </p:nvSpPr>
        <p:spPr>
          <a:xfrm>
            <a:off x="6892560" y="6497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430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95EE3-C008-4D2D-83D2-D11ECF597F44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sc12v5.jpg"/>
          <p:cNvPicPr/>
          <p:nvPr/>
        </p:nvPicPr>
        <p:blipFill>
          <a:blip r:embed="rId2"/>
          <a:stretch/>
        </p:blipFill>
        <p:spPr>
          <a:xfrm>
            <a:off x="457200" y="2117880"/>
            <a:ext cx="8229600" cy="2622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936C8-6F5F-411D-B6F8-28D6C920CD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c13v5.jpg"/>
          <p:cNvPicPr/>
          <p:nvPr/>
        </p:nvPicPr>
        <p:blipFill>
          <a:blip r:embed="rId2"/>
          <a:stretch/>
        </p:blipFill>
        <p:spPr>
          <a:xfrm>
            <a:off x="457200" y="2111400"/>
            <a:ext cx="8229600" cy="26352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8AB9D-56FE-4CCE-97CD-CF1C93AB0BA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able 4" descr=""/>
          <p:cNvPicPr/>
          <p:nvPr/>
        </p:nvPicPr>
        <p:blipFill>
          <a:blip r:embed="rId2"/>
          <a:stretch/>
        </p:blipFill>
        <p:spPr>
          <a:xfrm>
            <a:off x="414360" y="1579680"/>
            <a:ext cx="8315280" cy="4351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verisign.png"/>
          <p:cNvPicPr/>
          <p:nvPr/>
        </p:nvPicPr>
        <p:blipFill>
          <a:blip r:embed="rId3"/>
          <a:stretch/>
        </p:blipFill>
        <p:spPr>
          <a:xfrm>
            <a:off x="3108240" y="5114880"/>
            <a:ext cx="1067040" cy="7682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590AB-74CC-446E-B5D9-20B03C0944DC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F94A6-E55A-472C-870C-60215800B82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212760" y="635796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D6FD2-8925-4057-B63A-324D491B85E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9"/>
          </p:nvPr>
        </p:nvSpPr>
        <p:spPr>
          <a:xfrm>
            <a:off x="8458200" y="6291360"/>
            <a:ext cx="5335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5C19C-46F5-4A27-8FF4-749922B76D7D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Box 45"/>
          <p:cNvSpPr/>
          <p:nvPr/>
        </p:nvSpPr>
        <p:spPr>
          <a:xfrm>
            <a:off x="8317080" y="6488280"/>
            <a:ext cx="685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452CA-7984-4F05-ABAB-8CE2F3866B30}" type="slidenum">
              <a:rPr b="1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8" name="Rectangle 7" descr=""/>
          <p:cNvPicPr/>
          <p:nvPr/>
        </p:nvPicPr>
        <p:blipFill>
          <a:blip r:embed="rId1"/>
          <a:stretch/>
        </p:blipFill>
        <p:spPr>
          <a:xfrm>
            <a:off x="3809880" y="2590920"/>
            <a:ext cx="1762200" cy="841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GNSO Counci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615960" y="322740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ic Names Supporting Organiz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policy development related to generic Top Level Domain (e.g. .com, .net, .info, .museum, .pro,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 Councilors from 6 different constituencies / Stakeholder Groups &amp; Nom Com appoint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1" name="GNSOcouncilCairo.jpg" descr="/Users/scott/Pictures/iPhoto Library/Modified/2010/Feb 17, 2010/GNSOcouncilCairo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1761840"/>
          </a:xfrm>
          <a:prstGeom prst="rect">
            <a:avLst/>
          </a:prstGeom>
          <a:ln w="0">
            <a:noFill/>
          </a:ln>
        </p:spPr>
      </p:pic>
      <p:sp>
        <p:nvSpPr>
          <p:cNvPr id="111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BA22E-722A-47FD-9FB8-97202397CA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Tit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 GNSO Council Stru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TextBox 45"/>
          <p:cNvSpPr/>
          <p:nvPr/>
        </p:nvSpPr>
        <p:spPr>
          <a:xfrm>
            <a:off x="8317080" y="648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BBC95-D9F3-4B83-8666-811E7D45CF5D}" type="slidenum">
              <a:rPr b="1" lang="en-US" sz="24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5"/>
          <p:cNvSpPr/>
          <p:nvPr/>
        </p:nvSpPr>
        <p:spPr>
          <a:xfrm>
            <a:off x="9455040" y="6858000"/>
            <a:ext cx="14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Box 7"/>
          <p:cNvSpPr/>
          <p:nvPr/>
        </p:nvSpPr>
        <p:spPr>
          <a:xfrm>
            <a:off x="6297480" y="4516560"/>
            <a:ext cx="11462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2"/>
          <p:cNvSpPr/>
          <p:nvPr/>
        </p:nvSpPr>
        <p:spPr>
          <a:xfrm>
            <a:off x="0" y="6130800"/>
            <a:ext cx="960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3"/>
          <p:cNvSpPr/>
          <p:nvPr/>
        </p:nvSpPr>
        <p:spPr>
          <a:xfrm>
            <a:off x="8211960" y="6488280"/>
            <a:ext cx="13892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Box 4"/>
          <p:cNvSpPr/>
          <p:nvPr/>
        </p:nvSpPr>
        <p:spPr>
          <a:xfrm>
            <a:off x="0" y="6488280"/>
            <a:ext cx="82119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5"/>
          <p:cNvSpPr/>
          <p:nvPr/>
        </p:nvSpPr>
        <p:spPr>
          <a:xfrm>
            <a:off x="0" y="6324480"/>
            <a:ext cx="9601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Picture 3" descr="GNSO-structure.pdf"/>
          <p:cNvPicPr/>
          <p:nvPr/>
        </p:nvPicPr>
        <p:blipFill>
          <a:blip r:embed="rId1"/>
          <a:stretch/>
        </p:blipFill>
        <p:spPr>
          <a:xfrm rot="5400000">
            <a:off x="1422000" y="-576000"/>
            <a:ext cx="6148440" cy="870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GNSO Community Structur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23" name="Picture Placeholder 4" descr=""/>
          <p:cNvPicPr/>
          <p:nvPr/>
        </p:nvPicPr>
        <p:blipFill>
          <a:blip r:embed="rId1"/>
          <a:stretch/>
        </p:blipFill>
        <p:spPr>
          <a:xfrm>
            <a:off x="792000" y="1579680"/>
            <a:ext cx="7693200" cy="4589280"/>
          </a:xfrm>
          <a:prstGeom prst="rect">
            <a:avLst/>
          </a:prstGeom>
          <a:ln w="0">
            <a:noFill/>
          </a:ln>
        </p:spPr>
      </p:pic>
      <p:sp>
        <p:nvSpPr>
          <p:cNvPr id="1124" name="TextBox 5"/>
          <p:cNvSpPr/>
          <p:nvPr/>
        </p:nvSpPr>
        <p:spPr>
          <a:xfrm>
            <a:off x="1300320" y="198108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y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6"/>
          <p:cNvSpPr/>
          <p:nvPr/>
        </p:nvSpPr>
        <p:spPr>
          <a:xfrm>
            <a:off x="4869000" y="198108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gistrar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7"/>
          <p:cNvSpPr/>
          <p:nvPr/>
        </p:nvSpPr>
        <p:spPr>
          <a:xfrm>
            <a:off x="1300320" y="4255920"/>
            <a:ext cx="27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n 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8"/>
          <p:cNvSpPr/>
          <p:nvPr/>
        </p:nvSpPr>
        <p:spPr>
          <a:xfrm>
            <a:off x="4869000" y="4286160"/>
            <a:ext cx="282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mercial Stakeholder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Oval 9"/>
          <p:cNvSpPr/>
          <p:nvPr/>
        </p:nvSpPr>
        <p:spPr>
          <a:xfrm>
            <a:off x="48690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Oval 11"/>
          <p:cNvSpPr/>
          <p:nvPr/>
        </p:nvSpPr>
        <p:spPr>
          <a:xfrm>
            <a:off x="7234200" y="51055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Oval 12"/>
          <p:cNvSpPr/>
          <p:nvPr/>
        </p:nvSpPr>
        <p:spPr>
          <a:xfrm>
            <a:off x="1455840" y="5105520"/>
            <a:ext cx="105084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CU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Oval 13"/>
          <p:cNvSpPr/>
          <p:nvPr/>
        </p:nvSpPr>
        <p:spPr>
          <a:xfrm>
            <a:off x="2811600" y="510552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PO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Oval 17"/>
          <p:cNvSpPr/>
          <p:nvPr/>
        </p:nvSpPr>
        <p:spPr>
          <a:xfrm>
            <a:off x="1376280" y="2819520"/>
            <a:ext cx="1050840" cy="914400"/>
          </a:xfrm>
          <a:prstGeom prst="ellipse">
            <a:avLst/>
          </a:prstGeom>
          <a:solidFill>
            <a:srgbClr val="b8dbed"/>
          </a:soli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Oval 18"/>
          <p:cNvSpPr/>
          <p:nvPr/>
        </p:nvSpPr>
        <p:spPr>
          <a:xfrm>
            <a:off x="6019920" y="511812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b76f"/>
              </a:gs>
              <a:gs pos="100000">
                <a:srgbClr val="ff9200"/>
              </a:gs>
            </a:gsLst>
            <a:lin ang="5400000"/>
          </a:gradFill>
          <a:ln w="9360">
            <a:solidFill>
              <a:srgbClr val="f78d1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SPC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35" name="Picture 2" descr="pdp-diagram-v2b[1]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65880"/>
          </a:xfrm>
          <a:prstGeom prst="rect">
            <a:avLst/>
          </a:prstGeom>
          <a:ln w="0">
            <a:noFill/>
          </a:ln>
        </p:spPr>
      </p:pic>
      <p:sp>
        <p:nvSpPr>
          <p:cNvPr id="113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7CE2E-9602-4B9D-803C-84A039D69C77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itle 1"/>
          <p:cNvSpPr/>
          <p:nvPr/>
        </p:nvSpPr>
        <p:spPr>
          <a:xfrm>
            <a:off x="457200" y="114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GNSO Policy Development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Concept of </a:t>
            </a:r>
            <a:r>
              <a:rPr b="0" i="1" lang="en-US" sz="3600" spc="-1" strike="noStrike">
                <a:solidFill>
                  <a:srgbClr val="7f7f7f"/>
                </a:solidFill>
                <a:latin typeface="Calibri"/>
                <a:ea typeface="Trebuchet MS"/>
              </a:rPr>
              <a:t>“Consensus Policies”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ICANN Agreements (Registry and Registrar) require compliance with “Consensus Policies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99"/>
              </a:spcBef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Follow a specific policy development process (PD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Limited to specific topics (“Picket Fence”), such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Security &amp; Stability of Intern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rebuchet MS"/>
              </a:rPr>
              <a:t>Domain Contact Data (WHO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rebuchet MS"/>
              </a:rPr>
              <a:t>Examples of consensus policies include: Inter-Registrar Transfer Policy; Uniform Dispute Resolution Policy; Whois Data Reminder Pol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28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76EB2-B534-4B34-8825-27E95111BE64}" type="slidenum">
              <a:rPr b="0" lang="en-US" sz="1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1" name="Picture Placeholder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1949400" cy="4135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How can I participate in GNSO?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990720" y="1574640"/>
            <a:ext cx="75261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ublic Com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Mailing l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 a Stakeholder Group or Constitu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 to Join a Working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to/attend GNSO Counci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Calibri"/>
              </a:rPr>
              <a:t>Some of the topics currently under discuss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990360" y="1574640"/>
            <a:ext cx="78483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-Registrar Transfer Poli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cking of a domain name subject to UDRP Proceed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ck’ Who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tection of IOC, Red Cross and IGO nam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ics and Repor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is Stud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nslation and transliteration of Internationalized Registration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 further information</a:t>
            </a:r>
            <a:endParaRPr b="0" lang="en-US" sz="36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NSO PDP -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://gnso.icann.org/en/basics/pdp-process.ht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cribe to the Policy Update - http://www.icann.org/en/resources/policy/upd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2D5F8-EC86-40E5-BAD5-5CE293A951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8T09:22:11Z</dcterms:created>
  <dc:creator>Marika Konings</dc:creator>
  <dc:description/>
  <dc:language>en-US</dc:language>
  <cp:lastModifiedBy>Julia Charvolen</cp:lastModifiedBy>
  <dcterms:modified xsi:type="dcterms:W3CDTF">2013-07-08T13:16:10Z</dcterms:modified>
  <cp:revision>1</cp:revision>
  <dc:subject/>
  <dc:title>PowerPoint Presentation</dc:title>
</cp:coreProperties>
</file>