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slideMaster17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8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296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media/image8.wmf" ContentType="image/x-wmf"/>
  <Override PartName="/ppt/media/image9.png" ContentType="image/png"/>
  <Override PartName="/ppt/media/image10.jpeg" ContentType="image/jpe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</p:sldMasterIdLst>
  <p:notesMasterIdLst>
    <p:notesMasterId r:id="rId30"/>
  </p:notesMasterIdLst>
  <p:sldIdLst>
    <p:sldId id="256" r:id="rId31"/>
    <p:sldId id="257" r:id="rId32"/>
    <p:sldId id="258" r:id="rId33"/>
    <p:sldId id="259" r:id="rId34"/>
    <p:sldId id="260" r:id="rId35"/>
    <p:sldId id="261" r:id="rId36"/>
    <p:sldId id="262" r:id="rId37"/>
    <p:sldId id="263" r:id="rId38"/>
    <p:sldId id="264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notesMaster" Target="notesMasters/notesMaster1.xml"/><Relationship Id="rId31" Type="http://schemas.openxmlformats.org/officeDocument/2006/relationships/slide" Target="slides/slide1.xml"/><Relationship Id="rId32" Type="http://schemas.openxmlformats.org/officeDocument/2006/relationships/slide" Target="slides/slide2.xml"/><Relationship Id="rId33" Type="http://schemas.openxmlformats.org/officeDocument/2006/relationships/slide" Target="slides/slide3.xml"/><Relationship Id="rId34" Type="http://schemas.openxmlformats.org/officeDocument/2006/relationships/slide" Target="slides/slide4.xml"/><Relationship Id="rId35" Type="http://schemas.openxmlformats.org/officeDocument/2006/relationships/slide" Target="slides/slide5.xml"/><Relationship Id="rId36" Type="http://schemas.openxmlformats.org/officeDocument/2006/relationships/slide" Target="slides/slide6.xml"/><Relationship Id="rId37" Type="http://schemas.openxmlformats.org/officeDocument/2006/relationships/slide" Target="slides/slide7.xml"/><Relationship Id="rId38" Type="http://schemas.openxmlformats.org/officeDocument/2006/relationships/slide" Target="slides/slide8.xml"/><Relationship Id="rId39" Type="http://schemas.openxmlformats.org/officeDocument/2006/relationships/slide" Target="slides/slide9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 type="dt" idx="3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5" name="PlaceHolder 5"/>
          <p:cNvSpPr>
            <a:spLocks noGrp="1"/>
          </p:cNvSpPr>
          <p:nvPr>
            <p:ph type="ftr" idx="3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PlaceHolder 6"/>
          <p:cNvSpPr>
            <a:spLocks noGrp="1"/>
          </p:cNvSpPr>
          <p:nvPr>
            <p:ph type="sldNum" idx="3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F3D74A-9F8C-48B8-9F78-D4B550F29C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</a:rPr>
              <a:t>Quick overvie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F21BED4-8EFC-4CC4-B4EC-1516744C4132}" type="slidenum">
              <a:rPr b="0" lang="en-US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5BB51A-F0C8-4545-AF47-E8AE0774EE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92860B-7188-4F6E-8093-4B22C41A4DC2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170E56-B262-409D-9C4D-E1E847E8BD7B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935E5C-991D-4FC9-9CB0-A8BE165FE26B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A73748-8B37-46D5-A19E-CE4203D9019E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B54AD2-E62D-4C5D-B952-CBC823BD84F2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0369FC-A567-438F-ACE6-7C920954C2AA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4AD253-76FC-4EF1-9422-3E4BF0BD00F0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DF08A1-BB5C-4FE2-89C6-376CA712ADF9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BD182D-8408-4461-94A6-D9194BC35324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407605-9657-493F-8075-8AD718478A65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4271A61-9894-4948-93CF-E84EB04C63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9AA3C8-2659-40F7-8CC2-0F174D1C3DA4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320259A-A03A-4B48-99A1-FADD5A291783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A410200-0814-457D-AC76-A4C050392494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76CD402-7A1F-41AF-B9D7-7B7C83953883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95D3F4C-A3DF-455B-B3D8-CD3666435BD4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62714FF-5420-40AB-8779-FA51BD54C276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1099183-0DFC-4C95-93A1-B6D8A9462E0A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1C9CD07-558E-4386-858D-6B11C0DE95D8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78DB3F4-7108-4F94-B7A7-DE31AFD813C6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C6A7588-E695-4A9E-B81B-BF591167B95C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879F6E6-6CE4-4638-A461-535B3BCC14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985CDC-2170-42A1-AA6E-819A4FBDC4D2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0038BD3-EEBD-4D68-9B64-2CCE198E26B2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86EAA02-862F-44CB-8398-4469FCCF9395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C3171A2-5A96-4D36-BB9A-5405755AB08A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FE1302E-028C-4E7D-86A7-42BABFDA6389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4A03876-7FB0-417B-9430-0304AD5C756D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E6BA6AB-47D2-496A-81F4-9973567D4652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46C6C70-A7A3-45BB-9E78-BE6693D41F56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3444DE9-C8EB-492E-AD87-82B19E035B04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DB5619A-CEA9-4790-8B7D-A5FD2E53C2B0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53F089F-83D1-48D6-89FB-0ABE85AD77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1922B8-E3AF-4E7E-8AA4-F4131636031C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A48D70E-096B-4827-B3FD-BD3C473BE3B6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CDAC016-E8EE-43C4-A6FD-70ECCD829C0B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0DA3E94-A49C-4907-8E05-EE4A5C51C417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EE0C65-659A-43AE-9347-012FCC100AE6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1D4AF5-CF6F-4FF6-9838-E9AAB6FFF656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3709D1-1D7E-4AD6-A598-2AF42962752F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521DF9-E30A-4A79-83C1-0947BBDD65A0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466D29-56A1-4A22-B88F-1FB2FA6CB7B2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DC2097-0613-4AB0-A5B9-D3D00D26C244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B25273-4303-4F54-B761-C3172C69DA3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219115-C1FF-4319-9A6B-9DBA5FAAE76E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A95F4C-44FE-4825-AF55-C942F7C451D5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552725-8AFF-42EA-AD72-B4FFFC74AC82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623913-21EA-4C72-9187-DDE6B71CC81A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943AD5-2EF1-49C3-8D6B-FC6E81BC80F8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2551A6-9DE5-4AAF-BD71-77F83BA49248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8855974-1365-4AEE-9FAF-82E707E0E08E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E9906BE-633D-4CC8-8805-85AFE6B0402F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248A824-2EE9-4232-BBF6-8A6EF1AB60D1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BA6EA4E-E19A-4E08-A2EB-40CE12951941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057F755-D085-4CA9-A77F-42ED051A920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C9306D-F081-4819-BE82-52C395337C01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BC2E576-3A7A-475A-80D2-3971EB4DBAD5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31B6BB0-6636-4311-A2A0-D6F733CFAC29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9C72CA8-57EE-40CC-9406-92B6D90A8CF7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0B49898-E2F7-4ECC-BD69-975695EEFA4B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EC5E037-BB5F-42C9-BE8D-BE9F4AD1AE47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061A018-799E-4675-A254-ABDB3F8A5082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BC2F314-874B-492E-8677-2E03D783BC51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4C89F66-47F0-400B-9EFD-408B7F782D69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90CCF42-28CA-4D05-8182-AC3110612173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40E8A60-F8DD-4C7A-94BB-6D656B73315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E2CDED-29A6-4252-8368-736DBA0FF0E4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3C2D2A4-DAE6-49D2-BE9E-C356E612B007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3F7D823-0389-4A38-B360-ACFB7776B04C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E2F0349-FD08-4EC0-9810-DED2CF872FBB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B4061AA-1482-493B-AE58-D51DB7F93023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5CB78D6-0815-4A75-927C-1DBFC3DDE4FD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1B2B57F-7EC8-4FE1-8577-31B6D788BA62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9FD3A17-66E0-4B67-862D-4D759280EA6C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77CD186-6F1F-4E7A-8EEC-55000DAED69A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0103839-8EB5-4D0C-92D6-5B049007F030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4C1115-7DC0-48F1-BA95-4F5440CFA3C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E3A91F-F8A0-4FDD-A398-13B82035752A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BEAD60-349A-4601-BED4-216A45CAC249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F2730C-767B-4D46-8A29-FD1A95A8F30C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A7C425-EDD9-48A1-AD9B-D9CE2C6698BC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41B127-6685-4D1C-8330-CBE5654F00CF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F764BD-9C29-4293-B286-5166089093D8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98262D-B6B2-4CAD-B539-F6DADEC3FF13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4A8D3D-891E-40C4-B5CE-DCDA2EAB5A02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E8F33A-A164-4137-9F7B-F0A30DAA5F15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794E74-16AB-4287-A9AE-60E1AB5A0507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D0FFD6-0002-4817-B967-B41D043E884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CE1B07-7AE6-4F3E-BAA1-5EC75E57D9C6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B4CD1D-C17B-47AE-9251-3E42A5AEB84A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4954606-5BD1-4371-8565-3CF1C5F8961F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2D656F7-EF3B-497A-88F4-F87C2053B1F7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697C886-66E5-4869-A6D1-E346611A9F81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EF47BE0-3E90-41C6-BFFB-61FDC0ED32A1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998D0FA-C522-4C45-BDBA-B5060A4C7A3F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E57436F-565F-41F8-A5A4-1D319DF1A72A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7D3CA71-1732-4C08-901E-FD3E8BB3B8F9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71CD7B8-EC1A-4CF7-BA26-1A0A0CDB74BF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789AF4B-46CF-4165-9AB2-D730037A3FB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109FC5-5948-4553-A3DB-2FBF25A37CEB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6EFF0AF-D7DC-4CCE-94B6-339E55233175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66012E7-8880-4D90-82C3-EB2F12D56C5B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6B1DEF9-A577-4291-B371-22A3793E1BB2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619889A-6046-4AA0-8128-BF9E5FF74613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5B2B0D6-84BC-4F6E-913E-41464D8DE263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C6D56A6-9C71-4B24-A22F-DF9ACA5A9F0F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405F19F-80F3-4F8E-842E-89FA7F0507CF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9A3B01E-1698-4B81-B84C-EACE893C7E4C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BB4E3F4-A702-49A1-AABD-A0DBC4056E38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60FD168-F308-4B3F-98DE-5647A858FC7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31F968-DBC6-4A05-9B29-40F1BF287A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69BD4C-843D-4180-89A3-96F2CD0EAB95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DF78238-491C-4C4C-8C06-E19A917DB79F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F227EFE-4496-424A-89DD-84D418BBB410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3601A6D-369F-4D12-A1EB-CC8AFD3F23B2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CE51B4A-E994-4DB8-B4F0-3C3B8DF08806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5E1DB37-257B-473E-ACCE-A8F8B5E1AAF6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0396EB-0A81-4812-8E3B-4B8F7D7DF9B3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AA7C04-785A-4308-97D7-DA9D8049C07B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E29403-A6CE-4D20-94E4-22601E14CA6F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8CC58F-0832-46F3-8F22-0E0372E0F368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1688C5-03E0-48B9-87CD-5EF06870DC3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D78F52-42AF-463E-A2AE-8AB38315D48F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9EBE3B-4836-4F73-91F5-6884F86F44BF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AFA1DF-DF8C-4DA9-B3AA-F14432F45C6B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B9D8AC-AD81-4C1C-8899-193D61F3D976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333D87-5957-4A30-9DBC-D626E8FE8CBF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828A01-9B2C-4168-AD12-C6A182A1532C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5E1F0A-EB6C-462C-88F8-84D84D7EA9DB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8BBA01-3004-43AF-ACCC-A2EB34FD7955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01FB5AE-A713-4FB6-89FE-93DEE74126F3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8E3B9C1-A277-4B83-8A9C-9F0A28DEF28C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5C4A680-F150-49C4-A484-908596E27D8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4BA193-6296-4756-9633-76C8AB55EC1A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749142A-6674-406A-B5AC-3A845F8600C5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81748DA-AA80-474D-B019-39355554D113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FB3635E-8AEF-44D0-B248-DC9B4EC0C309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BAB1B37-5AFF-4ABD-AF47-C87CA34B0625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8BCC570-C5B7-4D2F-B44F-2B63F794C999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8572124-51B6-4418-AAB8-AE14BDA1D54C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04367AD-C517-479C-A7A8-2F13993108F6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6E5F32C-17A9-4CC6-A8B4-C2270799451D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FD3856E-AF79-4816-BB91-41A51B54D3C6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2D1C777-5712-4FF8-9925-5B429C8BCC6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ED487B-D89E-4E50-9BA3-03D50BF6C8BC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012A9D7-D14A-4C73-9DA8-A7C89B2A945C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1172397-8F6B-4747-9955-C4A0C6B25221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036A43D-A4F8-491E-9754-6CB7003FE6EA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0401672-A0C5-4238-A097-CEC360923CD8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60D37D9-4533-4630-B415-A63E67E8BBA5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EFD2180-15F3-458B-9E96-A34E1D1685D1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B1D9DF1-A4AD-4616-AC75-4BB54858DC27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64BB2F6-729C-4798-BF0B-D2BEC3D9DBAC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585E6B9-5488-42C2-BF74-3ED26199E5C6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5A1F9F4-846A-4BF1-AD37-DC607B2F62A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4B391F-EEDE-464E-884C-8FDF24A99AFD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B3B6273-6976-4398-B0A4-9B84CDF1979E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42C899-7AC7-481D-94E0-62AE8362948F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098939-E8AC-4968-95AE-1EA336772E21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C07D34-A262-4530-B007-DC32F975D624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8D33B5-FE4B-401B-A4C4-5A8E6711C8B5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C1C368-C89E-4081-AF7D-D6A037C24577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31AFA7-5E09-43F9-BA9C-A263FDC4F9CC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739F04-7D35-44E9-BEB0-0A2F15F6010D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2A40C3-1E0E-4A92-8487-AA878E9D8D1C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5A5E65-E2A0-4A0C-808A-133222A6AE73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1EE69-31D2-46EF-B5E8-CBCA30D060E6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CD48B1-BEF0-4E29-9C3A-5730C19F1291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D5CD51-B35A-4294-BE29-C6B22D24F0FA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7416B0-36BA-4323-A994-7D3E50F1F4B6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91172FD-3BDB-42DF-9006-9DD2A867328D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EC418E0-D09D-4293-8557-6557F4865E54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C96E6A5-4117-4C99-8192-9C4131A501B8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5A5EC4E-5947-496F-9DEE-99A8EACD5FF7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1A106E6-DE8E-4EB9-A1F8-39A3C88DE746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EEC12C9-978D-4D37-8123-9E4420F68353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2D19DE1-7C58-469B-9B8F-536245C36D1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75057-432C-4590-B213-C2F713CF5131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519E193-6065-45C5-99EC-5E11B0DE5526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FB6C336-4473-4CCC-8530-AFCBE9678CCD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FA59BC5-0562-4A58-8C26-AD5FB80310AC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05C56D5-993C-455A-A707-9363D5DE6ECD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9E5529E-15C2-40AA-BD5A-AD2756539DD8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2CE4214-6D4E-4ABB-8873-FFE8F088C385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FA128AF-EA64-4088-87EC-2E768EF42084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3829F28-418C-4D59-A55B-1143B1AFADBF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9C621DE-61DF-4584-8D78-33A8AEA70BBE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DA1DF63-4F86-4E33-8CBE-54ADE176DC8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42C8D-B29E-4C0D-AE5C-239A73070A7F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2F95103-385E-45B9-B8F1-FBABE74FD75E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E6B438A-8627-480D-AB73-791CF071F986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BAFAAC0-5D3E-479B-8CB8-3405CA7F5E8A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9FD635D-BAB1-442A-963B-7E97961F2BC7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8B8026E-E556-46E6-9846-96DDC57EF71F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7AD7AC9-121A-4D2F-B5BC-ED0E129690F7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AAA2D1F-C6AD-4D4B-8473-F826B1AF39C7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88A3CE-D222-4EE2-A73A-174CA4321CC1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C03EA8-D28D-43B0-8095-057205A1248A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9B51C2-4A17-4605-9D99-E79D93C414F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E0CE3-ECB4-4473-ABF8-152523001982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4929CA-DA95-46BC-9348-91DE89915FD1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B22F13-70A9-4215-9274-42D4AC5DB02A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C93791-ED3C-4525-8BE7-0B780CF400BB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C1C446-3D15-4751-873F-DD55B0FB2397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3F65FE-52DE-4866-A164-CBB962BD17E7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BD76B2-E078-44ED-A992-06848D2012EF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0D83A9-669E-409B-AE73-A0978A7BADDA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2657C1-70CD-4504-A22C-588AC6F0707D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715F03-B67A-4C91-8617-ED83BB1FCA4C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D353B39-E861-45D3-9537-9F6B14D7CDA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9F483-856B-4FFB-B0E6-E85D533F3F4C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6A55559-DC66-4B04-8BD7-465D83254189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A8DAC1C-4D75-4F4B-A17B-20910F90FDFF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6EF001F-A74B-4C85-AD72-AD2271CD89E2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3E7DC4A-45E0-4E00-BC78-D8CC8066B4F2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3862C5B-0338-4740-91B5-36C406895422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8069229-3341-4508-AFA8-736D98A6C8DF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8A53177-6CEF-4556-AB44-13B93FF73C06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2FC210E-6240-4ED7-851B-E3149FA483C0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292ACC5-DE77-4622-9924-1EBD90BF974C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8D39296-1012-4684-81BF-F7876E20D9A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C11B58-546D-4461-B9B0-C93AD3A3404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1E6E8-0FDD-48CC-A0B6-14F084A41A7A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E11D4F8-7325-4719-B67B-1D8ECB861F73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A3EF39B-5797-4FD3-8B67-0839EFABD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0A06638-EACD-4CAD-BDDB-8FF554241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40ACAB0-AD66-4516-8AF1-20FA52839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E2C5095-30BB-4C6A-AF32-19F9E1BAC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6FDEA1E-3C50-44D5-8ACD-D472D2FCA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7D139C7-DC68-4231-92B1-EFE66D848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E25E0E6-4723-4145-A118-EB82EC258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F8CD991-8CE6-4A31-A202-E13D224D8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680C75A-647D-4411-A167-10EEB746A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AFEB7-4051-455A-B9C3-430696DBF784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C82C497-6D94-4FA0-BEF9-8C44AEF41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0AE89A6-2EB6-4019-A4C9-E1E716EE3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72EE3A3-EAAE-49B1-8E22-C63855429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A747A27-DBD6-4EA7-BD73-391E4A7FDD1B}" type="slidenum">
              <a:t>&lt;#&gt;</a:t>
            </a:fld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EF6490B-38A0-4761-A4AF-8831E519B98D}" type="slidenum">
              <a:t>&lt;#&gt;</a:t>
            </a:fld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46CB891-3E76-41E2-98DE-3003BFB1A7E0}" type="slidenum">
              <a:t>&lt;#&gt;</a:t>
            </a:fld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F6FC91D-DBC3-437D-8D44-85BE90116E71}" type="slidenum">
              <a:t>&lt;#&gt;</a:t>
            </a:fld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D7E61A2-A98E-4A77-A0CF-DEF0BDE8B75F}" type="slidenum">
              <a:t>&lt;#&gt;</a:t>
            </a:fld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D57E6BB-64C7-4770-A0AA-8AC3F03C60F9}" type="slidenum">
              <a:t>&lt;#&gt;</a:t>
            </a:fld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2706011-EF5A-4A12-94BD-88AD5327EC0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C4BD2-329E-43DF-B3E2-18215FDE9DFA}" type="slidenum">
              <a:t>&lt;#&gt;</a:t>
            </a:fld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DB30880-F2D1-4EBE-9E88-4AD2B01417F7}" type="slidenum">
              <a:t>&lt;#&gt;</a:t>
            </a:fld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8FCA163-0D9F-41C2-A627-A6CBF330FF16}" type="slidenum">
              <a:t>&lt;#&gt;</a:t>
            </a:fld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409CB6B-88DC-4F45-AD91-BA816C5830DB}" type="slidenum">
              <a:t>&lt;#&gt;</a:t>
            </a:fld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817123B-1051-4A28-85A6-C6BDD3A30BB4}" type="slidenum">
              <a:t>&lt;#&gt;</a:t>
            </a:fld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DA9FBEE-AF01-41AF-BB39-4BB93593C5AB}" type="slidenum">
              <a:t>&lt;#&gt;</a:t>
            </a:fld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CDD216-3D70-4748-8B08-A3261AA0E4DC}" type="slidenum">
              <a:t>&lt;#&gt;</a:t>
            </a:fld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72EC93-B1B5-49DE-AE97-0A01442EF6E5}" type="slidenum">
              <a:t>&lt;#&gt;</a:t>
            </a:fld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DB4812-9912-4305-B390-590E0C9E1A60}" type="slidenum">
              <a:t>&lt;#&gt;</a:t>
            </a:fld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1D14AB-DDF9-449D-A9C0-C04459EECCFD}" type="slidenum">
              <a:t>&lt;#&gt;</a:t>
            </a:fld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29A6BE-33C8-425D-AC72-C932C8DAF08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5A3C5-3828-41D1-A81A-E605A5CCA554}" type="slidenum">
              <a:t>&lt;#&gt;</a:t>
            </a:fld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E354A9-547A-4A75-96B6-F801F4867484}" type="slidenum">
              <a:t>&lt;#&gt;</a:t>
            </a:fld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8C0F6A-3034-4280-B089-B2FDD9934A42}" type="slidenum">
              <a:t>&lt;#&gt;</a:t>
            </a:fld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12C3C9-76E3-425B-89BD-4CAFE559B6AF}" type="slidenum">
              <a:t>&lt;#&gt;</a:t>
            </a:fld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BCFE5A-615C-4593-AF12-A53F7A301374}" type="slidenum">
              <a:t>&lt;#&gt;</a:t>
            </a:fld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DE618E-06F9-491A-8154-6B79DF2C3304}" type="slidenum">
              <a:t>&lt;#&gt;</a:t>
            </a:fld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A2A839-F7F4-46EE-96ED-E9E491AFBAA8}" type="slidenum">
              <a:t>&lt;#&gt;</a:t>
            </a:fld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99D2F4-1A02-45B8-A8A7-3239FAF30AA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BEE6C-94D6-45AB-A9C5-29313FC0242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14D96-C3DE-43A0-8935-1888F7B2074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6FD53-AE19-4BEC-83E3-0BB39EC7F13A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0C7B5A-CF82-4A04-AA07-CA46CCDCFB39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D5E104-F170-412A-A3F4-EC5F626BD29E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97DBEC-EA6B-4DBF-974C-B344532878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CAC379-0FDF-4615-AE8C-355C212060A6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DDF384-5E04-4377-AEB7-9376F3A49831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564F11-EF9B-4800-90A2-AC007891EB5F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A6517D-FFFB-43E9-B091-83762F706DEC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9583E3-CA8A-4181-8AC5-68CA168134F9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348F97-AFE5-44A2-AA37-371376E7E02A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63A36E-9919-4D30-B084-E32526342A36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E24E88-BF7F-4282-88F3-2BD358DBFB2C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3EE912-F05A-491E-BBCC-184FDCD1108A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F21217-6081-490C-8D5D-38C1532474D3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497DD4-F208-4661-8F77-683B1179F9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7B26F6-6944-4A7E-8FA3-D57B5CEA693A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29B55B-2858-45D8-A9A7-3F4895057B59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C56600-7C9E-4D62-BEBB-DE64FF2C1D73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4BE780-9768-46D3-998D-0BD0240E3B06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705B4D-94BC-43F9-89F6-FC8ACA08E0D0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5EA072-F5DC-42D3-A8A1-9B89E9875552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387A25-7E73-4456-8CC4-61E1D5CF97ED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AB8CCC-750D-4A99-B6F6-23BC6F3F1727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03F420-FE0C-4ED3-AFA0-456C851572EF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157BAF-7CD6-4C82-835C-06AB6C3C78C9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21B1E0-CF01-4B62-9247-5BC084212E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E2B516-4439-4CFA-9EB2-953B8C3EF376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A59F72-61C9-485F-96C8-DC3946901EFE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36CD9-ABB5-485F-8614-640B1C8BB662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A80A3-9969-4C61-BE6E-B0809684700A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6A776-5340-488C-AAF5-A88DB1CC3C22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D235C-7A2E-4311-848A-6FBB046C2B0B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4503D-A6C5-4FF4-AFFF-3F0B91CFDA9E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511E5-ADFF-4986-840D-1FDD3F92E81A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5B095-1B54-464D-86FF-67EC8A8FF68A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8D765-E418-4BD0-B4B3-E8494EE3F232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2DC1A-3F2E-403E-8782-1AEDABB3D7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EE307C-86CD-45E0-8480-BCBD0611E63F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139A6-BE43-4406-8BAC-C4CC1A0E60F7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70EC8-9DFF-45EB-9CE6-5681C54D31A8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4C896-75EC-4DC7-981E-6B38144E0102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8783276-07D1-4D3B-B1C3-4EBF65A68B95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9D21901-73EA-4580-960D-22A88C80C083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8BE62F5-D5CA-4B90-B47B-8C6B0A7CC8CF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FC86DA4-A458-4DB4-8344-1BBF7CB20567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C6E76A6-654A-4977-947F-E96EE351E58A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9764A98-523C-403A-9EF9-0DA03D83B990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9A376F5-7B20-4D7C-BB2C-0820027895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AF3963-2C19-4FD7-B347-22B81313195F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8A6D8D9-4B61-4F31-9E87-60ECB221D2E6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587415F-BE1F-4155-894A-2AE8E8DC535D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502E9B2-691B-4982-9629-94769695DDB7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23C9CF7-EA6A-49F2-A859-0CC73CD57E55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04B91F8-C324-4726-B8C6-F38547A5E219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FBF7DBE-44C6-406B-9147-5C0DF19390E3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546909-0783-457C-9399-6C7209C9DB80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AD9ADFB-37A1-4116-9995-AABB0D797A25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6AEB29-BABE-45AA-9FED-49E8E0CF6A6C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EBE9C0E-C21D-4F7B-B7EC-5EA9A84889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F4563B-B6BB-44E3-90BF-95089DADD201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AB0717E-7606-42E4-B737-3FB7C87E4AB4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549486B-A0FC-4A85-86F0-7388390CAC5C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4ED3B1A-4EAA-4DB7-8733-63ADC3D926FF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FDAB7B6-309D-4223-9311-5CCE237F0AA2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463892C-5E86-4B4B-89ED-A5573A6E9653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1BEA345-EFC3-4A0D-AE72-4E7E53FFDDF3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16F21DB-CE60-4D90-9A0D-6F9B8BC65912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672AC4-D114-4A9D-86C3-06CAE5FA9CFD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6D7632-D55D-4443-B33C-72995DE25AF5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574D1D-0C44-44D0-B580-823AC9F0AB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458200" y="6291360"/>
            <a:ext cx="53352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20A4C5-33E1-4555-B90A-69B2FA97433B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 type="sldNum" idx="10"/>
          </p:nvPr>
        </p:nvSpPr>
        <p:spPr>
          <a:xfrm>
            <a:off x="8458200" y="6291360"/>
            <a:ext cx="53352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897181F-CD69-4D7D-97DE-157C5DE328A8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 type="sldNum" idx="11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1242FA8-6348-4E34-BB33-B49932182CDC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 type="sldNum" idx="12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7EB4A83-F812-4F83-863F-368BD7ED2B77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sldNum" idx="13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37AADD-0DC4-471C-988A-4E9A6FB227A1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 type="sldNum" idx="14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1B68742-4F36-4912-95D5-49ADA444BC3D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sldNum" idx="15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76A850-AF66-4880-8149-CCAC902BC29E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 type="sldNum" idx="16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63E65D0-B280-49B5-AEB8-159423BC11A7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 type="sldNum" idx="17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AB639A9-09E1-4895-A747-6B9E9EB9EBC6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 type="sldNum" idx="18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15B9F3F-C404-4AB6-8A0E-84FE2C7B513D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 type="sldNum" idx="19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03B306A-8A2B-4468-8DA5-5078D4CC5815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Num" idx="2"/>
          </p:nvPr>
        </p:nvSpPr>
        <p:spPr>
          <a:xfrm>
            <a:off x="8458200" y="6291360"/>
            <a:ext cx="53352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6289801-377C-465C-8BC6-ADA052A49DE8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 type="sldNum" idx="20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EC7216-F23E-4417-9373-ABB5F5DBD6D8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 type="sldNum" idx="21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2548644-0F02-4985-9CEE-164F8CA895C9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 type="sldNum" idx="22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A20B68E-E2A6-4782-BCB1-DE618809E197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 type="sldNum" idx="23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9D10DA6-0C61-4974-B2C1-207D450174BA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 type="sldNum" idx="24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793BDF-400E-49D7-BA93-08C02EC5F21C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 type="sldNum" idx="25"/>
          </p:nvPr>
        </p:nvSpPr>
        <p:spPr>
          <a:xfrm>
            <a:off x="6892560" y="6497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2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2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28"/>
          </p:nvPr>
        </p:nvSpPr>
        <p:spPr>
          <a:xfrm>
            <a:off x="8458200" y="6291360"/>
            <a:ext cx="53352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855427-C0CC-4819-BCFF-5522C280BE11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 type="sldNum" idx="29"/>
          </p:nvPr>
        </p:nvSpPr>
        <p:spPr>
          <a:xfrm>
            <a:off x="6892560" y="6497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3" name="PlaceHolder 3"/>
          <p:cNvSpPr>
            <a:spLocks noGrp="1"/>
          </p:cNvSpPr>
          <p:nvPr>
            <p:ph type="sldNum" idx="30"/>
          </p:nvPr>
        </p:nvSpPr>
        <p:spPr>
          <a:xfrm>
            <a:off x="6892560" y="6497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Table 4" descr=""/>
          <p:cNvPicPr/>
          <p:nvPr/>
        </p:nvPicPr>
        <p:blipFill>
          <a:blip r:embed="rId2"/>
          <a:stretch/>
        </p:blipFill>
        <p:spPr>
          <a:xfrm>
            <a:off x="414360" y="1579680"/>
            <a:ext cx="8315280" cy="443052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sldNum" idx="3"/>
          </p:nvPr>
        </p:nvSpPr>
        <p:spPr>
          <a:xfrm>
            <a:off x="8458200" y="6291360"/>
            <a:ext cx="53352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D06AEE2-D68F-4492-A570-0D98C43030E4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5" descr="sc12v5.jpg"/>
          <p:cNvPicPr/>
          <p:nvPr/>
        </p:nvPicPr>
        <p:blipFill>
          <a:blip r:embed="rId2"/>
          <a:stretch/>
        </p:blipFill>
        <p:spPr>
          <a:xfrm>
            <a:off x="457200" y="2117880"/>
            <a:ext cx="8229600" cy="262224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sldNum" idx="4"/>
          </p:nvPr>
        </p:nvSpPr>
        <p:spPr>
          <a:xfrm>
            <a:off x="8458200" y="6291360"/>
            <a:ext cx="53352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CDD41D8-4942-4949-A786-A0E74D9B1851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5" descr="sc13v5.jpg"/>
          <p:cNvPicPr/>
          <p:nvPr/>
        </p:nvPicPr>
        <p:blipFill>
          <a:blip r:embed="rId2"/>
          <a:stretch/>
        </p:blipFill>
        <p:spPr>
          <a:xfrm>
            <a:off x="457200" y="2111400"/>
            <a:ext cx="8229600" cy="263520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 type="sldNum" idx="5"/>
          </p:nvPr>
        </p:nvSpPr>
        <p:spPr>
          <a:xfrm>
            <a:off x="8458200" y="6291360"/>
            <a:ext cx="53352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CBCB9D1-A63D-4365-96B7-CC7BD92BD182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Table 4" descr=""/>
          <p:cNvPicPr/>
          <p:nvPr/>
        </p:nvPicPr>
        <p:blipFill>
          <a:blip r:embed="rId2"/>
          <a:stretch/>
        </p:blipFill>
        <p:spPr>
          <a:xfrm>
            <a:off x="414360" y="1579680"/>
            <a:ext cx="8315280" cy="435132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5" descr="verisign.png"/>
          <p:cNvPicPr/>
          <p:nvPr/>
        </p:nvPicPr>
        <p:blipFill>
          <a:blip r:embed="rId3"/>
          <a:stretch/>
        </p:blipFill>
        <p:spPr>
          <a:xfrm>
            <a:off x="3108240" y="5114880"/>
            <a:ext cx="1067040" cy="76824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sldNum" idx="6"/>
          </p:nvPr>
        </p:nvSpPr>
        <p:spPr>
          <a:xfrm>
            <a:off x="8458200" y="6291360"/>
            <a:ext cx="53352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BEAF4EE-FBD2-4793-8245-0E3290910E55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sldNum" idx="7"/>
          </p:nvPr>
        </p:nvSpPr>
        <p:spPr>
          <a:xfrm>
            <a:off x="212760" y="635796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D4F4247-092D-4018-AD9A-4EE822E334A1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 type="sldNum" idx="8"/>
          </p:nvPr>
        </p:nvSpPr>
        <p:spPr>
          <a:xfrm>
            <a:off x="212760" y="635796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924B62-1999-4346-A49F-8C01ED6B192B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sldNum" idx="9"/>
          </p:nvPr>
        </p:nvSpPr>
        <p:spPr>
          <a:xfrm>
            <a:off x="8458200" y="6291360"/>
            <a:ext cx="53352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817FE0-A6ED-4A78-8F5C-BFC6EDCD1EE2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2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289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7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0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4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TextBox 45"/>
          <p:cNvSpPr/>
          <p:nvPr/>
        </p:nvSpPr>
        <p:spPr>
          <a:xfrm>
            <a:off x="8317080" y="6488280"/>
            <a:ext cx="6858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C7207DA-F93B-4FE2-BD9F-E8933A5EC84F}" type="slidenum">
              <a:rPr b="1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8" name="Rectangle 7" descr=""/>
          <p:cNvPicPr/>
          <p:nvPr/>
        </p:nvPicPr>
        <p:blipFill>
          <a:blip r:embed="rId1"/>
          <a:stretch/>
        </p:blipFill>
        <p:spPr>
          <a:xfrm>
            <a:off x="3809880" y="2590920"/>
            <a:ext cx="1762200" cy="8413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What is the GNSO Council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10" name=""/>
          <p:cNvSpPr txBox="1"/>
          <p:nvPr/>
        </p:nvSpPr>
        <p:spPr>
          <a:xfrm>
            <a:off x="615960" y="3227400"/>
            <a:ext cx="8229600" cy="32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28680" indent="-3286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eneric Names Supporting Organizatio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8680" indent="-3286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ponsible for policy development related to generic Top Level Domain (e.g. .com, .net, .info, .museum, .pro,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8680" indent="-3286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1 Councilors from 6 different constituencies / Stakeholder Groups &amp; Nom Com appointe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8680" indent="-3286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1" name="GNSOcouncilCairo.jpg" descr="/Users/scott/Pictures/iPhoto Library/Modified/2010/Feb 17, 2010/GNSOcouncilCairo.jpg"/>
          <p:cNvPicPr/>
          <p:nvPr/>
        </p:nvPicPr>
        <p:blipFill>
          <a:blip r:embed="rId1"/>
          <a:stretch/>
        </p:blipFill>
        <p:spPr>
          <a:xfrm>
            <a:off x="0" y="1133640"/>
            <a:ext cx="9144000" cy="1761840"/>
          </a:xfrm>
          <a:prstGeom prst="rect">
            <a:avLst/>
          </a:prstGeom>
          <a:ln w="0">
            <a:noFill/>
          </a:ln>
        </p:spPr>
      </p:pic>
      <p:sp>
        <p:nvSpPr>
          <p:cNvPr id="1112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181745B-A17E-4C54-BB37-04748F5FA440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Title 8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7f7f7f"/>
                </a:solidFill>
                <a:latin typeface="Trebuchet MS"/>
                <a:ea typeface="Trebuchet MS"/>
              </a:rPr>
              <a:t>The GNSO Council Structur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4" name="TextBox 45"/>
          <p:cNvSpPr/>
          <p:nvPr/>
        </p:nvSpPr>
        <p:spPr>
          <a:xfrm>
            <a:off x="8317080" y="648828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61CBE80-6B52-4FE4-B566-52FFDBFB866F}" type="slidenum">
              <a:rPr b="1" lang="en-US" sz="24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5" name="TextBox 5"/>
          <p:cNvSpPr/>
          <p:nvPr/>
        </p:nvSpPr>
        <p:spPr>
          <a:xfrm>
            <a:off x="9455040" y="6858000"/>
            <a:ext cx="1461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6" name="TextBox 7"/>
          <p:cNvSpPr/>
          <p:nvPr/>
        </p:nvSpPr>
        <p:spPr>
          <a:xfrm>
            <a:off x="6297480" y="4516560"/>
            <a:ext cx="114624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7" name="TextBox 2"/>
          <p:cNvSpPr/>
          <p:nvPr/>
        </p:nvSpPr>
        <p:spPr>
          <a:xfrm>
            <a:off x="0" y="6130800"/>
            <a:ext cx="96012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8" name="TextBox 3"/>
          <p:cNvSpPr/>
          <p:nvPr/>
        </p:nvSpPr>
        <p:spPr>
          <a:xfrm>
            <a:off x="8211960" y="6488280"/>
            <a:ext cx="1389240" cy="36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9" name="TextBox 4"/>
          <p:cNvSpPr/>
          <p:nvPr/>
        </p:nvSpPr>
        <p:spPr>
          <a:xfrm>
            <a:off x="0" y="6488280"/>
            <a:ext cx="8211960" cy="36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TextBox 5"/>
          <p:cNvSpPr/>
          <p:nvPr/>
        </p:nvSpPr>
        <p:spPr>
          <a:xfrm>
            <a:off x="0" y="6324480"/>
            <a:ext cx="960120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1" name="Picture 3" descr="GNSO-structure.pdf"/>
          <p:cNvPicPr/>
          <p:nvPr/>
        </p:nvPicPr>
        <p:blipFill>
          <a:blip r:embed="rId1"/>
          <a:stretch/>
        </p:blipFill>
        <p:spPr>
          <a:xfrm rot="5400000">
            <a:off x="1422000" y="-576000"/>
            <a:ext cx="6148440" cy="87008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Trebuchet MS"/>
                <a:ea typeface="Trebuchet MS"/>
              </a:rPr>
              <a:t>GNSO Community Structures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pic>
        <p:nvPicPr>
          <p:cNvPr id="1123" name="Picture Placeholder 4" descr=""/>
          <p:cNvPicPr/>
          <p:nvPr/>
        </p:nvPicPr>
        <p:blipFill>
          <a:blip r:embed="rId1"/>
          <a:stretch/>
        </p:blipFill>
        <p:spPr>
          <a:xfrm>
            <a:off x="792000" y="1579680"/>
            <a:ext cx="7693200" cy="4589280"/>
          </a:xfrm>
          <a:prstGeom prst="rect">
            <a:avLst/>
          </a:prstGeom>
          <a:ln w="0">
            <a:noFill/>
          </a:ln>
        </p:spPr>
      </p:pic>
      <p:sp>
        <p:nvSpPr>
          <p:cNvPr id="1124" name="TextBox 5"/>
          <p:cNvSpPr/>
          <p:nvPr/>
        </p:nvSpPr>
        <p:spPr>
          <a:xfrm>
            <a:off x="1300320" y="1981080"/>
            <a:ext cx="2751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Registry Stakeholder Grou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5" name="TextBox 6"/>
          <p:cNvSpPr/>
          <p:nvPr/>
        </p:nvSpPr>
        <p:spPr>
          <a:xfrm>
            <a:off x="4869000" y="1981080"/>
            <a:ext cx="282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Registrar Stakeholder Grou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6" name="TextBox 7"/>
          <p:cNvSpPr/>
          <p:nvPr/>
        </p:nvSpPr>
        <p:spPr>
          <a:xfrm>
            <a:off x="1300320" y="4255920"/>
            <a:ext cx="2751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Non Commercial Stakeholder Grou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7" name="TextBox 8"/>
          <p:cNvSpPr/>
          <p:nvPr/>
        </p:nvSpPr>
        <p:spPr>
          <a:xfrm>
            <a:off x="4869000" y="4286160"/>
            <a:ext cx="282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Commercial Stakeholder Grou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8" name="Oval 9"/>
          <p:cNvSpPr/>
          <p:nvPr/>
        </p:nvSpPr>
        <p:spPr>
          <a:xfrm>
            <a:off x="4869000" y="5105520"/>
            <a:ext cx="914400" cy="914400"/>
          </a:xfrm>
          <a:prstGeom prst="ellipse">
            <a:avLst/>
          </a:prstGeom>
          <a:gradFill rotWithShape="0">
            <a:gsLst>
              <a:gs pos="0">
                <a:srgbClr val="ffb76f"/>
              </a:gs>
              <a:gs pos="100000">
                <a:srgbClr val="ff9200"/>
              </a:gs>
            </a:gsLst>
            <a:lin ang="5400000"/>
          </a:gradFill>
          <a:ln w="9360">
            <a:solidFill>
              <a:srgbClr val="f78d18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9" name="Oval 11"/>
          <p:cNvSpPr/>
          <p:nvPr/>
        </p:nvSpPr>
        <p:spPr>
          <a:xfrm>
            <a:off x="7234200" y="5105520"/>
            <a:ext cx="914400" cy="914400"/>
          </a:xfrm>
          <a:prstGeom prst="ellipse">
            <a:avLst/>
          </a:prstGeom>
          <a:gradFill rotWithShape="0">
            <a:gsLst>
              <a:gs pos="0">
                <a:srgbClr val="ffb76f"/>
              </a:gs>
              <a:gs pos="100000">
                <a:srgbClr val="ff9200"/>
              </a:gs>
            </a:gsLst>
            <a:lin ang="5400000"/>
          </a:gradFill>
          <a:ln w="9360">
            <a:solidFill>
              <a:srgbClr val="f78d18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IP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0" name="Oval 12"/>
          <p:cNvSpPr/>
          <p:nvPr/>
        </p:nvSpPr>
        <p:spPr>
          <a:xfrm>
            <a:off x="1455840" y="5105520"/>
            <a:ext cx="1050840" cy="914400"/>
          </a:xfrm>
          <a:prstGeom prst="ellipse">
            <a:avLst/>
          </a:prstGeom>
          <a:gradFill rotWithShape="0">
            <a:gsLst>
              <a:gs pos="0">
                <a:srgbClr val="ffb76f"/>
              </a:gs>
              <a:gs pos="100000">
                <a:srgbClr val="ff9200"/>
              </a:gs>
            </a:gsLst>
            <a:lin ang="5400000"/>
          </a:gradFill>
          <a:ln w="9360">
            <a:solidFill>
              <a:srgbClr val="f78d18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NCU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1" name="Oval 13"/>
          <p:cNvSpPr/>
          <p:nvPr/>
        </p:nvSpPr>
        <p:spPr>
          <a:xfrm>
            <a:off x="2811600" y="5105520"/>
            <a:ext cx="1066680" cy="914400"/>
          </a:xfrm>
          <a:prstGeom prst="ellipse">
            <a:avLst/>
          </a:prstGeom>
          <a:gradFill rotWithShape="0">
            <a:gsLst>
              <a:gs pos="0">
                <a:srgbClr val="ffb76f"/>
              </a:gs>
              <a:gs pos="100000">
                <a:srgbClr val="ff9200"/>
              </a:gs>
            </a:gsLst>
            <a:lin ang="5400000"/>
          </a:gradFill>
          <a:ln w="9360">
            <a:solidFill>
              <a:srgbClr val="f78d18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NPO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2" name="Oval 17"/>
          <p:cNvSpPr/>
          <p:nvPr/>
        </p:nvSpPr>
        <p:spPr>
          <a:xfrm>
            <a:off x="1376280" y="2819520"/>
            <a:ext cx="1050840" cy="914400"/>
          </a:xfrm>
          <a:prstGeom prst="ellipse">
            <a:avLst/>
          </a:prstGeom>
          <a:solidFill>
            <a:srgbClr val="b8dbed"/>
          </a:solidFill>
          <a:ln w="9360">
            <a:solidFill>
              <a:srgbClr val="f78d18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NTA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3" name="Oval 18"/>
          <p:cNvSpPr/>
          <p:nvPr/>
        </p:nvSpPr>
        <p:spPr>
          <a:xfrm>
            <a:off x="6019920" y="5118120"/>
            <a:ext cx="914400" cy="914400"/>
          </a:xfrm>
          <a:prstGeom prst="ellipse">
            <a:avLst/>
          </a:prstGeom>
          <a:gradFill rotWithShape="0">
            <a:gsLst>
              <a:gs pos="0">
                <a:srgbClr val="ffb76f"/>
              </a:gs>
              <a:gs pos="100000">
                <a:srgbClr val="ff9200"/>
              </a:gs>
            </a:gsLst>
            <a:lin ang="5400000"/>
          </a:gradFill>
          <a:ln w="9360">
            <a:solidFill>
              <a:srgbClr val="f78d18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ISPC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2676600" y="2057400"/>
            <a:ext cx="616248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pic>
        <p:nvPicPr>
          <p:cNvPr id="1135" name="Picture 2" descr="pdp-diagram-v2b[1].jpg"/>
          <p:cNvPicPr/>
          <p:nvPr/>
        </p:nvPicPr>
        <p:blipFill>
          <a:blip r:embed="rId1"/>
          <a:stretch/>
        </p:blipFill>
        <p:spPr>
          <a:xfrm>
            <a:off x="0" y="685800"/>
            <a:ext cx="9144000" cy="5465880"/>
          </a:xfrm>
          <a:prstGeom prst="rect">
            <a:avLst/>
          </a:prstGeom>
          <a:ln w="0">
            <a:noFill/>
          </a:ln>
        </p:spPr>
      </p:pic>
      <p:sp>
        <p:nvSpPr>
          <p:cNvPr id="1136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AF3546-7A4A-4B1A-98CC-E68CB4DB5713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7" name="Title 1"/>
          <p:cNvSpPr/>
          <p:nvPr/>
        </p:nvSpPr>
        <p:spPr>
          <a:xfrm>
            <a:off x="457200" y="1144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7f7f7f"/>
                </a:solidFill>
                <a:latin typeface="Calibri"/>
              </a:rPr>
              <a:t>GNSO Policy Development Proces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7f7f7f"/>
                </a:solidFill>
                <a:latin typeface="Calibri"/>
                <a:ea typeface="Trebuchet MS"/>
              </a:rPr>
              <a:t>Concept of </a:t>
            </a:r>
            <a:r>
              <a:rPr b="0" i="1" lang="en-US" sz="3600" spc="-1" strike="noStrike">
                <a:solidFill>
                  <a:srgbClr val="7f7f7f"/>
                </a:solidFill>
                <a:latin typeface="Calibri"/>
                <a:ea typeface="Trebuchet MS"/>
              </a:rPr>
              <a:t>“Consensus Policies”</a:t>
            </a:r>
            <a:endParaRPr b="0" lang="en-US" sz="36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rebuchet MS"/>
              </a:rPr>
              <a:t>ICANN Agreements (Registry and Registrar) require compliance with “Consensus Policies”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68400" indent="-457200">
              <a:lnSpc>
                <a:spcPct val="100000"/>
              </a:lnSpc>
              <a:spcBef>
                <a:spcPts val="499"/>
              </a:spcBef>
              <a:buClr>
                <a:srgbClr val="7f7f7f"/>
              </a:buClr>
              <a:buFont typeface="Courier New"/>
              <a:buChar char="o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  <a:ea typeface="Trebuchet MS"/>
              </a:rPr>
              <a:t>Follow a specific policy development process (PDP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rebuchet MS"/>
              </a:rPr>
              <a:t>Limited to specific topics (“Picket Fence”), such 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68400" indent="-457200">
              <a:lnSpc>
                <a:spcPct val="100000"/>
              </a:lnSpc>
              <a:buClr>
                <a:srgbClr val="7f7f7f"/>
              </a:buClr>
              <a:buFont typeface="Courier New"/>
              <a:buChar char="o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  <a:ea typeface="Trebuchet MS"/>
              </a:rPr>
              <a:t>Technical specific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68400" indent="-457200">
              <a:lnSpc>
                <a:spcPct val="100000"/>
              </a:lnSpc>
              <a:buClr>
                <a:srgbClr val="7f7f7f"/>
              </a:buClr>
              <a:buFont typeface="Courier New"/>
              <a:buChar char="o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  <a:ea typeface="Trebuchet MS"/>
              </a:rPr>
              <a:t>Security &amp; Stability of Interne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68400" indent="-457200">
              <a:lnSpc>
                <a:spcPct val="100000"/>
              </a:lnSpc>
              <a:buClr>
                <a:srgbClr val="7f7f7f"/>
              </a:buClr>
              <a:buFont typeface="Courier New"/>
              <a:buChar char="o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  <a:ea typeface="Trebuchet MS"/>
              </a:rPr>
              <a:t>Domain Contact Data (WHOI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rebuchet MS"/>
              </a:rPr>
              <a:t>Examples of consensus policies include: Inter-Registrar Transfer Policy; Uniform Dispute Resolution Policy; Whois Data Reminder Polic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828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0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721D19-8042-453A-B123-F3C58541854B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1" name="Picture Placeholder 10" descr=""/>
          <p:cNvPicPr/>
          <p:nvPr/>
        </p:nvPicPr>
        <p:blipFill>
          <a:blip r:embed="rId1"/>
          <a:stretch/>
        </p:blipFill>
        <p:spPr>
          <a:xfrm>
            <a:off x="304920" y="1600200"/>
            <a:ext cx="1949400" cy="41353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7f7f7f"/>
                </a:solidFill>
                <a:latin typeface="Calibri"/>
              </a:rPr>
              <a:t>How can I participate in GNSO?</a:t>
            </a:r>
            <a:endParaRPr b="0" lang="en-US" sz="36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43" name=""/>
          <p:cNvSpPr txBox="1"/>
          <p:nvPr/>
        </p:nvSpPr>
        <p:spPr>
          <a:xfrm>
            <a:off x="990720" y="1574640"/>
            <a:ext cx="7526160" cy="412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ke a Public Com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llow Mailing lis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Join a Stakeholder Group or Constituenc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olunteer to Join a Working Gro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isten to/attend GNSO Council Meeting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7f7f7f"/>
                </a:solidFill>
                <a:latin typeface="Calibri"/>
              </a:rPr>
              <a:t>Some of the topics currently under discussion</a:t>
            </a:r>
            <a:endParaRPr b="0" lang="en-US" sz="36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45" name=""/>
          <p:cNvSpPr txBox="1"/>
          <p:nvPr/>
        </p:nvSpPr>
        <p:spPr>
          <a:xfrm>
            <a:off x="990360" y="1574640"/>
            <a:ext cx="7848360" cy="412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ter-Registrar Transfer Polic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Locking of a domain name subject to UDRP Proceeding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‘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ick’ Whoi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rotection of IOC, Red Cross and IGO names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etrics and Reportin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hois Studi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ranslation and transliteration of Internationalized Registration Dat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7f7f7f"/>
                </a:solidFill>
                <a:latin typeface="Trebuchet MS"/>
                <a:ea typeface="Trebuchet MS"/>
              </a:rPr>
              <a:t>For further information</a:t>
            </a:r>
            <a:endParaRPr b="0" lang="en-US" sz="36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47" name="PlaceHolder 2"/>
          <p:cNvSpPr>
            <a:spLocks noGrp="1"/>
          </p:cNvSpPr>
          <p:nvPr>
            <p:ph/>
          </p:nvPr>
        </p:nvSpPr>
        <p:spPr>
          <a:xfrm>
            <a:off x="761760" y="160020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http://gnso.icann.or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NSO PDP - </a:t>
            </a: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http://gnso.icann.org/en/basics/pdp-process.htm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bscribe to the Policy Update - http://www.icann.org/en/resources/policy/updat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8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02C12B-A558-4E2A-9E1C-5CE90B4AA311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7-08T09:22:11Z</dcterms:created>
  <dc:creator>Marika Konings</dc:creator>
  <dc:description/>
  <dc:language>en-US</dc:language>
  <cp:lastModifiedBy>Julia Charvolen</cp:lastModifiedBy>
  <dcterms:modified xsi:type="dcterms:W3CDTF">2013-07-08T13:16:10Z</dcterms:modified>
  <cp:revision>1</cp:revision>
  <dc:subject/>
  <dc:title>PowerPoint Presentation</dc:title>
</cp:coreProperties>
</file>