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D5499-D350-49BF-A0EC-38902F63B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Quick over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EF3D2-D218-4B9F-A35E-4E448EA7977A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E50E-C02D-4405-BD68-28E61B374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61BB8-F782-47A5-8486-D3AC0D41492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A9F8E-32CE-4545-AF6F-04F4942CC42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15940-C46D-4484-B594-7EA08399C7D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E6ED8-023B-4FDB-A5C4-F4A9A28BD79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3E293-7692-4F4D-9871-38617E06D1C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C495A-549F-4992-BB16-295541DDED1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8E580-DD2B-4993-90B1-95BAD56CE40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6C936-9691-481D-9AFE-B50F2DEF8EE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AA537-7718-42C2-BD98-747A4D8E82E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2139C-3DCB-4819-9C3D-8A6D21A9030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7251CB-8054-4346-A4D7-9EFD58BEE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1653F-1754-4B88-9B64-1A4214D4552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94E332-31AF-4F50-94D9-57BAD229C40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C85FA7-CE12-4FEF-9955-E5A273899EF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98F22E-8B16-4253-9362-2447D7BA4AA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981D74-86AA-43DE-B773-B76498205E2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86184E-25D2-46F2-AAB6-B7EF9428FF3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C8A6DF-8140-4285-9CD5-E7A5E488928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AA3EFB-AB0F-4327-9D85-2EB14324288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63DCF2-059F-47C4-9B0B-71E3CE85241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4BCCAF-C62D-4A8D-A1B7-86579D3563F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257F72-B883-462E-BD41-7D380ACC4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2A80-9745-47B4-B702-6D94A8395AF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0DB3D6-8810-4192-9B2B-48768BF0BC2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548762-FAC2-476F-8B37-2E53B7EF355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429D94-8F38-48AA-B915-64B466AD40C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886749-E158-40E0-8E85-EC1633C0364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D18960-877C-42BC-BF34-D3A08A32A29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A85F7B-E560-4209-A2D2-BDCED6B6E8A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851AFB-6B7D-4CB1-8486-ACC8B49E031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269905-86FC-4F77-975F-1DB762DBFF1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0CC015-376B-4A56-A01F-397E2C89E88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20D224-82E4-49A8-94BA-4068BB5AA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09D7B-D250-423E-96C0-9006AE69A4B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5D915E-BCA9-4B3E-885D-F1863A11B3A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CC5002-C1E2-4C06-BE0F-EA216BB0D7F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939CC2-C81F-4146-BF92-02492161953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D6D6B-0C2B-4A7A-B7F0-C750929E72D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4668B-7A83-4A85-B92E-CEFC49B0195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A7E62-A6FC-43E1-B721-89455D533D6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2EF3E-568E-47BB-90C1-C83E5DB84DF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16CAA-2607-4CB8-94D9-CEBFFBE30A3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98A5A-4A73-4705-B5E6-05609321237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A88B5-2F5F-4757-BC7B-D49B3A6614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42B9D-C678-4BCA-BABF-6A4712F7842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136C7-6F6B-4970-99E5-5021D124773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469FD-EFF4-4F59-A328-D70658452CB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C64A4-33F3-4F9B-8508-4C6C31CFCB7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3EFD7-5BA1-44DA-8B31-34D95464E3D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2DDEB-1071-40C8-821A-1F96B8B983F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88DA0C-11C7-498B-89C5-EA9214CA416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32463D-4435-4969-BB10-11F45EAFF98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95EEB1-B565-4697-A46E-F07F219DD52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D52B88-2B6B-4D15-B0D4-115871F97E5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8872F3-5092-43D7-A52E-63CA4EB67F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9D81E-8833-41A7-B7C1-D1BD8425D96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B57D29-FBAD-4FB8-8BFF-DA7E5BB9F0A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914AAF-2792-4285-AD16-D2FBC27AB02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9AD275-D8CA-47ED-BEF7-C0940E86B43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A573DE-76B2-4651-963F-AA9F2053FEB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9B818A-50C0-40CE-BA24-EB601F8384C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CC9CE7-A20A-486D-9AFC-355BB736822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ED79FD-7BDE-4391-A38A-5AA6F2DDB24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55CB77-DB2F-48E6-9906-D3FE623309C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CFD084-AE7E-4659-897F-574047E38C1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EFFC7B-B201-457E-8B7C-80FB018A4A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99344-2103-4190-AD64-9907A6FFC0C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A8C727-C68F-4583-B78A-0F179B0FAB9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D79F48-4D05-405E-AA04-2B80BC218DB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852246-01D6-42FB-8C8E-95955EA4452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1D69CE-A175-42C4-8D83-4E051513779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47D109-3BB2-45B7-8482-C34D9EA8876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4D006A-0ED0-4A70-9B80-E82686E48FD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5097FF-1BEE-4ED5-9C71-4B3D6843B0B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8F52B7-6D06-4D54-846E-60FA02E5C33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B47D8D-5445-49F5-B9AF-FE7418C340F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72670-8F7D-439D-A82A-5D1B7E1532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2C0D5-AB72-47E4-89D4-9E074AEBFDD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054EA-1DAB-4EEE-964E-4BDDA740D74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96BEB-4948-41EC-9F94-88640578949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94F3D-B767-424D-86A2-7586F11A616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DE3FD-CE9E-4A13-B756-B953316828B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291AD-4955-45B3-A50D-F1CB21D566E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11A2F-0A4E-4973-8021-921F1475E96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8806B-F779-4854-9DA3-035EC08D3AC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711B4-C589-4924-B1BB-8AB5E67A481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7ABD5-5DD9-481A-B05C-760BCEF7E86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9995A-D6FD-4F39-AA5F-2E33C89FE3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29607-587E-47FD-9974-2E78681E869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B7852-86C5-4B69-88FB-5BB25ADABE3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1361B8-0D1A-484B-ACD4-4398A8939C7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16670F-9F33-49A0-A259-0C1A5EFD1A7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57F91C-4529-411A-A16F-B151F96E9EA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026C53-64E6-46F1-A076-A952DD501A7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32A120-9D8A-49C9-88D5-1C414434EEA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C37506-2B7C-421F-868E-434F4F38366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14E853-3FC0-40E5-8656-AE14536F027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F1A468-D588-4706-A2A0-B9C0A380F55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6CC4AD-2E54-49F7-B267-4FA6DA6186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9E959-5E97-4995-A12B-E90494F8DE6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DB4A6C-02F2-4478-BCDC-6AA9D032340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822608-07C8-497F-83F7-B8EEA757D93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9CBA4B-F84A-47BE-B4A3-8ADB714DD4E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FEC91E-CFB2-4E5A-A2B1-7F2FFAB0B32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78B8CA-9AC4-48FC-B196-ED2B0562C9C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62C4E3-E6EE-4DE2-AAF6-04C4EA9326F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B02EA9-F7AF-4C27-9343-D020C0D4A1E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BF59A9-1738-4E5C-BB2F-F57A867FAE6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342FD6-CB3C-47E0-A41D-A5DF07B6CA1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EE89E4-93FE-4DA8-820A-639B1C5917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756A6-3FA2-44CD-BC48-2F670C9E7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3B3F2-9EDE-401E-BB5B-9224FFEF832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FE1725-546E-47F7-992B-66AEA142124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40F213-F620-422C-AFE8-8AB303B46CC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1AD236-7122-4F1E-BA3D-6986A83328D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916C7E-27A6-42FF-8F8D-7769621CFAE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01E479-ABAF-44BF-8E91-E805370D0B3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BE663-EE1B-4438-BEFB-F0B8E807BA9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17E0F-2187-4E67-8535-D8E682B1644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3110D-6F37-4B44-BE3C-6013A9018A3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AF4DD-7851-4AB8-9D6E-E9AA42E9569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A9F0E-B73F-41CA-85C6-C56CDB3F0D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53199-92F4-4D9C-A23E-885D1632CAC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A0AA7-B145-4161-989C-8FC7062F790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A9845-A799-43EC-9BFF-0357531CA4F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F9A23-91EC-42BE-BE38-5FE8A296AB0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83B5E-CA81-460A-A93A-D2F6D8AB682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D61E9-73D6-45E6-BD8A-D6CC81B68C4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CF902-F74F-4F36-84FF-A463B2C53A8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1F4C5-7BE9-46DC-AC01-A25B8F3FA15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E88B5D-2F85-4FDD-A1D0-6E484542387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4B5198-1ED4-4260-8D54-972FCA46D75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DABF3A-005C-4A27-8FA1-2B300E43F5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B8933-A23D-407C-B620-C3E7D2DC190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44F4CE-F3D8-46D6-B67B-B76A9F5D5FA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B260E6-7231-4A5A-AEF2-5CB25C4932A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9B91F4-A844-41D1-AAE1-3C59E518822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254584-13C4-4CB6-B101-0029EDA5E89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B582BD-2A0A-4E1D-B491-11CFA9EE6CE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0E7FE3-E0F0-4A30-85F3-09BFED5D9D9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F886E6-72C9-4EB9-A8E9-071FAB33646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27DED9-AA83-49CB-A030-A9238D55980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951618-A347-42C5-8E22-846330C413C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55B73E-A3F7-48E3-8FC2-02D2C022EC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1851B-AE01-4AED-9101-5E0108FA244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EA4A15-3B22-40F8-A54B-5CDEB53941E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B39F92-78B0-4FFD-BFF6-69E9E70B08B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9EFA07-302D-47B3-BD1C-B5A9F4BDBF4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F9E1C1-8755-4C2D-B56A-BD5399FBD56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3F0AB4-73E4-4EBE-9AAA-150D86C8310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FB80A6-035B-4A73-8BDD-9771562DAD5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9EEE98-5CD5-4584-ABA5-D5007090CFC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05AD63-E0D2-43AD-9D74-5928C4BF12E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232935-AFE7-483F-B98C-3E04A8D085F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24638F-84D4-4721-8DE1-FD574AEB30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FB078-E1F0-4718-B43E-9479E364557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07FD0E-5816-4A7F-94A1-CE7612D0775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2DF17-40DB-4085-88D4-E0B12760593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F33FB-89CB-4388-A739-6416A91FDDF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219E3-6DE8-4753-8B3B-FAB104C6993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92067-9617-4682-858F-C5B386AD111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27FF9-DA41-4719-8346-4684867B7A3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04D7A-57BB-4585-80DB-5717E408AB5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7C90B-2F9B-490E-8305-25C1752A456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1C7B7-B975-42B3-B8A0-FBB5572F458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E3A41-19C6-445D-8C6E-D7A2223580D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38AA-A112-4D8A-BF70-3BC4216C14A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95A82-DEA3-4C96-9348-7E7F6EB745B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FC8C6-97D3-4568-BAC5-5E26E8F3CF9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33452-003E-494A-BD75-4CE06FE82E9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ECC011-E685-4AEB-B199-892934B9E56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5F3A49-E533-4065-BFCD-EB15816F064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EB38EC-3A71-4FB2-B0B5-17D2A8D1210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5A4E2F-9AEB-407F-B903-24BBE86F614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F4A56F-7D25-4A55-9F8D-E94C60FFD75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3C0648-795F-48E7-A863-F1CEF13D6C1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0AE97A-D721-49AD-AE50-E7C830D060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536-5268-4A81-B15B-AD3F922DB2E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37E04C-A086-47C1-8A90-E871CE125D4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236187-5D04-4A4D-926A-F7124FBB72B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6F0E6D-7D1F-4A5A-8391-DF3021B9A97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0CFF69-78EB-4A6C-8E74-914593213D1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82ED80-DF80-45BA-A891-B89768E3476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A97C33-F9D2-4C71-BC3A-707EFC663D5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A3D79E-9F9D-4D4A-807D-CBEB2FBBB9B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E62881-C38B-484A-8DF7-00CFF03FFBC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724FAE-9134-48E1-8B66-078843E846D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4DC96F-6954-4CF7-A365-111B9D2FF6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6922-D064-45E6-8C2C-75642A88E10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7A7365-C4ED-495E-A31B-F5D5D54784A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BD1727-A306-40EA-9859-18473877328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B492CA-990A-474B-B63D-A01ABB94D5D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C4C3C9-66E3-4A9B-B9BC-BF7104F9BC3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BEBD98-2795-4EFA-97AA-CB430FCFD77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830F26-2A88-4A05-9899-894F5E83F19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F00837-2860-4183-A7B5-DF03761FD94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14601-CE2E-4E14-9ACD-8DE0F507AD2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E01A8-50D5-40D7-BF98-4CD8538A71E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E0AE6-0AB3-4FC6-A0D4-4B5FFD9432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C29E-CCDD-45DC-844A-556E7DB7D6E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659B0-9481-4758-BD23-A96C0CE3A80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2B7B8-63E1-4526-993B-39D9E2D23CC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FB574-D381-4883-8AD4-589440EA03B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99098-8555-4E14-86A1-E198521C3ED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8D439-F4A3-41D9-9FFF-9C8631EC8F2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A20CC-EBF2-437B-85AC-A384D4BE254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AFA8A-1D6B-40D6-A26E-A858A7B283B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2C281-8ECA-4885-A4E3-B96BC26E48E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92C77-E538-498D-94B3-64D10EED409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72AC41-7D36-46F9-BA8C-4A10EECF07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CAA2-A26E-447D-A75B-BCD684EFD97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333888-33F9-4175-B11A-6012E35AB85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D3050B-BA7E-483F-9191-E086C967EAE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EFC1B8-B0FE-48A2-9EF5-0FD13058B6A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4CD21-6217-40E3-9342-343A3CF327F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D120D-C240-4568-87FA-CBB38E043DC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DE35B7-5C8F-4361-AC6C-B83C906AEB0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493C34-84DC-48B5-A13B-70A459A9FD0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B142A-CF35-466D-9C8F-64E7761FB25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4C6AB0-A44B-432C-A49F-3823D4E19AD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9ECF8A-2BB2-4F40-A37E-ED7F3E573F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ADA7-06F3-4F81-A1A5-6C0F219C06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3459-AC5F-4B07-AFE4-E9272689A97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E357F2-0BFF-4CE2-A009-46F255FEC4D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2FC064-072F-4746-815F-1BD99E6D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8837E1-A39D-4AEB-B1E8-2F50D793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EF74E-5EBE-4F70-8AE7-E8E71CE5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5FA220-CAA3-4C73-8F52-016AFD8A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B4490B-7040-480A-A22E-F8C12D8E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BAED90-C8CB-4FDE-B680-C88114E6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E66ECA-C4BB-4FA8-8A91-65683D90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800377-EA22-4AB2-9AF3-6F3F2CDB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78BF48-22D8-4E14-A101-463BC58C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ECE1-70C7-41D0-8090-9D8F33AD6A2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5F5C2E-0AAE-4F09-8542-AABA85C9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5B559C-0CBB-4C66-B0B8-D6AB377E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5C9D37-17E9-4D15-9863-D535C296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A847B7-7F29-498F-B3DA-A2A65379D4DE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C9BF33-4D66-4ABF-AEFC-8BE4DCC31E88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819A6B-781E-4610-9C61-C2DAC855BB1D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DDDE55-186B-448E-A1AB-62DD57520AEA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D6EEC5-7D80-4D25-B431-8C749DBE7600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769269-2A4E-4F4A-AA50-EC44C0074BBF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F869CA-72CB-44C4-B566-CE7DE92272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7FEC-BCA5-496A-8A3D-93D79AFABF5B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099C95-8028-43DC-BE61-BBD6E70139A9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F746DF-EA9D-4A8D-95DC-E7C064764B47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FFDCA5-1AD7-4653-8718-734C1AA01102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AD1748-E9E3-4556-B9A1-B10E12686D61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906513-CEF1-44BE-85FD-79F8F1CC370E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1E381-6FF6-4DED-B64E-FEE62A3C8D49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B2592-407B-4D7C-842C-463894B046C4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431D0-5FF7-45F3-B3EC-587666F13736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40BED-4481-4C24-BADE-31EA7AB056CD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D65DD-3A2E-4CC8-B0C6-5634339D16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5015-7109-486F-B23A-5037944FB497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352FA-0A0B-45F6-86BA-EEDA1DF367DF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369CF-9E9A-48D5-ADA7-C78C49C5EDD0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38FED-9D74-4C71-9C85-E51DF9E79BAC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0F35D-E7E3-4E32-8200-930C30248CDF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C8880-1CEF-4DF1-821B-56A1D4053308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25CA7-6E67-466B-AFA4-4226B99D06B8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25122-3476-48E8-AAA3-D711F37DE6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95F7-34DE-4308-B700-72508A8513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EEC6-1EC7-456E-BA92-B6864B025D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E960-027A-4E1C-B8E8-D58E05E0E2F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60E33-DAA1-4B1E-A234-B66F5C327AC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DFD28-3BD0-429A-BAF7-54FD04141CF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5FB2E-C3AA-4DC8-8D38-A2281E7EE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272B4-0A04-4834-9B3F-7EE669E0BF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83939-3D39-4642-9363-7FE7C46B487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1C6DA-045D-4D64-A824-ABD4CC5E21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C4CA0-A2CB-4A9C-A85C-D805992C634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68CE4-7C9B-42AF-BC52-083FA65BA3D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DF287-F098-4793-90B2-95FA8E9E0A5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9CFD9-4328-4B2C-A728-782DB379F1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0DD1B-ACD4-442B-80AA-D1373E7FC1E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7AA3C-E98B-4C8B-9B63-DAEC00674D7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7C2C8-001B-4B21-872F-963A005B306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0807A-B7A3-4E0E-AAF6-2452058F8A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ECB1-040F-40A9-AF4E-83336935559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34B97-5884-4FC6-B894-AF557CDA1D5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00147-57E5-4CC9-A650-9F4A285AAF5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21462-35FB-412F-B5E1-61FAF8C4188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D7353-E1D9-4C8D-816E-A64202F3A6D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FC70F-2449-47A7-9D5E-56A1DFB8D84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5D383-CCBC-47D0-8E95-CAE4F8CA86F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1A647-DE8E-4992-B97F-BC5FFEABC64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F6906-0635-4B0F-9FC1-A24CB14CD82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76648-85D9-48B7-AAD3-A3359C7B43C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94689-8B40-4DA7-ADC5-F12A06B0C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E237-1FE0-47EC-B77C-1FBDB2CC08D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80FFC-998E-45B8-B7B4-B473D379B98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18D2-00AC-4124-968B-E1CB3144CC4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AEC3-83FA-4C10-89F2-F593038B849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113E-8B0E-4DCB-AD1D-F699B54DC9E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EA72-5E6F-444E-8461-D468CFE23EA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101B-B44D-45BB-A34E-A708CB446AE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613F-4028-4E59-BC5F-FB5A4965108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4C61-06E4-4487-A928-9BA8EA216D1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E244-0EC2-4F16-B74B-5502DF542CE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848C-2CE3-4AD5-941D-F1F6979DA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2F692-31A6-430A-A112-261873E8F81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E868-123F-4038-B834-17EDA66F554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716D-9E6A-4A97-AB68-9A79818B3D9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256D-0E45-4E1A-BCDD-103DFD91D18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D61488-50E5-49DB-A9A0-FA93B4F2C83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B1AA0C-C799-43BE-8272-070DF173C9C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AA03DC-B916-4324-899E-14CEB12E3E9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2A4DCC-7CCA-4329-AB7C-F1277219435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DAC4A1-FD03-459B-802B-6F72A878D51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AB25B2-C564-4679-BD32-3D560F22E09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C8F69C-A326-4C8D-A153-2C0D0C8F6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DEB29-2AAC-4320-86C5-EE46DB5CC91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BCBFB7-0B5C-4D96-9A57-9D9E2DC7BE8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915104-BCA3-4262-8D61-F0217B42B97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3A194D-4DDD-46F2-9C2C-3E422187161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91DE22-0001-4684-9847-93242EA4FBA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FD77EF-E1E4-4D63-AD8D-9F26102D986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F4F16-89FB-4A87-BDED-0F56276158A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E0327C-7E68-4CC4-9F80-60F706B23CF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F985B-941B-43BF-A712-DEE7524F4BC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CFE148-1718-4684-80F5-23FE2B72478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F0465-CFD9-413A-993E-E10BACADCE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4A926-5E5F-49E6-B768-C3B074352D6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9F2363-E459-4177-9AB7-64B732DFB7A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E2F49-DD07-4DB4-B0AA-24412B1F5F0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ED0B00-5003-40B0-86D0-49C44DC69A1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07357-281A-40CB-8CB9-D9FD2B7B381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5904A-6FBA-4831-B5FE-91021C8A65E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8E048-0748-4664-BDB2-CBA949372ED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378834-AEE0-4027-BA29-048660B8026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DA7E4-E717-4FC5-A851-74B3065FB64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61FB5-FC58-4554-80CD-4AA776A1EC4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02345-F3AF-4FD6-9942-C6D3D03E3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004B8-25AF-4519-B0D5-7D62B4F43CB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10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B1557-D15E-4D7F-BE2D-55CCFE203FB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930AB-757F-416A-A720-F39A84A1ED8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B2474-7155-4E74-B862-CA31D090CB3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CDA9F-9C81-4461-8B7B-730C83404A8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7FFBF-6A77-40E1-9B6F-D9A3418CF6E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4D99E-75EE-4975-8B17-E1B85CD7E77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89D5F3-1CB8-49A6-A083-A09F25E1F94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75B3D-430B-42CF-9B90-F38D8443DE2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1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2F3A23-A931-4469-8858-3BEA2D831F8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sldNum" idx="1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3A21E-AE22-4FFD-9473-EBADDBA1E3B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1F399-21AC-4BDE-B0A2-E2CF66CF7F3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sldNum" idx="2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B621A-FC43-4BDA-9B1D-250C466FB13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C03BA-D255-4B9B-A266-7ED9C752B59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D7B5A-2499-4A13-862D-5763A67C523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040E06-9AED-4701-A28E-95BF5C767A9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F9C4F-1FAE-45C2-AC7E-52AB89C49FD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sldNum" idx="2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28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7D870-2627-44C8-AD5F-277796307FF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sldNum" idx="2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 type="sldNum" idx="30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able 4" descr=""/>
          <p:cNvPicPr/>
          <p:nvPr/>
        </p:nvPicPr>
        <p:blipFill>
          <a:blip r:embed="rId2"/>
          <a:stretch/>
        </p:blipFill>
        <p:spPr>
          <a:xfrm>
            <a:off x="414360" y="1579680"/>
            <a:ext cx="8315280" cy="44305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5D903-94EE-48B3-9529-E502AB05DC1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sc12v5.jpg"/>
          <p:cNvPicPr/>
          <p:nvPr/>
        </p:nvPicPr>
        <p:blipFill>
          <a:blip r:embed="rId2"/>
          <a:stretch/>
        </p:blipFill>
        <p:spPr>
          <a:xfrm>
            <a:off x="457200" y="2117880"/>
            <a:ext cx="8229600" cy="26222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4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08987-820E-45CE-B8B8-E2B21D00C1A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sc13v5.jpg"/>
          <p:cNvPicPr/>
          <p:nvPr/>
        </p:nvPicPr>
        <p:blipFill>
          <a:blip r:embed="rId2"/>
          <a:stretch/>
        </p:blipFill>
        <p:spPr>
          <a:xfrm>
            <a:off x="457200" y="2111400"/>
            <a:ext cx="8229600" cy="26352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5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AD239-BE03-4D72-BD26-380C1F274C6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able 4" descr=""/>
          <p:cNvPicPr/>
          <p:nvPr/>
        </p:nvPicPr>
        <p:blipFill>
          <a:blip r:embed="rId2"/>
          <a:stretch/>
        </p:blipFill>
        <p:spPr>
          <a:xfrm>
            <a:off x="414360" y="1579680"/>
            <a:ext cx="8315280" cy="4351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verisign.png"/>
          <p:cNvPicPr/>
          <p:nvPr/>
        </p:nvPicPr>
        <p:blipFill>
          <a:blip r:embed="rId3"/>
          <a:stretch/>
        </p:blipFill>
        <p:spPr>
          <a:xfrm>
            <a:off x="3108240" y="5114880"/>
            <a:ext cx="1067040" cy="7682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6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8AA28-3AB1-4E79-A9C1-6260CE9CE12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7"/>
          </p:nvPr>
        </p:nvSpPr>
        <p:spPr>
          <a:xfrm>
            <a:off x="212760" y="635796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F9AC1E-C06A-4CBD-9B48-3EDC3914741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8"/>
          </p:nvPr>
        </p:nvSpPr>
        <p:spPr>
          <a:xfrm>
            <a:off x="212760" y="635796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36208-BDA6-49BE-A1F3-FF99F644BC8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9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C21A6-71F4-4FCD-801D-229CCAB9359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0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TextBox 45"/>
          <p:cNvSpPr/>
          <p:nvPr/>
        </p:nvSpPr>
        <p:spPr>
          <a:xfrm>
            <a:off x="8317080" y="6488280"/>
            <a:ext cx="685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68CCD-B7A9-4DE0-B6EF-13C3561A78A3}" type="slidenum">
              <a:rPr b="1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8" name="Rectangle 7" descr=""/>
          <p:cNvPicPr/>
          <p:nvPr/>
        </p:nvPicPr>
        <p:blipFill>
          <a:blip r:embed="rId1"/>
          <a:stretch/>
        </p:blipFill>
        <p:spPr>
          <a:xfrm>
            <a:off x="3809880" y="2590920"/>
            <a:ext cx="1762200" cy="84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the GNSO Counci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615960" y="322740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8680" indent="-3286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ic Names Supporting Organiz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8680" indent="-3286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ible for policy development related to generic Top Level Domain (e.g. .com, .net, .info, .museum, .pro,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8680" indent="-3286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1 Councilors from 6 different constituencies / Stakeholder Groups &amp; Nom Com appoint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8680" indent="-3286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1" name="GNSOcouncilCairo.jpg" descr="/Users/scott/Pictures/iPhoto Library/Modified/2010/Feb 17, 2010/GNSOcouncilCairo.jpg"/>
          <p:cNvPicPr/>
          <p:nvPr/>
        </p:nvPicPr>
        <p:blipFill>
          <a:blip r:embed="rId1"/>
          <a:stretch/>
        </p:blipFill>
        <p:spPr>
          <a:xfrm>
            <a:off x="0" y="1133640"/>
            <a:ext cx="9144000" cy="1761840"/>
          </a:xfrm>
          <a:prstGeom prst="rect">
            <a:avLst/>
          </a:prstGeom>
          <a:ln w="0">
            <a:noFill/>
          </a:ln>
        </p:spPr>
      </p:pic>
      <p:sp>
        <p:nvSpPr>
          <p:cNvPr id="111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1321EA-0E0B-44D4-8E7C-A5F952B8A2B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Title 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 GNSO Council Stru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TextBox 45"/>
          <p:cNvSpPr/>
          <p:nvPr/>
        </p:nvSpPr>
        <p:spPr>
          <a:xfrm>
            <a:off x="8317080" y="648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F1B17-479B-4470-9C47-B9D7BF33B902}" type="slidenum">
              <a:rPr b="1" lang="en-US" sz="2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Box 5"/>
          <p:cNvSpPr/>
          <p:nvPr/>
        </p:nvSpPr>
        <p:spPr>
          <a:xfrm>
            <a:off x="9455040" y="6858000"/>
            <a:ext cx="1461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Box 7"/>
          <p:cNvSpPr/>
          <p:nvPr/>
        </p:nvSpPr>
        <p:spPr>
          <a:xfrm>
            <a:off x="6297480" y="4516560"/>
            <a:ext cx="11462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Box 2"/>
          <p:cNvSpPr/>
          <p:nvPr/>
        </p:nvSpPr>
        <p:spPr>
          <a:xfrm>
            <a:off x="0" y="6130800"/>
            <a:ext cx="9601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Box 3"/>
          <p:cNvSpPr/>
          <p:nvPr/>
        </p:nvSpPr>
        <p:spPr>
          <a:xfrm>
            <a:off x="8211960" y="6488280"/>
            <a:ext cx="138924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TextBox 4"/>
          <p:cNvSpPr/>
          <p:nvPr/>
        </p:nvSpPr>
        <p:spPr>
          <a:xfrm>
            <a:off x="0" y="6488280"/>
            <a:ext cx="821196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TextBox 5"/>
          <p:cNvSpPr/>
          <p:nvPr/>
        </p:nvSpPr>
        <p:spPr>
          <a:xfrm>
            <a:off x="0" y="6324480"/>
            <a:ext cx="9601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1" name="Picture 3" descr="GNSO-structure.pdf"/>
          <p:cNvPicPr/>
          <p:nvPr/>
        </p:nvPicPr>
        <p:blipFill>
          <a:blip r:embed="rId1"/>
          <a:stretch/>
        </p:blipFill>
        <p:spPr>
          <a:xfrm rot="5400000">
            <a:off x="1422000" y="-576000"/>
            <a:ext cx="6148440" cy="870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GNSO Community Structure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123" name="Picture Placeholder 4" descr=""/>
          <p:cNvPicPr/>
          <p:nvPr/>
        </p:nvPicPr>
        <p:blipFill>
          <a:blip r:embed="rId1"/>
          <a:stretch/>
        </p:blipFill>
        <p:spPr>
          <a:xfrm>
            <a:off x="792000" y="1579680"/>
            <a:ext cx="7693200" cy="4589280"/>
          </a:xfrm>
          <a:prstGeom prst="rect">
            <a:avLst/>
          </a:prstGeom>
          <a:ln w="0">
            <a:noFill/>
          </a:ln>
        </p:spPr>
      </p:pic>
      <p:sp>
        <p:nvSpPr>
          <p:cNvPr id="1124" name="TextBox 5"/>
          <p:cNvSpPr/>
          <p:nvPr/>
        </p:nvSpPr>
        <p:spPr>
          <a:xfrm>
            <a:off x="1300320" y="1981080"/>
            <a:ext cx="275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gistry Stakeholde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6"/>
          <p:cNvSpPr/>
          <p:nvPr/>
        </p:nvSpPr>
        <p:spPr>
          <a:xfrm>
            <a:off x="4869000" y="1981080"/>
            <a:ext cx="282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gistrar Stakeholde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7"/>
          <p:cNvSpPr/>
          <p:nvPr/>
        </p:nvSpPr>
        <p:spPr>
          <a:xfrm>
            <a:off x="1300320" y="4255920"/>
            <a:ext cx="275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Non Commercial Stakeholde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8"/>
          <p:cNvSpPr/>
          <p:nvPr/>
        </p:nvSpPr>
        <p:spPr>
          <a:xfrm>
            <a:off x="4869000" y="4286160"/>
            <a:ext cx="282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mercial Stakeholde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Oval 9"/>
          <p:cNvSpPr/>
          <p:nvPr/>
        </p:nvSpPr>
        <p:spPr>
          <a:xfrm>
            <a:off x="4869000" y="5105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Oval 11"/>
          <p:cNvSpPr/>
          <p:nvPr/>
        </p:nvSpPr>
        <p:spPr>
          <a:xfrm>
            <a:off x="7234200" y="5105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Oval 12"/>
          <p:cNvSpPr/>
          <p:nvPr/>
        </p:nvSpPr>
        <p:spPr>
          <a:xfrm>
            <a:off x="1455840" y="5105520"/>
            <a:ext cx="105084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CU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Oval 13"/>
          <p:cNvSpPr/>
          <p:nvPr/>
        </p:nvSpPr>
        <p:spPr>
          <a:xfrm>
            <a:off x="2811600" y="510552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PO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Oval 17"/>
          <p:cNvSpPr/>
          <p:nvPr/>
        </p:nvSpPr>
        <p:spPr>
          <a:xfrm>
            <a:off x="1376280" y="2819520"/>
            <a:ext cx="1050840" cy="914400"/>
          </a:xfrm>
          <a:prstGeom prst="ellipse">
            <a:avLst/>
          </a:prstGeom>
          <a:solidFill>
            <a:srgbClr val="b8dbed"/>
          </a:soli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T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Oval 18"/>
          <p:cNvSpPr/>
          <p:nvPr/>
        </p:nvSpPr>
        <p:spPr>
          <a:xfrm>
            <a:off x="6019920" y="51181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SPC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135" name="Picture 2" descr="pdp-diagram-v2b[1]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65880"/>
          </a:xfrm>
          <a:prstGeom prst="rect">
            <a:avLst/>
          </a:prstGeom>
          <a:ln w="0">
            <a:noFill/>
          </a:ln>
        </p:spPr>
      </p:pic>
      <p:sp>
        <p:nvSpPr>
          <p:cNvPr id="113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364EF-F4D2-4B08-A353-FF2A631A5BB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itle 1"/>
          <p:cNvSpPr/>
          <p:nvPr/>
        </p:nvSpPr>
        <p:spPr>
          <a:xfrm>
            <a:off x="457200" y="114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GNSO Policy Development Proc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  <a:ea typeface="Trebuchet MS"/>
              </a:rPr>
              <a:t>Concept of </a:t>
            </a:r>
            <a:r>
              <a:rPr b="0" i="1" lang="en-US" sz="3600" spc="-1" strike="noStrike">
                <a:solidFill>
                  <a:srgbClr val="7f7f7f"/>
                </a:solidFill>
                <a:latin typeface="Calibri"/>
                <a:ea typeface="Trebuchet MS"/>
              </a:rPr>
              <a:t>“Consensus Policies”</a:t>
            </a:r>
            <a:endParaRPr b="0" lang="en-US" sz="36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rebuchet MS"/>
              </a:rPr>
              <a:t>ICANN Agreements (Registry and Registrar) require compliance with “Consensus Policies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Follow a specific policy development process (PD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rebuchet MS"/>
              </a:rPr>
              <a:t>Limited to specific topics (“Picket Fence”), such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buClr>
                <a:srgbClr val="7f7f7f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Technical specif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buClr>
                <a:srgbClr val="7f7f7f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Security &amp; Stability of Inter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buClr>
                <a:srgbClr val="7f7f7f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Domain Contact Data (WHOI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rebuchet MS"/>
              </a:rPr>
              <a:t>Examples of consensus policies include: Inter-Registrar Transfer Policy; Uniform Dispute Resolution Policy; Whois Data Reminder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28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E9804-3C14-4955-A0D7-8CB4702CF17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1" name="Picture Placeholder 10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1949400" cy="4135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How can I participate in GNSO?</a:t>
            </a:r>
            <a:endParaRPr b="0" lang="en-US" sz="36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990720" y="1574640"/>
            <a:ext cx="75261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a Public Com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Mailing l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in a Stakeholder Group or Constitu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nteer to Join a Working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 to/attend GNSO Council Mee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Some of the topics currently under discussion</a:t>
            </a:r>
            <a:endParaRPr b="0" lang="en-US" sz="36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990360" y="1574640"/>
            <a:ext cx="78483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r-Registrar Transfer Poli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cking of a domain name subject to UDRP Proceedin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ck’ Who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tection of IOC, Red Cross and IGO nam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trics and Repor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is Stud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nslation and transliteration of Internationalized Registration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For further information</a:t>
            </a:r>
            <a:endParaRPr b="0" lang="en-US" sz="36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http://gnso.icann.or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NSO PDP -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http://gnso.icann.org/en/basics/pdp-process.ht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cribe to the Policy Update - http://www.icann.org/en/resources/policy/upd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5AD76-815C-404C-A7A4-DA8D184BDF4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8T09:22:11Z</dcterms:created>
  <dc:creator>Marika Konings</dc:creator>
  <dc:description/>
  <dc:language>en-US</dc:language>
  <cp:lastModifiedBy>Julia Charvolen</cp:lastModifiedBy>
  <dcterms:modified xsi:type="dcterms:W3CDTF">2013-07-08T13:16:10Z</dcterms:modified>
  <cp:revision>1</cp:revision>
  <dc:subject/>
  <dc:title>PowerPoint Presentation</dc:title>
</cp:coreProperties>
</file>