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4855E-E169-4D5A-97C5-570F1EC09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Quick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39CBB-27A4-4869-A80B-17004C44639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A550-B695-4284-ABA0-8174A9F8F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E6C5-4C01-445A-B404-8B8C6CD36F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DF98-8ABC-4810-8E44-1585E728AB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9C3C-59E9-4D77-B147-B36A0006F0F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880E-4424-4505-BD06-92745D6211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0A108-BC8B-430A-8A29-65B3C3034D8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C848-0175-42E8-9ED4-14413CCB8D5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031E0-5246-4BEF-87E7-703D692B85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7257B-91F6-442C-BB1D-50894AD905E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FD64-B8DC-4A05-AF3A-525760E037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345C-BD71-4E7C-8996-CCF0E8DA022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9FF1D-53FB-4EB9-A736-A622D4A91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978B-F1C6-4161-B73B-141AE630AE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C974E-2153-4C51-B5BA-444A13257C2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36704-9CFC-401C-B45C-86C7228B4DB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6139D3-B415-4872-9E19-C7DCBAEBB20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9D151-1C65-4AB3-A493-1D70406C8F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707F2B-93D0-4E50-A8E1-7A11D7F90C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19045-DE10-43FC-BA84-D0AA5C03B63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C692B-C74F-497C-B708-970993ED33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11E02-7C23-407F-AF5D-BEE70BF4D3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7631F-224F-4F51-A4AB-542A52FAC2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FF0C4-F22C-430D-8077-A97ADD90B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310B-F2A9-4682-A702-376A00CED0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3B4EC-5DDE-40DD-83FE-AB71664EF4C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19095-83D1-4054-8245-6350E9F8D2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075E0B-E221-478F-8348-F5EAAA6F7B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7825B-F8AD-499D-88B6-01C55287558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B67B9-752B-43B7-9480-EBEC07A73A2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0307B-6CFB-4BCD-8951-A6C03E2A476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D8AAE-4148-41FB-84A4-97EFE3A69E2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86802-51C0-4B43-B1C3-2D06D1EBF21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B3509-46A8-4320-A695-8902A657BF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1E0E7-83EE-4CF3-8BED-70F0FF1D0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DBA9-3DEA-4764-A99C-4FD092F11B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2DC73-DE87-496B-8519-E25B09F91E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4C771-7DA6-4B66-8703-4CD211B95A5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2FC979-0901-489E-9E22-6E4EC9AE113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E9D03-6D70-40A9-8320-F37E4E76DF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AA3C-C022-46AE-9DAD-690D44B8FA4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B68D-7D71-4CF2-9733-1051D4ACD09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20395-AAA1-4387-BA2C-69CB4B0462D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C013A-57A0-4979-8C46-C0D2A6B9884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82DF7-E7B9-47DF-8F76-4688761A73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3DBE-5F0E-4EF5-A323-0C76E0F9EB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CE2D-3476-4132-A92C-345A0C29124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DB414-3FA3-4F72-A330-6165F1FFAD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04F0E-FECD-4022-A8FB-604D5FA714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4D52-A66A-4ADB-907F-A0B2EFA2FF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26A6-8F02-4099-8783-2C89131EE0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2F57-E162-4F2D-BF5C-3C1ECB0C70A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30F25-C818-4D19-9F06-B06343E852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4858E-4301-45FA-B443-87B2ECEA1C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CF7ACA-8583-4887-91C2-7E49727219E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19BEA-6DBD-4625-8BAA-48C7D0A4A39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F457ED-8E37-412D-9DD0-21784D5C7C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9971-1DFE-4D24-A391-3DB7883D807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FA6829-EA90-4C1F-8F6E-46BC9D3F3C1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952AFC-E4CE-4070-888D-6FA6021D404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98FD90-F6D7-4DA4-BB8B-B2B6E148D3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28B93-4AE6-4195-979D-27DD22424BB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BA72F5-1519-470A-A0FB-8C3517FA564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D3F5A-1846-46FF-9FD6-DB317E68677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26F47-811E-4B23-9BFE-5906A09636E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3AAF8-0A01-4948-BBCC-113F69B42E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43C0D-BC86-4BE2-8D84-7B35942C372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60913-AF65-4F5A-97E9-F3199BB6C4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DD6D-81E6-4113-82C2-9B0684EB952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67A41-2D61-49A8-8885-3806E8EB684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23B19-E231-4CEB-A0B0-7D26875F95E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C7EDC-0628-4108-86A1-F844D1052A4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AE69C0-D168-4A9B-9E59-14F326E8CD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88E5C-E871-4266-9A86-4D0C70E74AB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B93B4-E402-42BF-BB18-3128999D3B2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F438F-8CDA-4100-B775-44DB5984438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8B1F03-29D3-4760-B782-C62D78CEF22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F3768-8C0D-4D4A-B678-DED0229D4E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D05A4-DED9-4EEF-9CC4-5231726A40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2F7D-A8DB-4871-9E4B-EC3E62EFF34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096F-F96B-4959-AA25-302374783BB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7F60C-6A98-4A6C-9BE2-691047F624F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5877-B483-4BA4-B2F3-AD78C32009F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D277-0403-4C5C-9257-FC5A5A62F6C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E30C6-15E7-4917-A114-ED5E234256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45DAA-7762-4C2B-BA44-46F3640ED14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921E-1606-4033-A418-B6695CE9E29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82A3-BED9-4A6D-9E32-9E115A22D36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BF850-C9F9-4BF8-A41D-ED9D64A5AAB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BAA9-957A-4225-89CF-4EAC5168A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75A9-E3AB-4A24-9F20-2F84992FF75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B6694-CC64-4976-97D0-6C91E00CC69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5E1F3-E5E7-41D8-ADB3-FC9B9C8C74B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8A6D1-97D9-4309-88DF-9E906470E9A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29CB2-4B4C-4E66-8D14-6CD3E22CEDF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6FB5EA-2D63-46B3-B190-22CA2BAA5D2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4A0831-0F6F-4971-8D4E-A5E0C146784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05D80-38A3-44F5-8B8A-965EE4B550C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3A49D3-05D3-4C8D-BEB3-20824E4E59F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6B9577-6E15-4EC1-8E85-60E3687EFE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D1D154-0A25-4229-AAA2-2BC6F477FB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6F4E-CA3C-4C35-93E7-5E947AD302A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AB9A48-D439-480E-B6DC-4E7AF29AE8D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ED3702-7B79-4328-B0C2-50CA4335C93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7F7FE3-56EE-46F4-A941-B32F53BEDAA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9CF4E-97BF-491D-ADB1-BBCD5642536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39814-12D5-4625-B399-D4B06B179E7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33906F-FCAA-4E80-A686-5C541280CB5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CC07D-FFC9-4601-8DF7-EF3B9914A65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8954B8-BC86-46CF-ADF2-968B68691EE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6C2494-1639-4607-B137-95FA5EB9953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AFF97-6F73-4083-9388-5AEABC3227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6E01-87AC-4C56-9BFD-DDCB73021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4374-0A4B-43FF-80C6-91EB357AFD5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D80410-1A74-4F4E-9EA6-1B049261752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4B41F-6077-47E6-A25B-62DD1224FBB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AE411-2D75-4CAC-9E8B-72F1C39918F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B029A6-B08C-4B2C-8A92-ED4F6DF6DE2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8D6756-4080-4307-8A2F-B6A03160CCC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2915-4A55-4322-B1D7-076A8F9BD53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63B1-BF92-407C-8FDF-862A15A9912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74F1-CF06-4D98-AAF2-4888DB51C24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AE88-5C2F-4CB0-A5F3-668CD7D76D6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3095-E454-4785-9122-F689DC05D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775A-4495-4524-A08C-6DE8BBF5113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F068E-4E47-4246-AA34-706B8143E09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0666-E776-45B4-99B6-C52B41D502C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FD92A-AE3E-4633-915B-D215869030E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64AB-A85F-4740-9AFC-AF430DF2040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980F3-5B41-4DF3-A7D2-9DE3949712A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3196-6DA6-41F7-9FB1-7A1BD16FD7A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E6AD-3A45-4EF7-9954-4ED2675E371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23CAC3-1108-46B4-A820-A6BB7B946C0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69B9E-FD53-4152-A674-09E96C84841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39576-D725-419D-8C2A-BC0BF2F5B9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3496-9812-444C-B355-FCC3FBDBF52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288AD-37D1-4FE2-8696-D908AD246BB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62418C-5AB0-4516-9705-29C3DE58C09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D8CD2-D876-4094-B024-834369B9E16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5CFB3C-EEEA-42F5-B1A4-03E7A0E5666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2FDE04-253B-402E-B3EF-25FC95FB63E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8576A5-D6A2-4E01-8AD5-9BA966EEBF1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FA2B37-F53C-4FAD-80B7-02805A956F6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76D354-F198-487B-9170-F3F90C73090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6687AD-C8F9-43B9-A55A-CD467A14D24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D6D6D-DE6B-48F2-91B0-18C7307097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968C-AD59-49E1-8158-8EA1A960093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CD75F-341B-4419-BC12-444A4AE5F59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C93E9-2DE6-497E-AA1F-20F07D8464D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9A844-5B52-4B14-9380-647768672B6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F8DDC-D2AB-47C8-BABB-B12EB35F416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418BE-E26A-498A-B7AC-ABBB8F49312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4ABC1-CE09-40D6-B7AA-2E6F68A0980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D1C52-63E7-4C67-A70B-99747CE76C1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7D3D8-7343-462E-8ABC-576E72B9870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B86FA-5B05-4A2B-9083-207397099A1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16C03-DC07-4D4E-97B8-BF6F05B787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18A-B331-422F-A3DA-9FD493DA0C3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E194F-C440-4FA5-BA18-8CF1414403A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E288C-9115-4511-B29C-276CFF721AA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CFDF3-647A-4FD2-A05B-9E41E00ED78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E44C9-BE1D-405E-869C-4DFAB6F1CC3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0BB03-E19D-4F1A-B6A1-554DDB311EE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07BF-1C02-428D-8140-7744F92A9EF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2B93A-19B9-4BF0-ADE7-90D582871DB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DB6A-F045-409B-8BDB-1E4856DBF31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E237-CF2C-4F32-81B7-ED46F1E3124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D0896-4306-48EB-8F0C-4B67C49730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807-17AF-43E3-8AEC-915D339DE1C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80BEE-9DB8-4681-A561-873C0AE4AD0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0AC6A-6BDB-4E43-BF4D-5D2F694F627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3C81-0303-466E-957C-1B8E54B86C9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BE3B8D-F0A0-4BEB-B20E-6AD2E7ED4D8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1E34FE-49FC-44BD-B666-F42D28B4330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F12B8-204F-4B1F-B6F6-4501CAADBD6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DD5513-DEE9-45C7-A4A7-BF26A122EA3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FA8B5-194D-46D7-A426-0A55849284C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2BD9E-DFE6-4F62-8AD0-413F5D97C4D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12B0C1-61EF-4AD6-9BCC-C81BF45BD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253-2B53-4736-B443-F08B2C2226D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A32D3-7498-4BE2-98E2-A61B5A36056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CE7899-AC5C-447F-929A-F1ADFD381C4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DE507-705C-4FCF-BA61-933937B7A67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F998A-68F4-40C8-A937-75EA26D69BB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35F80F-9465-4DF0-B5A6-FF821C4E6E5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4260F-2A47-4E1C-A934-179FF23A0AE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926E92-6487-475B-B97A-611E01E19A9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F8592F-4C29-4C3B-83AD-CD970A24D9E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7602AD-9169-4550-BD80-4718EEC195D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42500B-0EBF-491C-95CF-C5388CE65B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9D8-BEFF-4CBD-AF47-3A1E470BBEA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A6713C-041F-45B4-BADC-C95DBAE8487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29FE6-717B-4FF5-8843-DC2B31F4D22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75ADE-E5A1-4D17-9BC5-2709AF24E9A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018CE-955D-4245-8D7E-9EDC9E202DF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41161-83FE-4882-A803-EEF2F45818F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CA3DA-8C02-4C3F-96B3-A0751577272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A9971-1BD0-41A6-9A03-0F355E2A5F7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3BF75-EB64-4628-856A-2F8F20B4E52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07314-DAA7-469D-A419-14E123580F8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C900-EE5E-4A78-A1CF-C4B6D482B0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488-4B27-42E2-9CBC-5C851B23C88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0819-9AC3-4337-A69D-822CA817C01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EA964-B73B-4541-AD91-F8CE0D8FD0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EBA5A-E50D-44F5-8E14-082076DE09D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D692D-0F08-4539-8C2F-DC6A531F42D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87C10-8FB7-46D1-B07B-E26A2922AC6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17A0F-AC0B-4C7F-80EB-CBEC44F5223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9BA66-5DBA-4B17-A11E-DCE982C52D0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884D0-4CC5-43B2-A4CF-ACFA9AC2ECF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ED833-B0B7-4AC2-9FD7-56FEF5957DC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20557-363C-4975-91CD-C429F96F2D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6D1-69FA-49AD-95E0-E2BB477629D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88FAA-D340-442F-90EF-2F7AF0917D8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9A766-2503-4BEF-A8A4-B5311FCC58D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568A85-98D0-473A-A2DF-AC6675CA94F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E3F6C6-23B0-4533-A652-9A21E3CC05D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97FC6-F44A-40AA-A811-E9513D4329C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BBC7D-7893-4895-9ADC-645E725CBB2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622F5B-4709-4329-B80A-8EFDF520DB9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D1E89-AEC2-4D48-A9B5-E0AA22CD876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DF12C-A3DE-4A20-8DA3-710F08B23B0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141CE-06F4-403F-8EB3-10B6DEBF6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9E12-F59D-49F3-9450-7C6036672D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1BA-2864-4E2E-9657-E5011931F89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C2EC5-1DE8-48F4-8FAE-569EDF5FDF9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DE402-5F4C-49D4-ACC5-3109C92C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CC506-724A-4F90-AB6B-2A981513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A8A4A-23A4-4854-90FD-02CB7348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36CC2-E95A-4F80-8D1F-4CC4F556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BD1DA5-48F1-408A-A763-1DA0D5F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1A369-DCD0-49D8-8096-F8291259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F1F99-C058-4956-A085-CDB1D1F6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700C7-249D-4902-B443-3FD98306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399197-0F98-4D3B-B56B-09AEEF7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0A3-2B59-4566-AD3E-8897CE7E41A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BDD40-14A7-4674-90C4-73DDC084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A7A40-2E7B-4E1E-A3D2-569E4309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09E3A-7FD8-4AB7-90EC-48A54D17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6A2A0A-CF72-4E87-8FDB-DB9E93C118F8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B6D703-4330-46B2-86E7-DFDA878553BD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DB79B3-826E-44B6-8FE4-3865B563C57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6C37DE-38A5-4339-8FB4-DE8E865399F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59E51-E7A7-4C9A-8BA5-8357EFFFFA4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B9F0FB-9C04-43F3-AE0C-96F8E90460D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498A1F-45C9-4D86-8DC9-2BD4159CFA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5E9-7CBE-4E11-B114-129A9CE0814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2BB4B7-F600-4561-8019-4A817217886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934873-625D-44C2-8EFF-CA68961AE51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5F0F8D-1021-465C-B99F-DA21853E691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DE5F6A-50CC-4E11-8DE5-5D21173C2B64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F85202-BA64-450E-A047-053CF79A631E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44CA2-17A4-4B8A-A4F2-44ADC618DFC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93227-3505-46B9-B319-B85AF2502C9A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A14C0-6D99-43CC-8C77-8AC98D007F90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3F721-6DBE-4EB0-9421-477826DE6532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9E725-6449-4EB7-983C-3B09C6E685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AAB-1ABE-4E4B-BCFF-2157B425AA3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084B6-5389-46F4-90AD-FBE5FC11937F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96F8C-37FA-40B4-B387-F177666C5386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F3C7F-7537-4405-A11E-7DEC5CF9501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7AA7B-6D28-4E4F-86B6-F7ABB0AACC0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FE292-6721-4047-A628-A7E01123D92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CC3DC-485C-4C97-BAA4-5770A10815A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7932E-C8C0-4B2B-876D-710A4046E2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98C-3546-42E8-A848-CE1D3CA3A3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896-FDE6-4177-B804-69D31921BE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4E58-17C2-42D4-A628-E7B47628D4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7511A-E774-42DC-8654-3CE2D6072D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8C4BC-B883-4B19-BFD9-99ADF018D2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7A59E-2C72-4260-907B-EBD9C9C0B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1DE3-9DA4-49DE-A669-AAFE723629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522ED-E8FB-4283-96AF-D897FD08DB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177D0-096B-4FCD-9537-11C25AAA5F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A762F-6D2C-4570-983A-C0A59DC814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B9C9C-F06F-468E-82A7-6727798E5E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D89DE-5F6D-47A3-BC7C-2A14B49218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E5BE2-FBBE-49D9-84FB-1782DFF73F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0D0C-864B-4764-A83F-00130800B5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E611D-5F93-46C2-9A1E-7FDBEEA8790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2D88-6D08-4CE3-96BD-2E032C83FD5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2F33D-0495-45CF-867A-633EB6F05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0E25-FC33-4CAD-9434-9F5E31D4CB5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326D-6DF1-4C3A-A121-ABDF84AFB50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D9E1D-DD1F-45D5-82AA-0F0CC84C17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9EBBC-AB3C-462D-8790-8E5A2AF3EB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1B25A-02F4-4E9E-942B-AFF5B6D011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B9B63-87EE-4948-B380-109E7CEE8E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1B3AB-6E2D-44B6-859D-BAF0B28DAB3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3DED0-7F1A-4C33-9F3C-F5EF93AD5C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D0239-63FE-45A4-90C0-8E047A97144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C660-EF9B-4F20-AD3C-AD63103AE6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266E2-6B5A-4266-B931-01007332C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C479-5422-4699-9A32-9F76FFB5865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03A1B-8E68-4B68-88FE-F1663D834B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3DDF-FFF6-4705-9210-DE5F148CC2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37EE-0A5F-4044-AFD0-1FDA56966E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D3F9-A85D-48E8-8A04-97F6DE80D2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E4FC-F19E-447D-833A-23A7841AE4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03F4-EE23-4A34-9B7E-A715CB6798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4348-55CF-4252-9F6F-23B67060DA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9BD3-9778-42A5-BD8F-E5B95458E32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FA25-E39F-498E-9FB5-35BAE52E90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715-945D-4A95-AB2C-E846E273A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B706-D007-4130-8167-7FA9D6669C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F2AF-C17C-4F02-A9A0-DF393647D2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B6BB-203B-4FDF-9DA7-4B1199F884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4F9-95F1-4008-BD56-654B377A9D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C5DFA-9CFA-43F2-A0D8-790CEFA5AE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97EED-9CF5-480A-BC3E-BDC7DA298E3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0CCA2-3156-4F18-B77C-AE2C0EBEF3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D054A0-4090-417E-A86A-09233F4513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521B9-7D80-44E7-80BA-DC6D624F01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F3767A-8DAA-42AC-92F7-A72A5016BC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E625F-B484-44F1-B90A-43EC764A3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0D89-6666-44DD-8FCD-BB0DBDEC02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A8286-FC11-47E2-A009-2BDAEF3E5B7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0200D-E9A9-4BA8-B01C-43BF9795C3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85E5A-F70E-43E8-ACC2-9CBE6C0F74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371D6-7C36-49DA-AE66-9EDDD43965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A0F6D-84CD-41CF-B4C2-0B97C5E2A41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0CC25-2098-4E51-A18C-C796816EB5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F9551-5324-4769-9C1B-57663B4282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A42E5-30D5-4541-88E0-A9F7695DDE1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E71B9-AA14-4F82-8C9B-69DF6DAFA8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C58BA-74A9-49DD-8719-FE8B9CCDE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1300-9F96-4926-BC5F-A74F28E5E9F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D8BF0-999A-432B-84E7-A0E645F4A2D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375D0-AEA2-49BB-A4CF-A93886AD00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65977-66FE-4908-841C-B1B9576DCD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11563-8D95-4F11-8602-37F27F1547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11D4C-AA8A-4450-B06F-E623614157B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59731-F4E0-4A1C-AC98-958A0B6928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BA91A-BAA9-4835-99A8-01FFAA0621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990E-C11B-4AFD-8AC1-51F26A2DCA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E4AC3-4C12-480D-8DA5-93D33B3C18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E7EB-CB29-41A5-967E-F336C0EC6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4E3B8-C63D-40F3-AAF0-AF0B30DF4DC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A6AE9-F899-4EAB-ACBB-A0D35D3DD1D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FB47C-BF35-49E7-9BA9-F827ADE2F28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EE771-E608-41A8-AFEF-D31B9796186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73441-2EE9-49E0-97A9-53C0883857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C1C52-246B-46BE-82CB-A8956F7990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7C7A9-76C8-427B-8C08-BB03CED8A4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0BB82-AECA-47EA-98A8-C0B7BA63FC3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D67AD-6C61-41F8-BF48-4A502406AEB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24EB8-9377-41EB-A21E-C4C05BC6B9A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6FEE58-9EC0-4506-A60B-73BB38B102C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1147E-70D7-411A-8D38-B1417E0EBC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4111C-B361-42E1-AEF1-1EE20CFE8F6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036C4-8D7A-45F7-ABDA-4A1241C228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70ED3-8D7A-4402-8B9B-37CE5E20601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5344D-2905-4A45-B634-E975E91A9E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9ABE3-E74E-401C-B539-C36EB0E4116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28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E33C4-9A26-4D6A-BBF1-57C54648FAA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30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430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8931F-C81C-4CB6-A857-6EA2D49AF420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12v5.jpg"/>
          <p:cNvPicPr/>
          <p:nvPr/>
        </p:nvPicPr>
        <p:blipFill>
          <a:blip r:embed="rId2"/>
          <a:stretch/>
        </p:blipFill>
        <p:spPr>
          <a:xfrm>
            <a:off x="457200" y="2117880"/>
            <a:ext cx="8229600" cy="2622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73489-8B56-4AFD-9559-44314CEA3E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c13v5.jpg"/>
          <p:cNvPicPr/>
          <p:nvPr/>
        </p:nvPicPr>
        <p:blipFill>
          <a:blip r:embed="rId2"/>
          <a:stretch/>
        </p:blipFill>
        <p:spPr>
          <a:xfrm>
            <a:off x="457200" y="2111400"/>
            <a:ext cx="8229600" cy="263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477C4-3D18-46E3-BA02-B8427567B5A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35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verisign.png"/>
          <p:cNvPicPr/>
          <p:nvPr/>
        </p:nvPicPr>
        <p:blipFill>
          <a:blip r:embed="rId3"/>
          <a:stretch/>
        </p:blipFill>
        <p:spPr>
          <a:xfrm>
            <a:off x="3108240" y="5114880"/>
            <a:ext cx="106704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1E382-E24B-40EF-9C1E-36A5DA5DD87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4F65F-6F66-491D-BE48-5263CA186A6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2F32C-2183-4E17-B94C-E53A0452EB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52150-40F0-47F6-900D-C876FF21419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5"/>
          <p:cNvSpPr/>
          <p:nvPr/>
        </p:nvSpPr>
        <p:spPr>
          <a:xfrm>
            <a:off x="8317080" y="648828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BB031-CA15-43BC-8993-53E29091D306}" type="slidenum">
              <a:rPr b="1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Rectangle 7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GNSO Counci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15960" y="3227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Names Supporting Organ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policy development related to generic Top Level Domain (e.g. .com, .net, .info, .museum, .pro,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 Councilors from 6 different constituencies / Stakeholder Groups &amp; Nom Com appoi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NSOcouncilCairo.jpg" descr="/Users/scott/Pictures/iPhoto Library/Modified/2010/Feb 17, 2010/GNSOcouncilCairo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1761840"/>
          </a:xfrm>
          <a:prstGeom prst="rect">
            <a:avLst/>
          </a:prstGeom>
          <a:ln w="0">
            <a:noFill/>
          </a:ln>
        </p:spPr>
      </p:pic>
      <p:sp>
        <p:nvSpPr>
          <p:cNvPr id="111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56153-B434-44F4-BD59-FDC274C5C0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it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 Council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5"/>
          <p:cNvSpPr/>
          <p:nvPr/>
        </p:nvSpPr>
        <p:spPr>
          <a:xfrm>
            <a:off x="8317080" y="648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3A3E3-F28C-4A03-8352-C86825979F29}" type="slidenum">
              <a:rPr b="1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9455040" y="6858000"/>
            <a:ext cx="14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7"/>
          <p:cNvSpPr/>
          <p:nvPr/>
        </p:nvSpPr>
        <p:spPr>
          <a:xfrm>
            <a:off x="6297480" y="4516560"/>
            <a:ext cx="1146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2"/>
          <p:cNvSpPr/>
          <p:nvPr/>
        </p:nvSpPr>
        <p:spPr>
          <a:xfrm>
            <a:off x="0" y="6130800"/>
            <a:ext cx="960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8211960" y="6488280"/>
            <a:ext cx="13892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"/>
          <p:cNvSpPr/>
          <p:nvPr/>
        </p:nvSpPr>
        <p:spPr>
          <a:xfrm>
            <a:off x="0" y="6488280"/>
            <a:ext cx="8211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"/>
          <p:cNvSpPr/>
          <p:nvPr/>
        </p:nvSpPr>
        <p:spPr>
          <a:xfrm>
            <a:off x="0" y="6324480"/>
            <a:ext cx="9601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Picture 3" descr="GNSO-structure.pdf"/>
          <p:cNvPicPr/>
          <p:nvPr/>
        </p:nvPicPr>
        <p:blipFill>
          <a:blip r:embed="rId1"/>
          <a:stretch/>
        </p:blipFill>
        <p:spPr>
          <a:xfrm rot="5400000">
            <a:off x="1422000" y="-576000"/>
            <a:ext cx="6148440" cy="87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GNSO Community Structur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23" name="Picture Placeholder 4" descr=""/>
          <p:cNvPicPr/>
          <p:nvPr/>
        </p:nvPicPr>
        <p:blipFill>
          <a:blip r:embed="rId1"/>
          <a:stretch/>
        </p:blipFill>
        <p:spPr>
          <a:xfrm>
            <a:off x="792000" y="1579680"/>
            <a:ext cx="7693200" cy="45892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5"/>
          <p:cNvSpPr/>
          <p:nvPr/>
        </p:nvSpPr>
        <p:spPr>
          <a:xfrm>
            <a:off x="1300320" y="1981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y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6"/>
          <p:cNvSpPr/>
          <p:nvPr/>
        </p:nvSpPr>
        <p:spPr>
          <a:xfrm>
            <a:off x="4869000" y="198108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ar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7"/>
          <p:cNvSpPr/>
          <p:nvPr/>
        </p:nvSpPr>
        <p:spPr>
          <a:xfrm>
            <a:off x="1300320" y="42559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n 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8"/>
          <p:cNvSpPr/>
          <p:nvPr/>
        </p:nvSpPr>
        <p:spPr>
          <a:xfrm>
            <a:off x="4869000" y="428616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48690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72342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1455840" y="5105520"/>
            <a:ext cx="105084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3"/>
          <p:cNvSpPr/>
          <p:nvPr/>
        </p:nvSpPr>
        <p:spPr>
          <a:xfrm>
            <a:off x="2811600" y="510552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P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Oval 17"/>
          <p:cNvSpPr/>
          <p:nvPr/>
        </p:nvSpPr>
        <p:spPr>
          <a:xfrm>
            <a:off x="1376280" y="2819520"/>
            <a:ext cx="1050840" cy="914400"/>
          </a:xfrm>
          <a:prstGeom prst="ellipse">
            <a:avLst/>
          </a:prstGeom>
          <a:solidFill>
            <a:srgbClr val="b8dbed"/>
          </a:soli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8"/>
          <p:cNvSpPr/>
          <p:nvPr/>
        </p:nvSpPr>
        <p:spPr>
          <a:xfrm>
            <a:off x="6019920" y="5118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SP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35" name="Picture 2" descr="pdp-diagram-v2b[1]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113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3D17B-F425-4558-82DE-D7AC27B7391D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itle 1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GNSO Policy Develop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Concept of </a:t>
            </a:r>
            <a:r>
              <a:rPr b="0" i="1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“Consensus Policies”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ICANN Agreements (Registry and Registrar) require compliance with “Consensus Polic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a specific policy development process (P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Limited to specific topics (“Picket Fence”),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curity &amp; Stability of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Domain Contact Data (WHO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Examples of consensus policies include: Inter-Registrar Transfer Policy; Uniform Dispute Resolution Policy; Whois Data Reminder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D4537-8A19-4A25-9DDF-C1399924BCE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Picture Placeholder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94940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How can I participate in GNSO?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990720" y="1574640"/>
            <a:ext cx="7526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ublic Com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il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 a Stakeholder Group or Constit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 to Join a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/attend GNSO Counci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Some of the topics currently under discuss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990360" y="1574640"/>
            <a:ext cx="7848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king of a domain name subject to UDRP Proceed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ck’ Who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ion of IOC, Red Cross and IGO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ics and Repor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is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lation and transliteration of Internationalized Registratio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 further informat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PDP -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/en/basics/pdp-process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cribe to the Policy Update - http://www.icann.org/en/resources/policy/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57EEA-7FA8-4962-945D-F5A3F445A4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9:22:11Z</dcterms:created>
  <dc:creator>Marika Konings</dc:creator>
  <dc:description/>
  <dc:language>en-US</dc:language>
  <cp:lastModifiedBy>Julia Charvolen</cp:lastModifiedBy>
  <dcterms:modified xsi:type="dcterms:W3CDTF">2013-07-08T13:16:10Z</dcterms:modified>
  <cp:revision>1</cp:revision>
  <dc:subject/>
  <dc:title>PowerPoint Presentation</dc:title>
</cp:coreProperties>
</file>