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EDD6B-973C-4954-8177-2D5D85C8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Quick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7B14B-95DD-4B4A-A000-E207981DE9A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F280-7CF0-4C64-95CE-8B26C6A6F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F70D-5304-4794-8B50-CCBC440E8B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4F7E-F294-4373-AA82-24D272C3DB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E48D-2B90-4C9F-A6C5-BD99A2D43D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9DDD-C2C5-4ADC-B9E8-4E910528A7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56C4-CDDC-4FBF-893C-97DBB9828D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3761-D9DE-44EF-9128-79AF8303C6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CDC6-C9E1-4071-9BF2-0148D29553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A3B0-E012-4086-B869-CE70C88FF1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3F42-CC8F-4049-A10F-74D2CB9C11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C9CD-7EE9-4F2B-AFB8-2C08BF2F795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4DF01-3162-40D2-9427-8AE64553F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7C1C-84E0-40C5-BC56-8ADEA229D3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26411-BBC1-499E-9C1C-61CC202E63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A1D72C-9BBB-4A4D-BE8B-84511BD840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87E6D-0A16-4C21-913E-BC5C37052E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AE2C0-1C9B-43FF-83F0-55EFEE16CC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47C6E-EF3C-4DE4-8B46-864C62A96E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989F5-AD21-4AA4-BCCE-EF454CECF0A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72141-F8BC-46A0-9E18-BF5878F9D00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E27E4-2C64-48FD-B8BD-6893F089EA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F561E-01E1-40D7-B90F-4BEDBAAB83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3C45E-6B82-4A3F-B8C8-DE50A892B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1F7F-6389-484A-B908-E36F263FDA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BBC40-5810-4F71-9787-8A69B544F8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D1B08-4191-461A-A314-FE175775A9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80F1F-D0BE-4EE8-8931-E52E027E2B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65A81-B868-4E9E-9933-5606CD4F8A9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E05D9-AFAE-455A-BAD7-4CE2DC7EBF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30586-D576-41A2-B9D6-751433C764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A4173-7FDD-4181-A11C-1AECC8D1A1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607E5-10C4-4DBA-8EF6-F6793C35C4B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DC3A9-707B-4162-A073-894B272FE3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000AF-C9A4-4D73-8F9F-DD909821B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7620-22AF-409C-9424-A5F3040D4F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92514-98FC-4645-9EFF-99175FEC5D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FDDC7-017D-492D-9177-6D63F7582B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2720D-165F-41FA-B5B4-7D7B75D835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045A-F436-4075-8EF8-29644BBACD9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B2D3-1943-4E98-A438-C0DFBA087B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48DD-4BEE-4A97-9F45-4A2E11A8993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1DF3-88B2-48D2-B6B0-28A852A959E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25CF-99A3-41CE-9022-1612993BB3D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75D0-1E68-421E-96CA-7A436682E3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F6A0-18CB-44DE-A6E4-022FB060F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11C1-61DB-422F-9C40-122D03E7A7B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0C9B-AFC4-4C62-8C45-E782F70076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18B0-CF30-42FC-A6D2-B67D5E1E70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BA7E-7BCE-4028-B67F-3E2D3FCF083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4BCB-6F4A-487C-8BE2-C27474CAA6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6714-2527-411B-ADCC-2B3FCCBD95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2C522-7036-40D6-888A-424A7F112AF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4D0DC-47D9-4A87-9CC2-2E1C5BBC227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CC4DF-920D-4BCF-BA54-A30D95E151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76594-1D99-42B9-9098-117B3D165D3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2ED47-0F88-4929-9F7E-41C03A9D1F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418A-19CD-46FF-9F23-E48953ADFCB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BE6DC-F213-4023-9B10-15E0DA4DF3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72941-B152-42DF-A764-EB79270435A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5CA45-B119-4E16-B926-3F5B7CD81E5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D0ED4-1BB3-4CA2-BD29-91C3C941E92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E47CA-41EA-4200-A83D-433158DFC81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D4FC2-F152-4F31-B6EF-C1D8EE027E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B8703-FF7C-4287-B1E7-6E18D3FAA86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18F82-D382-4C44-BD9E-48F13F89281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6E9EA-61C1-440C-ABD8-AD2D230201C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C410D-D71E-40D9-80D0-16B121EAF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A417-43DE-433E-B776-94E2DB0325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CDAA3-A5CA-4D7D-8086-08C11A4080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6DAAD-129C-4CDD-98CD-AA1A9C58D9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FD1C4-0D7F-4859-B0F5-F037294352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A1B3A-9774-4547-A0A4-E9563725EB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AFC66-04D5-4462-9FF1-CBFE8319DB5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D9A65-426C-4C3F-A831-9EB0170EF23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8F035-D409-496F-94C0-FA036A90F69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BB056-3DE1-40FC-A5B1-4E50C15D30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02814-4A99-41A8-AEA6-A9F1793894F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7F49-B73B-44CA-9BB5-93CD199926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4C83-E735-4AD4-874C-C47A90F9DF2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C612-7D8F-4918-9C78-0E834A02D35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8D09-4D28-4533-8F53-9FEFDF3280B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64ED-C1F7-47C8-9862-3FD2F5D0772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0C67-3620-48B5-90D0-772C108287D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63C8-0BA9-4C27-882C-F2FEFE3687C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5C3D-16D6-4B8D-98B0-22408E9068E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3BAD-E0F8-4F15-9305-EA78AF6CABE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B9E77-54C3-4B3A-B92C-5EB0FF77D32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6232-6F79-4BB9-8083-833D0FA1C7B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64E7B-15EE-470C-BF74-D62E168A1B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65E6-F137-446C-89D8-5C49F2E3516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17F2D-C640-45CB-9CDE-238B0290329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D4803-8E89-4550-A3FD-DCE7FC3A57E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C2ED4-BAB6-4E74-AA99-86D0D27847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97283-18AC-4EA5-895F-11ACF08EAB6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80A94-7D1A-4889-A9C3-E00DA6CA93C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E84AA-9334-4A4C-82B9-558D01DECF8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FFA30C-5644-4014-83E5-E498D32AE41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1343B-CBA9-4334-9BEF-1FBCE4E23AA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146125-7342-4AB5-952D-4ACBBE05107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A9247-2437-4B91-B602-198FCBC72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8594-6292-4C7D-89B2-312D53DDEE1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E2C6F-19C3-4997-847C-795FA331868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5E5FD-9B21-4BD7-B3C0-9C46F4A1B0B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B30805-BE4A-44D6-AFB5-BD7CDD86F80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BA655-2B27-45ED-ABFC-9E9EE35DD64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2AA07-0DAD-4A71-B399-97612B8DFC7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62B3B-ED23-4245-8F94-3E11250E1CE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1A801-E4D4-454C-8816-2D9A9CDBF29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9816C-E118-4DCB-A40A-A2DF426BA26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D3249-93A8-4F10-AE87-2DCC20A09F2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18297-B395-4486-A11B-50944D475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29EE-FDBD-49EE-91BF-0DC0B4D69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F8E3-E5ED-417B-A952-56E81F5F83E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10CD5-5F35-4F96-A21A-B88830AAF90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77710-85B8-48EA-85D3-5D50DEC42D3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7ADE9-29CA-4010-9B49-3CAC1B377F7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3259D-F105-498A-9B74-A5B1BCAB9A1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8013A-4A85-47A3-87BC-73F08C1019E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30411-A692-40D8-A307-FD389905DEF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4D23-E69A-4F48-B9AF-B654835B604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6ED9-988C-4E8B-9542-58C1129A7E2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DEF8-0C26-466F-AE7C-2753C3D2220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E514-DD07-49CB-8D8D-50CEC843EB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BC89-91FB-4892-AF01-D2C81626CF3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C15B9-A658-43B2-815A-6B27E8BA19F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688F-C074-4C7D-91F8-AC1FC21C5B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AC5DC-133E-458E-AA96-EF356721E3A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31BE0-F3FE-4C39-8CC3-967A5A6387A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A578-72E1-475C-9A54-343ED12523F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FE46-D455-412E-9D60-45B051F76EA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C978-AFDD-4B4D-BFB6-4F0053DED85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27723-F475-485D-85D2-40EB052882F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A0FFE-396F-467D-B312-09C833CFC4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A2DF8-6D40-4008-8086-F761B2ED4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8BD7-4925-4C9E-B7AF-A751371A242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D7917-E5FA-43C7-978E-FF18C62654E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D2B2B8-447C-4BB8-94ED-BF4A3D1C344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B7216-003D-4DD5-B978-FDC157918F5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0CFC13-E874-4DB2-A693-B2409EB9E4A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37573D-A33F-495E-8D1F-FA494E85102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D992D-E8A5-4171-9FC3-8815902870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9EEC50-A9E0-4D18-AE05-68581BF3771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B122D-CA6E-4BA0-BF07-FDF597B5AE8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924A0-6455-4056-8695-7C5870B08E7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8F7A2-50B7-477D-A9CC-8B70136443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6DCF-F95B-4446-87BB-D23BBAAFA89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413FC-50E5-4273-A92C-1EB1CB74BAA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B40C3-0E1B-4F71-B2E7-BEBA6965F08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AA9A0-8EF8-4D2F-8DFD-99DD85C5203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3E24F-E959-410A-BADE-0954E3E9C20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46DD2-002C-4D3F-9BA8-4E90169125D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0A22E-BAC3-4F48-A2D1-063CD4EBBA0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8D812-1CAF-43A9-A2FD-E3575D8968F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D65CA-71DF-4586-9C5E-5626C6E105E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94EAC-5EBD-4BC5-8AF6-284411A3B8C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2AF94-7AAF-4B77-A461-E3FF1103EA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F3B0-7CF3-4BBB-8D10-827A1A7B3D0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48D3A-A1E3-4AD7-AAE6-0F3516F8A3A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FBBB-4538-4B9E-B47E-A4E692BB068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0877-EA5F-45EE-81FB-346C40C73CE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3E570-9C65-4177-82AF-BCFDC4EFF60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D7675-8234-49A7-B7F8-2DCBB434567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00AA7-A55C-4136-BA41-F9EFDFE6B66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D6066-9194-4D8B-B15C-5D6FA812472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BC73F-540F-4693-9AFB-0183BBCEB2B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CEE1-3CD5-4DAB-B9E5-1550E4A510B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1BC1-8B9A-4997-AAC0-4B4EBD45B4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BD6-E256-4D4F-ADE7-DEE010395B1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1556-7E7C-4C49-B9DE-0624F5BDBA7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09AD1-DC30-46F4-A8C9-CD164163251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7DB0-185F-499C-B256-FAB3C492C09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C7990E-5803-4512-8DB2-6B51B33133D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EB16E-B77B-4D0D-A581-C6A76935037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C8FCD-435C-40DC-9A9C-544F8CE4A77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7F9E2-5161-413B-88CA-C4A3BBD4A78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793FA2-A608-415A-A949-A92E0929858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9366D3-21E5-41C3-A415-094D8D7E12B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885E1F-8866-40F6-8779-F588164792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E74-3725-4571-8152-064308E76BE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2461C-D277-49EE-B533-F70105F3BC5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230100-118A-4197-B345-FC600D9B9FA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6277E7-F523-4B1F-99DB-E7689F54ECA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1137F-AE4F-495C-9E21-F5D44968890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68744B-0673-4F7F-A614-ABB90FCB362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389998-2713-4F1A-B5AB-BF21947426A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A7361-405E-479A-B71E-850B5D6C3A3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8C7C64-E686-40AB-A503-B195904F4E8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3E619-AF3C-43D6-AE37-E8E0C7EB2D2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5AAF9-7927-490C-A20F-24BCD946B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E89-FD16-4913-B0CF-940BB6F3374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C1B06-DD1B-4FAE-9849-9A4BE6C5E97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B69A3-1DE3-4B10-89C9-2710DBDD7F8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9BDF0-1603-489B-B4D9-1B7208EE0D2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E9EC8-FCE6-4377-8C32-244EE3E3DCE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0BE741-DAA4-40D7-B104-F6337D76088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D2562-85F3-4D44-A4BA-B78FB292588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2D11FA-BC22-4A9A-9BE1-60F2EC6B18A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DC03E-1CD0-4CC8-89C2-B35BD377BCA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6A298-C523-4B99-8CA3-8F13B7DF678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EFAD-97F2-4386-AE85-2CAB3F0462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AEF-84D3-435D-B142-D9BAC1DE5C7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1D18-6AED-40BF-9522-72ACEE193DB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DB39C-87A7-499C-A774-1639DCFBD06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0FDEC-A95C-4850-9177-CE036F9E2A4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5763-8B10-494F-9BCA-7FA72F6A3D9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CF49-7FF6-4EF8-95B9-9E3E88A5BA9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C920-539F-4B0E-B0B7-B6F1525B297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8EA7-C212-4DD0-AB28-47411346190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0F5E-A697-491C-A28F-BE9F4CE5314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A7734-DE6A-466D-94AD-8AEE850A945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E3C16-38E5-4307-985E-571BBB0AFA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552-AB4A-43E7-80B4-1059481E7A6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C49E7-4045-4AA3-8411-DE7C7184914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7C4C4-8CFC-458D-A073-E9FEF0CC56F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4CF9D-723B-4F50-B8B8-A0E9E4F5F1F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E73BB-276E-48A3-AE85-259BC0A1089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EB8A2-4A8E-4B46-977A-A6FDF6C1ED6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7DDC4-E896-42A7-BFED-6C755C26663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7262E-CF31-4BC4-B740-EDD7976FCE2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D6858-8EFD-4B28-BF52-428C7CDA5BD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6357C-CB23-4554-818F-993C5E987B7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42C18-12C9-43FC-BB52-CF4A9B2D3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C4E3-53AF-466A-8BD6-450CCAF61C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D3C-33F2-4118-B938-A3984DFE1C9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2C8CC-EEF0-41E5-B59E-DCF419062C3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767DA-E597-41EE-881F-CEFB81A7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77202-14A4-47FF-AECE-2DC654CB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E6482-8229-47AE-B659-D9C0EC7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ACEB5-D6F9-450A-8E9C-DF5F6226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E99D7-C24D-4E0E-927E-909BD7F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8DCCF-15BF-466B-AC5B-8CE8F1F9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39B43-6EB8-421D-A217-3860863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59E8A-7509-4E15-BCE5-ADE0D14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0E067-93B9-4308-B2D0-680D585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278-7E1E-4ED9-B16E-44716CA84D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7AA86-B450-4B16-A3F6-7A7784DC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A965F-2275-43A9-8B4C-F940C81D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5E32C-E6BE-494A-B33F-18A506B7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DB4889-CD93-42E6-B083-96DF7297872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1BBDFC-9173-4126-9EAF-3A5B244737B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3FC7F-5A9B-43FB-B300-0DBAF84D878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79657-B829-4C98-9597-9A3EB88F112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31C10E-5D3A-4582-B03F-110DD37DCD2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3DDAF5-E16F-42FB-A4B9-D2216024A34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E96D6-C5C9-429B-B36E-13F973F0C3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A4B-BF10-4559-B8EE-23194D444B0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0FDF05-9DA6-4B8E-9F64-93AA4B72D38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A665F4-2A84-4190-98CB-E115B1DA9B7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02990-41B4-426C-BBE7-611A9ACF042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2ED49B-BF0A-4C2F-8D4B-B6A5154CAC2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76D22D-E527-4E0F-8952-ABE2FB48579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ADB10-17A9-4236-8E2B-A893827CDAF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606C-355E-4AF1-84B3-F88FC96D65A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6B68-5D75-4D79-8C4F-B48D79AEE77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7D0A3-27DF-427B-B675-DF87AB6B99D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B1F11-7165-456A-A020-64DB3A0D8F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7F8-E147-4B69-8729-73B16792B38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F4F2F-DD8C-4BCF-B39D-DB942765BA5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54BBA-3C05-4AB4-9E9B-630C214D5E5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A4442-2897-49D0-9EC8-83E1A6A3F121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127E6-0BB9-46D8-AFEE-4772ECA397A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6D174-735F-42FC-A2B4-4604D55E9917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31993-3F99-430A-B0CD-DD89CAF95A9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7A43-7872-4457-A1C0-296EF3BA67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397-EB15-4FED-A165-352B13DCD9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061-FA83-4E0A-B59C-D72EFA1C4B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D52-181F-4E24-9851-E61B7CE1EC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FA867-23C9-45C7-BA7B-60BBF66DAD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5E618-BEEC-4E1D-8E8F-EC149549B7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FDB7E-36C6-4F23-A343-6B66489DF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AF49-9E88-4DBC-94C2-D41FEE5694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A6846-A88B-451F-8AC4-4EB371515B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57B40-86C4-4043-A2B0-DEE1CA16BF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9C4DA-6966-4E8F-8A65-15DF5F75AB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B871E-A258-428D-B2D5-A74CFD8431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D2555-C1B6-42A1-823C-638CD61FB2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2E0D-C07B-4B03-8CD2-6C608C2878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E0922-60B1-42B8-9988-4F241C753E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B7732-89B7-4FFB-949E-D22C11FE67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6E178-F770-44B1-8A7E-1E6062C564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E8CF-D144-483B-95E4-C0DA300D5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0CD5-4F41-461A-98A5-A1693C2B04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91D7B-995E-4FD9-B07B-E2C7ABBCF0C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E66B3-3DCC-41FA-8C96-6560AFBE67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77610-EB52-4CD8-9668-8CE480041D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AEB82-2B5B-4249-B9E9-5AA68C35D8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BCA8-3EB0-4D30-A3F9-580D130C51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1620-3D6F-4549-A038-8C66778F76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0FA6-4EC6-449B-8CA8-E84460FB53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E761F-FC1A-4C78-A521-7AD2C4623B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A06A-5906-41CC-9C2A-5E62CB9041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C36E-FEE0-4FCF-B62F-512094D7F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BABF-BDC4-4790-9B6C-5B4262855D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6B787-F05C-4C2E-8A0A-525B373611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594-3C91-4D00-A639-FF499CB9FC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68D3-9363-4952-AB4A-B09A777EEA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416C-BCDD-43C8-B361-8C4691287B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1A52-1FF4-400F-8E6B-DEC2550623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572D-5557-44D0-AA3C-C4DFC010E2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962B-68C7-42C3-A539-B762F4398B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EF7-F491-4E29-8E6A-2AD9B166BB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BFE6-F4F1-4C56-92AE-70F4A4B718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E15-F887-4E91-B790-A9152E38A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5B06-69E8-4CA1-AC4A-04FC2D9FD9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F41-5161-475C-9679-7F70A297E9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700D-D99A-410B-84E7-FDB257E87B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3AB7-1484-4656-A7FB-3364070850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53807-9697-4B1B-A900-8BEC6F5AA3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B789C-921F-4D65-982E-771C34C03C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7B4C1-E366-4A00-B406-0B20DBC329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87CA4-E98F-495E-99D3-F26864C894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BCCC0-0B66-4ED0-8A82-D14A93496A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3B51B-4D30-4D7C-959D-C749889068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11761-0A57-4016-9C93-D65E8665C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316-C3E3-4792-BAF8-E1A9BF65F3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CD96A-ED49-4C0E-9370-00D4244080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9C8E7-B2E6-4177-A876-642F4EB102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AD0F6-417D-4D27-9B90-B49D3A755F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70BE0-F41D-499F-AF08-B7CA3046F4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10DA5-8A42-4A11-A711-6E8FC058CC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CF6E3-AE86-4CD7-966A-60B5D5418F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13479-E6DE-42BB-8A11-CE75C505C1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45A52-24E7-4E33-BB21-A1A307F6A6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63D58-9D12-4611-A08A-43BDA53378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4D4E6-63F4-4ED7-BEA7-C36EC875F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0644-1819-4F71-8498-D6185BC642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FEE57-CEE9-4843-805E-ACCF3514216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C75E1-CC2E-488B-B7AB-C0F1E86F08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20F3E-BC15-4F23-8FFD-37D38A2CC61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ABD44-A10E-40B0-8BA4-A6AC31C85F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FA4FE-8906-49AF-B7F7-135E1078B21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DCBA1-D18B-4974-AA99-EDAF521A73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0B12D-579A-4496-997B-1655B5655B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5DA5-F3B4-43D2-A280-DBDF7646C5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979B-548B-4C32-9C20-3DC031737F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30DB-C3C4-40E1-9017-3C7154072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7F8C6-6AB4-403E-AC43-81269031EC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2D8B4-5FEC-4A6F-AE3A-18513F83D5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1127D-85F6-4D70-B0EC-9F10025AFF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D8AD9-0813-436F-9993-F2C6466C5C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18059-8913-4022-AFB7-BC8C950A1A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46FB7-2AFF-4ED7-B0F3-28A8DA3EC4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5A6CC-1E34-4D7C-9650-1A201319CD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4F073-4152-45D6-A92E-B7BAEB8630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2700D-CD7D-4A88-906D-BF29C1E94E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B01A9-E7D6-4A40-B1C3-C891B5A68A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4AE5F-A6BC-4D6D-8251-749999DBCFF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5A7AB-CAE3-4B2C-9C89-CE637F2BBE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029B1-F486-401C-B821-7562A156E2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ABF8F-7BFB-4017-8FFD-7DC24DB12B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F212F-4EDD-41F8-A0F3-89DBC3FADD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1FDD1-5D2E-412C-8666-BF20483DA1B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0A266-C530-4EFC-B2D8-4CBADC5E80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28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8DFA7-1F5A-4BD0-8BE4-CC3788B354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30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430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29FAB-C746-4537-8729-8F9E2649DE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12v5.jpg"/>
          <p:cNvPicPr/>
          <p:nvPr/>
        </p:nvPicPr>
        <p:blipFill>
          <a:blip r:embed="rId2"/>
          <a:stretch/>
        </p:blipFill>
        <p:spPr>
          <a:xfrm>
            <a:off x="457200" y="2117880"/>
            <a:ext cx="8229600" cy="2622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D4C7B-4E16-41BA-A176-340E5CFCAE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c13v5.jpg"/>
          <p:cNvPicPr/>
          <p:nvPr/>
        </p:nvPicPr>
        <p:blipFill>
          <a:blip r:embed="rId2"/>
          <a:stretch/>
        </p:blipFill>
        <p:spPr>
          <a:xfrm>
            <a:off x="457200" y="2111400"/>
            <a:ext cx="8229600" cy="263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700A8-4CC9-47C1-8B02-3812BFE3DF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35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verisign.png"/>
          <p:cNvPicPr/>
          <p:nvPr/>
        </p:nvPicPr>
        <p:blipFill>
          <a:blip r:embed="rId3"/>
          <a:stretch/>
        </p:blipFill>
        <p:spPr>
          <a:xfrm>
            <a:off x="3108240" y="5114880"/>
            <a:ext cx="106704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0EAD1-576C-40DB-9FBE-67861F19D1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96E4A-31EE-4735-BDB4-FF6F2707B1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A4CCE-43FC-4D2B-A5B6-A926F82F57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9DAAD-38C6-4275-9C63-77FF994845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5"/>
          <p:cNvSpPr/>
          <p:nvPr/>
        </p:nvSpPr>
        <p:spPr>
          <a:xfrm>
            <a:off x="8317080" y="648828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DD94F-1443-4259-B94E-FAFAAFD0F2AA}" type="slidenum">
              <a:rPr b="1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Rectangle 7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GNSO Counci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15960" y="3227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Names Supporting Organ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policy development related to generic Top Level Domain (e.g. .com, .net, .info, .museum, .pro,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 Councilors from 6 different constituencies / Stakeholder Groups &amp; Nom Com appoi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NSOcouncilCairo.jpg" descr="/Users/scott/Pictures/iPhoto Library/Modified/2010/Feb 17, 2010/GNSOcouncilCairo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1761840"/>
          </a:xfrm>
          <a:prstGeom prst="rect">
            <a:avLst/>
          </a:prstGeom>
          <a:ln w="0">
            <a:noFill/>
          </a:ln>
        </p:spPr>
      </p:pic>
      <p:sp>
        <p:nvSpPr>
          <p:cNvPr id="111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82718-7C2C-4C55-86CC-F5BB9B0D5D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it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 Council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5"/>
          <p:cNvSpPr/>
          <p:nvPr/>
        </p:nvSpPr>
        <p:spPr>
          <a:xfrm>
            <a:off x="8317080" y="648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FF022-DBD0-4805-8EFF-267894F461B9}" type="slidenum">
              <a:rPr b="1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9455040" y="6858000"/>
            <a:ext cx="14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7"/>
          <p:cNvSpPr/>
          <p:nvPr/>
        </p:nvSpPr>
        <p:spPr>
          <a:xfrm>
            <a:off x="6297480" y="4516560"/>
            <a:ext cx="1146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2"/>
          <p:cNvSpPr/>
          <p:nvPr/>
        </p:nvSpPr>
        <p:spPr>
          <a:xfrm>
            <a:off x="0" y="6130800"/>
            <a:ext cx="960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8211960" y="6488280"/>
            <a:ext cx="13892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"/>
          <p:cNvSpPr/>
          <p:nvPr/>
        </p:nvSpPr>
        <p:spPr>
          <a:xfrm>
            <a:off x="0" y="6488280"/>
            <a:ext cx="8211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"/>
          <p:cNvSpPr/>
          <p:nvPr/>
        </p:nvSpPr>
        <p:spPr>
          <a:xfrm>
            <a:off x="0" y="6324480"/>
            <a:ext cx="9601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Picture 3" descr="GNSO-structure.pdf"/>
          <p:cNvPicPr/>
          <p:nvPr/>
        </p:nvPicPr>
        <p:blipFill>
          <a:blip r:embed="rId1"/>
          <a:stretch/>
        </p:blipFill>
        <p:spPr>
          <a:xfrm rot="5400000">
            <a:off x="1422000" y="-576000"/>
            <a:ext cx="6148440" cy="87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GNSO Community Structur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23" name="Picture Placeholder 4" descr=""/>
          <p:cNvPicPr/>
          <p:nvPr/>
        </p:nvPicPr>
        <p:blipFill>
          <a:blip r:embed="rId1"/>
          <a:stretch/>
        </p:blipFill>
        <p:spPr>
          <a:xfrm>
            <a:off x="792000" y="1579680"/>
            <a:ext cx="7693200" cy="45892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5"/>
          <p:cNvSpPr/>
          <p:nvPr/>
        </p:nvSpPr>
        <p:spPr>
          <a:xfrm>
            <a:off x="1300320" y="1981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y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6"/>
          <p:cNvSpPr/>
          <p:nvPr/>
        </p:nvSpPr>
        <p:spPr>
          <a:xfrm>
            <a:off x="4869000" y="198108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ar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7"/>
          <p:cNvSpPr/>
          <p:nvPr/>
        </p:nvSpPr>
        <p:spPr>
          <a:xfrm>
            <a:off x="1300320" y="42559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n 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8"/>
          <p:cNvSpPr/>
          <p:nvPr/>
        </p:nvSpPr>
        <p:spPr>
          <a:xfrm>
            <a:off x="4869000" y="428616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48690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72342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1455840" y="5105520"/>
            <a:ext cx="105084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3"/>
          <p:cNvSpPr/>
          <p:nvPr/>
        </p:nvSpPr>
        <p:spPr>
          <a:xfrm>
            <a:off x="2811600" y="510552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P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Oval 17"/>
          <p:cNvSpPr/>
          <p:nvPr/>
        </p:nvSpPr>
        <p:spPr>
          <a:xfrm>
            <a:off x="1376280" y="2819520"/>
            <a:ext cx="1050840" cy="914400"/>
          </a:xfrm>
          <a:prstGeom prst="ellipse">
            <a:avLst/>
          </a:prstGeom>
          <a:solidFill>
            <a:srgbClr val="b8dbed"/>
          </a:soli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8"/>
          <p:cNvSpPr/>
          <p:nvPr/>
        </p:nvSpPr>
        <p:spPr>
          <a:xfrm>
            <a:off x="6019920" y="5118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SP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35" name="Picture 2" descr="pdp-diagram-v2b[1]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113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E5BBC-67AC-4872-BC9F-86AD79F3E1C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itle 1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GNSO Policy Develop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Concept of </a:t>
            </a:r>
            <a:r>
              <a:rPr b="0" i="1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“Consensus Policies”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ICANN Agreements (Registry and Registrar) require compliance with “Consensus Polic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a specific policy development process (P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Limited to specific topics (“Picket Fence”),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curity &amp; Stability of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Domain Contact Data (WHO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Examples of consensus policies include: Inter-Registrar Transfer Policy; Uniform Dispute Resolution Policy; Whois Data Reminder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9B811-B2B2-4BFF-BD66-14496934BA6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Picture Placeholder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94940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How can I participate in GNSO?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990720" y="1574640"/>
            <a:ext cx="7526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ublic Com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il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 a Stakeholder Group or Constit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 to Join a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/attend GNSO Counci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Some of the topics currently under discuss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990360" y="1574640"/>
            <a:ext cx="7848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king of a domain name subject to UDRP Proceed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ck’ Who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ion of IOC, Red Cross and IGO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ics and Repor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is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lation and transliteration of Internationalized Registratio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 further informat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PDP -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/en/basics/pdp-process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cribe to the Policy Update - http://www.icann.org/en/resources/policy/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8693E-86A4-4FF2-B7B9-19B8F609E9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9:22:11Z</dcterms:created>
  <dc:creator>Marika Konings</dc:creator>
  <dc:description/>
  <dc:language>en-US</dc:language>
  <cp:lastModifiedBy>Julia Charvolen</cp:lastModifiedBy>
  <dcterms:modified xsi:type="dcterms:W3CDTF">2013-07-08T13:16:10Z</dcterms:modified>
  <cp:revision>1</cp:revision>
  <dc:subject/>
  <dc:title>PowerPoint Presentation</dc:title>
</cp:coreProperties>
</file>