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EF187-D3C0-4C9A-B571-75751C40A3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C015B-09F1-4B31-AAC8-019472740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3B86512B-E777-4C52-A891-99675E9F61FF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4B9197DE-F203-434D-A55B-6D70F7AD51F4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77E56-B4F0-4C0B-9916-7ADB4A87907D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C4788-6CBB-4929-BF7C-BA50441AEB35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84AF2-49D7-46C4-8DA0-AD7CA4D53493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6A953-33B1-45C8-BD79-1C5181053894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006BC-B1F5-4660-A6F7-5FE4DDEB2B4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  <a:ea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C2707-2DDA-49C8-81CE-A5F45A46553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</cp:keywords>
  <dc:language>en-US</dc:language>
  <cp:lastModifiedBy>Heidi Ullrich</cp:lastModifiedBy>
  <cp:lastPrinted>2013-02-07T22:29:55Z</cp:lastPrinted>
  <dcterms:modified xsi:type="dcterms:W3CDTF">2013-06-10T23:31:56Z</dcterms:modified>
  <cp:revision>90</cp:revision>
  <dc:subject>Internet Governance</dc:subject>
  <dc:title>ICANN &amp; Internet Ecosystem</dc:title>
</cp:coreProperties>
</file>