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6CDA81-2B00-4568-8B19-86A559D4AA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C5861D-9EF5-4A85-820E-CBB7A8DCF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55AA7AE2-CF85-4EB0-9DC7-EE74784439B3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6BA2B7C3-2F7C-4089-AE06-5D92266F2383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38F39C-09FA-4094-9F4F-B135A4E1B085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4A1212-EACA-4B24-AF8F-4BD68CCF29E8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B954E0-3897-437A-B44B-C3CC848993A1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938DB8-074E-423F-ACDA-0026943E0EAD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3.jpe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3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B5AAE4-0E20-477B-AC56-B28A99A4D6A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  <a:ea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4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8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89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5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4a45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Rectangle à coins arrondis 75" descr=""/>
          <p:cNvPicPr/>
          <p:nvPr/>
        </p:nvPicPr>
        <p:blipFill>
          <a:blip r:embed="rId1"/>
          <a:stretch/>
        </p:blipFill>
        <p:spPr>
          <a:xfrm>
            <a:off x="8589960" y="2000160"/>
            <a:ext cx="444600" cy="9874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5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Rectangle à coins arrondis 75" descr=""/>
          <p:cNvPicPr/>
          <p:nvPr/>
        </p:nvPicPr>
        <p:blipFill>
          <a:blip r:embed="rId1"/>
          <a:stretch/>
        </p:blipFill>
        <p:spPr>
          <a:xfrm>
            <a:off x="8589960" y="2000160"/>
            <a:ext cx="444600" cy="9874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32"/>
          <p:cNvSpPr/>
          <p:nvPr/>
        </p:nvSpPr>
        <p:spPr>
          <a:xfrm>
            <a:off x="5312880" y="171612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Line 33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5"/>
          <p:cNvSpPr/>
          <p:nvPr/>
        </p:nvSpPr>
        <p:spPr>
          <a:xfrm>
            <a:off x="5891400" y="429264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6"/>
          <p:cNvSpPr/>
          <p:nvPr/>
        </p:nvSpPr>
        <p:spPr>
          <a:xfrm>
            <a:off x="4530960" y="2133720"/>
            <a:ext cx="106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37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8"/>
          <p:cNvSpPr/>
          <p:nvPr/>
        </p:nvSpPr>
        <p:spPr>
          <a:xfrm>
            <a:off x="3081240" y="162864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Line 39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40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1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Rectangle 45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Text Box 46"/>
            <p:cNvSpPr/>
            <p:nvPr/>
          </p:nvSpPr>
          <p:spPr>
            <a:xfrm>
              <a:off x="712080" y="6206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Text Box 47"/>
          <p:cNvSpPr/>
          <p:nvPr/>
        </p:nvSpPr>
        <p:spPr>
          <a:xfrm>
            <a:off x="1952280" y="2637000"/>
            <a:ext cx="14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48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49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ECA30F-55EA-48E3-99E5-D1BB81AC76B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6248520" y="6012000"/>
            <a:ext cx="266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3" descr="ALAC-Diagram2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4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6902640" y="2565360"/>
            <a:ext cx="125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428840" y="1566720"/>
            <a:ext cx="56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991080" y="573408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6" descr="public comment response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6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2"/>
          <p:cNvSpPr/>
          <p:nvPr/>
        </p:nvSpPr>
        <p:spPr>
          <a:xfrm>
            <a:off x="1336320" y="5300640"/>
            <a:ext cx="15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4859640" y="5300640"/>
            <a:ext cx="15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7356600" y="5300640"/>
            <a:ext cx="11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16" descr="comment flow channeled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7"/>
          <p:cNvSpPr/>
          <p:nvPr/>
        </p:nvSpPr>
        <p:spPr>
          <a:xfrm>
            <a:off x="467280" y="17114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18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9560"/>
            <a:ext cx="225360" cy="635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6" descr="timeline-marker.png"/>
          <p:cNvPicPr/>
          <p:nvPr/>
        </p:nvPicPr>
        <p:blipFill>
          <a:blip r:embed="rId7"/>
          <a:stretch/>
        </p:blipFill>
        <p:spPr>
          <a:xfrm>
            <a:off x="3035160" y="3870360"/>
            <a:ext cx="257400" cy="744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4500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5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8"/>
          <p:cNvSpPr/>
          <p:nvPr/>
        </p:nvSpPr>
        <p:spPr>
          <a:xfrm>
            <a:off x="1224720" y="5373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5752080" y="5229360"/>
            <a:ext cx="7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24"/>
          <p:cNvSpPr/>
          <p:nvPr/>
        </p:nvSpPr>
        <p:spPr>
          <a:xfrm>
            <a:off x="7361640" y="5229360"/>
            <a:ext cx="14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5" descr="comment flow channeled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27"/>
          <p:cNvSpPr/>
          <p:nvPr/>
        </p:nvSpPr>
        <p:spPr>
          <a:xfrm>
            <a:off x="1783440" y="6206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Line 28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</cp:keywords>
  <dc:language>en-US</dc:language>
  <cp:lastModifiedBy>Heidi Ullrich</cp:lastModifiedBy>
  <cp:lastPrinted>2013-02-07T22:29:55Z</cp:lastPrinted>
  <dcterms:modified xsi:type="dcterms:W3CDTF">2013-06-10T23:31:56Z</dcterms:modified>
  <cp:revision>90</cp:revision>
  <dc:subject>Internet Governance</dc:subject>
  <dc:title>ICANN &amp; Internet Ecosystem</dc:title>
</cp:coreProperties>
</file>