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985D7F-1DB6-464E-8FE5-DAAAE9EF0F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912A8D-53DF-4EC0-AF5F-D1615AAAA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F9175E8A-B73D-48BF-A5FD-A8210073CADB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F52620EA-F236-4ABC-A3DC-77E927228A9B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3F928B-1DC4-4FCF-9716-E134985F45A5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924EAD-6FAF-4B3A-94BB-65951D086125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0EDDC6-7C84-4D7A-B1D9-545766531C2F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4D6C45-0118-4B49-89DD-16ED35089FFB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84612-C359-4083-9FFC-0FF0FCD840C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  <a:ea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EA512-C39E-4443-B94F-DCC1ED6496A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6248520" y="6012000"/>
            <a:ext cx="266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902640" y="256536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428840" y="15667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991080" y="573408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6320" y="53006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59640" y="5300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6600" y="5300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467280" y="17114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224720" y="537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52080" y="522936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61640" y="5229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783440" y="620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</cp:keywords>
  <dc:language>en-US</dc:language>
  <cp:lastModifiedBy>Heidi Ullrich</cp:lastModifiedBy>
  <cp:lastPrinted>2013-02-07T22:29:55Z</cp:lastPrinted>
  <dcterms:modified xsi:type="dcterms:W3CDTF">2013-06-10T23:31:56Z</dcterms:modified>
  <cp:revision>90</cp:revision>
  <dc:subject>Internet Governance</dc:subject>
  <dc:title>ICANN &amp; Internet Ecosystem</dc:title>
</cp:coreProperties>
</file>