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notesMasterIdLst>
    <p:notesMasterId r:id="rId64"/>
  </p:notes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notesMaster" Target="notesMasters/notesMaster1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dt" idx="6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5"/>
          <p:cNvSpPr>
            <a:spLocks noGrp="1"/>
          </p:cNvSpPr>
          <p:nvPr>
            <p:ph type="ftr" idx="6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6"/>
          <p:cNvSpPr>
            <a:spLocks noGrp="1"/>
          </p:cNvSpPr>
          <p:nvPr>
            <p:ph type="sldNum" idx="6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C2B4C-D9C8-4E5C-86EF-5C450E224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80999-4615-4F69-9F8C-8E707378C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ADC81-5BB9-4F57-ACBD-9C23B8A4316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839AD-CBA3-4157-B28B-D94E36A7A94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DAB1B-30B5-4844-9213-B1664FF293A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ABC00-39B3-4748-B2F6-F533414A5EB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5293F-DEDA-4375-A7BB-D0C36F790C7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58CE8-3AE2-4283-AA2F-94203F29154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22CD7-0B16-44E1-A3BE-13573DCF064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CA939-EE34-44BE-8641-FA3342366A4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B6DF7-3F03-4F7D-A627-ECA8B748A98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6BEC-A60E-4847-BD81-3E5C11962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970C-4ABF-4577-8DC1-EDE96CA3562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ED79-A9C4-496F-AE7D-07F2F4E4802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53DC-C30E-48F6-852B-CE246323258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4383-760D-4A1B-8418-B1F42DFDE64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E371-BE6C-4F28-AA38-18E9DCA74AA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AEA6-29C2-4532-A309-07C7740774B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5643-3E10-4A09-B69F-0E25AE97CE6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12C9-03C0-432F-8F5C-716B7E523B6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1902-54CA-48A4-B1CB-9D58A6BDE17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5F23-29AB-40AE-9897-62E37DD31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737F-9C8D-42F9-A262-5269AAE57CB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D5658D-E88E-4DAF-878C-60F33E27FB2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FF5DB4-8AAB-464E-B331-FF540500B4D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9EACF2-331C-416D-8E0A-FCDE31773D2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DD4C0F-5CC7-40C9-827D-D4E60AA1AA3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5CE793-C7E1-4321-AAFD-8E76F095CEA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48DA65-5C00-4DA7-95A2-A4A98356EE7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FFDFE5-8358-497A-AC53-C2641E8DD81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ED7692-0D55-460F-B624-6A378AC00B0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BDDA96-14A8-493C-A177-5FF1AD3F9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563398-A7A5-41DC-A78A-672CEAB1D20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1B4DC7-A9A3-4E45-AD38-5AF3CECBA2C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BA10ED-8BDE-41FA-8F0A-F0EB87E81B1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88285-CC51-4011-BBD6-B5F658648BB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1A63E-4AB8-4F28-BEE0-4A91793C84C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E5434-D7C7-40E0-B7DD-120D6BF3F07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19796B-34FE-4776-B119-8972507110B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7D685C-A664-4768-96CD-85CDA55DB8F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F24DB9-6A29-4938-A820-04EA99A71CC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7CB743-CEAE-46D7-91D5-2F8313A923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A9DC4-67AF-4524-B3F3-E4F50CAE45F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87962-4817-412E-9DA0-7A021FFED20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72429-56F2-4404-993B-007865FA9D3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F858D9-E201-472C-858A-C92A6EA90ED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9A869A-E106-489F-B4F9-E589CBF5DB5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0F88A-1863-49E6-8D73-A55F5F10C87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388AD-961F-4353-8AC9-D3C20C2E5AB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550F3-C6FC-46CD-866F-3CECC2E9C5D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AC86D-4137-40A5-987D-FFF0A2590A0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7C36E-755E-4BA5-A732-41B5979D08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773CB-7D30-4B21-A354-32A0D885D40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46DC0-FC7C-4A11-A490-D18AFB4C8D3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EBD61-2CEC-4913-BA57-D7D4AC35DBD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D3AFD-3B1F-413B-8157-CE12D62BFF5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7290B-A6AB-44AD-ABC8-975587893A4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8B6E9-B91A-4963-BBF0-026F20D93F2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37ED4-03B6-4D61-8B43-404FFB13683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11783-DFA3-42FD-8E67-26D8A4A0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3A1FF-4F98-4EB3-A48B-907C5CD5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7196F-A0AF-4C4E-A1C6-B01BCE3E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9D11E-DE74-4169-A9F1-8DB9BC3E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EB981-A6ED-44B4-821B-2E99E03A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0B2AC-1743-4CDF-BC54-DD6ADDAA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75B6C-988C-4586-B8EB-434FC47E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4C03A-B63D-4225-A8AE-850B2EAF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3E0C1-17A3-4752-A47A-F4878437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DD7AD-2D50-4CAD-8E9A-9661BB1B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00128-CCEA-4BA1-8848-B0983605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4A1DA-491C-4781-8D79-1B2984C0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9DDC06-2619-4064-A24C-9F20064951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FA1756-F7FA-4FC1-8C14-5667DB8867D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A6E37A-BE48-4A19-A008-855DD977EAA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D102EC-1497-486C-BE95-FC36192A679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1D15F7-62A7-4341-9790-96974219F07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C07E7F-B618-48C4-BFD4-B50054B309B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F820FD-B414-4497-9CE6-03206CB1FCE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D6BADB-198F-4953-A171-CB267E9F7CC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68D60E-7BB3-47B8-8951-DF84AFC245A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ED2B78-A3C1-4949-9514-521A75884A5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42C79C-B681-42A1-B781-1F06806987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04AD50-97A0-43A4-AAEF-C28B47C81FC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F14752-F970-4B29-B961-5B7682408E5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15D798-62C1-4B5B-ADB4-8975DE569D8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40E0C6-B5DE-47C9-A4ED-C27AA999EE1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8061D-B042-411C-A792-789B74A5F4A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C61DBB-E582-44C9-8ECF-FB9F63C755A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64AE3-25B8-449C-8C99-27311DE898D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21A777-37BB-4D6C-9018-AF33060CD36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CFE6C5-71D1-47FE-A0F0-B7EAF1F9625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954861-9293-4236-A7B6-AFF9870170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A1535A-CEC5-48BB-A595-4CD5C0E5342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787DA1-FFC6-431F-A9BE-95FE31B8EAF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95D8F1-2243-420B-B94A-D6474F9E927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614A4-B1E0-40E3-8343-88061F6B146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0689A-CD54-4BDB-A888-B8DF355B241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6061F-BBBA-4B18-8A8E-6FF2BB31813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56D05-5BED-4107-B912-5DC19C2B1BB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E387E-4ACA-4F53-8D65-D94F8A2FCEB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C0FE6-6745-468B-A273-2DE70456A24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B6B83-CDD2-40D9-BFAA-B36F31F3D2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6F8BA-C2F8-46A2-92B2-7225E1ECF6F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2CA91-DE02-462D-9274-E4E8C1B2F4A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141A4-9282-4E44-AD84-A23FF0A5C12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B8BBB-2AAF-4B24-9266-265F22F8BF9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889B5-F916-481B-8BCA-AC323492E34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CA35C9-5890-4470-ACC8-A24655E7084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E4697D-0D00-4644-B6C2-E5AD328E7DE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F44214-9E69-4AAE-A9BD-7EC4B5A998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B6DE67-87CB-4ED2-B9E5-9D693AE18A5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F5BCB0-2170-4DBF-BEBA-BC02E317FEA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22A9A1-AD23-4688-B05B-B3AA8CEEA63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317A75-E1C7-4456-B123-8FE4A33F5F7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9B6EE9-42FE-4AA1-AB15-7579BDE5CC5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1DBB42-CA70-46A3-8608-066354FCFCB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135B1B-2C6B-4786-8159-841506C9563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E3719B-1384-4532-9D24-F75F1FF0C85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248BEC-6354-4D70-91F0-4BB52AF2FE1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8D55E9-08A6-4C13-8586-59A9AFB93A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CB274F-6ABD-43E0-B10C-A9DB3D4CE21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901926-D1E0-41DF-8EBA-7EE13CB6D86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D52F33-BA9B-4526-91FE-601CC75CF70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B5AF3E-1694-4D73-B51E-5A60FA80362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A66419-5027-40D0-BABA-7AE0592ADB5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9F7FC7-DA48-454C-90DA-9743386D96B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755D77-4DA5-4D3D-9219-F494CCE3AEF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879FA9-6FDB-4EB6-8CFE-B9FCC30D377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BDDDC5-8584-43C1-9412-6628FE41FB4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FD6557-7AA5-438C-AECF-31F1630BEB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A76E11-5819-4EDA-A431-62F54EBC746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BB49ED-3C9C-4CC2-935D-12C95F1A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069C91-0FCF-4C9A-AE11-826966FB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569EE8-B685-4465-82FE-83EFC366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EB98FA-232A-4D88-AB01-C05B4CBF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7F8482-F63E-4B94-B494-3B406939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90AC3F-34DF-47B7-8E2F-9BE3AFCF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CAAF80-EB7B-4C1D-8781-B4C83006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9228E1-2439-48CD-AF15-EF25097A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349493-5883-49B0-8C8E-7F90CB3C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107D56-4F22-4F52-9A67-A7408287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E4A2CD-210D-405E-B9E2-B95897D3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64DA09-103B-438F-838C-0B9BBB5B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231E4-1504-4DF3-8C90-EE34FC2ED66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D750F-082F-4A96-9762-5AB545D06F8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7EDE4-5A21-46CE-B037-DDD0B80954F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2D8A4-38B8-4A1D-B09E-063A7FB6DC7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F1990-C2CD-4350-8912-40BD835206B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16DA8-DB7C-4A42-83F2-33F84441DDF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8C6E5-63A1-4DA8-A36A-FEA9F13B14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B8CC7-F213-42D3-8E22-20F5DCDC7A8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1B392-280D-48E8-9BD7-3FBA3071161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16CD5-3163-492C-8947-804B8DA3DB1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F9B2A-677B-4DC6-9223-8E0F8B9B50F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BC85B-BAE2-472D-99E5-8483EB7BDB4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4C9483-A266-40BC-A9ED-7216BD10133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334C70-703C-4985-871D-B7711A1C98F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9D5032-E051-481F-8111-CAD15171515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549A7A-6694-4917-B58E-FB6E1DF4CFD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38B09E-39F6-4237-9A7E-A18BB86E17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C4864C-8FCA-4B2A-8464-3C631B60AD7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709A8C-0E56-4578-A4F7-97115632300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88D15A-E845-4E23-9EE4-74AE6B20ACC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98A2C0-A14D-4785-9B2C-6647DAB6994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A8A27F-3F8D-45ED-A359-4C1E8A1BB5B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4238DF-B974-4520-906D-9391731D749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989659-AFD6-44C0-B02F-380FB951E66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31777D-E9B1-4F3D-B2BC-4D2826A63CD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C73C96-B8B7-4E26-8663-BFDFA2416AE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273DF9-6D25-464F-8FC6-F9A562C9CC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D19627-C03E-420D-AF8E-C8686582BC3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EEB784-2027-4FF7-8C16-7F8A1454EED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2CCF19-14F4-4D2A-8B36-6B6C91DDEE3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D855B8-AC61-4E0D-9B4C-3B2AABAA400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5EE1B0-580C-4195-8DEB-EF9AD3E5A79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C3458A-EDAB-4944-93DF-FCB85E1360D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8971B3-D42D-435F-879E-716E30159F1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92E4A4-FB70-455B-BBC8-AE26E01E196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8985AD-1AE1-4D90-9337-AE4CBA0DA82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82F67-9A3F-45B4-80D1-B740CD6929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569A9-5F58-48E0-9349-A3780E9B543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62634-F27B-4C06-891A-FED0E5A6E46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68B1F-76B5-4A28-A94A-78644376CE9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02A66-B2C0-4F35-9FD3-38C5D5F7D77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BBD59-8FFA-4937-88B7-88434CDE8E1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A8376-BA3B-40D3-BD3E-AE40059D803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6D3B8-35C4-4B6E-8A21-CCE8D7A9257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E7D42-C751-4698-AAB7-689DE25F4EB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BF205-8286-4B43-87F6-642260EF86E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26164-5AE3-43FC-A1A4-BD53A76CCB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8B33F-8C74-4DBE-ACD7-7BC57DF6F30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4A5746-61F3-4790-9B79-9FC6A0BAB67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1047A-D76B-454B-86FA-80D57E157A9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BEBF0B-7307-47F6-BD1B-121D0C0C3AD9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E1AB4E-15F5-40D3-94A1-76F9AD2D0BE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613B40-10E6-473E-A385-6622702A3FC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81DE93-BAC0-418A-B5B6-3F34AB19806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0FB131-9E1F-43D4-B211-7D15569625E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C2AFB2-C13F-461B-AA07-2D65077AB02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90660D-C737-4EFD-9BBD-B17EFA7F06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D12B02-2B16-431D-A52A-BADB0B60DB1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97684A-8BD9-4CAA-9A81-1CCD1775236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512361-E6E9-4BE1-8979-3CD3BE3CA522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89D02A-9699-46C6-921B-8A1D9BB046B8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2AD04D-8F1A-42A8-8867-E417D58709BC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403385-A8FB-4AB7-B2FF-7605E76419B5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89AB58-FFEF-4F45-BDF7-3E8D5D296643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23C02C-DFFB-402E-97A7-FD89B6B0FBBA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706232-9CD1-4929-8189-1BC972D241D7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643800-6853-4994-AB24-3A5CBA6042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F69C15-7AA5-401C-BCCC-A2A752686F95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6B1C20-9B85-43DC-846E-9C2DC2B78333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941FE3-76C0-4876-9576-CD19F7E040DB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C2823E-1281-47DF-ACE3-E34B41C61495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3651C4-5FAF-4E54-B251-14E4489220D2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A1569-9958-4A9A-AFE2-CE06BE8F390F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58EB6-E3D1-41C0-8FA2-259BB9486F7D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A7BE8-4F1E-4C02-89D9-2F931F3BF908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CAB1E-0B48-447D-B182-851C177B23EC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26ACF-3AB2-45DD-84C6-D0509D93EE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47E74-CB73-448D-BCEC-3F6ECA1CA14B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2D98E-DEA2-4CF5-AF50-1A5CF05E1228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01E80-6590-4A89-BE4E-8B44FD27FEF3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041F1-0F6C-4AF1-A6E8-0111F0C124C3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D3C2E-2C24-480A-8B1C-1350AF79C988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301F1-88F8-4398-BD10-1988B6E7737B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EF468-97EE-42F0-ABBD-B5CDC543D5DF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4AB3FE-657A-4D72-8400-7973141A2E5F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A41F8-5967-4288-BD3C-F69D46FC3E1F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A4338E-C0E8-432F-A4CD-D61D9FF48A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5775AA-A294-4B15-A0B9-12072F240628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B368C6-5E95-46C9-B799-0CD7E23CF01F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E781D9-D820-42AD-A793-022D6A1CE706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804523-5DF6-410A-950C-13E0F93A739C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2A882C-D9B6-4BAC-983D-C8D78CA45873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EBD0DB-9833-4E20-B837-2038DFF1FB02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09F555-644C-4C32-88BB-DFE5F7F0E1F3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D49697-D90E-4A01-80B6-23A794442551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C6122-BB83-4F9B-8A89-DB31BAD74B6A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A52A1E-E404-49B6-ACDD-1CECC3A690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44ACD0-8851-4CC6-AD1B-D77D2B1F06B9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BF1E1D-F6FC-440F-ABFC-20C3D14E22E2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A6E7CF-20A9-43B2-8C82-6FA263B3F4ED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D8FBE1-B13F-46A5-98A7-78D67A6AC8E2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064C64-DD2A-4054-AEC6-23F3231234FE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4124D5-0E4B-47C0-97D3-673371BABC97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6EB418-120D-4298-A663-38B26916FD7F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F39A53-F80B-4EBC-B434-4595424D8741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972751-25C9-44B4-9FBE-50DD3095883C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7E0E49-8A40-43C2-9DAB-D4171AEC79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075F57-C691-4E6E-AB28-943745E416C6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53D7C-31AD-4213-9A6C-FE2A1197748A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C7FCC-3F28-4E3A-8E20-A7FC51C53FDD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74F60-3535-4EEB-A2FE-DE4197C71C6D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EC301-AAD4-4AA9-8BC6-8993E465CC18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35E5B-DA3B-4780-8186-92F4CD0A0913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90758-3AAF-4955-A5BB-6BCDB35E3F0C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3B311-CCB1-4375-B49A-3C19F0936FA0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6286B-2801-48C8-86FB-F5C7AB12E986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2B25A-BDB8-457E-8357-5149141393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4F551-F320-4537-A4D0-5F715B615C68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58E05-F3D1-4C16-8B45-C542638C4E4E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1BA51-8370-4C9D-AE08-E1B7574C4869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154328-9074-4598-B40F-A41E6F0007DA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9B65DF-E2DB-4685-BF20-540E617A8B7F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FC3A57-ABED-4498-8B1C-5FA463689684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AF7453-C215-4532-9185-A2DF674B5A79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09CC7A-83B2-409C-AC73-ECB7A1799434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359CD8-FED3-41AB-AF08-74A1FD440437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83AA93-7D2E-4AF0-9997-0E60E92603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5BE0CE-4C8D-4E7D-A692-3F7A5A86D310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8D4469-9562-4D67-9B4C-55E1991E03E4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428DBE-02BA-4267-AEA1-F47ACC454F2B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652C48-69BE-43E6-BDFA-EEF90932078A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437BB4-916A-4522-AB2E-DDEECDEB7820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F3113F-00F3-44D2-9B6E-01BB1AA5A978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DE118F-1116-4106-9A66-06A81D935C53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1795DB-8618-4F22-BBE1-E4C864FAD8E6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0BA5BC-E430-4316-8836-24A9EBD6FB0D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E5F026-B39C-4AA9-A047-627A17D248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9EA5B8-0DEF-4037-BF41-992FC0F2FC98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D251B3-40F7-464C-90B8-FF6C4ED5F4B5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3F81F7-8AD8-424F-84F2-5D7EEF67EF76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052D7F-C506-4439-BA90-0C9F92CA6BF6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DB7C35-3B6E-4A52-85A7-EF7E363A1E7A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7CDD09-C53D-42C6-B88B-7DDE343B2C16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7C4D03-2560-4636-89F9-1EE6FC982C07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D5E57-1921-4061-B09E-E76C56F835EB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B52D2-62D3-49CD-92B5-822BEE6653FD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EA151-36C5-4B7D-BE62-73E2C9B34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3D2A8-4B32-47E3-9633-EABDF0059BA2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4B9B6-6247-4E70-BC84-D7369CB7E22C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B7FCA-0B2D-4FC9-84FB-CBC6FE24B4F3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E363D-3965-492C-AEA9-A569FFF9DE95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E647B-4C9B-4CD3-8E46-F4345B5A8D17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08B35-456E-402B-AC31-6C3B8664F826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77ECC-B64C-4675-B9D2-EADF82AB1E7E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A3E13-0CA7-4272-A2EF-95A097A03AC4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1BFA5-5833-4B2B-9E81-24C38B4F28F0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A9BB9C-3968-4DB3-912D-0E7DEEF01A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8B3080-577A-4EAB-8923-A23928293CAD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A9FC87-2969-4F51-8A65-343443D65DF0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5194FF-5ED7-402F-88CB-B4A14EEAC3D8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AD7319-7593-4E33-815C-CE99900FAC41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61386-8120-4E7D-9F25-B5582AF2BA2E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6EAD31-E0C7-4B73-AA65-8C72110F3040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CFEE1-2170-411A-BE0D-0483081BDA45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80F1B7-D1BE-4F5D-9B3A-0911E58BBB90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7DD1B1-FA51-4E74-B759-6B0FEAFA2817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416BE1-12AC-425C-BDF6-0972129DAC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6A5DCF-4286-4921-85AE-95CAA38C4FB7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E85B22-EE71-48B5-8777-27527BE93FD9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B4E6AD-E52F-4794-B8FF-F959F94476E2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79703A-7643-456D-8EE9-5F042441179A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D64CCF-D678-43A9-BB56-11F54FB548F8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356EDA-3849-45BC-BF0A-2C518424AAF4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23183B-4C47-4C32-AE3F-6F27E93CBBBA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EB9F57-AC0C-4074-A09F-43ADF5B41F0E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5C1F5F-1015-4420-9849-0FF14B7C1A2F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AAB0B33-239B-4E94-A40F-818302AB46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442523-05EA-48E1-8F52-A19FB51F2FA6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E08EB6-B433-4948-8D7E-56CE04398FDA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BA2708-6E10-4E44-B0F3-6671F86A49DE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09812-CBF4-4066-A5C9-9419542C4A80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39A42-247A-48D6-93E3-32F01075FCFD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BCA3C-0D7D-4A58-B0B0-83E5652A1FC0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70B0A-8319-4CDF-BB78-6B90FC85172E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A1128-3B57-43E2-BDDC-5996DA25A5FD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04307-AC41-4AB2-A1A2-A9C143256C40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597A8-FD8B-4CAA-8804-CAC00AEC3CB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5F330-7804-4824-8953-553E966F2909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FEC77-50AB-41A7-B6D0-42EC3D6FF804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0EA95-E681-4E4E-8C17-B6669CF7F1BE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29673-FE12-4BDE-A200-18E02B018289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67589-5DD7-4D5B-B6A7-86EEC70D76DE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EBA5CAC-3F50-47C1-9CFC-B1773427D7EF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C21606E-E38F-40B3-872F-957C0029BBCF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252F71E-56B0-462A-820C-68FF5FDF59E6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18F4B27-9B10-4516-8BFA-B00D41396ED9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39A24E-F440-4D1F-9D08-0A895DCF775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03D2FB-1EA4-48C9-8426-5884E1F1E5A5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A835C6-ACD3-4716-B783-258459F6C927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D158221-8A6F-4839-987B-31A08754BA10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49EE8F-4E6E-415C-A338-B5FC6C88FF56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698E3AC-1742-4D1A-899E-D02408973BDB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673005-6A73-4A7D-B17F-D491CE2FB483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2657015-92EA-423B-B8B6-942466DD02C1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35722A-3025-43BE-BD09-6E935FBD55F2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A5A1D7-4EA3-4817-9FE3-70F6131A0775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D410F0-E08D-45AD-91E2-53F9359D17C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1FF44C-35F7-4F31-8D48-EBC8AA3C3BC6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9D4031-E66F-4905-8AF0-940707713D76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E9EFE1-62A5-41A0-A356-21D52E4C8CF2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11D2AA-929E-4EB6-9C20-6F3BB7DE8311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25560E-2123-4076-BB39-D1D11D45FD15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1360E3-97B9-481D-86E3-3771CD0F07DE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9457D6-7D91-4CC1-996F-A811EDC58107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D29A78-4F3E-44E8-A4E4-2DAC17F4BBB2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200C6D-4F97-4F79-80C1-DA7666435E69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0CEE7B-E55A-4226-9F15-EF2F58BCCBE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F2AB1C-790D-429A-88A9-FD7628FB8AF7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86B9B-AA23-4D82-B3B8-2D90B348D51B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78EE94-7F55-46F1-8254-84DFEC0690B7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487ADC-A0E0-4F22-B652-F39677DA4961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00AE5-2CF5-4314-B716-C59A041D054A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8E42CF-AAA5-4E86-B238-228FDBCDF8AD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5BAC92-DC9F-4524-A5B2-160B1836EC2A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AA567-3D04-41E9-905E-071DD18E8D77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C9D5C3-75FF-4247-9675-24651F6FB44B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58EEC-1214-4F23-81CC-88D019319B0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15FE8-C909-4C7A-B561-E40E8CDD3B90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D5FE8AC-207F-4F77-984E-56BB2948AC0A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41BEFF8-3F8C-4B05-931F-68BB8C51ECF9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6698517-D560-49EB-B712-1D9ED7447A1E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BA1CFFC-162E-4EB6-9A19-75A73A36B61C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9A7BC3F-C77F-4350-917B-CC465807845D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6D78751-7369-4D06-AD72-7B5C06C43AB3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2542CA8-B32E-4F3A-AB9F-1704A733D671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45BCBFF-5F18-4FF1-B898-878244D32E7A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D90B964-BAA7-4DEB-9B19-AB40EFF62EA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D78B975-8B4E-47B1-A3D0-646C0109CD5C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EAFFD77-96B2-4489-AD24-5E788F113619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6C6A065-B496-4888-BD7F-7457C488661F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12C410C-0ACD-4875-B920-A74AB7FDE281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15E21A0-44D9-4903-8926-26CE3F3CDF09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5949006-D593-414C-955A-1F3A7B02DD45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1B864D-C7A8-41B9-9C52-E075C69DC4AB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C1E65E0-4B9D-4FB9-94B8-F97FAFBF1B8A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A3FD6E-A707-407A-8BB6-D907FB2C3FE4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C711BD-028C-46E8-9236-D8034F925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03F391A-DCAE-4A94-9F9F-F3ABFB34839E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FE44EB-F7C0-444C-A5E2-D9DB03C8EC23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83E5E5-3906-460E-93A6-7B910B0E1FF7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D4CF9A-1CC9-47A2-A8E9-04AF39008CE5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80120EB-B674-4A84-A530-EC7BA645D111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766BAF-A16B-4C0D-BDA6-4CB6054F6E1A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258054-4456-4AAE-9DDB-7807A5B939F2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8D67B5-5338-4F0F-B2F3-2093457A15AA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6648F3-759D-4C07-B1E6-D10FA3CCF468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A7028F-B3C9-42F4-8E32-F4FA7FAF42F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BDD375-6C8C-441E-B2F6-7B4493135480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2C47BC-4AE2-45D2-B5D0-AF01F408F009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6430F0-4F53-438E-808A-8E15E91601FC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DDDDB-477D-4E96-A3BE-39E63CE9C55B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5DAA98-8863-4E4E-9C94-F518DAD5CDA1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6FF4E0-C713-4272-A64D-5458F0F7BC3F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F549DA-A55A-49BB-91EB-CD6F6B8371F9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4189616-D0EB-4295-BD6B-9C73329238C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14EAB63-BC23-498A-9A8D-9BE447F03820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C340DA9-178C-4811-99AC-F4D9C27EB47A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50683A2-70DE-46B6-953D-42D3BE8A0236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1B7A514-6EF8-4498-B7A3-A2D452E7BAE7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B35633C-05DC-46A9-BBB1-F8FDDAD6CE7F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B4B2853-2551-4EFB-9410-8780D870CD68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3C990D2-20B4-41F4-87A3-E7BD893A4E63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59F520C-00B6-48FC-BBA9-375EF23BF557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9DF47A1-D2F2-4B22-A66F-ECC6FDF143B1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EF68661-2C52-40D4-93D1-9B00D757678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74CC3DB-B887-42DF-B5B7-D1C81DB5BE50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F6B9EA-718A-4C26-B5CC-3D14E8900133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493D34C-3723-4FD8-AB3C-6C6C75ACE37F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CB68B7D-A3E1-40E8-9929-F6940ADED961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8284DF8-851A-45F3-B590-A2C1B73329B3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F5CBB1-5235-430A-BA88-B872E6AC4CCE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A666E3D-6401-40CD-8F10-9C06053876AD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DA6D73D-0FE2-485B-B8E6-F6675D06096F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15320A5-0709-429E-9482-DE8087DBB396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286448-3143-47D9-A455-2EFD6314B26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5B8F89E-BCB9-44F7-B825-2A536A453B79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EEB9156-9CD7-4637-80B5-D7E66208D958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FA6B333-5419-4A8E-9C93-AD9CB6668FD4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453E3E-2377-4DFC-A650-2F3D1FBB4C60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5B4676-8625-4132-A1D0-96AFD4999602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7418B5-AEE4-47B7-8447-7A97FE753A69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DA12AF-E5B8-45C0-957A-D5E5B0FF3BF1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A93B72-19B9-497B-9023-87292486B6E3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BE17EF-C0E2-4D20-B977-F187D4B3A45C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975CD9-6512-437B-B28D-52252912CEF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5BECC4-82F2-467A-88DC-1BA48FD0CD66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47FFD8-17BA-437F-8E5A-3BDE1ED079BD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D8A956-D7DF-41FB-9891-89D8A187FBAB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20592D-79C0-4439-BFC8-A98D6B58505B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6C10A8-E364-41E3-AFBD-A883DD20466F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FFB400F-8766-4878-B092-48AF9321A02B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8F2D0BE-FF4F-44D9-9AF5-26D2ADD39AD6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5B79CEA-730A-4B08-857B-CE88F810A4E7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4470AF6-2659-44AE-B1FD-7C7EDB80FDC0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80A450F-27B9-4264-A26A-4D740E484ED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FEE8172-98B4-4AD2-B3D4-930DCB131969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035294E-85A1-4928-81EF-938E2E82E3AE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2FD6EC7-DA79-46E4-88F5-538CA109D6D1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A849682-7612-4DF6-BDBF-BA99EFBE3207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B411524-EB32-4EE4-92BD-257198EE8FD6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C8D8900-91DB-4F9C-A5FD-48493E33505E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9623F24-877B-4B3F-AE94-31C4FB9519BF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EA44DFB-2600-4548-811B-7EDF545B362F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A039B67-49DA-4087-84D9-183101E1E859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600FB1D-749D-46CA-85C0-5BE6B4BF2A0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26FE334-D9E7-4D80-B76D-F04E7D7E82E0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F0C0D01-35B5-448D-9A2C-52B85044E07B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663B1B3-36E5-4BAE-A6CC-88D25CEA58EF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1A3974E-4C35-4170-94AC-CA18BF9C5FFC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5E23019-8CAE-46B3-9865-21F73D965D66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092FECD-846F-4196-B4A9-57F2F142DFB7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FD996BB-37AE-431C-B0C2-9BCC073E3DE8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560FEFA-8E9D-4484-B366-2343843B25BF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4A5222D-EA0C-4990-835E-5EF2D1FA6C7F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D66BCA-9E84-4C5D-9469-04B1010B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BC6AB15-1D96-415D-B552-079F71F1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4E76EF3-206B-40B1-8DB5-1FF7D13C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D7E0862-A0DD-435C-B557-84D7B3F6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B3EA6D9-DEDC-42DC-BB98-539C6932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9961CDD-CA46-4298-A636-B3630E33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F34ADBC-1A5C-414A-B312-83D99D94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A0137A6-950A-4416-BFFC-412E97DA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353EFDB-BB0D-44F5-8208-3E089FB3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3502C8B-11FA-47C5-B861-3A990B81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C721FD5-C674-4BBB-B998-92A832C6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08B6B15-B921-4B57-8C80-68E7F097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957F3C-E239-4A2D-AC76-FAE8D6ED28F3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00C7E9-DE5A-4B9E-8B01-332514DA823A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C36CEA-A00A-436A-AC6B-E3B74D72969F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A8DE9E-AD52-46EA-B53A-D800580FD192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125DB6-5E10-40D2-A8A7-167CCD3D2EBC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930204-A8FF-44A7-8DC8-77B9D5E31C3C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6762F9-E073-42AD-BAEC-9BBADC28E1AF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030216-F203-41C3-9325-C46A32921C9B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015315-3DD5-4FBC-8FC7-8F3F75A7FE4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9B84A0-E361-4C21-9C1F-45835EDBFA73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649CB1-9622-4015-BF53-4F1A7D0D4FFA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508428-18B8-4032-BC7C-C01A4E48D7EE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0D692B2-C02A-44D4-A0F1-167FE406924A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FBA2148-4C31-4D63-9107-A8774824CBB5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F7250F4-3B9A-4BFF-8537-E86F1FA97E1B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6D18C49-00B5-4F8D-BCDE-66F3DEB9883B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C787CE9-A5FB-402C-AE2B-B6D2D711EC3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254F707-3327-4A02-BFB6-5913F748B531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142F830-CAAE-4B9E-AC23-DC279BF77752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4783D93-0B80-41FD-A9C0-C09C3CCDE3FE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45C6942-03DD-4AFD-8C0A-DC2C7E1AFFAD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1817473-9CF3-4A15-8CAF-C4A7A28A6143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68EEBF2-4A6A-45B8-915C-711E943D2281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85939AF-D1D2-425A-809B-096EDC4F9AC1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26F1D4B-3096-49D4-8AAE-81FD2C274D6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FB81367-BA47-439D-8B55-A4AC98D04C66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8F3AD0B-0868-4708-A73B-085B15EA7DB6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54B0A22-A47F-422F-B6BE-671007D2AB84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37B97C2-1A71-4672-9A48-9E1BDA869E60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1DE0451-E2DF-425E-8436-5D8138541D01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81E6611-4FA4-4A09-AD0B-2A2DDC98729D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526C7C8-9738-4408-AF57-1D2616F2A389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06CFC99-50A7-45C8-B5F2-D73462480997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10FA0DD-24DF-4415-8377-94DBA6838148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D85357E-A0F2-40BC-B254-4BAC0A0CC6A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EEA9A81-6BB4-4F14-95D6-1E4C2813441F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9B0413-2DB0-42CC-AAE6-B80D66DAFA97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4B1669-299C-4046-82E4-82C748AB5B67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46B0DB-8503-46E4-8C2F-6E66FADB5073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D04503-0AF7-4C78-AE3B-DF31FCB52FB4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7C84B2-385F-4811-BFE4-3DE98D9D95EB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9D2EA7-C08A-44B8-BB7E-59AD8A487DAC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65F00C-C522-409C-8F98-DAC91802D489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EB61F2-06F1-4BD0-B40D-52DD4AED50AF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6983D2-6DFD-4545-BE55-BC17232D81A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DA9EE4-6AF7-412C-908C-A37E79A15610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D29E80-8624-4EAF-96DD-19665BD32475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CFFB2C-7A8B-48D1-B54A-EFB69EF08EC0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D8C4BB9-B884-41D4-8E76-B4CE4B062E6F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0A15E42-0B92-4551-9A47-9B1D13C49DAF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6A621CB-D02D-4E9D-B759-931EEAA2DD77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16F3794-C552-499D-AAF4-FF081B53269D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064727E-24B5-46F0-BE89-8A0FED2A12EF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8AB65C9-57F2-4EE5-BBD9-3F94348293AA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45A550B-08F9-4431-961D-E8D125E2C34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1E48E99-95AC-464C-8164-E7BA6E42464C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F0466B1-97F0-4B1E-844E-87A101C90002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9BB5658-095A-42C2-931E-72979DA01613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8365DB7-74C5-4DF4-A8C0-DCC1131A7DEF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B1CCC9A-9FA7-4E29-8750-04C9C778B467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7C88A27-AA38-4332-B1EF-C9BFFFEA0DAF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AB70496-2059-4936-AB16-B12A92D3274A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2E73757-7098-4EF1-83C8-F099B490AA03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E7C63C2-8272-4171-80DB-7E9471BF657C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CFA91CA-7C2C-402C-B27D-418995F6ECE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AEDE209-9853-4072-AEF0-ED65F5DF4668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095AFB9-C19B-451D-A838-1ABAC1A5A826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9ED3A84-4735-4EB2-A9D9-5F2C695EF027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1985F79-B10A-481B-B346-5F169511E5AC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49BFC1D-4D32-4F84-8BD4-AA8988CCFE82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69B31CF-DBD5-4981-BB14-7E6DC27E8789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410C4D3-FCD5-46C2-A7A8-13940F5B90D8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6CFD6B-10C0-4C6A-9F7E-BEB842A50131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93B78C-58B7-4121-8228-7C07677280DD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2C5156-D655-4B5A-9B85-8CE4F8507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D957BC-B709-43F1-A606-F414898DA77E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4A6BF7-69CE-4386-9007-ADE66BE82D21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BEC375-12F8-4EC2-BB40-8ABDCCCA626D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E37B53-EE5C-416A-85C1-CEB1A033BF98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898B24-067C-4AC7-B4E1-5FF0CD5A0CC1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849C71-9954-46EF-8ED9-F53FF1D9BD00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D565B4-69EA-4044-BEE1-0839A2739CBD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FD5A6E-246F-4E3D-A940-CED867E02464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1EBBA7-07DB-4333-A672-E8A7DF01879A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DE57E28-2EC7-4C73-BEC0-8EE20A31E34E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5418F6C-F08E-423A-925A-4EB7C69B78F7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19F8357-AB95-4C13-A240-21261EC047A7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270BD24-6BD8-4D80-A7FF-E53D7DE08EF5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B0BF045-34B1-4F32-8757-273BFB93A66D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F2AEFE9-ED39-4685-88F2-25C502393B34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5E01B85-E7E9-4820-B612-80F1680308D6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133C1CB-AA58-4568-8764-E522C8742600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DB9D75F-E194-4833-9B58-98FC7D56CE4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88E3-03EC-4088-8947-266EE884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F8ED6D1-D1A3-4815-9CED-F1A55B6322FC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50158E1-3689-4F2E-8E87-CABA7B782296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F021A65-0BA7-4A2C-A07F-CD0250D548F5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55D46D2-072F-4703-92A2-C155047EA612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BD70206-3891-4E02-B373-FA2B2B87F0B9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AFF6D3D-1C4E-44A0-8580-5B1D9DFEB27A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B53E8C8-05C4-4612-AEE2-DB359D711939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031B1FF-7674-4860-920A-369641A76A7E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9E93A37-ABC3-48CA-8FD6-D195283286A4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B7AD5F3-81F5-4716-8ABB-7C312C6274B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6E2F-F198-410A-B72E-E34358AD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A23683D-FCAA-42CF-B328-70BED6B75D00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440D32D-6AFE-46E5-84E8-A19D688580F7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0D33D96-F581-4DB6-91DF-B3955576EC0F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54035B1-2E87-410D-B694-A2E6D5C74BBE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4467A23-3FA4-4682-8438-25AAF0052DA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6276-6DCA-498C-81AD-CED8BEB2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BBC6-F10B-4C8E-84F1-DE486122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CC91-BAEC-4AE0-9E1A-64057865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3F52-0460-4718-A27D-4AA31791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4B11-2C69-449D-B3C1-7DB6747E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2F1B-F731-4119-8465-FF68BB43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15E8-05CD-4A99-9F0C-E609B3E0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5861-C663-49ED-A664-F8942DE3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3CDE-0E34-4693-9C6A-DDA70A72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F4EC-C5F8-4B38-82F0-0102DFF0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32937-E674-4CD2-A6EF-76AC9344501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76D15-355A-4ECC-A062-C6748189003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73FFA-CA33-480F-B74F-61798CD560A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41834-2ACD-49D4-B3FA-C6C09DF45F8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68E4C-57AE-4474-8122-AFB2604F3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54A3E-8748-4B85-8EE8-347271D7C5E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A1980-5786-4BC5-9FFF-092C7C3F725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CAB31-391D-431B-B414-D451C8B8AD6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A149C-5BD4-4C22-9286-F63A734B5F2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CED2E-E13F-4599-A709-87E00CE7F6C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6FB0E-C1F6-4684-B87A-4D5262291EC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9EC32-4D6D-4B45-BE65-15C1383C2DA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D98F4-316D-4E9B-9DC4-724F0563219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6F8B1-478F-4772-8868-36E60B90FCF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FF93F-2801-4A3E-B25B-B0B2D0A90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9859D-B975-4CDA-B9C2-D1C45B92CFC8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F3387-3281-4540-86E4-5020F13AF23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10B50-AD7A-44F6-8A27-4E79BC73C09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6CB66-2B17-4F00-A340-0D3B64B99C3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56C167-0754-4494-9C9A-CE0E4507856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791D8-4EFC-49D0-8A29-07BAD3CC2CF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DE98E-4EF4-40FF-A590-9DBDE63372C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EB2EA-A1EF-4FD6-ACBF-A2BE94373502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F9A09-C31E-47CA-9767-2F15459B1CB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E006F-4AC3-42FD-A5E9-EB6D9D70876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8B814-6C5B-4366-B674-2445D55E2AC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A0209-224E-4A5B-AA9E-924F3C93B92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D9C90-9CA9-4AC8-A1E1-C112D56358B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A2F47-C803-405B-A57E-39EE8049636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18E42-AF30-4CE6-8834-CC567E6F63C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52AD6D-F3EB-4AF6-BABE-26F0F48850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8BB418-ACBE-43B0-8C68-B5E69B5E02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CAE80-DF25-4BB1-9318-EE02B6587A3E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E737D-BA43-4AC6-9014-42F9F41CF2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C80E7-F176-41C6-9E23-4F53BEFEA6F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5301B-E89D-4A7C-96FA-56B184ADE1F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A0FAE-6AE2-40E0-A997-65ACFEF1261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D0F10-DDED-4E1F-9A19-7362FF9A35D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A343D-5E5E-41A4-AEF3-D43542B01BC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42317-CB44-4A3B-8DE9-811BA588ADF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40FB0-394E-4CB9-B46B-F0F59F8634C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FFEEA-7D03-4745-AEF7-2680CE0FDD4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59A974-F754-49D3-8856-10BF2734128C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CBF8E-0BD1-48A6-BC38-25AF29836F1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95F1A-6FEC-47A7-B765-CC60B89F45A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0CE87-D795-4127-8EA6-F134F54A4A3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77E4F-DFE6-4D0F-A9D2-78B1D00D4801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13B24-C8AB-4CD5-AD43-8630C1186858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98B8D2-599C-42CD-A7A0-DE620A0A99F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37FD97-097B-4527-81D3-4CF72ED0B0E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3A9D30-9DAA-43C2-B2EF-5FEC3839D74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34FD3-3651-4A49-8692-6806BD98710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38B3A-CCAF-4379-A3E4-B8F54817D710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50F778-1711-42E8-B552-08C7323C097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F3D94-213E-41F6-8C4E-FD54D606895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63C78D-7636-4FB3-9513-E03E2D213C1A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30D6F-E397-4051-9C8A-AD083E8CE68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10034C-438A-4D52-AA96-DC1198F2ABE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938D1-E36E-4E2F-BCE6-8B92E691D5C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24E8AF-A380-4E59-AE2F-117803807EE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s://community.icann.org/display/alacpolicydev/At-Large+Policy+Development+Page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afri-discuss@atlarge-lists.icann.org" TargetMode="External"/><Relationship Id="rId2" Type="http://schemas.openxmlformats.org/officeDocument/2006/relationships/hyperlink" Target="https://community.icann.org/display/AFRALO/AFRALO+ALSes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ALAC, At-Large and AFRALO: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Working to Help Shape the Future of the Internet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Dr. Olivier Crepin-Leblond and 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ijani Ben Jem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Questions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385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The At-Large Community -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Representing the Perspective of the Internet End-Users a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Local, Regional and Global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Slide Number Placeholder 2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E1E8D-78C7-4584-831E-A04396BC07D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Rectangle 1"/>
          <p:cNvSpPr/>
          <p:nvPr/>
        </p:nvSpPr>
        <p:spPr>
          <a:xfrm>
            <a:off x="1371600" y="203976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What is the Issue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Rectangle 2"/>
          <p:cNvSpPr/>
          <p:nvPr/>
        </p:nvSpPr>
        <p:spPr>
          <a:xfrm>
            <a:off x="2133720" y="31068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Moving ahead with a PDP or not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Rectangle 4"/>
          <p:cNvSpPr/>
          <p:nvPr/>
        </p:nvSpPr>
        <p:spPr>
          <a:xfrm>
            <a:off x="4572000" y="310032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Assess / Arm WG recommendatio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Rectangle 5"/>
          <p:cNvSpPr/>
          <p:nvPr/>
        </p:nvSpPr>
        <p:spPr>
          <a:xfrm>
            <a:off x="6392880" y="203976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Final Approval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Straight Connector 14"/>
          <p:cNvSpPr/>
          <p:nvPr/>
        </p:nvSpPr>
        <p:spPr>
          <a:xfrm flipV="1">
            <a:off x="4495680" y="1922400"/>
            <a:ext cx="0" cy="363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8" name="Picture 6" descr="At-Large organizational structure_better margins"/>
          <p:cNvPicPr/>
          <p:nvPr/>
        </p:nvPicPr>
        <p:blipFill>
          <a:blip r:embed="rId1"/>
          <a:srcRect l="4399" t="5266" r="6034" b="9829"/>
          <a:stretch/>
        </p:blipFill>
        <p:spPr>
          <a:xfrm>
            <a:off x="328680" y="1442880"/>
            <a:ext cx="8704080" cy="53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Content Placeholder 4" descr=""/>
          <p:cNvPicPr/>
          <p:nvPr/>
        </p:nvPicPr>
        <p:blipFill>
          <a:blip r:embed="rId1"/>
          <a:stretch/>
        </p:blipFill>
        <p:spPr>
          <a:xfrm>
            <a:off x="1362240" y="1469880"/>
            <a:ext cx="6978600" cy="5369040"/>
          </a:xfrm>
          <a:prstGeom prst="rect">
            <a:avLst/>
          </a:prstGeom>
          <a:ln w="0">
            <a:noFill/>
          </a:ln>
        </p:spPr>
      </p:pic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3487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You Can Contribu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elp Shape At-Large Policy Ad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1" name="Picture 5" descr="ALAC - SF 2011.jpg"/>
          <p:cNvPicPr/>
          <p:nvPr/>
        </p:nvPicPr>
        <p:blipFill>
          <a:blip r:embed="rId1"/>
          <a:stretch/>
        </p:blipFill>
        <p:spPr>
          <a:xfrm>
            <a:off x="617400" y="23446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2332" name="TextBox 2"/>
          <p:cNvSpPr/>
          <p:nvPr/>
        </p:nvSpPr>
        <p:spPr>
          <a:xfrm>
            <a:off x="2928960" y="2290680"/>
            <a:ext cx="5576760" cy="33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20 Statements in 2013 to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Key Issu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2013 RA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WHO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P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ID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Stability and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olicy Development Workspa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2"/>
              </a:rPr>
              <a:t>https://community.icann.org/display/alacpolicydev/At-Large+Policy+Development+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Policy Advice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Statements an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0233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Rectangle 3"/>
          <p:cNvSpPr/>
          <p:nvPr/>
        </p:nvSpPr>
        <p:spPr>
          <a:xfrm>
            <a:off x="380880" y="833400"/>
            <a:ext cx="860112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+16 Working Groups – open to all members of At-L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Issue-based: WHOIS, New gTLDs, IDNs, etc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Activity-based: Capacity Building, Outreach, ICANN Academy Technology Taskforce,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ject-based: At-Large Summit 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5 Regional At-Large Working Groups – serving as the umbrella to the over 150 At-Large Struct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vide key bottom-up input to the ALAC through channeling ALS feedback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6" name="Picture 1" descr="7453485972_9706203f93_k.jpg"/>
          <p:cNvPicPr/>
          <p:nvPr/>
        </p:nvPicPr>
        <p:blipFill>
          <a:blip r:embed="rId1"/>
          <a:srcRect l="0" t="23093" r="0" b="0"/>
          <a:stretch/>
        </p:blipFill>
        <p:spPr>
          <a:xfrm>
            <a:off x="995400" y="4235400"/>
            <a:ext cx="707220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22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presenting the Voice of the African End-Us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8" name="Picture 2" descr="AFRALO: Dakar Showcase 2011"/>
          <p:cNvPicPr/>
          <p:nvPr/>
        </p:nvPicPr>
        <p:blipFill>
          <a:blip r:embed="rId1"/>
          <a:srcRect l="0" t="7713" r="0" b="7713"/>
          <a:stretch/>
        </p:blipFill>
        <p:spPr>
          <a:xfrm>
            <a:off x="304920" y="2590920"/>
            <a:ext cx="853416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 txBox="1"/>
          <p:nvPr/>
        </p:nvSpPr>
        <p:spPr>
          <a:xfrm>
            <a:off x="2997000" y="853560"/>
            <a:ext cx="5059080" cy="58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Input into At-Large policy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Capacity Building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Capacity Building Webin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online education modules – to be develo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Outrea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CANN Meeting Showcases and Rece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Broch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/AfrICANN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ntribution to ICANN African Strateg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Organization of IGF Pan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76262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85A777-F1F7-4205-8CE1-A80F5E23F6C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2" name="Picture 2" descr="AFRALO: Dakar Showcase 2011"/>
          <p:cNvPicPr/>
          <p:nvPr/>
        </p:nvPicPr>
        <p:blipFill>
          <a:blip r:embed="rId1"/>
          <a:stretch/>
        </p:blipFill>
        <p:spPr>
          <a:xfrm>
            <a:off x="184320" y="1036800"/>
            <a:ext cx="2633400" cy="4101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 txBox="1"/>
          <p:nvPr/>
        </p:nvSpPr>
        <p:spPr>
          <a:xfrm>
            <a:off x="680760" y="1268280"/>
            <a:ext cx="75898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Monthly Telecon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I-Discuss Mailing Li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1"/>
              </a:rPr>
              <a:t>afri-discuss@atlarge-lists.icann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Wiki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At-Large Structure Workspa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2"/>
              </a:rPr>
              <a:t>https://community.icann.org/display/AFRALO/AFRALO+AL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Leadership – Representing AFRAL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Officers: Chair - Fatimata Seye Sylla; Vice-Chair – Tijani Ben Jemaa; Secretary: Aziz Hil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LAC Members: Titi Akinsanmi, Yaovi Atohoun, and Tijani Ben Jema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F732D-21D3-450C-875E-B7BA2874367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 txBox="1"/>
          <p:nvPr/>
        </p:nvSpPr>
        <p:spPr>
          <a:xfrm>
            <a:off x="396720" y="1267920"/>
            <a:ext cx="79948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Monthly AFRALO Tele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AFRALO and At-Large Mailing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Join an At-Large Working Grou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mment on At-Large Policy Advice Stat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sk for Additional Information about ICANN and At-L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Beginner</a:t>
            </a:r>
            <a:r>
              <a:rPr b="1" lang="ja-JP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 Guid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LS Starter Ki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28320" y="321840"/>
            <a:ext cx="80629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to Help Shape the Voice of the Internet through AFRALO and At-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8" name="Picture 4" descr="http://farm4.staticflickr.com/3306/3559459694_af51a8166c.jpg"/>
          <p:cNvPicPr/>
          <p:nvPr/>
        </p:nvPicPr>
        <p:blipFill>
          <a:blip r:embed="rId1"/>
          <a:stretch/>
        </p:blipFill>
        <p:spPr>
          <a:xfrm>
            <a:off x="519120" y="3657600"/>
            <a:ext cx="7994520" cy="317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Gisella Gruber</cp:lastModifiedBy>
  <dcterms:modified xsi:type="dcterms:W3CDTF">2013-07-08T17:20:06Z</dcterms:modified>
  <cp:revision>100</cp:revision>
  <dc:subject/>
  <dc:title>GNSO Policy Issues</dc:title>
</cp:coreProperties>
</file>