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</p:sldMasterIdLst>
  <p:notesMasterIdLst>
    <p:notesMasterId r:id="rId64"/>
  </p:notesMasterIdLst>
  <p:sldIdLst>
    <p:sldId id="256" r:id="rId65"/>
    <p:sldId id="257" r:id="rId66"/>
    <p:sldId id="258" r:id="rId67"/>
    <p:sldId id="259" r:id="rId68"/>
    <p:sldId id="260" r:id="rId69"/>
    <p:sldId id="261" r:id="rId70"/>
    <p:sldId id="262" r:id="rId71"/>
    <p:sldId id="263" r:id="rId72"/>
    <p:sldId id="264" r:id="rId73"/>
    <p:sldId id="26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notesMaster" Target="notesMasters/notesMaster1.xml"/><Relationship Id="rId65" Type="http://schemas.openxmlformats.org/officeDocument/2006/relationships/slide" Target="slides/slide1.xml"/><Relationship Id="rId66" Type="http://schemas.openxmlformats.org/officeDocument/2006/relationships/slide" Target="slides/slide2.xml"/><Relationship Id="rId67" Type="http://schemas.openxmlformats.org/officeDocument/2006/relationships/slide" Target="slides/slide3.xml"/><Relationship Id="rId68" Type="http://schemas.openxmlformats.org/officeDocument/2006/relationships/slide" Target="slides/slide4.xml"/><Relationship Id="rId69" Type="http://schemas.openxmlformats.org/officeDocument/2006/relationships/slide" Target="slides/slide5.xml"/><Relationship Id="rId70" Type="http://schemas.openxmlformats.org/officeDocument/2006/relationships/slide" Target="slides/slide6.xml"/><Relationship Id="rId71" Type="http://schemas.openxmlformats.org/officeDocument/2006/relationships/slide" Target="slides/slide7.xml"/><Relationship Id="rId72" Type="http://schemas.openxmlformats.org/officeDocument/2006/relationships/slide" Target="slides/slide8.xml"/><Relationship Id="rId73" Type="http://schemas.openxmlformats.org/officeDocument/2006/relationships/slide" Target="slides/slide9.xml"/><Relationship Id="rId74" Type="http://schemas.openxmlformats.org/officeDocument/2006/relationships/slide" Target="slides/slide1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dt" idx="6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5"/>
          <p:cNvSpPr>
            <a:spLocks noGrp="1"/>
          </p:cNvSpPr>
          <p:nvPr>
            <p:ph type="ftr" idx="6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6"/>
          <p:cNvSpPr>
            <a:spLocks noGrp="1"/>
          </p:cNvSpPr>
          <p:nvPr>
            <p:ph type="sldNum" idx="6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966567-9D67-4A40-8E31-1D6C2F03A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A86B78-BDBF-4214-ABA7-B493AC091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B3CB9-4873-4655-8959-CE7E55BA3F6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D7C80-A9AA-4AB0-9BB9-9D21F2A4A6F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C3D5D-C8C9-47AB-9AC3-DC70B3EEAA7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A62E1-0F34-4155-84FC-B74AF7CA48D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370B4-92B2-4F30-AAE3-EDC9C3303DD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B70B3-0AD5-463E-BD4C-4B4A8CC837B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8874C-ED70-4947-9714-70BEB7EE99C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AB6AE-D3F3-427B-A832-09DD4D654DC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13BA6-8521-4735-A63F-7BF999D9D1F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96B5-367C-4B0F-8A1F-8A7F08B6A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E2DF-218B-4ABE-9886-51B0E177BBE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8006-E520-4625-95A0-6C41171348D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CB08-23B1-425C-8F98-63083D50632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FB97-15FE-4A3C-B16F-80067BCA2DE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BD81-234A-40BC-9993-DA853252C4A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FD90-03F1-4C53-99EB-C82C1EFA33C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39CF-C44C-41FD-B3F2-FB1049FD9E4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7423-4E6C-4CED-BA72-0F0B31266E6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150A-FCBC-4CE6-874F-BCE23FC547B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A2F2-BA10-4828-B622-0DC07B928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8568-AF37-41C4-A28B-FDA3D31E080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E1D725-465D-47E5-B020-92EDC39AEF0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C99180-BEED-4E85-B370-357E4A20F20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A09C8D-B09D-4E1A-9324-4CC47CBE771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2470D4-0C1D-4139-8DCE-67A94173F7A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FDADE4-F687-48E6-9FAA-A4AC5D8E3B0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710201-21A5-4D9F-B4AE-940133AD35E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895AB5-7CE0-4663-91F0-B674C6B7990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908DE4-06FC-499C-8894-636C7038B11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173EF8-A809-4A11-9302-03C0F34CE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50EAEF-0CEF-4604-9883-D2F021F3DDA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BA2B67-ED39-4C4D-A705-E015636AF09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5B88DF-11F0-4988-96E8-0517B978F21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B79AD-8BA4-41AB-B3D4-805456143E9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37CD02-C334-4CDF-BCC9-F117187D236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390DF-D75D-4814-A845-F7F40938516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B62875-F435-4C6A-B116-1D94598C2E2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15701E-17A3-4E7D-BA43-E7A1F2413DB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011BCA-F0A3-4CE3-965F-001EFFF7B4A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6BAEA-E10C-47AE-8D32-7AA7E60408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85B33-9A71-48A2-A664-769D8FA8800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2F5558-87E2-4047-805D-A0AA4E0A54D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B7603-D6EE-4C6B-93CA-0CA6B0F9185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402F3A-CA8F-4577-95D8-61632B38D7D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B0BA2-DF32-46F7-B255-653F1162134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4A8DF-3385-4141-B12D-886939FE08F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713D0-5376-478E-B886-FB4156D1598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AE5BD-6383-4B95-AECA-522367D286B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BD2D1-46B2-4EDD-BCB3-F38FE1EFEA9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B8D88-A602-4DDB-9147-8CDE86862E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C5E08-0707-4528-818E-D1FD217AFCD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8D951-FFFE-4D51-98C0-59D97DA7138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6714E-7E86-43AD-A441-1CA22CD71F8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5992A-187B-4915-BBC6-A8CAFAF7A1B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7572C-5823-4E82-96DD-0ECE19F614C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7B936-162C-4CA6-86E9-5F7103F6732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7B73E-BDEF-4E89-96AE-79706814DA8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FF024-AE40-4F12-95C0-FA906901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66765-78D2-4130-98E5-221E5744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AFF4F-A263-440F-8988-BA687C45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FCE63-A717-4598-A552-C2D36B2E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ED50D-A078-44C3-A713-42129932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A145D-FD0F-4C60-ACF3-C9CE615A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4AF5C-E861-46D4-AA56-49C62B1C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5FD7C-E715-4614-9E96-0575A71B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F2F78-A01D-4F6D-AA65-6FECF731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50516-32B1-48AC-A97B-4FFE9B26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95052-0BBB-4FC4-8824-541126E6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79448-FE18-4476-8EB6-57C25775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0C6167-B502-46C5-88D0-9FB93DC68C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51ED08-0374-45A4-ADDA-F7E066CA5AA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C884CE-7DB8-41DC-BE5A-5742F48F16C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82A92F-2D62-4A85-B1AA-2DDE890C768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BAB316-C4F6-45E8-8740-0DA6A5A0E5B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B18643-3585-4B19-BDAC-F668CE11B24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6608F1-D37F-436D-B762-89FD0052373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9ADF46-39CD-4C96-8B84-86F6E5A1B7C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ADB285-D997-42A2-AECB-986FCFC99D6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532F68-88B3-4551-9A88-D7442A6D395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77519C-C31E-4DA9-B1DD-9DDF398C5E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AEF7C6-4A3F-4702-98D8-201D7860CB9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BA87E0-A855-4972-9C56-0D17735F9AF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B76D94-B407-4FC1-8B44-0393EB9FA7A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7C7DFC-32A0-418A-BFD4-1B07C7FB3D4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58103D-6923-4FD5-A2E0-B2A276EA82B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8FD30D-D9AA-415C-AF7D-08EEF236F3B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EA55C2-7BD0-4480-9B5E-76660F5994A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F9DD42-AF7A-4BD0-98A1-737BB938AC4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1A846E-FD5F-4BC6-9E02-F55843932EA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730416-695B-49FA-82EC-800A39398D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F7A574-AD2E-4A15-BF0F-AD41214D3EC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ED900A-466C-4C47-8C14-0F898D5AF3D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5A5080-6ED9-4951-89D5-EE0B77061D2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4A9BE-BC82-4D94-9438-951742FD05C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57769-F77E-4650-910F-17C816F0298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E587E-D749-42A2-8B29-6665154F993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8BE26-0FAA-47EF-BB75-F08AD4466F0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8F496-FE04-48D1-86FD-2B66C1E5252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B254B-8EDC-4368-AFBB-D638CAD696F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8F8EF-A754-4994-B441-215BBE1CBB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161F7-C260-4F4F-9DF2-5EF8829FEE3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6C966-2439-491E-86D7-350C36EC6CF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19518-F4B5-40A7-9C50-F8B26A9A487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1302B-A623-493E-BFB5-30F4ECEED9E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50FBB-E2E4-4A63-A14B-CAAD16EFDF9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17BA96-E4AD-429D-BE28-7E7F6F7A21E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DE00B4-138B-4248-83C5-C1C01C5EA9A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BA02C3-B5FB-4952-807B-F2CFA962B7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5DCC51-CA8F-41AD-9609-9A16C985A08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176FC9-CC27-43F0-8762-F7173F0B2D1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407EF1-94FE-4AA6-841E-7C9D34F3396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6F2C99-D554-4EE1-BD8D-FD53315CE79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949A13-0A2B-4A8E-95AA-19E6B9E16BE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A9C43E-DE9B-477F-A21A-47976586AAA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A9F7BA-DE29-47AF-A7A1-C82365DC058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45A727-9CAE-44DA-8A98-2CF0888446A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AB2DBB-498C-4AD5-B437-3E2BBECC8B3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0D7850-4400-4A33-8154-869A97B3EE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30E486-6171-456C-856E-7702ED66632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690F85-2294-4AB1-833A-2B5D0801BCB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E83C52-FAF8-43BE-AB1E-9CCB37729F1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401390-5A1B-482F-9622-FFD17A34167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223CAD-3720-4179-B280-8621F317281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868C92-71C9-4022-B312-27A6B52A6AA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DDB4DE-32FA-4B89-ACA4-882EDD8424C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027016-D56B-4F4E-BA75-487751FDD12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AF1C04-6816-4C30-BBE6-9C2007E5491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CDDA0E-6327-47E2-96E4-D0742784E0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EE49A1-CA26-45B8-8E6F-FB9B94931A0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F0A9AD-3828-494C-9AEE-8868015E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C066CF-6BD0-41E7-994C-B7873958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C09397-BB77-4C7D-960A-5E256481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EB79AA-0000-4560-85EB-4F6533D7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9ACCA8-1F09-4A99-B247-83C9CBE8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98E47B-1314-498C-BCED-FD7CD6E2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99FE2D-FECF-42FE-B32B-4092827D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CF6086-E203-4F39-A252-4CF0A163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2EFF21-F32D-4EE6-B05D-B0B038AF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C4566E-5C2F-40C0-B910-1701815F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E11508-BBEA-4187-8D30-D55D52AD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DD2DB3-B8FB-4A55-896C-643CC91F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12D8D-6D77-4AAA-93AF-ED110B493A7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CA0C3-3545-435D-B5E2-E34AF272838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8DE3A-F43F-4F1E-8D13-818A3B50B53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26234-1D4A-463D-8C34-D5AB91CBF60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153F6-4AAA-46EB-AFC1-C784C1E478B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06B56-BCF0-4E5B-A884-14E02A02F6E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D8440-AB4F-4E9B-878A-CE561BD899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21D8C-3E45-487B-818A-C93CD64E1E8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E1EDF-06DE-4C7C-80DE-61AB19468DA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AB428-DD59-460F-B049-18EC045C2C0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59554-06EF-49CA-85D8-5A7AEE8DA71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ED432-9346-4584-8868-696FF46B3C5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5A7737-4708-4C01-A2FD-EA4D950B02B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2D60DD-AAB7-4417-9690-9FAB476B1EF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C7DE17-03F4-4351-A650-37D2ECFEE36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B48FD7-2A3C-4EB4-9A13-140E40C605C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1EFCB8-EE37-4876-9218-0703AF07A5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0D786D-9A29-45EC-89BB-B4F3258426B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75E704-6E21-4776-831B-CBAC3B028F4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14E6F6-5FA7-4629-975B-3B6EDFD396B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F389FA-E542-41BD-A447-3DEC8F14EF3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04C80D-C8F7-426B-B110-0ED9165B25F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4B3F58-EF69-472F-B905-69B8113F855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578CB7-A6EC-419F-A0B2-5C8FBB78465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0F8B6A-03B0-40B0-A58F-8B49E8F39D5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A28092-4710-4B14-AD2E-21243A9465A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FC7D16-2AEA-4548-97CC-1032274DDD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E9FAF7-E51A-4950-8823-7F80094D45C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3BB240-1BA3-4823-9D99-9B9CA420EF5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8703D9-F635-4E9B-B464-DF3F9E31FAF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EC4824-FE9D-4B8A-AAAE-BA3AD73C632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96CCC8-FFFA-4B87-BDBA-F969E966F6E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C253E0-8F0A-4539-931E-45C194B2921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25B624-0796-4C3B-8F98-3779685886A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5DB54C-A7A8-4D58-8999-1A83268AAD3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1DDE0D-81AE-421B-B0DD-0560F9E4798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C4F1B-BE1A-4160-BF57-E1A216262C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A1063-67CF-4FD1-BC4F-64F629FC54D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CE68B-7928-449D-A332-4CEE4908A2D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3A472-F7DE-44EB-AB4D-5888E97F0D6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BD0D0-B748-460B-B50C-04123D5CC8A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ED561-300A-453B-8F4C-A85EAFC6092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64796-2C75-4290-AEA8-180D337F9F9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C8A43-12FE-4345-8892-70E58080E28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7C468-B070-4944-9ABA-17115348DB1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C5CBD-F949-4D74-A1E2-71036BE1C05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B471E-D3B7-40F7-87D6-C3445122E3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CC95C-BE68-4248-A4EC-F695A414893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56DBAF-F5B9-4265-88BB-2256BCF61D5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181CA8-B20B-4A66-AA9A-652E0F7F255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D62E70-60F0-466B-BF84-E825223FC53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898F47-65FC-4D44-8F6C-3A505AEF7FF7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1658F9-6AC4-4928-ADEC-A4659D4E603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764E88-A8B0-4CA0-B9D8-F95383C8579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55ABAE-E82C-4873-B63C-010498BD053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A70142-3A9A-4D30-B9A4-7A2E87742B1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6CE2AB-22C2-434C-974D-A5AA5E3AF4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20A184-51F4-4B98-8008-840B860AEEB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F826B2-129E-4AA7-92A5-100873A987E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58CD77-5E77-406B-B8AA-87C037EA2AF7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52572A-45E6-4E07-9A39-CE1DCDA4363B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6CB8E2-E3AD-42CB-8877-3FDB78BA4287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4B3D42-D050-4832-82DC-C7201B59FBAD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144A10-8615-4CB1-9F17-06E4AB97E3E8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80BBE0-C142-4F10-8D29-2F259F675E28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17F920-EEB0-43B9-A946-31C81A887648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A875CC-2697-435A-A4BE-63A10891F7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5E803A-54E6-4FCB-B125-FF31C22B26A6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50AB56-E44B-48BB-8A1D-47B1FB2C2D5A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AA5A34-4887-4D88-A2C5-7B38A1EB79AA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334F5A-DC39-4F2B-930B-0D2A929143A6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485EC4-29A0-498F-9840-7EA84C918F80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E39CA-0C74-46AE-8CBD-CA75727C26E6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C0000-2D69-4146-98DA-53E4757FBB91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52C78F-269D-4E43-BD3D-D1F2A2519DFC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18613-61EC-4974-BA42-92F8D0B4E8EA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9AF6F-EB5C-4E89-BCD4-237DAC3E49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E89CF-1DA3-421A-B084-C57CC662F671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D5550-285B-4484-AB33-FEDDD1B280FC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3D7A6-ED88-4280-9B67-A8BCCC50CC2B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6099D-5704-4B2B-81A1-DE75EB5CF1B6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3D29B-5B4D-4812-95A6-6514037D0121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FB5E5-1A45-4C4D-A6E5-D9B629B5A2A7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DF447-A6B3-4122-B7A0-91EA0A760D7B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1F181C-A6BF-4541-8AA2-328BCB6A4CD6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520FAC-C0FC-44EF-9541-9E1DCF06364A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7E5EFA-9EFA-4F39-B570-323F4E23C4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49A5B5-4770-4EC0-974A-856ACD33A078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BD1752-5D44-4E82-A9AA-430314E476D7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870B85-6B31-4B1C-9A2C-D58206B656BF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54BB98-86FE-4C03-BC60-8DE221A436EA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A2F622-F787-46F1-A643-6011770B8F28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DAD739-9B48-4065-827A-88BB4E400E00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4533AF-BE2A-4318-856B-2AD37D01D7B9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0ED9ED-C64C-49AC-A0C0-8A838BF170B0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9E0FFB-B618-41DF-BD97-70E935D2B0C0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15429A-71DE-4649-9D53-8898F53D33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B635EC-C5FD-4153-886A-061A55469BA4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F222E9-359A-4273-A2F1-C15717E9B85B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7C34FF-0902-42CB-946C-54F965AE2DC1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0362D1-7784-465D-ABF1-08006CAD6F99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3E7AC4-B7AF-4F2A-A39E-95C15B410FF1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82968A-9174-4B4C-84DE-07AD4D4C5F82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242E22-3566-4782-9ADA-73C065979C11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752230-F3D0-49F6-8B34-362839285A15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EB5970-2A82-46B1-9F77-FB1F5157A237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E01EF4-0928-4E64-A52A-9703EC4E11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73C6D1-4EE8-4E70-A55F-72CF557A7F1A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5521A-10F2-4940-AC02-F7D4FC031C8B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7A061-98DA-4DE6-BB91-5D6D7EFF73FE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DC504-233D-48BD-8A63-213067AA5799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D4D45-9F1E-4D8D-9925-5CE7644AD515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2CDD3-0244-40CF-8469-2E9BEA7D4D24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C64CD-2F6B-4570-B2A9-D6CC34F88B90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2726F-EE6B-4CDB-9700-8A287DA055B1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2AF43-F0E2-4DBD-84AE-BAFD91D6B9B6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5E7A9-4A92-46CC-A4F8-0539739D43C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0D708-C67A-4486-A5BE-43FB52C36D63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C8231-24DA-4096-97F5-480A68A41CC3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B3895-1951-4134-8730-59C64B49BE9C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FADA9FD-06AE-44A8-916E-93BE5D8EDF41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1F8E70-3DD4-4943-8073-42763D2D8D5E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697EE1-62F1-4739-8309-DDEB9D3BE895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FE3B685-56D1-4D03-809C-D02F9591E937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CEDBE7-F737-4383-8510-4D04C50D379A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3917C4-6A06-4DC5-94C3-2AB78FA827D9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3CA0DD-18DD-45E6-9C6A-972CACFF648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A131FA-204D-4198-BF86-7A4CB55EB205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067B85-2AF2-488D-ADA9-3CA583149283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F01B48-5250-4200-92B6-23A8658DD7AA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FF76C6-158F-4B13-9AF6-81F022825213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3E87AF-45D7-4AAB-B11E-477679F3FE09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EB4D28-8F08-47E9-87BB-BE1D7A4333BA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C2CDB1-F177-4749-84F2-8BF6C65A9284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20355F-F708-4206-93A5-F0C4AF5BA805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262E11-27BB-4E25-9817-AE73F8D84972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FBEA38-C879-4A0C-8A37-AEB23F4C1F1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7FEE36-719F-4ED4-8C32-FB52AC26459C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B31E72-815F-4F98-8514-286C2EBCE32A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7085E0-D648-4F68-9E8D-4A0EF57F995B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25A6E2-6415-48C9-9897-91ACF52CE803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55CDAA-B34B-4BEE-8B99-13A4F53A69C4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47870D-70B8-480F-B958-665A397D56ED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DEA019-B25E-4FFA-AA71-7406379FE826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00E11-ED2D-47E0-B594-E002EA4B0AEF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8DD47-FEE5-41E3-B143-C312EA8E43C9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05CBD-7753-468A-88C6-86EA68FFE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0DEAB-C8BC-4EBF-B4AA-DE132D6C7E87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D532D-70CC-46B5-993A-416DEAF303C3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2BAB2-4E45-436B-8205-27CC0D9315F8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80FEF-2525-422B-817D-002C0C03F194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3CD73-292F-4E22-A4E2-804DB1B85C68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19136-1984-4C22-95A7-A39B7FEEFB19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6852C-A5E4-4FF3-A075-2887FB7422DE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765FD-85AF-4A5E-914E-CA7A54107A6E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FA6E6-1153-4FB5-8CE1-237E5D64B55E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A4EB09-9F94-4B61-BB72-911A1747397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274338-816C-4A60-97BF-B3B5EBBB7BC9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A6A400-0A14-49A3-B960-D3C65BD2052E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53A5F0-BBAD-4947-BA28-66C088B92990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1E8A61-09DD-4B71-BA67-6418879EF3AD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99E29E-BD0B-4729-ADBA-08F843FD442A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22B5E0-8804-49F7-A0EE-0BA1DB2B6477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81AB62-923B-4B87-8842-11AC441FB790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99C22D-0F68-4EEF-88BE-F48D6D7FECC5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AA1408-1990-4B41-B125-728EFEF972BD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C6D469-2171-45AF-8F71-7F4461D4205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A92173-4824-41A9-8BF9-79E8212E4137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1C7C5E-363C-4076-9170-47978426969E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2C5835-F339-4531-9A03-4C080AC0691E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8AC640-0D0B-46FF-8B59-6B1ED2A35B21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3F7ED8-B764-4C92-B9AB-C9F92E313065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D83B5E-1C7C-4EC1-BA43-4BC898BD90AA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48C62F8-7548-4B90-B561-F4F72CF7B13D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DB274F-9861-42E5-B671-EB3E18A1CC28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4AA9F7-AFED-4CCC-B462-374776AEFB29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9874F9-8AE6-4D3D-A677-9B81F4BA7B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1C6C2A-8120-46D2-89FC-6BAB77154F91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B4A1FE-3D0A-4C1D-8913-336520549FDE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5A9728-68DF-4FFA-98EF-5669541C2C14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7BC49-E5B2-4D53-9C61-878BCD948B69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4A2F6-6237-44F7-900B-AF8DA9B08E58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4092C1-B6D8-4C77-AC75-DFEF93BED4F5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3EA56-2419-4667-BBA0-278127B1577E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EB5AD-733C-4B69-9EAD-1F2A23271FA4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F8425-519B-46EE-8E4E-B3A04A9FBD94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9EDE1-BA93-49BE-BA3C-5FAE14E8836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2F949-C5CE-4EE5-B884-2B583AF54084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890C5-76A7-4A52-9710-6C753826AE79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D5A6F-A074-467C-8271-26A6103B5E32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B94EC-1C36-4B5D-9E37-0ABC9552EB7F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4959E-A8B8-47C5-87BC-EA346222734E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E95547-4536-4B1E-A7D2-D8F6CA4A8FA6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A88861C-0546-41E2-B677-1EC416BD55F6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34DA1E5-DAC3-46DE-8C7D-B0967C3C94B3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44447BF-D5F6-452C-B927-B4168B3F4349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97B2B71-F843-4B9A-862A-E83AA7FDA0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283A5CF-0C9A-4B23-8DCF-EAB9578F6BCE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23F2004-5AED-40A3-969D-0091637BB9D1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2B390D5-187A-47DD-9AE9-F01042196940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6AED3F3-C4F7-4C9D-A929-2E119CC8CDC4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328592D-8247-49AD-B616-EB3E8C0C393C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0D03D34-3F00-4D0C-8016-079B609217DF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8FEDBC2-39A4-4318-AFCE-2AFABB4E27D1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FB6B85-BF6D-4FBB-ADB3-5E83008B9E85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23B669-A986-40D7-B147-887A1E2FA800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FFC12F-C4FF-48AC-B836-C2781F74C23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B88E27-C48C-4561-907C-DF2066D80798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112FD4-7F6E-4979-A350-3610E19DDFB7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DD1FE4-6194-4ACD-A517-76D734F8FC7F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0E59D3-70CA-494F-BD16-D537799C2476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216F2E-706E-4CFD-8B30-8D3F75A8D92F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B3DB20-67B6-4797-82CB-75994A7DEB7A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E78037-0816-4E70-84DD-5EC045FD88AD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16C9D2-728C-4767-8F37-28D3AFAC90AD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4D485E-2A04-4F99-8429-35A71B46A1D7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72DD13-347E-41BB-9FC8-51055E42C9C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64A198-E1C2-440B-9311-763D726ECE17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34C9FB-B1E4-4514-A8EA-162487A1EEC3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61B4ED-755C-4681-9A41-3435ABB4297F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805E2-54CF-49BC-B562-E7D200E41D96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706DE0-567D-4EFE-A52F-E0218E6D60D9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7B8798-2646-4941-8C19-1CEACA43BEE5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2971E3-5409-4984-BE1B-D1F97EDD920E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9B9203-371D-43DA-B312-9508B7D8BCF7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546999-F7FA-408F-BE0A-252D9EF7B2E9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E9C348-BF40-4073-9A21-15B21EAD2C4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E6B366-AF2C-480A-8C08-EC7ABFF176ED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2D54CFE-AEC5-4789-A0DE-64FF802580B6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840ED10-02EB-428A-A65F-DEE6BCDDC045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20DDBC4-2800-497A-9AEF-29BE5217AA70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D3ECDB8-0128-4A44-AE99-0CEB92900F94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F0D3707-C767-4403-8905-991C76E4FBA7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986FF12-E3ED-41E4-99C4-F466BB778025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4F48D4F-0056-41E3-B381-523F98E46C58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1D61A62-0932-4264-B24C-7E2BE61017B8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1895A92-72A9-4B46-847E-6D8F510813F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87B60E4-A496-4C27-A713-BB6283A0F20A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A57A59E-BA6D-482E-8850-EDD48CB7E84F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1B832C3-6985-4BB1-A27D-B245299D80E6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EFCFF2A-6027-4BF5-BF6F-7F9C38AE53FE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5D79C5C-94EB-40D9-A8DA-88AAB38D6EC7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21EB6CB-54B5-48DA-B711-75B602A452CB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D3110CA-45A6-44F1-8BE0-0B3B54D96D8D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07E41F1-66B9-43A7-8FE2-2C766E48613C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348958B-BE60-4917-B598-F454EA2D7434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E46E4D-0ED4-45C5-BE7A-0736C54C2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092D81E-C84D-463A-9002-69C0DF97239D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D1B53C1-A8CB-48D1-BA89-644F85F1B052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78B63F-44B1-48CC-884A-9466CFD95B7A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95647FE-FB94-4F59-89DC-2A4F4EB0F850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B8FA63-D767-4140-9110-053D9A86A731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9ADD1B-694E-40DB-8116-1939FADA83BF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607A9A-4C92-4D82-AB64-93E623271483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EE13A3-350E-4B65-85F5-814D8217A7BD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FB89D9-B8E8-4E6E-8EC3-80E9330F65A7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9B72C2-EDBE-4BA6-BB94-F19E4C9F37E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A9AB9B-979D-4DBE-8D35-04FD1FF52609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54FB92-0EAC-458F-9388-0CBDE59E4940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77D99A-61C4-40E4-9920-7E1726BE0096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066523-45D4-44CE-81FC-9580D2F8160E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66E4D2-45DA-47FD-AEB1-DB279A2D18BB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4ABE06-CBE2-4AC0-B82F-7A6F63D9339D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1AD5EB-495F-4414-A9DA-844ACDACC40C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91BF064-2772-4792-8699-8C534A00C8E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E53AE4F-09D0-455F-AD6F-B1D1C2F47A7D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4420E1F-8720-48D4-B768-2E320DE63F84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17A91C3-B638-4890-827B-9186E251FC3E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C562DC7-7FA8-463D-80ED-9D574646CFAA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0CD9B78-FAB0-4185-A0B8-60EB0964E3D8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8A318F5-7555-4314-BDE2-0AC5553A60D3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31EE419-5D0F-4E2B-BAEE-699182E5447B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31E910C-2A93-4933-A7FA-B1B3DC4B42A9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E8E2F9A-C0AF-49D3-83BC-A84570C4E386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1627CB5-F1D0-4F94-8F62-DD6C34B479D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DB024BF-635C-4B52-BD7D-047C1614ACD9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A870141-3132-4A8D-B229-2EA4008D4CEA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6C8484C-7A99-4091-B589-C37FEC1999A6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991EB75-24F4-4FF8-81C1-2FB39AE9B75C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0B2B4E9-1E98-452E-9410-4CC6EAFC9799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A009BF1-CE4C-4C08-94CC-801AE13AE87C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69BB8D1-7C20-4CE0-9AA1-EEE81FD385F3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92C1B1D-0E84-4A57-A09F-05B97B8BC43A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EDCD853-A772-409E-A873-C037FBBFF1C6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5243054-AE0D-4DFE-92AD-64BC5EC69C5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D86AF4-9011-4437-A233-BFF45072A967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C25C51-B22C-4460-9FE8-0E9640998A92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7774DBA-C8F6-42BA-B146-177A524EC174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0C96E1-8BB6-4E78-91AF-8BFF46774707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B83D2B-A56B-4F4C-9B52-F02C5AC3C525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3760F6-816A-4583-8D02-EDD9799247C7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52A155-CDD2-41AC-BA98-7100C318CD53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544DA4-74DC-4463-B1A4-06FB59E2C2FA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A41310-DA1F-4012-A58D-A118B366DBC1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A9BE41-F86A-46D0-948E-059C84E8D12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96FC42-EB87-43F1-8269-ABF76F8D0CFE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6BA881-FFF8-452B-8E3B-F8F453BFBBD4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43587E-8151-4A2E-9870-BB489005F7EE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BEF768-9768-4C9E-B347-65BE7CA155BB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D356BA-59B2-479A-A1F1-E62F0857D2A0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139306A-66FC-46B2-84AC-40DB4FCCB3B9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F03B0A0-720A-4DB4-98DB-75328D72487A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EBA37E5-4224-47F1-B311-D03BFEAB76B5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C414275-5354-4368-9930-AD1662E5BA6F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205061B-7225-4066-A20D-34E37CC2F7E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8EED58C-954B-4F27-B19B-8F39FF3AF2F4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A0BB1C5-13AE-41C3-BED6-2468C8801F40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A599205-6AEF-4989-99FA-56690D41DF2F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A87FF7B-D96D-4D5C-AE21-574CBE12406D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F97DB3B-AC3D-4559-99F8-DD90A8970313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638E3D7-EFC1-4371-A66D-14F753314EF1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9F45434-D475-4C40-BD06-9977A4BDD4E4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C144440-5693-4D15-A3AB-4EBA9CD43D9E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D9FA8E5-8A8D-456D-A7B5-B500CED6C995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9E7F64A-DC56-44B0-9EF7-AC3E4AE32D2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A4283BA-54B8-4599-8ADE-150F8578EBC0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6540552-93AE-458C-AF0D-54C28D6B5F9A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17A6950-07DF-4221-B206-CD9491409D5D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D624B3C-53FD-4211-9DE1-E002D0496DA0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F6B8B66-A28B-4C35-88DD-DA3B0C027979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107F9B2-1980-43FD-B9DB-9C956FBDA71E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2629B1B-CF4D-436B-ABDD-03F5DA7FF181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DB2BD0C-E866-4D96-8F6D-9C1006458000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1D41361-96D6-402C-AB10-D2D4AF8C85F5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FA16584-B6BB-4139-8479-97334691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1B44AB9-CDEF-4FCF-8A2F-DFB7DE9E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1A48A6E-ADC5-485D-9881-07C294CD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12218AD-7F16-4370-8D38-7438E975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1EA092D-D8EE-45D1-9F2B-327DAFD6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5E3DF2D-DF90-42D6-8609-36A3C497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F300DEC-9D44-4340-AE04-653983A9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C5F7A60-F8A9-4E6F-8369-6EA0DB34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0732ABA-2042-402C-8918-4F54EC1A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57F32CE-37DC-4CC1-A94E-58A92D2D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A57792C-CF38-4658-B67B-1EF43CFD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B332212-27AC-491B-B274-86CA7159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BCE9F5-53C2-42B0-A45A-5B0F5A1A6569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CD2CB0-5B64-48E0-8A0C-66C9624A587E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BD2337-9AD9-466A-AF78-F8208C7AC49E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C674A3-AD28-4821-AB71-319F9490DB3F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4387D7-F0FE-402A-B01A-D7225DE7D557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828E5A-C338-40D0-8545-A1252F5C7BAD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E05590-7C53-4B17-8144-2290173ADE3F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B4F781-1647-48B9-98D5-C321463B93F4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4B1F06-D6C5-4FEE-9724-3DA1F757AF8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3F7F15-C04E-44A0-94DF-617CADE653E3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D605FC-52D4-465A-8113-E5980D24C641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F029B1-6D91-49E6-B386-459CD590B762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46DC13F-6C5F-4BE5-B4B7-F393A6236F27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710A5F0-1764-4089-94FD-F2CA3DCECD6F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CBB7A04-4160-43E0-A968-DF82BB8C4A09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CAD4BEC-F119-4053-898C-4E4365F85FE6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18CF234-1325-4E0A-B924-CD562A36657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D0E3FD7-AEF1-422A-8F93-BEDC95FA19D2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C6CED93-5924-414A-8078-7A7414F7A29B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5C3DB34-9077-4A22-8D3F-3F264EA53134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BEBA817-9848-457F-B9F9-305AC115E263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C522C7F-028B-43C6-81C8-2CCFDAFE38EF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517EE61-DDA8-497C-A15C-B36550C08D2C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5204B4B-E585-4542-A432-E9533054F9CC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62B753B-4AB8-45CB-8D0C-65E2C920D35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40C46DE-068B-42D6-8B97-5EC5D965E6BE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5DE698C-F3E6-4A5B-8956-E39E4D3E3996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5BD00DB-7997-452A-9DFB-D62B976659F8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8B6A3D9-3FEA-4505-BABF-8FDB7F3BDD67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22DB3BB-5CA1-47B9-8DC5-1BEB7C59ACC2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C59AE7C-DB23-4EFE-8A21-D2859AE48236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D3A456A-A4F3-41F7-9673-6C920612B8A8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07762D1-B373-492C-A372-D8B479BA3650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B5D3E76-9979-40CD-92B7-E1A2F367930E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6EA2016-30A2-465D-87BC-915E9A2C299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557A26D-C7B2-4352-AD91-954DD8692B0D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2B1CEC-9FF8-4528-8268-004A928A34CF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972D52-56EF-4429-9F74-CF69E43D4608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AAB367-76E9-4674-BEA5-D281219B70BA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0D6B60-4B37-4F42-89B4-56D862A27494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73FCAD-BE7C-47BC-8A66-505FC88D0B75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997285-4CFE-454D-AAE6-DAE09591FBDD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15EF27-A576-471B-B056-31C33436222D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B67E43-21AB-4EE3-804C-F5F4E9539BD9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A5134C-54CE-447A-903B-0ACFB559BC6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1AD064-3D76-46C5-BE27-8C43C6016D0A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BFAE9B-8D08-4499-9DB4-E404BD9A0457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E46709-01A4-4571-9212-299083E3F506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9386FB6-BDD8-4234-B286-1367104AA1FA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0258593-0705-465F-A838-8FEE68609608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CB9E1F4-D893-400C-9C2C-29E43E6FA544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F842D6D-4C33-422F-864A-9E3323711D9D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67E4AC9-CD53-40B6-BC97-68B74BDEA8FE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84A310B-AEE6-4915-810D-16B9088FCFFA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6B0F12E-669A-4536-9F4C-25AB322CD79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71FA0C4-0F90-447D-95CB-9495A8450542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3E4B411-5BED-497D-9886-637DF35D7D74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0C9C3D1-BEB9-46CB-8584-5B89B1316E07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1E0B877-6246-4D8F-BCC2-26927A8C147B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258AF57-99A6-48E1-8B02-D830BB2C3A0F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41B3D4B-4BE8-4273-BE28-5DCE6C7432E1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06BA8B8-E1E5-4334-BD42-33311ACCFB2B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C6B878B-2E17-49E0-B59F-24BAEBAA08DC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B3D442E-7FA8-46F2-ABA0-AEFDF3633E42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95268F7-8A58-40AB-B1A9-B6078EE8CF9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58BFCED-CEB5-465E-AB47-27078F5DE8A0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E599E59-6828-43F9-97AF-6559F0F048F8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AA74D55-E86A-45B0-B58E-1A43671151EA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DE9E8BB-1BA0-43D3-9020-7786CBE71BA4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A4DCB06-6950-4047-9C61-94DFDFA6DB5E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CE79106-5488-487F-9809-FB4CCC3BA081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4AA3064-1110-4BA0-83E2-006AC5A919AD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179EF5-A668-4463-8A40-703388AD670D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CA7305-AE5E-4230-B74A-01902AA463FC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F72F45-A6AA-4783-AF3A-99B3FDFF3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017303-A995-4F74-9A68-B159FC483FFE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07F45B-B9C2-487D-A2CF-679A7EBA8D05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B52686-9EE9-44F2-A0C0-1D0243F23679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AAC4C0-25C4-4598-A87C-BEB7B23192DE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9EBF5F-0E5C-478F-B486-44519C89D75F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F413AF-5AE2-4396-A0EA-88A09B13AEFF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8C4E56-551A-415E-B1D5-30C17D107CBB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AF326E-4EED-4066-8B87-A133B4F081E1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EADD37-31DF-4BEF-AE53-A156DDE5C51E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B4776BF-C51A-4C39-903A-D4827726B6D9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E542366-320E-413C-9DCD-2D48C6DF6E68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A2F64EF-46F5-4C8D-8ACE-A784F8B5DCF7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F07CCA8-A192-4359-8E29-90529F5C2FEE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D417C38-440F-4955-BB17-AC247CD6D95E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A9DD76A-4C09-441D-BA53-E9B4B7B46941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72EF8A9-AEAB-4DD2-B009-569AF44F6393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D767DBE-CE98-482F-ADC5-C6AA089448D2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860CE47-3EA3-466B-BBB8-41B2C302D29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0611-3861-42F2-B0AC-02A26077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E0F0262-4340-477D-8BC3-EB6B3D5258EE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CB45C77-A4C9-496D-8E19-98A38F5BD039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C108885-8ED9-4D23-9FA3-389C41780A92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268D755-49BC-476A-9944-F8611C631DF9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40C20C1-EB8B-4EF0-BD1F-FDC087F45CDA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062739F-F063-4EA3-99E5-0760F8CF07D2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149A346-9BCF-405D-8D86-2DF9D0B8626C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B4B0927-C507-405B-A9A0-41A4D9945E31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9961320-BF37-455D-BE15-F12A67633CA4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1703C06-D10F-4B8C-989B-60107C4A386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43B1-66CC-4E63-979D-561C3BAE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F2E5E07-29EC-4B3A-A496-ABDA69A5D83A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102E746-C067-4DF1-9FD7-6091BE1DB4D9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77A2AE0-B105-4009-9F3F-3F79575CBE5A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E995519-C560-40CE-9CD3-AF81F5C35912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DD80B67-5F95-4143-960B-D44757C31DD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6298-5AEF-48A2-B38B-B6BF5947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EAE6-CE0F-409E-88A1-1B7DD5AA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D105-5DBF-4299-9F65-2DC77DAF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E17D-130C-409C-AFDD-6137A9B2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A200-C157-4C18-8714-15D45EBB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4CDC-465C-4431-A0A3-12029EF2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189A-D35B-4FB7-A789-837DEE1F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E4D0-C848-42AF-9643-9F855C76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3860-7356-485D-8A32-FC6E6B54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8264-8408-4DA6-9970-C5A8241D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B8001-D775-4E99-9DB5-D01E9B260A7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0E4E5-E176-4C4B-80E6-D005325802F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45CB9-5D6E-49A0-995C-3059B12AB56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D9D39-964E-4491-A901-B67B80CF602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FE089-487A-4EB9-8520-47D18958C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6A4D9-63A7-4B38-9057-77993B1BBAB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235A3-EC8B-453E-90F7-2D270217235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0CBC3-994A-48FE-BCB7-1B6B05D0DC7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2472D-6115-446B-9DA2-329AB51573C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1891B-C33C-4508-B9FF-70CD985072A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628A3-D91C-45AA-968D-C7A7558DCFB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29094-FBB5-44F7-9947-64230BA1D42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73BF8-CF6B-4E28-B5E4-A1C0A3B8A38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E989E-111B-46C1-87C8-04CC52E9F11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EC57E-635C-412E-9119-C208C5BB8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Num" idx="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Num" idx="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Num" idx="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Num" idx="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CD18A5-6778-4CD0-96F6-E6B2D3D9E7AE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F25EA-7A81-4093-8584-41BC921BE55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B1A85-EF60-4721-B55B-6F25FFA402E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F6903-7E1B-4C94-8C38-DAFF534AC2B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9F71B6-56F3-408B-8DB8-AB2E7A35196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46F0EA-B952-4FDE-B372-4882DF2366A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10E259-E8EB-49DA-B645-D3C4B8E5696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D5D9F-BB9C-4749-84C5-F4AA80C81C2E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23B86F-FDAA-42B0-8B0E-05680A0C10E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32BF5-1271-4230-9154-3E1A8F16F12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47B960-8AE7-4844-933E-9014265C3B6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EE3AAE-8FD3-495E-8351-46CA6191AA7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BFBF7-7B79-47C1-A0E5-1D2C869F4DB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Num" idx="2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1AC820-42B9-4AE9-AAE4-5F47AE8B548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Num" idx="2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A64B35-9B09-4F7D-93C2-CCCDC50F3CF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Num" idx="2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394172-4B10-4BE6-92F8-464F48C166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Num" idx="2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019D89-26AE-41DD-B1AB-355C024DB4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A7777D-DD29-4472-85F6-2B81D764D6D5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Num" idx="2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185495-CED6-4BFF-A1B3-1AE330853C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Num" idx="3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EBBF8D-D14D-43F4-AC0D-C67FDC9E349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ldNum" idx="3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5370AE-1FC7-4D5D-8053-3D72E371CEA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Num" idx="3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E08F2-58A3-450C-8625-DFAB73AB2EE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Num" idx="3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7BBE3B-BF80-4270-BAC3-A9CEEE96C10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Num" idx="3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CE9D84-1149-4063-BD0C-14DB86AD31A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Num" idx="3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DD2C55-91EB-4D85-A365-80DC1264F79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TextBox 1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Num" idx="3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F93381-F4DB-4C6F-AB13-D6A4053DE1A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Num" idx="3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5F70E0-7B0D-4260-9D34-AECEE86D191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Num" idx="3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C7740-A4D8-4125-93AC-02D4E724AA44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Num" idx="3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sldNum" idx="4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A6D69E-11AB-4DE1-92B9-E79C9D6C7A7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Num" idx="41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Num" idx="4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990A71-BBA1-4685-B08D-8F12F97E8D3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ldNum" idx="4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29754B-BF02-4C22-B298-33B43A642E9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Num" idx="44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Num" idx="4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sldNum" idx="4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ldNum" idx="4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78E5D3-8C93-40A0-91C2-7301FEE85633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D9DF29-3F22-41A9-A2E8-0B9689788CF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Num" idx="5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3CB58-604F-42D9-9FD4-E99EE571D28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Num" idx="5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56EAC8-CD24-4A44-ABE4-F64E9BB9722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sldNum" idx="5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45C6D-4BFD-4481-82A6-1049CA96E9E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ldNum" idx="5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11B60C-6121-48C1-B50F-7C8BA0956B1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sldNum" idx="5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A48193-73F9-4C2C-9C27-1AE8EDBED61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sldNum" idx="5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6383B-568F-4449-8E3B-BBA17620CC2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sldNum" idx="5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B92E65-6D1F-494E-82DE-1E094FCD423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16F26-5C6F-421B-ABAF-3E0A14D5A611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ldNum" idx="5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60AA60-A37A-4878-825C-0AF69D8E4F1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sldNum" idx="5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88B589-CE38-4160-AD0D-1B1BA26F222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373C8-9921-4C57-8713-47ECB816C0C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Num" idx="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D9390F-5BA2-4151-870A-FB8A62D46C9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Num" idx="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s://community.icann.org/display/alacpolicydev/At-Large+Policy+Development+Page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afri-discuss@atlarge-lists.icann.org" TargetMode="External"/><Relationship Id="rId2" Type="http://schemas.openxmlformats.org/officeDocument/2006/relationships/hyperlink" Target="https://community.icann.org/display/AFRALO/AFRALO+ALSes" TargetMode="Externa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ALAC, At-Large and AFRALO: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Working to Help Shape the Future of the Internet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Dr. Olivier Crepin-Leblond and 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ijani Ben Jema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Questions?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385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The At-Large Community -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Representing the Perspective of the Internet End-Users at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Local, Regional and Global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Slide Number Placeholder 2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3C3A42-8B0B-455E-855A-EAFFFB577D7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Rectangle 1"/>
          <p:cNvSpPr/>
          <p:nvPr/>
        </p:nvSpPr>
        <p:spPr>
          <a:xfrm>
            <a:off x="1371600" y="203976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What is the Issue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Rectangle 2"/>
          <p:cNvSpPr/>
          <p:nvPr/>
        </p:nvSpPr>
        <p:spPr>
          <a:xfrm>
            <a:off x="2133720" y="31068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Moving ahead with a PDP or not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Rectangle 4"/>
          <p:cNvSpPr/>
          <p:nvPr/>
        </p:nvSpPr>
        <p:spPr>
          <a:xfrm>
            <a:off x="4572000" y="310032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Assess / Arm WG recommendation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Rectangle 5"/>
          <p:cNvSpPr/>
          <p:nvPr/>
        </p:nvSpPr>
        <p:spPr>
          <a:xfrm>
            <a:off x="6392880" y="203976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Final Approval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Straight Connector 14"/>
          <p:cNvSpPr/>
          <p:nvPr/>
        </p:nvSpPr>
        <p:spPr>
          <a:xfrm flipV="1">
            <a:off x="4495680" y="1922400"/>
            <a:ext cx="0" cy="3636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8" name="Picture 6" descr="At-Large organizational structure_better margins"/>
          <p:cNvPicPr/>
          <p:nvPr/>
        </p:nvPicPr>
        <p:blipFill>
          <a:blip r:embed="rId1"/>
          <a:srcRect l="4399" t="5266" r="6034" b="9829"/>
          <a:stretch/>
        </p:blipFill>
        <p:spPr>
          <a:xfrm>
            <a:off x="328680" y="1442880"/>
            <a:ext cx="8704080" cy="538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9" name="Content Placeholder 4" descr=""/>
          <p:cNvPicPr/>
          <p:nvPr/>
        </p:nvPicPr>
        <p:blipFill>
          <a:blip r:embed="rId1"/>
          <a:stretch/>
        </p:blipFill>
        <p:spPr>
          <a:xfrm>
            <a:off x="1362240" y="1469880"/>
            <a:ext cx="6978600" cy="5369040"/>
          </a:xfrm>
          <a:prstGeom prst="rect">
            <a:avLst/>
          </a:prstGeom>
          <a:ln w="0">
            <a:noFill/>
          </a:ln>
        </p:spPr>
      </p:pic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3487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You Can Contribut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elp Shape At-Large Policy Ad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1" name="Picture 5" descr="ALAC - SF 2011.jpg"/>
          <p:cNvPicPr/>
          <p:nvPr/>
        </p:nvPicPr>
        <p:blipFill>
          <a:blip r:embed="rId1"/>
          <a:stretch/>
        </p:blipFill>
        <p:spPr>
          <a:xfrm>
            <a:off x="617400" y="234468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2332" name="TextBox 2"/>
          <p:cNvSpPr/>
          <p:nvPr/>
        </p:nvSpPr>
        <p:spPr>
          <a:xfrm>
            <a:off x="2928960" y="2290680"/>
            <a:ext cx="5576760" cy="33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20 Statements in 2013 to 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Key Issu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2013 RA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WHO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PI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ID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Stability and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olicy Development Workspa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2"/>
              </a:rPr>
              <a:t>https://community.icann.org/display/alacpolicydev/At-Large+Policy+Development+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Policy Advice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Statements an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0233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Rectangle 3"/>
          <p:cNvSpPr/>
          <p:nvPr/>
        </p:nvSpPr>
        <p:spPr>
          <a:xfrm>
            <a:off x="380880" y="833400"/>
            <a:ext cx="860112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+16 Working Groups – open to all members of At-L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Issue-based: WHOIS, New gTLDs, IDNs, etc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Activity-based: Capacity Building, Outreach, ICANN Academy Technology Taskforce,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ject-based: At-Large Summit 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5 Regional At-Large Working Groups – serving as the umbrella to the over 150 At-Large Struct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vide key bottom-up input to the ALAC through channeling ALS feedback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6" name="Picture 1" descr="7453485972_9706203f93_k.jpg"/>
          <p:cNvPicPr/>
          <p:nvPr/>
        </p:nvPicPr>
        <p:blipFill>
          <a:blip r:embed="rId1"/>
          <a:srcRect l="0" t="23093" r="0" b="0"/>
          <a:stretch/>
        </p:blipFill>
        <p:spPr>
          <a:xfrm>
            <a:off x="995400" y="4235400"/>
            <a:ext cx="7072200" cy="256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22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presenting the Voice of the African End-Us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8" name="Picture 2" descr="AFRALO: Dakar Showcase 2011"/>
          <p:cNvPicPr/>
          <p:nvPr/>
        </p:nvPicPr>
        <p:blipFill>
          <a:blip r:embed="rId1"/>
          <a:srcRect l="0" t="7713" r="0" b="7713"/>
          <a:stretch/>
        </p:blipFill>
        <p:spPr>
          <a:xfrm>
            <a:off x="304920" y="2590920"/>
            <a:ext cx="853416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 txBox="1"/>
          <p:nvPr/>
        </p:nvSpPr>
        <p:spPr>
          <a:xfrm>
            <a:off x="2997000" y="853560"/>
            <a:ext cx="5059080" cy="58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Input into At-Large policy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Capacity Building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Capacity Building Webin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online education modules – to be develop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Outreach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CANN Meeting Showcases and Rece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Broch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/AfrICANN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ntribution to ICANN African Strateg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Organization of IGF Pan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76262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475011-A12A-4CF2-A4C5-954942A6576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2" name="Picture 2" descr="AFRALO: Dakar Showcase 2011"/>
          <p:cNvPicPr/>
          <p:nvPr/>
        </p:nvPicPr>
        <p:blipFill>
          <a:blip r:embed="rId1"/>
          <a:stretch/>
        </p:blipFill>
        <p:spPr>
          <a:xfrm>
            <a:off x="184320" y="1036800"/>
            <a:ext cx="2633400" cy="4101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"/>
          <p:cNvSpPr txBox="1"/>
          <p:nvPr/>
        </p:nvSpPr>
        <p:spPr>
          <a:xfrm>
            <a:off x="680760" y="1268280"/>
            <a:ext cx="75898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Monthly Telecon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I-Discuss Mailing Lis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1"/>
              </a:rPr>
              <a:t>afri-discuss@atlarge-lists.icann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Wiki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At-Large Structure Workspa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2"/>
              </a:rPr>
              <a:t>https://community.icann.org/display/AFRALO/AFRALO+AL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Leadership – Representing AFRAL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Officers: Chair - Fatimata Seye Sylla; Vice-Chair – Tijani Ben Jemaa; Secretary: Aziz Hil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LAC Members: Titi Akinsanmi, Yaovi Atohoun, and Tijani Ben Jema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0409AE-5451-4074-B617-30E1DAC39AE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"/>
          <p:cNvSpPr txBox="1"/>
          <p:nvPr/>
        </p:nvSpPr>
        <p:spPr>
          <a:xfrm>
            <a:off x="396720" y="1267920"/>
            <a:ext cx="799488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Monthly AFRALO Tele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AFRALO and At-Large Mailing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Join an At-Large Working Grou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omment on At-Large Policy Advice Stat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sk for Additional Information about ICANN and At-L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Beginner</a:t>
            </a:r>
            <a:r>
              <a:rPr b="1" lang="ja-JP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 Guid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LS Starter Ki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28320" y="321840"/>
            <a:ext cx="80629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to Help Shape the Voice of the Internet through AFRALO and At-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8" name="Picture 4" descr="http://farm4.staticflickr.com/3306/3559459694_af51a8166c.jpg"/>
          <p:cNvPicPr/>
          <p:nvPr/>
        </p:nvPicPr>
        <p:blipFill>
          <a:blip r:embed="rId1"/>
          <a:stretch/>
        </p:blipFill>
        <p:spPr>
          <a:xfrm>
            <a:off x="519120" y="3657600"/>
            <a:ext cx="7994520" cy="3170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9:45:36Z</dcterms:created>
  <dc:creator>Marika Konings</dc:creator>
  <dc:description/>
  <dc:language>en-US</dc:language>
  <cp:lastModifiedBy>Gisella Gruber</cp:lastModifiedBy>
  <dcterms:modified xsi:type="dcterms:W3CDTF">2013-07-08T17:20:06Z</dcterms:modified>
  <cp:revision>100</cp:revision>
  <dc:subject/>
  <dc:title>GNSO Policy Issues</dc:title>
</cp:coreProperties>
</file>