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dt" idx="6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 type="ftr" idx="6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6"/>
          <p:cNvSpPr>
            <a:spLocks noGrp="1"/>
          </p:cNvSpPr>
          <p:nvPr>
            <p:ph type="sldNum" idx="6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24E75-397A-41D9-AB64-C6B39DB05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96C22-1172-4017-ACEE-788662458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A2051-8A14-4F36-BB85-B56BE4C414A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E0662-FE59-461A-B72E-B19E1A52B49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546C9-D0D7-491D-A9CE-4CEC91ED276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9EB4D-3392-4556-BE53-F7B72A6AE20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5DE49-1822-42D5-BEE5-748763A6CE8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5ED54-DDAE-4A7A-982C-F23EFC83270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82950-C73C-4DEF-A0C3-5469C0B57FB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7046C-D54F-4348-9A7C-670F65551F3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30746-2094-45A8-87C0-CAADBE8254B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5E19-5BBB-4246-8301-73AB7ED2F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6F89-2F5E-4012-8A0F-DA6527CB27C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379C-5559-4D7B-8919-3EF87544AB9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0AC9-6851-4A22-A927-96E10865E46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AEEB-0324-4A0A-BF02-F30903E4E5C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59C7-D39A-4B89-B3A5-940F00E94E8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05AD-6782-4DC1-9D0F-4350969E9A8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6031-4613-4D03-8A06-19D598ED9A6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D585-2529-4D16-A557-CDCA98967FE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FBE9-FCF3-4CCE-AD78-FA290936EFF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9F9C-EA8D-464A-9E21-2B37C70D4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BBE5-93CD-41A7-A546-C9C31B44944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F959A8-CC7C-4AB4-AB2C-722E7B567B2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3B11B8-5E43-4232-AEE3-CD8ECD54498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36117D-F8A9-4FA7-9FAA-68D36F48A18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181C8A-847A-4233-9742-90C986BE401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CAA93D-F31A-48AB-B89F-2F15D648E78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B933CA-1344-48A2-A088-C5BAEF100D4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B9C09E-8A2C-45A7-89CA-54DB193B3E3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219F36-CB88-4941-A1A7-D920FF9154E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CF0B8A-9BA5-4D15-846A-181439EFB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7DEECD-A3E0-42CD-85A6-1EB6F9231FD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76C38D-11D9-44C4-8B75-B57FC70C0C9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FD6C23-99DD-4A74-BAA0-1C849649DCF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84EFE9-2F36-43CC-A52A-F8DFE9E658D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ACF17-B29E-4604-9518-D8B7A00DA19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C659F-B835-475F-BAF7-753E2F0830B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C3FA72-35EA-4105-98DC-7515D76C864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4359C-6547-4DCD-ABE1-AE04CE016A6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2E3856-4FC1-4393-BD2E-5F40C3837CE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32CF9-BB2C-4778-9242-4156342E72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45A46-0DDA-4E67-AA04-49B3B007B08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A5E42-A790-439D-BB02-6E29EF2A2E8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90829F-DFD8-4A06-943B-7801BC9F532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2D556-D39C-41A1-97C1-A24EF038046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C90F5-F0E3-4F22-B3BB-2AB2163CF68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AB1C1-50EE-4DBA-B2E0-42D081AD857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A9B3B-1556-4C11-8B23-A57433EDBFE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F2BF2-2841-48B1-89FD-D9E4361E03B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56AA7-FE97-450E-9387-6080DF1493A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822A2-37EB-42AB-A37A-835D39C375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BCDCD-C10D-4594-8EB4-7A06DECF037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5D613-DC6A-4511-9EFB-BCDDF7A21E6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D76C3-28B0-42AE-81F1-C06739B2C94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4BABA-F35D-445D-B7AC-81D6DB188F3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E15CF-458B-4AD0-ABF6-64B70EBA9E4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341DC-BFDA-4D6B-9D63-42FBF68C7ED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C8A50-1B62-437D-8AE8-F27A452C42D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2707E-64EF-42EC-9D3A-79F6535E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EEEE1-FC84-4285-B82E-63F21F48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3D2CB-5790-4462-8458-BD10E141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B635B-71C3-4A3C-977F-76F8EFEA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A58E5-163B-41D3-9192-B229C84F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19936-CF47-41CB-B48A-9566CB8B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112FC-75E6-4EEB-83A3-D3FD40A3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6CA53-18A1-4234-A9B1-7B86F011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896C7-F2FE-4F23-BDC1-B87F9AF4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C70CF-25B4-43ED-AA1D-14FE46FF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CA872-D420-4C14-AE9F-8BF3A62F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E3D40-B56A-46B1-84F6-CA50F2C8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F6566F-EA23-4413-BE84-B6ACCAA0ED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1E9A6C-74B5-4816-8757-D3C537C91D5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5157B7-5850-4B21-A83C-372FFEF8D45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36F3ED-DEFC-4026-AB0D-C59AAA014E9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C650B8-F788-47D1-B0A7-8AE33F46E79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38EADF-8224-46C6-AC2C-69407A20C90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F9389B-50BC-48B2-A492-74B34172FAA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AABB39-4CF2-4F6D-9F5B-79C2D02C65E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2B7EAF-614B-4FCB-891D-F879018F169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58BA2B-EA09-4CAC-98CD-D166A2A9A3A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B666AD-07CB-42B3-8EB9-6011247C1F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96EDFF-32CA-43AA-AD18-600AA2CBDF9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7F80A2-0B12-4290-B41C-ACF66079F8F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4B645E-0FCE-40AD-8D07-DFEC4507B5D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F2D14D-E9CE-4892-B839-8EFD3B58E82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C405BE-E8C0-4D41-A924-B6B4A1BA91E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CC11E8-B0AC-46A4-91B3-74FF26C28F3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CBC9D-94A5-4D1F-8963-648C7879058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F41CF-DB63-4035-ADA6-86EDC236E97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46135D-5790-440B-B851-B91B9AF6D49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CEF4F4-89B1-4076-8081-D2BCB0091E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22F407-C141-46E7-885A-059D4F5D531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45929-038F-48C7-83BA-26D97F9FF02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4D26F3-429F-4CD1-824E-527F9EAD99E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E30A1-4554-48AB-ADFA-70CB7C6B50E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BA5F7-81EB-484C-99F5-CE48EC03202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895B8-76C7-46CE-9B66-A656F798C15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41CC0-91D5-4410-A303-BB9C1F6C7A1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E148C-7FEA-4BF3-AEB5-00FFA06C87D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11928-53B7-4BB5-BB2C-0FC68980151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7C505-62E0-46B2-BA2E-CE080156A7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A2500-F9F5-409F-8085-48DD7A2E26A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97DCD-7BAA-419A-96BE-DD092093C8C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0E93D-324D-48CE-BBDF-420D309557B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8F750-8330-4B4B-839C-303599290BE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C6CDC-E0A5-43DB-82F1-F07B3E213F9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72D602-B6C8-4BEA-BCF9-5B19458402B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89893A-E9CE-4DAA-ABF1-288F67E5818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47D37A-B816-4944-B610-0448D05056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A5ADB7-EAE4-4CA5-8141-BABE44D5245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1C53D0-CE74-4E56-96F7-A3728A1500D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A8B81C-F289-4A3E-9E91-F9BF03D9082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EFF55A-16A3-4CFA-BAC1-A56E29B294E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90FADF-EBAC-4C81-8AF9-D6D42BD35CF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411F0A-C84F-4E48-AE28-9B7C0A83796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1C16C7-1988-4A42-86A2-14522909743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92381B-E0D4-43AE-94C6-8150B6EB10F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1C0902-8EA4-4B7C-9794-F9B4EC37801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F34766-C67D-4CFF-9612-16170A79B2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BB395-B29B-4093-A830-445F34B1AAD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C8C327-FEB0-4FDD-9D01-70DC9B5752C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962C4E-4C85-4C4F-AE0D-FDC3DE76345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08E250-5986-48F7-A7B6-B05204768CF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9FE85C-49F7-49AE-AE4E-B0EE5C7780F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553C25-A335-428F-AA92-3607AC9DBA8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6C1052-E0D3-411F-8FA8-3AB776AE6A0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1C20DF-B413-4B6F-A2AF-16B5835721A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436530-1036-401C-99C7-8EEF8A7851E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A2C2FD-2024-4BA5-98DD-2505182DC4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D94F2A-74AD-48D7-BA2A-DAAEDB05AF4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87683F-2C83-4B9E-88F9-1197FBA0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994841-ADEF-4B20-B460-E6FC1E26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1D1157-D48A-40C3-A53A-68074165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8BE064-B2D5-47E5-AB67-8B4D9234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19338-978A-4C36-82CC-6E54319B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821D26-830D-4D80-85A6-B33DADED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6CF894-57B0-4B1F-8D61-DEC2578F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6F6E63-34D8-415E-806A-5AFAB641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D3B32A-B49C-45A7-84DC-C8F790CA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41B7DC-D46A-455C-B390-212AA745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636278-759F-4960-9024-E8405030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67D026-FEFF-4923-ADD7-A42C0C12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2FB19-12EE-4F9E-BF69-3573715ADD9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61914-9B7C-465D-88B1-67C44FE526A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C7784-37D0-4031-9E2E-3286F0F0C6D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C2ACA-DC87-4D31-B741-9D30B5092B2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685DE-5DDA-40C3-B09F-FC1468FEEC7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4ACFC-BF92-4134-B31A-775BCD19EAB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1E75B-F946-43A7-9232-2E67AD4F20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FE373-3E16-4109-8F93-D3B10435ECC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B4CFD-9CAB-4E85-90A0-BB75CD8F845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14B46-2CC9-4641-86EB-6A90B8974A8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BB8EC-09D8-4847-8043-C78A45FC7E4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8824C-F2B5-4C55-8D53-37AA9E75FC6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24E4AB-2CA7-42CE-9A89-2584A12A39D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95A829-A336-4EEA-BC39-B83F6782A41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35AF53-3965-42BC-92D3-6E8F5198235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15E3C2-28CF-41A3-A9D9-552B23779B4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6AFD5A-B948-4BED-B482-18362F4E86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942E6C-B121-4202-9229-322E0674E0C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5400FF-7577-4B31-BC29-676FB9D9100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2C137B-25FA-42BC-A2F3-F18D121A0F4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B65A7F-1E33-4C18-B03C-DE1CA43D38F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8CB294-7AB5-4835-B473-41A80E33497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3DFC20-327C-4A3B-A823-4DF2AC78CFF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CF464B-9900-4F1A-A1DB-E659C7375C5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4A429F-796E-457F-A3D8-CB74FAD79C9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074FFC-6940-423C-B7F5-2B66ECA16F89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208CA4-444E-41D6-913F-4A270FA71F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B1E7DC-BE74-44DB-8B5B-98930767ADC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E9C150-D723-46B9-B51D-E2DB15C91D1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4F7B9B-89A0-4601-B4B1-BF7720BB2B5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B276DD-E867-4CC6-B8D0-55C731F26AE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9ED03D-87C2-4C40-B049-89639F3FA25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3EF0B0-2F4F-4623-977A-B19F235FFB0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267830-7A5A-421E-B0D7-03272C84339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FEF9DE-2AEE-4199-9A69-98139254859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041D58-9857-4367-AA13-6184DDCEC05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96368-7FE5-47A6-805B-1290240F4A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86B0E-D567-4292-BB14-A6C839AC394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45770-0959-486D-AA07-31204F1AF19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B3D94-D2BB-42C0-95A9-B3EE0C69307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6E702-6592-4F6C-A520-E5203BD0E03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EB651-2849-4E8D-BA7C-935054A9CCD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A8D26-9EE2-45FA-B75A-367D4E12D0C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A594A-5271-4687-BC21-0312A01C679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20833-0C0A-4004-AFBF-62EADF322D8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4B8B8-0571-42AC-B4E3-ADC3F815795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AD630-AF77-41A2-BF57-245A6CA7B3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872A2-7C6C-46CB-95A8-0F22B9711DF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B27D9-30F0-4B2A-A1C3-F5B8ED720DE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0BF59-D9A9-42E8-8DFA-08E62E0C822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FD0E1-D073-4661-89E1-B50F062F31C7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A71EF2-A836-44F7-9F46-24B375853E4F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2F25B3-F23A-4DF3-8154-1B1C8A649A7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08175A-DB1A-4CE2-96F2-571B2D73969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B3C05-EE91-45D1-9D52-3850B556E76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90E38-92AB-41CA-B5C2-07F398FAABC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06F3C-8341-4B10-9FA9-6CE98963FC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82A69-2785-4781-8899-209F06652CB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00A10-BD2E-4295-B6EC-00F4CB3D36C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992F7-5C08-461C-A68E-556618FAD981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ACAF08-82CB-46A9-B5B2-B667EDFFF6B5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4B094E-91D4-4DB7-BD28-9BB6FCBB1886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19AEFF-1A91-48E0-8FF2-B2A86C968413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C32FC6-435F-4E0A-8872-204D59F91AE3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35886A-83DA-45ED-9D19-5422BC8E681E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BC4F1E-DCB7-47F4-8951-2B7FD0A009BF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258BCD-E64A-4779-9B2A-078F411499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0A4639-D00E-4B7B-9DE3-1C18B70B5321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BB5477-BBE6-4014-8896-967D188BCE8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8B2BBD-7897-44BB-A210-585619393ED4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3A7FE2-31EB-4A6A-9F5D-BFF1115DDF52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FCF508-4F3E-4403-A85E-A30889394714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39A1F-9BC0-40CA-A1BE-560D5AAB8B19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3CD4A-0FFB-4748-A0CE-C2DE82DA1778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28E26-254C-4C3B-900E-1D2C96B75534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7B4C0-EE4E-44F8-9E12-68636418AA0F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300BB-40BD-4864-AFC3-A717D6D18F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60EDF-C994-4375-920E-6C81AFF0D3F0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E9E68-4D8E-4E52-9537-3989D44519B6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23814-CFAC-4D81-9044-AAB204B4090C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6A026-D14A-4F17-8AD0-AB0ED7ACA7F2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E5E8B-C259-4E57-ABBB-3F389FFD4778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1931E-5774-4160-8AF9-9ADC43781426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967C7-DC71-4F42-9405-77AEEA1028EB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EF912E-5061-4F4E-81B6-17280D393CD1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DCEAD-7BC0-435E-ADB0-2909CCB90D69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330E4D-BE78-47DB-8718-B279CC8B12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72707-0F21-4ADE-953D-51D6A9C3CF8D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7D780D-A452-49F9-901B-4F751EAF9772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8BB17-F5F6-441C-8D61-09298D777CC7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3D8EB8-BC0F-4F96-B5EE-8ABD52590837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371C75-C16D-4DF8-9008-B7BFAD7B9178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E1D937-5897-477B-A0C0-419FE10901C5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26F1BC-E870-422A-8615-57A3990B753E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35EDB-2D5D-4BBC-B86E-F0746A233806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78CF70-1C5D-4A0B-9FB7-72FD02DFE465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A9DA3B-C6BA-419C-B475-109808B0DA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010E9A-ADFF-4F35-A9D0-AA076CE6EDF1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611085-9B93-42B7-8F4F-0E5D57076EE0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9A4A8E-054D-4DAE-963D-FE9172E7A270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345764-42DF-4F75-9594-8B785ADA1750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AA61B3-EE0D-4D7E-A8D7-9D07B11E2FD7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8D1AD4-C7D6-474D-A767-8291986C2ECB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23C9F4-3F94-4169-8F69-D73A6CCDEA98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C189CE-DEB4-40CE-8DD5-24C8046E4083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B4BF06-ADCF-4C19-B510-66D647D3EA6D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0CEDE8-EFC2-428F-97EE-0DE3740D3A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E26199-FF53-4B29-8C11-8D81299DF2D9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77F74-8F57-4881-AEF2-FA8626F32C35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ECFE7-A318-4833-9417-B4A23950D92E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5DC04-AAFE-4248-BD3E-C032238F1A77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FCF7B-7D15-43C0-914D-38F3A800ACC1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BFF9C-BBA4-4C86-8A2D-C27E2D398F1A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F6336-CC2D-461E-B2CC-219C1996619D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2501E-39D6-407D-BFB6-785C36785989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1B81D-5C40-40C7-A19A-4DE8F4FAC024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01323-CEDD-446B-A7B3-9B140FC099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7D788-11C8-4E9C-A3ED-1E69310C7709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8BC41-930E-4D3F-92B2-497EE9AF8293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6F84C-64A6-46E5-BDE7-692C9A904C42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CDF91B-31A7-48B8-9B07-3B126708F97D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AD07A0-2218-47B7-9C29-19CCE5E91BA4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48A5F9-79DB-4D79-85B7-8350A66C0EF6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09F6CA-1B61-44F3-835E-8BA77D88164B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77F623-948A-42E7-9BEF-44820ED2816F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CADA97-B8D1-4AA5-B02C-E3114DC86E6F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20DE48-A5C7-4FFA-AC0E-4436B76CB3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B29623-C05B-4DCF-B953-8397462625EA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87CDD9-7FE0-465D-9849-AAC36DE46253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CBF91B-6D10-4D1C-AE26-6FA4A418C7EF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350678-1901-4628-88DC-0563466DBE1F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C7F98A-C417-4E67-B486-710E41249BBA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C051A5-B6E9-4E27-9798-169455B42AB8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2B42D5-107F-41C8-9A1D-F622B173B0E2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347FBD-016C-4A3D-9429-40368F05B231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7C7013-6F6D-4363-9EB4-C27066CCD23D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19254F-4692-4B9A-A839-9EE93E7FA2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A7A10B-5C6D-4F89-9803-5199539E38ED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02C7AF-73C9-4D82-AAE0-E9AD1ADD2AD0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0F6790-5E67-4662-8A9C-8FA05E97CFC5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15F427-2AE2-4D60-8138-E8AA03611551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7BAF1D-5799-40ED-9B7A-89824394B6BA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8B77FC-4305-4BCA-826A-0569B96332C1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7C38E6-1316-411A-BF29-B12C1C1F0358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1DC88-5A55-4D01-886B-50F5C5E8B621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2BDA4-B0A0-4E00-859D-EFA3E2FF2328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72E2F-05D5-4A01-8CA5-F505B30D1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E1461-C472-46A3-B638-86455D01C39F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60926-6DED-47B9-B34A-F4C63ACB11C8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397D9-461A-42C0-ABE6-65E16ADD97DA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9EAF2-B656-4ED9-B70C-0A774FEC83A2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DC5DB-A2FD-419B-80DF-BDE6A5166A2A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895D6-5A69-4CEA-A21C-2C4164E79722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EC815-359F-4DF2-9787-9EFAAFDB991E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995D1-F8AA-4158-811D-9AB3C3D4671C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DD05A-88FD-4DAC-9EF1-76B788670903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763E5-3A60-49DC-9A63-06F849C1F4F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9CDA0-224A-4529-8CD0-C80D46A0BF68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2BE3C4-FC83-43A1-A1F4-0104660B8554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3033FD-1DBB-447B-A613-6A2F55F7E54D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C6838C-EB74-44EC-AC5E-CF94F6881417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1CC8D4-A51B-42CE-BDA4-C6173D993A34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1DFFD-04C0-4EBF-B4E4-D0DDF02389E1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B7AAF-2C74-4E7E-8869-5DF398B67029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3785ED-BD04-4A29-AF4E-A42705713049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131D06-FBC4-41E6-B82B-6A2B6C8E4F52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8AA71-153E-40DB-8C73-22185AC4B7E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F493CE-5A82-4835-AE66-DE891C8ACB0B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C9A2DE-10D6-48E6-BAD0-E3AA1BEE81F7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36A8F3-9C5C-4EC1-9C7F-7A1F57FF0F4B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8EB4A6-55EE-49F3-B31C-6BE19F91773F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EB271A-61A6-48C2-AAFF-42C53DC5DBDD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8CD8FA-E845-47C2-A3BE-52C037729EA6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34E792-CF23-4796-AE43-87DF39FEDC93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DD7420-1669-424E-8653-0C083E7B71B0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35129B-7A81-4F56-A055-ECAB0B803455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D90B23-252E-4309-AC1C-7338699249B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61DEA0-F88A-4270-BCDD-DA6C3D57C573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81FC05-376C-4535-9D7F-1461BB5A2924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41EB64-EF63-4F36-AFEC-E561601C3867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B0F6D-E38F-43CF-9D1C-2214C8AB5B49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21431-759B-40DD-AEFE-64DC7C8F8FA8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0B85D-D94F-45D2-B134-16935DC50A4F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D22E1-037F-4E50-9B1A-6A5B9EF50824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E3684-4D7E-4858-8905-B2C31965B40D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140F5-10F4-4775-A0CA-478A6B5957F0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F5336-0AAC-43C4-A919-43FAE7173D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1D0F2-C872-4DCB-B934-C3EF4BC07411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90FEA-B476-41A9-93DE-A2376A52A540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2C9D5-BC41-413F-A4F9-E8C00CE7F654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D1D00-849B-4FAC-98E5-8DF6C814203E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EE3B6-4417-483C-B5B2-6F974B8AC750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330E68-BA15-4768-89E8-816ADBAA94C9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A0F3AA-EEEB-4972-9823-D6A2674183C5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6B5D61B-D138-409F-82DB-2D9512EA57A3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40842E-D4F9-4C81-AB81-669CF1EDE10D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017A8A-971F-4D7B-AD72-70A4C0B363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F64EA0-CCA0-4402-8199-6F8E91C9801E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C2C1921-5C39-44B7-85EF-EC97FCF434B4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22C201-760F-40C3-90D5-A6353C4007CC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0A607FE-C493-4A14-9E4A-F032B618A638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677BA6-78F7-41EF-8DE2-E1EE11863478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C535034-0594-48AC-81FE-7DF85BCC004E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6B6F94-21A9-46FC-8FAE-99D32FE0BBA3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50449C-759E-4E2F-A0F6-17E2C5A64747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770A67-CFFF-4397-93B7-E8649C8C9099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9C8049-0E08-4626-8A81-9C7D7B55176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B69E85-06D9-4482-B116-C29B876D6428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31D81F-F272-49E3-B8A9-E649DEBF2038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9AD5A4-EFA3-4578-A95D-DC81493EED54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342DA0-2D1A-475C-8852-26C3BCC1B4AC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892335-944A-4667-B98D-6C858B8C8624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D21956-5FA3-4115-82DC-37B0CDF64EB6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9BC85A-F33F-4261-907C-5A8E179F89FF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7D06CF-81AF-427F-8B1A-6601C4100111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51917A-B233-4F90-9BAC-992EC6AAB61F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4581B-2287-47CF-8853-672E6A9C2D9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73A6F-2681-4450-A184-3D53F0B1B1FB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22BB94-DC36-4F3D-A8B2-7D2835011840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2C682-42CF-401E-82A6-D206F8540FF8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20327-9498-4CBF-85BD-1A7FA68600BA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AAA0E-D212-4792-BD09-CEFBA81E48F2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6C07C-D280-4B9B-B4B9-EF0AC8B70200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5E0D8-76EE-4299-BEAF-0005464681A7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F288F5-85BA-468D-BF36-339108A3E6DD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EC27B-F02F-4F64-8A4F-420E2328C98F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E2856-9B04-4EF7-AC96-9781181739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990BCF-C109-479A-A656-A61F4B884B64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8D91CF-706D-4149-BB36-39AB955D9B20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50EE1B-B904-4378-9F17-8B3998D94075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E43BC9B-71E1-4288-92D8-3E03442A82A2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25CF999-3659-4A5E-8735-79D89D1AFEA2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33FA66-2722-4ED9-B696-4B294EC09F00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CF39369-4F75-47F2-8F73-05375CF88343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D9C3BF3-F198-4AB6-9407-AC26BA5EAC1A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003DAB9-47B5-4078-AB31-33F048E88EE0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E98523D-5351-423C-BD12-29C60E9C216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6015D4C-747C-4E49-92BD-0BA2A6C42764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5D74451-7148-4775-B7EB-53086D63E08E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FB28CF-0F51-44C9-A457-84A2167F5FE7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BD50A3-0F67-47EA-A37A-27B98D652AC9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5E3810-A30A-477C-8038-AB02DF64AFF0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839C091-0D7D-4CE6-AE5C-0B3F5B64962B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763EAA-1382-4F46-910A-58DE3CD634F5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297C64-A289-4C59-8539-46A61C1DC3C1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B3890C-F483-461A-85A7-9593DDFF9C56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866F24-8E09-476A-9BA9-B55928302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D68C60-C2E1-4737-9BBC-C6A705A31D3A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002FD4-B1F4-4B6C-AF8B-15E3A05CED50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681BDE-12EE-4E57-8D41-2C6D224A71EB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620D5E-09C1-4575-ABB8-511267A926F9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44FAF7-31F5-468B-9653-98547ACE13B4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9CFBB-10E8-41AA-BDAD-D2842EC0876A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ADB538-71C3-46CE-8CDB-B50B746C5D78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B44F96-8E84-4077-8656-F0F8C6403203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EC8200-C3DA-482B-BD8B-6CEE01CCF85D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FB4482-6902-42AB-A62D-6A00A84B88E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ABBD36-830D-4BEA-9567-5AD255E52B15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6E0195-241D-478B-812A-4420A3D543C2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CD9746-5170-44B7-8545-8E707E8C4BB5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21680D-8EDF-4AF7-BED9-B703EA368861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E93B1C-13E3-48B1-B524-89D2AC7EDD81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EC64FF-35CC-443B-ADE4-5C9893BA9442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D52FB-B2FF-4A5F-A9BA-78FFE41B2218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2FEF382-0927-4211-9F78-5007750DA7D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8247FAB-9469-4A24-882D-429029BECF81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7CB06A3-E2D4-46D7-848B-7170AB3311EA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89D1405-9218-4E50-B693-62A8CC5F4D6B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A2C3694-A446-4860-9B2B-DEA9E8EDA118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F2A6CDE-940E-4F03-84B0-8A768BEC34B0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8E2E668-355B-4165-B948-96F19046E421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195C94A-10C7-447C-8955-C8DD1EE0C520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8A1D138-BE99-4626-AFCB-856A9D520A4C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EB4869D-1F1C-4CB3-BBBF-9E76075887A2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C6DE857-7547-4837-8A21-D1BB9D381AA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CB003EC-5648-4762-BAB9-A87B40060391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79453E-1530-4182-AB86-10831168BEA8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746CC3-842E-4CE7-9AA9-2DFAF202FBD8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CCA4289-93ED-4843-A88A-BE7EB946593E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4001525-F65E-43D8-95BD-F963DC35D142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5FFBE0-231A-4F8B-BC68-877EB9A4BA1E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30C111-8FCB-42DA-B108-1C8E22BFA146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BB5F75-329E-4E62-ACCD-F56DE2104F3E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6206FFD-D5A4-458B-8182-F3182738FFC5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7F1A67-421D-4333-B425-B474244CEB7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78BDD3-7C39-4C0D-9033-0E27D0C4FFD0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866D62-2CD6-48CC-912B-58493A4FDC30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334C4F-0134-416A-A993-8568B6CB8C56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CD12E4-D59B-4E12-AA94-53976A6E66BA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D90C5F-DBF5-41B0-A279-FB9D113C6A2B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13BFB9-B633-47A4-9D2A-D83177D688BD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B77AF1-9113-41FF-9CEC-545818C87CD2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9AFC65-F9AB-45E1-B0B4-FE9FFC21C905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5C208-A9F1-4BE4-8176-07DA89AEF3E9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2E850-1579-4D3B-BAA3-A8A5CA503CA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559A86-00E4-4D3E-A2CD-D90BDD306450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8625B7-C8D9-4961-91D8-5BED81BDC15B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2FD605-05C2-4158-B0A6-BFC48A64B4C8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DB615C-AE3C-4F76-9DC3-63B86547C83D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63C874-D5AB-4F76-98A8-3D44A77E0BEF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24B9A91-48BE-4325-81F9-7440BCB9F27E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0C9302F-1BED-49D6-B4DF-D5C189E9FC2B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F482C03-FE81-403A-BFD6-8E7679F697FE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D06684C-3B91-4613-9830-E346D4F6FEC6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4B4C53E-3942-471E-82A6-C6EB8071744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26F0D55-B423-4A6C-BD54-2E941690BCAF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B9843E4-1E92-40B7-A4F4-F47A332E45A1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78A9079-3269-418D-91EF-694F55B094F7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34A299C-E959-44F2-A118-B1EABDF3B0E4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2CCDF1A-B6B4-4B84-8A27-19997FD0F187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E957EF3-215A-4432-9D93-E02406BF3D75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1DB5E6E-CAC4-4BAB-8D7B-A9F716E62536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171309A-EC9B-488F-8957-601FD0E35A84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694F58-CCBF-411F-8F77-892174FEB98E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644A1FE-D616-40BB-8DB1-497DB87B9F2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36AF684-5BCF-451D-BFA3-F78A3B52B8A8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C4BEBC7-736B-4F05-8371-EC3D00FCB86B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763A64B-BF06-4A88-9806-6AA5DCCB833C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1B7563D-B009-407F-838D-7AE3FFEBF574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066093-68F3-4F6D-AD39-24AEBE22E766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2C4BA2-1893-40C2-82FE-8CF75D4ACADF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05F1C18-AF6B-4571-AC77-EB0F86D5DCE4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B75F8F4-3CB8-4A8C-BE59-BCFEFDA00E82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19CFA3-4D93-4D7B-8A3E-607C72B24695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3AC0F7E-3866-4F4B-9899-3810AFCE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7A62283-39D9-454C-8C84-3E7F2403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A3C5C28-D966-48A8-9D9A-A3CEB611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05FE657-2068-489C-8633-46CDE1EE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03595DD-1A1B-4D8E-82F6-D53CE497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82B053-BD85-4080-848A-BFC28E0F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7E54C7A-D1E5-47AF-A13D-FFA0122E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DFBC95-2EF4-453A-AEE2-9BE45017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82FE5A-5367-4E40-BDF5-B249D090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78BD207-8B18-4AA7-8946-A58F8237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9421BEE-97E8-43B9-8242-828683DA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C5C7325-1658-4774-85B4-0D1779AC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4559DF-FB2F-42B0-A336-3D89983F4059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40357E-9072-46FC-93E0-B3B4948E9F31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D20984-60F0-4D33-B31C-A2F55BDC1FC3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5DDC64-1766-4321-9BE1-55A12DCB07AD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4B0DFF-1F98-438D-87DA-E98E6348887B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9E03D2-10F3-465B-8171-8728F6DD691C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0B24F7-AAE9-4E9A-A42C-6FD821039F1E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B8BDD0-095D-4373-8C51-B44781054F04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99709E-9C67-4F92-8BA0-E3E4AD2B16A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3533FD-FFA9-40C0-9C7F-E6FE0F534580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68E7FC-DDF6-4C59-B6EE-7EF09BB9E4C2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4D6940-3A49-4B6B-8D5E-2B8EBDB30EB4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CE93EB4-18E8-497E-821D-90B0EF7E28A8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A051959-99F1-4AF1-B511-F3B53FF89BD3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50EC1F0-2C0D-4CBB-9002-0945762DFD0B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EAEFB08-20A0-460B-88A3-0B20F7AFE4EC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C3C1793-2053-42BF-B9E4-A20742E2E82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607CD1E-7480-4ACE-9906-8EE3F963008E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C36CB92-160B-4F50-9A9A-C9AC74BA6152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22274DC-6749-4397-B122-B3F6FE40455E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E5546CB-0ABE-4ABE-8611-A38CD1547200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1B6EC8A-27AB-4818-9769-72905E2A0E22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BAC3532-2B60-4053-B7F1-FECF08C54438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8F34BBB-0B5C-4E9D-A563-0947D8E03DB0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38D0B90-14D5-4A52-8A34-A2046673DAE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C51FCE8-F60B-410D-829D-8254F5A2E0F7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9362170-1F95-40B4-AF73-B1A24D1F4057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BA7E97-1FDE-4F25-ACDF-FFE276D67A70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F181EE7-5A08-424C-A3FE-CCBE933A192E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33F2AC1-B9B6-4BF2-9FC1-40AF3FA6CF6A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603A0CE-FB7C-4673-9A38-C4A2893E58F8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ACED5C0-305A-47D8-9DF0-A3FCECEC342A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F122B19-B7F5-45F9-A5F4-A7AFA1C50519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3A2276A-5BD4-4A06-8A41-87FBB02921E7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EEECDD4-DBC5-49D9-BE6A-8E28112F8BB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5D1871F-39B4-479A-A5E8-BFB9D7FFD4C7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668C4D-0A5C-4271-8CA0-4DB1D389012F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9F3F84-9673-4B10-BCDF-4F864B7802F6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98F237-7388-4E0F-9E2C-0C78C773D9C2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5322A3-43C5-48F7-9FC2-FD9C27E246FC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D4BF9B-B80D-460D-BA6C-A8B288EF54FA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67D7A8-29C2-4945-BAA2-B00B3C5DF7F9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661F74-2ED9-4C75-B402-B0A12F3DFFB4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9CB290-37D7-45E3-9C1C-B91AC1252A56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CF9B75-2626-475C-9DD0-25FA84B48A1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033719-103A-4568-83A0-FE13D3CEEA3B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EB90D8-06F3-41D1-81BC-54AC7BD15D6C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3DB60E-5E08-4630-B50A-7E34661CBBC4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E73294D-4F3C-4E62-AB00-D2915B421EC6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5642B1E-8A86-4438-AB79-13AEA8754BA3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FD93A7B-CE6E-43ED-BCFA-8ABEE806DEA7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ED46C10-EB50-4609-8621-F2B199F7C1F6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114D195-2B20-4625-BE13-C38C729263BF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75B5873-E1F3-4EC4-BE9F-8F625913C151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76A7371-BDAE-407C-9E89-D580990E447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F121DFB-88E7-4572-8543-CA691DC8AE92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BFD5E99-9A81-4A94-B10B-D05C9DC23472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3F8BF80-F02F-4B7B-8ADA-B3F3529F4A8C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093A5FC-F945-4925-9469-D57EB25A37A9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7D6E3CF-7B98-42DC-BDE3-D0FDAA6C7AAC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8E15323-518E-4E90-AAEA-D1301B3786E1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63A2D90-27B8-45E7-9DC1-F44E24D33E52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AC0709-2D5B-4455-8621-11CA03FD4F13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B8FC9AC-C27C-4CC5-B9DA-33D3D5F8917E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59A2566-D018-4FF8-979B-7A822AD1F01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67430C1-2431-4BE3-A1BA-9DC3F1A7DD33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5BFB94D-E23C-4DEB-B813-450E00A15AB9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E191603-F9D6-4032-98E4-48DAE241D595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36C2D63-0FC6-4B8C-928B-D91A81F9C179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467AE3F-2E55-4401-A962-542F54E26A51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92D755F-1CEC-4081-9E5D-FEF7BE4DD6F9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FB71ED8-989D-4605-B8B9-AFBDE03B110C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C57147-A451-40F9-9C39-3581E2CBD545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BB6E58-5B07-46EB-A35C-F77E3D983899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ABE9F7-A817-4445-A63B-E0267F076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CEBF3F-E43B-4184-A2B0-CB33D10D10F9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61D146-F28E-4C7B-8340-FB9B67EC9CA2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8EBB2B-EAE4-4D50-8693-2C89B79B7778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64580A-B161-4600-959C-8CD2ABCBA552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388032-7E59-449E-9573-AD7ACF6F7652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5B2626-3000-42CA-BAB7-845386AA41BD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FF7308-A789-4C63-B30D-12EBA7EB3A22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CBBF1C-C971-4BE3-ACBF-C19345825C58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1AB139-0D06-4B7C-9C35-C1206CB74CC5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7FC3078-76A6-4E64-9A53-19C795ED2754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8374A4C-F98E-4B77-8DE0-6B3B22EFE7D4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BB8BDA9-3C41-4EB3-AF25-DEE8AE5FE20D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5EEFDC8-1C5C-40E1-BF19-E4CBAE101C44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DE86E57-82D1-48DE-8A64-5D8B1C46E8DC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1EEA2F6-D065-4B3E-9264-98EC1ED3F935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59D5BFC-6315-4AF4-82B5-367D0B48D94B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039DF7D-65B5-485E-A25D-E4BE00D7224E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10B6F85-EFBD-4F5C-AC7E-FD690A1F519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0A0-3958-4E8E-BD38-9BC83EA9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45B50D1-C9B3-4530-B811-0F40002139B0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B26A5ED-5F4B-4C04-9F70-4754B2EB078B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2B69811-5E66-426D-9044-815BE1783427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F125F4C-0FFF-42CA-8D8E-1A7A6022BD8D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72BF4D3-E7AF-428F-8C2C-F73CD2A9B236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4930A82-4E1F-4B9C-B420-865C577E58CE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1ADC677-39E4-48A8-9AE8-397C8DD2FE33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5497D3E-2AB0-4183-BF33-8D069FBF319C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A87DADD-6104-4CD1-9796-BC7062C2F91B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085F6BB-AF75-443F-AD93-5F4D6B34DD1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B74F-1A36-4F2C-826F-1435BA26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E9498FB-966D-48D2-A72E-8D913A26E6D6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3F25230-5736-4B76-869C-93BEB41993E2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A6E5C93-34F6-4A49-859A-BAD74751A4AA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244D796-6126-4E3F-99C4-17C516B3A8A1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20C7395-921B-4F23-883F-BFA6268C96A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B7DC-D0F9-4EE7-8B10-69F277BF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736-6417-4BC4-AC36-3233B6B9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6539-A09F-4AA8-BBAE-4E8E9C6E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2A1C-F19C-404B-8BAA-C0D21B68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567-E9FB-4D44-BEEC-EAB4880B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C41F-BEA6-4726-BC7C-EACB31D3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0168-A2DB-4EF7-8748-0CCFFC2F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98E-5577-4C8C-B6EE-E4620706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420-16DB-4F92-88E2-F4EF7CC4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39C-CA0C-4D48-ABCF-F72A78B4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2359D-4B94-468D-A65D-A18B3AEE105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EDE60-D3FE-4731-98A6-4CF6D882332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E3D47-FE91-45EA-9DCF-5798DE1B780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CAED6-A892-42AB-AFCF-0B7B7FE6775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25E82-454E-4709-A023-B68601A73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49431-AC84-495E-8654-560225DC8B6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10B54-16A3-4617-8280-6963DF8B468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A18FD-3FB4-462C-9BC0-8C68D43CA15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AF5F3-5C85-4AC4-850D-D2FFAAC9507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C78A6-2E11-44DA-827E-FE2E913E43E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30EAD-8728-4F6C-9F50-85EB0C686AB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0B70B-7258-4073-9CB7-B25D7F0A585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47F11-476E-4A81-BD70-0576BA1C658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3B98F-5CEE-4090-82A2-541FD17F7DF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EF88C-2DA6-494A-994E-65DB5B57E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731A2-51ED-430C-8BD5-A809D0F18833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E8818-29B8-4610-B40B-221A62EC22A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DEAFF-193F-4253-B40A-421763B9DBE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54A4C-67CD-459D-9907-784549A2BAB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3C3BB-F9E2-469A-A71D-C0AD2560D64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B3110-364B-4336-9950-75993C6A922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5F80D-219E-4018-8831-AC2E09BF23F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24816-AB71-451F-ACB4-DF9E496D87F1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542FB-C3EC-4FC2-A16C-AC7DBE73068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082B5-FF03-47D1-B11D-398997653D5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405DC-C36D-45E2-926B-24F578A49AF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B56F6-D878-4C9D-8134-C672CCC1C81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AA596-3381-415B-B975-16886B281B1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CF39B2-D775-4FAA-AA23-88A4D74A5AB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DD119-7B34-435C-BD36-C719CA1B791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74A074-5F92-4160-BAF8-9FE538DE75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0195B-5DEF-4BBE-8813-AE6686D113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7A70BC-72AE-4430-B9EB-5311FBA3E688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28B73-E076-43E7-ABE2-9084A134EC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95838-801C-4C96-B71B-1AF41D33970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BB168-C212-436E-8A07-4D714B2948A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A9E29-EA6B-4F22-ACED-1243684B872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79ADC-51C5-42FC-9511-3D2BF693EF1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2DF92-F7EE-4DA5-B59A-C1021A3EA99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2DC57-9FB4-4FD3-B6FC-8732770736B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FBA21-7336-41D2-A43F-F8FE712080C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5A850-52B8-49CE-9E0D-A12BACFB6CB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FE8C28-4B16-42F3-8808-F15D1DDEEB9D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63F7B-F74E-4FE6-95C3-4480A143C94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9E206-F221-4F26-89F5-E764D9DFE47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ABE34-9D64-49C3-A011-848AB10E860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07F5F-5F49-4802-8403-B11AD02E9923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156A8-564B-4A2D-BF03-A2BB75E34B3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C609E-55B0-4703-A056-D9ABE166279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840C2-D034-4DFC-AAF0-B1B5FE39704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D6D36-A497-4234-9EE2-77C2D6A6306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2D03D-9EDF-42BD-A0BC-B3898BC6D5B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82748B-39BC-4A61-BEBE-357D0D43FE5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B67D3-8FEC-40D4-A728-3C18BFC3CD4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A9C11-73F9-466C-9A82-19BA792CB3D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791A3-BD1D-43C9-8A5B-62F488B6575B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C941C-3544-4681-B456-16B8DF5EE34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A79E4-54ED-4B7C-8A99-3F25AC5C62E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6AAF4-176A-458C-898C-408D4D8B934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6551F-1DCF-43C9-B0C3-9670B9CA186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s://community.icann.org/display/alacpolicydev/At-Large+Policy+Development+Page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fri-discuss@atlarge-lists.icann.org" TargetMode="External"/><Relationship Id="rId2" Type="http://schemas.openxmlformats.org/officeDocument/2006/relationships/hyperlink" Target="https://community.icann.org/display/AFRALO/AFRALO+ALSes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ALAC, At-Large and AFRALO: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Working to Help Shape the Future of the Interne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Dr. Olivier Crepin-Leblond and 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ijani Ben Jem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Questions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385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The At-Large Community -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Representing the Perspective of the Internet End-Users a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Local, Regional and Glob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Slide Number Placeholder 2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F7D85-85CE-4C65-BEEE-274D41468AF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Rectangle 1"/>
          <p:cNvSpPr/>
          <p:nvPr/>
        </p:nvSpPr>
        <p:spPr>
          <a:xfrm>
            <a:off x="1371600" y="203976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What is the Issue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Rectangle 2"/>
          <p:cNvSpPr/>
          <p:nvPr/>
        </p:nvSpPr>
        <p:spPr>
          <a:xfrm>
            <a:off x="2133720" y="3106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Moving ahead with a PDP or not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Rectangle 4"/>
          <p:cNvSpPr/>
          <p:nvPr/>
        </p:nvSpPr>
        <p:spPr>
          <a:xfrm>
            <a:off x="4572000" y="31003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Assess / Arm WG recommendatio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Rectangle 5"/>
          <p:cNvSpPr/>
          <p:nvPr/>
        </p:nvSpPr>
        <p:spPr>
          <a:xfrm>
            <a:off x="6392880" y="203976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Final Approva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Straight Connector 14"/>
          <p:cNvSpPr/>
          <p:nvPr/>
        </p:nvSpPr>
        <p:spPr>
          <a:xfrm flipV="1">
            <a:off x="4495680" y="1922400"/>
            <a:ext cx="0" cy="363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8" name="Picture 6" descr="At-Large organizational structure_better margins"/>
          <p:cNvPicPr/>
          <p:nvPr/>
        </p:nvPicPr>
        <p:blipFill>
          <a:blip r:embed="rId1"/>
          <a:srcRect l="4399" t="5266" r="6034" b="9829"/>
          <a:stretch/>
        </p:blipFill>
        <p:spPr>
          <a:xfrm>
            <a:off x="328680" y="1442880"/>
            <a:ext cx="8704080" cy="53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Content Placeholder 4" descr=""/>
          <p:cNvPicPr/>
          <p:nvPr/>
        </p:nvPicPr>
        <p:blipFill>
          <a:blip r:embed="rId1"/>
          <a:stretch/>
        </p:blipFill>
        <p:spPr>
          <a:xfrm>
            <a:off x="1362240" y="1469880"/>
            <a:ext cx="6978600" cy="5369040"/>
          </a:xfrm>
          <a:prstGeom prst="rect">
            <a:avLst/>
          </a:prstGeom>
          <a:ln w="0">
            <a:noFill/>
          </a:ln>
        </p:spPr>
      </p:pic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3487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You Can Contribu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elp Shape At-Large Policy Ad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5" descr="ALAC - SF 2011.jpg"/>
          <p:cNvPicPr/>
          <p:nvPr/>
        </p:nvPicPr>
        <p:blipFill>
          <a:blip r:embed="rId1"/>
          <a:stretch/>
        </p:blipFill>
        <p:spPr>
          <a:xfrm>
            <a:off x="617400" y="23446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2332" name="TextBox 2"/>
          <p:cNvSpPr/>
          <p:nvPr/>
        </p:nvSpPr>
        <p:spPr>
          <a:xfrm>
            <a:off x="2928960" y="2290680"/>
            <a:ext cx="5576760" cy="33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20 Statements in 2013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Key Issu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2013 RA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WHO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P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ID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Stability and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licy Development Workspa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https://community.icann.org/display/alacpolicydev/At-Large+Policy+Development+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Policy Advic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Statements an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0233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Rectangle 3"/>
          <p:cNvSpPr/>
          <p:nvPr/>
        </p:nvSpPr>
        <p:spPr>
          <a:xfrm>
            <a:off x="380880" y="833400"/>
            <a:ext cx="860112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+16 Working Groups – open to all members of At-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Issue-based: WHOIS, New gTLDs, IDNs, etc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Activity-based: Capacity Building, Outreach, ICANN Academy Technology Taskforce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ject-based: At-Large Summit 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5 Regional At-Large Working Groups – serving as the umbrella to the over 150 At-Large Struc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vide key bottom-up input to the ALAC through channeling ALS feedback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6" name="Picture 1" descr="7453485972_9706203f93_k.jpg"/>
          <p:cNvPicPr/>
          <p:nvPr/>
        </p:nvPicPr>
        <p:blipFill>
          <a:blip r:embed="rId1"/>
          <a:srcRect l="0" t="23093" r="0" b="0"/>
          <a:stretch/>
        </p:blipFill>
        <p:spPr>
          <a:xfrm>
            <a:off x="995400" y="4235400"/>
            <a:ext cx="70722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22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presenting the Voice of the African End-Us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8" name="Picture 2" descr="AFRALO: Dakar Showcase 2011"/>
          <p:cNvPicPr/>
          <p:nvPr/>
        </p:nvPicPr>
        <p:blipFill>
          <a:blip r:embed="rId1"/>
          <a:srcRect l="0" t="7713" r="0" b="7713"/>
          <a:stretch/>
        </p:blipFill>
        <p:spPr>
          <a:xfrm>
            <a:off x="304920" y="2590920"/>
            <a:ext cx="853416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 txBox="1"/>
          <p:nvPr/>
        </p:nvSpPr>
        <p:spPr>
          <a:xfrm>
            <a:off x="2997000" y="853560"/>
            <a:ext cx="505908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Input into At-Large policy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Capacity Building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Capacity Building Webin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online education modules – to be develo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Outrea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CANN Meeting Showcases and Rece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Broch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/AfrICANN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tribution to ICANN African Strateg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rganization of IGF Pan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76262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42B52-0C34-4004-93D9-3ED0ECB49F1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2" name="Picture 2" descr="AFRALO: Dakar Showcase 2011"/>
          <p:cNvPicPr/>
          <p:nvPr/>
        </p:nvPicPr>
        <p:blipFill>
          <a:blip r:embed="rId1"/>
          <a:stretch/>
        </p:blipFill>
        <p:spPr>
          <a:xfrm>
            <a:off x="184320" y="1036800"/>
            <a:ext cx="2633400" cy="410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680760" y="1268280"/>
            <a:ext cx="7589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Monthly Telecon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I-Discuss Mailing Li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1"/>
              </a:rPr>
              <a:t>afri-discuss@atlarge-lists.icann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Wiki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At-Large Structure Workspa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2"/>
              </a:rPr>
              <a:t>https://community.icann.org/display/AFRALO/AFRALO+AL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Leadership – Representing AFRAL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Officers: Chair - Fatimata Seye Sylla; Vice-Chair – Tijani Ben Jemaa; Secretary: Aziz Hil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LAC Members: Titi Akinsanmi, Yaovi Atohoun, and Tijani Ben Jema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61CBC7-EFC6-4AC0-B87F-E166F586A59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 txBox="1"/>
          <p:nvPr/>
        </p:nvSpPr>
        <p:spPr>
          <a:xfrm>
            <a:off x="396720" y="1267920"/>
            <a:ext cx="79948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Monthly AFRALO Tele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AFRALO and At-Large Mailing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Join an At-Large Working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mment on At-Large Policy Advice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sk for Additional Information about ICANN and At-L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Beginner</a:t>
            </a:r>
            <a:r>
              <a:rPr b="1" lang="ja-JP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 Gui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LS Starter K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28320" y="321840"/>
            <a:ext cx="80629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to Help Shape the Voice of the Internet through AFRALO and At-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8" name="Picture 4" descr="http://farm4.staticflickr.com/3306/3559459694_af51a8166c.jpg"/>
          <p:cNvPicPr/>
          <p:nvPr/>
        </p:nvPicPr>
        <p:blipFill>
          <a:blip r:embed="rId1"/>
          <a:stretch/>
        </p:blipFill>
        <p:spPr>
          <a:xfrm>
            <a:off x="519120" y="3657600"/>
            <a:ext cx="7994520" cy="317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Gisella Gruber</cp:lastModifiedBy>
  <dcterms:modified xsi:type="dcterms:W3CDTF">2013-07-08T17:20:06Z</dcterms:modified>
  <cp:revision>100</cp:revision>
  <dc:subject/>
  <dc:title>GNSO Policy Issues</dc:title>
</cp:coreProperties>
</file>