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63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</p:sldMasterIdLst>
  <p:notesMasterIdLst>
    <p:notesMasterId r:id="rId64"/>
  </p:notesMasterIdLst>
  <p:sldIdLst>
    <p:sldId id="256" r:id="rId65"/>
    <p:sldId id="257" r:id="rId66"/>
    <p:sldId id="258" r:id="rId67"/>
    <p:sldId id="259" r:id="rId68"/>
    <p:sldId id="260" r:id="rId69"/>
    <p:sldId id="261" r:id="rId70"/>
    <p:sldId id="262" r:id="rId71"/>
    <p:sldId id="263" r:id="rId72"/>
    <p:sldId id="264" r:id="rId73"/>
    <p:sldId id="26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notesMaster" Target="notesMasters/notesMaster1.xml"/><Relationship Id="rId65" Type="http://schemas.openxmlformats.org/officeDocument/2006/relationships/slide" Target="slides/slide1.xml"/><Relationship Id="rId66" Type="http://schemas.openxmlformats.org/officeDocument/2006/relationships/slide" Target="slides/slide2.xml"/><Relationship Id="rId67" Type="http://schemas.openxmlformats.org/officeDocument/2006/relationships/slide" Target="slides/slide3.xml"/><Relationship Id="rId68" Type="http://schemas.openxmlformats.org/officeDocument/2006/relationships/slide" Target="slides/slide4.xml"/><Relationship Id="rId69" Type="http://schemas.openxmlformats.org/officeDocument/2006/relationships/slide" Target="slides/slide5.xml"/><Relationship Id="rId70" Type="http://schemas.openxmlformats.org/officeDocument/2006/relationships/slide" Target="slides/slide6.xml"/><Relationship Id="rId71" Type="http://schemas.openxmlformats.org/officeDocument/2006/relationships/slide" Target="slides/slide7.xml"/><Relationship Id="rId72" Type="http://schemas.openxmlformats.org/officeDocument/2006/relationships/slide" Target="slides/slide8.xml"/><Relationship Id="rId73" Type="http://schemas.openxmlformats.org/officeDocument/2006/relationships/slide" Target="slides/slide9.xml"/><Relationship Id="rId74" Type="http://schemas.openxmlformats.org/officeDocument/2006/relationships/slide" Target="slides/slide1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 type="dt" idx="6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5"/>
          <p:cNvSpPr>
            <a:spLocks noGrp="1"/>
          </p:cNvSpPr>
          <p:nvPr>
            <p:ph type="ftr" idx="6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6"/>
          <p:cNvSpPr>
            <a:spLocks noGrp="1"/>
          </p:cNvSpPr>
          <p:nvPr>
            <p:ph type="sldNum" idx="6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7A4B3E-DC52-48CF-BE93-1B8ACABE1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90779D-8597-46D2-9C8D-AB3DED5967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69A43-EDFE-4B0C-A63C-1E78F74AFDE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88F42-09A2-4436-BBE7-06BB962F261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D2D39B-A214-4EE3-87A6-998A6038FE6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665CC-973E-44FB-86D8-08816B2C02C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43174-6021-42AA-919C-2C8A1CB35CF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5C629-35CD-4F16-879C-D488B8E55AF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39ECE-E9A2-4D9E-8CEF-66A117645AB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25C37-BE98-4034-86D1-D0DC7B982A2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769E4-BC5F-47C7-A004-5C0C83C683E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119B-31D9-4C04-BA0D-BAE9475FE1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EE02-96C6-47C8-9ED7-AA7C2464B1B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F067-E853-44E1-A328-BE8BD319AA2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553C-EDB0-4C72-84B3-F07EBC49226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C0B8-8F1C-4DFA-BC2C-60BB5AE345E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ED1D-387E-4EE4-9C48-6EB354F0EFB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92FB-7DB4-4D0C-8D3C-C0AA885D0B9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02EF-43DE-4D08-AF13-08957D25900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F01B-8991-4045-9E3D-56E0C0F8504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B118-1913-4264-8050-9DE36F1FD56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F0B3-D1F9-439F-BCA5-97C2961B1C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0940-77E6-427C-B34C-D9AD14E7C99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BEE5FB-910E-4CFD-A8BB-ED8BB64861F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E51831-5FB1-453B-9042-3610B96E205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CCB788-6BE8-4C94-B76F-77FAF3DE281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738DA7-DE94-4416-967A-D2252ECA9F9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06726A-9C4B-41AF-947E-96AC7A80B7F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5FA067-FB3B-4047-A49F-C70BA112603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7A52FE-4FE9-4156-B1BE-1C988DEEF1B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9C0228-63B4-4220-90CC-C8DC40DD6A6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F6DFCD-B234-4E42-B694-37F3705218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97BD2B-C118-46C6-A864-AC7C778551A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2B1D59-B017-40BC-B9C2-996CFBDA1ED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0C6A03-6BB0-4D55-ADE4-E6845083730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2E5ED0-2325-41DB-9B71-F563C3F5326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6B898E-58CA-4B0A-BD3F-94A0C570E56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DD3185-ADD7-4CBF-9AB9-02E75665537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879453-F690-489A-A670-2E54DA72597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DFF939-39E9-4F08-A2AD-A4ACADEC52C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529468-BDAE-4C6D-8A76-F5881778BD0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352090-D347-4BC9-AE78-41ED08C20D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801574-4C12-4D14-9E92-B21D76B16F3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C79913-D43E-4AC2-A198-C91150148A6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98E35A-4457-4643-A5CF-5AC120FF8B9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756185-2C9F-4992-9207-C240E114355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09E7D6-17E1-444B-BEC5-8FCFE52E63A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C84C7-A662-4C5B-8B8D-8C741BE2478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CAB60-9987-461F-9F22-902D517A4B1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2678B-32B7-4892-9A4E-9BF5DAE2029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546F6-EEC5-41A3-AD90-537F023EEAA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75DA8-E377-4224-BAED-17E4250AE6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BA46F-C0EB-4932-8E41-09B3AB6FE09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1055E-08E1-4049-900D-BEACC3F2F80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11567-790F-4C7B-940D-4067267EC98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38FFC-E24A-4C5B-BD3A-22E077A842F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5CB58-F48E-4309-A848-5DC8721F1AD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7EC16-8A82-4655-89E5-FE75F50C40D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28AFB-CD85-433C-B6C6-27EF34D4D8D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73F9A-8167-40CA-81B7-2FB0FE06B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92FE5-FDBD-41F8-987E-5485CEEB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BC146-3588-4E61-AF3E-ED63E4DA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9FC22-AA53-4340-A4DD-698BF023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959AE-B1A2-40C2-806A-DDA8E9BD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93CB4-E9C5-4BFA-924C-02CB9DD2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F2019-B7CA-4CB2-9699-E04C332B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E441D-176A-4D0A-B96C-6DEC8A11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8FA92-E337-4DDE-AFFD-12241F52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A81A1-EEEE-42B9-9742-7CC1BFA3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C0EA4-F460-4BE5-A086-50BCF79D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6EB60-869E-4900-9123-8BAD6B96D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16736E-4AEE-4CE7-A2BB-B298CAA130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259935-0BBD-42BD-9B98-B3C6A2ED09E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F996F8-1168-424C-9BFB-B63D2359E99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0AF55E-83C7-459B-BFDD-CB908536D8B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DB7A4D-CA8E-4CED-9D56-462FDE1C810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E13A06-0EED-403B-8908-3E16CD1E176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45F183-D9D6-4B67-AE10-933453EF15B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59625F-5327-4E17-88A7-613BB9C46F8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099CB3-FDB2-4F58-ACDD-8B138224BF2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185C93-311C-4E02-8486-269A26D6346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5D3460-DAD2-467D-9498-51D74E8398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5DDE1F-93B6-4D8A-9199-27E0234B894F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AA01F1-00A9-46F3-BCC9-3189C7E98D93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9FA433-803F-4CF3-9E39-64F2036C7B3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28F278-2C5E-49B3-B4AB-6C875619123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C666DE-3815-4D69-B057-19FF7E504C9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19065B-F5E4-4EE4-B6F7-2D717CC8E1B2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B27B46-B460-4A77-BD71-552DAA06585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D2996E-84BB-4C07-8E2A-4517D5E652B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AFA34D-50CC-4221-A0F1-24753466742F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F7A1CF-8C58-4F07-BBD1-E1B6F1116F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2704E9-A057-4742-8DD1-FFE3A86F703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7AA66C-D01B-42FE-8676-EE20B814EB5C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7BA7DE-B42A-4B8D-B6AE-BC71E0B0EC73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497CC-BC6E-4894-BA73-A0595021E7A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F1C85-B29C-45AE-B35E-C2D976C87416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A07FC-72CE-4A9D-94D1-F4CB40B7AB7E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D0B06-23DA-49BF-8F4E-0A036C8E6E79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D983A-CD0D-4490-98D1-659C674942E1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22913-0E91-4145-BCEF-3868AC29769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78670-9427-45B4-B19C-6D1265EF18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B30C1-130A-4137-A750-0BCBCFB0B74C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A95AB-8719-48D9-AEA2-B08D780681F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E6695-3330-47B4-9738-7935C583A55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A2E3F-E224-412A-901A-DEEE8D876752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8A750-C685-4550-91AF-BC0F2B244687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74F8F8-CAC4-4DFA-9D07-52C7DB789C6C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24115E-A776-48A5-BF61-FC8FE94358DD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5F122B-384E-494F-84C3-12786C29CB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ACBF9B-D440-4224-8F0A-3947F28FCE4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E406C2-F15F-4704-BBA9-E39B3A2333EA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A73285-1293-4EFF-9369-F1069859B2F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D51181-BD16-44E3-82D3-A4ED5C49698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365789-C746-43E2-B03D-C627127564FA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06A631-825E-4041-BF4E-E9431B61B238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773083-0D26-415E-9971-01A33772704D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8EF0AD-14D9-4F80-BE59-69C177A1091A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AB5979-7827-43B8-83A2-2AF46B601028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D51736-76D8-4D41-8A70-980C29844A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47BA0A-C6C9-4B59-97C7-90662CF6944F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F89B7C-974C-47C1-8B00-45520A29349C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C973D4-BE08-4FA7-AE3A-FE6D19CF589D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6F906F-05D6-47A3-8BD1-822B817BCE1D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5F5630-8FFB-42CF-9504-33D8F64E5E02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29C98E-5222-45C3-8740-7EADF18CFBCB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738092-30CC-4DC9-88F3-89F08AB95FD8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60471B-77C4-4E1C-9DC1-E295CFB9738B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8908E7-0611-4B26-9CD3-DE718447CD2D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75EF96-7D88-47EA-A481-50A37B87B6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991A75-FB70-4537-8629-05E3B09ECBD3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1F9523-403E-47CD-8FF4-4DB34A754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10BD24-DECD-4311-9A47-CCA46C11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214688-6BB3-4E83-9EC2-4A49D192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0FCE4F-A359-47B7-98D0-6904DDB6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F6BD68-B90F-4391-A7E3-F595BFCE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025984-141E-4275-8374-1E945BDA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033CEB-830A-4CF1-B2F9-76AE8D2D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460DC2-6007-448D-A8D3-887C0545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068863-933F-4A5A-AB76-B14D02DD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0A90E8-C3D0-4EF3-B20C-55FC03D8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5BF5BA-C8EB-4C0F-BA71-46D33A71E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CDA419-F0D5-497C-8FC6-4D746E2A8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1847B-EB8D-4B9A-ADEE-8E65269DFD0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0CBF8-0FE7-44BF-AC0C-73A02529226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0FCE6-FE7E-43F7-B36D-0D51743FD37C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E5F43-3EF7-4426-BD13-B9D2926C9472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30D86-F13A-477D-91CA-2AFDB7B745E2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E6864-D6CF-4183-A9AA-6CEBC668FDF3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F689E-1DC2-4ADA-8A02-9AE66B3A322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F47FD-9B56-45FE-BD95-632D4F0A67B1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62AC7-A1E9-4BCA-80F4-BB71277E4EE8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AAEEB-9E7F-48F0-A8AB-2564E206E3C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2E1F1-E862-4C9B-A461-263D1EDA9FDF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B05FA-2EC3-49CA-9EF7-7C43F34B231E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CA09F3-AB6B-4889-AAC7-B7158E115A8A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2D8589-FAD4-4122-AD33-E02D04D138A7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8FBDD4-FCD1-4DD4-BEEE-7250CC370C89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6BEF60-3FE1-4AE6-8411-841AEA0EF883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67C8B8-C99D-4E19-98ED-91EFE9AD982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99166B-E394-46EF-8D20-1AFDEAF7AB09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CFBC77-1F89-4607-8090-6CBE98E574B4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9F949F-462F-486A-83C7-2A8499A2ED64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DA2A79-E628-403E-9CA1-97CA298DEBD1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1D28B3-F4CC-4B5B-879B-8934813ADFC3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78EC7D-9AEB-4516-8A62-652F8B2D91DC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573B46-5756-4DE6-92F1-1E9A7DD84A82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616F1C-9A81-4314-9B98-D5A37677A95D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101AEB-ACE8-4966-B6BA-A75578ADB91A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8C2CBA-6F6D-4A28-9B53-3D16BD9E774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93CDCE-AED0-429C-8F43-2A287A10936E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1E5EA5-E6F1-4AF3-B57F-9948849B7C7D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36FF4A-99BF-40B1-B6C7-13BBE87F1616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7DA79E-CD7F-4A45-8454-9CA12C4EECC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D72EDE-14B0-402F-9567-B2FE542F3C5A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8BB571-0561-45E2-B2B8-44E1B79D9B29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B2275C-2B11-418E-82E6-9AC86E156229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3961AD-E187-4A4D-9978-BD90B83016C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B1A47C-7177-4596-BD01-06343B7A6C6F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CD75B-8157-4B99-8803-80C093E7C5C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6D7D8-2BD8-4BFF-B951-E3ABB5E8251F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91A94-B8FE-4C0A-86B3-CDF4EAC7A9A4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9819B-F330-4F6D-A46C-1FD21B01C478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CA9C2-41DC-474E-9762-8611FADBD14B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B9C1B-D606-40B4-850D-47609D80D54E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8B2B4-610E-4DDF-8ADA-21C3112A626C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02CD8-0DB4-4679-B2F7-6D8EB5017801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CA3E7-450D-4050-87FD-118E0603B4E7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410C7-489B-4465-AC5C-73E5C5D3DB4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222D1-206B-4C75-8593-32BA306404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21DAC-87A0-46F7-A99C-5C6DB7EF4168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70494D-D4D6-4956-95FA-C72C98EE1AD3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531425-CF5A-4CAF-96A7-BCB776151C60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16EF5B-269A-4634-AC92-BDA6CDBEB6D8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57F199-4712-4820-9595-7EAAD92F1BDF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746DA3-B036-470F-A7E1-21E0BFCE62EE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82C2AE-FC7E-4512-B38C-0F4F94D10C41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9C08B6-A812-48AC-BB88-544C0995719D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9D19A3-5281-48AD-BE16-40770DBCA1B8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029025-95AC-4589-9E3D-B7CB2DFEA82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EDEAFC-F8E8-4209-A37A-945DD66EBDBA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831507-0B86-4260-A1F0-7BC2C243A4B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275D0A-46FE-448A-8C3F-531B90B01B8C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2E1178-A60D-43BA-AA51-C7873DFAD5B7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B05BF6-EEC4-491A-90BD-1B9289ABB04E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D15D02-71B7-4FC4-9B3A-622941FE259E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FC26A6-08E6-46A1-8E17-388A6BEFC8C5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EE2F08-9F32-49CC-AADE-2DB8BF025AE4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91B5BA-1F45-4CAB-9729-D44BD5493622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8381D7-F98C-48D1-A03A-14DBB7CD1AB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BA1152-2811-4168-A14A-8D12219DC220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224489-49A9-4201-A029-1E0BF2C663B6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8DC362-BA8B-4188-955B-928ABB6939B8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3CBFF9-4B42-4514-9F4D-9C2F834BFC12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E13EBF-A34C-4827-A336-A4AF146AC9ED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9AF04-E4E2-48AD-A4E1-4B799EF97105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DE80B-3ED7-4005-A4E8-C3E6CFA37479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A7808-7ABC-4AD1-BFF4-D4AF52F1ABBB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54427-8352-48D4-8DF5-ED4412C9DD6C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82FB7B-842D-4F0D-BA5B-F2554851E3C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8049B1-0059-4FFD-9B44-C85FA00DCE54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36359-BEA0-4085-A9A3-82EC71B7DB61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ED4A9-01F4-462F-ABDE-1EC6B266C962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4A9F1-F0E2-41D2-99B4-4C0BD057BF3E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8B678-B24B-45C7-B85C-89E582463D09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C49C0-6C4D-4DDE-B0F6-6B17603720D2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9C8D7-9FF6-4CCB-BEAB-FEDED18E13D0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142DB5-B6E5-4C98-83CE-6E3B13A36224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D5914B-28BF-493C-9102-4F1E45BAFCA8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E9BB66-B2F0-4994-B1C9-5D325FEADC8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385EFF-13A4-4AED-8846-AC27424CF8F3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E1E39A-4859-4718-AD25-371F21C4CBCB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5A122D-470E-4087-9E75-855C7E1C6BB6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F008BA-839A-4A5F-8242-33A21C84DBDE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6B6D6B-9B4B-4453-8E30-FE0D39F95DF4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98503E-A3FA-4E3D-A501-48E9EFE9229A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93F1AE-50D4-4BCE-AFA5-6D083130132E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7A727C-E470-4CFF-AB4E-709A053B47B5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373851-4150-43AA-880F-73BDAB3E0124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D5B44E-FFB3-4917-9E9B-893553449A3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641085-F290-4288-A51D-F9BB8D07DF3A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61FC89-E083-467F-A512-8B2D5D6214CF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3D4FF1-420A-4C56-9E13-F373871A6EB7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314CA4-A280-4E69-8B81-F3AF17B06D30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4BA992-06CD-4610-B9F1-0428E34E27C9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2930D8-BCAB-4C05-BD50-9EE1856528CA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FE9361-F330-4C89-BC5F-9EBF5A7BBFAB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2073AB-9834-4633-A93F-9EF44227861B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0F5753-FF1A-42D6-AADB-41C5A8001D36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220E60-7CAB-4C49-930D-1E1DD82E511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4A2BDC-FB3B-4701-BAFD-48FA6F6FAA48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90357-D9C3-4344-A58C-EF72584A3029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EE0C99-49D0-43D5-855F-F0D13B1A17CE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9FB71F-01DF-491E-8B92-6EF48F8EC872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0517AC-4DE6-4FBF-B9CD-D767E2DE3AE9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FB1F9E-6BA2-4D3B-B8D4-22CB37D3384B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FD94F-A5DD-4D02-9E58-9024ED081209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994BF4-2069-40E0-9465-539A12917D98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12A13B-8737-4B85-9DB2-B6C3DBBBC0A1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981AA-CB20-4C0F-BC83-CE94DFFD061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C0FE47-EC73-4ABD-AC94-6F8F9D5FDFAB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B110F-2ED7-4146-8141-759C68BDEF8B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038401-8129-4716-A14B-7A94DA63AFD1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88432CD-1A11-4B7B-96E8-9D106FE487B8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0F1A7DD-3981-4080-B4F1-D5481114D1D0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B85A6DB-83B6-4DB3-A856-89FE1B4F500A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DADAEC3-8B78-489D-84D6-C077543C80C1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32412B4-B1E5-4F1A-BFF0-1A94E7FD9FD2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7C823EB-12D4-43C3-B9B6-8B7DAD3EFA1A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9E7B809-4839-459B-AB19-C877BB34A9D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73604A2-2E08-4C74-82D3-9A6E0C3FBC62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2C2EA8-EA4B-4A9A-9777-CBCA018DD877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EE59C58-A082-43EC-A588-3486CE86D92B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92EF2F4-CAD4-434F-BA6E-4074AA7B9635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00C766E-736F-4CF0-8F23-56BF45CA1444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A82A81-D2AD-4915-AA0F-15BCBFF93305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D84084-4C8F-4529-BDFC-D7AAB5C9427B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2B3F7D8-AC38-4802-B126-933E13F7ACCC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DEEA98-2093-4B4D-9D2B-2E62FE5B9393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6A566C-73C2-4048-8811-94AAC3C2CFC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85FFF5-00A9-47AB-A696-AA7C88B9B344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7C6246-D761-4D04-8A1E-7D885CC7A507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F4BD72-022E-4C89-865B-78AA260FBBB4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6AD065-E812-4C5D-B646-B1239F5125FE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2C9FD5-52E8-4C36-BE02-3FE830A549ED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BB6BC4-31BB-4988-A6F5-F44E4CA677F9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3B5DB9-6FA5-4723-9B0B-8266B19AE20F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3705A-3067-460F-95B1-1288A4F5ED08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E1ED6-193E-409E-AB22-5DB4035DBFA3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F9EA8-238C-4EA8-A9B0-9EAEB58881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61876-743E-4310-93A9-980E88827AFD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C315C-2635-47B9-891C-61D971A64FC1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25764-45D7-4625-B299-DB876B273DAA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EE48B-C7AB-4951-B80F-41ABE40262D8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31AF8-305B-4D79-85D8-DACA7EA6E383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5B2EA-7C7F-4F5C-B508-A31F01A9F833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D6BA1-1EB0-483D-9033-9E9F18ABBEC1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D764D-CA26-4138-8397-50F594F655FF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551D9-B39D-4516-9145-BDEF0B277745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DCA4E7-B13A-44F6-8115-4FB00B15DAF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21B478-3FC2-47FC-AB3A-A09A550C1864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00D148-D4FF-4EE2-A1BB-380DA32F2A04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98C3D7-1D88-4E90-9521-0A4ECFE5F095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2F4B01-9FDD-42B5-8756-8AB801F19CEF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66190C-4E66-4963-9637-CF54CB70EC57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FF7653-8CC6-4A71-B445-395E3F792B51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456EF2-4B54-4177-B353-9FD5567B6964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A062BA-D53F-4FE1-A2F6-C8198B315773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3BDDE6-04D3-4E20-AE9D-CA5A0C244BD0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A4F139-C7C1-4602-BBA8-3343904CC0B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1CB7D4-AFDF-4AED-B01A-DB9F20625936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4DCFA66-2DAF-4E05-ADB6-E7058E0DE1EA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3370AA4-150C-4145-83BD-E4878E37D745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30FBB2C-B7E9-41D3-9937-AA9CA212C3C0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7ADD7D0-1AD4-49DA-9720-5C529587B040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2CE0EF1-BC1E-4A27-BC56-CC2C15F1698B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B4DA4B7-B4E8-4E31-951D-1C007AF5DD30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08410F6-0793-402F-B19C-C0CD8DEA27A0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56C7870-AC1A-40E5-8027-CB357CEE35F2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3B31E94-4CD9-45E4-A57F-A1A270FC2AA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5CFCDA-8722-4C6D-B2C6-60C839A004AD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F06D6A-C08C-4B70-8683-DA93BE3F4438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4A5467E-1607-4803-B3AB-522C5E6391AB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A09DD6-AC9E-4B58-B78A-4CDC06392560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3A13F9-5B00-4C6E-B91A-A4264945662B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3AE7F5-C0E1-45DE-A26B-F4FF52A571A3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DDBC1B-E092-4904-9856-F72BEB06B333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B28BA8-6FA6-43A5-A400-3734599BD843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BAE5F8-10B5-47B6-B751-C9012273482F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D85A0-2FD1-411E-AC0A-64259DF2B9E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3DC723-3068-4F5E-832C-C0B092A690ED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38DE85-5470-4F8B-B88F-A2A8C4CB3ABC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7F0332-306C-404D-83C6-925ED6B50320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22AE73-C52F-4B5A-AF21-A1354FBBEB02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7A7958-B956-46C0-860B-14DBC0D44F38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1BD05D3-B0C2-4655-855F-A0FB190BEE0A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F800C77-B370-479E-AF2F-98023FD1C94A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021AF54-EA3D-4369-B761-E3359CF017A6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F849848-39DF-48AB-B61F-E0A446443188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5CE3839-098F-4C30-8A23-CC5698627E3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1F003F8-E9EE-41EF-AFB9-5C0EAD581823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B09F209-1994-4133-B25F-FC93688D4D8A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B3CF266-2C87-443A-8041-941AAE7AFFDD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46866A0-9226-4D8B-AFAE-59A252170B45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1AA69C0-06B4-4B04-A92B-50F234AD6B54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5B550E8-78B5-4B7A-84E6-282920764B56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D36C4B2-2608-4D92-92F5-EF5791070A4B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6DC70F-7964-4859-BCB6-AF8486B4600E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7FB71E-E56C-4348-AF55-B9807EB74650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0B4164-7DEF-4631-AC0B-15411854EA8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6E520C-78B9-4ABA-81D9-04B99A6561EC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406531-C541-47AD-9865-5E75966DB5FE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8CB83E-75F6-4DBE-A0AC-0B1D9CBBD06C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2B47F1-A7D2-4C88-A98D-46FD27885331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EBAB0F-BFAA-427F-9180-323C8ADF3B0F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15B385-347F-4356-BDCE-C2113F17DA2A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F14E74-C7A2-451E-B0C5-FE411A9FB600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EC036D-B735-4AEE-8F94-D600899C8FB0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3EB944-80AC-4263-801D-44F581134DD3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100BFB-5851-47E8-A9F6-58788D9FD7B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272D66-1CA8-4E69-96DD-D5D7174B3F1A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27D9BB-78E1-42E9-A5F1-1410A83199E2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20BD3D-EA8E-4483-9FC7-529AB9D37486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5651FF-45F9-4C7B-97AB-0E98FEED6812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7F9E01-6009-4558-BDA4-3AEFB98FFA70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2E0FC5-62EA-46BD-8568-CAFEBDD02724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1F4FB0-C50D-4766-9CED-8681A88E8983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4E0075-1C63-4955-9C14-32C039CC3423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9AF8A5-2BB3-4EA0-B676-A3AF5C51C46C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C41AA0-E3FD-4FE9-8C22-98D631CBA27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F9845B-B071-4F79-924F-A1E9F991734E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42A00E9-B951-47BB-8A4F-628878EC1F99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EF05AE5-8E19-4C0D-A98F-7EF156576789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AB8BBE7-48FA-4CC6-B138-2FC64E1779E2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7AD4847-ECFA-4BF8-971D-A2416A6ECAAF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A761BFE-94A8-4C6C-B3F9-306F4110CBAD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186C610-24BC-47FB-9D10-4F464E348E9D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B4EE331-69F6-4077-82C2-C6D4C2E2E5C8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9B40D73-A309-44D9-9B19-97434E49E7C7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9A749ED-4252-43EF-92AD-A39AD84D124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4D27DFB-337D-49C9-8EBD-4D172016B29F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FCE0572-CC68-40AE-8424-F41568B1F76C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AC10980-39B5-4C73-94A3-8CB70B8BECA3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BB4E95C-119F-4FC4-A126-C5FEBB92330D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3D1F886-7E5D-42B8-8465-DA4B79994190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9A85203-0545-4BE6-BFF2-8315EE76DF0C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ACD4E12-5C29-4EF4-9C49-A84479B5D4BF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4B320C7-668C-4000-A340-735B92DA1CF7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D70C709-503F-4795-BEFE-B4B3ABF61DAD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CEA7FAC-A4EE-4778-8A91-BF81C0AE24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512D3EE-CB35-430A-B2CE-E66B26BDF738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44A950D-A408-4E6C-BA24-F0901CABDC7C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2DC4E71-9096-4D6F-9B06-A5DF8F89E828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DD3A0BE-F3F0-433F-A8D2-53A9D51AF757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405DFF5-2238-4185-97AF-B0D9507DB5F1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F68550-BABE-4CDC-A263-D4C4EB72C59D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4F1A5C-A305-4809-87A0-E864AA3B5698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75D6C0-8FC5-4727-8C54-2AFB2297AA13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335015-5BA0-4B21-A4A9-16F59E0F0EC1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66A87F-2936-4028-A95F-D90C1A338E9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3EB7FA-9547-4E69-9D60-7B6ED8545D92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C3EE9A-A0D9-4376-9B32-FD7FAF935FB0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882760-731C-4BCB-BB1A-ADE4E1E9E0EB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AA9A9B-BD2A-406B-9CD2-6D695DF0A896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66506C-4FB3-4912-932F-DDC340FF2B19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67C1A3-6068-488A-9598-F59E388EBCEC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E26D8E-77A0-4B8A-99DE-2E3D28CCA812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6FD7779-7C5E-4D68-907B-530435AC61B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DBBA1F5-587D-4B70-BEEF-E98C8297069F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F7EA0FD-A080-4961-9BE2-CD719BD5497A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CF2AABA-1923-40BB-B2A1-757EF3DDA1A9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6E7B08D-BBF0-4D52-A622-7063E37A966F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E4D9565-BAD2-4EE5-87A2-FA023A0190C2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D676472-CC5F-447A-977D-EA12384EC68F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384B7E7-674F-428A-8E41-47D6B431B616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392300D-FE5C-4CD4-ACAE-3858BC27DE6D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992BE61-15A9-46C5-AA3A-1B2BB7AD21A6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B55E952-87B1-4343-8146-AC57BEF3E16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B673C83-3642-458C-B6CA-A74A8AE72A61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BF6DD2C-E948-4F2F-A211-CB658F4D0B1A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9BCA4B3-63F1-486A-8708-849C0C7D601A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C289526-3345-4A9A-9F0F-D1CA7F76AD42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4AAD266-A7B9-4FF9-B5B5-17D1041FAAFC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22F6C1B-18A2-4989-A33E-4D8620EB7A47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823530B-AEA6-49C2-843D-047F7813DA4C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B109589-6486-4485-A94C-3213F6F8F517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202C058-6585-41AC-BE38-538ED049F055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7567D71-EAAF-4679-A581-5E9A83E13ED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DE654DE-204B-44F0-9966-569B037A5AAB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DC01695-0421-4979-A59E-B03481568BF2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CFCC3AF-0D16-4A18-AA97-6597DD9D1856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7E7087-843D-462D-BFD5-E353EFEDB887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24D51F-C705-46CC-B227-D37DBFF08577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F906C8-127A-4E3A-A5FF-05FC3A04AA68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B48A39-4616-407F-8206-B07183DD8E78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7B70D9-9F00-407C-94FF-86B72D86F2FD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C77B57-11FF-4CF7-A7BA-B7C8051A35BA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02D833-5FA3-4F55-9330-EE290D8C724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657E2C-B1DC-4B58-A736-0770FDD04484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2DA8DA-1582-4DBA-9344-6A690AF2EC15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A061A7-6FF6-47D0-B868-C31CD08ECD4E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8D8C9B-99FD-4454-837E-FF6EFBC4D107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E2B11A-A2BC-4F4D-810F-30859A12AE51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7AE7969-08B3-4A6D-B4F5-1CB03AB8E8A5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54FF5BA-EFEC-4412-8ACB-BA21B5768EC7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38A6270-4E58-4532-BFD6-290EBD48B1E6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32F5C60-48CB-4948-A865-64CD4FDB25BF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8320EED-CD38-446D-97CF-9F9BC8D7FB6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82EC990-396B-48A8-8518-74B6873F2F35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613BF62-BF98-4305-82BD-8E1546EFA623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44F86BC-9683-4560-84E7-5583112C8E7E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0667799-F1C9-4632-9BF0-48F389E949C5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39A5BA6-84E4-4850-99B0-C004C3FC44B0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ADDCE66-6275-4865-B78C-A130C806876C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10237D1-7213-45C1-89C2-480CA67DD111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A620826-E559-4F20-B8F7-D34028EE3EEF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3D45B2E-72A4-4FB8-B1F0-84D06FB6C6AE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0E14C98-43C1-46FC-B599-4B1BD0A8D14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2F50F7F-8601-4BB4-88BA-E0DA8AAC9823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30EA756-B1F6-47FB-B300-B500E8BBAB39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BEB75E7-DB4B-4ED1-896A-5718ECB23911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A4CBE89-45DC-4BF0-AA23-6C3F3F8FD106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E88E843-D43E-400F-BBC7-F049BCFF3CDB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E8AA9AB-8099-4969-9A5A-A97AEEED2376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F3AC508-13E9-4913-A3BC-299D7C466D66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E005C4A-2274-402D-BC9B-EDA419189A46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FC7914F-FAC5-492E-A79F-C0BC46A2FFF0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8906821-60C2-490D-8230-1AB25762D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AF897C3-446E-4BE8-BF27-A8D7853D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CD027D6-7BF9-41C0-BCF6-ADCF80EB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B64BBAA-5352-40A4-B9F6-BC4E6BDD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B064FCD-32AD-4DAD-8387-77B0070C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2FD7743-3F97-4430-BCBC-3888C1FC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6BD4D78-5546-4B9A-9812-D52FBFEE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6DDBA86-111E-4BB1-A157-D269D2F0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003DB2F-F5D4-490A-89A8-5C7716EE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4E0B6EC-9203-40B7-95C3-1E8FF3FA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2EF25EF-A5BD-4574-92EB-AD4E08F73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9223466-CAF7-44BF-9710-A5C4C9852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E9EB0C-810C-4215-A767-0FB079DCB87F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729002-5BE7-4D62-B80C-66B68D3B5B1F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13BFF2-4E0B-4235-BC73-3A676C2115B6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9F8943-1ECC-4E68-BC05-1BF91DC2DEDA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47CA60-10D4-4BBE-B216-2E9ECD075EEB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C820A4-0CBB-4713-9BAF-44F620C0158E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1DBBEB-138B-4CAE-BB57-CE5F2A9CE9CC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10831E-C0B7-4C8A-8CD0-9AA1098DCCA5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D74139-4C0A-495F-8025-A17315397E4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9CD90F-377C-4133-898C-3A61B10DC67B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20CB61-F1E8-4939-8985-3BC9EF62CBDB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B62AF4-4F81-44D8-A5A5-933A3B7C765A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6696A51-C8C4-4031-8DE7-F93E410FFD28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AAD38A1-39D0-4E53-B82B-A801686698CC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358558F-BBF8-4CB2-AEBC-774A1F83AD96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3377685-F4CD-4D75-9970-4770571CA358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E700BD1-FBF8-43BF-9587-AC8350D59B2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C4E5690-2C6F-4F11-B5F3-4F56504780DD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6DEE5B7-F162-4981-AD28-E742A93A5FEF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D5E2B9C-4244-4EA2-AEC3-F4328044B342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4A20514-980B-4594-9FF4-47073173FFDF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6A786EA-6810-4D2C-9703-E5A947237852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9EDDBA3-D9ED-4C89-B98A-C4A716733573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FE2DD19-1AF9-4357-9C9B-D37408704F7B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91338CB-A3B5-4FE1-B6C0-9306AF7CFAC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6F2BBBC-8CB8-442D-8EDD-FDAE1AEF7594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E386A70-8581-45ED-AA98-A782D2D3832A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99B93D2-68CF-401B-8247-5C52CFAA5012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A7DE9A9-BCF7-49B9-8B8A-78C6C622A2C2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6ACC5C2-8C9D-46C8-AE91-6C0297123C9C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D1BD0D2-BDD1-49B7-8868-56E2C348B2F0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B5DE31C-4124-44A8-A3B5-68F33B1181D8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FAED0A3-E68B-4503-B07D-BC31F0496206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F422089-5ABC-466D-851A-D197930D6EB5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60F60FA-4C99-4FAE-9AB0-7AFC2430465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5FAA0BB-C1F7-4396-B802-FA670B01B257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B45DC0-0A3F-42C2-BF3F-66ED5EE957FF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1F5AAD-715F-424B-B289-333D8942EFDC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BF96D7-73E9-4892-89BC-76C1FD47E3BE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4EF54A-F04C-4182-A4D1-87BB48A4E18C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A5FA29-57EC-4DCD-B4F5-77535D68FAFC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07F1B4-7BA1-4BA0-863F-3CF00D3B6090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D04FD0-910B-4757-AF21-2FE9DE5A03DE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7EAF60-7EA7-46F0-9D08-BBC208FB81A6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03DDD6-51BB-4961-845C-65E82DA8EEA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CF0CF8-E1D7-4224-9AE0-99870DAB7601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AF8B92-42BC-455B-9F2A-1E800E244D48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8B7DEA-F21F-42E0-8BB5-5ECEE7D5B74A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0DD4215-46D4-4E2F-B3E2-5705FCBA93A7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D5284E3-4544-426F-B527-DA417CD917B0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541F32E-88FC-43F6-BDC1-61B8AC188B83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10C4693-0260-421C-A216-8F8F2C6184AD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5842884-4FA6-419A-9189-B913BE54285B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79784BA-2D3E-425E-A454-43CD20B63A88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2BAB062-83FF-4562-9DDC-DF12D5F456B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7D78A2F-44D5-420A-9865-3A421EB4F5C3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D5343A9-6B41-43DA-BD70-CFC3C7A8856A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5F3B5BF-6470-4128-AB2D-54CA1E0112B8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A54A48F-2CA8-4F71-B52F-DB0CD3A018B1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CFA5BD2-C110-4C0A-AC3A-73B48607701F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178F3CD-4836-453E-9F96-A6B31B51153C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4016853-A756-497C-87C6-5887ACED74DD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BE916F4-9D44-49BA-A12A-DEF7F33D035E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7434535-3523-46DA-A986-5359BC1B644D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2542D70-9F6D-4353-BEE3-4050177F44F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8989B3A-4FCE-4C84-83EC-844FCBB0DD53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6B0B37C-946E-4916-8FD2-661808BA3A55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D07CD84-300E-47C8-A8A0-5F65FC3D6B5E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F5460D4-06DA-46FE-9418-7688FD0C78ED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5589DD2-C63E-4DCE-8109-B559DF17F2BC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7C49E21-BAFC-450B-BF82-6B49F621A1BE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4C70341-0F51-49A1-ADC4-84C548632136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72A8B2-85A2-4B96-8436-79DED8AC3AC8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F6FFBB-7FA3-4185-9CCE-AC841D292B1D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1E1033-69DF-4FAF-A3CF-DC8D0AA7EA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5B5FEE-C5AB-45FE-902C-89BF96BAEF18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F41847-6DAD-4437-97F3-98F4C77BE476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63FF24-5735-473B-93DE-30A767959DD4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4B72AC-A578-477A-95CA-01D9F063F288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EABE12-0523-408F-B260-3418095FA03A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229D0F-1A20-4A35-8646-F75F157B8E14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0FA3A8-50F6-44AA-960D-C049E4AB83D6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9BEBE9-8B9A-4EE1-8CD8-053E5DBA9579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A027FE-9C1C-49FE-9E72-041A8F44D7A5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74FBD52-52B4-4467-8FF0-160938E64356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4E03562-22EA-41D7-BA5E-4C5E26349D4E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ECFAB45-DCDE-4B1A-B714-88C1B98CA66D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2672E68-FF50-46A3-BAA8-FC7223C61952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78CD32C-D652-4727-B221-67E6347C1A7C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6165952-5838-4CE4-8960-EFFD0D482675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B4FCA6F-7B2E-4645-9C1D-3E86EA43A645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572BD29-FE89-4A40-A18A-D85F2ED0CE8F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33430C5-8145-4BE4-A025-52CB7F9AAB4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106B-93E4-484F-8E8D-1392993D6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D5C97A6-6A25-4694-A400-A7688DC6C465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477652D-1ACB-404A-A829-D235612CC39B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EC0CA66-B736-4518-9B69-E53E18B5E517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B8570D9-2501-4579-A172-F6A950970035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070F72F-F68C-45E3-8E20-8B9EB61E179E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EE0D4BD-0FEE-4697-95AB-51D0C5E21A44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1B2E6C0-E86D-43ED-A514-919F9781A40A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CCE4FF9-3945-419B-9747-6BAAD63676A1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7061D3D-CF5F-47CB-85B3-68054160BAE7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0F70CE6-B477-41D6-96F6-8B9319873E1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0369-0AE6-442E-B562-3988B1DB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1429651-33E1-4649-B239-081DC6C61E0B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6213376-E9A8-4FF0-BCD7-23DF8ABFEAB1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4DE7004-16E2-48AF-A2B0-484801851EC0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5A8C294-E7FB-4AAF-AD57-4778CA90ADDE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37C5998-CDA9-438B-8BFD-FCFC87AABEE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D567-6B10-45EA-A599-7291246F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066E-3CDC-4C70-A4CA-35E2C549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9852-743E-4213-BC91-48504438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873F-5731-42B4-A9A2-3C25EE52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F003-DA90-4818-91BC-97DCD9E7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D3DE-2192-480A-9B65-F7E814F4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8EF1-AC1E-4CD6-8AE6-016E35C1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67CC-6304-4945-BB10-2FFA6301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B253-C86C-4688-B752-8B250EE93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3270-CC1F-406A-9882-46474BD83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BA70E-105C-4C04-8BDB-EB1F07DE625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F2B73-F770-4A85-88EF-04EA0C0B35D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DB6AB-6BE0-4095-8B34-07CB0A2CF49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7BCA3-4EE6-4505-A9A3-4040B6162B2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38641-67D3-4C13-BAD0-30D85C2E38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B9FC2-03BE-400B-BBBD-4E56BDE2A19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DE466-FC75-4E57-8630-E5E2ECFAC87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BFB16-6DAF-4D31-945E-7747B449C12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3C400E-5808-4D1C-8F08-FE9D1411D4C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6A93E-64E7-43EE-AD08-7148E781413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ABEB1-55FB-44E2-96B8-B77AC393DB1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ACD72-BE69-4063-9263-D657BE63593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1EFC6-211E-46A3-9E20-6A10AD3832F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E2DA7-82A0-4156-BBF5-8DAE1F36C67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6881E-43EC-4750-BA5B-696A05A1DB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Num" idx="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Num" idx="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Num" idx="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Num" idx="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240563-DC86-47CE-830E-D95AB36523A2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29267E-897D-4B55-B975-ADF1DE3F824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B9FE36-3B1A-4D7C-91DD-B7A5D7B3084F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ADEBF1-9880-46E8-BC8B-238342DD005F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A4D886-4E08-4C0D-BCC9-50E4A982D72E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AB47FF-BC33-4F19-BE19-F93A3A8AC2BE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A280FA-6584-4349-B987-CFA1898B7CF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D694A3-28A9-4F1E-8C5A-3F8586F0470F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A142BB-2BB9-49D2-9337-6FFB3762E61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Num" idx="2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F735BA-7967-470C-8ADE-E33643DF205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Num" idx="2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1630EE-3292-462A-B3AB-E79A130BCED4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Num" idx="2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624775-58BC-4C18-B846-7D431813C99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Num" idx="2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D2C5F2-5A6F-4343-A97F-D1855A48834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Num" idx="2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9CDA4A-C10E-4309-A926-74F122CD685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Num" idx="2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8E8183-23E8-4F1E-A3B8-6BDB68A2D34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Num" idx="2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BA004E-05C3-4635-B5DD-B65E3DCA7A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Num" idx="2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07A2A2-4CCA-4B20-A736-0FE0DF543C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766FC1-1D88-4C1D-A383-5EFEB03891C4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Num" idx="2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7F5608-0528-4216-8F90-2A10D252C4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Num" idx="3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B84E3C-7D44-4C84-BCBB-475F7DBEFD5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ldNum" idx="3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810F8A-61EB-4C24-9866-A0F2F0315572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Num" idx="3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08CAF9-634B-410C-8220-A6E1C6B5F2B5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Num" idx="3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BE6172-6A11-4E80-AD2E-E333C39B5175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ldNum" idx="3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3947C2-58D3-48D5-8EC9-90845B8EAAF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Num" idx="3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35DA92-E081-477B-9ED8-7CEE539C9348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TextBox 1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ldNum" idx="3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A6A7BA-B189-465B-AB36-4EE0E2BC51E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Num" idx="3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DCE469-6FDE-40E2-AEF6-487B517F1A9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Num" idx="3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5FA071-A828-4BDB-AFB5-9ED931DF5F8E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Num" idx="3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sldNum" idx="4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0BAEA4-B9D5-465E-AD1C-0692C838C31F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ldNum" idx="41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Num" idx="4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002081-C4DB-4797-A9A8-027FCA5A7D9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ldNum" idx="4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838AC9-DBFB-4CB5-A4C2-8EDD30AA001C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sldNum" idx="44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sldNum" idx="4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sldNum" idx="4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sldNum" idx="4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466169-EEA5-468B-A9E4-D745881D4A1B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 type="ftr" idx="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 type="sldNum" idx="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3F398E-3ECE-4CAD-A9B7-938C25C8BF1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ldNum" idx="5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3CDC1B-ED60-4446-8836-1C2DBFB614C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sldNum" idx="5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2BEE49-394F-4BDF-BF16-632B72FB245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sldNum" idx="5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99693B-A4FE-4278-8EC0-3FDFC6345564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ldNum" idx="5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2E1076-B920-48FC-BECD-FE734496370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sldNum" idx="5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0C08F2-7C61-482D-A8B9-56B0AFD9B70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sldNum" idx="5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B9CE44-E93E-4115-9157-E65C096D76C5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sldNum" idx="5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9A8C1E-F364-44DA-8999-1E8A6DF8205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F8023F-D344-449F-906B-9C87AE45E169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sldNum" idx="5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797897-0CAF-4484-96C0-E81AEFD41A8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sldNum" idx="5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7C72B8-9B85-4776-BAD8-7B8FC9ED849E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C0F2BE-D85A-44E7-BD4C-11B147D69B3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Num" idx="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5A4A48-4143-418A-A4F0-05E76794792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Num" idx="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s://community.icann.org/display/alacpolicydev/At-Large+Policy+Development+Page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afri-discuss@atlarge-lists.icann.org" TargetMode="External"/><Relationship Id="rId2" Type="http://schemas.openxmlformats.org/officeDocument/2006/relationships/hyperlink" Target="https://community.icann.org/display/AFRALO/AFRALO+ALSes" TargetMode="External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528120" y="599760"/>
            <a:ext cx="78598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ALAC, At-Large and AFRALO:</a:t>
            </a: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Working to Help Shape the Future of the Internet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Dr. Olivier Crepin-Leblond and </a:t>
            </a: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Tijani Ben Jema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0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2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528120" y="599760"/>
            <a:ext cx="78598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Questions?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0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3851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The At-Large Community -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Representing the Perspective of the Internet End-Users at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Local, Regional and Global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2" name="Slide Number Placeholder 2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065F3C-38E5-4FE3-83C5-FE367240F90C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Rectangle 1"/>
          <p:cNvSpPr/>
          <p:nvPr/>
        </p:nvSpPr>
        <p:spPr>
          <a:xfrm>
            <a:off x="1371600" y="203976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What is the Issue?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Rectangle 2"/>
          <p:cNvSpPr/>
          <p:nvPr/>
        </p:nvSpPr>
        <p:spPr>
          <a:xfrm>
            <a:off x="2133720" y="31068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Moving ahead with a PDP or not?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5" name="Rectangle 4"/>
          <p:cNvSpPr/>
          <p:nvPr/>
        </p:nvSpPr>
        <p:spPr>
          <a:xfrm>
            <a:off x="4572000" y="310032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Assess / Arm WG recommendations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Rectangle 5"/>
          <p:cNvSpPr/>
          <p:nvPr/>
        </p:nvSpPr>
        <p:spPr>
          <a:xfrm>
            <a:off x="6392880" y="2039760"/>
            <a:ext cx="101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Final Approval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7" name="Straight Connector 14"/>
          <p:cNvSpPr/>
          <p:nvPr/>
        </p:nvSpPr>
        <p:spPr>
          <a:xfrm flipV="1">
            <a:off x="4495680" y="1922400"/>
            <a:ext cx="0" cy="3636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8" name="Picture 6" descr="At-Large organizational structure_better margins"/>
          <p:cNvPicPr/>
          <p:nvPr/>
        </p:nvPicPr>
        <p:blipFill>
          <a:blip r:embed="rId1"/>
          <a:srcRect l="4399" t="5266" r="6034" b="9829"/>
          <a:stretch/>
        </p:blipFill>
        <p:spPr>
          <a:xfrm>
            <a:off x="328680" y="1442880"/>
            <a:ext cx="8704080" cy="5380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9" name="Content Placeholder 4" descr=""/>
          <p:cNvPicPr/>
          <p:nvPr/>
        </p:nvPicPr>
        <p:blipFill>
          <a:blip r:embed="rId1"/>
          <a:stretch/>
        </p:blipFill>
        <p:spPr>
          <a:xfrm>
            <a:off x="1362240" y="1469880"/>
            <a:ext cx="6978600" cy="5369040"/>
          </a:xfrm>
          <a:prstGeom prst="rect">
            <a:avLst/>
          </a:prstGeom>
          <a:ln w="0">
            <a:noFill/>
          </a:ln>
        </p:spPr>
      </p:pic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328320" y="322200"/>
            <a:ext cx="83487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How You Can Contribut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Help Shape At-Large Policy Ad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1" name="Picture 5" descr="ALAC - SF 2011.jpg"/>
          <p:cNvPicPr/>
          <p:nvPr/>
        </p:nvPicPr>
        <p:blipFill>
          <a:blip r:embed="rId1"/>
          <a:stretch/>
        </p:blipFill>
        <p:spPr>
          <a:xfrm>
            <a:off x="617400" y="2344680"/>
            <a:ext cx="2133720" cy="2286000"/>
          </a:xfrm>
          <a:prstGeom prst="rect">
            <a:avLst/>
          </a:prstGeom>
          <a:ln w="0">
            <a:noFill/>
          </a:ln>
        </p:spPr>
      </p:pic>
      <p:sp>
        <p:nvSpPr>
          <p:cNvPr id="2332" name="TextBox 2"/>
          <p:cNvSpPr/>
          <p:nvPr/>
        </p:nvSpPr>
        <p:spPr>
          <a:xfrm>
            <a:off x="2928960" y="2290680"/>
            <a:ext cx="5576760" cy="33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20 Statements in 2013 to d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Key Issue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2013 RA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WHO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PIC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ID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Stability and Secu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olicy Development Workspa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2"/>
              </a:rPr>
              <a:t>https://community.icann.org/display/alacpolicydev/At-Large+Policy+Development+P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1756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At-Large Policy Advice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Statements and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328320" y="322200"/>
            <a:ext cx="802332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At-Large Working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Rectangle 3"/>
          <p:cNvSpPr/>
          <p:nvPr/>
        </p:nvSpPr>
        <p:spPr>
          <a:xfrm>
            <a:off x="380880" y="833400"/>
            <a:ext cx="8601120" cy="35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+16 Working Groups – open to all members of At-Lar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Issue-based: WHOIS, New gTLDs, IDNs, etc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Activity-based: Capacity Building, Outreach, ICANN Academy Technology Taskforce, 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Project-based: At-Large Summit I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5 Regional At-Large Working Groups – serving as the umbrella to the over 150 At-Large Structur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Provide key bottom-up input to the ALAC through channeling ALS feedback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6" name="Picture 1" descr="7453485972_9706203f93_k.jpg"/>
          <p:cNvPicPr/>
          <p:nvPr/>
        </p:nvPicPr>
        <p:blipFill>
          <a:blip r:embed="rId1"/>
          <a:srcRect l="0" t="23093" r="0" b="0"/>
          <a:stretch/>
        </p:blipFill>
        <p:spPr>
          <a:xfrm>
            <a:off x="995400" y="4235400"/>
            <a:ext cx="7072200" cy="2560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22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presenting the Voice of the African End-User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8" name="Picture 2" descr="AFRALO: Dakar Showcase 2011"/>
          <p:cNvPicPr/>
          <p:nvPr/>
        </p:nvPicPr>
        <p:blipFill>
          <a:blip r:embed="rId1"/>
          <a:srcRect l="0" t="7713" r="0" b="7713"/>
          <a:stretch/>
        </p:blipFill>
        <p:spPr>
          <a:xfrm>
            <a:off x="304920" y="2590920"/>
            <a:ext cx="8534160" cy="3666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"/>
          <p:cNvSpPr txBox="1"/>
          <p:nvPr/>
        </p:nvSpPr>
        <p:spPr>
          <a:xfrm>
            <a:off x="2997000" y="853560"/>
            <a:ext cx="5059080" cy="58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Input into At-Large policy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Capacity Building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Capacity Building Webin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online education modules – to be develop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Outreach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ICANN Meeting Showcases and Recep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Broch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/AfrICANN Mee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Contribution to ICANN African Strateg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Organization of IGF Pan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76262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5C6624-CF7A-4928-8E32-4DCA43501FE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2" name="Picture 2" descr="AFRALO: Dakar Showcase 2011"/>
          <p:cNvPicPr/>
          <p:nvPr/>
        </p:nvPicPr>
        <p:blipFill>
          <a:blip r:embed="rId1"/>
          <a:stretch/>
        </p:blipFill>
        <p:spPr>
          <a:xfrm>
            <a:off x="184320" y="1036800"/>
            <a:ext cx="2633400" cy="4101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"/>
          <p:cNvSpPr txBox="1"/>
          <p:nvPr/>
        </p:nvSpPr>
        <p:spPr>
          <a:xfrm>
            <a:off x="680760" y="1268280"/>
            <a:ext cx="758988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Monthly Teleconfer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I-Discuss Mailing Lis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Helvetica Neue"/>
                <a:ea typeface="ＭＳ Ｐゴシック"/>
                <a:hlinkClick r:id="rId1"/>
              </a:rPr>
              <a:t>afri-discuss@atlarge-lists.icann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Wiki P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FRALO At-Large Structure Workspac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Helvetica Neue"/>
                <a:ea typeface="ＭＳ Ｐゴシック"/>
                <a:hlinkClick r:id="rId2"/>
              </a:rPr>
              <a:t>https://community.icann.org/display/AFRALO/AFRALO+AL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Leadership – Representing AFRAL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FRALO Officers: Chair - Fatimata Seye Sylla; Vice-Chair – Tijani Ben Jemaa; Secretary: Aziz Hila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LAC Members: Titi Akinsanmi, Yaovi Atohoun, and Tijani Ben Jema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1756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 Working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04FDD6-1277-4298-B935-2981D95BD64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"/>
          <p:cNvSpPr txBox="1"/>
          <p:nvPr/>
        </p:nvSpPr>
        <p:spPr>
          <a:xfrm>
            <a:off x="396720" y="1267920"/>
            <a:ext cx="7994880" cy="23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articipate in the Monthly AFRALO Telecon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articipate in the AFRALO and At-Large Mailing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Join an At-Large Working Grou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omment on At-Large Policy Advice Stat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sk for Additional Information about ICANN and At-Lar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Beginner</a:t>
            </a:r>
            <a:r>
              <a:rPr b="1" lang="ja-JP" sz="14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s Guid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LS Starter Ki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328320" y="321840"/>
            <a:ext cx="806292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How to Help Shape the Voice of the Internet through AFRALO and At-La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8" name="Picture 4" descr="http://farm4.staticflickr.com/3306/3559459694_af51a8166c.jpg"/>
          <p:cNvPicPr/>
          <p:nvPr/>
        </p:nvPicPr>
        <p:blipFill>
          <a:blip r:embed="rId1"/>
          <a:stretch/>
        </p:blipFill>
        <p:spPr>
          <a:xfrm>
            <a:off x="519120" y="3657600"/>
            <a:ext cx="7994520" cy="3170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09:45:36Z</dcterms:created>
  <dc:creator>Marika Konings</dc:creator>
  <dc:description/>
  <dc:language>en-US</dc:language>
  <cp:lastModifiedBy>Gisella Gruber</cp:lastModifiedBy>
  <dcterms:modified xsi:type="dcterms:W3CDTF">2013-07-08T17:20:06Z</dcterms:modified>
  <cp:revision>100</cp:revision>
  <dc:subject/>
  <dc:title>GNSO Policy Issues</dc:title>
</cp:coreProperties>
</file>