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5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63.xml" ContentType="application/vnd.openxmlformats-officedocument.theme+xml"/>
  <Override PartName="/ppt/theme/theme16.xml" ContentType="application/vnd.openxmlformats-officedocument.theme+xml"/>
  <Override PartName="/ppt/theme/theme62.xml" ContentType="application/vnd.openxmlformats-officedocument.theme+xml"/>
  <Override PartName="/ppt/theme/theme15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18.xml" ContentType="application/vnd.openxmlformats-officedocument.theme+xml"/>
  <Override PartName="/ppt/theme/theme29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</p:sldMasterIdLst>
  <p:notesMasterIdLst>
    <p:notesMasterId r:id="rId64"/>
  </p:notesMasterIdLst>
  <p:sldIdLst>
    <p:sldId id="256" r:id="rId65"/>
    <p:sldId id="257" r:id="rId66"/>
    <p:sldId id="258" r:id="rId67"/>
    <p:sldId id="259" r:id="rId68"/>
    <p:sldId id="260" r:id="rId69"/>
    <p:sldId id="261" r:id="rId70"/>
    <p:sldId id="262" r:id="rId71"/>
    <p:sldId id="263" r:id="rId72"/>
    <p:sldId id="264" r:id="rId73"/>
    <p:sldId id="265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notesMaster" Target="notesMasters/notesMaster1.xml"/><Relationship Id="rId65" Type="http://schemas.openxmlformats.org/officeDocument/2006/relationships/slide" Target="slides/slide1.xml"/><Relationship Id="rId66" Type="http://schemas.openxmlformats.org/officeDocument/2006/relationships/slide" Target="slides/slide2.xml"/><Relationship Id="rId67" Type="http://schemas.openxmlformats.org/officeDocument/2006/relationships/slide" Target="slides/slide3.xml"/><Relationship Id="rId68" Type="http://schemas.openxmlformats.org/officeDocument/2006/relationships/slide" Target="slides/slide4.xml"/><Relationship Id="rId69" Type="http://schemas.openxmlformats.org/officeDocument/2006/relationships/slide" Target="slides/slide5.xml"/><Relationship Id="rId70" Type="http://schemas.openxmlformats.org/officeDocument/2006/relationships/slide" Target="slides/slide6.xml"/><Relationship Id="rId71" Type="http://schemas.openxmlformats.org/officeDocument/2006/relationships/slide" Target="slides/slide7.xml"/><Relationship Id="rId72" Type="http://schemas.openxmlformats.org/officeDocument/2006/relationships/slide" Target="slides/slide8.xml"/><Relationship Id="rId73" Type="http://schemas.openxmlformats.org/officeDocument/2006/relationships/slide" Target="slides/slide9.xml"/><Relationship Id="rId74" Type="http://schemas.openxmlformats.org/officeDocument/2006/relationships/slide" Target="slides/slide10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 type="dt" idx="6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7" name="PlaceHolder 5"/>
          <p:cNvSpPr>
            <a:spLocks noGrp="1"/>
          </p:cNvSpPr>
          <p:nvPr>
            <p:ph type="ftr" idx="6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PlaceHolder 6"/>
          <p:cNvSpPr>
            <a:spLocks noGrp="1"/>
          </p:cNvSpPr>
          <p:nvPr>
            <p:ph type="sldNum" idx="6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D7516E-4663-48FF-8416-BB3CF06E23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0F9E4A-82DC-4616-A6D2-223DADE23C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2B1F6C-262E-4075-96B0-94BE6E6D68F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C26BAC-A8C1-434A-801D-BCFF3D004F8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05FABD-171F-438F-BA16-74F0C99C429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9F53D4-B39F-47DF-94C5-4B64F9B56DE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E993F4-A10A-46ED-ABC4-AF03734EA83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05048D-628C-40AB-BA2F-64E409F8D43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52456B-42DB-4164-A416-F45D99F2083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026137-CE35-4515-B328-AE818195278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3EF355-69AB-447A-B0FA-2365787D50F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3A12B-8ED2-4283-AAAC-25433F9DFD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8E1E4-FC32-42CB-9BEF-E1F05F09FB3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7125C-8877-4A87-99C1-63853917A10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B630D-C864-47B9-9B4C-04F1EAE3A93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8D104-5A40-4D5A-B830-FFF58669F3F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FAF44-5904-4DA5-8ACD-C6C69EB6D58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9D2F0-DBBB-48A8-B714-4D6BE409070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B63D2-7BD0-4C43-847A-0C433EB856B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EFF1F-AB22-4DAC-A6BE-202BE93D1EB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1519C-278E-4B16-8668-EFED7087353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84001-C3C4-49CF-AF3C-ED2891671F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3A649-E42B-4FB2-8869-1529644F48E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D5658A-1EA3-4834-B426-724F6BFCF529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694D67-9D5C-4D75-A898-F040C0F8526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6D0A83-9521-496D-BD2C-777CBE6C178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D87730-7DA9-4C62-B9BA-810635066BA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CDBF5C-EA98-48BE-B638-AF3AA9FE6F6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4BB593-8DF4-4D01-B90E-0C41A2B3D36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962C2F-EE45-4CDB-839B-69FDE883B2A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3C8B77-8B17-4AD7-A55D-78EF43F0D0F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549451-A118-4D68-9CF8-9E9224C072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8972DC-05A4-45F1-904B-89410A50B8D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6FB5EB-1C66-403D-BF59-A5F28C67A41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CFB38C-6039-4708-9403-76DD52776C2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7615E3-E3B2-4A03-8AFC-24475EEDD6D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52C339-5D76-4627-B691-12264001EA6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C7EC23-A8A4-4A0E-B7FF-AF5335FCDFD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102519-75F1-4599-854A-47CE499E3D6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87DA89-D7DC-4403-8634-F6920B1E64A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398BF9-1CDF-4A7D-BB20-07939B4D05D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455BB0-C4AE-4283-B7F7-EA9A242227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85BB17-A26F-451A-80E5-4D9246CFC649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862CC3-919B-4253-BED0-C296135BB94B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D0A0F9-3649-47BB-9318-E778EBA68C0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3FE02E-D5D8-4C0E-A2B7-D06D11B00125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AA5C70-0D12-4FFA-B22A-5C23D622A070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A3E4E-BA31-4D94-96EE-D00A1E0AC573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1D0BA-9983-4572-8453-F2716CF203EE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8DD32-B313-45DA-8E55-EE422E5A56C0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5D57C-06F3-4727-AE45-F13944B55B8B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4D201-41B1-4FFB-8FEA-87FB4351466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0B610-C2CA-42F1-8C21-770CDA30EFAA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5FBDD-94A2-4E0A-A01D-AD253C716B18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70377-4EE4-49AA-9957-D315C5ED9523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D0664-9795-4271-B991-B86A45390785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2EE11-F33E-452E-B496-09052DF69F00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62AF5-6392-4FF3-B262-E5D0D25A2DCA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EB784-97FA-4C89-AAD1-1EF44F25FE55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1B731-50D0-481E-9383-0B607BD4E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DB898-1706-4D28-96B8-44A3D7602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64249-6086-45BE-9E48-EF784F645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00003-AAA1-4C73-ABFB-360F8E1B4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D317B-90D5-43B3-92EF-D0F3E55B3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CE89D-FBA4-43D7-AD80-0E308E58B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24D74-ADF9-4D07-B616-CD1519BE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81989-2CF0-43EC-ACD3-A4DFE76F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89BD0-3A33-449E-9878-D94953BA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706B3-4CC8-42CE-B99E-6C660262E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5BD60-92F9-4DE0-9B7B-525F3F35D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6E3D9-3AB9-4F06-A569-84F646932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5D4B25-B8FD-4F23-9799-2B0BC5E65B1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6813A9-6871-4606-8348-35663FD1584D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C68961-CC96-4DC5-AF01-F526BAB39254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11C3FC-F343-41ED-BA46-F6D44D589134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8F2524-37F0-4887-B372-E60E8FDA3B9B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54FC78-0F75-4B66-9163-D4F0C4350224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AACD56-3435-42D6-8541-8DC7DD11C0F5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D69F7C-A474-4C9D-8C94-FAB7453A80CD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2EE0F9-6EC0-4FAF-9003-57889B2F76D5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EC5298-63BA-45EF-8E77-7930763544A9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E05C5F-227B-43C6-8826-45B1DB3E5FE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849C66-E9C0-4CCB-941F-3E3EB48E12E2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898D4E-1837-45F3-AF80-B9FF506D809B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F2E333-072F-48CB-B653-69BD66C5E906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2A9CE6-FCCD-43A0-8361-96221D7D12CE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EAC8BD-C009-406E-B76B-1A84D76FC4B5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5DB841-0ED6-4AD6-A37A-8F3D5A4CA0BD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F4C98A-1122-4CAF-B9D9-55ACF670B8F5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40A31C-06B4-4C59-9E41-B6DB3497B20A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B0020B-41B8-4712-BEE1-A5E7DBDC1864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0CDFBC-8483-471E-B4BD-CD844BB453D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592F3E-1DCD-43D2-B76E-8A3C66731874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97CA0E-01E1-47C2-8B5D-9A9CE0667686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D7C20D-D44F-4308-AC61-CD3D8A2C6C0C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A84E6-D195-4051-97EE-F1BD1B67C3BA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E6F2E-B512-45B4-8198-FE6AE082E5D4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3EB1D-FA46-47FE-85B1-5B7CC3763D74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A6F2C-3E22-43FE-82DF-3C2FA845EBEB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7EEC9-F77C-4521-A729-D5A84AE45D44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C26B2-179C-472B-9558-1DB5E84DA2D3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D6EC5-4526-428E-A7F2-B00A6EAC75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5544C-CC46-45CA-80F9-C359F0364C68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AABBE-0C72-4B4A-8747-2F683CAA43F8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2E4B8-C89A-4003-B075-0FE8EB99BA49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04B44-780F-46C3-9D87-B61A614BF329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A4AF1-D5F2-42AF-BFAB-6FEC0278CF2A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F8EB913-78A0-43CF-AA71-3030DAF0FE38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7DCB1BB-2036-4300-B0C0-9E2C53354987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FCFD99B-67B9-4111-9D3C-2872623A935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21F6FD1-12D4-4295-A564-90524D02A233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8CFDE1-B681-4CCF-96A8-7C0E59CEA96E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D2AE4F-331A-4946-9F4A-CD692D538337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8CE42B-5590-4C7C-B37D-EDAA74ECA55F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183EAF-B410-4D29-98C3-6474DAE932E0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104F28-93A0-41B2-A87C-0BD2BA04F1B0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9F805F-5507-4B7C-AA7D-37B2766D972A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0D672D7-07C5-458C-A5F2-3E00F431DE15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4F1FB5-3BB0-4887-8C83-A0EE34E554FA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319200-EFF7-4D14-BE94-3695E0316A6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BB56E0-D183-44CE-87C5-F5252D92309C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46B5DB-EF66-4ADD-A5C1-73DEE1EE821A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2AA3D0-5AAA-450B-8749-984506722A7F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78E728-2216-4617-9F44-28618D36279E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A6E565-1D80-4B8D-8D48-9AAD7C115242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E006D7-D448-4C16-8031-0336F0B4C979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C53D17-8E8D-4559-A352-6BDC570E207E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EFB6E0-25AF-445F-AA31-B074ED9D4884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6902E0-39F0-495B-B54A-658D7E4BF689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3D8979-0CC9-44BB-88AF-E542F18BC82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7B5F28-6FF6-4870-A0F8-8B76AA126A7B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ED2683-C2AA-4B32-9809-FB178E503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9087A1-CDAD-48CD-B476-2FD854AC7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751D7F-CA2E-43CF-A70D-87372F819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3AF709-C67C-45B0-9A03-7AC089F24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5E6D63-7B46-4B7A-ACDC-E0B47EA5A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FF56F2-3515-418E-A242-DDC8CD143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39F513-5609-4DEC-A067-88EB6415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E3970B-C5C3-49C7-81E5-26AE244A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36CD8D-957C-41EC-ABAF-E2721BA5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88466A-6F81-4183-961D-F7D54D029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6924DF-1786-4D1D-B238-9A2BC6488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3093FE-20AD-4C32-A91C-14A812AB4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01A09-8999-48A9-914D-4FDEF9D9C99C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19581-1807-4840-9E35-067574EBE1BE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197AF-0041-44D7-B874-2E3532CBDCCB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D0394-45E1-4276-AA79-BEFF74F02D4C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0FA22-338B-49C0-AC26-6656EA63A383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F03082-1317-4C3A-A4E1-B3720BD0F13E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1131D-4111-4C0E-8F8F-B177C6D69AC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9BC1D0-8F38-45BB-AAA6-E094D22566A0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2C5BC3-F781-4B43-B60F-846BD4D7ECCA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949DFF-F44E-4439-9319-BEFB9B25588C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FBAA5-3230-4300-B6C3-E67CC343AF9E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58A3F-2F1A-4543-9B94-0F21C4C7DCCC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9CD5BF-1E72-4AE7-B4D2-A709D4C35282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0F7E29-0A1F-4574-B3A2-7B6D572058D9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53DF234-334D-4E55-8E0D-043B6564C758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221AB95-89D9-4B3D-8CDF-3C676FCABF74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FD03A49-12C5-4A35-A1DC-11B314616F2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B3D95DE-E218-4B88-9FFF-21D61CAC1CA2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4422B8D-F80D-4CDE-AB74-E9BA38FC54F2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36FFE77-0EC3-4BA3-BA51-4906A88AE4DC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5026F4C-C577-4E52-AD0D-E8D3CFCF0D33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C9FDBF3-A393-4796-A104-F2533C8545E6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F074F16-015C-4FE6-8786-D75024E76FA4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AF0EA23-389B-4737-95E9-073353C3F9D8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2CBA83-18F0-47D0-B68C-FC6B37BE65A7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DC9F5C-8171-4DA1-8054-9834A3435872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C12862-71C6-409F-B1C8-CEEE1843D51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580E31-7CB9-4736-8756-D64EC33960E3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704E80-D9F9-419F-B346-61FC16AB8375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1B8984-3ECA-4D94-B2DC-FBC85EDA6BA3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039F93-5A8D-406C-8A91-FE5E21C1A39B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684BA4-F4B7-433E-A513-AB77809B9485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477650-0A2A-43FC-B2D0-F558B3DF3E03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21DE23-CFDA-44CD-80FB-26A24391D129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520474-2699-4B31-8DEF-681C6CD84366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456F9E-DD15-45A5-83B7-F55C042A15BA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FC98A-7068-4307-BD9E-888A7BAF897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A89C60-C3A1-4F2C-81E2-559B35E0E7A0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539BBA-6306-43A0-B72A-446853D209D6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387473-1BE8-40F3-A2C7-11624EDFDBB1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AEBBFE-8F93-49C8-9F84-D2A9AFA99312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80F9D5-B164-4588-BE15-CC8BD5805D2F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B0CB02-2BF5-477F-969F-8FB4FFA637C1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D44C09-0932-4ED8-84E1-58C1EC17285D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556DD7-0C5C-463E-B8C3-10067F54F0DB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7474E1-221D-487F-B96C-F6F69EE9E45F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1C3D3E-ABC6-478C-A806-15455E2896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A97DFC-7ADB-43A4-B2E9-1159B4320A3A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B46795-CDF6-4AA4-9144-6F0B7F4591AD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7D7B46-5645-4B0F-A9E5-8EEB74F6B8F1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14B855-933F-44FC-AA2E-B62D06C715BD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FB9C37-3DF2-4233-9137-AACD55BC9363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8BB672-9D2E-4002-83EF-10C64E090499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E33234-1037-44BB-A60D-585E4383EF8B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359813-AD12-4B91-8480-3D51CC1B099A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4DED92-C8F5-4C56-BDCE-BE74CBA740A6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CB096B-A264-4E00-8B56-1C2FFFE036D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B14842-D434-4293-AEA9-1D8A57AB0D31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F6BC00-2B18-4A57-8F4E-46FE40EAEC1D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AEAA5A-7C31-4DFD-AF2E-3A73014A85B3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C022AD-8AF4-4423-9F87-83DEBECC1676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EC7C7F-0A3C-4B66-B746-924F5FA73B42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25B632-FA2B-4469-9ADD-9747ABD234CB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28598F-7240-47D1-9284-19FD75DCC41E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A42D6B-BD85-4A62-B996-7D47F1215A0F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09BC65-B829-48A1-989D-E16C872E71F3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21D397-1236-4BE1-818B-EEE4A0708BC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7F5993-A993-45B2-8E63-3A6A024A1C99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81542D-7F9A-4843-9808-F6878E56F5F0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0B38577-E806-4F11-BB21-F68C5AF895D7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DCC69C-5B4B-41FE-87BA-655E9D5EB877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3A170BA-7798-4FAA-A54E-DB6D9CBDC7BE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052321-7572-48D1-8259-4D2917391A48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05BF7E-3D18-4FE8-98ED-A6322D9D081A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70BECA-1DE7-4F9D-8D5B-A62704CECF06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AB7D21-60EF-4018-AA59-055EDE452648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ACC4BA-F895-43EB-A439-7E7F1C46393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B74178-63D3-4190-A877-7467F6F12508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B7A265-28C3-4506-A0D2-16BE6474A4B8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E6A712-F8CB-4143-8B17-799E21218DE5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923231-9F58-4692-9B98-E6670E17F6E6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A1B5E7-9D3B-406A-8252-C2FD4966F67E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F84404-578D-48B1-9516-323570BD3DAB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F631E7-3042-4568-B9FC-9EC8C61650AF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066BAD-58C9-4068-A152-1CD65E5A1A7E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C8C9DC-1D9E-4BDD-B32D-8AEE1D6A2484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B2892B-407F-447D-BDDC-F86B8903A72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A7F32A-DF19-4FDF-B772-6D62F1F88FBD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8F9417-3058-4243-9C46-BEDE0C79B11C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709B92-A9C7-421E-BAC3-24D8F49223D8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62AF7C-55A9-4381-8A9E-BF1025396517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AA8FB7-6FF7-4E79-8B3B-0DCA058B8BA3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46606A-8F6A-440F-9E69-8CB8A1BEBBE2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802E1A-7F17-4C77-AC43-61F6D97D86D6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33608C-EAAE-4C9B-8432-118CA1305842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087DEA-C004-4F04-87D8-2988A7FCB4ED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C29E8E5-9806-4AA1-9940-7845778634C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CEBA9A8-827F-4458-A0E9-B3C27D877FE4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3A56823-1852-40C9-9757-2F7C08F75063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1B3F65C-D380-49F9-B326-E271B33BF52D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97B5170-36F6-4709-96E8-E2C880D55D61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4B486B2-D3A0-4793-842F-8742D97A95B0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B099F8E-43B2-4F66-AA24-34FE0DFCEAFD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F9A1330-26D5-4163-852E-CAEB3531C929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B9F7E73-7112-4412-BBA9-B6877B16F52B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37D21BA-4522-4EB1-83B9-1BA77850FB26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60067B4-7B01-4E97-9B31-52BC868D302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2993077-8866-41E6-AAA9-9A808B1590E0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AE1B95-E69E-48E5-943C-0574E1CBF2E5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D7A426-CC6D-47EA-9179-3696A38FA405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2205C0-50FA-4D11-B89C-1EC26B7D1D3A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457886-6DA4-4FB6-8C1B-FA5800712CD2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9C7ADD-88CB-4760-B8EF-4D02A672BA44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5ECC0D-6179-409F-ACC4-C4BE3FA81023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438A4F-F3E0-4EED-9FBB-A355982BCB67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8A2476-1857-4647-9BE6-69DB3625D41B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973824-5D18-4619-84E9-6AE17CCE85F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4FD61B-9247-4C10-9C47-436EF0F38F84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BB0488-3069-4EE5-9AF3-838B99DF3776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8C218D-1065-4034-8102-0E42DCBFA9C9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75C8CBC-71D8-4A46-AF81-4D0C148DEA85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3A5AB0D-0413-4901-ABFB-71A25E600E79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077083B-8EB5-4A30-8941-EA941E158680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7D705E3-9BDA-415C-AB34-32EC88642CDF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B6454E6-B0D9-43B7-9A64-5302017F4AA1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D76A7E0-462E-4601-808D-56599F6428FA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B66E2CD-5F9B-4EB7-B9FC-FBCC9C81E02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F91E216-4755-44B1-A066-C3922AE85FF4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8899765-B590-498A-B364-0DCC1CBC0619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2EDC77A-BF05-4AC8-9A48-617B714B97FF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D803B14-EF4B-497C-B052-E080C15169E5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DE7D57A-622B-4776-9EFE-5775EA16D756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60055A9-A15A-4A1B-92DA-402000D4FFDC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1D2405C-ABBF-46FC-A1C9-27373EC46ED7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225378D-6D0F-47CB-9D93-34524ACF38B8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4FA9667-869F-4DAB-ABB2-5738AB1F1108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C67A554-5C81-490F-AE7B-7BBEFE21318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120C663-1AF0-484B-8BDC-6BB498F04D9A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208FACD-1891-42F5-9934-1BA6CAE052B6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C13A69C-D223-4A4B-9267-AE674EAE26EF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67F2368-99C4-49C0-8B6C-E1DF6552ED68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37401A4-1A93-4EC0-82C5-ED9F08648EB5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6EAADB7-03FE-43E5-B68F-AFAEBC6D35F9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3BE4F6B-C6BE-45EA-9B7E-62774F7A62C3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81BA8E-5318-4CE9-96C7-09C872FCC899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4A1DDD-FAEA-44AD-8F1D-37D6F39D98F5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A9171C-0614-42F4-B88E-FEA17C09C2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7977BC-7E6A-4D3A-89D3-A9A5DFCA4E5C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1CAA57-1462-42B3-AF65-4279A0D2478F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98B8D8-00C6-4938-9E9E-43BA7263B6EF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7EEF6E-6970-46F5-85CD-462275407EA3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779238-40E4-4844-8E57-1E7080D44BEF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0D7C8C-60D3-427F-B5E0-02F703D75F7C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C57252-5C60-4A04-ADC8-A29F0A0369ED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9DBD57-98B2-45DC-8DC2-3D302E1B2E4F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733F59-3949-46BD-AFFE-170362F7C2F0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A0D149-245E-426D-99CE-9ED86E1BEA7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950F13-2586-4533-9F8A-1838C0F209EE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70942C-95C0-47CF-80F5-0E5761FFD8BB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883BEC-A509-49B2-902F-BB7DDE7BC838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231063-E47F-4303-8B71-CB8CD8A2FE1D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E3727F-2D13-4AD0-94EC-5C4D825A5F26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929E5B-CE3F-48FB-B4E8-FFFABA4C3E10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B65D99-1BFB-4B7F-96B8-49F973A93477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8A0C0A-1FD9-4394-8765-A970A861446E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895FDE-ED24-4CFF-8B6E-3D17B15EBCD7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1AE8AB-06B9-4CC0-B887-18F83F4772B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33E027-5CBC-4475-97F2-6865E6920324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A0D6BDF-6031-4E5B-B518-818A1327571D}" type="slidenum">
              <a:t>&lt;#&gt;</a:t>
            </a:fld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E498DAC-C943-444B-A9BC-B460D887940B}" type="slidenum">
              <a:t>&lt;#&gt;</a:t>
            </a:fld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8F8CD60-B568-4F36-84B7-2687E189FAAA}" type="slidenum">
              <a:t>&lt;#&gt;</a:t>
            </a:fld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9FF9A7F-9493-4E89-BFD3-A950840A55AF}" type="slidenum">
              <a:t>&lt;#&gt;</a:t>
            </a:fld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492A29E-2A3A-436D-AA0C-1E75E20D3244}" type="slidenum">
              <a:t>&lt;#&gt;</a:t>
            </a:fld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C60E705-D26F-41D2-9430-490AC5EF8E9F}" type="slidenum">
              <a:t>&lt;#&gt;</a:t>
            </a:fld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97B5CD2-0D4D-469B-919F-B03C8D7B3166}" type="slidenum">
              <a:t>&lt;#&gt;</a:t>
            </a:fld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06B87F8-5418-4843-B2D8-445863DEF955}" type="slidenum">
              <a:t>&lt;#&gt;</a:t>
            </a:fld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F067379-1FD4-4A98-A996-80936795BCC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CF2D85A-89C3-4E53-83F1-1677B0BD6A66}" type="slidenum">
              <a:t>&lt;#&gt;</a:t>
            </a:fld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CC6ECB2-92A1-4B29-9813-D0E783101801}" type="slidenum">
              <a:t>&lt;#&gt;</a:t>
            </a:fld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59747F7-0BD2-41D1-A72B-5D2BFBC7C5E3}" type="slidenum">
              <a:t>&lt;#&gt;</a:t>
            </a:fld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06FFD6-A48E-47FB-B41F-B121552294A0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510DDD-4879-48CA-BC6F-5852A8DD309D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00EEEE-3D1E-44AA-923B-08F11BBFA9F0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2E25AF-B01D-4628-B55C-349FA70D2ABE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4AFAF7-3BFA-494E-8483-0A37DF0BC4B8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9B5399-0764-4AE2-85F5-00E69AA0AD2D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8D95FD-D4E6-402E-8DB6-9E75CA422B0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46C9F3-3E41-41C4-BD05-DE592F0F5DCC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FC3644-065F-44A2-9714-C3BB189DC6B4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E3C60F-96E6-4B10-B03B-5CF076B07650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37F2CC-0798-4CFD-BD30-3880F3BF4F60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AB22B5-BB22-4BCE-9A73-FEE08C45180A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360FEF9-7C35-4609-9E83-DE3144A15182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EF4D324-5B90-401B-A3E5-1BD92583E3A9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9DC3C0E-DE53-465F-8F2F-018637C702C9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D68596F-BCE5-4A9C-A73A-6B96E1808DA5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DBA3C4B-F6FA-458C-BDCC-59A2155630E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3354582-B990-4CB7-84DF-890F3338B874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9BB008B-F0D6-48E2-A1AF-DB01F3C3541E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320BBB1-3D5D-4B62-9556-699C5EC108B3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99E0915-DFBF-413F-BEDB-9BDFED402EF4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92E1C3A-A844-4796-9685-23D7199D4A28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F483F61-EB07-4C2D-A4EA-977838F2869A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9C19A5A-B5DF-4F4E-962B-E5AE9AD9C954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E6CFA56-3603-4F74-86C2-7A8893B2F499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C3DDB18-2A6C-46DA-B321-A1FA27C915B3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E083468-1AC5-4EF1-9807-CBA7E45C8AE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CBFEE84-356E-4737-9222-386D9F98177B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05843B4-8C70-4AE4-8894-5540110A2FEC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AAC9F22-9530-478D-B9DD-CCC52B7C82E1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D406E95-9E32-4A3A-88C9-054C1D0D737D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5C7EEA7-11B8-41A5-B5A5-CCDAA52C6943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3115901-9C8D-4E34-BFD8-417583973AA9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EDF9BCC-5E8F-442A-963B-4D85C5903EDD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A7901B1-F007-4E96-BF18-5D5EDE1024EE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35D17DA-1EC2-410A-B43D-BE86E54241AF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A3CDE7-0388-4F86-B90E-F957A5BA522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C428C2-780A-4B57-BE72-459D3B1044A8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D7A938-718F-40B6-B784-E790794BCA8B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409829-E267-4FBC-BB69-BA3A8B0A4B3A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F20756-62E0-4560-98AE-A48B6675FF6D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D5B4BC-80A9-4EEB-9EE2-D49DA058E14B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113A0B-244F-421E-91A6-D9E091E350A4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F7B5A6-86A0-488C-A926-321042D64D95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633DDE-FF5B-46D6-875C-196C7C682B1E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850279-56D3-4B15-938C-1AA63BC806D5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D31891-41F9-476E-B8A7-2E4F44BFC50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0E966A-5728-4055-B7D8-A21185846E19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99D8603-E4C9-487A-84BD-A4D3092281B7}" type="slidenum">
              <a:t>&lt;#&gt;</a:t>
            </a:fld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B8B9E07-8F13-487A-A09B-C20BF37AD9C8}" type="slidenum">
              <a:t>&lt;#&gt;</a:t>
            </a:fld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81D21A4-6782-4C6A-98C6-4F482133FCE4}" type="slidenum">
              <a:t>&lt;#&gt;</a:t>
            </a:fld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CD7F6F5-E01E-4C24-812C-B2F010B88C1E}" type="slidenum">
              <a:t>&lt;#&gt;</a:t>
            </a:fld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4B4BBF4-C7AE-4365-84D7-AE7EA90812A3}" type="slidenum">
              <a:t>&lt;#&gt;</a:t>
            </a:fld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21F8DD9-4C4B-4B0B-A52B-7F233403A979}" type="slidenum">
              <a:t>&lt;#&gt;</a:t>
            </a:fld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BDC477B-2A90-4BD4-9694-57BAA789DF83}" type="slidenum">
              <a:t>&lt;#&gt;</a:t>
            </a:fld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9F1D47B-0E5C-4C10-8D91-6FB7498E0BB4}" type="slidenum">
              <a:t>&lt;#&gt;</a:t>
            </a:fld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CE9F038-1443-4E2F-83C4-6D7940B92AD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45DFF6F-DF64-4E6D-93E1-D912BBC544A4}" type="slidenum">
              <a:t>&lt;#&gt;</a:t>
            </a:fld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2D2EA30-95CF-4F55-B3CB-F2C74AF19775}" type="slidenum">
              <a:t>&lt;#&gt;</a:t>
            </a:fld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70ED3F8-4B03-432C-8ED6-0DB9693ADA43}" type="slidenum">
              <a:t>&lt;#&gt;</a:t>
            </a:fld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F5FDE33-B008-41E2-8452-0E8492509DFD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8D6053F-2D6A-4AC7-A92F-5155E258F08B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31B01E8-D823-43F2-80B4-9A8A4FF48EA2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431B83F-1473-40A1-A3D1-28CBB9431138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DD1EFFA-912F-4BE2-B433-501A9466CBB7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4796FD4-7041-4138-A3A3-2CE7166D8F43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CE7E0E2-9BB4-463B-B2D0-3977749618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CE161B9-10F8-45AC-838A-9262A9A686F1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B2DAC39-A998-4BEA-B9F8-5DB2BC8E00E2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65D5584-419F-4EC9-B1D4-5191552B93F2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B360372-E0F5-449B-94FB-E46FF9A26AD6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48DB6A4-7B5D-4F55-890C-10A9196BE7D4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5F577D-7D3F-4FB7-88B3-088E5267DB17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A91F2E-7DF0-46CB-BB4A-22676E11AF24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723C08-42CE-479C-B53D-A5FB4C50392E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CBD5C9-A7DA-4F45-A1B1-51B3B57B269E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666220-FBB1-448F-AE0B-3BEDCBA96A6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FF43D8-5E0D-4B38-B4DF-1E1421DE8D2E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B71F34-415C-4660-9301-0286F4A435F4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FAE1C1-C46F-4663-A921-921B723A8E13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386C1D-1EDA-44CC-B03C-61EEC64183BF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92E19A-68FE-4034-9A7A-3A13EA813674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F246D1-438A-426A-A652-91F9E58F9571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D31CFA-CC84-4F9F-A5F7-7A6BE740FE82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1514644-AD05-4145-B527-8BDA5532BB7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37E76B3-3F5F-4404-8843-14A3689F201A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94BA328-F06A-40F8-88E0-4A96DF5F920F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D9A4F23-74FA-426A-B983-E74CF66D8D63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CB2F674-C615-4D24-A409-ACFF7C757414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54D9424-07C2-4115-A681-F583E2A5087B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DB9CCEC-9D7F-4AA7-8BA0-3FB3FBD1AE8B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FB7DC98-B106-4F02-B604-5FEDBF22DC1C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534F17D-471F-4BC1-BCB4-78CEFFE877A0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6187935-8365-4977-B3B6-ED0EFA9A6EFC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46A4E76-CA46-4E9B-ACBA-4D4833D3C2A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E9209A7-21CF-4432-8F1D-58DEAA62AE78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D3B7322-1028-48E6-8B84-DDD28A096B70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645220B-47D0-4CBF-A9E5-AD3CC902A633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BCA8A05-6CAF-43BC-81B2-99D1E725E043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A8DDD27-869A-41ED-998E-D6B1F713C495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9F9ADEB-D4E1-47C8-99D9-48BC373ADFA3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363427D-E6EB-496A-A07B-25D512409916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007FD85-A35D-474F-B8A6-D346C571D14F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45F47AA-6806-4B7A-8F6C-1CB6A88248E3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3BCDB80-D0DD-4891-974B-1E75DF02726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B77DD0D-7DF3-4CE4-B8C1-3CF9C7CDC145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5DC4CB4-EFC4-4657-86CD-1228649ABDEE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4F07CFE-6BBA-4035-9FD0-1A8A432AFAE0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EC2646-115D-421B-BC36-6912BABDBA06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40E4EE-933F-4E93-98FD-0B127E91CAC1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A70357-2615-4989-8AA2-A408F0B36844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E729E7-FCCB-41DD-A177-6838C8CF06A2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DBA28A-7113-4BB7-B1CA-A761C6144C0F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1A6D89-488A-4E2C-8FA4-4E43AB3BD3C8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D5754C-9570-4707-86A5-775089B2AAD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A70929-3D88-4E49-97CF-C6530BB10E6D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E9CF3F-64B8-4A97-950C-6A924C6C466F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B39A70-76BB-4665-BE17-84D4373D2E9C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F514A8-45E4-4BE4-9AF9-E24862CDFB12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9D21FC-7229-4F49-88A3-4A53C143272D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737A117-7327-4603-8CCA-BCE67F473144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CACB495-CB99-4493-8F63-8E8297CC77A7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72EFC34-F7E6-4402-8F24-DB85F58E8610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6B8558C-EB77-4D64-8B83-978F4C34BD7A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29C950B-9379-4F89-800A-C9DABC4540B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E26B193-266E-4FEA-AEB1-86A6902CE1A9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188A8D1-0B76-403C-8D85-88750A73577A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5CBD68A-7C84-4632-88A0-7DFF65558F6A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D935535-7B7C-4E60-9AE4-EB4B6F7B323B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212CC92-B59E-45E2-837C-748415874E0C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FCA9480-B233-4D41-BDEC-04E1ABBEA155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714D977-760D-47B3-B7D8-947CC982E5F4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A2A257A-19DF-44D4-8669-AEC32AC1C7A3}" type="slidenum">
              <a:t>&lt;#&gt;</a:t>
            </a:fld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C8B0B49-8C5B-4DE0-8A90-0905FF10AE37}" type="slidenum">
              <a:t>&lt;#&gt;</a:t>
            </a:fld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CF3F190-FE7B-4E0A-B4E3-98FF9328A20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EB25D48-BBDB-43B5-828F-B037712CE05F}" type="slidenum">
              <a:t>&lt;#&gt;</a:t>
            </a:fld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21C7F5D-DC0B-4DA6-A893-5BAC0B334E49}" type="slidenum">
              <a:t>&lt;#&gt;</a:t>
            </a:fld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38AB6FA-A5FE-4692-A587-8210FA4CB05E}" type="slidenum">
              <a:t>&lt;#&gt;</a:t>
            </a:fld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511D110-F073-4163-B853-2D602B4EE856}" type="slidenum">
              <a:t>&lt;#&gt;</a:t>
            </a:fld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0804442-69D0-4863-9333-257B691642AF}" type="slidenum">
              <a:t>&lt;#&gt;</a:t>
            </a:fld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844955F-9319-4FE9-B0B5-40B32B55C0B2}" type="slidenum">
              <a:t>&lt;#&gt;</a:t>
            </a:fld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E77AB75-4D77-4111-B933-CFA2360B5E66}" type="slidenum">
              <a:t>&lt;#&gt;</a:t>
            </a:fld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678DE9F-61F4-4A75-909B-D43A908B7334}" type="slidenum">
              <a:t>&lt;#&gt;</a:t>
            </a:fld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632DC5F-93EB-4A6E-93AD-5540863BCDD3}" type="slidenum">
              <a:t>&lt;#&gt;</a:t>
            </a:fld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8C2C7B6-183E-49FA-850C-313500944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202ACBD-2518-4C85-BBD0-EEACA1A4F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B195777-03BA-4B22-B94A-BEFF7BF15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2706ADB-022F-40F6-8DF5-C8307D5A6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F31021E-061E-4F29-B4E0-33D7FAF68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7F13E0A-D917-4F78-871D-F4C40CDB8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A03654D-4EB6-41D5-9C66-90C47AA6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356782A-FB04-46B0-9C95-F4CC3658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0BF1E4D-7944-4285-85D8-65788AB8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ACB365C-9C27-441B-9A95-DC0CE2F6D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706DC6A-B69D-48FE-B9F9-2CC49D28F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B2C4860-5562-4D07-AFD3-A7F2840C9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5CFE3C-9851-4F95-9002-E6C05D54077F}" type="slidenum">
              <a:t>&lt;#&gt;</a:t>
            </a:fld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EE8599-F9D4-4890-BA56-71697F0A7B47}" type="slidenum">
              <a:t>&lt;#&gt;</a:t>
            </a:fld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B31F81-1197-4E4C-9056-C80594F6EC40}" type="slidenum">
              <a:t>&lt;#&gt;</a:t>
            </a:fld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76DDC3-AF72-4D8D-BAB1-844D90DDF982}" type="slidenum">
              <a:t>&lt;#&gt;</a:t>
            </a:fld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912CE9-7C5B-42DE-A46A-D1A96C205654}" type="slidenum">
              <a:t>&lt;#&gt;</a:t>
            </a:fld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4F56D9-4569-480A-B94B-6D3EE5409FD2}" type="slidenum">
              <a:t>&lt;#&gt;</a:t>
            </a:fld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559B34-114A-4712-A3E2-94576C8105D4}" type="slidenum">
              <a:t>&lt;#&gt;</a:t>
            </a:fld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16669A-FA2E-41DC-B4C1-ABBE1B8468C4}" type="slidenum">
              <a:t>&lt;#&gt;</a:t>
            </a:fld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5C194D-2322-47BD-A3C2-A1979951BA2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7DCA06-1E4A-43B2-82D9-1CD7C896FA74}" type="slidenum">
              <a:t>&lt;#&gt;</a:t>
            </a:fld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7E683D-6CDF-4086-857A-293BE99AF235}" type="slidenum">
              <a:t>&lt;#&gt;</a:t>
            </a:fld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CCF075-CC89-4E3D-B22A-B060CD82A55F}" type="slidenum">
              <a:t>&lt;#&gt;</a:t>
            </a:fld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B7E813A-5121-47E1-9326-068714E0CBB4}" type="slidenum">
              <a:t>&lt;#&gt;</a:t>
            </a:fld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65DE09D-C08B-4A2E-A723-3767E06B5EF5}" type="slidenum">
              <a:t>&lt;#&gt;</a:t>
            </a:fld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F21D30D-2A2A-4CCE-8E91-B35380B129D8}" type="slidenum">
              <a:t>&lt;#&gt;</a:t>
            </a:fld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EA5CD84-ECD0-43A8-B34F-1C84C7D3E096}" type="slidenum">
              <a:t>&lt;#&gt;</a:t>
            </a:fld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AE08302-7494-4DE4-825F-D29A9EC48D9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2B83C45-B73A-47CE-906F-A68CF87C6AEE}" type="slidenum">
              <a:t>&lt;#&gt;</a:t>
            </a:fld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89DA1AF-221B-4095-85BE-FD4B3BD1D896}" type="slidenum">
              <a:t>&lt;#&gt;</a:t>
            </a:fld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4E4CB5F-EE0A-4265-94C5-20632966D12C}" type="slidenum">
              <a:t>&lt;#&gt;</a:t>
            </a:fld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844333D-A6B7-421A-83B0-D8868EF7F129}" type="slidenum">
              <a:t>&lt;#&gt;</a:t>
            </a:fld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233AAB9-49BD-4B36-A7F6-2887B30F5A6F}" type="slidenum">
              <a:t>&lt;#&gt;</a:t>
            </a:fld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DF620D1-B141-41BA-9725-3E1516FA7337}" type="slidenum">
              <a:t>&lt;#&gt;</a:t>
            </a:fld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5D96DEC-2A71-48C0-8856-F1DD978AEEE2}" type="slidenum">
              <a:t>&lt;#&gt;</a:t>
            </a:fld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4E7D5CA-79FA-4751-99EF-9F8B4A01ADB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12CD117-631C-4818-88F3-CA79F505F6EB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2F4AE0A-C12B-4505-B97A-D222EE7721F9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FF48C5E-B508-40B9-A74D-691B4ABEB6E3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378FF46-0151-4F8C-B575-2E7BB1246606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7ACE3F8-7C5F-4C5A-B8D2-84B2DA7E37B1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E04924F-31A9-4833-B08D-FB4D4F4106DC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7A94007-E561-4324-8D04-D4BC1FE5583E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28399DA-30E1-44A0-84FB-3FB2F3311902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32DF31B-C0F7-42BD-B4D8-07FE64A4B514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DA1CB46-46FF-4A96-8209-9DFBC3A8D8B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52D3A5D-29AC-4CE3-91ED-DE1ADD69223A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F358E1-FC4E-4250-A841-445212A50EEA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592E64-3518-45E7-8A4C-5F18CBF1F616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699B05-2DC5-4C01-B0CD-D0E65D9FFF21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D5A679-75DA-41F2-BF8E-858710C5C439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CB3812-9686-4729-B6B1-83FDEB810F55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3A0B52-6220-4EF7-BE6C-0BA85500A22D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F568D4-715E-4F1B-9484-1573A43B89BD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EC84BD-7E37-4F21-9220-8AC92ED9FCCC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CA94CF-7CA6-43D7-A1AE-237C206D150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D89D49-C34D-4353-B1BA-0B342D46545A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E1C24C-238C-48CA-A382-FC6FBE881CA6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D4AB36-FB7C-406E-AEBA-AE85736835E8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28BE394-2AC3-4191-A69B-3322EF51BFE0}" type="slidenum">
              <a:t>&lt;#&gt;</a:t>
            </a:fld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7495B78-0559-4FAC-B87C-87F4177A975D}" type="slidenum">
              <a:t>&lt;#&gt;</a:t>
            </a:fld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BFD8F1D-5AA6-4FCF-9FB7-F3C03EDE6391}" type="slidenum">
              <a:t>&lt;#&gt;</a:t>
            </a:fld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0F64D7A-E7BE-43FD-9F90-EF2060E64344}" type="slidenum">
              <a:t>&lt;#&gt;</a:t>
            </a:fld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EF90F7E-EE7C-47D9-B5B3-4F162D269B88}" type="slidenum">
              <a:t>&lt;#&gt;</a:t>
            </a:fld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A08E23D-309C-4DB1-A19D-15331C318DE0}" type="slidenum">
              <a:t>&lt;#&gt;</a:t>
            </a:fld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F1C888E-5824-4833-AC6B-F5412ADF731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64CF792-ED05-476B-ACD3-60DCE5DB106C}" type="slidenum">
              <a:t>&lt;#&gt;</a:t>
            </a:fld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1AC4D8F-D91C-481B-BF72-177D40298B1E}" type="slidenum">
              <a:t>&lt;#&gt;</a:t>
            </a:fld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A215023-3F2A-49BB-96C1-B0FBF056F29E}" type="slidenum">
              <a:t>&lt;#&gt;</a:t>
            </a:fld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3603A98-607F-4360-BCF1-396916D73129}" type="slidenum">
              <a:t>&lt;#&gt;</a:t>
            </a:fld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D8BB77C-8D6C-483F-A9CA-06E3FA00763C}" type="slidenum">
              <a:t>&lt;#&gt;</a:t>
            </a:fld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7659DF7-A14E-43BA-8A75-003910A189A8}" type="slidenum">
              <a:t>&lt;#&gt;</a:t>
            </a:fld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BDAB416-6870-49F9-B610-89B7090B3225}" type="slidenum">
              <a:t>&lt;#&gt;</a:t>
            </a:fld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C78EB54-3BA6-462C-A4A7-244E3F096BE5}" type="slidenum">
              <a:t>&lt;#&gt;</a:t>
            </a:fld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6BA0507-1E3E-4C75-8D05-A64A83C037EA}" type="slidenum">
              <a:t>&lt;#&gt;</a:t>
            </a:fld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D2CB3CF-082B-4AAE-BF4B-D9914AE789E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1ABCF53-53EC-413F-97D6-A2B5AC388A36}" type="slidenum">
              <a:t>&lt;#&gt;</a:t>
            </a:fld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C9B1B8D-2084-4FC4-A866-1734966F4541}" type="slidenum">
              <a:t>&lt;#&gt;</a:t>
            </a:fld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5BADCB5-BD5D-45D8-B477-BF51A71B0655}" type="slidenum">
              <a:t>&lt;#&gt;</a:t>
            </a:fld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2832339-9A99-4089-88EB-5A7DE91C2550}" type="slidenum">
              <a:t>&lt;#&gt;</a:t>
            </a:fld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C7A1225-3E8A-494D-9122-81DB53335ECC}" type="slidenum">
              <a:t>&lt;#&gt;</a:t>
            </a:fld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44879E6-F17A-40A7-9544-102F29BEB2B8}" type="slidenum">
              <a:t>&lt;#&gt;</a:t>
            </a:fld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988C71A-4B37-43E3-AFBF-E809952AF210}" type="slidenum">
              <a:t>&lt;#&gt;</a:t>
            </a:fld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A11BC6-3668-4CB5-A559-328B24E4EDA6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8D1EBA-C15F-48C3-A24D-B81092AF20C9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1C382E-62BC-4D3A-BE87-8AA8378064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636192-8668-4650-B20C-DF6BEB321261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A52C50-D87F-4A0D-AE5D-9847059BB6FB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7B6348-483B-45E8-976E-4E04656CAF9B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6412CC-A164-40A9-AD55-B01C0965DC36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959317-AAD9-497D-BC91-59D1D88AADD6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6BED69-AAD4-49B3-95B7-7DF85B20EBC1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09F38B-EC8A-4FA6-8DEA-03011419C506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676B8F-B9E6-4B69-AA08-FB5C7D9F717A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E6D8FF-0D35-4B09-AA7A-F0CE832421EF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2B96701-3037-4560-8C24-384B06E63942}" type="slidenum">
              <a:t>&lt;#&gt;</a:t>
            </a:fld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43B2726-1675-4266-85EB-75C7A60F2F5C}" type="slidenum">
              <a:t>&lt;#&gt;</a:t>
            </a:fld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EE1375B-AF6F-4AF7-AA77-418971FD80A5}" type="slidenum">
              <a:t>&lt;#&gt;</a:t>
            </a:fld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7400439-6AF6-476F-9A31-BCAB3007D9A8}" type="slidenum">
              <a:t>&lt;#&gt;</a:t>
            </a:fld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5FEC901-3D6E-4B2A-B7B3-D7DFDCB9F158}" type="slidenum">
              <a:t>&lt;#&gt;</a:t>
            </a:fld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BB5DF60-7718-4878-A38D-691CDCA658D2}" type="slidenum">
              <a:t>&lt;#&gt;</a:t>
            </a:fld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691EF45-C407-4026-A92D-B60B05C05B34}" type="slidenum">
              <a:t>&lt;#&gt;</a:t>
            </a:fld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26228F4-4241-4A18-9866-C1533B94A596}" type="slidenum">
              <a:t>&lt;#&gt;</a:t>
            </a:fld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D902B0E-135A-4A7A-91C0-9136071CD0E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5AB6-7DAB-4CEA-BEB9-BFF81190C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20BC34F-C59B-410E-893F-EFE1AF360C23}" type="slidenum">
              <a:t>&lt;#&gt;</a:t>
            </a:fld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274E53C-D022-4F79-AF08-4465B2C874F9}" type="slidenum">
              <a:t>&lt;#&gt;</a:t>
            </a:fld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7B4B0B8-F04A-4CCF-A79A-C3853EE30FB4}" type="slidenum">
              <a:t>&lt;#&gt;</a:t>
            </a:fld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FC92580-F4E4-4D78-93C2-44879CAA87FC}" type="slidenum">
              <a:t>&lt;#&gt;</a:t>
            </a:fld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735A360-CB25-44CA-A804-2AD0149B5233}" type="slidenum">
              <a:t>&lt;#&gt;</a:t>
            </a:fld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2142273-192A-4AEF-A391-93A0CF951404}" type="slidenum">
              <a:t>&lt;#&gt;</a:t>
            </a:fld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30393D2-80BA-4915-972B-4A43D715B639}" type="slidenum">
              <a:t>&lt;#&gt;</a:t>
            </a:fld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C0E8600-9D0F-4996-BD20-B3C281ABB78E}" type="slidenum">
              <a:t>&lt;#&gt;</a:t>
            </a:fld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7973B5E-9BD5-4E55-8819-6548653492BB}" type="slidenum">
              <a:t>&lt;#&gt;</a:t>
            </a:fld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3011A73-3CFA-461A-8E25-A408BD44E2D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0D1E-239C-4657-BE48-F6DA196A0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3347B3E-421D-4F49-96BC-87A0A3857C51}" type="slidenum">
              <a:t>&lt;#&gt;</a:t>
            </a:fld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1F93E0D-5CB3-421B-8474-3F6B319FB595}" type="slidenum">
              <a:t>&lt;#&gt;</a:t>
            </a:fld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B76F362-9BF5-4156-B350-4E9B8CF837B4}" type="slidenum">
              <a:t>&lt;#&gt;</a:t>
            </a:fld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D7E4F35-2F7B-40D0-AD81-CABFBB19CB6D}" type="slidenum">
              <a:t>&lt;#&gt;</a:t>
            </a:fld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0D62DE3-F22E-43A0-8C8C-B6982EE4E85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0CB5-6EAF-439C-882C-BDD442EBE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7249-DE0F-4441-B416-76D3D4519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F7D7-8CF3-446F-A275-BF6A7FC61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B262-4CF9-405E-931F-155BEEE9E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B0EC-5AC1-4E03-921F-B9E62F69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B8AD-2B07-4BAF-B335-FECB8196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5205-EB5F-42A2-A06C-117D357F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AD89-53A0-46A6-AA6E-0013848AA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ED08-61EA-41F5-960C-59DE7B35F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64DE-7A4D-402F-9193-6AFAC27E4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F36408-363F-4C2A-8E1F-FE0B068F649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EF341E-3996-46B3-8F4B-A65A764720D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2733EB-EC21-4BD6-AD39-DEA1F104CC8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DBD85D-0B7C-4CF2-9F8B-EA0787B2F3D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CEA6D4-A308-442F-BCC5-742EF234FC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6F846C-351B-4200-BC23-8A4A2C1BF31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B1150B-4BE0-4621-B919-8E28A97D619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9FA62A-FE9F-47CE-9002-D7579F891DC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A3F347-523B-4467-9534-9653F224B3F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3E234E-E0D9-4637-8F2A-BCA8170D07C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8A99EA-8651-4801-AAB5-F91730BC7D1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EEA991-8EE0-4A66-9237-E3FAE285396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62C201-590D-47A3-874E-CACB82F99E4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102540-3FF8-41B5-94BC-899BE1F0AB2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5A6F68-31EC-4462-86E8-0EA1B65AF5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Num" idx="6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Num" idx="7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Num" idx="8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Num" idx="9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BD4404-8E71-4518-9BDB-8AE4FC715A69}" type="datetime">
              <a:rPr b="0" lang="en-US" sz="2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7C20C3-6722-42E6-9F9B-89E571C59F38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F9908D-EB5E-462B-980A-2FD97B939AD2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Num" idx="1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507182-E3FA-4E2C-8C30-89DF9BF4A60A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Num" idx="1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9F5639-C7D7-495B-B471-8A3F77F3912D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Num" idx="1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031FDB-FA4A-494F-967D-065A4E887AED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map.png"/>
          <p:cNvPicPr/>
          <p:nvPr/>
        </p:nvPicPr>
        <p:blipFill>
          <a:blip r:embed="rId2"/>
          <a:stretch/>
        </p:blipFill>
        <p:spPr>
          <a:xfrm>
            <a:off x="714240" y="1822320"/>
            <a:ext cx="7715520" cy="3767400"/>
          </a:xfrm>
          <a:prstGeom prst="rect">
            <a:avLst/>
          </a:prstGeom>
          <a:ln w="0">
            <a:noFill/>
          </a:ln>
        </p:spPr>
      </p:pic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Num" idx="1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46321F-1058-42C7-9CDE-ABA4013B9062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13C211-2183-4201-903C-5C2B9B2E8F32}" type="datetime">
              <a:rPr b="0" lang="en-US" sz="2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41B07D-B1D4-48F5-A456-EE741A6C250B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Num" idx="2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B1A42B-16DB-4D2B-BD8D-D7155D5041C3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Num" idx="2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EBA063-3BCB-4DCF-A7FD-6633C1441114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ldNum" idx="2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6F763F-1490-4498-95D0-F7C3A7287D6A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Num" idx="2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09E5DE-7786-46EC-9B86-A3F0C1FEF981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ldNum" idx="2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85B8F7-E8ED-463C-84AE-422819284971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ldNum" idx="2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E1AD03-1589-422F-BD7B-F41E7CAB251D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ldNum" idx="2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112189-01AA-49B7-9F3E-1A7C81BF487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ldNum" idx="2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409FFB-5E25-4F69-A722-F787463B05B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14F454-36CB-4BD8-B7C7-1680CD7D685F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3"/>
          <a:srcRect l="0" t="0" r="0" b="31210"/>
          <a:stretch/>
        </p:blipFill>
        <p:spPr>
          <a:xfrm>
            <a:off x="7070760" y="6200640"/>
            <a:ext cx="127008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ldNum" idx="2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6BEE68-9BC9-4AAB-A6D6-231AF5225B9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ldNum" idx="3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63CE26-2D13-4BF1-9FD2-21EE28E9E0AD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sldNum" idx="3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9E0870-B5B0-4F95-9D63-44E62D298FD2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sldNum" idx="3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45CFA3-CDE6-4676-8BAA-DD7B01AAEFC3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ldNum" idx="3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FC2CAC-B12E-44D8-9763-3658DC35ACB5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sldNum" idx="3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AD20D9-ED92-496D-AE24-4369586FDE2B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Num" idx="3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245F99-51AE-4CDE-9A76-E396EF1EBE85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TextBox 1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1"/>
          <p:cNvSpPr>
            <a:spLocks noGrp="1"/>
          </p:cNvSpPr>
          <p:nvPr>
            <p:ph type="sldNum" idx="3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6867FB-0C2F-48C1-9BED-8A03B4DCF1C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sldNum" idx="3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AA8A2B-7817-4DCD-8F43-2BD61923CBF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sldNum" idx="38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0531E3-00CD-49E7-83B2-01114A678581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"/>
          <p:cNvPicPr/>
          <p:nvPr/>
        </p:nvPicPr>
        <p:blipFill>
          <a:blip r:embed="rId3"/>
          <a:srcRect l="0" t="0" r="0" b="31210"/>
          <a:stretch/>
        </p:blipFill>
        <p:spPr>
          <a:xfrm>
            <a:off x="7070760" y="6200640"/>
            <a:ext cx="127008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ldNum" idx="39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sldNum" idx="4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D752A9-CDEB-48CB-85AF-46566DF0FF61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sldNum" idx="41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sldNum" idx="4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951BC0-5010-4A65-9D5B-D5828C4D321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sldNum" idx="4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2EECC0-086F-4D70-9E11-DE4002AF01D3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sldNum" idx="44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sldNum" idx="45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sldNum" idx="46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sldNum" idx="47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F9A6CB-D7D2-437A-8A9A-428754FFCB8A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"/>
          <p:cNvPicPr/>
          <p:nvPr/>
        </p:nvPicPr>
        <p:blipFill>
          <a:blip r:embed="rId3"/>
          <a:srcRect l="0" t="0" r="0" b="31210"/>
          <a:stretch/>
        </p:blipFill>
        <p:spPr>
          <a:xfrm>
            <a:off x="7070760" y="6200640"/>
            <a:ext cx="127008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dt" idx="4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 type="ftr" idx="4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4" name="PlaceHolder 3"/>
          <p:cNvSpPr>
            <a:spLocks noGrp="1"/>
          </p:cNvSpPr>
          <p:nvPr>
            <p:ph type="sldNum" idx="5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1FD72D-12E6-4621-B34E-41DBA92EB9AC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sldNum" idx="5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B0DA7B-CDF3-42AD-BBA6-2302875E161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sldNum" idx="5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96F71D-C062-4A7C-A92B-0A3E78CF4B54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sldNum" idx="5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A4DE3A-B00A-4C94-874C-01BE11EA7C20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sldNum" idx="5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AA45BC-26D3-47DF-9848-BEDF82543E5D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sldNum" idx="5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EC7EF8-9AF2-4F86-9412-8D715406D18C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sldNum" idx="5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8DC464-6CFE-45F0-BCBD-FE5458CB3227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sldNum" idx="5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704C3C-EA56-40BD-A086-C5FE5D79EF1B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84F3FA-990D-4C87-A123-157980B02B35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sp>
        <p:nvSpPr>
          <p:cNvPr id="198" name="TextBox 4"/>
          <p:cNvSpPr/>
          <p:nvPr/>
        </p:nvSpPr>
        <p:spPr>
          <a:xfrm>
            <a:off x="179280" y="1557360"/>
            <a:ext cx="821844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ＭＳ Ｐゴシック"/>
              </a:rPr>
              <a:t>Lorem ipsum valer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ＭＳ Ｐゴシック"/>
              </a:rPr>
              <a:t>Donec rhoncus eros in nulla dapib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ＭＳ Ｐゴシック"/>
              </a:rPr>
              <a:t>Nam et velit ac lectus iaculis sollicitudin. In rutrum massa vel nisi luctus consequ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5" descr=""/>
          <p:cNvPicPr/>
          <p:nvPr/>
        </p:nvPicPr>
        <p:blipFill>
          <a:blip r:embed="rId3"/>
          <a:srcRect l="0" t="0" r="0" b="31210"/>
          <a:stretch/>
        </p:blipFill>
        <p:spPr>
          <a:xfrm>
            <a:off x="7070760" y="6200640"/>
            <a:ext cx="127008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sldNum" idx="5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80C6F8-FFB1-406E-AA3A-9EDC14C953E8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sldNum" idx="5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D456EF-3B17-4FA4-99A0-E7F04023F506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2E0316-57D7-4021-A25F-92773E1934A3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Num" idx="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F9B9F4-1D27-4429-975A-46E36A7CDC51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Num" idx="5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s://community.icann.org/display/alacpolicydev/At-Large+Policy+Development+Page" TargetMode="External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afri-discuss@atlarge-lists.icann.org" TargetMode="External"/><Relationship Id="rId2" Type="http://schemas.openxmlformats.org/officeDocument/2006/relationships/hyperlink" Target="https://community.icann.org/display/AFRALO/AFRALO+ALSes" TargetMode="External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528120" y="599760"/>
            <a:ext cx="78598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ALAC, At-Large and AFRALO:</a:t>
            </a:r>
            <a:br>
              <a:rPr sz="3200"/>
            </a:b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Working to Help Shape the Future of the Internet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Dr. Olivier Crepin-Leblond and </a:t>
            </a:r>
            <a:br>
              <a:rPr sz="3200"/>
            </a:b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Tijani Ben Jema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0" name="Picture 4" descr="Untitled-2.png"/>
          <p:cNvPicPr/>
          <p:nvPr/>
        </p:nvPicPr>
        <p:blipFill>
          <a:blip r:embed="rId1"/>
          <a:stretch/>
        </p:blipFill>
        <p:spPr>
          <a:xfrm>
            <a:off x="133200" y="6172200"/>
            <a:ext cx="628920" cy="469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800" fill="hold"/>
                                        <p:tgtEl>
                                          <p:spTgt spid="2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2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800"/>
                                        <p:tgtEl>
                                          <p:spTgt spid="2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528120" y="599760"/>
            <a:ext cx="78598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Questions?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0" name="Picture 4" descr="Untitled-2.png"/>
          <p:cNvPicPr/>
          <p:nvPr/>
        </p:nvPicPr>
        <p:blipFill>
          <a:blip r:embed="rId1"/>
          <a:stretch/>
        </p:blipFill>
        <p:spPr>
          <a:xfrm>
            <a:off x="133200" y="6172200"/>
            <a:ext cx="628920" cy="469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2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2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800"/>
                                        <p:tgtEl>
                                          <p:spTgt spid="2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title"/>
          </p:nvPr>
        </p:nvSpPr>
        <p:spPr>
          <a:xfrm>
            <a:off x="328680" y="322200"/>
            <a:ext cx="83851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The At-Large Community -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Representing the Perspective of the Internet End-Users at th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Local, Regional and Global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2" name="Slide Number Placeholder 2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03D702-6FD8-4ECC-A874-1986FF6C3650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3" name="Rectangle 1"/>
          <p:cNvSpPr/>
          <p:nvPr/>
        </p:nvSpPr>
        <p:spPr>
          <a:xfrm>
            <a:off x="1371600" y="203976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What is the Issue?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4" name="Rectangle 2"/>
          <p:cNvSpPr/>
          <p:nvPr/>
        </p:nvSpPr>
        <p:spPr>
          <a:xfrm>
            <a:off x="2133720" y="310680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Moving ahead with a PDP or not?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5" name="Rectangle 4"/>
          <p:cNvSpPr/>
          <p:nvPr/>
        </p:nvSpPr>
        <p:spPr>
          <a:xfrm>
            <a:off x="4572000" y="3100320"/>
            <a:ext cx="281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Assess / Arm WG recommendations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6" name="Rectangle 5"/>
          <p:cNvSpPr/>
          <p:nvPr/>
        </p:nvSpPr>
        <p:spPr>
          <a:xfrm>
            <a:off x="6392880" y="2039760"/>
            <a:ext cx="101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Final Approval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7" name="Straight Connector 14"/>
          <p:cNvSpPr/>
          <p:nvPr/>
        </p:nvSpPr>
        <p:spPr>
          <a:xfrm flipV="1">
            <a:off x="4495680" y="1922400"/>
            <a:ext cx="0" cy="3636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8" name="Picture 6" descr="At-Large organizational structure_better margins"/>
          <p:cNvPicPr/>
          <p:nvPr/>
        </p:nvPicPr>
        <p:blipFill>
          <a:blip r:embed="rId1"/>
          <a:srcRect l="4399" t="5266" r="6034" b="9829"/>
          <a:stretch/>
        </p:blipFill>
        <p:spPr>
          <a:xfrm>
            <a:off x="328680" y="1442880"/>
            <a:ext cx="8704080" cy="5380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9" name="Content Placeholder 4" descr=""/>
          <p:cNvPicPr/>
          <p:nvPr/>
        </p:nvPicPr>
        <p:blipFill>
          <a:blip r:embed="rId1"/>
          <a:stretch/>
        </p:blipFill>
        <p:spPr>
          <a:xfrm>
            <a:off x="1362240" y="1469880"/>
            <a:ext cx="6978600" cy="5369040"/>
          </a:xfrm>
          <a:prstGeom prst="rect">
            <a:avLst/>
          </a:prstGeom>
          <a:ln w="0">
            <a:noFill/>
          </a:ln>
        </p:spPr>
      </p:pic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328320" y="322200"/>
            <a:ext cx="83487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How You Can Contribute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Help Shape At-Large Policy Adv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1" name="Picture 5" descr="ALAC - SF 2011.jpg"/>
          <p:cNvPicPr/>
          <p:nvPr/>
        </p:nvPicPr>
        <p:blipFill>
          <a:blip r:embed="rId1"/>
          <a:stretch/>
        </p:blipFill>
        <p:spPr>
          <a:xfrm>
            <a:off x="617400" y="2344680"/>
            <a:ext cx="2133720" cy="2286000"/>
          </a:xfrm>
          <a:prstGeom prst="rect">
            <a:avLst/>
          </a:prstGeom>
          <a:ln w="0">
            <a:noFill/>
          </a:ln>
        </p:spPr>
      </p:pic>
      <p:sp>
        <p:nvSpPr>
          <p:cNvPr id="2332" name="TextBox 2"/>
          <p:cNvSpPr/>
          <p:nvPr/>
        </p:nvSpPr>
        <p:spPr>
          <a:xfrm>
            <a:off x="2928960" y="2290680"/>
            <a:ext cx="5576760" cy="33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20 Statements in 2013 to d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Key Issue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MS PGothic"/>
              </a:rPr>
              <a:t>2013 RA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MS PGothic"/>
              </a:rPr>
              <a:t>WHO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MS PGothic"/>
              </a:rPr>
              <a:t>PIC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MS PGothic"/>
              </a:rPr>
              <a:t>IDN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MS PGothic"/>
              </a:rPr>
              <a:t>Stability and Secur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olicy Development Workspa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rebuchet MS"/>
                <a:hlinkClick r:id="rId2"/>
              </a:rPr>
              <a:t>https://community.icann.org/display/alacpolicydev/At-Large+Policy+Development+P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328680" y="322200"/>
            <a:ext cx="81756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At-Large Policy Advice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Statements and Iss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328320" y="322200"/>
            <a:ext cx="802332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At-Large Working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5" name="Rectangle 3"/>
          <p:cNvSpPr/>
          <p:nvPr/>
        </p:nvSpPr>
        <p:spPr>
          <a:xfrm>
            <a:off x="380880" y="833400"/>
            <a:ext cx="8601120" cy="35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+16 Working Groups – open to all members of At-Lar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MS PGothic"/>
              </a:rPr>
              <a:t>Issue-based: WHOIS, New gTLDs, IDNs, etc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MS PGothic"/>
              </a:rPr>
              <a:t>Activity-based: Capacity Building, Outreach, ICANN Academy Technology Taskforce, etc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MS PGothic"/>
              </a:rPr>
              <a:t>Project-based: At-Large Summit I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5 Regional At-Large Working Groups – serving as the umbrella to the over 150 At-Large Structur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MS PGothic"/>
              </a:rPr>
              <a:t>Provide key bottom-up input to the ALAC through channeling ALS feedback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6" name="Picture 1" descr="7453485972_9706203f93_k.jpg"/>
          <p:cNvPicPr/>
          <p:nvPr/>
        </p:nvPicPr>
        <p:blipFill>
          <a:blip r:embed="rId1"/>
          <a:srcRect l="0" t="23093" r="0" b="0"/>
          <a:stretch/>
        </p:blipFill>
        <p:spPr>
          <a:xfrm>
            <a:off x="995400" y="4235400"/>
            <a:ext cx="7072200" cy="2560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22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AFRALO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Representing the Voice of the African End-User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8" name="Picture 2" descr="AFRALO: Dakar Showcase 2011"/>
          <p:cNvPicPr/>
          <p:nvPr/>
        </p:nvPicPr>
        <p:blipFill>
          <a:blip r:embed="rId1"/>
          <a:srcRect l="0" t="7713" r="0" b="7713"/>
          <a:stretch/>
        </p:blipFill>
        <p:spPr>
          <a:xfrm>
            <a:off x="304920" y="2590920"/>
            <a:ext cx="8534160" cy="3666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"/>
          <p:cNvSpPr txBox="1"/>
          <p:nvPr/>
        </p:nvSpPr>
        <p:spPr>
          <a:xfrm>
            <a:off x="2997000" y="853560"/>
            <a:ext cx="5059080" cy="586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Helvetica Neue"/>
              </a:rPr>
              <a:t>Input into At-Large policy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Helvetica Neue"/>
              </a:rPr>
              <a:t>Capacity Building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322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FRALO Capacity Building Webin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322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FRALO online education modules – to be develop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Helvetica Neue"/>
              </a:rPr>
              <a:t>Outreach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322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ICANN Meeting Showcases and Recep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322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FRALO Broch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FRALO/AfrICANN Meet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Contribution to ICANN African Strateg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Organization of IGF Pan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328680" y="322200"/>
            <a:ext cx="762624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AFRALO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1" name="Slide Number Placeholder 3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950906-AE02-49E1-88B9-AB35C61AB98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2" name="Picture 2" descr="AFRALO: Dakar Showcase 2011"/>
          <p:cNvPicPr/>
          <p:nvPr/>
        </p:nvPicPr>
        <p:blipFill>
          <a:blip r:embed="rId1"/>
          <a:stretch/>
        </p:blipFill>
        <p:spPr>
          <a:xfrm>
            <a:off x="184320" y="1036800"/>
            <a:ext cx="2633400" cy="4101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"/>
          <p:cNvSpPr txBox="1"/>
          <p:nvPr/>
        </p:nvSpPr>
        <p:spPr>
          <a:xfrm>
            <a:off x="680760" y="1268280"/>
            <a:ext cx="7589880" cy="47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FRALO Monthly Teleconfere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FRI-Discuss Mailing Lis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Helvetica Neue"/>
                <a:ea typeface="ＭＳ Ｐゴシック"/>
                <a:hlinkClick r:id="rId1"/>
              </a:rPr>
              <a:t>afri-discuss@atlarge-lists.icann.o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FRALO Wiki P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AFRALO At-Large Structure Workspac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146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Helvetica Neue"/>
                <a:ea typeface="ＭＳ Ｐゴシック"/>
                <a:hlinkClick r:id="rId2"/>
              </a:rPr>
              <a:t>https://community.icann.org/display/AFRALO/AFRALO+AL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FRALO Leadership – Representing AFRAL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AFRALO Officers: Chair - Fatimata Seye Sylla; Vice-Chair – Tijani Ben Jemaa; Secretary: Aziz Hilal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ALAC Members: Titi Akinsanmi, Yaovi Atohoun, and Tijani Ben Jema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328680" y="322200"/>
            <a:ext cx="81756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AFRALO Working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5" name="Slide Number Placeholder 3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E4757A-D750-491D-9017-88AF2CA1169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"/>
          <p:cNvSpPr txBox="1"/>
          <p:nvPr/>
        </p:nvSpPr>
        <p:spPr>
          <a:xfrm>
            <a:off x="396720" y="1267920"/>
            <a:ext cx="7994880" cy="23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Participate in the Monthly AFRALO Teleconfere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Participate in the AFRALO and At-Large Mailing Li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Join an At-Large Working Group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Comment on At-Large Policy Advice Stat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sk for Additional Information about ICANN and At-Lar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Beginner</a:t>
            </a:r>
            <a:r>
              <a:rPr b="1" lang="ja-JP" sz="14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s Guid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LS Starter Ki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328320" y="321840"/>
            <a:ext cx="806292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How to Help Shape the Voice of the Internet through AFRALO and At-Lar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8" name="Picture 4" descr="http://farm4.staticflickr.com/3306/3559459694_af51a8166c.jpg"/>
          <p:cNvPicPr/>
          <p:nvPr/>
        </p:nvPicPr>
        <p:blipFill>
          <a:blip r:embed="rId1"/>
          <a:stretch/>
        </p:blipFill>
        <p:spPr>
          <a:xfrm>
            <a:off x="519120" y="3657600"/>
            <a:ext cx="7994520" cy="3170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3T09:45:36Z</dcterms:created>
  <dc:creator>Marika Konings</dc:creator>
  <dc:description/>
  <dc:language>en-US</dc:language>
  <cp:lastModifiedBy>Gisella Gruber</cp:lastModifiedBy>
  <dcterms:modified xsi:type="dcterms:W3CDTF">2013-07-08T17:20:06Z</dcterms:modified>
  <cp:revision>100</cp:revision>
  <dc:subject/>
  <dc:title>GNSO Policy Issues</dc:title>
</cp:coreProperties>
</file>