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</p:sldMasterIdLst>
  <p:notesMasterIdLst>
    <p:notesMasterId r:id="rId64"/>
  </p:notesMasterIdLst>
  <p:sldIdLst>
    <p:sldId id="256" r:id="rId65"/>
    <p:sldId id="257" r:id="rId66"/>
    <p:sldId id="258" r:id="rId67"/>
    <p:sldId id="259" r:id="rId68"/>
    <p:sldId id="260" r:id="rId69"/>
    <p:sldId id="261" r:id="rId70"/>
    <p:sldId id="262" r:id="rId71"/>
    <p:sldId id="263" r:id="rId72"/>
    <p:sldId id="264" r:id="rId73"/>
    <p:sldId id="26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notesMaster" Target="notesMasters/notesMaster1.xml"/><Relationship Id="rId65" Type="http://schemas.openxmlformats.org/officeDocument/2006/relationships/slide" Target="slides/slide1.xml"/><Relationship Id="rId66" Type="http://schemas.openxmlformats.org/officeDocument/2006/relationships/slide" Target="slides/slide2.xml"/><Relationship Id="rId67" Type="http://schemas.openxmlformats.org/officeDocument/2006/relationships/slide" Target="slides/slide3.xml"/><Relationship Id="rId68" Type="http://schemas.openxmlformats.org/officeDocument/2006/relationships/slide" Target="slides/slide4.xml"/><Relationship Id="rId69" Type="http://schemas.openxmlformats.org/officeDocument/2006/relationships/slide" Target="slides/slide5.xml"/><Relationship Id="rId70" Type="http://schemas.openxmlformats.org/officeDocument/2006/relationships/slide" Target="slides/slide6.xml"/><Relationship Id="rId71" Type="http://schemas.openxmlformats.org/officeDocument/2006/relationships/slide" Target="slides/slide7.xml"/><Relationship Id="rId72" Type="http://schemas.openxmlformats.org/officeDocument/2006/relationships/slide" Target="slides/slide8.xml"/><Relationship Id="rId73" Type="http://schemas.openxmlformats.org/officeDocument/2006/relationships/slide" Target="slides/slide9.xml"/><Relationship Id="rId74" Type="http://schemas.openxmlformats.org/officeDocument/2006/relationships/slide" Target="slides/slide1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dt" idx="6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5"/>
          <p:cNvSpPr>
            <a:spLocks noGrp="1"/>
          </p:cNvSpPr>
          <p:nvPr>
            <p:ph type="ftr" idx="6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6"/>
          <p:cNvSpPr>
            <a:spLocks noGrp="1"/>
          </p:cNvSpPr>
          <p:nvPr>
            <p:ph type="sldNum" idx="6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13AA0E-3518-4D1A-AD90-8B8A21372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1003E2-DEC4-4B9B-985F-EB859A803A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0C206-3694-46CE-9F08-B3282CBB514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42F8A-4AEF-4AAE-B41E-E1B0A16986A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81D55-DEC6-4C76-BEBF-ADEBBA2ECB6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63E82-1F98-40C7-8428-57B41C763B0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F8B8B-B6F0-422F-9BC8-FB337F8C913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9E2ED-E73A-4C9A-B002-6605C8F7BDA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72A27-C947-4446-96F4-555814DB5AE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FF24B-C070-463F-9ABC-8F552E480AA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6F149-F40A-49E3-8FA7-64B0619AD3E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B617-5D09-403B-99FF-BF936F856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59D7-270C-4A6F-AE09-8209CE25472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CBD9-B447-4029-8383-EBF4DB86710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3879-C4CB-49B1-828C-923B733BCD8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24C4-2179-4081-98A6-97D340C831C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DC67-3280-4C78-912D-13F468586C2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5F5F-F79F-4A7E-AA51-371E38B499B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90D9-B6F4-461B-A766-7FC10047816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6C84-05CC-4AA4-86E6-34019DE823B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C37E-D814-40A1-8DF4-0DB25743E86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2EBB-F997-4F8B-924B-4D10EB632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BF8E-5DEC-4F24-80F7-E31CB333FB5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737E80-3992-4B03-8FA9-396B8A26C70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A7E0FC-BD05-41CB-AB7A-71903DE77F6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F0D018-72FD-41CF-94BF-AA602645DA7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156753-10D4-4167-A257-E17FB08BE7B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37B61C-69D2-44F6-A192-2C5FE6C0207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0589F3-7F62-41C1-8952-F93DAC739AD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012734-F280-47B4-87C0-2F88DEDE442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D1B76C-A2FD-43E7-B06D-E0336A3290F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6B6DC3-91A4-4ABC-A611-2EEB9EC4C4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615C7D-7BD4-47C8-9E28-713E355D2D7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771C4C-9566-4F7A-8DA6-44CE2FEE0DF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46462C-B02A-4BB8-85DA-4C80376CA18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3A9E7-4AF1-4712-8867-A9EC14A0BB0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61E494-EAAA-4039-A1B9-49A52384A75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9D453C-A762-4BA2-B0DE-0B4A781D4D6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D20C46-EE80-4789-BF7E-91280B16561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F7B44-FDD0-4BF2-93DB-AC93293FF9B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3E6FB8-1FDE-490B-9C1F-BECAE9CCB8D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63CC25-71F0-47FF-BE35-58FDA4B9E4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9E0AB-DE57-4254-9BF5-A8AF9D3694C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12C476-38DB-4C42-B252-70A7E3D7506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930192-1A67-4233-8578-A1CD7670DCA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56995C-5449-4C89-9FEC-26F1425FA06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872C24-98E5-4E5A-8D04-CE97F37A04D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D5A54-4AB9-40EC-AF2C-4E4B0BE6F4A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2A3C9-A906-4A13-BF4D-FD1CC117E5F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842C7-7EE6-4083-BFB2-3D8DFD97324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05EE3-D61A-41A2-B9C1-334CB271B3C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9E8C6-1CDB-4910-A2E3-A18B8589CF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0F419-C41D-48B2-9AD2-4511593292D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19309-92EA-4141-A444-29955A491A4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407D6-D92B-4B6F-9C22-3C0A3F7AED6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09067-33F6-47CB-B25B-F0CF47B44B0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41CA9-461C-4AC3-9F7B-C76DEBC8427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58546-E7B4-41D7-AB74-CB6D024D7D8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3D389-9C62-470A-9A9A-B832210B04E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B0026-DBD1-4B20-A553-621787E6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F5A10-A71F-42B5-A987-47575EE4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AD8CD-5BDB-40D3-A8F8-299A71FC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4FC58-2B62-4486-900D-D7874F97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656CA-0F1C-46EB-8ED3-92ABEB60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610D2-018A-4612-AE9C-CE809011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97409-A6F4-4E98-B66F-B7B2746E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3B270-6388-480F-A1B0-5241706D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D3DDF-935D-4C0B-884A-651EA616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53F94-6BE0-4E7B-9AD9-132C75E6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F6EB1-55BA-4E2A-8A77-CF69BD52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993AE-9092-4EA5-9F51-D2D207DF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2745E2-8D7F-485F-B50F-595EB3BA1F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024934-3104-474E-802B-3E5EF67925D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F5A876-3493-45F7-A3CB-B3E7D044B68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2ACBFC-517E-4E1C-8878-7B5A0DE8E9F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B8ACDA-D252-4C22-B242-71EDDBBC760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2A3E13-FF6C-4E77-AEF0-8DC7DB4610A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6CCD96-EB2B-4243-A47C-12FDC9E131D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AE8C43-A979-475D-A037-0AF3934B0BE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0B2B42-6271-4436-BCAC-9D9C0DC6FE7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8CD2D0-1E88-4D7A-A66E-D95C7FCF3C2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9CCB49-DDD9-486D-8441-0D78E74720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247FE8-396E-4ED4-86B6-FCE81351158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85CF9C-046A-479C-96CA-CD7B61FA204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97F503-70B3-4786-97A6-6768F7B1318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48B14D-A511-4EA8-BACC-9896F2C049A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9C67AC-708F-435A-BC32-3F67B910BBB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8E5C8B-BB4E-4AF7-B551-FAF59213111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32D5DB-D932-4EFD-9D49-645C69A0E85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45EE5A-9331-4122-BE78-9D1B37DD274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C38D9E-40FD-4770-BF77-20EDF6F26A8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A6BF38-BEF5-4C55-9071-9FAA229F4C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68A162-7AEF-453D-919C-8F75ADDC146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F1AE8A-68C8-4F38-A51F-7AEEECA5CE1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AAF606-6531-4E34-9594-BA57B0AFF61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31018-9CAD-4BA7-A37D-60C99F6D3CF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5EECD-DAB7-4CA9-8B2A-EB6E2DA8B3E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55565-FCF4-480D-B0CF-11D4A7CCF73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AE627-0E68-41A4-AB31-63D0D106711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3BC33-896D-43A4-B2BC-FCD2C8D17D4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03B3F-5DA8-4FDD-8EB8-A4001F271CF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D4EDD-460C-4107-9EC9-50077CEAB7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30AF2-70A1-4247-8936-942C7CAEDE1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8067C-F3D8-4465-A58F-DEB810FEB00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EC318-0F4A-4EB7-89FA-16622CA5FC2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36CF5-7DD9-430B-A344-0FCAB9F8C22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0302B-EEE2-4AD8-B92F-8DAB7E5D4F0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854FB6-557F-4FB3-88B2-78B15E96C89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371D67-4821-468A-8226-C234F052E1D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8423AD-924E-4783-8AFF-C17172EFE9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6DC0B0-F39B-4EE0-86E2-216979BB811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7A40E6-44F5-46A9-A05F-36B6AA43BCF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E17D9E-ADF5-4F60-8EFC-89526F8C65E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B64BFD-913C-4BF0-BB2D-BFF9D2B4EBB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78A8D1-BDBF-42F9-9DDE-C2DE61962F0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4FBD00-AEA3-4380-9004-40BDAD11CA3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AEB636-A473-4486-A5AB-59FF988F412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1F2EBD-9178-4181-9194-2EE6F5ED291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4138A1-8F83-4C87-9BCB-77947C2614F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C1518C-1741-4415-A78B-C2E8946E98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497267-3C61-49C0-BD78-13A25A7F229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42EE68-49E4-41DF-9A63-FA8186D72B8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61DD07-FDAF-4AB4-9F77-AD5D57244FA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0C0C3D-12D7-4382-9CB9-C04F51B452A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ABB128-09D5-41DF-9CF1-72618E32BA8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F05372-C232-4D1C-AD3C-51B43068CA0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F230E5-5CF4-407B-85DD-6CEC3FF265F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ECB550-C49D-43D4-92AE-83CA66EFAA7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3E2995-71BA-4A5A-BAA7-A92EC1B3BD1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9D3214-A76D-4706-8F0E-CA3EAC7ACE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27D92F-DDFD-4B0C-AEA0-05DC50F329B0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785E8E-E27D-47FA-8B7F-C087D952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900FA0-B274-4AAF-9E36-8A92B4C9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58DFF5-0EF6-46E9-8A77-6C59320D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8E3396-0698-4554-A7F5-43AB623C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CDE516-8CC4-45DA-8CF5-E09DC00C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749FFE-2147-4AA5-8EAD-17B73889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504143-CDE9-404B-B490-1EEB622B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2796C1-C271-4B6A-822A-E5632408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B6D873-15CB-44EE-919C-F3E21B65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9BE42B-BE92-4DD0-873E-4E2F28D3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6B1CDC-7527-4701-AC06-7470090B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2E7FE3-1D8F-4443-8373-21B58FF8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5C8DC-BC3D-4F11-A4B0-AD3CC9BCDA7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64617-9035-45DD-9985-E4533F1E6AE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E8A82-DB13-49AD-950B-7BC0836FF68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54707-CF65-40FD-A759-27DCD96B56D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CDC39-F50C-4211-A2A4-6265A5525AF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CC0EF-425E-4F6B-B5B1-F7B84448A8D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F235E-8CB7-4E4F-AA7A-B77465E1AF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E7EB7-537D-4C63-8C67-D048DDD4724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34CFF-ED9A-4E55-9515-F3B180D8C1F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FB716-668E-4897-BE9B-7CEA45CF28B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18444-87CC-4E2E-A874-78F182A0555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417E8-1A12-4B84-8DBF-ADF2F2347C6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E3BB74-C298-476A-B4EE-E979CDBB2CE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4D1ABD-16DA-4F60-BB19-B0E517AEEF1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7D1EC4-F8A1-4A8C-B2A9-8912C9D5594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0C83F4-DC5B-454D-BEB3-61D77ACAE72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CAEF07-AF75-4769-AC01-A477E0CA66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AC4D69-34A4-4920-85B5-5B233F0BFAA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E6A966-6222-4BEF-9C01-4F77FA1DB89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27CC81-6AC8-4915-94ED-F573B5F964B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E4FA6D-935A-41A4-9C45-7D459F5FA13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3A49F9-FF04-4170-BE48-8DE104CCA10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78ED47-2EA7-4CB1-84A3-4764719B7C7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2B0931-7818-4B81-9DE3-DF9F7C7E3E6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BBD46B-CE37-420D-B77B-36B7E8FA9D6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80088F-B8F1-41AD-A26A-79C3D619A89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A42D5A-EFB5-4461-8B33-A0D583608A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D7AAA8-177E-4301-911B-569ED0EB0DF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CF981F-0792-43C2-ADFC-B831AD64ED2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33E82E-501F-4697-B90F-FE4275A4779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00303C-0D15-4EC0-84A5-A615D6CCBD1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B65204-89F1-4ED7-BB6D-E9CB580C05F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BA825B-02BA-4174-AB94-05800888A6C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4F4E85-EA7B-4411-9085-29898E86101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BED34B-7A1B-45E9-9112-278E4AE74F5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F88C20-0049-4E46-9F54-998738A29BF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27971-7F83-447D-8780-1F5953312A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0C07E-F9E0-4150-9D48-B018B340B6F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CA24E-D852-4391-8B61-78805031C51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230EE-B3FA-4F24-83D7-88A6E0BC04A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901CD-E851-4C5D-B6AC-02BD96B8102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4AA4B-B4A1-4C22-BE32-BB58E1E7417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FAA77-56EA-4700-8B73-D86C6E015E0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4381D-B3DB-462B-8D1D-F895E2B548BE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68602-8CF2-4201-932B-610B6F4AC33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2B3A5-83DA-47B7-8AB2-9F7254C70C69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50DCB-91BE-4101-951E-9A5861BB81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E39DF-525D-444F-8DA7-5DFC6CE1107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6B6207-0E4B-4207-B706-37ED5C9E301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32CD6B-4F71-403F-8B4C-02FC73E654B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D5A174-A37C-42C9-B995-8CA7A8BE1DF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9DC128-C11A-4E93-875B-BF9CB03BF66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B0CD18-F05C-4CD3-92C3-9CF687576BB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2C1BA8-91EF-4AC9-A328-88330C66CEB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EF4603-454E-46BF-9E01-8868CA6AA65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2D4D79-EC40-4007-A377-6EC5506DA75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34C6E6-FA22-4523-A4AE-0E52656826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CE2352-3430-4610-88E4-15C04FBAB7C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F59228-5F9B-4EF8-8BA1-9EA99EC3AD7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3E05E7-D2B0-4619-808A-A8821C112773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188CE4-E618-4C1F-BA9E-CF30C6E722B0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1C232F-1E12-4903-B8D5-CA069A270508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AECC4B-4503-4ACB-84E3-A3D040169B67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5C9156-DF87-4003-B253-79AB85418C1A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D1F32D-DCC2-4C4F-B80C-086054C335D3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BD6DB5-6EEC-48E6-8899-7BB83D427746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2F573A-D198-4215-B893-3CFB52B7CD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8AD0A1-0A76-4F12-A3F3-D7543CD566A0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A4EB22-F58F-4FE8-9C29-1C273350854F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AD6052-5BE4-4691-9D37-23AFCE4AE6CE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6F4A6F-39B4-4519-9D9B-85DDEC6F41DA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03F26F-9D75-4D6E-BE9B-41C0AD67B119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C42A3-D1A6-41E4-ADF3-07AEDB96CAE2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C8993-32C5-437F-A72B-1279DBC902C6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30124-27FD-4E74-91E9-454CE27410A8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81CC5-D3B6-420F-8D97-191E1830F470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F15AD-B29E-4FBA-9217-6924691372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3961F-1985-4897-97B4-9144BF303BED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D68E0-CA17-471F-A690-CF4AAA53413A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B24D4-03DA-4B93-A2CE-ADADBAE1877B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EF64D-D329-44BA-B628-0E49361E2677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B947D-23A0-498C-B3AF-CE03C60D1B91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169B2-9704-45CD-9FCD-7E590FF87811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DBE5C-3ABA-423D-B0D5-D26F2C38F127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51705C-2D5F-4F68-ABED-E29B670A1096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7D6AE1-4880-40D7-9CFC-CA5CA8583EFD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3728F7-6E08-4256-AA06-D1DC85B1E1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7E3AF7-90D4-46E1-B10C-C2A6277398C0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2A2F96-9114-439A-89CA-930363066C24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CED944-F4DF-4FE8-9837-BE75AD3ADE46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0325CB-9701-44F8-B442-C4DDDF252071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2F0FED-950D-407D-B7F9-12BB64AD8638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7B4D52-3756-4690-8E74-B54A404E6F97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4B8422-B1FC-4A49-B2F9-800E122DD65B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39E0D7-C8E0-4D97-8C62-DBEEDF3EC602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1688A5-B7C2-4A6F-BEA6-EC45F212F657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24F4C6-21B8-4AC1-BEC2-CCD2712617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ABBCE5-0F6B-47DD-9256-1EDA95ADAB6E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F92263-842C-478E-A826-779A461631D9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ADD943-7C17-4873-B19D-3007ED202E28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A182FD-4DD3-4CA2-8FFD-6293C847DC6E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7D1A0C-A58A-4EC7-BC73-A6F3058C12F0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75DAE5-0E63-47E9-BC37-118F96B29663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0DEAD6-21B2-41EA-A5FB-C3B2C6022036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9D6C4A-68D7-45E5-8361-16901181BDE2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0B52B0-E666-4219-8530-7DB90BB8A358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138F91-0D22-4252-B74D-11ACCBF296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530A65-3AE0-455D-A685-3D581B104A63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E5BDC-459A-4B09-BD82-3BEC61E50251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990B0-0957-4A0D-AF07-3A94B14FA4E9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B9049-1599-48E5-BB95-8F22286B2073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61318-70C2-443F-A927-E1831442B138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6C60F-BA46-4552-89C2-02D8D238AF73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291A9-49BA-40DA-8559-EDDFA514D87F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54760-DCDD-4B09-9CB7-CD87923240A4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609A8-8463-4CEF-9FFE-3710DF6D2F97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8DAF8-4AEB-4083-9FDB-7BF8BBB2B2F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82E50-381E-4614-A4E0-5E53CEFEEF10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01908-50F0-482A-8F7E-BB25CF90C8F8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8F921-48CE-4369-BAC4-A48D9A90EDFF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411E20-0B5E-4DA6-8B7B-BB204037F610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E2F7EA-80C1-45AE-B484-A4E6F911DD45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C0A291-71D4-4567-AD88-03BEF37A62D3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81BBDF-F718-4C4A-B047-7A6B520876CE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E09979-9F2E-4C53-A90C-8FD4CA123452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89D8B6-3233-45F8-A43A-36CBEA75CAA9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1F50A9-855A-4B5D-8EA8-F8D0D6DBE9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0D2012-80BA-4DDB-96BA-0942551BCC75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97C9F0-5DCC-43C4-A604-A4102EE39D45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FEBE88-1594-4A60-8C08-AEE5401627E9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054C4E-8A63-47B9-B49A-F0B0176BE4E8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9B1E7D-EEFE-4DB9-B485-A1A0C12F64D5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933BD1-30DC-42D5-AD40-52292F50F2A3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6D949F-F32A-43B9-9693-159B74F0508A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B0C73E-8117-4820-945D-B62BDA48387A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992244-654E-4F22-8D83-CFD9E9D2EA03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F999A6-0815-4CF2-8DED-D252800F336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59443B-D27A-4088-B058-478C3A9D018D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9E5987-C398-4ABE-9111-0ED47C796692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4A1441-7310-4827-AE09-AC8014694290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FC90A9-161A-4181-B129-5C09C06182E9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2FDF6C-5B8B-4442-AA6A-F20F54254D8B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992CED-AFF1-40C7-AE7A-FD45CDC0D40B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C4704E-FEB3-42B4-932A-C6F7DC7F3029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DAFD4-08E8-4D62-9187-591039EEA84B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7DE03-E636-4E43-A405-2B5683C60C09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2E6C5-E276-4BEE-BC4F-D525F22BA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BBB99-A013-4A28-9313-DA274B7CA1D6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681D1-6868-4330-9A5A-CBF2F90D7477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CC076-E511-41A8-9231-EBC17A339A78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50420-121C-400F-A70D-73E3845AFB6D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7E219-34F9-42B0-91D8-ABCC81087ECC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DAE25-F9E8-474F-B4A2-A4DF4C9A3677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C0872-C1C5-4BC7-9CAF-D1B96760C8E0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EF607-E9EA-46D8-9B0E-36D00A33AE58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F514E-1255-4B1A-92D1-2FC1D00C7FA7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C45C2B-87DC-4045-8962-F4CF264BE43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371233-0274-4B63-ACF5-97C2F8D8E639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11120F-82CE-4AD7-B38E-68EC9D74A725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DC5785-8137-4ACF-BFBF-C7D03DBF0DF4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1418AF-6DAB-4BB5-AF25-F41388F4A43A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434CFA-06D4-4466-8B1E-EE9431B98EE8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B77667-29BB-4E28-AAB1-FF32E829125F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89CBA5-FA2E-4D91-A648-86B581B13528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50370F-E9CD-43E8-B9DD-6D341207EE9D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0FB2EC-B242-4B2C-BEE8-A2714C446AD0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7B356A-BD1D-4985-8210-D93550E8C64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3CDB81-36B3-47E7-AA06-4B5A81BE93C9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3C2A29-DB63-4747-A59C-D38D8DF9F8ED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0FE9A7-D909-46B7-B171-49DE17B1DDF2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64EF7D-64F3-4FE2-9C65-A3509FF65A60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953368-446A-4542-AE1F-2F40BA5AF83F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1D69EC-8513-4E19-B56C-A1719E0495DC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7CBCF0-0932-491B-BE49-DD4336A79904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595BB0-99A1-4213-AE78-EE0432BEF7DC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EE0985-6921-4DBF-9034-A189E507E6C4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A5D7F9-9458-48BC-8C27-E09214A6DDF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D2737C-DA15-430D-889C-ABE97A69A1FE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4B08AD-98C5-4148-A63F-EEE952034815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33BA9A-6EE1-415F-99D6-9DEBB5C7E8D2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66D50-0907-4A79-A31C-0004D72956BA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6CBE3-A6E3-4540-9EDB-31F891FE82AE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76D14-0235-4846-91E5-F1D21BE62CDF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90585-423D-490E-B4A8-14D253E74762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15A78-0781-45B7-B6BC-37CD7752F87F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91791-5FCA-459D-942B-A14FEADC9936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DE1CE-5104-4B7C-88F3-715A2532737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D830E-8DC0-45F0-880C-179E18D05D58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8FA72-3C56-4703-99BA-CD51B6590A2B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6A279-C486-4756-A0AE-276B9D3A7109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7D849-731D-4B45-86E1-98E2BB68CC76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A5D01-3175-4FEE-B07C-74F60020C21E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7911FE3-CCC2-4168-AC97-51FC342DF23A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6E79571-F6A1-4E7A-8EF4-3339D578AD93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18A3043-B556-4415-8FE9-DA3B70919528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A30CB81-5FCC-4794-9D4F-202EE0DF1F4D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985275-B940-4144-BCC3-2C8130E5D69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703FC7-F57D-4660-9D93-42071F1BFA23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ECA88DD-3CFC-4B93-92B6-1B64F4B9F408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62E6A13-89A2-40B8-ADE3-C627DEE74194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ED79027-D782-4D5A-B2B3-CCFA7D819E57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A19F705-7F20-4C4B-AED9-DA530F1A26A5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709D76E-F00F-4FE5-B21E-0DEE55BCCBE6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459DA9-51B9-4820-B1BA-526FA970D2B0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59DD95-627F-449D-BCE5-95B022B32131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87FC79-8A9D-4648-86AE-E5408A5A4D1E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CC5B8C-069B-43D7-BED1-638CF28DE2F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6F3DC0-16CB-4C85-A7AC-7851F4AA39BA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2EC455-C5FF-4FFC-8C17-50E8AA7BCDB9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3BD9F1-9755-4EEF-9330-770EF120C32E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1448FE-AFC0-47DF-AC6A-D29BE7CB108D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188FFF-191D-48B4-8388-8248391E204C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DA6D85-0439-4C87-83AE-CFF89FA75C47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48F1A6-0B1F-4445-A801-A8D0CE5328E7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48AF77-4D08-4004-A09E-6F1E581FF120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508479-15A3-4776-AA85-975D8D5D1836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28A6EE-DC7C-4A49-A822-D985ED4E38D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4EC868-AC4A-477C-B986-E9003C806BF9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03A20E-0A5F-41A7-B144-6D50C84EFA1C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A5F502-D6DD-4702-B91A-B59499EFD491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84298B-6532-4D86-BB87-6D3FF97419B2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90AD53-48D3-437D-A9EB-E0EE6FF54225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B4538C-875D-4C7F-A652-708D49309769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A32D1A-AE5A-470D-A3EF-1DB4AC5A14A2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D31D87-55DE-435A-8067-A8D5702EF51D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C640F-808E-45DE-A0BD-C208F36C4525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1E3398-8521-4DFF-B8A7-8B299574C8C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9FAC58-F7D0-42B9-A7C5-E24F4FBDCFB5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1052A44-10B7-458D-8C95-2609205B04BB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B1309D0-945B-422B-86CE-A38E6FE5355B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FE7F1A2-E931-4102-908F-0694BA6F1C94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56D66D0-7187-4606-A21C-8847E65761F3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320DACC-98F9-4858-A700-5E1512C278FE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DE2C2C9-EA74-4EA7-BF39-043E89B91EEC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52EC926-3625-4292-88D5-3643EB091A9B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85FDB80-DD8A-4A9F-9B84-56B77FE7F798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7230BEF-93A3-4190-BA7B-6B58C5A6333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08AFEF6-8A26-4BC7-B719-EB384F272C38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7373811-CEFE-47F0-9064-8444D3A6EFC5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514173B-8F17-441C-BC4D-C46670166DD2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FBDF7EE-4755-4EBF-B249-4AFD7D53A0AD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93DE2F1-53D9-40CC-931B-DD0FF717F7F2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3C048F8-5B95-4D1F-AC26-8CCEE68CCECC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72691F2-D53B-47E8-8CFF-8E16621EF6FE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A8597FC-4239-40C4-9D92-9977FFBC64C3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E73B67E-7250-4CC0-B42E-4677A7F4AEBC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0EB06A6-6B2A-4F90-A1C6-6D20E5F9F0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DF06F0A-186D-4E21-BBA4-C4CFF797C72C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D118D8E-7782-4017-AA4D-7DEAA312B68A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1FA006D-9D90-47FB-AA00-64651BB22D16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0256301-A944-4337-AC93-29601735C2AB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731246B-6459-43AA-941C-55D783FF33B5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5A8F73-396A-47BD-AF66-1812AB8AE593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EA358B-FE8E-4009-94CD-78FE3163A98B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32CF3A-F2B8-46FB-B944-BD75AA53A8CF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CFAAC3-B0AC-4CF8-A344-C8E24244AD19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D263CA-CE3D-4AC9-9F52-4E5923423F5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507135-B44B-41E6-9964-4FFBC728B3BD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5778D7-799A-4BEB-BAAE-A1128F38E02D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D64331-F394-483E-9BF6-8FA1238A180B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D24031-FB3B-42B2-A26F-E356DC771D0A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787E42-0C1B-4DCE-B04E-224C8E2A0B4F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B7847A-0A3F-48F1-879B-8750FFA5C974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69290B-B90D-4EC1-B8AA-637FF712506A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EE9D3EF-6361-4242-AB9D-E62CF59BE12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8B2A26F-A1B2-4977-AE5D-46A72E27459A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8C2D36D-6EC4-4F10-9569-EDAFBFDB6E06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94057E5-D3AD-481D-947A-C9288CFFC4E4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9AF2746-10B2-415D-A0C6-C96417551481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C06DAC0-DD8A-4FFF-B2C3-CC43BA94CFB3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42EDF96-A832-42B0-8F0B-4A53C7EC2A01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40E38C1-D89B-4CED-9FEA-80CE08E625A9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B936C6C-9A45-4809-9708-1DD83BBD0E63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45FB413-4415-4E79-8304-EF8C2A4E9428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6210CE1-F199-4DF5-A5C6-B895572B5C0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E477B3D-DF05-4D44-BA10-9578D80EFE12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A56811A-DB2B-4052-8F43-AEF74B6D00C3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9AB372-4234-4E90-A513-D350273AB8A1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1E92C28-2013-402D-996D-E6C80824CA82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67C4ED2-3C8B-4EFF-842F-B49D3D2320C5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D63A0D9-EEFE-42CC-A928-6D4A7BDCF08A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937CBE0-9984-4074-9284-3832B0EF2E54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21FACE-741A-41F3-89AA-20BDF8C6CE24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39BC5B7-A1BA-4C4B-A461-04F92B7806C4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179CC9-E9B1-4C98-B41E-2D57C7DA7CB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CF4EC55-2316-4142-AAB9-14D556D48D39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2B2F4A1-14CE-4805-9F8C-ECF0BA64B11D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7A45257-52E9-4E55-B1D0-8F5C19CC4545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206B4D-F014-4BB2-95E2-E4E759994C35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C94495-3366-47C0-824A-9D0A44984C4E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8C1558-8554-4B75-84F3-176DCC2E54D5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424E8F-8669-43F3-AA0D-A43F279FAA56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ED6D80-1EF7-451B-8E72-CB5001AFC6AC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5FA452-2ED4-4C29-A537-7EC2560C26D1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7A1827-8D81-4DB8-BAE2-876684267E7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4788F3-6392-4128-B9C3-03F669684236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B9F509-C5B9-4D0D-9F77-59251F8711FF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5533B8-D959-4B81-836F-B1B62049409F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C49399-D1A0-4E7E-A66D-881CECCC72F8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01CE44-2099-453C-BFA6-33EBD2F91A62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8825B52-81E9-428E-BB94-C1B5C60B0311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AA44884-3C69-41C1-8E36-37A074DFE4CA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90BE711-E608-4092-86D6-E82B8E9E2C34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0B78492-9304-4BF7-81A2-C6C9C5D77619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3C6634D-5BC0-4AC0-B75D-A2034C78326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4BF572E-B7FE-4B45-9B58-B5CBDDC1C98F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ACC8FD3-D109-4979-B647-78C52327B4C6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2C4AAC5-157D-4A98-B358-0FB0DC736019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741753D-2431-4F67-9E95-28A18EAD4346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20C6149-E7D1-4C72-94BD-500B2570251D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1392A7C-8AE4-4E40-979C-A6F91E26E685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F2DCD3B-B505-431B-8E98-F0FC5DBCA2FA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6AF5674-78D1-43EF-A8D2-58E4D494E914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5CB3351-CB94-4552-A000-03B3E9694A42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403A33A-F32D-4621-8B72-D58ADBF08BC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36604B7-85BB-40A4-874F-7D62997EE814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FA02487-8AE3-462C-9775-93DD2F237BBD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9E71977-EE1A-4CDD-BB12-37D1E6839C0E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B003929-CC4C-463E-B470-1DD8D6934208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965B812-6C2A-4823-8933-B0A733B1A07C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4B67B94-723B-4403-B2EA-5769FB911DBE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E6E120D-894E-45FC-82DA-C42FD89A292F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C6FC588-F317-49FB-86A9-EC060ABF877A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F7778B6-8D3C-4ACB-B80E-669BC4332D74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A91E390-6E5B-4429-A8CB-3E9FBB0E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5E2F8CD-94B7-41E3-B689-5195E21B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4ECC48A-6F0C-4780-8E20-36F99BE9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FCCBFD8-BF27-492F-9202-30A2E068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D93E644-D80E-4640-AACC-E8C2EDD3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6768256-4579-4370-95DD-126E1956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DC8B78B-507D-417E-BB52-B62BDC44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44457C1-4D33-4D7F-AA87-79480B78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6F1D33F-F0A5-4BC6-B9DF-9AED512A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6B37CF5-7120-4821-A3D8-AC93C246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D9D9B14-CADF-45FB-BFDF-3AFF303B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297AB07-CE3B-4648-B4D4-2F298FF9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FE585B-BDDD-49C7-9A11-7941B0F6E31F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422115-7B8F-4E12-84C4-B361266018BC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1D99BF-BAC0-4A3C-999E-45E48C37C8FE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859F3C-A60B-4D5B-8A1A-EE9EED41C68B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80219E-1171-4A04-A0EA-9D3B69CFB33F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6CED2D-7683-4CCD-8D77-44050002E6C9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EF87D5-32C5-4D96-85BE-904B70D2DE5D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712B0E-372D-4603-995F-B327C4E6599E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4CD62A-6370-4E33-B271-13D6BBAC09D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EF8C01-DE12-4FBD-8F01-3C9D51C9186B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DCD140-46D7-47CC-8DA6-0CE0D67DACBB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D86EA8-6D23-41D5-AD2A-299FB1919669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FCB086D-DAA7-4828-9B63-BFFDA099307F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FA32DE4-8AF7-4ACD-8A08-B5A218885A58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705D3D1-D9DC-4087-A80F-186BD5CDECFA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585C5FD-C4BC-4E6D-AF83-8AF715C2C7FE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671BD8D-0E83-460C-A749-0D4E73A7D72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C72315E-761A-4B78-B672-6DFEAC792CEA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E367511-C1B3-493E-BC82-D203D14B1ADE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B5196A5-9030-449D-B8DB-3400581269AD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B211080-ADE8-4D8F-B5FA-3E210941D89C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BE3A907-50A0-4A6D-8F1A-1DD85C5A4526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48BEAFD-A554-49EB-9AE2-9AD898954BF7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921D1AF-F253-418B-965A-E8972951AB05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A34CA14-38B5-4954-8734-DEA19BF4B5A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4A6E214-E348-4F07-A858-482C1B11C518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E4E15DF-6372-4343-B83D-E54A4DDAC7DC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BD3913B-A014-4F17-8FA8-AA2DD70BAA2B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26B3E09-452C-402F-928A-C0F387EE0E00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7D8E2C7-DF1A-4EC9-BF63-F7A0FE7C64CB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52BACEB-766A-4440-90A6-2D347F4E0B8F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8960105-C686-480D-B080-07D0EBCFDCCA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4514EEA-06E2-47AF-8E9F-0D4A305FBB42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75EEC81-8AC2-4324-9502-CC00B7326AC4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D869F7D-AC7A-4C15-BC3A-15FCA0D39CD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DC0EC0C-56BD-446D-A48F-9549C490B395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379DFA-6A25-4126-9626-DEC24C681F08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6560D8-971B-40B3-98F5-F9ACF4F032D0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32D733-9775-4C2F-8CE6-3EBC9E27F47B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BBB62F-9BD1-4E4B-BE2A-D62F6BD49D96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4BC243-72CE-48A5-97EA-A33A3721718A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B55334-0208-4761-A77F-534B63E4A61D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0E1264-FC9C-4BB6-A212-04B84ED89DE5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DC366F-2990-4929-AFDB-FFF73810D00B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F281B3-17D0-4788-B3C9-0D4D4A750EB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F34C44-D775-4D5A-9E85-14E3575CE7EA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66AFE7-66AF-484C-8097-D15FB68490D8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A19B6F-146B-4E83-BEE9-79392A5A3D3C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57EFD13-85BA-4E0B-A74B-D7DD0CCE010C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8AAB9B7-7B36-4D70-AFB1-30CDE1A6BD79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FEB21FA-E4AF-49A9-9E40-B42EE988318C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7FD8527-0883-481F-B74A-30AC1E5172D4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D634767-7BB1-40A3-88B0-BEEBD0C2BD65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5D5DF0F-3D0A-4DDE-9A61-8D96C709D771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02C90E7-0A0E-4A86-8E12-B1CA6C68774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8D1432E-CF68-43F2-AB22-0D7F7D4CF20B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F5457B1-9D8B-4869-A5AF-D80B95CF7FE2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D1E38C9-BB2F-475E-AAD2-7D77B0676686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D0E48A4-032D-4D3E-9032-31216A96064D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143A698-45B3-4B72-A029-937B7CDC5B74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FB53C06-8FF8-4A8F-87F9-7E421BF3B037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2B1C170-2616-41D7-A3A8-E41C7B970D59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E55909C-BBDE-40EA-B5CB-FA99939A523E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84D5EDF-0C90-44AC-A77B-00B5FCBD2D27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FF68B22-3748-4EE8-8BB6-E152288D236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E976BA5-CD32-439D-8F32-FF8627A69F91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92A42A2-7F43-4FCB-869D-9BC05E95D4E8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AF5E29E-2D35-49C3-8D7F-3C996D2316C0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40C768A-C66D-4D10-9E78-97B1753748C6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4433699-4D59-445B-90D3-6F8A7CABD27E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F5FD9A2-44E9-4A94-8C8D-909147A57E4A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1AAA25E-3BBB-4521-9728-E24FCC28B72D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B1D487-BEFA-4C14-A7C5-86B9F7E4732B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DF2EA3-681A-42A8-A7E1-FF673CBDA4E0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73AC00-594E-4A79-B4C6-A4F377174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E2FC72-9765-4B8A-ACBA-6A0742B295CB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61601B-C73F-4532-BCE0-B16B003C8B38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CA388F-B1B4-4409-98D0-BFB3D83C3E19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980637-1F1E-4ECF-A5AD-949E57093C98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F259C5-040B-4DF6-B60A-9EE9EA94EF7E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0E75F9-1990-43D2-B85F-E0C6DE29CB55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D5ACAB-B3AA-4964-B0F0-79E242D254FD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77CD93-7251-4A7A-B283-A995CCD0C252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8D8230-4704-4B12-9EA3-0E1E3C3EC78D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42E5187-8BEB-4A34-8CDD-888B59FE5BFA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D19FFD9-D671-4E15-89C6-B4227D935796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1680290-518A-4031-A5C3-A4A3BB28504C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A9B7957-B761-4EAE-A760-1E0C133A15FA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47ADE3F-C49B-4468-958C-384662FDE907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1D19D78-94AC-4FE6-8584-3A291B33C118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7E2F447-918C-442E-8146-BD85D9CAB87C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99DAFF0-2CB7-4AA0-B9F6-DD698CF3C44C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862C320-F19C-4BBC-A0C7-01BF884DEEC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755F-398E-46E0-9020-00770069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6BC6088-7CD6-4DA4-8C0A-0BC3D21EE63C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041CA32-B150-40A1-92DA-70340010B79B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78414FC-631D-43BF-9B8C-A26B42AA2E47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F90F13C-28B8-4D32-B34F-7662AA67FE6E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51E0321-6F9A-40ED-84EB-DD0051DACA05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08043A6-11DE-4378-9D70-7DCA5B17373D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6DA61C7-8C8C-46D6-8F6E-E16BE84B7D35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E9C55F9-C296-4FF2-AFB1-38BF91630383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DAB66D9-920A-4D8E-975E-8A112A3635F1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EEEF7C4-CF46-4DC1-8B0A-D09BB2611B6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3870-74B3-4498-BC7B-AB6311BA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1F4AE83-820A-47D1-B613-9BFF342A79E2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E8C01C8-0E69-4DA7-A251-4887C5681DB7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378BF12-3451-4C75-9B9D-CDED78CB60CE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C388386-41BA-406F-A34D-48CD0A3CEB6B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8E344CE-4284-47D3-B14E-8DC717F866D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8ECC-FFC3-4D91-9C12-4A560A19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0D2F-394D-4B26-A3BD-0E40E7EB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7105-F2B6-4BB2-B52B-A7780DC9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2ED4-19ED-4F1E-87B7-4DC3606F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839E-5142-4CF2-981C-B10D41AC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9607-D6CA-4717-BDB3-27548672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A203-6593-4AA0-A5FD-9F6E9DE5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2197-AE35-4076-A571-9E18AE6E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0511-3D0B-4B9A-9DE0-1E74805B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A087-A041-4452-BBE7-03005C73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35FD9-8178-467D-8BA5-1AC3235FA51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E396F-C831-4AF3-BCE2-FE1398C51C1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9E365-A251-492D-8F8A-A17320B72B4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8A676-1BCE-4711-AF2C-C26C0E6D622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141B4-8A20-4FAC-8158-E2603CFE8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47FBA-6B41-4D6E-B8BA-38D4CC472F1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C6A0D-C576-40FD-938A-04D52DDAEC8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97BD4-8EEB-462F-B500-C6D2DAE2140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236F9-A6B4-418D-9F55-D83B969B136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98385-9559-4832-B8F3-C19A1E7CC08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BC69B-4C86-47AA-85D8-B6A634E360B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6842F-E2D3-41D8-B73D-4FFAC8DE82F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DF2F6-8952-4CB7-B00C-A44BCC35EFF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1073A-A13D-4BA5-9FE3-7D25A1078C6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7E395-AF17-4454-A10C-053D5381D3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Num" idx="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Num" idx="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Num" idx="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Num" idx="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1067CB-C895-413F-AB5D-41CD752E40CB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8AEC7-90B4-48D8-9109-71788CF0C1B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DC2E45-6920-4A8A-B8E3-57136315087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E06179-9932-45DD-B952-10AAD974ACE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F3208B-C2B9-41C1-9A75-AEF7B4C98E6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E4BCA3-95AB-47D9-AD8D-BFC79970BF1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B338C-1119-4077-8DE2-473F4601F02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DBBDA0-4D5F-4C30-9586-CD0DC1BBAE0C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A4CB6-0923-4827-840C-E0C9021D776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09653-16E0-454E-9FED-698A976327B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F6CD4-B9BD-4C39-A842-087F93F18CE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038B9A-2B80-46CB-9C48-BD8809EAE91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40328C-6B8E-4337-83E0-BA734822C2A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Num" idx="2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8B62E8-B8E0-4DE0-90D9-E8EA723C812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Num" idx="2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A09E82-4780-42A7-B7B0-9832510A13B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Num" idx="2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DE407-84AC-4F6E-898F-3F93B20676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Num" idx="2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749280-BB4E-44DB-B11A-83FA9D659D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8D5A45-2372-4DD4-B5C1-F0E1C06241FB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Num" idx="2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3B55DD-E1CE-4CA0-AC2E-60D3063E14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Num" idx="3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4DD73-A01F-48CE-B12B-10972845F5E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ldNum" idx="3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BDE758-EEB3-464B-80B6-0BAD02BDFCA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Num" idx="3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765058-170D-40AC-8B7A-81F8F75372D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Num" idx="3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07EE20-FF4F-477A-B602-43303470A09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Num" idx="3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DC8DD-3AC7-482C-BA04-48E1FC21E48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Num" idx="3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1D63D-EEC6-4198-8E1F-1F147DA24F9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TextBox 1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Num" idx="3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65BE4-0141-4D71-8CF4-F5828864C75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Num" idx="3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587FE8-6DF2-4016-85C0-15A3D274B32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Num" idx="3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809655-F67D-400E-8E3A-44B345CA2A8A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Num" idx="3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sldNum" idx="4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6DDB5-4A38-4116-88B4-3E8B5322DE2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Num" idx="41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Num" idx="4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3B7E65-98F2-4C60-AB38-1990CA7F88F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ldNum" idx="4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3195E9-2899-4B57-8397-375C70313C2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Num" idx="44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Num" idx="4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sldNum" idx="4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ldNum" idx="4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88F41B-F930-4ADB-8F7E-EF387D3E1DBB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63F16-CE66-4E99-B983-743E6C25270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Num" idx="5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450844-7A34-4C0B-B129-B463337E7F8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Num" idx="5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C128D1-C078-4BC5-92D2-FEC1CA189EF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sldNum" idx="5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CC4889-87DD-47C9-818B-40E4606E9AC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ldNum" idx="5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82E4F0-048D-4473-A8E6-2F0F5BF36C5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sldNum" idx="5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0CF921-5534-4C64-AC47-D4A0BD499F3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sldNum" idx="5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C3A07-9AD2-4B7E-9826-5AA1D2D3647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sldNum" idx="5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EEFF08-FE49-42D9-9878-E91E7BB5C01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13185-BFBA-4017-8F00-FBB3593EDBE6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ldNum" idx="5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7B857F-D1E1-457B-BA02-80FD757342C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sldNum" idx="5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B3F7C4-2BF8-42D5-BFB5-487E423CF1F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E7CBF-359F-4791-BA1D-9C324690051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Num" idx="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7C5A1-A5C3-42AF-A8B9-38AFAC676A6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Num" idx="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s://community.icann.org/display/alacpolicydev/At-Large+Policy+Development+Page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afri-discuss@atlarge-lists.icann.org" TargetMode="External"/><Relationship Id="rId2" Type="http://schemas.openxmlformats.org/officeDocument/2006/relationships/hyperlink" Target="https://community.icann.org/display/AFRALO/AFRALO+ALSes" TargetMode="Externa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ALAC, At-Large and AFRALO: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Working to Help Shape the Future of the Internet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Dr. Olivier Crepin-Leblond and 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ijani Ben Jema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Questions?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385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The At-Large Community -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Representing the Perspective of the Internet End-Users at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Local, Regional and Global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Slide Number Placeholder 2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FAFF34-E822-44CF-8A80-7987E010129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Rectangle 1"/>
          <p:cNvSpPr/>
          <p:nvPr/>
        </p:nvSpPr>
        <p:spPr>
          <a:xfrm>
            <a:off x="1371600" y="203976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What is the Issue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Rectangle 2"/>
          <p:cNvSpPr/>
          <p:nvPr/>
        </p:nvSpPr>
        <p:spPr>
          <a:xfrm>
            <a:off x="2133720" y="31068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Moving ahead with a PDP or not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Rectangle 4"/>
          <p:cNvSpPr/>
          <p:nvPr/>
        </p:nvSpPr>
        <p:spPr>
          <a:xfrm>
            <a:off x="4572000" y="310032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Assess / Arm WG recommendation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Rectangle 5"/>
          <p:cNvSpPr/>
          <p:nvPr/>
        </p:nvSpPr>
        <p:spPr>
          <a:xfrm>
            <a:off x="6392880" y="203976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Final Approval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Straight Connector 14"/>
          <p:cNvSpPr/>
          <p:nvPr/>
        </p:nvSpPr>
        <p:spPr>
          <a:xfrm flipV="1">
            <a:off x="4495680" y="1922400"/>
            <a:ext cx="0" cy="3636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8" name="Picture 6" descr="At-Large organizational structure_better margins"/>
          <p:cNvPicPr/>
          <p:nvPr/>
        </p:nvPicPr>
        <p:blipFill>
          <a:blip r:embed="rId1"/>
          <a:srcRect l="4399" t="5266" r="6034" b="9829"/>
          <a:stretch/>
        </p:blipFill>
        <p:spPr>
          <a:xfrm>
            <a:off x="328680" y="1442880"/>
            <a:ext cx="8704080" cy="538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9" name="Content Placeholder 4" descr=""/>
          <p:cNvPicPr/>
          <p:nvPr/>
        </p:nvPicPr>
        <p:blipFill>
          <a:blip r:embed="rId1"/>
          <a:stretch/>
        </p:blipFill>
        <p:spPr>
          <a:xfrm>
            <a:off x="1362240" y="1469880"/>
            <a:ext cx="6978600" cy="5369040"/>
          </a:xfrm>
          <a:prstGeom prst="rect">
            <a:avLst/>
          </a:prstGeom>
          <a:ln w="0">
            <a:noFill/>
          </a:ln>
        </p:spPr>
      </p:pic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3487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You Can Contribut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elp Shape At-Large Policy Ad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1" name="Picture 5" descr="ALAC - SF 2011.jpg"/>
          <p:cNvPicPr/>
          <p:nvPr/>
        </p:nvPicPr>
        <p:blipFill>
          <a:blip r:embed="rId1"/>
          <a:stretch/>
        </p:blipFill>
        <p:spPr>
          <a:xfrm>
            <a:off x="617400" y="234468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2332" name="TextBox 2"/>
          <p:cNvSpPr/>
          <p:nvPr/>
        </p:nvSpPr>
        <p:spPr>
          <a:xfrm>
            <a:off x="2928960" y="2290680"/>
            <a:ext cx="5576760" cy="33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20 Statements in 2013 to 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Key Issu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2013 RA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WHO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PI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ID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Stability and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olicy Development Workspa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2"/>
              </a:rPr>
              <a:t>https://community.icann.org/display/alacpolicydev/At-Large+Policy+Development+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Policy Advice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Statements an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0233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Rectangle 3"/>
          <p:cNvSpPr/>
          <p:nvPr/>
        </p:nvSpPr>
        <p:spPr>
          <a:xfrm>
            <a:off x="380880" y="833400"/>
            <a:ext cx="860112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+16 Working Groups – open to all members of At-L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Issue-based: WHOIS, New gTLDs, IDNs, etc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Activity-based: Capacity Building, Outreach, ICANN Academy Technology Taskforce,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ject-based: At-Large Summit 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5 Regional At-Large Working Groups – serving as the umbrella to the over 150 At-Large Struct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vide key bottom-up input to the ALAC through channeling ALS feedback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6" name="Picture 1" descr="7453485972_9706203f93_k.jpg"/>
          <p:cNvPicPr/>
          <p:nvPr/>
        </p:nvPicPr>
        <p:blipFill>
          <a:blip r:embed="rId1"/>
          <a:srcRect l="0" t="23093" r="0" b="0"/>
          <a:stretch/>
        </p:blipFill>
        <p:spPr>
          <a:xfrm>
            <a:off x="995400" y="4235400"/>
            <a:ext cx="7072200" cy="256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22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presenting the Voice of the African End-Us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8" name="Picture 2" descr="AFRALO: Dakar Showcase 2011"/>
          <p:cNvPicPr/>
          <p:nvPr/>
        </p:nvPicPr>
        <p:blipFill>
          <a:blip r:embed="rId1"/>
          <a:srcRect l="0" t="7713" r="0" b="7713"/>
          <a:stretch/>
        </p:blipFill>
        <p:spPr>
          <a:xfrm>
            <a:off x="304920" y="2590920"/>
            <a:ext cx="853416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 txBox="1"/>
          <p:nvPr/>
        </p:nvSpPr>
        <p:spPr>
          <a:xfrm>
            <a:off x="2997000" y="853560"/>
            <a:ext cx="5059080" cy="58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Input into At-Large policy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Capacity Building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Capacity Building Webin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online education modules – to be develop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Outreach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CANN Meeting Showcases and Rece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Broch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/AfrICANN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ntribution to ICANN African Strateg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Organization of IGF Pan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76262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7251F-0C72-4147-9D7E-68111180D0E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2" name="Picture 2" descr="AFRALO: Dakar Showcase 2011"/>
          <p:cNvPicPr/>
          <p:nvPr/>
        </p:nvPicPr>
        <p:blipFill>
          <a:blip r:embed="rId1"/>
          <a:stretch/>
        </p:blipFill>
        <p:spPr>
          <a:xfrm>
            <a:off x="184320" y="1036800"/>
            <a:ext cx="2633400" cy="4101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"/>
          <p:cNvSpPr txBox="1"/>
          <p:nvPr/>
        </p:nvSpPr>
        <p:spPr>
          <a:xfrm>
            <a:off x="680760" y="1268280"/>
            <a:ext cx="75898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Monthly Telecon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I-Discuss Mailing Lis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1"/>
              </a:rPr>
              <a:t>afri-discuss@atlarge-lists.icann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Wiki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At-Large Structure Workspa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2"/>
              </a:rPr>
              <a:t>https://community.icann.org/display/AFRALO/AFRALO+AL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Leadership – Representing AFRAL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Officers: Chair - Fatimata Seye Sylla; Vice-Chair – Tijani Ben Jemaa; Secretary: Aziz Hil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LAC Members: Titi Akinsanmi, Yaovi Atohoun, and Tijani Ben Jema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29C200-A7B7-46A0-9B56-BEA114B1969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"/>
          <p:cNvSpPr txBox="1"/>
          <p:nvPr/>
        </p:nvSpPr>
        <p:spPr>
          <a:xfrm>
            <a:off x="396720" y="1267920"/>
            <a:ext cx="799488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Monthly AFRALO Tele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AFRALO and At-Large Mailing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Join an At-Large Working Grou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omment on At-Large Policy Advice Stat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sk for Additional Information about ICANN and At-L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Beginner</a:t>
            </a:r>
            <a:r>
              <a:rPr b="1" lang="ja-JP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 Guid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LS Starter Ki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28320" y="321840"/>
            <a:ext cx="80629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to Help Shape the Voice of the Internet through AFRALO and At-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8" name="Picture 4" descr="http://farm4.staticflickr.com/3306/3559459694_af51a8166c.jpg"/>
          <p:cNvPicPr/>
          <p:nvPr/>
        </p:nvPicPr>
        <p:blipFill>
          <a:blip r:embed="rId1"/>
          <a:stretch/>
        </p:blipFill>
        <p:spPr>
          <a:xfrm>
            <a:off x="519120" y="3657600"/>
            <a:ext cx="7994520" cy="3170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9:45:36Z</dcterms:created>
  <dc:creator>Marika Konings</dc:creator>
  <dc:description/>
  <dc:language>en-US</dc:language>
  <cp:lastModifiedBy>Gisella Gruber</cp:lastModifiedBy>
  <dcterms:modified xsi:type="dcterms:W3CDTF">2013-07-08T17:20:06Z</dcterms:modified>
  <cp:revision>100</cp:revision>
  <dc:subject/>
  <dc:title>GNSO Policy Issues</dc:title>
</cp:coreProperties>
</file>