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63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</p:sldMasterIdLst>
  <p:notesMasterIdLst>
    <p:notesMasterId r:id="rId64"/>
  </p:notesMasterIdLst>
  <p:sldIdLst>
    <p:sldId id="256" r:id="rId65"/>
    <p:sldId id="257" r:id="rId66"/>
    <p:sldId id="258" r:id="rId67"/>
    <p:sldId id="259" r:id="rId68"/>
    <p:sldId id="260" r:id="rId69"/>
    <p:sldId id="261" r:id="rId70"/>
    <p:sldId id="262" r:id="rId71"/>
    <p:sldId id="263" r:id="rId72"/>
    <p:sldId id="264" r:id="rId73"/>
    <p:sldId id="26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notesMaster" Target="notesMasters/notesMaster1.xml"/><Relationship Id="rId65" Type="http://schemas.openxmlformats.org/officeDocument/2006/relationships/slide" Target="slides/slide1.xml"/><Relationship Id="rId66" Type="http://schemas.openxmlformats.org/officeDocument/2006/relationships/slide" Target="slides/slide2.xml"/><Relationship Id="rId67" Type="http://schemas.openxmlformats.org/officeDocument/2006/relationships/slide" Target="slides/slide3.xml"/><Relationship Id="rId68" Type="http://schemas.openxmlformats.org/officeDocument/2006/relationships/slide" Target="slides/slide4.xml"/><Relationship Id="rId69" Type="http://schemas.openxmlformats.org/officeDocument/2006/relationships/slide" Target="slides/slide5.xml"/><Relationship Id="rId70" Type="http://schemas.openxmlformats.org/officeDocument/2006/relationships/slide" Target="slides/slide6.xml"/><Relationship Id="rId71" Type="http://schemas.openxmlformats.org/officeDocument/2006/relationships/slide" Target="slides/slide7.xml"/><Relationship Id="rId72" Type="http://schemas.openxmlformats.org/officeDocument/2006/relationships/slide" Target="slides/slide8.xml"/><Relationship Id="rId73" Type="http://schemas.openxmlformats.org/officeDocument/2006/relationships/slide" Target="slides/slide9.xml"/><Relationship Id="rId74" Type="http://schemas.openxmlformats.org/officeDocument/2006/relationships/slide" Target="slides/slide1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 type="dt" idx="6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5"/>
          <p:cNvSpPr>
            <a:spLocks noGrp="1"/>
          </p:cNvSpPr>
          <p:nvPr>
            <p:ph type="ftr" idx="6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6"/>
          <p:cNvSpPr>
            <a:spLocks noGrp="1"/>
          </p:cNvSpPr>
          <p:nvPr>
            <p:ph type="sldNum" idx="6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B36E31-5958-42CE-B621-3707960AC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942E94-C5B2-4DA9-8234-46596CDCAD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6E54A-E61B-4BD9-B62E-08B43E83463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58857-1D79-420A-8E97-319BA20699D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EE408-90EB-4AE2-9BAE-A1B8528B3DD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11D88-8790-47A2-8A61-99B36A164FA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8CE7A-A295-4B32-A9A2-811ABDA8E40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2BB89-485B-4BA6-BF93-1504D1919E6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053AD-74B4-4DD9-ADCC-AB410DC361F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19904-4C2B-4634-9AED-7A1FD3BA29B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B1089-9B4B-40CF-ACBD-9C6816473DD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5775-6DD7-4FC4-A5D1-3DB54E8FEC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9B4F-E957-4DA2-8510-62CB0F572FA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5226-F073-41E5-9D73-526E49A43A8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10CB-8A2A-4BE6-A89F-709622FC7BA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39C5-E8C0-4F1C-8D39-FD754BDDD3D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4E07-09C5-4BCE-AB4F-0B5077DE32E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31F1-8D04-4A7D-92E0-87819803543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DCE0-1D67-469C-92DF-C9CF179A993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371F-25EC-40D2-B8CE-86A8766882C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750C-9E33-4D63-A402-3E13FA05FEB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E138-19F4-4C80-8124-04953561B5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E526-35D7-4245-B0F4-EF6DA35FF90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96CBD0-192F-463E-A845-E1F7C6CBF50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941F7E-42F6-4D9C-87C9-D9EF2F298DB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BF910C-6B70-4E7C-822B-081409E016B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8545BA-2A43-47F6-A968-CD8E28B49BC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8B276E-08F9-40BE-A3E8-E0238C3F443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C49224-1C96-4401-8BA8-722618474C6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7D4EF2-C811-4548-A862-08EB03BDA23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416081-9796-46F7-A8F4-B1A3EA0CFD7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833E2E-6653-48EE-8ED3-D6596EB9FB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9196F7-86F2-4097-9F7C-6BA569FBD71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F7F2AF-DEF5-464C-BAD4-AED12AC3D8E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9E630D-1098-4906-B6C9-0AE361FEBE7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6AF3AA-FC20-4BBB-9F52-DDF4D504E78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521733-5EBD-4203-9A74-8DBE64A6E0A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58EBAE-A1A6-43D5-AA0A-478F0A3F331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4C57AC-0996-4A77-B8FD-5E5E313492E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6EAC7C-A2E4-4A3B-8EE0-EF9CFEA185F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D44568-F3BE-4D7C-A9A9-6E59BE176A1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65FFA4-C013-4A6B-BC36-7D36F72357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4BD721-68D8-441D-81AA-1A0A454A813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A1DB2D-DD17-445F-84CC-36ED34DD88F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FF1107-C1FE-4348-AD3C-B329BAB9A06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41F15A-A9FB-42D4-B256-D1A482ACAC7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462D79-3CE9-4342-B19B-B08C48904C6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CEDE6-D8BB-42DB-8B93-60EC63BB7C3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FF978-7BE4-4AF4-8335-7762918DE6A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DF88E-9362-4249-9243-C6BD39A0DC7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00534-66DA-4EFA-988F-7589F9A197C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27EA7-0964-4709-9421-C9B50CF250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CC43D-A81E-46DF-BF98-968C22A4AF3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85D8F-A33A-4EB6-81A5-CD48F467684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4CD27-449E-4461-8CFA-124EF519451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0AA69-CE62-4C81-A174-C57234B107C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3C487-64E4-4303-9403-4253D1BBF00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DD4AF-BA08-44BE-B5E4-EB57449259A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603D4-B8E3-4831-AF0C-6627A1A9C3C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B4BD3-1651-474A-B080-233F7048D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7B1BF-926B-4843-85AA-D8343836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B12B7-7526-419C-BEAD-323C9A4F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1A175-B245-4489-B34F-F7BC5701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6BC58-75BA-4858-9753-80016013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3FFE9-7B7B-4F4D-A98A-D908B07D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15B91-4828-4763-B6B9-65074072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83A8F-677D-495D-BFB6-F3261D2D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AC68C-240F-49DE-B20D-4B7B42D1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C3D2E-FA58-479C-AB52-BC25D2BF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DAC21-C8E7-4C21-A15E-9892558E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71C96-25AF-48FC-84B9-08B5B0D65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ABD7CA-92A9-429C-8F99-9EABC07218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583ED0-968D-4745-8281-F285D79C463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872C36-8FC2-42B4-B873-59598C9E686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D675F7-40BB-47A5-B1A1-D03761C115B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A9A59C-5449-4759-B186-1508E0F68BE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7164C9-BA9D-46EC-86C2-E83B25DC2B9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7E80FB-F410-4DE2-9429-F6E93A9569F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E6A7FF-4624-46DE-A311-2798A1C5771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82FCCB-76DF-4B4E-9A0F-FE5081CFDE9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E658CE-8875-4483-9D48-342C4D0FE9C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3B630C-0391-4B26-9087-BBC760B9F9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9BDE8B-515E-4A20-A62E-C17730897E7D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442035-6686-4C70-BF62-249A8EFA13C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81ADAC-7D60-4A99-A55C-7475BE64ED8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85F80B-0E1F-4CD9-9C24-1E8C898EBB8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024171-0FDC-4500-A4F8-EDCEB22977D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C0F7F3-6891-470B-9ED9-46306AE40C9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911AB1-F6AB-4376-8096-345D408100C7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B3D213-AF3E-4362-B47D-B05109C0952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88BA71-F19C-4178-9B9C-EAEEE1C6422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BAEF09-DEFB-4FDF-BB9E-9FCDF7C9E9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7D67C3-DD5E-4454-9F67-70DF1AE50AA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922EB3-5699-48E7-BDAF-B422557B8F8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F89B5D-D10F-4B0A-8DBE-F030FEF0681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0E0F4-31FB-4485-9C0A-0007818C8F3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DE789-E74A-4EE2-905B-D1FBB8EB82C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41FCA-D221-4C22-BD6D-9FA9B9EDE506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F3E9D-1A95-43F9-AA25-7FF74C8F61AC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2C7AC-2049-46EA-B7C3-42F17025DE0F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6584B-4555-4392-AC4E-E68603CE97A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38535-E9D7-4349-AAC7-ACCC19998C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F380C-301E-4F85-9C20-2C80007D26E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EC17C-6A99-4442-BE9B-B9C60EB2EE32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C08A3-4FC9-49B2-9672-0058DA35AF94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1A4F6-8A1B-4CF6-B63B-D5085A858F36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30748-6B07-4472-B38A-A4DEC97FE09A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87C0DA-EEFF-479D-8FA8-AD0A4854602B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47EB46-F016-43B4-871B-19477715EFF4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BF6625-F7E9-4950-A014-8C4AC42EBC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461542-83C1-4D4F-A00C-33911DA9DD26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10F841-ACD9-4FCE-A6FD-F468767F4CC2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DC90D0-44ED-4563-8683-D9BE284C13FE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59DCC8-243B-476D-A8B7-3786CB246B2B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A30EC2-8B2E-436F-84C0-EA38C76E93CD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468352-ECD7-455F-B667-8BB7C3D92313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EE3CE1-D04D-49C9-8F0A-D3A9B3B8A18C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C506C5-B886-44E2-8DBF-034EAAC04DD9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F3E00D-3CBC-4859-A7EE-1014860B42E6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A4A403-14E6-4FB9-901C-BF35A5C668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6F3441-9C2D-402C-8849-EA745ED93312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784420-7212-4F6D-83D2-273B9D4EDF28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5AAC9F-B702-425B-A863-92D6FC41684B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63EA90-A012-4D67-947B-3454330661A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032336-9817-4C2C-AC57-5B451C8BDAF0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D5BEE6-1E97-4315-A01C-E04DE309E5F6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9AC9D3-5917-46CD-B107-6B2741DD16EF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8F2F6D-4EB9-4F80-A9DE-3E090818F28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6D52A1-0CB3-4613-9F04-19BB34D5FF07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BCB4A6-E53A-4231-87E7-6A7DC92AB2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D6AE2E-DF79-4E6E-A8FA-B5E5C2775956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27961E-9B45-4DFB-BA92-483C4D738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203953-6171-4F5D-B0EB-FDA6737C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DED237-3F23-4297-A4EE-D29ED58A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C5618C-86C8-4788-BBEB-7CE7B544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175A4B-DFB9-41BA-8AAE-3DE7D32D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C978C7-7A92-4A63-A030-68A28421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DB1C0D-F5D9-4819-B34F-E218202C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F3EF5C-7F08-4135-A40F-09358B20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3AD294-54BD-4538-8F27-943C2C22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D6007F-9983-4316-A2F4-FBBB1209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5F3C88-4729-40CD-A077-9565FFD94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C035F6-F779-4108-AA0D-12866B0FE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202CB-FEE1-4082-A7B1-D4E7D9D8077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77593-9B2F-4E45-945B-0FB577D7C37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3FFBB-B78D-481C-9AC0-3516AA0348A6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A13C5-72A3-4EC1-83FD-AB1793CEF3D8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49D5E-188F-45E2-A585-E5C6ADABB05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8C1FE-C8DA-47A2-8622-02CB1F3F750A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9555C-E914-4BF0-A3EB-B5E4A0D543E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F1A3B-353E-4CB9-B040-F32C6C89DB9E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CA429-DCF1-4B04-9A1D-515EDC3FA6C8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2CE5E-CA6C-49C3-A776-7EBE5D39FD5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1135E-B879-43E1-B86E-DE0464B62051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F075D-4078-441A-97FF-4DFFD71CD359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10F7FB-3388-4F7B-A457-A233C4CB169F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5BEDCE-E674-4977-9BE4-69EDF54CAB97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050825-299D-4328-8A66-CBA330271608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4AFF42-1DE3-4F27-A877-ED4D0F0D060C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43BFD1-DD35-4840-9790-059356BE32B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3C510F-3345-4E0D-91DC-8109D0C55E92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8C870E-FB04-41C0-BDD8-829B34463C97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2876E3-311F-485A-A0DA-D0D7BDD8B407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5BBF79-5F8B-40ED-AA26-5722962126BC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FF868B-3C29-45C7-A7AF-0F1ECE5839D8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36EB8C-B182-4E00-918F-3B7214A1C06B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090B73-9829-461B-B3A4-C45D8C3B4FD8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4258C4-5425-476D-8B9B-24826E727A6D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D3FF0D-8208-4B30-B9E0-B10E6EA5E7C2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59DAAA-66E3-4022-BE2B-F07EFBB9347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175EAC-3466-46A6-8D78-51067AA36A0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D0BB3B-CB34-482E-93F1-A9A89494B4FF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4F9174-67BA-4C0A-8D2D-C6F710D21123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B89120-7355-47CB-9E28-CBE1EE2B3B35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70BECF-39E9-4DE4-B419-E48F40FF5300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A0A9B5-7F2C-4DB9-81B3-AAA324D789C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077448-D5DD-4981-AF89-034EF6340472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2FE779-2BC4-4107-B0C9-07CD008F69C1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0F38A3-51AF-4F7B-9210-16398926AE16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346C1-CBA3-4527-AADE-E8BA0B09720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666A7-E85A-4F57-AF12-0410EE740D39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341FE-1CD1-47DB-841B-3C139E26C099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A6684-7C8F-4969-9813-8F3993DEF361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19C85-F38C-477D-87E6-42526934EA6B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C3C78-9293-41F8-8720-DD8B2ADAD68E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EDB3C-DCBC-4B60-A5E7-2AB0568B975A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C5E3D-C4B8-43E3-A6DC-3EE6BC7F9F91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84B8B-3E27-4E77-A6D1-8F29358A2716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2BC32-C7BC-4C2E-9996-5A066E616E6C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752C3-0E40-4D67-8AB0-0B316E46A1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95FB7-01BF-4566-BB12-CD306F432BC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B184E1-3944-4237-BB1F-363370672990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151A37-3702-4ABD-8F48-F879190A940D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C1616F-23D8-42BF-89BC-268F4698EDD0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841852-EE39-4B41-B2C2-B672742C24C6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0EAA7E-7D7A-4397-95D6-202EE302C4B0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8A5DF2-F4C1-4AF7-9D87-A4857F3B9A7D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E88686-C8FD-4926-A06B-1677E600467F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53FF60-9077-4588-80A6-C129EE39D85B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FB3A8E-3DAF-4AC7-8E23-A974F740579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33E403-0FBB-47B4-8E5B-EE0CFD6E27AE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EC60CD-06B6-4C88-A270-7F6E3A04E231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8ECEE1-4C31-45F1-92D1-8903D9782D7D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4A7277-A72D-4B4C-9C17-E0EE25C09871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FD67F0-847A-41BE-9FDF-B09E19D5131A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822248-DD2F-4061-9263-2490DE56DF5B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F38FDD-FEDF-4634-950D-11F2E4D51F86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9C9981-11A4-479F-B674-2AAEC494D360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0D64AE-3402-4396-843E-97447BA3D30F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F9E289-9521-4F5A-9DB4-CE4BA4B343A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2A3B0F-FED8-4CA4-A9F8-ABB633A7402D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BB038B-F459-4728-BBE1-00C1C5958063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35D526-2154-4053-9A89-E388C69C5DA9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B01743-C7E9-410B-830C-62881EE56E5B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BBC9C1-B1AF-436F-928E-DC79033AA7A8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26EA4-E677-43DB-90F8-9F6CAFA9E4EE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B16B8-BA58-4767-9A7E-6058BDFE07A6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EAE20A-AAFE-47E3-8051-7C0E2C8FBA01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6564F-6ECF-4264-984E-9C27FBBBD3A1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F1D49-D1C1-4647-9F0B-6F3AA9ADA92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FEAD82-6211-4809-9622-82BC752952C5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F41FB-93B5-4294-9262-1F377697038A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67F36-9A4E-40B9-BD5C-8BA2697390BA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85736-731B-4FF5-AFF2-05019CD7DDDC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F94AE-DEE8-4E27-A269-051C2DF01DCA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0B6A89-A013-4846-AEFC-E1942F142ACD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11F65-D933-43F0-8440-96FF984392F4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50D05B-1B92-45FD-A0BF-6D2CEAFD901B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B4F7AE-3C04-4360-A603-ECF5B67A3F10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C230C5-CF18-4E82-A95B-3CCAAECE2E8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1047E2-FE8D-4B54-B663-FD38212AFE77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9FF6FA-3985-49C9-9AB6-4771943DB607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8B6BB0-4C85-46C5-B2EB-54C3FD91E83F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CFAD5C-FDBE-45F9-B655-D01717511297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840618-D5CA-4A45-8435-497291470A47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1C6037-A5B9-44F7-AF09-8A711B2C9896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BE5523-85A6-433F-AC9C-0B76297DD805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8EFF72-F6AC-4257-9B9C-98CBE505A308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80F879-AC4C-46BC-8207-CB3A1C277729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4717AE-AD33-4B20-A2BF-5AF56A28542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8DFBF4-07CC-44D7-9A43-834DA411039E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83F751-0E59-4178-A9E7-440E1431776B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D65938-EAD9-48AC-96B2-196CE901AFB5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BF1E90-7BA0-41B4-9508-498EFD886B17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1CAF51-3C3C-413B-AA21-194EBFC1D33D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79C802-6BFA-4194-B19A-D4E29319E0C5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FA5042-0E51-4065-96FE-A61E8D95F668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F3DBF7-99B1-435E-81F9-C4334FD869AE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E4DB24-5C3A-41DE-8373-ACD2F2710A97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D7F40C-D38B-4818-8B56-5A6F62D364F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AEA548-B351-4C6C-8C5F-92D4EE9A59B0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5AD8BD-7192-4816-A5E9-EC3D2513885B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A6518C-2DAD-4999-9090-53294F89D8A9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293861-7E27-4C77-89AC-CBBC57D43CAE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23A0A-8A5A-44FF-8934-9B8F18DF45A2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0BBA65-2AF6-490A-A0B9-9527700EDA87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F89AAF-60E7-4E6C-9F80-BAC7F4FCEFA0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7AE839-C48C-4F37-AAEB-BF170D96D978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8D0FF3-989E-4649-8036-0BFC3C8312DC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73CC8-B172-4E5C-9CE9-6D88DBA30D7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65E6A-A2EB-4B0C-A916-2E6012193299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6BEA1-550A-43D5-8B59-E4077479655B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B7D72-DF1F-49C6-8211-6E8B65233EF8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5A87000-C8E1-45B8-A6DD-AAD530DA27C9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D0D4C3C-F19B-44B4-829C-E6A3E6730193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D25263B-07CA-435C-8008-BF919D24CDF3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C6FA396-E05F-452B-849D-786175EBB3A9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431934-B4C7-4AD7-94D3-640755BEB0D2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43904D8-39C0-4647-85FE-28F865D68106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AEF51E2-505B-4623-8AF5-D8C58EA37E3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7897C6D-E24B-4F20-A310-D1B34AB034E5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FA1B3AC-2669-44BC-9388-F5B2F9C595C3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D777BCF-0F60-49DD-9AB9-5C5DE8E6629D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598E138-62A6-4DFE-BACE-B991F468AE7B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732392F-8268-4DB5-9389-D7C550B792CB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EA89D4B-6F97-4EFA-A330-133C85C4B803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209659-9FF0-4A4C-8EFF-968821868D05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7591AB-D0AB-4B5E-99B4-4A75C6FA5FDD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0FFE94-022C-4116-98A5-3E42139B4284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B4F586-6D7B-47DE-AB16-8A30B2B75FE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59FC1F-2835-41C1-9487-659BF258F86F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ACD594-DDEA-4FBF-A427-D16A7DDE3BBD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76B079E-1684-4C5D-8DF2-A2917869DA6A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0DBFCB-7639-49B0-93F5-E67D451C048A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4A7B41-B833-47B1-AD9F-5EEA928B6A5E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395409-556F-4C70-8605-00EA0295A1A0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1E2375-B7EB-4067-A984-7D7F9646FF5B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53621-5453-4413-BB19-D4DFCC200222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6FC44-B31C-45AF-B74F-3A94958DDF79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249E5B-E24F-4488-9DC4-F83D9B6679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5D33D-24DB-4A11-8A51-1D5E4EB94036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B7CC3-A508-4D53-95D0-2FFF47946E6E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0BA68-5851-4CF9-A7D4-79CAF9345F9A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B5E67-658A-4053-AA8A-66C89E387C15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AEF88-9171-469F-803B-21DA5506EE7F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A91F5-9F53-4A1D-B0D8-75571570BDDF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8B7AD-798C-4DE4-AED4-3B6FC98ED9FA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5971D-4D1C-45F5-B8BE-603037FD301A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DA25E-3084-4091-99E3-2F4DA6098B6D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21BD05-E63C-4086-A968-5A3487FC382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80E16F-9E9D-4F12-8FBE-FADF6D16AF85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21984A-2B2F-43FA-B8A3-0E985BD00779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F6BB00-F18B-4AB3-81FF-C7F6B0630DF8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9A65C6-0DF6-40BB-808B-45CA0D1AEB58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38577C-FFDE-4CDD-A586-F3F69516CC4A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24B03E-82A4-4F39-89C1-78662308D6CC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EF72E2-F3CA-4F62-A049-41DBB5B29528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3E1DE0-BDEF-4A01-93A0-D2550CFC418A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A0E3DA-FEC2-4E04-811D-21708BABFB30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C6BB2D-5EA5-41AB-90A0-76B205B066A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10E280-AB75-4DF3-B9F0-7F179D7429E4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C4763B2-E923-4C0C-9AFE-09A6C7ADCD49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FBA1960-739F-43B1-873F-076C84FE908B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E4CD7A8-2985-45EC-B65C-A78DCD182B23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F9314DE-8576-45DB-9D63-9687DC1A7E4E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D7A28FF-CB83-409E-B94B-203A4228BFED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485D25F-83A2-4515-A207-4A6FA54A41DF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5E0B1A5-F89C-4E30-8D74-00432C7FED7B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60F1FCA-0247-4332-9A5F-1F36476B3D6D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FD1DE14-8BFC-4347-A77A-2C74184DB9A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A80F812-0527-4105-A70B-14D0FE8447EA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8F3A33C-ADA9-48B8-867E-FBDD5B3FB71B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B983064-5BE4-48A6-8C9E-B67F93C2ABA8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B3FD8B-49E4-48F5-A4CB-B5952A595CC8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AB4726-8A37-41B9-9613-49A1FEFAB7F8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93EF2D-D590-4BCC-899B-D6AB71F68DC6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302FB7-DAA2-4081-98B6-9448CAD40901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997B4-440D-4B74-B78D-B1D98122B229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1B29B-F1A4-45D4-A617-4F182F635D74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E60244-65CF-40E2-B812-D92C04401CD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7C1F10-213C-4408-BC6C-65DA2A0A28EE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B8BF13-C8D8-4DF3-814E-8FEB0D791F7C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A5E92-2A95-4971-B6E5-1ADC03FBCAFA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A0F55F-6735-4BC3-A460-1BE11D32E24B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9B29BE-38F1-45AB-989C-B54160CEEE80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C02C3F4-64FA-4350-85EA-133B3AE8696E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AFBB9D1-4E4E-4F14-896D-790D1C98083A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F40886C-39EE-4588-8F17-2425CB81B675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667063B-D1FE-43A9-AB4C-AF33C4E75C13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DDF765C-9785-4117-921F-283A857EE1B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6D1D2DA-7240-43F3-A9C8-B0158639AEAE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99430E1-329E-4DD8-91C3-DFC826BEB0A2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2291F49-2E10-4EA9-800C-D05514710468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2AA905D-FC64-4D78-A2E1-4352D9481F55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5D8BD05-BD32-48E6-9490-9AA273ABB98B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91A84FB-9687-4237-9FFE-976EDE246FBC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C7E6186-AE56-40D2-A620-4C92B25773A2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A5400A-E78A-4F12-825B-39DEEC5E9829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30BED9-BC99-4AFB-B05A-9B3A835DF26E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4A7075-9E6E-4FB9-8D6A-5499D8E5007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B1D90A-13C6-4D42-816E-C324DE3F8488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56262B-71AA-4110-9FD5-6AC9792C05A2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BBEB16-699B-4530-9633-C5CEF54AEF58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B5E8F0-B1EC-4892-9772-C93E8354055C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CB5584-0315-49FE-9CBF-BD16644C4DFC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992EAB-015F-415F-B3B1-160782927258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3E4B1D-8B28-4065-B651-DBC910B9F615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26FCE7-58F5-4B71-9316-7AF69A6ABB8F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1B82AE-35A2-4259-8E32-AB85B0315B5C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2EBD54-7DDD-46BF-9215-147AD5FBBA5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169980-7879-4BF9-8768-BA7D7085FB77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D97D1D-AB5E-46E8-A3A5-9428B0E1BC80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5DD4E5-59A6-4525-929A-26FD1AEBAF7C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AA3B5C-0BD6-4E95-B0E7-24B5D1660D95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D4B1E9-72A9-4623-9DC8-357B92A98A1E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634D99-03D8-4C73-9ED0-D5797788C094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0A6A33-A96F-414C-8784-2860E43B2703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0F89B3-F127-4438-9A9D-79B40CC80491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DDD096-1171-4950-8256-EFBAB0876D99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17E461-43CC-492C-94F4-00B2F915B84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6FEB91-6409-402B-95BF-A575FEFF0F1A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B6E05B4-7179-4666-959E-218670E676A4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FA22E9E-B865-4290-BAB5-97975FE41438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30FF6F7-6130-46FD-AEC4-976570B23DC7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40BF0FC-A234-4D44-BDEA-FDE1AEE66650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781D705-1C92-495B-8686-1128E1494903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C96CCC3-8B95-43E7-98D1-66CB496A1A3D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D6F2364-73A0-42E1-A35F-84B775F83A31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38628B0-B55A-4A8C-8744-183943D733A2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C3E118D-112A-460D-9E5D-C1AD8004D31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19D747D-A4AA-40A4-8FFE-3EAEAECC35D6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7C07517-F4B4-4B38-B37E-C471A8CB78F5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8F251BC-C0F5-45A7-8E30-FEAE7D113E34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7322F5F-AA15-4C17-AE0E-36C5D0A59330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95FEC44-4B24-480A-B258-6026C809C9B4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E67632D-D572-4A80-8B97-74138663B191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8232E33-4285-41B1-9D53-117BBD748243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77C2F83-15F4-43B0-AB8E-5D5D5ADCBF96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701BD2F-2FC9-4C42-B6A0-F6BCDC5D9E70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E2C4410-0240-4C97-BBF6-E85B9D1AAE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CB9DB43-4A77-4666-A862-F89C4DC5D939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E4D5243-6B02-4EAB-B886-15B68E681A28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7EF09D4-8B45-4E55-9196-6541547C35AC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11EA2F2-1FCC-4AD8-86CC-544D74C4AB8A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3FC70B4-FC36-40B9-BE06-7CB1E711E03B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B4ABD5-DF75-4174-A2A2-2E12B66B9696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CD946C-3DEA-4F52-9BF8-CE92B5BDC3A8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B2712C-4734-4FD8-B66A-5F55DC2B1FF9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0C3674-5C69-4565-96AD-E947613EA87B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2EFD3B-7162-46F8-BC98-8041CF7AC7C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DAF272-F777-479C-BFBA-8918EA31814D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2336B2-5B58-4FB7-9934-74C5DF951FBC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712AFE-062E-4CBD-8514-62AB47FB5FD8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56D55B-0EAD-476D-9C32-B9CAD84203F7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6D6185-B682-4EC0-8964-9296392536A5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37C5EA-CF30-4C1F-9A95-40CA087E48FF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B88494-4AC3-480E-9036-91429AA9580B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66576EE-CAAF-4E17-A019-763C654B688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2A7B846-DB8C-415E-8004-298EA9F36733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F34BD44-6CC3-4DC8-8BFF-366C69138AC1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B1CF4CD-BE5A-4407-A8CB-FC511C4ECFE5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C36CB45-27DE-48C9-9A19-598CE31B5818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70FFABF-506F-4655-8248-293B6F1269E0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294092F-E37F-4039-BA49-41A6797B1501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D1AAD42-B6AF-4B45-9877-4638064A706B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6E5C4F8-70F4-4165-B57A-D9A9B3A2CB06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159D028-CF08-42FC-84AC-06114C8BC0F4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B90C64E-0BC0-46A5-813D-98CBB10814F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6D0F923-2FBA-4E48-9429-67C08F911978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0D3FC20-2F59-427E-B335-9E573D60AE20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9559477-47EA-4FCC-8EB0-33E708C17CB4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B0489C1-F290-4169-9AE8-7B11AD9CB8AF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0DA2316-5A62-4707-9C00-70F02358AAB8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EC8421D-D3FF-452F-95C0-002F22B01053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51C3CE2-584F-4126-839D-B63CCA96F747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2B9D0BB-38F8-41C2-96F2-746879C56299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26E8E8E-0457-4683-B134-F01AB4DDD693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4A8EE8E-216F-4F63-90F8-372B2941368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DEE9446-8E4A-4CE0-B65D-7218F42A2978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F0FD2F4-DA35-4F5D-962D-7A56CDC3BB6F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4EAAEAD-699C-44B1-9C68-E00129014972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E355E3-7C91-48B3-B8DA-78FF99DE8C90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828AC6-AC9D-4840-86CF-7CE7CD98A5BE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0E9D4D-7CEB-403C-AD5D-52F59A7C8313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8FD50A-52AE-40B8-A9B7-CF56A1B221AD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03B3FA-8AF7-46CD-80BB-02B406A5D5B0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D5EBB2-6B74-485B-9531-21A53A3981DE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BA83DC-6A0F-4E86-841C-FD88E0D5960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93F33C-46F4-439C-9806-C0A0646E0549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3A1212-68D0-4B6B-AE65-F4E8A8C7369B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BB4224-7132-4E55-AC01-D0C960272440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BEF3AE-52EE-4955-A7AE-4960A3BF897D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335E7D-A82E-4DA3-A296-88083386342D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A6FC4F0-2D8C-4E94-9109-4FD4DD8D4875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8A88C90-6134-476B-8B70-30807886AFF6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0EC775E-A000-4924-B0DB-1DA8A53CBE9D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8FD2625-49C0-490A-A9DF-31EF6172E981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F0F3019-D2D1-4446-AAEC-E80266C980D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6B2B7D4-D3DD-439F-9DD7-9990B2A5CBE7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FC10260-22A2-41E6-A749-B46FE4F0F880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D5AA778-042F-42B7-A59B-C0E02A8062B5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B7F6F60-6A63-4AE1-AB1E-EED3B1450224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E8530D1-3C25-47D5-875D-8769F47A3641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727CFC4-3326-4734-B7AD-6C68E65EC655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93D0456-7059-4083-8792-563492B90927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C2CE3B7-E23F-4111-AE6C-446CC7ED06D4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D32AA88-029B-4F92-9888-B3DAD67F86DF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4EFB831-5AC5-4F49-851B-33BFFB6FDDB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5C25626-5F50-4121-9CD3-CF6D49C99428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46A2168-9BB3-472C-AF8B-766E62CB453E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03043F4-1063-4D25-890F-161AA2B743E3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EAE1B1F-4747-4673-9178-094C19DB7D5E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7B5B867-92FC-4D9A-8FA9-CC5656ACAE8E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0AEFE2A-BA5C-4DB7-AE5D-59769B9EAA85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07750B7-2595-484B-B461-80EC5FD6AB5A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2583E6A-6A58-4792-B7C7-D30DB878FF56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AFE082E-C8DA-4DB2-9E0E-322C7048DFF4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E6D3655-076F-47E4-91EE-2E8855A53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0A82BB7-F2D2-4257-8ED4-098841EE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AEBC2CB-1CC5-4341-AFB9-2CE4AD6B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24EC127-5CF8-4B63-B420-AA4145F1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F01ADBB-1B8F-4011-B12E-3D4BF7D1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D8FE9B7-8DA6-4862-B982-2369BA3F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B3D0721-A1B7-47A1-9FAF-E5615919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C58329B-A83D-44A6-A64F-D3D431E5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69DE91E-39E2-4415-84F7-A44D48C5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3743DA0-16F9-4C48-BBC3-5B2E31BC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CE8BD59-497D-4FD7-95F1-2F01C6B6D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45B8455-397D-442A-B91F-0D5E7779C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22AFBC-9632-409C-973F-438CC819C143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52DE73-A99E-43CB-BC14-6295441FBE8D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A68EB6-5413-4FC3-9229-5ECEC97152ED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E288A4-2674-46E7-9353-8471792EAD4B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0B3B1A-02AA-47ED-89F8-3FC2447B946B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EC215F-5DC5-4FB7-A1D8-463AC8CF97B2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3B29C2-7B27-4A27-90F3-925E99C62F95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AAEF2D-3A16-4DBB-9346-4A4777C062FE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FC0DF6-ADEB-459B-B432-D5AE988A26E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28DD48-86F4-4A82-A012-7A7E000D12E7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E9FEF0-718A-4D58-BE99-06C908F9124F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DCD998-5FC9-4CE7-A76A-01E42A263A02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F9688E5-E246-4C14-8438-FEFDB59A7AA5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0AB4A3D-C0F2-4B64-A805-D41C0B4E5B2F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7DCC1BB-7AFF-474E-917B-DDD760E528F2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8695FED-301C-4595-96CF-C0101EC7EC4F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B57606C-9DAB-42F2-B316-485B4991E37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FEC3416-6EA3-43BE-A41D-84808685A926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D59BE1F-068E-4BC0-8CBA-39C4DB9311E9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805A386-36CD-4F8B-A6E6-1AF8CBCC5ECD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5D172C7-F842-4AA4-AF0C-62842216D344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269CD71-E6BD-4288-B4A4-22393592D9F0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F43011E-E976-4B90-BDEF-B0FC0987BE2E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6245D03-3EEB-489D-A074-AA7E0E43E6A5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AEE26A7-28B5-4E85-B3D7-8E2D561BF0D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B3DF458-8B62-4EB9-8842-AFC02B6176F1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AC8FEA7-9682-4B37-A5A0-490D7048D976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5001463-2466-41E2-B682-EAF64827CB29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A36B087-C467-45B9-B8BF-4C05F930B4C9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79FBD87-D635-4327-B59E-9E1FB4A5C6EB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2975CFB-6D63-4D18-A9EF-6B97BA2A9266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9F924EA-6330-49C7-9CE0-800C6C6B02DB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06CA06E-4DA7-46DE-B9B4-C04292A73CE9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6E271D8-B483-4050-B920-DCB51EEEFC0F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CFA2F3E-E49E-425F-892A-A5C51848B7B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C255716-53B9-48CF-B361-ABE0FE2A6108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C7B7F1-2BC5-45B6-A042-C9A42F711E24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7FA4F9-8AE0-439C-8104-167F7113F952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7520DD-F43A-4D49-8999-00367F84BE9E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1A7BAC-1FB7-4989-89EA-B6D6940AAE1D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F98C19-6EB3-439A-BEB9-762A00D3F363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4D3B4E-5D2C-415F-BCA0-6902C72D7BFE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4C55E3-69DD-4092-A714-EBF2D68B253F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221D2E-6545-49A5-B6A8-5126617A182A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42CEED-4F0B-4C86-A1CF-C1C6CAE6021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124A9C-7F1A-4DD9-8CAF-C9AFA664EC67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3C2EE9-965F-4F2A-8B25-1A3700D42150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3A6AAB-F403-471F-8F7C-8DC5BC997CB0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C30AE30-5BB6-4E2B-B891-6CC4BED51599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0CD5BD9-B78D-432A-8A7C-55875CEDFF3F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3214980-14EE-43EB-8379-6FB3A9C25BB5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4240646-4F58-4A51-AF1B-6C0048290BE0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2AF1E58-FC20-419D-A388-6599A60927FF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0206C72-3556-4726-B8F4-7A88EF3CAECE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78B7FAB-7CB0-459A-9E34-8DC6BAEBCDA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593AB90-E5E5-4A53-A839-BB194D383608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1E32A14-A43A-42FA-9E84-AAA741BE7825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0D1B63E-EEB1-4777-9A1B-1ABDAEB35ECC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828D09C-69C1-440B-9D60-A3067CA7C254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57F3BF0-DEB8-40E2-9F5F-6B1F67F9F5DE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230D20B-60AF-4EED-9DA6-13190CA35007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23E123E-7474-4962-8CF0-86A2ED620004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BD07DB5-F265-4F6A-990D-03B7EC475C0F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A93E742-114B-4367-BB37-8DE462C4A602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F199C26-46AB-47AD-BBE1-0C677FFFBEF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79BAA5E-D1FD-495B-8853-615BDE64C244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8C4C669-97C1-4C7C-A70C-56F5CB46B370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F0588EF-72D2-4729-9E98-8E56D0DE6014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E42AC73-88D2-440B-B720-90193E8EDE77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A126240-E30C-4CBF-919E-3C43D33B453B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6544396-23A2-4F5B-BFB8-40AE2BDDC992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29040BA-1007-4299-877E-DAE4C4863D76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45F4CA-0F10-48F0-9DC4-B410335CA2E5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936BC2-9788-4B4F-9634-ED352FC25377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5264F7-3211-41A2-B694-A7476C9359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4438C8-86F2-422D-A437-0476573892A8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452B50-A74C-4B1F-815C-0D8DF8005681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82D916-5FF6-4730-A5E7-95ED91BAF194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8CA827-13D6-4312-80E8-C17F57522221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BA42E5-B7AA-46B3-BA94-49362CFE5503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7A2973-962A-40F6-9639-4194FACA93FE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A06881-FA85-42E7-B06B-7EF2B7F38554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039652-4308-48DE-AD4D-D69CE314D800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03458D-68CE-4D7E-8CFC-1B720AD6BD9F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68F8867-B079-46B6-9983-41C920D5803D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EAD7C5D-E989-4C21-BDE5-A63000CAD424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3CA48B7-0CAC-4DF2-88D2-9908E55B422D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9D37DFA-67C9-405A-94E1-0C80E800D469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E7DBE49-1EF8-43BC-946C-20FF2E232A6A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F9A5E8B-6AB0-49EE-B5E6-BA4A771B5B76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AA9497B-7323-4783-92A4-815C68F476A1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61E0421-F086-4289-B198-54C7FF637778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8EDB3B3-9B3B-4C78-A891-806097E4F53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C119-0DAE-4E0A-8178-C5917CEC8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C1FD2D5-42A8-4CC0-B21B-869DC5B0CC4C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255B3A4-E1D7-4428-9AF8-7BE74CA720CA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EEA5A7F-A7B0-48AB-B316-BFB170B6E1D0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70CFDD5-9430-48FE-9CD4-9F8614218024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F821F62-B163-444C-B0C6-27B0254FF9FC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89CC1E3-53B5-473A-B8BA-2BC39CCD8F8B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C9C4BCC-83CF-4A1F-98A5-3F0125CD7BC3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0E1819C-6A2C-4D0C-864E-AD23D17715A3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DF04D3C-0242-41AB-82B1-40E1D1FEA1C4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7C07177-0766-4825-BE26-FD4E35E222C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AA4D-F45B-4A35-B6CC-195B2D91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8D14F99-E90B-4A5B-9006-CC85E08339F9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6964827-53A8-46EF-B385-950380A17578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6C891E8-925C-41B1-87B1-3472B6CE1F7B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AFC3819-167F-4D96-9856-AC143ACCD169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9648921-CD92-4D1D-9B5D-07AA785B85B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F6E4-6909-4439-911B-800D4267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3B32-EB73-41B4-90FA-D0747E91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A99D-3FDF-4545-9596-790CF418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06F6-7493-4113-AE8F-FA47047A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E5EB-7540-44AE-AF36-9DA230CC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94EB-5A08-4393-B6B3-B1B8C922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34F3-975D-4F3E-815A-2241FE94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6CF8-A341-41C4-BABD-968A9A85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A8A0-9EB7-4247-96FC-5AB58DD5D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8722-20DC-4967-B690-C0632B671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EB2B2-7DB3-4891-9583-C5170E13E9C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78ECF-C9C6-47E6-AE1C-2EE0F872729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D18FD-34FC-4A5A-AABC-A694DF6BC74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BF614-9743-48A4-8B5A-BC4D5C17A24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E6184-ED96-4917-BA80-0FA22085E4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C815B-9D57-4154-AC40-55DB7E391B3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C50EB-DA3E-4EAE-BDF5-8B4A6DB5A54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2621E-7587-45B9-9E7A-61290A0320E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3089A-D8FF-476D-8E7E-BDE13A573D9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01739-B59F-4657-B5D1-A3AE2AAF9DC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08D8C8-93FE-4365-B785-7287DEA20B3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2A93B-13D8-4BF3-A561-4D218FF6457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CB9A8-3567-4504-97A8-AA10445EAE6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57D20-E3E3-4760-BD73-780C5DF2DB1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7A16D-70E9-4DB9-9CCA-7907925E1C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Num" idx="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Num" idx="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Num" idx="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Num" idx="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6754F0-5F75-47CB-BD26-C9ADC897E327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ED4908-8AF5-4542-9AD2-611AF9674A4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F5C4E3-EA33-4773-8B87-9F30949437AF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8F4071-0E90-439F-A74B-BB67A02DBDB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62AE1B-5682-4AF4-BECC-AB065990C82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337598-CFB1-4606-A22D-D3CE760261E4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E2EA24-26B2-40C9-9D24-E44D363BC794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43E873-87DC-448E-9735-990AC861820D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72A748-2AC5-4C95-B7E0-D285F97AF40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Num" idx="2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29AD89-97EF-49B8-82D6-7A6826836445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Num" idx="2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5463D6-4122-4EB4-8126-A0A215145117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Num" idx="2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BBD4AA-65F7-485D-B027-D3BD804C4A2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Num" idx="2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1D95BC-88EE-4FCF-BF90-83D0AA59D1B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Num" idx="2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97B0E0-C403-4191-86A8-D83FF4E32A82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Num" idx="2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93D7F4-79A2-42FB-AC2B-BD659ECF70EC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Num" idx="2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689D8C-3816-4DEE-B0AC-1444B6969B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Num" idx="2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050D83-8E3F-4BBC-A75E-9A09D7C5F9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CB91C1-9242-41E0-9968-F79A5EF32F62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Num" idx="2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D85A8B-BE35-446F-8CDF-E42CA922B5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Num" idx="3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7355FC-2061-45CE-A7E8-D37328CD11C2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ldNum" idx="3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455154-77B0-413A-A2CB-0A598B21EB64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Num" idx="3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7421D5-C5ED-4F00-BBF1-90FEAE5433E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Num" idx="3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A19538-1EE3-4ED3-8C1F-AC6945951F0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ldNum" idx="3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F5AF4A-6E2B-4014-A4C8-7EEAA138218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Num" idx="3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2A3AB2-1DB3-4FD9-83B2-56EADE4E044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TextBox 1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ldNum" idx="3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F26581-C765-451B-923E-43CA9E75B91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Num" idx="3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A3418F-5F5B-4ECA-9B96-CCB0F2227A5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Num" idx="3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0EEF33-D85B-4FA4-BBF8-499B9AB8DC3F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Num" idx="3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sldNum" idx="4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45B339-6D6A-4D46-822C-3A8A1244DE4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ldNum" idx="41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Num" idx="4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7F2239-EC5F-4D0C-9757-D87B2655939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ldNum" idx="4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0FF9AB-A2CE-428D-94CE-1F311B1CE458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sldNum" idx="44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sldNum" idx="4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sldNum" idx="4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sldNum" idx="4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7E76C4-320B-4AF9-BBE7-2681357B5AC8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 type="ftr" idx="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 type="sldNum" idx="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E34E18-BC4B-42E8-9648-FA348573A7D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ldNum" idx="5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B8C57D-1672-4D6F-8AF8-8402C944641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sldNum" idx="5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8A464E-FF00-4778-B831-D86A2E6F4F08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sldNum" idx="5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EE89F3-948D-43A5-80E7-6387649928A4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ldNum" idx="5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387CD6-4BAE-4F74-B787-F04CA75A3A45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sldNum" idx="5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4BD3E9-E613-424F-9310-474DFC03C42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sldNum" idx="5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E84211-54AB-4816-AA1B-2CA2CBF7671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sldNum" idx="5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A4CF01-6CC9-41C3-AF2F-EF0885382CE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C6404D-AB3E-4BF6-B54D-F17FAD83D0D6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sldNum" idx="5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9B586B-2701-429C-8322-FE48CCE9860E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sldNum" idx="5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53468F-2507-4451-B16F-546954FC7F9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2A10FD-8077-4049-A046-1A3F5D3407A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Num" idx="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D77860-C303-4D6C-9558-C7172F36904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Num" idx="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s://community.icann.org/display/alacpolicydev/At-Large+Policy+Development+Page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afri-discuss@atlarge-lists.icann.org" TargetMode="External"/><Relationship Id="rId2" Type="http://schemas.openxmlformats.org/officeDocument/2006/relationships/hyperlink" Target="https://community.icann.org/display/AFRALO/AFRALO+ALSes" TargetMode="External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528120" y="599760"/>
            <a:ext cx="78598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ALAC, At-Large and AFRALO:</a:t>
            </a: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Working to Help Shape the Future of the Internet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Dr. Olivier Crepin-Leblond and </a:t>
            </a: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Tijani Ben Jema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0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2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528120" y="599760"/>
            <a:ext cx="78598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Questions?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0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3851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The At-Large Community -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Representing the Perspective of the Internet End-Users at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Local, Regional and Global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2" name="Slide Number Placeholder 2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F72C59-08EC-427D-BB20-4E41CE0F0CEC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Rectangle 1"/>
          <p:cNvSpPr/>
          <p:nvPr/>
        </p:nvSpPr>
        <p:spPr>
          <a:xfrm>
            <a:off x="1371600" y="203976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What is the Issue?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Rectangle 2"/>
          <p:cNvSpPr/>
          <p:nvPr/>
        </p:nvSpPr>
        <p:spPr>
          <a:xfrm>
            <a:off x="2133720" y="31068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Moving ahead with a PDP or not?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5" name="Rectangle 4"/>
          <p:cNvSpPr/>
          <p:nvPr/>
        </p:nvSpPr>
        <p:spPr>
          <a:xfrm>
            <a:off x="4572000" y="310032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Assess / Arm WG recommendations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Rectangle 5"/>
          <p:cNvSpPr/>
          <p:nvPr/>
        </p:nvSpPr>
        <p:spPr>
          <a:xfrm>
            <a:off x="6392880" y="2039760"/>
            <a:ext cx="101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Final Approval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7" name="Straight Connector 14"/>
          <p:cNvSpPr/>
          <p:nvPr/>
        </p:nvSpPr>
        <p:spPr>
          <a:xfrm flipV="1">
            <a:off x="4495680" y="1922400"/>
            <a:ext cx="0" cy="3636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8" name="Picture 6" descr="At-Large organizational structure_better margins"/>
          <p:cNvPicPr/>
          <p:nvPr/>
        </p:nvPicPr>
        <p:blipFill>
          <a:blip r:embed="rId1"/>
          <a:srcRect l="4399" t="5266" r="6034" b="9829"/>
          <a:stretch/>
        </p:blipFill>
        <p:spPr>
          <a:xfrm>
            <a:off x="328680" y="1442880"/>
            <a:ext cx="8704080" cy="5380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9" name="Content Placeholder 4" descr=""/>
          <p:cNvPicPr/>
          <p:nvPr/>
        </p:nvPicPr>
        <p:blipFill>
          <a:blip r:embed="rId1"/>
          <a:stretch/>
        </p:blipFill>
        <p:spPr>
          <a:xfrm>
            <a:off x="1362240" y="1469880"/>
            <a:ext cx="6978600" cy="5369040"/>
          </a:xfrm>
          <a:prstGeom prst="rect">
            <a:avLst/>
          </a:prstGeom>
          <a:ln w="0">
            <a:noFill/>
          </a:ln>
        </p:spPr>
      </p:pic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328320" y="322200"/>
            <a:ext cx="83487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How You Can Contribut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Help Shape At-Large Policy Ad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1" name="Picture 5" descr="ALAC - SF 2011.jpg"/>
          <p:cNvPicPr/>
          <p:nvPr/>
        </p:nvPicPr>
        <p:blipFill>
          <a:blip r:embed="rId1"/>
          <a:stretch/>
        </p:blipFill>
        <p:spPr>
          <a:xfrm>
            <a:off x="617400" y="2344680"/>
            <a:ext cx="2133720" cy="2286000"/>
          </a:xfrm>
          <a:prstGeom prst="rect">
            <a:avLst/>
          </a:prstGeom>
          <a:ln w="0">
            <a:noFill/>
          </a:ln>
        </p:spPr>
      </p:pic>
      <p:sp>
        <p:nvSpPr>
          <p:cNvPr id="2332" name="TextBox 2"/>
          <p:cNvSpPr/>
          <p:nvPr/>
        </p:nvSpPr>
        <p:spPr>
          <a:xfrm>
            <a:off x="2928960" y="2290680"/>
            <a:ext cx="5576760" cy="33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20 Statements in 2013 to d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Key Issue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2013 RA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WHO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PIC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ID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Stability and Secu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olicy Development Workspa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2"/>
              </a:rPr>
              <a:t>https://community.icann.org/display/alacpolicydev/At-Large+Policy+Development+P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1756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At-Large Policy Advice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Statements and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328320" y="322200"/>
            <a:ext cx="802332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At-Large Working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Rectangle 3"/>
          <p:cNvSpPr/>
          <p:nvPr/>
        </p:nvSpPr>
        <p:spPr>
          <a:xfrm>
            <a:off x="380880" y="833400"/>
            <a:ext cx="8601120" cy="35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+16 Working Groups – open to all members of At-Lar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Issue-based: WHOIS, New gTLDs, IDNs, etc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Activity-based: Capacity Building, Outreach, ICANN Academy Technology Taskforce, 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Project-based: At-Large Summit I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5 Regional At-Large Working Groups – serving as the umbrella to the over 150 At-Large Structur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Provide key bottom-up input to the ALAC through channeling ALS feedback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6" name="Picture 1" descr="7453485972_9706203f93_k.jpg"/>
          <p:cNvPicPr/>
          <p:nvPr/>
        </p:nvPicPr>
        <p:blipFill>
          <a:blip r:embed="rId1"/>
          <a:srcRect l="0" t="23093" r="0" b="0"/>
          <a:stretch/>
        </p:blipFill>
        <p:spPr>
          <a:xfrm>
            <a:off x="995400" y="4235400"/>
            <a:ext cx="7072200" cy="2560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22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presenting the Voice of the African End-User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8" name="Picture 2" descr="AFRALO: Dakar Showcase 2011"/>
          <p:cNvPicPr/>
          <p:nvPr/>
        </p:nvPicPr>
        <p:blipFill>
          <a:blip r:embed="rId1"/>
          <a:srcRect l="0" t="7713" r="0" b="7713"/>
          <a:stretch/>
        </p:blipFill>
        <p:spPr>
          <a:xfrm>
            <a:off x="304920" y="2590920"/>
            <a:ext cx="8534160" cy="3666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"/>
          <p:cNvSpPr txBox="1"/>
          <p:nvPr/>
        </p:nvSpPr>
        <p:spPr>
          <a:xfrm>
            <a:off x="2997000" y="853560"/>
            <a:ext cx="5059080" cy="58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Input into At-Large policy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Capacity Building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Capacity Building Webin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online education modules – to be develop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Outreach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ICANN Meeting Showcases and Recep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Broch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/AfrICANN Mee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Contribution to ICANN African Strateg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Organization of IGF Pan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76262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0A3056-526C-4D78-953F-79FB0D487BF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2" name="Picture 2" descr="AFRALO: Dakar Showcase 2011"/>
          <p:cNvPicPr/>
          <p:nvPr/>
        </p:nvPicPr>
        <p:blipFill>
          <a:blip r:embed="rId1"/>
          <a:stretch/>
        </p:blipFill>
        <p:spPr>
          <a:xfrm>
            <a:off x="184320" y="1036800"/>
            <a:ext cx="2633400" cy="4101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"/>
          <p:cNvSpPr txBox="1"/>
          <p:nvPr/>
        </p:nvSpPr>
        <p:spPr>
          <a:xfrm>
            <a:off x="680760" y="1268280"/>
            <a:ext cx="758988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Monthly Teleconfer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I-Discuss Mailing Lis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Helvetica Neue"/>
                <a:ea typeface="ＭＳ Ｐゴシック"/>
                <a:hlinkClick r:id="rId1"/>
              </a:rPr>
              <a:t>afri-discuss@atlarge-lists.icann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Wiki P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FRALO At-Large Structure Workspac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Helvetica Neue"/>
                <a:ea typeface="ＭＳ Ｐゴシック"/>
                <a:hlinkClick r:id="rId2"/>
              </a:rPr>
              <a:t>https://community.icann.org/display/AFRALO/AFRALO+AL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Leadership – Representing AFRAL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FRALO Officers: Chair - Fatimata Seye Sylla; Vice-Chair – Tijani Ben Jemaa; Secretary: Aziz Hila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LAC Members: Titi Akinsanmi, Yaovi Atohoun, and Tijani Ben Jema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1756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 Working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799205-FB10-4368-897C-C5F296931A1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"/>
          <p:cNvSpPr txBox="1"/>
          <p:nvPr/>
        </p:nvSpPr>
        <p:spPr>
          <a:xfrm>
            <a:off x="396720" y="1267920"/>
            <a:ext cx="7994880" cy="23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articipate in the Monthly AFRALO Telecon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articipate in the AFRALO and At-Large Mailing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Join an At-Large Working Grou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omment on At-Large Policy Advice Stat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sk for Additional Information about ICANN and At-Lar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Beginner</a:t>
            </a:r>
            <a:r>
              <a:rPr b="1" lang="ja-JP" sz="14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s Guid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LS Starter Ki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328320" y="321840"/>
            <a:ext cx="806292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How to Help Shape the Voice of the Internet through AFRALO and At-La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8" name="Picture 4" descr="http://farm4.staticflickr.com/3306/3559459694_af51a8166c.jpg"/>
          <p:cNvPicPr/>
          <p:nvPr/>
        </p:nvPicPr>
        <p:blipFill>
          <a:blip r:embed="rId1"/>
          <a:stretch/>
        </p:blipFill>
        <p:spPr>
          <a:xfrm>
            <a:off x="519120" y="3657600"/>
            <a:ext cx="7994520" cy="3170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09:45:36Z</dcterms:created>
  <dc:creator>Marika Konings</dc:creator>
  <dc:description/>
  <dc:language>en-US</dc:language>
  <cp:lastModifiedBy>Gisella Gruber</cp:lastModifiedBy>
  <dcterms:modified xsi:type="dcterms:W3CDTF">2013-07-08T17:20:06Z</dcterms:modified>
  <cp:revision>100</cp:revision>
  <dc:subject/>
  <dc:title>GNSO Policy Issues</dc:title>
</cp:coreProperties>
</file>