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5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63.xml" ContentType="application/vnd.openxmlformats-officedocument.theme+xml"/>
  <Override PartName="/ppt/theme/theme16.xml" ContentType="application/vnd.openxmlformats-officedocument.theme+xml"/>
  <Override PartName="/ppt/theme/theme62.xml" ContentType="application/vnd.openxmlformats-officedocument.theme+xml"/>
  <Override PartName="/ppt/theme/theme15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18.xml" ContentType="application/vnd.openxmlformats-officedocument.theme+xml"/>
  <Override PartName="/ppt/theme/theme29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</p:sldMasterIdLst>
  <p:notesMasterIdLst>
    <p:notesMasterId r:id="rId64"/>
  </p:notesMasterIdLst>
  <p:sldIdLst>
    <p:sldId id="256" r:id="rId65"/>
    <p:sldId id="257" r:id="rId66"/>
    <p:sldId id="258" r:id="rId67"/>
    <p:sldId id="259" r:id="rId68"/>
    <p:sldId id="260" r:id="rId69"/>
    <p:sldId id="261" r:id="rId70"/>
    <p:sldId id="262" r:id="rId71"/>
    <p:sldId id="263" r:id="rId72"/>
    <p:sldId id="264" r:id="rId73"/>
    <p:sldId id="265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notesMaster" Target="notesMasters/notesMaster1.xml"/><Relationship Id="rId65" Type="http://schemas.openxmlformats.org/officeDocument/2006/relationships/slide" Target="slides/slide1.xml"/><Relationship Id="rId66" Type="http://schemas.openxmlformats.org/officeDocument/2006/relationships/slide" Target="slides/slide2.xml"/><Relationship Id="rId67" Type="http://schemas.openxmlformats.org/officeDocument/2006/relationships/slide" Target="slides/slide3.xml"/><Relationship Id="rId68" Type="http://schemas.openxmlformats.org/officeDocument/2006/relationships/slide" Target="slides/slide4.xml"/><Relationship Id="rId69" Type="http://schemas.openxmlformats.org/officeDocument/2006/relationships/slide" Target="slides/slide5.xml"/><Relationship Id="rId70" Type="http://schemas.openxmlformats.org/officeDocument/2006/relationships/slide" Target="slides/slide6.xml"/><Relationship Id="rId71" Type="http://schemas.openxmlformats.org/officeDocument/2006/relationships/slide" Target="slides/slide7.xml"/><Relationship Id="rId72" Type="http://schemas.openxmlformats.org/officeDocument/2006/relationships/slide" Target="slides/slide8.xml"/><Relationship Id="rId73" Type="http://schemas.openxmlformats.org/officeDocument/2006/relationships/slide" Target="slides/slide9.xml"/><Relationship Id="rId74" Type="http://schemas.openxmlformats.org/officeDocument/2006/relationships/slide" Target="slides/slide10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 type="dt" idx="6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7" name="PlaceHolder 5"/>
          <p:cNvSpPr>
            <a:spLocks noGrp="1"/>
          </p:cNvSpPr>
          <p:nvPr>
            <p:ph type="ftr" idx="6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PlaceHolder 6"/>
          <p:cNvSpPr>
            <a:spLocks noGrp="1"/>
          </p:cNvSpPr>
          <p:nvPr>
            <p:ph type="sldNum" idx="6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D95D4D-EA8F-4763-A854-DF7E09407E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A2A8B7-8422-4340-B6AE-F85725B2F8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93ECE3-F429-4019-B40D-AEFE18CC468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6AF6A9-5F07-485A-84BF-39E7F5170B3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B1BC4E-9DFE-4FA7-ABC2-0A57CD91E87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6A6C22-4F4E-4EE2-8F97-6B542BBC1A7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9A2B1F-54D8-4961-B712-F9B83379B16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AE8656-C1C9-41B3-8284-F816BC64C6F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0C012B-0F43-4602-B34A-DE8E4432A4C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3F4D49-2EBA-40E7-891C-0BBF19430C6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016420-2083-4786-BB78-8856746BA7E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1923E-3E01-4C41-80E1-C4282F0746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4634C-40A7-4257-A7CF-5B5D85887CE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DAEFD-FC50-471F-8EFA-9F1FD375A15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9AC6A-0784-47C8-ADC7-A79106A5A55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DA4F8-6433-489D-9E06-D51BDE5B171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2E67D-537D-42C5-A8E4-9B44D51FBB7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1A48F-EEAF-4418-847B-F8D9E367391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A957C-F566-4A96-93AA-61B0EFFD317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66773-6567-427C-9745-A1AB08D257B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B4E86-7E0C-4A40-B451-C0D9DEB393A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2CF2A-C916-47E9-879B-35BDC76A3C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F7E03-B7E9-41BC-911F-BE4E8C73D23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1C78AD-4F6B-472C-8B0A-78B8883EB83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2A36AF-AA91-4A9A-9BD7-5D33D65DA14E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630770-D4DD-47F9-AEA3-02D97602E12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DC4704-86E0-4078-BB99-ACCA3DCD419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2F28C3-8B2D-4B79-AD99-4DA7A7588B7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4BE579-7705-4A10-92E9-043DA41CBCD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E44338-7119-4B54-B822-2F619C801D6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129F86-04C2-4800-A3D1-AD5422EE29A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B7AA6D-630C-4EF6-B337-7C473946B6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A50E63-9816-44B7-92D0-76A5AAC013B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84F73E-D030-4683-95E7-05799422EBC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12E21D-9DDC-476E-90CF-898F2D6D905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DEC738-58B9-42D7-A366-39D0CA363218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C7D227-BADB-43C5-8B1C-10A48E22837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E0E9C9-7F58-470E-9840-2E6669276B0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BCD16E-58E4-4A2D-9B33-FE7ABC5285E0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5F3EC8-9B2E-4A87-B662-36F10157606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2A2ED6-FFAB-42EA-9530-315F3EC6CC80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F34077-12AF-40ED-885F-D308CD8D384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A5D7D7-74A2-4B66-8B03-D454FBBEF47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DF3757-70DD-42C4-8E90-BE8F6AA4E6B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6E3924-9900-46AE-BCB6-A2BB7CB48A8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E2E0C6-7F14-4CD4-8C8F-8B5D5CD5DF7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B1103D-947C-4ED7-9CAB-B6357490450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BD047-A0EF-49A9-B770-5D1FBCD5178D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786A7-CAE0-48E4-BF76-52EDC8E1B57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C8D45-A0D3-4C11-BE06-5340179E8260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E53C2-8A07-443A-8D39-B526B82BE52A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9B22B-560C-4118-9E13-547FC4315AF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85562-BD45-4C3A-A596-9ECB5820B0BA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DA372-1204-4B9E-919B-8711111C7CF5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42D8D-5EAC-4733-93A0-0E222D5D7CBD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0B17A-254A-40FD-A878-44E18045F3E8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70D1D-23F8-4296-A5AA-B1A114E99B59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E6393-8023-4790-9CD1-F2794907FA9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F0BFC-3A1C-475F-AB9A-E839E7BD84F5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8961F-6C9A-4F49-BE75-5BF5B6E98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BF5A6-ACFF-4C51-9638-1E55F0BE4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8A229-8035-4626-9AC8-FF725DCAC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4DD6F-6184-4B94-A6ED-515878391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C2526-C792-4AFB-A5EC-616387FCA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89DE6-C7BD-46BC-AA84-D15708E44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04FB3-98D8-4475-B062-18894ABF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E5313-573B-4D8B-A904-9E37B3B3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5630F-C2DA-4516-A7B2-E62FE0BE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0AC4A-2932-47B4-8AED-05DF11874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62797-7151-42B5-AF6D-89D526900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5665A-63C4-4D30-8C67-B0CCB57BF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CD109E-C69B-40A7-A688-B7BDF24FD1C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6940F2-DFF9-4D2C-81E4-90E1F5F05E55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826921-EE90-413E-9F06-4FC61F098957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1D1C3C-E01E-4554-B0D5-4743B66E092C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1AB784-D90C-4597-9030-2C80727CE657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233D35-4F6A-4A3A-83ED-418E400DDBD6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C244E2-788A-4765-BE95-9FEADA66CA22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B375E9-2498-41CF-BBFF-F8237F8AE591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F12888-2A88-4E82-B92A-E7486D664D7C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6AF8C1-D5CD-4EB9-91BF-126A0736984F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818E25-3E66-4F3F-AFD4-99C8E77ED0C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F20F30-854A-46ED-AF1C-72A43C6AA3A9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96C786-3FAC-4A86-9412-09E2891A8617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7F630B-2A5D-44B0-815C-73F8DD9C508B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9FA2EF-5437-4840-ACD6-7B0E260FAC66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364B33-0452-4A50-A4A1-245A2A244BD8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3C005F-B390-4762-A634-489DE1C0C53C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3C33EC-C095-4092-8EF6-F30CE00460E4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23852B-0F94-4903-AE58-8A97E61F3D5A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68DE4C-AC9A-4E1B-A1F7-EC4851283F25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C000FD-4D43-48ED-A85F-E2608264124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7B21FD-8AC2-4FDF-AEC0-9169BAF0B72D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66F4E8-3A28-444E-A22E-88912E0EF39F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FA6704-35EB-4165-A8FF-36F179FB5E10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1C961-7F75-401B-8C33-3AC9C25C57FD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C6AD3-77CA-41A8-BBA6-5366D587C359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64A56-F047-4D17-BC77-250040EA2BE5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43B1C-986B-4156-A737-E2B0ABD6C51A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49329-4B9E-498E-812F-167BAF55949D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2DE30-BBEE-4DC5-B171-C5867DCE0AB4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97767-6CE3-4767-9193-23696CD57B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248B8-FF6C-443B-9670-8782B6786E5B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95FA3-A5AA-4AEB-A06A-078D224758F8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03BAE-72AA-40AE-8753-F00F2BB896B3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ED388-EB76-4E9C-9749-E65BF417CB89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2A50F-F988-402F-AC82-4F1BC028FBF5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3C4E375-F0C0-4115-9F0B-0DBF51524627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8FA637-9C04-47C6-8AB0-161D19AEA1B8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A1304CD-6B3B-4071-BD34-91F59F3F1E7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6BEC8A-6C19-4E3E-B643-B6841BAE9577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8FE26F-8851-427A-AB24-40EA1AEF7660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AC5573-D9E3-4E08-B646-6FB4F3DC18A9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635892A-6CDA-4B6C-9C06-0BD1C29E9F5F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DF8534F-FD31-4C02-A0B1-3BF9F74E2A01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14CF89-A313-4380-AB9D-961B3944CD1A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C41DE2-6C8E-43B8-9130-C2D00211D2A1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D293177-0557-4F44-9F3B-44C930A9931C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6FDCC9-E6FA-45A3-876F-0A4960658096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882480-E573-4C56-8C7A-D26F141F101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2E9481-AFAF-4D50-B491-032AEBBE8E25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61E865-92C9-405C-A60A-111228B1422F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A08767-4A38-4C49-B9AE-5E093161DEC2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2C927D-6E00-411B-A2D3-B7CE8A9B5128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4000D6-897E-4FA4-BD7C-28ED0EF07882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197AB7-375D-4428-949D-C4D1DAD3BCBC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E63819-594E-410E-834F-FC453D3DD9E0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B2DB89-2315-4570-BB16-4275ECC7464B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9BB1DD-4C9F-461F-BFB9-07832D1E1A38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3E51E0-5682-4F0D-8AFC-0406800A267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57F7C3-08E5-44E1-B48F-46067C3D9EA3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45CD0F-09D4-4061-992D-4B3B22679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152138-ADFB-46AE-BA0C-E9E800D56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1D5354-E40D-4B39-859E-EF22CBB1D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136DF9-E746-4725-8E18-CA57A50D0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682B63-12A7-4D8B-BE58-CF75F50C1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42EDD5-7B9A-4F56-920A-DB1166C80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9B23D3-6C64-46EC-9B95-D960FA35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067E1F-54F3-4AB2-9573-A251F9B9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B7D913-74A7-45B3-9419-27E9F8F0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31EFAE-C1BA-4744-AC0F-003F3712E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B48E84-2B50-47E9-B4EA-313452598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E72343-460B-4BCE-9351-B37CDEDC8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9A35A3-59A6-44C8-A44F-FA2A521A0691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AF979-9C94-4EA1-B447-7610BAFFDC0E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2CD0F-EDF7-478F-ACAA-54CC946C60E7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B60A95-A128-4238-9181-714317D50763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9F64A-9F57-458F-9455-1AC10D10BFB6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AC3C8-74E2-4407-825D-2E1F4DFF4757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96B48-D9B5-4ABA-8747-2B844910BFE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81E86-8B94-44B2-9F41-AB795A5F8937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53870-9A84-4E61-864D-0F466B5ACCDC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8C02BB-18A7-4A82-B9C0-F5110F43E65F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1054D-8837-4C79-A779-2105ECFD4179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DE97F-4877-44E5-B1D7-448800285143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4A7AF34-AD21-4C37-BBE1-AEE5154F3E90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2308D2C-5706-4BB7-AD2A-244790F94C6E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D2D4BEC-B89F-4BE4-9BD8-C0F571774556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F9CF731-E57A-412E-9A98-ECAC5C1EE942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C057267-1D64-44ED-B28A-5911BC9404C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E1AF0E6-59C9-4CFD-87E5-31AA24B491AE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16C89C2-7057-4319-A52C-001F6E26F635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454037C-1BE5-4152-90A0-1DACA3C58936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78A4CD8-E0E1-445A-B461-26B359E0C835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408ECC5-5174-4DC4-86C9-9E651FBA6AC1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C4E982D-37F7-4205-99D4-B6109AA472EC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B83F306-9CFE-49F2-ABFA-A0FE1094F790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1B3CCA-4339-43BC-AAC2-80917B4BC863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306480-88F2-4120-BFCC-8D240A576548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C46587-B8E2-4DF5-99B0-3E84BF3049A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C06F1B-A00A-487C-9D23-B84931CF2DAD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3080CE-261F-4E49-B222-BD377514F3D1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592D11-4AD3-4CFB-B5BE-40F6DF2F2731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F9C864-0632-4833-A196-C3A5D9B14A0E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3524E9-3BCB-4DCF-9923-A55E30F835BE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100523-F762-433D-9137-F8353B7971CD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EB486A-7AC5-40C8-9B6E-C919E64A116F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91412A-1712-483D-A02E-0F4D3F4B4760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FFFBFE-05F0-481E-8467-788552EF7552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8D5C45-A72A-4200-8FDA-1BBB3FB1CFD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20F2AE-B081-4D23-9F48-7C7057BB2675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E4359C-E08B-40F1-AF1C-76D6DF39712D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C977AF-42CC-46FA-A956-2AA47ED91820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44A8B0-08B1-4851-8CDE-BD451E0A0A5A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E4AFCC-13C3-4ED9-826C-ED4E144CCE6C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E9800A-6F9E-41A2-B35A-4F03E3D04098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ECF989-E93E-4C75-A615-2D9A210B31AB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3BE093-ACE1-4158-A042-151A7A48E829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4970BB-2B0E-462A-97EA-7C9AFF26EA94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5E88A-CBC5-43DE-9F7B-84C38C222E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C5C0A1-4416-4626-A9A9-908622794561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8932B7-125E-4A5F-8CE4-F8EB92419E02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B7A309-A2FC-460B-BEE0-47A9320FB55A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01F3AB-F5DC-4F2B-87BF-A3B2DD453CA0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2AF3F4-A141-4B28-A996-A8DFFCD344D5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BF6763-0E25-4925-A35C-2937CBE6C361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308587-0CFA-40C1-8998-07F628E2DA3A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960DE6-0E6D-4F32-9249-F0F16CF94DD8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E83C89-325B-41CC-A6BB-AE93F81841D1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EE4D91-AD2B-457C-917D-7A8E8DA2A23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2C6140-7A33-4496-9883-269067F5EA94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45ADEE-C50C-4612-A279-16DA3C4C8CBD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FEB461-D938-4563-BE18-6C7486FFDA0F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BADCECB-CF47-4A0B-B403-80777288DA63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7393CC-21AD-4054-B856-B0A10B9F5FBC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62F321-7FDE-4BE0-8AAE-30B13120C040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A8BC61-F4EC-4092-A197-81A3D1F79567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58B759-975C-4E03-816F-AA6F3365947C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E6F02B-6A39-49E0-AB73-D2C8695C7D30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D4C07C-55E0-4D85-9E4C-E141F2F914F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D78174-7EE2-4608-BBED-DD29641A08FD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AF0FF3-5768-49A3-8340-61B7173C89FF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879567-31C9-4CEC-B99A-14C1C9AB45EC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E07A590-C712-4A57-9641-7D8D18F70387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C37CB8-6385-4D50-9198-CC5688E7C411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4BD9B7-6CA3-44CC-8946-253F9477F6D5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F6BDD2-C14A-487F-8799-E2CC1D87B746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8077DE-AEDC-4DBD-83D2-164EA5D0ABC1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F028D1-D6AD-407E-9A14-7141DE176E3C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574BB5-1824-4A94-B60D-35EC63707A1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600FB5-5021-42E2-B060-19B948463B72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103E53-97EE-4B0A-956D-0FAC8C9EBE10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B5A8AF-C2FA-4222-996B-5FB6FBBF08CA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4AA86B-76DF-4E87-B847-E6D648352251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C31BB3-E294-4B7B-982E-40E95588DAE6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FEFC1A-F521-4837-AD90-D7DF9808B9A9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B18D59-8511-4DB7-A0EE-D51B9045A105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7C930B-D317-41A8-A3C2-7209854DD76C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A669AB-8019-455E-A982-D16F9CFEC708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FB022C-CC06-429A-B58A-B0BB0FD5B39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2A59F5-1B01-46EC-AED2-15D4C56706C5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53A9C5-D68A-496B-928B-59BF6AB08676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91D8AA-3AAA-483F-9ACF-7591053C4D2C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DA5759-483F-4EEE-87A0-E854A5FF3601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88D34A-FEBB-499F-8188-387C5610D91D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FD74BD-3405-4AB4-A0F7-7AF10D707331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A79563-26EC-448B-A1BA-49FDC79E4F9E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C10356-709E-4C99-AA6C-A29F8E095F56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E562CC-5423-4535-97F5-889E737B7431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E68CA4A-F338-4DDA-A24F-AB2F51642CE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B053991-4688-4996-A349-B09745ADE3E1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080B1F6-90FD-48FC-BFA8-4E6252BBE874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5E1B631-B8BA-4DEA-BC4D-E8CF68FD5833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51A0B5F-53E5-48AD-98EA-20D49D6319FF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49306E1-652F-44E4-9BF9-CB2D8CB3A081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4CE4AB6-E4EF-4A74-98FD-9BC2CF512B05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04FF530-8CA8-4787-808F-02C0FCB0FB20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6F2FACB-4446-4BDC-AD1D-200BBCC54C5D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8C9400D-7212-4F09-AA85-8823A4CC23F8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6A6BF53-8651-47D5-A158-71353708C45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C77C544-E4D0-4D87-B243-59E1EE1D5E72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C5DC4B-B126-47A8-8EA9-A3F67E703069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A93B2B-2C12-469C-A59F-4703EC6343FC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404558-EAB6-4D67-98E3-28B4BF92F1D7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490F16-D9FA-4180-9D14-A4D9694BF7ED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15E57D-C523-4BF1-8A26-8C0B41D779A7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D2B185-8CA8-45D0-B1D2-07D8108ACBDA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C8C56B-BB20-4770-85E6-25DAD0C5A0E5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EDAC51-977D-4A82-872C-3351C8C1D660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753222-4B98-45A7-BEED-2E09817DAF7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C65EDC-F563-46BC-AC49-BDAFC47B6BB2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7BCA2D-785C-4C01-9E3E-0D9F460CB6BF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1B08B9-0B92-4F48-8E03-040B15F1F9F6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FFE4133-4284-4168-8BC2-9C4CAF1CBB39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45E17AB-7EB1-4E9E-A951-5CA3D579B829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91BE786-928B-4766-A3D1-E7459470FAA4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144E97A-37BB-4C23-9A3B-B895956E9C3B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2889EAD-D93A-459C-9539-60D2F42A8E6F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CD13A81-52AB-48AC-B260-4116AF99CCBF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5AE29DB-DCD9-4D6C-8607-4FC876472AC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E74A8A2-1A31-46A0-81FD-061E869ACEDF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FBD25F9-E881-4D18-ACB6-1EBC75421964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5022F71-9F3D-4836-AF01-0E85070AF71C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39348C9-9CD1-4B3D-AA97-C114C119886A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177CE74-0AE6-4F0E-B2CF-78A304BF906A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5C5B830-17FA-4169-A4BE-997F694D29B1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4A81A8A-5304-48C7-BC85-662BB16BE9C0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0120A20-8739-4F4A-963C-BAAF2E7B1BD2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2838389-3E28-49A8-B6E3-465D9B151741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D668B6A-63B6-46BC-B69B-6A3C454C013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EB1D968-8CEE-45FA-B103-453A04EA2F35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09FF0FE-F493-4A50-A2FA-58714CC1FCDB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A907258-55CA-456A-9037-E87E01697861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840E995-65F0-437C-B62F-C2ACEAFC0EF1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E42357D-1F33-471D-9288-747549E2DF80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7E63A51-D1B0-4045-BD3B-831D3C758681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F8C3E3C-17A8-4588-9256-05EF33C1A949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9BC231-55DC-457F-B7BA-68920FA680D1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BBB21B-1C89-4552-8039-F330DF7BD9F2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B9D150-DF1E-454D-8F6F-DCD0405743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C1C824-FEBD-4A0A-B15B-FD686310660D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ADA2DA-2BBE-4383-AE7D-40177783D72F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32BD67-E601-4AD8-8505-B039C2B735D8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18495F-24EC-4A5C-8594-9B926FCADDCF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B3E673-0B26-43CD-B381-A6668E1057C5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630AE3-E073-459B-9F99-830A7901987F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E59F11-044C-4334-A4B1-472AC8C4092B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820D46-DF66-458C-AE5F-FAC70A07DD89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4C6FA4-1900-41A7-8717-57D77FE98CDD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F38921-4F9D-40B6-B7D4-3B62A5B1C3C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2348CD-B18F-471C-8B62-FC430BFAD927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A16F49-A0CD-4D76-98EB-5A415FF0F084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1B410D-7159-45D7-B2AA-55FC18C66D1D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BAAF41-368C-490F-A669-207917B15715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BC132A-7B2C-4553-B403-2E87D184CDE5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4FF173-0607-4795-A846-44CD2A8BDB6D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A2FDD0-D90E-448C-B715-7270703BE8ED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25D236-185E-48E1-8008-F2A2EBE6DB1A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0B446C-CB85-4288-AC74-CDA2D0FC966D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84E86A-8FA6-4209-AEF3-BA7D6913ABB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DF33F9-3CD7-4394-A87C-480EE3A11CD7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F0BBF93-223B-49D5-B3D1-CAE9DF6881DB}" type="slidenum">
              <a:t>&lt;#&gt;</a:t>
            </a:fld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8A6A5BC-41D8-411A-8178-691168C0C0C7}" type="slidenum">
              <a:t>&lt;#&gt;</a:t>
            </a:fld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DEC630B-B015-43C2-97FD-E33D15F22661}" type="slidenum">
              <a:t>&lt;#&gt;</a:t>
            </a:fld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961F8C2-1D27-42CC-A4F2-B1C576C66950}" type="slidenum">
              <a:t>&lt;#&gt;</a:t>
            </a:fld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8DD3C90-2941-460B-9F9E-C5BAEB0EE22D}" type="slidenum">
              <a:t>&lt;#&gt;</a:t>
            </a:fld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BAF29BA-DC04-4B62-98BA-C6CD10CF65AF}" type="slidenum">
              <a:t>&lt;#&gt;</a:t>
            </a:fld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1150894-82F7-439B-AF47-9EAE29FC8F30}" type="slidenum">
              <a:t>&lt;#&gt;</a:t>
            </a:fld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2BABB4C-88B7-4376-B8ED-4E82B98180FD}" type="slidenum">
              <a:t>&lt;#&gt;</a:t>
            </a:fld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C498D49-8810-4EAF-8AC8-E8DEAA9B114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C56DACD-64DC-4353-BAB7-7FEAEE89033F}" type="slidenum">
              <a:t>&lt;#&gt;</a:t>
            </a:fld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1E7CDC4-8ED6-48CA-AFF7-8464EE48C9C7}" type="slidenum">
              <a:t>&lt;#&gt;</a:t>
            </a:fld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4372EB0-BD27-4668-9A1C-50446FCB9E7B}" type="slidenum">
              <a:t>&lt;#&gt;</a:t>
            </a:fld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9B40FE-5259-4038-9EA8-2429384FC37E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5B77D2-6B5F-48C1-8F88-B2FC8E5919F2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FF54C7-BAA5-475D-ACAD-71A77257A5A4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CD9EEB-DD19-4026-9FF7-6909F1B80994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CF4D02-8720-4AED-8397-2610539978E3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85878E-5B3D-49BF-AB97-0448E0403BD6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A917CE-955F-4BB1-9B06-1D24ECD6769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EED1FF-CE1D-4B3F-B701-EEC359531266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E0E0A0-B059-4631-A955-82D1AE99C91C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1F6F53-F0B6-4F2D-9B47-2A0EE5857EE6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230A93-781E-475C-BEDC-76145DB9CC69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2EB9E0-0DC8-40CB-B175-A0700FCCDD6C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0B86316-A36F-448C-83D5-B5701528018E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625EFF7-852C-4869-A1AF-501AC17E2C53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813E33D-6BD0-426E-80BA-74FC7D487C3C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D1D2CC8-F80D-483A-B8AB-0CCB53826212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1D6997E-C7E9-4357-94F7-B46890F6FFE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BE553C7-DFF5-4701-9FA8-98E76A3B1EB8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0A9B639-37DE-44DD-8C8C-D32E7448E695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60C466A-3E61-47C9-8E75-C7F1205F2A68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70B6815-CC41-4F15-B45A-24B9B0319E71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8F9CA8C-AB5C-4CA0-A4A3-B0E9EAD972FB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E4BA41E-D6E7-48BA-81D1-6B222DE18EF5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E1D4800-450B-4885-8FD3-87ED8861E25F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BB2ABE3-4FCB-4627-9329-4BB48E9798A0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8FE1370-36B8-41C6-91F6-4AD5B982407E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7C1C084-497F-4213-A0C4-6FD49BEF882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FF16ADE-6E4F-447B-9745-C0010E7DE5DE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C370D51-4CC0-4080-9162-9CBFD993DE89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018448D-71A3-4303-8C79-5221BA1650C4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B363007-430D-42D2-A26C-6FB6598C9BD6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76212F3-5E65-452E-BC92-6AF1E476C2AB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F409EFB-68E4-4994-8425-9B6FDAE0FC95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07E10F3-5035-4798-923F-AD98B7AD3EE8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4873C92-FC8F-4E42-96A0-A5E789BA8421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7C91516-6E8F-471F-AFB4-F1FCC55E4BB5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AE583B-3D67-48CA-AC2F-9E77BC9A4C0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31A7DD-9077-497A-9674-2A9C9627F03C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2E86AA-8EDA-46D9-A7C0-DA328BE3D224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05B93C-6C02-4855-BFB8-351A2ACEDDC2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E1A19F-546F-4FF1-9B97-8BCB59AB577C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7777E3-6D96-4D8D-A325-4128F6AEADAB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25BDD5-13FD-421E-A238-75B33BCC393A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C1D005-CC7B-4A9D-B6DA-23A39E14F080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1E1A9C-F4DB-4A77-8119-822C64809EF0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75A87E-E4B0-45B3-9467-1386F141668D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11D6A1-A13B-45BF-A5EB-5DBD341E8F5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D282C0-9FD3-4B65-A94B-4F8B173A280F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46A168E-3F97-49F9-BC9F-DA0BBA4E29CA}" type="slidenum">
              <a:t>&lt;#&gt;</a:t>
            </a:fld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67CAB7D-9690-4FD3-9650-21134D773347}" type="slidenum">
              <a:t>&lt;#&gt;</a:t>
            </a:fld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86C3DFB-561A-4153-8C6C-6C9E56D2EF93}" type="slidenum">
              <a:t>&lt;#&gt;</a:t>
            </a:fld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70C94A4-A97B-4F3B-B38E-2E6636F874B5}" type="slidenum">
              <a:t>&lt;#&gt;</a:t>
            </a:fld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EE03674-41BC-454A-9305-D2883D6A9E39}" type="slidenum">
              <a:t>&lt;#&gt;</a:t>
            </a:fld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2C2A2DE-7925-4EF9-AA9B-7F285546337A}" type="slidenum">
              <a:t>&lt;#&gt;</a:t>
            </a:fld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6985A48-645E-4719-9765-8BA7D9A8F0C5}" type="slidenum">
              <a:t>&lt;#&gt;</a:t>
            </a:fld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33BCA9B-86C5-4D86-9F7E-1288009048C8}" type="slidenum">
              <a:t>&lt;#&gt;</a:t>
            </a:fld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72CD5F1-EF78-4779-B396-13E70544D9B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2AA7CBC-6A3C-4811-A023-58A0CCBF96E2}" type="slidenum">
              <a:t>&lt;#&gt;</a:t>
            </a:fld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02256A8-644A-422C-8AC2-0DA17A65CB62}" type="slidenum">
              <a:t>&lt;#&gt;</a:t>
            </a:fld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925CFB1-AAF5-437F-847A-91DD2A275ED7}" type="slidenum">
              <a:t>&lt;#&gt;</a:t>
            </a:fld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F6B817D-54E8-4A59-90C2-5BEE91F0A26A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03D246F-04CA-428C-858E-4C216145E71A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B029C23-65F7-4C01-9339-B05BC0FCFF9B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FF27133-16E8-49AE-8C48-E9B3B8D6C938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374EC58-5396-41E3-89B5-09ADE1A2C982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42480C9-0E6C-44BB-9037-B46C5B6B91F6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752546E-F9F9-474E-AB17-B5843E1D33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C682992-7024-44EB-8D27-E2FF50345ECB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BCF56E7-56B2-4257-ADE1-67C32876DD82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017B4EE-F279-4EA1-A7E6-951D6BBA86EE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D93B82D-6D01-4A32-B79E-3A79CA183B23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AEB974D-6F7E-4867-B6DC-D2B156EB4436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041E66-6045-428B-B94B-5D5FE6FC53A5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309609-13E0-47BC-8D51-23A5097DAF41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086FBA-FAFE-4815-81FA-2082E9B639DE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C8409B-CDF6-4E7B-9CCF-045CCCABEE9F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BD1E9A-56AB-4FC0-8A40-36D884664B8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D51106-86A0-44E1-8EAD-059D14847C17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6E7F0B-BE90-44E1-90AE-A205A9F73C59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B3B40B-4A6E-4E5B-B4F1-019D04CAE650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787A4C-9CA3-4E8A-84B9-AB5E424A59E2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33130B-8309-43FC-80A1-886B555E925F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70576F-2EDC-440E-9D7C-648CF2C3EFE9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1EDAC4-5E7C-460E-A826-876B8CEFE8C8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2272D0F-12F7-44AC-9378-23938D994BF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B6C6057-1BD5-418E-B21B-2852FB95D64D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FDE74D5-AD5E-4B5F-AC93-3F53DD52CD41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4812EAB-F64A-4061-8F4F-3A359BFE184E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E0B2858-8D95-4E05-A258-35B4927B7F93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7F10CAB-35AE-482D-9037-A3A6FADA147E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922F119-D07F-4822-A61A-6E3012E9EF8B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C7E2C25-A463-4CB5-8432-9990CD2BEF4A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8F8DC90-7539-4824-8770-8F4E4BCC75D8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C337606-3584-44B5-BC3E-737E88B36DD9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0631853-6774-4181-A8C4-D1B0CAA45C8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B9E334B-A8BF-484C-B6C8-34A8414942FD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DE2BB56-CF40-4F41-8BE8-10650CC04A96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E168562-C6EC-4011-A9D2-EC19F7516360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D74B425-5DCA-421F-8361-0FB0B0052E4D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96D942A-618A-4F9B-8D9B-D68FF285E0D1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120959D-CFDA-4F08-8B53-2A4629229227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1621CF8-950D-4F02-8D2E-55B374600177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EF9266B-319E-46AC-B377-FA337C335EE2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2926CD8-598D-4771-BBC5-9E6A2CC6B12A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81D2EF5-367D-4E70-9C83-AAC4409D228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0B58C38-FB0F-4CE8-B6F7-969948D37D67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E04C9B6-E637-40D1-9FC6-63AB1E5DA906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757FD1D-36A6-458A-B646-80D69F34AA2D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8943F4-38E4-48A4-ADA8-BE9AF332E57D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F7C8A4-DC27-4859-B2A2-5AE5D495A455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410976-A41A-43EE-8B26-D6176761C026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1DD781-3F1A-4F06-9B47-4E6CB0891098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7A6737-9FCE-4433-859F-AF8C87B6D17C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AB754C-929A-4C37-87EA-A2717EBD5316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44B88A-A17E-4447-9E92-65014C9B14B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E956F6-62FD-4737-9A60-55A9CBCBDB3F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1BED35-92AF-495B-BA64-073FB193A708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CAD5C6-D697-4FDD-B2B7-8B6760814813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BCFB6D-B31D-4464-81D9-7BF6F239E0B0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CAC05E-907D-447D-92F4-DCBD745EF838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306012C-ED8D-413C-B5F2-F42813D9C87C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62922B8-0468-448F-A13F-84BDD675DB07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9A2BF76-FB09-4B08-BD0A-0765762C3946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7A50A07-C22D-4CA0-A8E9-CA57E9E854C9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848D358-4312-4572-883F-BB788F71A85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F4BEC5E-0BA3-4678-9EEA-93E5ADEB17A5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822C50A-9CC2-4C72-A673-F86D0B27C341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ECDB689-9373-4C2D-9BAE-DB0E507FEE61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2194D3B-88DD-49A3-9F98-D4177A25013D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286DC26-927C-42BB-A2D9-EE19625AC4E4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FAEF2B6-8FF7-4FC8-9021-BEC4E9E51716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36CD116-D1AF-4613-8D0B-9158FC7B5C33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2072682-F674-45D4-883E-C12A43CBAF01}" type="slidenum">
              <a:t>&lt;#&gt;</a:t>
            </a:fld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54B954C-CB8A-4193-BF35-87B7BE98A61A}" type="slidenum">
              <a:t>&lt;#&gt;</a:t>
            </a:fld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17BB41A-5061-4D9B-8360-2623D3CC5BD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543A7E9-3EDE-481B-968E-EDB0E510E969}" type="slidenum">
              <a:t>&lt;#&gt;</a:t>
            </a:fld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0F89A99-4DE0-4277-B153-5247AC31D9BE}" type="slidenum">
              <a:t>&lt;#&gt;</a:t>
            </a:fld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F6AB632-7EB7-4D65-A717-B867E83BE2A3}" type="slidenum">
              <a:t>&lt;#&gt;</a:t>
            </a:fld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42A083D-ACAA-4445-A143-E886EBE99289}" type="slidenum">
              <a:t>&lt;#&gt;</a:t>
            </a:fld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4AB5081-26B4-4B24-BA9D-602BA68B5648}" type="slidenum">
              <a:t>&lt;#&gt;</a:t>
            </a:fld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6CE9734-E0DD-496A-86FC-DC58D3C31443}" type="slidenum">
              <a:t>&lt;#&gt;</a:t>
            </a:fld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D51DAC3-FCB9-4CB4-A016-7051A2C0A129}" type="slidenum">
              <a:t>&lt;#&gt;</a:t>
            </a:fld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E2CCA6A-6D09-4A7C-9029-501E69A9CD6E}" type="slidenum">
              <a:t>&lt;#&gt;</a:t>
            </a:fld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54B3602-6529-43A1-9D9E-6E2099FA2AFA}" type="slidenum">
              <a:t>&lt;#&gt;</a:t>
            </a:fld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CB6DA8E-2706-4CC0-B38E-4CE0D676F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6F15533-4D43-49E4-8743-9C623F1BF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95A8A4F-95E2-4459-8887-679DA199A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0C93E3F-5035-40FF-9F68-FACC13743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F591F34-6B3D-487C-9B42-05A4B25F9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360FC11-D9F6-4E8E-8F12-B9FFD9AF3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C5CBF8E-DA0A-44F1-83A0-939CFD02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146FF74-1179-4499-B214-DF8E606F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6867457-E907-4342-A3EB-01D7AE01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AFCE074-4DA9-4EF7-97EB-B6578282F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CBB0544-0180-4459-9812-DE99E1132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06A4BCE-541A-4BC0-934B-C4922D720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75A869-647A-4F57-A548-A4538771C9DA}" type="slidenum">
              <a:t>&lt;#&gt;</a:t>
            </a:fld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DDBF1D-6721-46CA-BBB9-8D0144D46DC9}" type="slidenum">
              <a:t>&lt;#&gt;</a:t>
            </a:fld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0EC4B6-194F-496A-8E63-0F045D072408}" type="slidenum">
              <a:t>&lt;#&gt;</a:t>
            </a:fld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1B7A50-2E9F-41FE-9E56-D86DEA6B97DC}" type="slidenum">
              <a:t>&lt;#&gt;</a:t>
            </a:fld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F57587-E427-4609-972C-4D4B4EB320B4}" type="slidenum">
              <a:t>&lt;#&gt;</a:t>
            </a:fld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FA93B8-1DB8-4560-AE45-DB4A00BEE6CA}" type="slidenum">
              <a:t>&lt;#&gt;</a:t>
            </a:fld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87E96E-D31D-479C-8AC6-307D3E7DD77D}" type="slidenum">
              <a:t>&lt;#&gt;</a:t>
            </a:fld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D58308-8594-4031-8C20-260E59B54EB5}" type="slidenum">
              <a:t>&lt;#&gt;</a:t>
            </a:fld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05035C-29C0-40DF-BC63-0C326C7FEDB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B9D673-F4F4-49C6-B2A3-65A0D23FA0EE}" type="slidenum">
              <a:t>&lt;#&gt;</a:t>
            </a:fld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297D7E-5634-45AE-AB3A-4441A3EFEC46}" type="slidenum">
              <a:t>&lt;#&gt;</a:t>
            </a:fld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0C85EB-37CE-42FF-BF8A-47E7D8EFC8C2}" type="slidenum">
              <a:t>&lt;#&gt;</a:t>
            </a:fld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C319728-CC0E-487F-AA18-94D326AC2905}" type="slidenum">
              <a:t>&lt;#&gt;</a:t>
            </a:fld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C609B8D-7362-4A29-A7FD-4635B2536AD7}" type="slidenum">
              <a:t>&lt;#&gt;</a:t>
            </a:fld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BFC675F-B171-4159-85FC-6E677FFEFDAC}" type="slidenum">
              <a:t>&lt;#&gt;</a:t>
            </a:fld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A3DC983-9C76-401A-A1D1-29E006892E0F}" type="slidenum">
              <a:t>&lt;#&gt;</a:t>
            </a:fld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EB268DB-6828-4674-B7DE-692094ECCAC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CCC5D12-01F3-49AA-882A-D02CD0A5C809}" type="slidenum">
              <a:t>&lt;#&gt;</a:t>
            </a:fld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458FBFD-38BB-40AE-93ED-F7E3FC08C924}" type="slidenum">
              <a:t>&lt;#&gt;</a:t>
            </a:fld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FA1C81A-54D6-434B-BDFB-82E10557B4D9}" type="slidenum">
              <a:t>&lt;#&gt;</a:t>
            </a:fld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257EC82-A3EA-4A72-B97A-272562BD77AC}" type="slidenum">
              <a:t>&lt;#&gt;</a:t>
            </a:fld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CCBF130-F49E-4C5C-A682-AF67C58A684D}" type="slidenum">
              <a:t>&lt;#&gt;</a:t>
            </a:fld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5F66982-6597-452F-909B-989FC15CC3FA}" type="slidenum">
              <a:t>&lt;#&gt;</a:t>
            </a:fld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BFB8D4B-0138-419B-AC3E-E4D8AA65A5C2}" type="slidenum">
              <a:t>&lt;#&gt;</a:t>
            </a:fld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C161D07-9AF4-4517-9364-39EDE29BDEA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8546169-B148-44AB-886E-A77595815D3F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BD539C1-2444-4872-8D3D-FD646E88F9C3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0B89369-DA40-4AAC-8846-066D8377516C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BC819E3-D1FC-4794-AFBB-400479E90C3C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E0EE9D1-D8AB-4B07-A56F-539C228BEA3F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E294557-0D9A-48D2-8101-E94BCFD5EC89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091A741-3FE8-4E33-BD88-49425AABDAAF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E371263-9303-4C09-A1C3-7F8DF1D1EB77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7A3DF99-B362-418F-930B-980C8F1D8610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469B338-9268-46B4-841A-5A15A8F0DD9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70A9018-A03C-4DB0-AB45-FF026C3ACAE9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85410E-305C-42F5-8B23-8975B4981C6C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027F7F-E797-4492-80AB-57B4968FBEA2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3F1C8D-7594-4A29-836A-7C0BAE3C193C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A3508B-4BE4-4CFB-AA46-E5E3B4E62D09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3FA12B-E6FB-4DE8-A165-D89AEF111CF5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759E7B-73EC-4D16-A9B8-1A9380A50305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56EDD4-B372-4DF9-A0F1-D7E4453C34FB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B582CB-95CC-48A0-BDF7-AAD2AD759D53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C40A6E-A652-48B5-8C7B-CD14E5C70D3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AD71DB-965A-44B7-885D-6C559DDC9713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1FD575-A6C7-4E88-96FE-CFD31277C5BB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244EB0-F1A5-4BB2-92D5-9AF05527295B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4B1B83F-0A95-4117-BD89-30D7175D7313}" type="slidenum">
              <a:t>&lt;#&gt;</a:t>
            </a:fld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67267BF-77B3-4191-92A8-457C488D53A7}" type="slidenum">
              <a:t>&lt;#&gt;</a:t>
            </a:fld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9E04C58-29C5-4426-9AA3-5A5B01262DE6}" type="slidenum">
              <a:t>&lt;#&gt;</a:t>
            </a:fld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08018FF-33BA-44DE-995A-298225FBB805}" type="slidenum">
              <a:t>&lt;#&gt;</a:t>
            </a:fld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A173CAA-2CCB-48B6-803D-8B236D63B084}" type="slidenum">
              <a:t>&lt;#&gt;</a:t>
            </a:fld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CEDDF61-DE67-4753-9133-CB0B397441E9}" type="slidenum">
              <a:t>&lt;#&gt;</a:t>
            </a:fld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A4A0B66-2045-4C8A-BB60-E49CB598CCC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6823A31-253F-42AB-8BDB-05FA4E605F66}" type="slidenum">
              <a:t>&lt;#&gt;</a:t>
            </a:fld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EEB5B36-DA11-45C2-BCA0-5E676155FC68}" type="slidenum">
              <a:t>&lt;#&gt;</a:t>
            </a:fld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A403437-855B-4BC9-AD90-CE4DA9B8D72E}" type="slidenum">
              <a:t>&lt;#&gt;</a:t>
            </a:fld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59A6241-7A51-40D2-90EB-44CBD6E77226}" type="slidenum">
              <a:t>&lt;#&gt;</a:t>
            </a:fld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0A2C921-4363-48B8-B07E-7CDC7C5FD9A3}" type="slidenum">
              <a:t>&lt;#&gt;</a:t>
            </a:fld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ADD86D1-E53E-4C7F-B039-B5AD9361E2CB}" type="slidenum">
              <a:t>&lt;#&gt;</a:t>
            </a:fld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E199718-A9F4-42C2-A5F7-770E93122857}" type="slidenum">
              <a:t>&lt;#&gt;</a:t>
            </a:fld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1D28411-BC48-48D4-86F3-FB93B9611DA5}" type="slidenum">
              <a:t>&lt;#&gt;</a:t>
            </a:fld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49DC4A1-B202-4D8A-8A5E-68CDAD9667B5}" type="slidenum">
              <a:t>&lt;#&gt;</a:t>
            </a:fld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C95D848-D7EC-4B85-BA6D-91D0E6295F2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FBA85DB-79CB-4BDB-8FF9-8546F9683F77}" type="slidenum">
              <a:t>&lt;#&gt;</a:t>
            </a:fld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772E381-0F0B-4088-AD69-235619650337}" type="slidenum">
              <a:t>&lt;#&gt;</a:t>
            </a:fld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D9727D5-D374-4FA2-A523-DD3F50607BBB}" type="slidenum">
              <a:t>&lt;#&gt;</a:t>
            </a:fld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4F9634B-4EAE-43C2-AD7F-04473AD435E3}" type="slidenum">
              <a:t>&lt;#&gt;</a:t>
            </a:fld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0FD5A25-9FC9-454A-B01C-C62BB1362CFB}" type="slidenum">
              <a:t>&lt;#&gt;</a:t>
            </a:fld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099BA08-E504-45FA-9651-DECC8F91707C}" type="slidenum">
              <a:t>&lt;#&gt;</a:t>
            </a:fld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80FD0EE-3DB2-491B-A257-8B2ED6CE53E2}" type="slidenum">
              <a:t>&lt;#&gt;</a:t>
            </a:fld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4C1FEC-B11A-42C5-AD1C-20FE10B2BDC1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0CDE3B-BDEB-45FB-BE4F-F5EF87221F4E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E379B4-D1B3-43D1-B033-B3199BCEA8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8E9A15-3075-401A-B8B6-EFBCA81FEB9B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BB0A2A-3EFA-47FB-BB9B-E3B2999E7684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4BBB48-5687-43FA-8170-C9A68EBB9ABD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D5CB9A-C561-49A9-A7BC-2BBDD03BA13D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015A78-9D0F-444C-ACD9-9FB3CC0887E8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DCE758-46A5-4CAB-AF6C-0B879080D57D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C3ADB8-5E21-46AB-A84B-D8883A20D0DD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535777-A618-4719-A811-EC481FDEE643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812811-07DC-4C5E-B1AC-35FCC90B0BD5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E33EACB-C67C-41AB-9166-3B4D77AC49D1}" type="slidenum">
              <a:t>&lt;#&gt;</a:t>
            </a:fld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F8069E5-A25E-4A50-A90C-2F4EE9684CE5}" type="slidenum">
              <a:t>&lt;#&gt;</a:t>
            </a:fld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0B42BE2-5918-4EBE-90DC-501F13AFC2E3}" type="slidenum">
              <a:t>&lt;#&gt;</a:t>
            </a:fld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7D40576-0306-448D-B9E9-332962941DE7}" type="slidenum">
              <a:t>&lt;#&gt;</a:t>
            </a:fld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3E248F9-2CD9-40FD-A87F-0B9FB2154835}" type="slidenum">
              <a:t>&lt;#&gt;</a:t>
            </a:fld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B0D2A02-31B3-475E-9E74-A26251A59153}" type="slidenum">
              <a:t>&lt;#&gt;</a:t>
            </a:fld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2735841-7466-4DCC-BD02-6F8F9E07F9D1}" type="slidenum">
              <a:t>&lt;#&gt;</a:t>
            </a:fld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D43A445-EBD0-4D7F-AB14-7B502CDF93B9}" type="slidenum">
              <a:t>&lt;#&gt;</a:t>
            </a:fld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1A62EC2-6ABA-42C2-93E2-A2FA87AD705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3175-FC06-4357-A689-88BEF59EB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C9CAF46-5E86-4AF4-B7FD-D42BCC644579}" type="slidenum">
              <a:t>&lt;#&gt;</a:t>
            </a:fld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CBAC94D-0692-4E82-8464-41A5F8D41381}" type="slidenum">
              <a:t>&lt;#&gt;</a:t>
            </a:fld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4D1D259-4B87-4591-A6D3-F2312094652C}" type="slidenum">
              <a:t>&lt;#&gt;</a:t>
            </a:fld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1973B91-68E1-4098-8F85-665470760AE1}" type="slidenum">
              <a:t>&lt;#&gt;</a:t>
            </a:fld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39C5617-039A-4AC0-ADEE-A8E8204479D3}" type="slidenum">
              <a:t>&lt;#&gt;</a:t>
            </a:fld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9D1CB9A-393B-49B1-8E7C-BB46CE983925}" type="slidenum">
              <a:t>&lt;#&gt;</a:t>
            </a:fld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CB886F7-985A-4E38-B2E6-7A2461D87A3B}" type="slidenum">
              <a:t>&lt;#&gt;</a:t>
            </a:fld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EDC8195-7A45-4542-892F-FC3B1B8F2198}" type="slidenum">
              <a:t>&lt;#&gt;</a:t>
            </a:fld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AFCEAF9-DC7F-4FE0-8997-8B6CBB63E019}" type="slidenum">
              <a:t>&lt;#&gt;</a:t>
            </a:fld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A8D54A0-B6F3-472A-9B92-E72B61C7EBB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BE1F-FCEC-4986-A2E7-DEBE99A10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AF92B14-D7AA-47E1-BF07-48305B3A3F6B}" type="slidenum">
              <a:t>&lt;#&gt;</a:t>
            </a:fld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3FDFE8A-8064-4345-B96C-D6EBEFF57D9E}" type="slidenum">
              <a:t>&lt;#&gt;</a:t>
            </a:fld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007CAD9-3A63-488D-BF57-EC403D689D17}" type="slidenum">
              <a:t>&lt;#&gt;</a:t>
            </a:fld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7400368-C4AF-4DBA-B326-F45DCE9A15F1}" type="slidenum">
              <a:t>&lt;#&gt;</a:t>
            </a:fld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2B586CD-DA29-4E21-AA05-7E2681CB49F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AD42-EEFD-4D2E-9A5C-DE8C16EC1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ED1A-49B6-406A-9075-D581A9234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2224-674C-4C43-ADA2-9F029940A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BD54-326C-4EC0-BE56-6F71F4AE5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7F40-89FA-4BE5-9D63-3C0A3347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A0C1-33E4-47E8-9ECD-0F01631F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D497-957D-4E3F-A44D-A19F9F48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34CA-B611-44FA-9E3A-A2A5866BF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6E71-2590-451C-80BE-59AE59A01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AEAF-FAEC-4819-A031-885AFE84C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DAF0C8-3259-4BEC-850B-50800E70906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B1E5EA-BCF1-46A8-ACA7-3CF11374435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E89ACC-1DB0-4ADE-B59B-6801CB76167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7D310E-2DF5-461C-AB6C-6D6E56FE3CC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DE5025-0DC0-4B7A-9256-C64EEE2924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79CD4C-3EDC-4688-9FED-B5471E9A6C3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39CBD9-6685-44AA-8B61-D56017A1DCE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59E801-9DEE-4015-977B-18FC2BFE5D8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F3B77D-AD51-4C14-9CFD-1B6D670F82D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9F6339-DC16-4E09-BE01-52A1C81906A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780282-D0FD-444F-9EA5-EF3C3F77018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6C324F-F1B5-4C91-B3FB-CDF85D1FD52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40C490-9B45-415D-AF57-C902F8D9EFB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52638B-150F-4637-9860-FC55DB179A6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AA752B-977A-41DF-9EBC-918640B116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Num" idx="6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Num" idx="7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Num" idx="8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Num" idx="9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FF9217-34B9-48A7-8926-16A478E5F797}" type="datetime">
              <a:rPr b="0" lang="en-US" sz="2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DF9B41-6708-43A0-9F64-3348F80BAA09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D161C1-57E6-485E-93B8-A08C260C9308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Num" idx="1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AF0728-226B-4F45-9C97-221B935FB6C0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Num" idx="1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485562-7000-44F7-96A8-9D16E55F7B54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Num" idx="1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561FAA-E25D-467F-90D9-20373008F812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map.png"/>
          <p:cNvPicPr/>
          <p:nvPr/>
        </p:nvPicPr>
        <p:blipFill>
          <a:blip r:embed="rId2"/>
          <a:stretch/>
        </p:blipFill>
        <p:spPr>
          <a:xfrm>
            <a:off x="714240" y="1822320"/>
            <a:ext cx="7715520" cy="3767400"/>
          </a:xfrm>
          <a:prstGeom prst="rect">
            <a:avLst/>
          </a:prstGeom>
          <a:ln w="0">
            <a:noFill/>
          </a:ln>
        </p:spPr>
      </p:pic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Num" idx="1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B99000-4B56-4A04-83E9-ED1A209D6570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A8D99F-5398-4F26-A312-9BF3D569616B}" type="datetime">
              <a:rPr b="0" lang="en-US" sz="2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FA073B-F088-427E-A81C-DCB1FAF71BA4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Num" idx="2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68C622-2BCC-4096-BF00-3E5ECCABAB32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Num" idx="2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E5B14F-A32C-4D59-8898-A6592C68F22D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ldNum" idx="2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3DC70E-FED0-40EF-9B10-EF19A9F7FDF7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Num" idx="2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C0663F-F2BE-4F76-BF9A-FDFD89CBA50F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ldNum" idx="2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F501EA-03C4-4944-AB8E-EC034F2B49CE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ldNum" idx="2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55F582-CF2B-44A8-A21B-F03C8CEB321C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ldNum" idx="2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437BC4-4F76-4EBD-A275-6F2EDBC0C13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ldNum" idx="2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768E8F-3CF8-43FC-8A27-5E403A6B90F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094E12-4AAB-4617-BE75-B11BA7189A9B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3"/>
          <a:srcRect l="0" t="0" r="0" b="31210"/>
          <a:stretch/>
        </p:blipFill>
        <p:spPr>
          <a:xfrm>
            <a:off x="7070760" y="6200640"/>
            <a:ext cx="127008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ldNum" idx="2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143D91-5D7C-4CC4-B8CA-E6F92029989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ldNum" idx="3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B68F7E-60C6-4AE6-B19B-B2CD444387F6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sldNum" idx="3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33DEF8-9CF8-4C76-82F5-D454BD50B9C3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sldNum" idx="3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6EFFDE-7583-4686-818E-74AAC665FF1F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ldNum" idx="3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204496-B1C7-41E9-9CB2-909B68F2A4A4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sldNum" idx="3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7891FC-8D61-4CAB-B2A3-BEC22B7D4238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Num" idx="3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F38592-8A2A-4DA0-834B-A287194E7E79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TextBox 1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1"/>
          <p:cNvSpPr>
            <a:spLocks noGrp="1"/>
          </p:cNvSpPr>
          <p:nvPr>
            <p:ph type="sldNum" idx="3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66EF25-7C76-4F1F-BBA5-45BE759CD32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sldNum" idx="3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756514-C5D3-44CF-8A36-6F29B740BB4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sldNum" idx="38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387557-3040-403F-8CE7-5A93FEDB9526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"/>
          <p:cNvPicPr/>
          <p:nvPr/>
        </p:nvPicPr>
        <p:blipFill>
          <a:blip r:embed="rId3"/>
          <a:srcRect l="0" t="0" r="0" b="31210"/>
          <a:stretch/>
        </p:blipFill>
        <p:spPr>
          <a:xfrm>
            <a:off x="7070760" y="6200640"/>
            <a:ext cx="127008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ldNum" idx="39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sldNum" idx="4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869F46-DBC8-42F4-B7D7-ADE66F1B6F57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sldNum" idx="41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sldNum" idx="4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BA1549-DEF9-4430-820A-43A8217AA79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sldNum" idx="4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8A2914-2371-40A2-B857-0696E6BCFD40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sldNum" idx="44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sldNum" idx="45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sldNum" idx="46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sldNum" idx="47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907BA9-E84D-4C0C-BC36-4CC449C5590A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"/>
          <p:cNvPicPr/>
          <p:nvPr/>
        </p:nvPicPr>
        <p:blipFill>
          <a:blip r:embed="rId3"/>
          <a:srcRect l="0" t="0" r="0" b="31210"/>
          <a:stretch/>
        </p:blipFill>
        <p:spPr>
          <a:xfrm>
            <a:off x="7070760" y="6200640"/>
            <a:ext cx="127008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dt" idx="4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 type="ftr" idx="4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4" name="PlaceHolder 3"/>
          <p:cNvSpPr>
            <a:spLocks noGrp="1"/>
          </p:cNvSpPr>
          <p:nvPr>
            <p:ph type="sldNum" idx="5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B6EB07-C61A-48B1-A306-972D7FB63F98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sldNum" idx="5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126FAF-E937-4CB6-B0E4-FB497CF8430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sldNum" idx="5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0C218E-E146-4A31-9966-020130E41034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sldNum" idx="5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75E624-AD6D-4707-A090-2EAA420C28C0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sldNum" idx="5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86CE52-A3FE-45DA-921C-5AA9D9E74144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sldNum" idx="5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62052B-016F-4613-933E-3E7AD28073A0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sldNum" idx="5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BAD306-8E0D-4078-B434-859E64785FF2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sldNum" idx="5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8060DD-3C27-478C-8117-3A8458ED2D30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807D48-1DD8-4D88-B715-34CBB91C9F16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sp>
        <p:nvSpPr>
          <p:cNvPr id="198" name="TextBox 4"/>
          <p:cNvSpPr/>
          <p:nvPr/>
        </p:nvSpPr>
        <p:spPr>
          <a:xfrm>
            <a:off x="179280" y="1557360"/>
            <a:ext cx="821844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ＭＳ Ｐゴシック"/>
              </a:rPr>
              <a:t>Lorem ipsum valer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ＭＳ Ｐゴシック"/>
              </a:rPr>
              <a:t>Donec rhoncus eros in nulla dapib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ＭＳ Ｐゴシック"/>
              </a:rPr>
              <a:t>Nam et velit ac lectus iaculis sollicitudin. In rutrum massa vel nisi luctus consequ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5" descr=""/>
          <p:cNvPicPr/>
          <p:nvPr/>
        </p:nvPicPr>
        <p:blipFill>
          <a:blip r:embed="rId3"/>
          <a:srcRect l="0" t="0" r="0" b="31210"/>
          <a:stretch/>
        </p:blipFill>
        <p:spPr>
          <a:xfrm>
            <a:off x="7070760" y="6200640"/>
            <a:ext cx="127008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sldNum" idx="5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4EFD11-3C15-4FF7-ACAA-275777BE5688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sldNum" idx="5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64C9A8-160D-4844-B86D-2005C68104EC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3FA152-E4F3-45C6-A7E0-F7F840587D24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Num" idx="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6303C6-32AA-4B33-83E7-CC3C3CD47551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Num" idx="5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s://community.icann.org/display/alacpolicydev/At-Large+Policy+Development+Page" TargetMode="External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afri-discuss@atlarge-lists.icann.org" TargetMode="External"/><Relationship Id="rId2" Type="http://schemas.openxmlformats.org/officeDocument/2006/relationships/hyperlink" Target="https://community.icann.org/display/AFRALO/AFRALO+ALSes" TargetMode="External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528120" y="599760"/>
            <a:ext cx="78598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ALAC, At-Large and AFRALO:</a:t>
            </a:r>
            <a:br>
              <a:rPr sz="3200"/>
            </a:b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Working to Help Shape the Future of the Internet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Dr. Olivier Crepin-Leblond and </a:t>
            </a:r>
            <a:br>
              <a:rPr sz="3200"/>
            </a:b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Tijani Ben Jema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0" name="Picture 4" descr="Untitled-2.png"/>
          <p:cNvPicPr/>
          <p:nvPr/>
        </p:nvPicPr>
        <p:blipFill>
          <a:blip r:embed="rId1"/>
          <a:stretch/>
        </p:blipFill>
        <p:spPr>
          <a:xfrm>
            <a:off x="133200" y="6172200"/>
            <a:ext cx="628920" cy="469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800" fill="hold"/>
                                        <p:tgtEl>
                                          <p:spTgt spid="2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2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800"/>
                                        <p:tgtEl>
                                          <p:spTgt spid="2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528120" y="599760"/>
            <a:ext cx="78598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Questions?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0" name="Picture 4" descr="Untitled-2.png"/>
          <p:cNvPicPr/>
          <p:nvPr/>
        </p:nvPicPr>
        <p:blipFill>
          <a:blip r:embed="rId1"/>
          <a:stretch/>
        </p:blipFill>
        <p:spPr>
          <a:xfrm>
            <a:off x="133200" y="6172200"/>
            <a:ext cx="628920" cy="469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2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2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800"/>
                                        <p:tgtEl>
                                          <p:spTgt spid="2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title"/>
          </p:nvPr>
        </p:nvSpPr>
        <p:spPr>
          <a:xfrm>
            <a:off x="328680" y="322200"/>
            <a:ext cx="83851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The At-Large Community -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Representing the Perspective of the Internet End-Users at th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Local, Regional and Global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2" name="Slide Number Placeholder 2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E1E2DF-268A-47B5-AE66-26BD82B618AA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3" name="Rectangle 1"/>
          <p:cNvSpPr/>
          <p:nvPr/>
        </p:nvSpPr>
        <p:spPr>
          <a:xfrm>
            <a:off x="1371600" y="203976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What is the Issue?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4" name="Rectangle 2"/>
          <p:cNvSpPr/>
          <p:nvPr/>
        </p:nvSpPr>
        <p:spPr>
          <a:xfrm>
            <a:off x="2133720" y="310680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Moving ahead with a PDP or not?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5" name="Rectangle 4"/>
          <p:cNvSpPr/>
          <p:nvPr/>
        </p:nvSpPr>
        <p:spPr>
          <a:xfrm>
            <a:off x="4572000" y="3100320"/>
            <a:ext cx="281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Assess / Arm WG recommendations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6" name="Rectangle 5"/>
          <p:cNvSpPr/>
          <p:nvPr/>
        </p:nvSpPr>
        <p:spPr>
          <a:xfrm>
            <a:off x="6392880" y="2039760"/>
            <a:ext cx="101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Final Approval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7" name="Straight Connector 14"/>
          <p:cNvSpPr/>
          <p:nvPr/>
        </p:nvSpPr>
        <p:spPr>
          <a:xfrm flipV="1">
            <a:off x="4495680" y="1922400"/>
            <a:ext cx="0" cy="3636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8" name="Picture 6" descr="At-Large organizational structure_better margins"/>
          <p:cNvPicPr/>
          <p:nvPr/>
        </p:nvPicPr>
        <p:blipFill>
          <a:blip r:embed="rId1"/>
          <a:srcRect l="4399" t="5266" r="6034" b="9829"/>
          <a:stretch/>
        </p:blipFill>
        <p:spPr>
          <a:xfrm>
            <a:off x="328680" y="1442880"/>
            <a:ext cx="8704080" cy="5380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9" name="Content Placeholder 4" descr=""/>
          <p:cNvPicPr/>
          <p:nvPr/>
        </p:nvPicPr>
        <p:blipFill>
          <a:blip r:embed="rId1"/>
          <a:stretch/>
        </p:blipFill>
        <p:spPr>
          <a:xfrm>
            <a:off x="1362240" y="1469880"/>
            <a:ext cx="6978600" cy="5369040"/>
          </a:xfrm>
          <a:prstGeom prst="rect">
            <a:avLst/>
          </a:prstGeom>
          <a:ln w="0">
            <a:noFill/>
          </a:ln>
        </p:spPr>
      </p:pic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328320" y="322200"/>
            <a:ext cx="83487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How You Can Contribute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Help Shape At-Large Policy Adv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1" name="Picture 5" descr="ALAC - SF 2011.jpg"/>
          <p:cNvPicPr/>
          <p:nvPr/>
        </p:nvPicPr>
        <p:blipFill>
          <a:blip r:embed="rId1"/>
          <a:stretch/>
        </p:blipFill>
        <p:spPr>
          <a:xfrm>
            <a:off x="617400" y="2344680"/>
            <a:ext cx="2133720" cy="2286000"/>
          </a:xfrm>
          <a:prstGeom prst="rect">
            <a:avLst/>
          </a:prstGeom>
          <a:ln w="0">
            <a:noFill/>
          </a:ln>
        </p:spPr>
      </p:pic>
      <p:sp>
        <p:nvSpPr>
          <p:cNvPr id="2332" name="TextBox 2"/>
          <p:cNvSpPr/>
          <p:nvPr/>
        </p:nvSpPr>
        <p:spPr>
          <a:xfrm>
            <a:off x="2928960" y="2290680"/>
            <a:ext cx="5576760" cy="33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20 Statements in 2013 to d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Key Issue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MS PGothic"/>
              </a:rPr>
              <a:t>2013 RA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MS PGothic"/>
              </a:rPr>
              <a:t>WHO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MS PGothic"/>
              </a:rPr>
              <a:t>PIC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MS PGothic"/>
              </a:rPr>
              <a:t>IDN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MS PGothic"/>
              </a:rPr>
              <a:t>Stability and Secur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olicy Development Workspa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rebuchet MS"/>
                <a:hlinkClick r:id="rId2"/>
              </a:rPr>
              <a:t>https://community.icann.org/display/alacpolicydev/At-Large+Policy+Development+P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328680" y="322200"/>
            <a:ext cx="81756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At-Large Policy Advice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Statements and Iss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328320" y="322200"/>
            <a:ext cx="802332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At-Large Working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5" name="Rectangle 3"/>
          <p:cNvSpPr/>
          <p:nvPr/>
        </p:nvSpPr>
        <p:spPr>
          <a:xfrm>
            <a:off x="380880" y="833400"/>
            <a:ext cx="8601120" cy="35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+16 Working Groups – open to all members of At-Lar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MS PGothic"/>
              </a:rPr>
              <a:t>Issue-based: WHOIS, New gTLDs, IDNs, etc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MS PGothic"/>
              </a:rPr>
              <a:t>Activity-based: Capacity Building, Outreach, ICANN Academy Technology Taskforce, etc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MS PGothic"/>
              </a:rPr>
              <a:t>Project-based: At-Large Summit I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5 Regional At-Large Working Groups – serving as the umbrella to the over 150 At-Large Structur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MS PGothic"/>
              </a:rPr>
              <a:t>Provide key bottom-up input to the ALAC through channeling ALS feedback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6" name="Picture 1" descr="7453485972_9706203f93_k.jpg"/>
          <p:cNvPicPr/>
          <p:nvPr/>
        </p:nvPicPr>
        <p:blipFill>
          <a:blip r:embed="rId1"/>
          <a:srcRect l="0" t="23093" r="0" b="0"/>
          <a:stretch/>
        </p:blipFill>
        <p:spPr>
          <a:xfrm>
            <a:off x="995400" y="4235400"/>
            <a:ext cx="7072200" cy="2560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22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AFRALO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Representing the Voice of the African End-User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8" name="Picture 2" descr="AFRALO: Dakar Showcase 2011"/>
          <p:cNvPicPr/>
          <p:nvPr/>
        </p:nvPicPr>
        <p:blipFill>
          <a:blip r:embed="rId1"/>
          <a:srcRect l="0" t="7713" r="0" b="7713"/>
          <a:stretch/>
        </p:blipFill>
        <p:spPr>
          <a:xfrm>
            <a:off x="304920" y="2590920"/>
            <a:ext cx="8534160" cy="3666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"/>
          <p:cNvSpPr txBox="1"/>
          <p:nvPr/>
        </p:nvSpPr>
        <p:spPr>
          <a:xfrm>
            <a:off x="2997000" y="853560"/>
            <a:ext cx="5059080" cy="586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Helvetica Neue"/>
              </a:rPr>
              <a:t>Input into At-Large policy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Helvetica Neue"/>
              </a:rPr>
              <a:t>Capacity Building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322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FRALO Capacity Building Webin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322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FRALO online education modules – to be develop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Helvetica Neue"/>
              </a:rPr>
              <a:t>Outreach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322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ICANN Meeting Showcases and Recep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322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FRALO Broch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FRALO/AfrICANN Meet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Contribution to ICANN African Strateg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Organization of IGF Pan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328680" y="322200"/>
            <a:ext cx="762624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AFRALO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1" name="Slide Number Placeholder 3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A84CC2-68C0-47DB-86FF-AC5E04CFF55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2" name="Picture 2" descr="AFRALO: Dakar Showcase 2011"/>
          <p:cNvPicPr/>
          <p:nvPr/>
        </p:nvPicPr>
        <p:blipFill>
          <a:blip r:embed="rId1"/>
          <a:stretch/>
        </p:blipFill>
        <p:spPr>
          <a:xfrm>
            <a:off x="184320" y="1036800"/>
            <a:ext cx="2633400" cy="4101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"/>
          <p:cNvSpPr txBox="1"/>
          <p:nvPr/>
        </p:nvSpPr>
        <p:spPr>
          <a:xfrm>
            <a:off x="680760" y="1268280"/>
            <a:ext cx="7589880" cy="47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FRALO Monthly Teleconfere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FRI-Discuss Mailing Lis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Helvetica Neue"/>
                <a:ea typeface="ＭＳ Ｐゴシック"/>
                <a:hlinkClick r:id="rId1"/>
              </a:rPr>
              <a:t>afri-discuss@atlarge-lists.icann.o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FRALO Wiki P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AFRALO At-Large Structure Workspac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146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Helvetica Neue"/>
                <a:ea typeface="ＭＳ Ｐゴシック"/>
                <a:hlinkClick r:id="rId2"/>
              </a:rPr>
              <a:t>https://community.icann.org/display/AFRALO/AFRALO+AL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FRALO Leadership – Representing AFRAL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AFRALO Officers: Chair - Fatimata Seye Sylla; Vice-Chair – Tijani Ben Jemaa; Secretary: Aziz Hilal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ALAC Members: Titi Akinsanmi, Yaovi Atohoun, and Tijani Ben Jema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328680" y="322200"/>
            <a:ext cx="81756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AFRALO Working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5" name="Slide Number Placeholder 3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A6F9C2-CC45-462F-A7C3-805A2ABAC2A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"/>
          <p:cNvSpPr txBox="1"/>
          <p:nvPr/>
        </p:nvSpPr>
        <p:spPr>
          <a:xfrm>
            <a:off x="396720" y="1267920"/>
            <a:ext cx="7994880" cy="23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Participate in the Monthly AFRALO Teleconfere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Participate in the AFRALO and At-Large Mailing Li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Join an At-Large Working Group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Comment on At-Large Policy Advice Stat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sk for Additional Information about ICANN and At-Lar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Beginner</a:t>
            </a:r>
            <a:r>
              <a:rPr b="1" lang="ja-JP" sz="14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s Guid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LS Starter Ki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328320" y="321840"/>
            <a:ext cx="806292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How to Help Shape the Voice of the Internet through AFRALO and At-Lar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8" name="Picture 4" descr="http://farm4.staticflickr.com/3306/3559459694_af51a8166c.jpg"/>
          <p:cNvPicPr/>
          <p:nvPr/>
        </p:nvPicPr>
        <p:blipFill>
          <a:blip r:embed="rId1"/>
          <a:stretch/>
        </p:blipFill>
        <p:spPr>
          <a:xfrm>
            <a:off x="519120" y="3657600"/>
            <a:ext cx="7994520" cy="3170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3T09:45:36Z</dcterms:created>
  <dc:creator>Marika Konings</dc:creator>
  <dc:description/>
  <dc:language>en-US</dc:language>
  <cp:lastModifiedBy>Gisella Gruber</cp:lastModifiedBy>
  <dcterms:modified xsi:type="dcterms:W3CDTF">2013-07-08T17:20:06Z</dcterms:modified>
  <cp:revision>100</cp:revision>
  <dc:subject/>
  <dc:title>GNSO Policy Issues</dc:title>
</cp:coreProperties>
</file>