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70EEBA-E6BF-4143-BAB4-E468CA11F9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CFCE3-88B4-4903-8794-817E45E0D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8CEF71DC-4B21-4D75-823B-155E0F52786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F3ABEE2A-222C-4E9E-AD25-D7CF4BBF133D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2E0AC-D257-4CCA-A4D5-DFBFC3DAB61C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6557D-E189-43A6-B322-8B080A7E31A8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EC964-0DC1-4E51-ABC5-30C60898EE46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4BEAD-0EE5-4929-B68B-0FF2DB8277E6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5C0E5-508E-4AD6-A6E7-FB0E0286E9C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  <a:ea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612FD-D61B-4DC4-8D04-71196ECFE6A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</cp:keywords>
  <dc:language>en-US</dc:language>
  <cp:lastModifiedBy>Heidi Ullrich</cp:lastModifiedBy>
  <cp:lastPrinted>2013-02-07T22:29:55Z</cp:lastPrinted>
  <dcterms:modified xsi:type="dcterms:W3CDTF">2013-06-10T23:31:56Z</dcterms:modified>
  <cp:revision>90</cp:revision>
  <dc:subject>Internet Governance</dc:subject>
  <dc:title>ICANN &amp; Internet Ecosystem</dc:title>
</cp:coreProperties>
</file>