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76080-1A45-4350-9197-4622DCC57E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5EC2C-3E21-4B47-BE5A-FACF62E90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D956088D-53BB-4EF4-BED1-7D7C08A770F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042DF49B-11EA-42CC-AA12-53BB3D5F8E1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725E3-911F-4E85-90DF-F784461EF07C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3D3AD-8F27-49B6-A04B-D1AA632515DE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3F18A-9A6C-45D6-BBF2-E197A1A455AF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197C4-B5F9-40BA-B8A5-7D6D0C927153}" type="slidenum">
              <a:rPr b="0" lang="en-US" sz="1100" spc="-1" strike="noStrike">
                <a:solidFill>
                  <a:srgbClr val="a6a6a6"/>
                </a:solidFill>
                <a:latin typeface="Helvetica Neue Light"/>
                <a:ea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179280" y="1557360"/>
            <a:ext cx="82184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  <a:ea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3.jpe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3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81B8A-FDE0-4B17-AEE3-374AF64A8F6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4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8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89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e46c0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e46c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5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4a452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360" y="6440400"/>
            <a:ext cx="30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5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Calibri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Calibri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4a452a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311400" cy="998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5290200" y="17161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5"/>
          <p:cNvSpPr/>
          <p:nvPr/>
        </p:nvSpPr>
        <p:spPr>
          <a:xfrm>
            <a:off x="5682600" y="429264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6"/>
          <p:cNvSpPr/>
          <p:nvPr/>
        </p:nvSpPr>
        <p:spPr>
          <a:xfrm>
            <a:off x="4422240" y="213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37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8"/>
          <p:cNvSpPr/>
          <p:nvPr/>
        </p:nvSpPr>
        <p:spPr>
          <a:xfrm>
            <a:off x="3012120" y="16286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39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40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1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Rectangle 45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Text Box 46"/>
            <p:cNvSpPr/>
            <p:nvPr/>
          </p:nvSpPr>
          <p:spPr>
            <a:xfrm>
              <a:off x="615600" y="6206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Text Box 47"/>
          <p:cNvSpPr/>
          <p:nvPr/>
        </p:nvSpPr>
        <p:spPr>
          <a:xfrm>
            <a:off x="1843560" y="26370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8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49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F3B0F-446F-4784-9956-9E268FEB0E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949360" y="6012000"/>
            <a:ext cx="326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3" descr="ALAC-Diagram2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4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6889680" y="256536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043280" y="156672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803880" y="5734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5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6" descr="public comment response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133200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86108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7355160" y="53006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comment flow channeled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280080" y="17114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8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9560"/>
            <a:ext cx="2253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6" descr="timeline-marker.png"/>
          <p:cNvPicPr/>
          <p:nvPr/>
        </p:nvPicPr>
        <p:blipFill>
          <a:blip r:embed="rId7"/>
          <a:stretch/>
        </p:blipFill>
        <p:spPr>
          <a:xfrm>
            <a:off x="3035160" y="3870360"/>
            <a:ext cx="257400" cy="744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4500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5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8"/>
          <p:cNvSpPr/>
          <p:nvPr/>
        </p:nvSpPr>
        <p:spPr>
          <a:xfrm>
            <a:off x="1185840" y="53737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5762160" y="522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24"/>
          <p:cNvSpPr/>
          <p:nvPr/>
        </p:nvSpPr>
        <p:spPr>
          <a:xfrm>
            <a:off x="7386840" y="5229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5" descr="comment flow channeled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7"/>
          <p:cNvSpPr/>
          <p:nvPr/>
        </p:nvSpPr>
        <p:spPr>
          <a:xfrm>
            <a:off x="1596240" y="62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28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Gisella Gruber</cp:lastModifiedBy>
  <cp:lastPrinted>2013-02-07T22:29:55Z</cp:lastPrinted>
  <dcterms:modified xsi:type="dcterms:W3CDTF">2013-06-10T13:38:47Z</dcterms:modified>
  <cp:revision>89</cp:revision>
  <dc:subject>Internet Governance</dc:subject>
  <dc:title>ICANN &amp; Internet Ecosystem</dc:title>
</cp:coreProperties>
</file>