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F46B9-EDA1-4D1D-B0C5-CF4FA8940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15EA42-90EF-4AC3-8309-AC97AF538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34A8B237-A383-4A98-9DCC-F5494450796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05EB6101-F62C-4D22-9ADA-FEB8F915B3D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74E32-8D7A-4D2C-BBAC-7E1985147A06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D3C5B-C1CF-4979-9AFB-95B336BB9E3C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48FD0-C4CA-44DD-89D4-4CF0A9404504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34570-3714-4623-8FB7-B1D46D89D448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55FCC-955E-4550-9E5B-737DC3AAA4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  <a:ea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9960" y="2000160"/>
            <a:ext cx="444600" cy="987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379EC-CC2B-45A4-B7DA-F773793B4A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</cp:keywords>
  <dc:language>en-US</dc:language>
  <cp:lastModifiedBy>Heidi Ullrich</cp:lastModifiedBy>
  <cp:lastPrinted>2013-02-07T22:29:55Z</cp:lastPrinted>
  <dcterms:modified xsi:type="dcterms:W3CDTF">2013-06-10T23:31:56Z</dcterms:modified>
  <cp:revision>90</cp:revision>
  <dc:subject>Internet Governance</dc:subject>
  <dc:title>ICANN &amp; Internet Ecosystem</dc:title>
</cp:coreProperties>
</file>