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327B47C-E83E-4785-9487-7C12FB1E4984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E62B21E-B031-4865-8A1B-8284C0324338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3487A46-CDF2-4AD3-B9CE-B9311377EAF7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404F759-B071-4D54-B568-CD47D8D98221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4E682BD-CF84-48DE-95BC-366E7009C0A6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66FDAE4-7394-4A3D-ABB9-F166D60F9C59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CB2FC50-DDC8-49AE-834D-ED6A87C6E3B7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DE885FF-A922-4789-BA73-A5FC2107957A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7E19511-75C1-4BD0-BF02-04CC32D843A1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F55CD59-8297-45A8-BF2D-3845B21325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46476CA-6791-417A-8E94-0CBA9AFD0D96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3778B9-C466-49A5-B1D5-C431388AEA45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70A58B6-E748-4B29-84AD-CCEF997F6E53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7E09EF0-B3B0-40DB-BBAB-BCD83128F8C0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2CC8D98-F612-441A-8A35-62107E22421F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544D618-E9D6-4FF0-B8DD-FB107044FC17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07807E1-E6E7-4A18-B98A-B2091F33AC45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114A1CE-B272-4C0F-AB32-17437A9E3F36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C403246-857E-4856-A520-C5D37EFF1179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26BCB0A-422C-4756-86AD-01131E47B0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736C18-5896-438B-90E1-0D9D664902E3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F7CF81-BE3B-4079-9F1C-F297594E25D8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72469B-E22C-4A5A-8216-96C504FA331A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078C1E-A6B6-4EE9-BB31-19C9AF121F6D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C672E2-AB81-42E3-B720-1DBC36F24E83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BE5887-6AE9-4A14-A637-45C257244F24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993495-1AC7-417A-AFE6-7ABBC2E80274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D82035-1BB6-4580-95D8-E3DC46946926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FA0F16-D37F-47DF-B816-58DA037A0A41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AB7B98-5812-4125-B3D7-C377F2B1F3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25607E-4A99-4CC1-BF70-987A8ED02772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293AD3-BF0E-4741-ACED-E5DE92FD8C78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B23599-908A-4D53-887E-B62D7598C181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0786549-A948-40D8-B221-142F68FD83EC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7269220-C8D6-428D-BD3C-720AFDFCAB2A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3F04F6B-C636-4651-B37E-A97466DEA5A1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55C031D-3AA2-4BF2-BA40-1BEFF88E082E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3C514F0-9249-44C2-B603-AC7FD5533E07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1C4367C-82A8-472B-B9CC-42579F78B7D8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6B370C7-0F58-4F75-933F-214BB1B9DEB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E0A5215-67D9-4972-9CB8-BC562BE8CC3A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9CF95A8-DCC1-4A97-8816-3B73E6B4A60E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9C6A783-2113-4979-A317-33D2541DAC04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62951E9-F115-473B-ABAE-34B41F5FB966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0ED6158-CB39-49CD-B0EC-2A1855B586DB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DB6399C-8F6A-4175-A268-4EBF2C9173AB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325251A-D854-412F-9F7E-2E3E78280F77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34384DE-96AF-40CA-A5F0-F37B632E4BA3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15D9812-16E3-404E-A0FE-847A60F56B1B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F747248-2566-4359-8F82-D7A440B2DAC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AC357AD-2658-43B0-ACC7-65AF74110B70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4F59DE1-EAF3-41FF-A850-B889F3775C13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244A254-F036-4483-A60E-0BEA13760A9A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287896A-EAA3-4D50-83E1-459A5A8904B9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2465264-A9AD-4A68-8630-C4C3CFE309FD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F2147EE-B6FC-4AE6-85CF-BC6130B9CC2C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FA771FF-221F-4626-86E2-FF9196E7342E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2361A8-0B5D-44CD-AD88-F9164CB9C822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D79DAD-4673-467A-BBE2-D27EF2DCD9DB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E279C5-FB00-49DB-826E-4C4F4252DE5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25FB3D-288D-49D8-BC03-88B740B50940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88949C-B9F7-4BDF-8BC7-3E3F10A251B4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069C15-9169-466F-BDED-9A8232971AA4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AC5399-158F-41E1-90D8-B32712BFF45A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1277AB-D7C3-46B0-8A38-217814FE5766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CE1666-03CF-4218-8325-3881980AE460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EF4EB6-D86F-463D-A07B-AC941E2D7491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D68ABE-CA59-4AD6-91FF-CC4DD8CF5F08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1410B9-062A-4463-A397-797243CB859D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49E4282-4ED8-4757-9B23-C3E7BAFBDCF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DD8BD2B-A89B-409A-98EF-86C629C27296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5B55ABF-39DA-4FE2-A0C8-0B3E46D7A8C0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249A56D-2875-4408-AD34-7ED7BCAD9A73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93B5492-DB93-4005-A99A-8C0BF5048976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E5945F7-B82F-4910-86B6-852AE5D1936D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F2F1D5C-8E5A-4B46-8D6D-20D4F7381CA0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52B5C4D-85C9-422B-AADB-6FB8FF42E6F3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1465BAD-46C3-4974-848E-4365F0A5CDCA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F8C5F8A-0037-4574-9E0B-74E11CFE3D39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04C025D-5116-4B14-B39B-8A394ED846B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21D7C74-A378-4799-A8EE-AF79D87369F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7FE95-FFF3-4A4D-8070-A9F07E427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B0BF0-420C-41C4-9874-99818EE38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08420-2108-4A7C-B1F2-3BA36E58D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3FF71-1F34-43C6-8E63-81B2ED7CB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FAA87-F452-443E-A349-A5BDD3A40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B4E7C-83B8-46CA-980B-5AC367552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0E728-630A-41E8-9DE0-2D9876416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8C940-A4AC-4166-A9A0-612898EC6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6F0B7-D7C5-4E77-A5CB-446B7B0E4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609CE-D31B-4ECD-80F8-DC2B72C41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4B293-D7D3-423E-8CE4-F8E85FD67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964D9-E141-44D8-9A39-B1516E44E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BCFC74-AB5E-41CB-A325-844C4220DB0C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8FBADF-43AC-469D-89BD-E0079CE50EBB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D962A2-0E29-4EE8-9773-DFDB7119C10E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9BF9D9-A6F0-48DA-BCED-3BDAAFFAE05D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77EAB4-2735-42C6-83DD-7CD928031686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36231A-E773-409C-A471-E18C68D83841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9C0D11-AF67-46DC-8DC8-2873F000311A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208AFD-4AFB-4B31-BF02-3563D613E75C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37E350-7D9A-4444-9049-016F76B937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E9CA33-8C06-4340-BCF3-0923E621A0DF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88A5F1-B89E-494F-9158-9DC0B96322E3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72BFCA-B9DC-499F-A709-54D3085AF5D0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F0A68D-02DE-4599-92CE-82AC376C715D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1E4305-ACAF-43D7-92F9-70B013AC1B53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A0EE6B-CCD8-4CDD-AA61-42320C218AA7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06484C-5DE4-42D7-B761-6A79320B7FEC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BE8202-5CA2-4ACC-A49F-3BA992FB87B9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572086-85BB-4AA5-8865-D0C2081039CC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405DA7-51FD-426E-939A-50B2C129EB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3F458F-056C-477E-9EC9-34E1C6CA6FCE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52BD28-9447-4417-89F1-2635322DC8B7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B536B6-9846-4126-9273-E9EA23D6582F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45B628-4384-47C4-A2EB-D46F1062B46B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C12BB2-7E3E-4924-8ED0-7ECC3732941B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97C3D13-8797-4426-9E93-82B331EB92C2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B7CA200-1CD9-4FCD-9220-AACD4DB77D09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C9AB0F9-3199-46B5-B9BE-3BEF720DF0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" descr=""/>
          <p:cNvPicPr/>
          <p:nvPr/>
        </p:nvPicPr>
        <p:blipFill>
          <a:blip r:embed="rId2"/>
          <a:stretch/>
        </p:blipFill>
        <p:spPr>
          <a:xfrm>
            <a:off x="-31680" y="-31680"/>
            <a:ext cx="9207360" cy="6921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351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Num" idx="8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1547AC3-8EF9-44CF-BDDD-291D4407F075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392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Num" idx="9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C2E52DF-3D28-42D2-B62C-E7F625711E3E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433" name="PlaceHolder 1"/>
          <p:cNvSpPr>
            <a:spLocks noGrp="1"/>
          </p:cNvSpPr>
          <p:nvPr>
            <p:ph type="sldNum" idx="10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02BC33-DFA9-424C-879A-BA691E430D20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0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473" name="TextBox 4"/>
          <p:cNvSpPr/>
          <p:nvPr/>
        </p:nvSpPr>
        <p:spPr>
          <a:xfrm>
            <a:off x="3048120" y="4495680"/>
            <a:ext cx="553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Keep body copy short. Avoid reading the text to your aud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Box 5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Num" idx="11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F9FAADF-9BD1-4BE8-9444-6A09F3160B5F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2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513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514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515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Num" idx="12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105F9B-5385-42A8-A650-A4A8873942BD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3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3" descr="41-Singapore-logo-140x288.png"/>
          <p:cNvPicPr/>
          <p:nvPr/>
        </p:nvPicPr>
        <p:blipFill>
          <a:blip r:embed="rId3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555" name="PlaceHolder 1"/>
          <p:cNvSpPr>
            <a:spLocks noGrp="1"/>
          </p:cNvSpPr>
          <p:nvPr>
            <p:ph type="sldNum" idx="13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024094-F280-40F7-B63B-666CC36E49B6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3" descr="41-Singapore-logo-140x288.png"/>
          <p:cNvPicPr/>
          <p:nvPr/>
        </p:nvPicPr>
        <p:blipFill>
          <a:blip r:embed="rId3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9F5E17-FE76-4A2C-A441-62873EE3A54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2D0B70-C29F-4B53-9F05-24E62FF5D8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93" name="PlaceHolder 1"/>
          <p:cNvSpPr>
            <a:spLocks noGrp="1"/>
          </p:cNvSpPr>
          <p:nvPr>
            <p:ph type="sldNum" idx="4"/>
          </p:nvPr>
        </p:nvSpPr>
        <p:spPr>
          <a:xfrm>
            <a:off x="69004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A84533B-6795-4509-9C6C-B254E361ABFD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sldNum" idx="5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BEFDE7E-A5D4-45A4-A201-E369AFBF36D1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271" name="PlaceHolder 1"/>
          <p:cNvSpPr>
            <a:spLocks noGrp="1"/>
          </p:cNvSpPr>
          <p:nvPr>
            <p:ph type="dt" idx="6"/>
          </p:nvPr>
        </p:nvSpPr>
        <p:spPr>
          <a:xfrm>
            <a:off x="2743200" y="6356520"/>
            <a:ext cx="3657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ctober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311" name="PlaceHolder 1"/>
          <p:cNvSpPr>
            <a:spLocks noGrp="1"/>
          </p:cNvSpPr>
          <p:nvPr>
            <p:ph type="sldNum" idx="7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1FD5A0-D01F-4CA7-BAEE-7208845C69D7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Security &amp; Stability Advisory Committe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 type="subTitle"/>
          </p:nvPr>
        </p:nvSpPr>
        <p:spPr>
          <a:xfrm>
            <a:off x="1371600" y="3352680"/>
            <a:ext cx="64008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libri"/>
              </a:rPr>
              <a:t>Jim Galv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libri"/>
              </a:rPr>
              <a:t>Vice-Chai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7f7f7f"/>
                </a:solidFill>
                <a:latin typeface="Calibri"/>
              </a:rPr>
              <a:t>Introduction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95" name=""/>
          <p:cNvSpPr txBox="1"/>
          <p:nvPr/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urity an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abilit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visor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mmittee (SSAC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med in 2001-2002, currently 36 memb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vides guidance to ICANN Board, SO’s and AC’s, staff and general commun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uidance areas are related to ICANN’s missions DNS, addressing, IDN, registration services, WHOIS, etc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D2D0482-F66A-496E-8711-8E1979C5B515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731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7f7f7f"/>
                </a:solidFill>
                <a:latin typeface="Trebuchet MS"/>
                <a:ea typeface="Trebuchet MS"/>
              </a:rPr>
              <a:t>Main Points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98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1B165F-5B12-4A77-99CF-B5E2CA12D49B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761760" y="1314360"/>
            <a:ext cx="7543800" cy="523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 SAC051  - SSAC's recent publication on WHOIS structure and terminology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 Internationaliz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. Registration Data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. IETF Restful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6T19:03:27Z</dcterms:created>
  <dc:creator>Julie Hedlund</dc:creator>
  <dc:description/>
  <dc:language>en-US</dc:language>
  <cp:lastModifiedBy>HU</cp:lastModifiedBy>
  <dcterms:modified xsi:type="dcterms:W3CDTF">2012-01-30T20:22:34Z</dcterms:modified>
  <cp:revision>24</cp:revision>
  <dc:subject/>
  <dc:title>Presentation Title</dc:title>
</cp:coreProperties>
</file>