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9E32F82-0104-4984-92E9-88C7A1C6268B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6E50CCB-BE59-4ACE-9821-59EC6F24CEC6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CE3A8FA-5B4A-4FDA-A59B-C3C5FACADAFC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0A7C315-393D-4048-ADAB-C0F4DB9D480C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0559CB3-7AEB-4642-9A43-A00C2A9CD9D6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7ACAC89-9F8D-43DF-ABDD-4BAA7880493C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E5E0B9F-36AE-4BBE-9B82-CC193132FB99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635FFFA-4B71-4632-91E9-6745B66B9A5F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4CC5B1A-A9A9-4111-829E-BC3736637294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95AC9C0-2ACD-4B0E-9EDA-771C51AA1A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39AC99D-2DB7-44BB-B39B-A7D63CCEBC86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FD2FEE2-3150-40AD-BA7A-E1D2DC787DBB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4801A3D-F635-4335-A074-172D62D192D8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4DA932B-E26F-4043-9682-8FF7CCB73FDB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5972F8F-BD00-4B21-B135-69414622473D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8C667EF-F979-403F-821C-B34CCE2D3B8B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D195AE-E6E3-401C-879F-5D35A0738A65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75C4C3C-2553-4429-8C0B-99A5A2C29B09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00DBCDC-C19A-4200-BB16-8569A01A340C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4C6AA44-ADCA-4F53-A805-ACFF6D57C3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411DC14-5ECD-4986-BD01-418503FE24F5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52CE57-EE11-4226-A215-BDC05D0F60E8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19D9EA-C43C-4D77-B41C-E9F9A5E9A349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C982BD-1777-42BF-AA36-8EEAFD875C0A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A5A925-373B-45D4-BE6A-86F44C4CB416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3D13D7-6BF4-49DC-903D-2EDEF2CADD11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709729-36C4-4946-B01A-0057C45F7DA9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D99149-8C04-4828-9222-6E7ADF30A295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469A2D-58F9-4449-BC64-90B521B93F69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08D1E9-2D72-4BD3-85DD-9B80CB391A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9E3581-3A51-4AD9-9CB0-E0F19D23637E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6489AE-76F7-4CA6-9AB4-3946A4B48349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E89539-C678-47CB-84B5-0C54C4014809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0216E66-F653-48FF-B58E-83D21DAFBD8D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DA3BEF4-3BC0-41F1-A298-6967E762F742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C637628-76F6-4F69-BCE5-403200E84FF6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AF3B468-9C47-45A1-BE91-8D594DD796DF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565E19D-16EA-4D79-99EF-72C42D45E7E6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87826D9-AC9E-47D1-9775-DBFDEEA14E7D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17CF06D-E413-499F-A7B9-50341F1718C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54DAF12-B897-41B4-9D6E-DC98E123C554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CF7C0DC-EA58-4F0B-A53A-18D7E884833B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6DE4497-5C36-41EA-ACD0-922A08148EE0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7966EA5-A74A-4DF7-A537-B77E6820C763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E3021A2-F44D-41E8-B5C2-324328F1A5D8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353D25A-7865-4470-BF88-0BAF3954B330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5617114-2CB8-486B-9CA2-4A8B66BD61F0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723CF01-A652-41FC-B9B2-E55B21DF2E5E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0D3D114-F069-447B-B963-CE1A7B6159A0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379CB1D-29B4-47A5-B64A-BF67FD6D99F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8C6C017-E199-4D44-9C4C-0384FF3F9A5F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3911825-1E2D-483C-BDD0-04EBBBD90B13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E0E011B-2C16-423F-BEEC-BADBCF68E0FE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141B7E3-6346-47E7-AB19-4A09285ED882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F44C7ED-9730-4857-B12F-E4D77054D644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AF3E219-A0A0-4718-96CE-4C2E752D3D39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1FE8781-C1FB-4B6D-8E87-54B578E6F7BA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DC42F0-BC55-499E-930B-5D1703311231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3D0478-71AF-4C66-8962-52B45576D373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BBF593-D086-4626-A663-9A85296075A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38AAF7-21BA-4DCC-AC4E-84F282C557FA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A335CB-056B-4D60-BF99-2C8FADA33F5A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E2C267-4670-4AD2-8D8D-DE62FCBF66F6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B2D3E2-196F-4416-8359-22B778D9FD6A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C792CE-D9E5-454C-A5CB-665FB4DB99F9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58F3B1-FEDC-4DFD-B9FF-93AC9A6693B4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3921B3-3852-4F20-8873-5476DB1E66AC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643985-AF3D-4911-8142-CA1FF40F8084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265997-E574-46EB-B0D6-E5B8D9CCC138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7835846-ACE1-4312-8CEB-2FE54DDE38D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87CB47B-A8C5-4033-AB59-2F305EB5B078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30EFC99-CB56-4837-A448-F2FBF2B202D9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9F11DCF-5318-4331-AACF-119C26B62416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A88D979-BD34-4D81-B39E-DA3DE07941FD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FD9FEAF-D6BF-4911-B0BB-79B4F4AEA25F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3796613-237C-4083-9DD9-B763AD6084D1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9B709B6-B369-460F-98D3-982BA1E0A411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41002BC-0F32-41BE-82C3-4FB3A3EB9BA5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51E2BFB-0134-4077-ADD6-EF168E78EF5F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C4B75CD-7D9D-45B9-816B-D16655335A4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014C26D-644F-4BA5-8932-9BD05FF5AD4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F7C10-82C0-48F3-B68C-571EE83FD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E0D9B-5A07-4F99-BC64-72F11D5EA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75820-EB0A-40EB-BE96-75A2B3E90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CBBCC-D5D1-41FA-B090-06E24925D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7688A-617C-4ABA-94C8-82BD0F4E6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0C76B-6DEB-447D-8176-1BBA9F393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45D6C-6F1D-4972-94A1-BD06113CA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DBF05-6840-4153-880D-B76D40EB6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D5681-B2AF-4645-AEF6-7974F878C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86C14-3666-4FD2-AA16-E4B86E129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E7328-79CE-4F92-83BC-909754373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4BEAB-E16A-4A59-95E4-69BA7EF44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BBF3E3-D3D5-43BE-A2AF-16A5863F76B8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4040AA-25DE-4954-86C4-7856A8285D6A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D3F486-F9D5-47D1-9D59-B14055BDC319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1212FC-A75B-47A0-A561-3AC791DBD918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21C9AC-A2AD-4106-8B2B-360E8087E2E0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6F7D87-7CFA-4D6A-9C59-063B1EF71056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E3E08A-7551-4316-A3A8-649A644ED947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46B6FA-30A1-4D92-8B2A-6E021C30ACB8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A8E90B-7AD0-47D4-A280-840A9193FC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B4DBC6-D95A-455A-99C4-EA76A0C6656C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6C3DFA-D90C-4394-9AB8-B5FA72DF0623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309CFA-8E64-4FD7-9D49-6427E311D542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193319-38A9-4DBB-916C-2540E608EA4A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9CF8F4-35CF-4A41-AF2A-C6E74279D58A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D164EE-4C8D-4C31-AE2C-B52D255CC542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D59DF5-910B-4008-8085-43F9E6AD4827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095C2E-EE1D-4D69-B9A7-768BFF36552B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28E704-7C0E-40AC-8D2E-56A48D98EDAC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B69121-7671-4E39-8756-19EE6E1241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6F1E49-FC46-4489-BF5C-A9056E4CCB55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022B1D-12CD-41C2-9B5E-9CD4A2E6015A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2F788C-0335-4D43-8AC6-E64A29206DF4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3ED16F-9AE7-430D-99C6-A28E68684ACF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37F136-5700-47B6-8A48-6F9DB6FE2D48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307C0CE-9A9C-4B0F-864D-409E3F2A1D09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A8396F4-4AA8-48A1-8ED2-1236870C66F6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97D8EF4-4884-4C59-A38D-FFB094238C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" descr=""/>
          <p:cNvPicPr/>
          <p:nvPr/>
        </p:nvPicPr>
        <p:blipFill>
          <a:blip r:embed="rId2"/>
          <a:stretch/>
        </p:blipFill>
        <p:spPr>
          <a:xfrm>
            <a:off x="-31680" y="-31680"/>
            <a:ext cx="9207360" cy="6921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351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Num" idx="8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104EE15-0A83-48D2-BD94-BF7C0C93EE16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392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Num" idx="9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35138F-6771-425E-A378-EAA5BCD72580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433" name="PlaceHolder 1"/>
          <p:cNvSpPr>
            <a:spLocks noGrp="1"/>
          </p:cNvSpPr>
          <p:nvPr>
            <p:ph type="sldNum" idx="10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372B1C-B03D-449C-A6F6-D04205D77D4A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0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473" name="TextBox 4"/>
          <p:cNvSpPr/>
          <p:nvPr/>
        </p:nvSpPr>
        <p:spPr>
          <a:xfrm>
            <a:off x="3048120" y="4495680"/>
            <a:ext cx="553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Keep body copy short. Avoid reading the text to your aud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Box 5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Num" idx="11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BA83C30-1877-49CD-A792-D3417E766E7C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2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513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514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515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Num" idx="12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A48E92-4B12-40B2-8AFE-FABE6FA2C028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3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3" descr="41-Singapore-logo-140x288.png"/>
          <p:cNvPicPr/>
          <p:nvPr/>
        </p:nvPicPr>
        <p:blipFill>
          <a:blip r:embed="rId3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555" name="PlaceHolder 1"/>
          <p:cNvSpPr>
            <a:spLocks noGrp="1"/>
          </p:cNvSpPr>
          <p:nvPr>
            <p:ph type="sldNum" idx="13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66D298A-397B-4EEB-9178-8CF3F08D3C86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3" descr="41-Singapore-logo-140x288.png"/>
          <p:cNvPicPr/>
          <p:nvPr/>
        </p:nvPicPr>
        <p:blipFill>
          <a:blip r:embed="rId3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A6D546-D410-4B44-80A8-C429B188700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766FA93-C463-4B83-A91E-ECC631391E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93" name="PlaceHolder 1"/>
          <p:cNvSpPr>
            <a:spLocks noGrp="1"/>
          </p:cNvSpPr>
          <p:nvPr>
            <p:ph type="sldNum" idx="4"/>
          </p:nvPr>
        </p:nvSpPr>
        <p:spPr>
          <a:xfrm>
            <a:off x="69004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DF6BAF7-2F96-4E83-BC6D-04F498E52182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sldNum" idx="5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929927-498B-40E4-BDFA-ECA2CEF89980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271" name="PlaceHolder 1"/>
          <p:cNvSpPr>
            <a:spLocks noGrp="1"/>
          </p:cNvSpPr>
          <p:nvPr>
            <p:ph type="dt" idx="6"/>
          </p:nvPr>
        </p:nvSpPr>
        <p:spPr>
          <a:xfrm>
            <a:off x="2743200" y="6356520"/>
            <a:ext cx="3657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ctober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311" name="PlaceHolder 1"/>
          <p:cNvSpPr>
            <a:spLocks noGrp="1"/>
          </p:cNvSpPr>
          <p:nvPr>
            <p:ph type="sldNum" idx="7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91B1067-9FE9-4390-A77F-98AAEC28C751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Security &amp; Stability Advisory Committe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 type="subTitle"/>
          </p:nvPr>
        </p:nvSpPr>
        <p:spPr>
          <a:xfrm>
            <a:off x="1371600" y="3352680"/>
            <a:ext cx="64008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libri"/>
              </a:rPr>
              <a:t>Jim Galv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libri"/>
              </a:rPr>
              <a:t>Vice-Chai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7f7f7f"/>
                </a:solidFill>
                <a:latin typeface="Calibri"/>
              </a:rPr>
              <a:t>Introduction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95" name=""/>
          <p:cNvSpPr txBox="1"/>
          <p:nvPr/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urity an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abilit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visor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mmittee (SSAC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med in 2001-2002, currently 36 memb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vides guidance to ICANN Board, SO’s and AC’s, staff and general commun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uidance areas are related to ICANN’s missions DNS, addressing, IDN, registration services, WHOIS, etc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042CBD-B178-404D-98F7-95E4ACD4AACD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731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7f7f7f"/>
                </a:solidFill>
                <a:latin typeface="Trebuchet MS"/>
                <a:ea typeface="Trebuchet MS"/>
              </a:rPr>
              <a:t>Main Points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98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4B1C800-B214-43BA-9C53-2563F126DA08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761760" y="1314360"/>
            <a:ext cx="7543800" cy="523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 SAC051  - SSAC's recent publication on WHOIS structure and terminology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 Internationaliz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. Registration Data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. IETF Restful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6T19:03:27Z</dcterms:created>
  <dc:creator>Julie Hedlund</dc:creator>
  <dc:description/>
  <dc:language>en-US</dc:language>
  <cp:lastModifiedBy>HU</cp:lastModifiedBy>
  <dcterms:modified xsi:type="dcterms:W3CDTF">2012-01-30T20:22:34Z</dcterms:modified>
  <cp:revision>24</cp:revision>
  <dc:subject/>
  <dc:title>Presentation Title</dc:title>
</cp:coreProperties>
</file>