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E3F4015-057E-43D4-914B-1CF8B5869062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F3FF2DF-F24A-4724-AE4D-3C8B5AA518F2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FA613C1-DABA-4BEB-9DF8-641E29BA23D1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4A500F1-A432-4FC0-9884-B15446453D77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BE1D62E-021D-43BC-98D0-EBAD2619AE77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8453C24-A6A7-45B4-9230-BD54519C67E5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AEC5C6B-B718-44D1-943B-DD0248579279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D896D0D-397E-4B66-9D45-FB01472F4EEB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928A4C2-2C71-4AD0-AC76-41AE4EFF7B72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1563DF1-981E-4D3A-A06D-51F12BC74D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E8AAAB8-39AA-4086-BCC7-F084D8DD8A09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61722B5-B748-4E7B-BD5E-EB6F73B94B2E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FB0E88E-D430-48B6-8FA4-05B8BC9D5539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0C5B771-C04B-48F9-8890-6353D5CB4119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7550884-32E0-49F8-ACC7-3103ACCA29D5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097AACD-73BD-444D-BB9A-390173CD799D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5799E21-3779-4D6A-9AA9-598BBB0FEA70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3B09FFC-F8D7-4F99-AF6A-0AD818B77B29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7117ED4-84AA-4EB8-8BDD-DDCF356F0C66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B66874E-1E32-4BF0-9FFF-49F54AEC4B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3E5608E-43D8-4853-93D6-161EFEA1E144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820E8C-0585-48B6-94A4-5A3BAD3529D2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972186-6413-4F9E-BC0D-8C250BF3A14C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D3EEC2-CE85-41B7-82FD-18B2488E1D49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E8EB2C-B83D-437B-B3DE-DB6DD5CC262E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310D08-DDE2-4A91-9E26-C21AF56F4979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160790-71A8-4E03-B20F-F03C09F860D4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AA716A-D9D4-4CCC-ACF4-56C950911920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C20419-46C6-4057-9B28-6A8E63310064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9D30B2-165D-4D1F-BB9C-95DF2BE947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6C2998-60E7-46BE-B832-F0CA8D422D12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6A41DB-DBAE-46DB-8C60-096FCF8746BC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D4A22A-FEF6-4C19-B8A7-9BEEA53BAD13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E968712-BAA0-4D01-81E5-77BCBD0C476F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6F9D768-B2EC-4441-9232-E9B6CC283B97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D4672E0-43F1-4B94-953B-E1CC88DE216E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EF373E3-CD93-4017-840C-DA0C14BC9838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4D54DC5-9254-4741-AA83-46055E1A05B3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51EF07F-107A-471C-A4AF-F1010DC1671F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63590C3-ED42-48C9-9105-EB54D860245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EFF0A12-51DF-4C0A-A3D4-3E85DD2D1B2C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D596A3D-E31A-4E42-A20B-0187C9C5A997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D6E9E23-7876-40CA-B4F1-ADE5966D574F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C673DFC-6425-4574-B787-B975C83A9F41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41DF7EE-4840-48BD-B7DE-4863AF91CA12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F82C062-1B05-47C1-8D8C-E6107B0AC385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A1DC95A-54E2-4537-B3D2-F7E8265FE190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AC9B1A5-B35C-40E3-9914-6CF4432A2A62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A81BD72-1788-4FEB-8128-BDE12937D7E1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3996362-A522-40AC-B9A1-AA60B59EBE9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A1BC59F-23E0-45C3-BB6A-D65B8C1A05C6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DE5FAEC-46E1-4F71-A29A-D3880B343443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FC9B79C-BB07-4E54-8848-BD29FDA3588E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BEA687D-2154-4CDD-A4C7-827E6D3F8FCD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D147D3D-7B2D-4AEA-B534-79F33DF17D39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E2AA4CA-43B0-4B56-BE39-8DC05420D3AD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9F863D3-1EBB-4274-971F-BAAB2466C9F8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F9DAAD-649A-48E5-A503-A1DB1D614E4E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BDC231-4A3E-4DF1-9301-BA64058AF778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1590C8-C01B-4140-A3E4-98E95C7BE76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52E5EB-9C2D-47A5-A08C-2CDFF09C82DF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F456CA-F3CA-4441-BA65-5466BC74B406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72EDA1-058F-4115-AE84-EE45F5BD6B67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C7CBDF-5DA0-44B0-92DC-BEC24FDCC523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BE176D-DFB3-498B-BF41-A57FCBBEA673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7BDAC0-68CB-4DC4-81E6-B50ED16B18CD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DB361D-2511-4F1E-9C22-8DCA7969B588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6949EF-B37F-44D2-816D-4C0D8CBB1027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0E2E40-0BDD-495F-9A36-8A3DC45C4B26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AC91A5C-8B74-40E5-9AC8-D681B6F2FCB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C0EF991-47F3-4CEA-BA35-4CD178B7D888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FC3B8E0-A0EA-4978-AB8E-1F3B6CCFCCA6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252B416-7DD1-4DFC-BDF6-792C665D9B1B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A0201A4-DCD4-46DD-A99B-747F808D7095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FC4C21C-0A8B-42F5-B0A7-896E762DA337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0420ABA-6BB3-43B9-9CF5-AFDD557369E8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A82A202-E9BF-4F3C-8BEF-BF0CB494377B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B6C72AC-4DC4-47F8-9391-AC82CCB1ED64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B13EACB-4CF6-47B0-92DE-AE33F78B330B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A4AC814-70D6-4ECF-8607-16734660B26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5E5A35F-E1E7-46FD-8AB6-6932FE5CE8E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9034E-8CF5-4B6A-87E2-019A9F4DA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9543D-245D-4D9C-BDE2-76163241A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42C97-04FA-4F98-A74A-F22FB4DCB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13F36-ED57-46F7-A067-CD023C165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ADA66-559A-4D47-993C-1B06278A9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528A0-DA83-4164-BAB4-1E297E921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6EF09-DD22-477B-97D3-8EDE0562F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123DB-D45F-4EB8-9DF3-71A23F769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75F0D-4F69-487E-AB68-888EDCC30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892A4-5D82-41DE-8F19-1BB0EDBF2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D435E-F06E-4B8D-A209-A960063B4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F0B71-2DAF-48DF-85B3-3BCB3B630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1EA8E7-935E-44B6-8BB2-730FA0E99841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19A12C-D148-47A2-819B-68586AC85712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1CE3E8-3E49-4B2E-8B9A-4DB6398E0F59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401140-462D-4BC5-8492-1DCF181217ED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F9E90D-3CD2-48FB-929B-CF5279E08D4C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D6335E-AB90-43B8-9683-FAA0F515CD28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CE1A6C-A78E-4069-8F5B-0EE85913AAEB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E52484-5F6C-4899-AEF2-B1BF089146A6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B1F011-50C5-4079-B0BF-19DAC59D89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42FECB-79BB-403C-B058-19CD5CC96232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96B31F-5666-477D-A806-8EEA6FC89E04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609BE2-6B37-43CF-AE15-ED5C65B95043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0DC646-B9D7-4A3B-9CEF-350EDF09A82C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B6E91B-A300-4346-A9AE-AADA4CE19985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41F05E-F146-4696-ACD0-AE6B663F4580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90A26E-2BCD-4BFD-A4ED-84767E850E76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7D6C15-C9E5-43BC-A069-ADA9C2C9B424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D7C5A6-8FF6-4F2A-B725-EB24A1ED5118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6F4D35-5780-4996-A1AE-0D579BFB20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8BFA13-152C-44D4-B64E-8410521038DF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90EC13-3490-4926-AF25-19F002461C0D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5AD73B-D43E-4C90-928A-A18F041818EB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20D36B-3916-4FDE-AC51-085B20C3138B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290FE2-6BFB-4502-B499-2F558A478144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F19C2CE-4173-4710-A665-5894AE02CD2F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8CB8207-4BEB-42C9-9365-BADA4218A76A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968316D-036E-46F8-9CBF-0A33012F51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" descr=""/>
          <p:cNvPicPr/>
          <p:nvPr/>
        </p:nvPicPr>
        <p:blipFill>
          <a:blip r:embed="rId2"/>
          <a:stretch/>
        </p:blipFill>
        <p:spPr>
          <a:xfrm>
            <a:off x="-31680" y="-31680"/>
            <a:ext cx="9207360" cy="6921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351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Num" idx="8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8C5B2AB-81FB-4645-B09F-7E50837D6558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392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Num" idx="9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EA91E44-7A5F-4793-9E63-39F6AF48BDC9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433" name="PlaceHolder 1"/>
          <p:cNvSpPr>
            <a:spLocks noGrp="1"/>
          </p:cNvSpPr>
          <p:nvPr>
            <p:ph type="sldNum" idx="10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A10D7B-EE60-4A4B-9E46-B4D49DCBEDEA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0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473" name="TextBox 4"/>
          <p:cNvSpPr/>
          <p:nvPr/>
        </p:nvSpPr>
        <p:spPr>
          <a:xfrm>
            <a:off x="3048120" y="4495680"/>
            <a:ext cx="553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Keep body copy short. Avoid reading the text to your aud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Box 5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Num" idx="11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0CDD3C-DA19-4A99-9FB2-C51752BDBE19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2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513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514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515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Num" idx="12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C96A0E-6830-4303-9327-20F074E360A6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3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3" descr="41-Singapore-logo-140x288.png"/>
          <p:cNvPicPr/>
          <p:nvPr/>
        </p:nvPicPr>
        <p:blipFill>
          <a:blip r:embed="rId3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555" name="PlaceHolder 1"/>
          <p:cNvSpPr>
            <a:spLocks noGrp="1"/>
          </p:cNvSpPr>
          <p:nvPr>
            <p:ph type="sldNum" idx="13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E93598A-6FE2-46A5-9595-E693054A2410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3" descr="41-Singapore-logo-140x288.png"/>
          <p:cNvPicPr/>
          <p:nvPr/>
        </p:nvPicPr>
        <p:blipFill>
          <a:blip r:embed="rId3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123BE0-49CD-4AFA-950B-7BE47F74823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EC3B4F0-78C4-4C8D-8980-3D29D49DF7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93" name="PlaceHolder 1"/>
          <p:cNvSpPr>
            <a:spLocks noGrp="1"/>
          </p:cNvSpPr>
          <p:nvPr>
            <p:ph type="sldNum" idx="4"/>
          </p:nvPr>
        </p:nvSpPr>
        <p:spPr>
          <a:xfrm>
            <a:off x="69004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712979-E0C2-46FF-B7A2-0AC521CA95D9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sldNum" idx="5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D189C8E-A172-4F1A-9DB0-0147184B7981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271" name="PlaceHolder 1"/>
          <p:cNvSpPr>
            <a:spLocks noGrp="1"/>
          </p:cNvSpPr>
          <p:nvPr>
            <p:ph type="dt" idx="6"/>
          </p:nvPr>
        </p:nvSpPr>
        <p:spPr>
          <a:xfrm>
            <a:off x="2743200" y="6356520"/>
            <a:ext cx="3657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ctober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311" name="PlaceHolder 1"/>
          <p:cNvSpPr>
            <a:spLocks noGrp="1"/>
          </p:cNvSpPr>
          <p:nvPr>
            <p:ph type="sldNum" idx="7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C3C548E-B5E2-4DD9-8F0B-95D1AF4ACF83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Security &amp; Stability Advisory Committe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 type="subTitle"/>
          </p:nvPr>
        </p:nvSpPr>
        <p:spPr>
          <a:xfrm>
            <a:off x="1371600" y="3352680"/>
            <a:ext cx="64008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libri"/>
              </a:rPr>
              <a:t>Jim Galv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libri"/>
              </a:rPr>
              <a:t>Vice-Chai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7f7f7f"/>
                </a:solidFill>
                <a:latin typeface="Calibri"/>
              </a:rPr>
              <a:t>Introduction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95" name=""/>
          <p:cNvSpPr txBox="1"/>
          <p:nvPr/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urity an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abilit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visor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mmittee (SSAC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med in 2001-2002, currently 36 memb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vides guidance to ICANN Board, SO’s and AC’s, staff and general commun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uidance areas are related to ICANN’s missions DNS, addressing, IDN, registration services, WHOIS, etc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AA0047F-9D96-4B0E-848E-31874E1296B0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731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7f7f7f"/>
                </a:solidFill>
                <a:latin typeface="Trebuchet MS"/>
                <a:ea typeface="Trebuchet MS"/>
              </a:rPr>
              <a:t>Main Points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98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4BCB76B-3C6A-4A4B-AF1F-FC403CDD7588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761760" y="1314360"/>
            <a:ext cx="7543800" cy="523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 SAC051  - SSAC's recent publication on WHOIS structure and terminology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 Internationaliz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. Registration Data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. IETF Restful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6T19:03:27Z</dcterms:created>
  <dc:creator>Julie Hedlund</dc:creator>
  <dc:description/>
  <dc:language>en-US</dc:language>
  <cp:lastModifiedBy>HU</cp:lastModifiedBy>
  <dcterms:modified xsi:type="dcterms:W3CDTF">2012-01-30T20:22:34Z</dcterms:modified>
  <cp:revision>24</cp:revision>
  <dc:subject/>
  <dc:title>Presentation Title</dc:title>
</cp:coreProperties>
</file>