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89CE8B1-6A67-4081-9EA6-529D91BCED95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3B7E8BE-747F-4DBF-A0F5-2C7025B921B4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243575F-DB15-419B-8485-830A46114649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06A4D66-F03B-4144-9771-6BCABA346528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B4F343E-0F65-4559-B8EB-88BC1FF8E0D5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829BF0D-AC0A-4213-BB12-FC753905F2B3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C450868-5268-4951-861D-4A8EBE47BE3C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7A43435-1298-4802-8D10-5C932304FC93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53AF1C3-1CD7-4408-95A1-0DA195A99D1D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921D744-6B82-46E9-9964-CE1D0DD9D6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299CB82-7460-4259-BCE9-52BD88691E0B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FAF2F11-C7C8-4359-A714-B418F791BB21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46ABE19-E6E1-4E47-9D66-CAC37D44A536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D1E65A9-BE39-4E6B-BAFC-45AF4D0810CF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9D8369A-827E-45F9-BB2A-E124E02000ED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572D847-FAEA-47A7-8F42-37C56A4CB2DD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6F15AB7-C44A-4D92-B650-19F9513247A9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423C143-4E28-43AC-86F3-00D46E11F3F4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EBDA469-26F7-4E2F-BFD9-1F44647CE421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7545546-CAAB-4FFB-BAF6-AC250C47C6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22F3E2A-3CD4-4B46-8782-A5418716C8DE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A0493C-9327-419F-8432-8A24473B4EF0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C1A021-08F0-439A-8FB1-AEDA137227B5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D3D9E7-6BA1-40B5-BC79-43D2E6731454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5BA33F-5766-400C-873D-793C07401A19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100C79-628C-4DDE-9342-EEA6A1FEABE3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A29595-3FEE-4885-8F95-ACF14143FBF6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944786-231F-4923-8C6A-E68A0144F1F9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BEC16F-9302-4DA9-884D-7F57BF2C7AC3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1D992A-27A5-417E-9EBB-7BEEA86FC41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018AD5-8B59-4698-90A2-BB847CEA4339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C52431-6805-4DFC-A0D3-F7721C563794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1D8AC6-CDD8-4979-A53F-D32F4B4D5431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AEE27A0-4F63-4F46-B46B-B258B04232CD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AC267A0-211F-4007-B7E6-74C2419FDCB3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9316EB3-C968-4ACB-BE33-E95A6D75E307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D092E7D-EC14-4907-8EE1-1C432697FAB3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63B914C-3C3F-4956-8139-E6F4FF753251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28BD572-AB3F-4B3D-A9DC-67D8FA7ED674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A291FB9-0807-4202-AB36-E8617FDE867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1C173C6-8E40-4EA9-A6BC-C9B59A8E0A38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6E09B5B-5EAB-4C26-84CC-689027A87974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4202D0F-5C4C-4BED-A326-B6B0A0A0D945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0CD849D-CD2E-45EF-829B-F7764219CD0F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4394CF6-BD4C-4848-949C-8DD583C0E7F1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110E804-C695-4D5F-BFDE-7744420B5601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6B9DB8F-578E-4B79-85A1-07123BA41066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FCCD363-BB4E-416E-829D-5325CF8AF7FA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7FB3040-B72C-4F0C-8FB0-BCAFF3F3AEA1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B91A93D-91F9-49FD-8158-7064E61FBDB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D35F667-0FA6-4388-9EDB-E90DF61F17D7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9D0AE52-38A7-4C06-8741-0B76E2C50492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B927AB9-1D57-456F-9BD7-D5515486C473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C92AF26-1FC4-40D9-BC89-6FC305E22A38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83F1B9E-4172-489E-AA97-00373601D7CB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B37F5FD-11E4-4257-866F-797771FBBDC4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15663F0-B140-4CA8-89A6-E0381F179F38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79E16C-0FCB-4330-814D-C11DCECF9FE4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685D7C-3F25-4BB9-808D-C62B97AEADD7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765BAE-0E4E-4C15-A9A5-4BE896DCE26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41538D-CEA4-45B5-BFC4-28216E249DF4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5D3CC5-09FA-40F5-B217-9DE42B20C750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F0B7DA-60FC-4C24-A4B3-3B85464AA235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0037B9-CEF2-46E7-84A2-0B2C8484496D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4AD514-ECEA-452E-863B-11B808F646A4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669851-9797-497B-8CDA-890B5E2E523F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DFB0BC-C35A-4F8E-A842-EFF324858F93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36D399-22A4-4A4A-8F0F-57747449BBF5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14FBFC-3E60-4280-A1EE-A568E4490D4D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6C67D4B-EB2F-4727-A473-EEA4DFBE1C2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6DD7F3A-8A95-4FB7-A57D-33EAC40FD210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95FCB23-FCDA-4056-9151-9F041E8AC5AC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E19B65C-B3FC-4572-9228-1F19CA89A71A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621FF84-009B-4C3B-B39F-870A4A61128B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03CF49A-061C-4779-B63F-3981F5C6D8CF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F532BD2-ED0A-43C0-A536-11CA2CCB46FB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B370116-4316-4851-8481-0584394705DF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029B4EF-BA83-4770-AD7B-CF1D5047D0F1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E6F01F7-1C00-4121-B101-AED03FBF5C09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CB19D6D-C831-4A62-9E3B-4CD172B51B0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A21A436-A422-4812-B8F6-4727F4A2672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2A509-4A0C-4771-86CD-FC7F58C44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9320D-2C99-45AD-84DE-D73585315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C5734-DF9A-48A5-A99E-D9E9AC344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12C75-0204-4286-BF43-B81B31D00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F588C-8DD1-4576-83EB-B2F9AD96D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3E87B-8AC8-460A-9DE7-270CCAC6A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6105A-EE38-496D-AD02-95D7159F1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A8643-DF76-478C-89D0-B6E42A563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38696-8B6D-45D5-AF87-C0E933973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7578D-85EB-4378-BBAA-C88B44581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2C5FF-6D0D-4647-8984-64C19D88E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D5100-0599-468C-89EA-61245D9F9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E84444-D382-445C-A3E7-5274820EC48C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6C60BF-BE62-4683-A45A-6399C22966C1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2022A9-311A-4AB0-A96C-990AC41ACAD2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C5732A-1286-44B1-A59C-ED5FEBC3FB8F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AD53C4-3DD1-4FA6-84F8-CAC3F370A92B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36D01C-3CE5-4836-AC9B-E78779BAD9B0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9BB0F8-0B5F-4150-88B7-8CDD19B300C9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30E643-0E68-4786-A689-E20C10C38EA9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6A2C84-D2A5-485B-B835-BD94302D1C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AC3B0B-D97B-4B89-96AD-F57535524D05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A7FA10-4233-4DD2-8E4C-073643BBAB38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A46C58-1E20-4A19-B8D4-59642239550F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267F60-8B20-4D8B-B129-A85749366D01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1CE072-2C61-4EDB-99AF-77B055FDDA1D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874DCC-8287-476B-A46D-6C54E0E43F34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7B1826-EDC2-4658-8029-778E24A0F538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3BF611-6E89-48C9-868C-A01A072032DE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4F8931-4167-424E-AEF9-61A3BA377892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525903-45F1-4B16-A676-53AE7315A7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797B38-EE59-469A-B171-097E4AE8FA49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4B6EB2-0C5E-4670-A5E0-51ECE7505577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81829B-2136-4588-A8E7-5F5EDA7FCE15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BABF2F-0306-4844-8408-D1E403577B70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87B3D7-91E2-4956-8B61-49B876C22969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88F026C-D72A-481D-B130-54F47D409EC8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EF6D379-8FCA-4AEC-8315-4535BE6716D7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10A9FA9-7714-4ECE-8599-13C14749FC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" descr=""/>
          <p:cNvPicPr/>
          <p:nvPr/>
        </p:nvPicPr>
        <p:blipFill>
          <a:blip r:embed="rId2"/>
          <a:stretch/>
        </p:blipFill>
        <p:spPr>
          <a:xfrm>
            <a:off x="-31680" y="-31680"/>
            <a:ext cx="9207360" cy="6921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351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Num" idx="8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EF0363D-D3E9-4703-A881-56AA885B40C1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392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Num" idx="9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F71D01-C781-46A8-A20F-744773323248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433" name="PlaceHolder 1"/>
          <p:cNvSpPr>
            <a:spLocks noGrp="1"/>
          </p:cNvSpPr>
          <p:nvPr>
            <p:ph type="sldNum" idx="10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8F0B586-41A5-4010-B750-B39B328736E3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0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473" name="TextBox 4"/>
          <p:cNvSpPr/>
          <p:nvPr/>
        </p:nvSpPr>
        <p:spPr>
          <a:xfrm>
            <a:off x="3048120" y="4495680"/>
            <a:ext cx="553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Keep body copy short. Avoid reading the text to your aud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Box 5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Num" idx="11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6508B27-9731-4094-BC10-E2E251C6AAAC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2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513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514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515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Num" idx="12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19426C-297C-41DB-9446-8CE9A51F870E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3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3" descr="41-Singapore-logo-140x288.png"/>
          <p:cNvPicPr/>
          <p:nvPr/>
        </p:nvPicPr>
        <p:blipFill>
          <a:blip r:embed="rId3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555" name="PlaceHolder 1"/>
          <p:cNvSpPr>
            <a:spLocks noGrp="1"/>
          </p:cNvSpPr>
          <p:nvPr>
            <p:ph type="sldNum" idx="13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DB613A-6019-4FF4-A402-FD0A2D6ABD74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3" descr="41-Singapore-logo-140x288.png"/>
          <p:cNvPicPr/>
          <p:nvPr/>
        </p:nvPicPr>
        <p:blipFill>
          <a:blip r:embed="rId3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C0521D3-DA67-4601-A074-D2EBD5B6CF1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E9A715-D9F7-4CE0-8E2E-B4826EA6BC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93" name="PlaceHolder 1"/>
          <p:cNvSpPr>
            <a:spLocks noGrp="1"/>
          </p:cNvSpPr>
          <p:nvPr>
            <p:ph type="sldNum" idx="4"/>
          </p:nvPr>
        </p:nvSpPr>
        <p:spPr>
          <a:xfrm>
            <a:off x="69004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1404B7-8E0B-4678-AA29-C52F14E4AB05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sldNum" idx="5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D019D28-9F67-40F0-ABBA-07EA120E5831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271" name="PlaceHolder 1"/>
          <p:cNvSpPr>
            <a:spLocks noGrp="1"/>
          </p:cNvSpPr>
          <p:nvPr>
            <p:ph type="dt" idx="6"/>
          </p:nvPr>
        </p:nvSpPr>
        <p:spPr>
          <a:xfrm>
            <a:off x="2743200" y="6356520"/>
            <a:ext cx="3657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ctober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311" name="PlaceHolder 1"/>
          <p:cNvSpPr>
            <a:spLocks noGrp="1"/>
          </p:cNvSpPr>
          <p:nvPr>
            <p:ph type="sldNum" idx="7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B8971F8-45CF-4315-93D2-301722982A99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Security &amp; Stability Advisory Committe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 type="subTitle"/>
          </p:nvPr>
        </p:nvSpPr>
        <p:spPr>
          <a:xfrm>
            <a:off x="1371600" y="3352680"/>
            <a:ext cx="64008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libri"/>
              </a:rPr>
              <a:t>Jim Galv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libri"/>
              </a:rPr>
              <a:t>Vice-Chai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7f7f7f"/>
                </a:solidFill>
                <a:latin typeface="Calibri"/>
              </a:rPr>
              <a:t>Introduction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95" name=""/>
          <p:cNvSpPr txBox="1"/>
          <p:nvPr/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urity an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abilit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visor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mmittee (SSAC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med in 2001-2002, currently 36 memb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vides guidance to ICANN Board, SO’s and AC’s, staff and general commun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uidance areas are related to ICANN’s missions DNS, addressing, IDN, registration services, WHOIS, etc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02812F5-B007-43C5-BCAD-6CD32F97F533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731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7f7f7f"/>
                </a:solidFill>
                <a:latin typeface="Trebuchet MS"/>
                <a:ea typeface="Trebuchet MS"/>
              </a:rPr>
              <a:t>Main Points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98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5F8B38-8ADD-4771-AE0A-7E96A4772E4C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761760" y="1314360"/>
            <a:ext cx="7543800" cy="523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 SAC051  - SSAC's recent publication on WHOIS structure and terminology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 Internationaliz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. Registration Data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. IETF Restful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6T19:03:27Z</dcterms:created>
  <dc:creator>Julie Hedlund</dc:creator>
  <dc:description/>
  <dc:language>en-US</dc:language>
  <cp:lastModifiedBy>HU</cp:lastModifiedBy>
  <dcterms:modified xsi:type="dcterms:W3CDTF">2012-01-30T20:22:34Z</dcterms:modified>
  <cp:revision>24</cp:revision>
  <dc:subject/>
  <dc:title>Presentation Title</dc:title>
</cp:coreProperties>
</file>