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56E03-AFE0-4682-8340-BE3A2A1486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5C43C-F781-4787-B809-644992E9C1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5A5BB-60C8-487D-9F35-D87B1E3CFB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DD196-975D-4036-A15A-48EC717D99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95624-AA72-4480-B4E7-5E4A44FFDB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B80D0-F4F1-47DA-A9B8-C039FD038D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74A66-17CA-4CC9-ADEF-E60ED9D399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34976-027F-42B2-B8A2-5574710C6B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B7580-2751-48B5-A785-6071083006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E2931-A579-485F-96C6-9DF69ADCDE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F5789-57FF-4898-8EE5-591E9AA1EB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CBC52-232F-4B0C-B95C-3B5F5CB6F3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2C9CE-F71B-48B5-9748-1790456399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560BB-DF80-4CF9-94FC-F987BA46CC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88BE7-BBF9-4E1B-B40C-6CEC797288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B83D4-F81D-4BFF-9EEA-A40A421567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646E0-4A2A-4C00-BE40-13D3D8B51FA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54859-187E-4DF2-9CC8-CE9A1457F0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E386-1F5D-471A-B442-ED6E3CB6F81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0292-F269-482D-9787-AD70BCF1774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43EC-1E9C-42BC-96B3-9E6274B683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D3988-3B33-4A82-B9AB-98EAA58A46E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FD6E-0C5D-45D1-9309-266E9B6CF2B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FEC5-A458-4362-9068-1A8FE2BECCC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CB62-E4D0-4E84-AD56-A9A6E403075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5C22-F9AD-458E-89B3-F473CD1A20E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7AC5-3391-4C71-A22B-8B86DFA41DF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A6D7-6BD6-4C58-8F00-CBB3777954B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10D9-59C1-46F9-8E2A-30CAE4532C4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CCBB-5921-4DDD-92D1-3B1A1840E48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0DD4-B7F4-42C0-99CE-8644A983A1B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9800E-6C93-4E64-AA86-6C4C607DB2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9B0E1-FD6A-4024-A71D-F011D90B502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ABD4B-4F95-46BC-8873-B02FC728ABA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4858E-0C19-481F-905F-20A67A6C6FF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62FCC-EED8-448D-AF0A-24ED39065EE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89B45-F411-4669-AA09-C8FA24C6DA7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0AAE6-6A41-4AB3-A109-33D22505198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B72B8-056B-40E4-BE67-EC4F28E98C3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18850-0A37-49D3-9D96-2860CB8CF5A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DDCDA-DB98-4D5D-8D8B-7CF009B5CA7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17F98-ED3D-47F6-9CA5-47B1E1F32A8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FAC22-B089-49FB-9F99-3C4A4432C2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78913-6952-48F1-9332-D1D1820E5B5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4A505-D9F1-4DAB-B4DF-98DB7D6EA64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96983-7D3A-4920-B5BC-0746EF4DE7A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D062B-9894-4000-BC9F-E1EAA50D10D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51DA9-483C-483E-9A57-AC518BC0551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37A83-EBC4-4CFC-AEED-D5E5D8EC7FF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BF576-6059-4913-A1EC-0E108C8ECE0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CC878-C509-4389-9B0C-0703B418C6B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9684C6-D91E-477C-B01E-934135D53BB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BF9C2-806C-4978-8667-46DB4399CF1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5DF41-EA19-495E-9E33-23A17EC0F3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78D1D-5498-405A-83DD-A3FC0C86678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43C69-101C-4865-8AF9-816C0D7A955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E6115-DB50-48BC-B946-3C23B0F7665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2C558-3309-4594-8EA4-86511B3BD74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B82406-BA3E-4EBA-B8B5-975263DA1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8DCA53-82A3-49F5-A1BD-DB129F93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226CFC-459B-4D11-89C7-EE064D82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49C945-DF00-4A74-ADE6-B55D2360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B5BE0E-421C-41C8-BBE0-4C220D15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FA648A-0031-4C2D-8BC5-BDC0BFE6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5575D2-D5D5-4E38-BEBF-A8F25B35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571BC-D8C4-48DC-9DC8-B15584A3CF4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67A1D1-1BF3-4D84-AF20-71646B6F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6DC00A-226E-4DB9-95BF-445E6516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681DD2-AF7D-4F84-B7FE-35E0087A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8619F1-3B13-4E48-BCD2-ABB583710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0CBCC3-AC91-41B9-9662-EA2469D19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A1FA8-91B7-4E16-B650-843A9E27E53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ABD9B-FDED-485A-A673-03CC6C6ED0E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ADEBA-F973-4C9F-BDE5-CCB5C57A058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64B5A-8BEE-4EB5-AEE5-6F6495697EF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32CEF-E1D9-409D-91FC-F277B9589C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18DEC-CA3A-455A-901A-03F65E6EE22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D8FEB-4D56-4F9E-94BC-74FFC2299A3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13853-E71B-4F6C-9CB1-F79DBF0ED5C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B2585-8EE1-4B48-9F50-98F143F0447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625B0-FBF9-4F07-8580-20B2A76D6EC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B574A-F296-4C5F-B86D-1208397098D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F0CE1-3249-4057-8DF3-0AFE4EB9847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0821F-EC9B-46D5-BF1E-65B3E8FCF8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BA7407-957E-417B-BF0D-CEAB362D47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9" descr="durban-titl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038320" y="160020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942240" y="64245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18C3B5-4202-4D9A-9A95-2CD7A721C2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6" descr="durban-slide.jpg"/>
          <p:cNvPicPr/>
          <p:nvPr/>
        </p:nvPicPr>
        <p:blipFill>
          <a:blip r:embed="rId2"/>
          <a:stretch/>
        </p:blipFill>
        <p:spPr>
          <a:xfrm>
            <a:off x="0" y="0"/>
            <a:ext cx="16606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durban-titl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0E30CF-0335-48AB-B48B-26B04205E4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sldNum" idx="4"/>
          </p:nvPr>
        </p:nvSpPr>
        <p:spPr>
          <a:xfrm>
            <a:off x="2556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61E7D7-91A0-433C-9006-5D85EDF903F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sldNum" idx="5"/>
          </p:nvPr>
        </p:nvSpPr>
        <p:spPr>
          <a:xfrm>
            <a:off x="2556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8BB270-095E-4C56-B2FF-C00BA7476AE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E2E15C-9C30-4916-B9B9-A24276D5816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sldNum" idx="9"/>
          </p:nvPr>
        </p:nvSpPr>
        <p:spPr>
          <a:xfrm>
            <a:off x="2556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811E0D-D358-4A23-A4E5-B108CD217A9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387520"/>
            <a:ext cx="7772400" cy="24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xpert Working Group on gTLD Directory Services: Initial Report</a:t>
            </a:r>
            <a:br>
              <a:rPr sz="3000"/>
            </a:b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</a:rPr>
              <a:t>http://www.icann.org/en/gsearch/EWG%2BInitial%2BReport 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eport for ALAC Discussion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arlton Samuels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Picture 1" descr="IC_AtLarge_Logo.png"/>
          <p:cNvPicPr/>
          <p:nvPr/>
        </p:nvPicPr>
        <p:blipFill>
          <a:blip r:embed="rId1"/>
          <a:stretch/>
        </p:blipFill>
        <p:spPr>
          <a:xfrm>
            <a:off x="-185760" y="4691160"/>
            <a:ext cx="202392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WG: Initial Re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2038320" y="160020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lat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ion of a ‘big data’ sou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 risk of insider ab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stries/registrars no longer control delivery of registration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WG: Initial Re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038320" y="160020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Issues for discussio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pport for the ARDS generally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ocation of repository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ois data: enough/too little/too muc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ccuracy checks on data – who and how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ermitted (or not) us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ermitted (or not) us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enalties – for whom/for what/what author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imeline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387520"/>
            <a:ext cx="7772400" cy="24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Picture 1" descr="IC_AtLarge_Logo.png"/>
          <p:cNvPicPr/>
          <p:nvPr/>
        </p:nvPicPr>
        <p:blipFill>
          <a:blip r:embed="rId1"/>
          <a:stretch/>
        </p:blipFill>
        <p:spPr>
          <a:xfrm>
            <a:off x="-185760" y="4691160"/>
            <a:ext cx="202392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WG: Initial Re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2038320" y="160020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Needs Fix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ility/Willingness of Registrars to verify/validate Whois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ence on individual registrars for access to/reliance on Whois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registrant data potentially accessible glob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regulated privacy/proxy serv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WG: Initial Re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1770120" y="1600200"/>
            <a:ext cx="728496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WG: Initial Repor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Being Proposed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Picture 3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698364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WG: Initial Repor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sers of Registration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2038320" y="1600200"/>
            <a:ext cx="6648480" cy="45259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3" descr=""/>
          <p:cNvPicPr/>
          <p:nvPr/>
        </p:nvPicPr>
        <p:blipFill>
          <a:blip r:embed="rId2"/>
          <a:stretch/>
        </p:blipFill>
        <p:spPr>
          <a:xfrm>
            <a:off x="1868400" y="1539720"/>
            <a:ext cx="710244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WG: Initial Working Group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rmitted Purposes for Data Us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Picture 3" descr=""/>
          <p:cNvPicPr/>
          <p:nvPr/>
        </p:nvPicPr>
        <p:blipFill>
          <a:blip r:embed="rId1"/>
          <a:stretch/>
        </p:blipFill>
        <p:spPr>
          <a:xfrm>
            <a:off x="1790640" y="1770120"/>
            <a:ext cx="723420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WG: Initial Repor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RDS Mod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038320" y="160020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gistrar collects registrant data – gTLD registry. gTLD registries hold authoritativ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RDS (or other repository) as non-authoritative repository of all all collected data elemen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questors apply for access to data – obtain access to non-authoritative, or special cases, authoritativ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RDS repository provides validation of data, handling and auditing access, handling complaints and imposing penalties for inappropriate acces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WG: Initial Repor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ated Access Mod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2038320" y="1600200"/>
            <a:ext cx="6648480" cy="4525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3" descr=""/>
          <p:cNvPicPr/>
          <p:nvPr/>
        </p:nvPicPr>
        <p:blipFill>
          <a:blip r:embed="rId2"/>
          <a:stretch/>
        </p:blipFill>
        <p:spPr>
          <a:xfrm>
            <a:off x="1741320" y="1600200"/>
            <a:ext cx="704232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WG: Initial Re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2038320" y="160020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dvantag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Stop shop for reques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ater accountability for data validation and access ab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ndardizes access approaches to meet privacy requi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ables more efficient accuracy che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ables search portal in multiple langu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15:15:36Z</dcterms:created>
  <dc:creator>Lynn Lipinski</dc:creator>
  <dc:description/>
  <cp:keywords>Template ICANN 47</cp:keywords>
  <dc:language>en-US</dc:language>
  <cp:lastModifiedBy>Matt Ashtiani</cp:lastModifiedBy>
  <dcterms:modified xsi:type="dcterms:W3CDTF">2013-07-15T13:58:24Z</dcterms:modified>
  <cp:revision>19</cp:revision>
  <dc:subject/>
  <dc:title>ICANN 47 Durban Template</dc:title>
</cp:coreProperties>
</file>