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8225-677F-4B30-B188-B865BCC0F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C855-155C-4334-9E84-E3CFE0E95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1112-2D52-44DB-B9C4-991CCF438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F6C0-D917-4255-80AA-0F356DF63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2D51-AB62-486C-91F9-46E63EFE7D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01B8-7389-4047-BEA7-9F5C51F880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EB9E-4410-40B6-B1AF-D3A2E6220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175F-542A-41CA-A7BD-FC63B87B4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FFB8-A03D-45C2-91D9-48A051F4E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7380-4184-48CA-8BFF-2927623313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6C69-18DC-4870-A8A7-4E98999F7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ED96-76F2-4FB8-9D3A-CC51BA3DA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2443-F3A7-43D3-9249-DE46E5845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D0B4-5841-45DC-815E-2BC5475689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4BBF-C92C-4924-B103-1EC7659EB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DA90-2A4F-4800-8124-20F476CDC9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09FA-788E-41B5-8FBD-0AC5032979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E849-A3CA-4B58-8ABA-15778FB0BC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53-B318-483E-A13E-6E26E8475F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523-77BB-4620-B785-625DC7E96F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5CD-B357-48F5-825F-98BAC07F4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B9D-7042-4AA8-829E-08ABD61211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3D6-AC55-477A-91C4-234FE82458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C94-273F-42BB-B0C3-ECFF415B52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680-C2AA-45FD-9E35-11CB1EAC13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E4F-79E1-4DFC-BD63-9220F37B47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FF8-9CD5-4D24-911A-4E869E4898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336-CC06-4EB5-92CA-92ADDEDF22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E86-0FEF-491D-83CE-F298F703CB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D45-0A1B-495D-9D2A-099AC4FE1E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A4B-7282-478D-BB04-70EB201E81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0BADF-AE02-45B3-BFB8-66CFFC70A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E59F-46F0-486B-88F0-F9E3E2D19B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46A1-BB56-4973-9FD9-48DE4DE14D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10031-A453-4986-82FE-8D8FB53A99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1250-D1B0-458E-BD2A-3CB8D60126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7ED41-9429-4D6C-8B57-0224D77305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A9B98-5DCA-4744-AC40-DDF0990A3C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B029F-587B-4140-A2BC-3DBB0EB19F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D1CA6-D8E4-4332-AA20-41B1368F82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EB3C2-1F9F-41C1-BD29-2F8E1B4881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6224-0171-4F92-8A63-EAA139847F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8378D-DB2F-4538-B5D4-E1202A743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6B47-159A-40E6-838A-D76941A97C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36E14-381D-4181-A377-DECC0FF2A2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B74AF-FCE2-417D-9F7E-B6F1B4F7F4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94FDB-4F70-483E-A057-E9C6977F6E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33484-A8F6-47D6-84E9-2985E50897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DD24-2149-4CF1-8C84-F25DB4CB2D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7104-C6DD-42AC-8BF9-B7AE7496BD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F82A7-AD12-4555-BAAF-5C4ED544B7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49532-FF92-443A-AF93-36253DC7D0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CF7A9-5498-4238-AC01-DDF326A2D9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6AA1-586E-45B3-B8EE-023317D9C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24E8-14B5-404B-92FE-34AA675EA4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25B6A-211E-4C20-9FFC-519CEE5EA5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F595-62DA-4D07-97A3-B9F1698032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83720-0676-4593-9D6E-24F7198FDB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EA355-659A-4A01-8D44-40E7FF8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7B48D-8147-4ECC-8530-670C8F3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99891-3953-439D-9534-610C5BE8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1903F-0F99-4219-BCE8-3679B10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82353-4042-4346-90FE-4AB5F2B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2CE76-217A-4ED7-9D60-AE074E0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3239C-F89C-48C6-B8FA-90035B1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0738-EF0F-4AE0-B73B-97C4E8BE47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917EB-AFDA-4C64-8C1F-46D4C3F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8040F-8667-4AA9-B350-A2C186F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203E-8D8F-4768-A093-CCD716F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B2692-1488-4AC8-AF22-BCA988B4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36ADB-3D71-41DA-B7ED-82635577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8240-9695-40AD-B8CD-517D6EE3FF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DB12-69A0-41F2-82D4-DE5F6B14C4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09A0-E496-4DC9-B351-F302A3CE4B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6E18-6076-4F0F-92EB-C2720BD296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D90F-AC48-4BFF-88B5-5B24262B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EC01-DF09-4677-A201-BB015B91DE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477F-A74E-4AD1-BE82-EF545C5622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B379-5398-4411-AD3F-0B25B3B544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433D-B4EE-4664-AB99-86289696AD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47B0-69C6-475A-BAB2-847B6D47CB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D1E8-B62A-48B0-BC5A-76D25E7B36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E967-99B3-4868-B4C1-E6830627B7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9014-B26A-4617-9FC4-E8615D992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62E1F-25CC-4CC1-94A6-392E1C437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807A4-CFCA-4FE9-8462-7132107E4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B6339-78DC-4A6C-A4A4-CCE5360DF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26E91-AE98-412D-A051-A993FFA28D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47AF6-6346-4797-8302-9399CB182E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1595-2164-4060-BB6E-7E8D731E9CF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0E5A1-0C55-43EE-9AC9-F6FDE20965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pert Working Group on gTLD Directory Services: Initial Report</a:t>
            </a:r>
            <a:br>
              <a:rPr sz="3000"/>
            </a:b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</a:rPr>
              <a:t>http://www.icann.org/en/gsearch/EWG%2BInitial%2BReport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ort for ALAC Discuss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rlton Samue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la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a ‘big data’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risk of insider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/registrars no longer control delivery of registr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ssues for discus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rt for the ARDS generall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cation of repositor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is data: enough/too little/too mu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uracy checks on data – who and how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mitted (or not) u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mitted (or not) us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nalties – for whom/for what/what author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eeds Fix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/Willingness of Registrars to verify/validate Whois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ce on individual registrars for access to/reliance on Whois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rant data potentially accessible glob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ulated privacy/proxy 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1770120" y="1600200"/>
            <a:ext cx="72849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Being Propo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69836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rs of Registration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38320" y="1600200"/>
            <a:ext cx="6648480" cy="4525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1868400" y="1539720"/>
            <a:ext cx="7102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Working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itted Purposes for Data U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790640" y="1770120"/>
            <a:ext cx="72342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D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gistrar collects registrant data – gTLD registry. gTLD registries hold author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DS (or other repository) as non-authoritative repository of all all collected data elem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questors apply for access to data – obtain access to non-authoritative, or special cases, author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DS repository provides validation of data, handling and auditing access, handling complaints and imposing penalties for inappropriate acce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ted Acces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038320" y="1600200"/>
            <a:ext cx="6648480" cy="4525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1741320" y="1600200"/>
            <a:ext cx="7042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WG: Initial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top shop for requ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accountability for data validation and access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s access approaches to meet privacy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more efficient accuracy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search portal in multiple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Matt Ashtiani</cp:lastModifiedBy>
  <dcterms:modified xsi:type="dcterms:W3CDTF">2013-07-15T13:58:24Z</dcterms:modified>
  <cp:revision>19</cp:revision>
  <dc:subject/>
  <dc:title>ICANN 47 Durban Template</dc:title>
</cp:coreProperties>
</file>