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C633A6-4160-4041-BC4B-E708CBB7E63F}" type="datetime">
              <a:rPr b="0" lang="en-US" sz="1200" spc="-1" strike="noStrike">
                <a:solidFill>
                  <a:srgbClr val="000000"/>
                </a:solidFill>
                <a:latin typeface="Trebuchet MS"/>
              </a:rPr>
              <a:t>07/28/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3D6700-E749-4947-8513-6DE4FA0D06A6}"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7640AE-FF7B-4401-9A7D-BB4122CEAB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084E53-D0AE-44BA-BB0A-AD3E12B8C0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D58685-D552-4726-AB71-A76FD4A143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982F25-DF62-4F38-A0BF-F4956650AF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303B5B-5BD1-4107-A9E4-B8C6EA50D4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35C83F-71D1-4A72-891F-E80C7A4BD8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50CD3F-901C-449D-9CDA-C3C1DC75FB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4FEDE6-64CE-4749-BB29-FF157AED93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63C70DBE-9456-4DF7-B733-928F4B84428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AE2299E6-5ECB-4EB5-91CF-C3FC7BD0961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E7F7C0B1-B63E-4765-BCAB-3633C67A34A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9ADC7B68-107F-49EA-A535-A17686EB0D6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DFB13083-6314-4909-8B1C-37B98DFC8B2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F0FEB4AC-8D55-4D9E-98C6-E399B0746EA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6E9BE90C-1B5B-49DC-AC91-0E3603BEB8E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828EB328-33CC-4804-9476-BF2B9C3F269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3A6601E0-F6CF-46DC-91D5-9E27FEA4A79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848D0F7D-E35E-4919-A70F-4651334C11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0D5F2C9F-D6F4-4C79-825D-75409D55401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3150D33D-B926-453B-8A5A-73C11326341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645ACADE-FF8D-4AC1-8645-4C00D0325CA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D4EC52B6-DC9F-4884-8051-67A99DDC8FD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01FE752D-7FF2-4D34-87D5-FF60A419C5D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B5D07BDD-827B-428F-AA23-2BD58A2010F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9CC76E1C-F254-4FE0-A244-48C0ACB9960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1639DE85-B53B-47D8-B816-2D125E61D72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C4EEB368-4CB1-42DC-BF31-C7B4A1855AA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E0C09348-40A2-4A13-8310-76A538AA0F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06459D80-D215-454B-AB94-E6E450ED360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F5468B2-20ED-4C07-86B1-38B11B6CD84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81D26099-085B-4786-92AC-E010626E1D3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D14C8084-E4E8-4080-949E-E8C4819F811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45E5A086-CBA8-4BBC-B2FB-E484319050B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35FE8211-E5E1-4AA6-A268-6AEB6CDA984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E8075C22-B53E-44E0-B5CE-F871C182217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61FF6422-71E2-45B0-8479-9E37EE23BE3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C8243D12-945D-4F56-BE25-C6EAB13D67F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A24A47C6-2AC9-4865-AA67-A03F54F22F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83C1FD8F-4899-4773-B0E9-F88D6A0A2D0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D29830C7-6B64-422C-B836-C0CAECB932F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20F88307-ABD2-4E40-84EA-D26EA928092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2DB76B45-78EB-4E2B-98AB-0259459BCC6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9BDCCE7C-7ABA-43E5-9321-31CE7BDD3F6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1818844F-11F2-4D9A-87ED-116402BA78C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734898AE-FF42-4E85-8C2C-68D290DD09B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E4CA3CE9-6C86-400D-AA13-AEAEB424959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F2B5110C-B4F1-448E-8ACE-DA862854957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9D70AA15-A4B5-42F0-A974-ACC38FB45E0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D86B908B-1122-4032-AB86-EE0E86EDB69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F89D6D58-EEB8-4725-9FFF-478B342D2F5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05BFD031-E190-4911-83C2-C1CB8712387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BCA3B001-E463-467F-B32C-48E6A824D1E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4334E3C1-3EE3-4FE8-8546-329B2FB2A239}"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A5AA85A-5661-4636-94A5-B4093AB3518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F26288B-D779-40AF-AEF1-55358074C8F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F61E5D8-0A3E-47A5-9F7C-19FAB2C5EE7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B572DBE-1214-4181-A7A2-E63BF5339B4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6F4D765-323B-4846-A43C-F0C34BED55D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1AB5DFF-3C4A-4769-BD73-04C81E07A2B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D4E4152-8969-42B5-B8D9-8B57AD3C894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2746150-D9E5-4075-897C-EC567CBDDE3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5B3584D-BD77-4741-A8CA-8AEB3D8D5C8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FD66792-CBC6-4FD4-9085-524D5919980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3FCFB8E-1F05-40D8-90C0-E8AD0FD1791F}"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2340B0B8-5396-40D6-960A-4B1B9BF8C441}"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A3C526EF-5EDF-4011-9679-14A2F0F02E1D}"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2B112474-B218-483F-AEB3-2513C4442E41}"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3DAB5411-65B0-4204-8358-43FBC5FE25B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CF4B2EE2-1454-45D7-8800-6F811A2410EB}"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C40BA186-E96B-492D-A222-E8118BE42F71}"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E59E77E4-5A89-430A-A03E-0EECCF83D3BD}"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15B6A60D-5E8C-496A-805A-5DDD0E659C46}"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853018AD-3561-403F-A482-9A997EB3C898}"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4F8ACEE6-BAC9-4220-A60E-37CC47E34EF7}"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AE9856DE-9A8C-4F55-B618-01CA89EA5702}"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3CE83920-24B7-498C-8C1B-C24B94DEE56F}"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44629EA4-4598-4F04-BA07-D88EE98AD4B8}"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D573AAAB-2A41-4C06-BE76-0A4590F3A8B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6388683E-B005-4FAD-93C3-4DC505712493}"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A685B918-9EBD-476D-8E28-60D62FFE61A6}"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75D52007-2040-4599-8E9A-A2B9074DAD97}"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178DFF91-DF4E-4D32-8FC0-A32B59EDD7A8}"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1A91E89D-D5CE-4156-9A80-E789D410E507}"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9E945F94-23F6-4ECC-B7F5-7C7B4B3B3DBF}"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A59590DE-AFF6-4E16-B8C6-AF44420B017E}"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205629DC-7E7C-4077-BD38-532454B15F45}"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64BB8DAA-E0BD-4069-8891-55CEF75DB3A5}"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A57D02BA-3660-4617-B92E-3D1AF131501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3CF53D8B-B5BC-402C-94DB-BBB670AFE0B1}"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B9329DFD-8E13-4D9E-BB33-E4EA4699E5D7}"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FF5A8AC-7914-4EB1-8FE2-697BFFAF567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CE2DA5A-E16C-439A-8D55-1761E5AE9E1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446C5AF-9B5C-4CA9-829C-A87DB25916C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ACECF8E-F8CD-4DEF-A239-9A36BA6BF95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8E356087-0F1E-44F9-B6ED-5B18816808D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3650A65-7766-4C4C-8B12-98219D9BC05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6723504-E82F-42D6-8983-83C12BB327A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6BD1CEE-A5A4-428F-9A43-7E778AF273F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06A5469-E81D-449E-A813-EDB831C5D3E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33403A2B-92F6-4DDC-9244-521DD5557252}"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AB8DF5E7-0FB9-4EC6-AE1F-19BC6EFA1D2A}"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DB359FC0-6A83-44AD-8C54-3D6CBF3CA1A3}"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ADF68C5B-D08F-488F-9FA4-DE3CB50927CC}"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D2CD4D0B-C0E6-49FD-949E-132A6A3BA65E}"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A7099665-3D16-4FEF-BD0A-5B4A2804AD4D}"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E2D2FB0E-F8A1-48A6-906E-D56B8B3A1AE9}"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B17B76AC-8A60-44ED-A9A4-B17B756DDBEC}"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C6C92C5E-FBBB-4456-9271-928EB0D985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26E43455-7A36-4B18-AE4B-9CEABD386E69}"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3F7D28D7-2193-45FE-A003-A51DDEADB3A4}"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4D6DEE4F-D467-40FD-8597-25DC27E00F6E}"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8CB66316-C123-47AA-AB47-43A0258B7260}"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CD641DF2-9E33-41DF-A140-2C3BDFE52E27}"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BF7205DF-50F1-4F83-8770-A92C5B561B7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526B4B9-70D6-40C8-A494-9A141E284C4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0DECDF7-C35E-4DC1-BFBA-2BEB252040F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082B522-79E6-4428-ACD4-9BBE2DC55CD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1FB33D5-DAA4-40DA-92CD-1979473B868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0ACD1A3-9322-4BE4-9245-186224EB06B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C48FE61-6442-4660-A388-34A4BC7E4FF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2164323-1A16-4BFF-BBFE-968FAB3494A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1F3344C-E541-4CF1-829B-35B03ED1595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0DCDCB0-2B94-4393-866F-6E4BCF7238F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2FA25D8C-0706-47BC-B324-AA77B27AA26E}"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9A9B17B6-5BF0-45D2-A2F1-86A5D18ECAB8}"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B4C3D56F-865F-423E-B393-DBCB73C512C5}"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07B23A63-41ED-4C98-9737-A1D2D3D9F5A3}"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5B5DA82C-CEF2-457D-BCDD-EED79492C30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679DA69E-C194-4587-84C4-76A81DF328EB}"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16FBE265-58CA-4F53-9FA1-98A1D20B5152}"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37892BBF-2092-424F-AA22-624BC13CB92B}"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7822DD5D-E735-427F-A153-FE62D8B9C2A5}"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BE39354F-729F-4CB8-BE14-C3785589DE6B}"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1E8CFFD2-708C-458D-97CE-6BCC4F2D9037}"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AE6B534A-B18F-49F8-B4AE-5F17650A7EA3}"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5E831F5E-EFEE-47E8-8AB0-DE5E05EB3304}"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B8616E52-B4BC-470B-8BCA-D6E0E60D77D4}"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3F11DF02-22EC-4DBA-9CD2-7CAF881BCF0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FB1DB4F2-B768-41EC-BB54-97BE97BFD8EF}"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6D7BEA57-EC25-4477-B7BB-F895B67A328E}"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38B1C7DB-AB31-4994-A196-46A9951F4BE3}"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CC2B9421-D277-4CBB-BC3C-3BE546E52BE8}"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1F1C686C-0727-499C-ACE4-260FDD9471CD}"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D8A508E5-FB0A-452D-8AEC-EE7C510D0555}"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ED107EC4-4E37-401D-B920-F5DF745A5FA9}"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D9680A49-FA4D-4547-B192-6935D9319D95}"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0A190BD6-EFBD-4848-8853-28436AA74D73}"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702A3CB9-6267-4BE8-9C8C-538B36F694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9FFAE3A3-3F75-4212-933F-12E104E6C6A3}"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12409EF0-0F23-4A13-9E19-D0FDD643C450}"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47537A58-6FA3-4A55-A04C-E5331E5038B9}"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FEBA12F3-129F-4879-A0E1-738025A63A08}"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EF2903EF-B47E-4E92-BBDD-7A88BCD99D06}"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9594C83F-868C-47F6-9D95-232441DD8BD8}"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5D10C487-CD59-444F-B033-7952A8254127}"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13BF678E-16D3-4832-AF66-B948A933CBCD}"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FB2C8512-E007-429E-B03D-4A8573AAFDD0}"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530BD8B7-4629-48B4-8F6E-FE41DCC28D2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F9CF833E-6185-4E55-9386-448BC1DF987A}"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4FCD9881-3C52-4550-A043-95C69A4B0675}"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D0E81B8B-2342-4792-BC35-D14B2AF0E8B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7BF90C-973D-4474-8B9F-01631ABEED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6DC2E-FFCE-436D-9EA0-A54486038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6E83E-AE2A-45E8-A39B-21D7B366A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22C8C-A22E-4511-A5F0-2F34C6157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79F99-5489-4BC5-979D-F827DE4AD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1A900-DF3A-48C0-8A44-3C421B4CE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59F83-C97A-424A-83E0-F70F08703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EA366-F9BB-44AE-B026-9ED2C1948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217A6-5DB0-43DD-9785-765078A7E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95701-E2F3-488D-8081-E556FF162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ED55AF-C5EC-4A12-890E-792DEA19E0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34EFA2-690C-4A97-936C-50C92FF15D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424B76E-7360-48EC-846A-092E635C63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C6FE1F8-C03A-4BAC-B3E5-14B0B1A7005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AD243ED-07FB-4BC7-88C8-6B7685B763C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7B68BCD-A823-45FE-B1CA-1A5A247DEE6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2BCD2594-1956-42EF-AA4A-9C6280A6BB3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D8E5AB4F-605F-4470-A17A-80958EB93E2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5D6A779-3E9A-42B4-B7FF-4BB7D43E62B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9711F12-2C89-4928-A49F-34C37888838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07F5FB4-7783-4438-85AE-CB0E723183C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EFD5C00-A94C-4F93-A9D7-21655ED42D5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034840EC-5C82-435D-8CEF-A1998ED2FE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75C3C92-E3E7-43FB-8836-1199C32475F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47E6EFA-55E2-4B37-8DFF-8B8B463AC21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A9F01BB-94E7-47AD-A4D6-128665BECD0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A4F86AF-AA00-4FB0-AB8F-5276A98A9CE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3E92DCD-04A3-48BB-8D21-B382D2F44B4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C6AA794D-6D0C-4987-B30E-6FAAAB2966B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5ED11B80-0D90-49D2-B650-F106D4603F9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2A9E754-297E-47B6-8B00-8B58E26578E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0DC4F70-0788-4659-8D69-31CCBBDBC33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61C1B30-59EF-4480-AB57-F178CF3327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5534E9F-4851-4B9C-B001-C6B26399C7C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6D1C989C-C7D8-4401-AF67-A2EDF55133B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67545D99-05EC-4718-BBC9-7AB203C419A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40A51A7-A127-428D-8CFB-4333602115B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735155B-5D9E-4656-8601-3AD8C8B7097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65B9DC2-E9F0-4EC9-9D65-324B371D317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1A0C406-145A-46A4-BBDF-3965BE02992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31997182-2422-480B-A027-1EE2A1242BB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4BB5ECFC-33E1-4E7C-9BC3-485F8D3194F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A93C731-6853-4073-9FE2-F9C2DF9565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E8C7AA0-ABEA-4937-B7F6-64054B033B7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54F0B5A-D443-47A5-94F1-DC95D732B03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676C42D-F45A-496C-A0B3-3BC19A59486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6FECE304-F377-46F1-8678-64A767073F2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4CD2AB9A-755F-4D2B-BA9B-5C39E21BEEF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0B6F2D2-6120-4CF1-A23A-8E6A455B2E2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29166442-16A9-4917-9C7E-D72EEE240F4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3A30AA24-C24F-4D24-81CD-9B346BAE633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EB17614C-41DB-4B2A-82B4-D49ECFA9B23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1665808D-CDC9-49BF-8424-8A22045BBC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B1938AF8-F8A1-4772-8413-9954498B9A5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53957F42-207C-45BB-BD4B-EA8B26684C5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38BF6021-6665-4D4C-AFBC-59F3D361F39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ADE659ED-4B31-4D4B-889C-867CC2E03EC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4152D435-44C6-491F-A924-A7580FBC6B3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11C82E42-D191-448B-B751-0C5943D8F79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F2C995B0-5F11-457A-BAA9-1A3230301AE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D586F414-2763-49B7-AD99-A8F3831CC70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22C5A1CA-6EC2-440C-8AB2-911DF7C40A9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3438E9E7-0E64-46C8-9727-75538D6CBB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CB8092-CC41-4742-9C82-88AC16523B0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567756-7A4B-4623-A959-800F4385BA7A}"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67C3E8-51CC-4458-99C0-D3CDE19249E8}"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4CC304-64D2-4A70-841E-21EA6119E765}"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FC8A84-07AD-4DA3-8C82-B3616350ECA8}"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B99B1F-1ECE-4A30-8A9F-103F7BAF22BA}"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98A585-60D5-4B2A-9854-36FD6E65C191}"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1E3637-57B1-47E8-8E9A-F1D7B5BF8B3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C89C2B-FD78-467E-93CB-E685538F842A}"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F0833F-8916-4B35-811A-D9470A050955}" type="datetime">
              <a:rPr b="0" lang="en-US" sz="1200" spc="-1" strike="noStrike">
                <a:solidFill>
                  <a:srgbClr val="898989"/>
                </a:solidFill>
                <a:latin typeface="Trebuchet MS"/>
              </a:rPr>
              <a:t>07/28/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F21BC5-83DE-4BE2-A795-9B67DF4498DC}"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101436-FD86-4850-A771-556348F070C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02CBC6-C18B-45A7-BF3D-F294BF8BD2BB}"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DDB1AD-A6B8-4E78-8762-19F61EC51AF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7E2061-CB82-4838-9A30-AC173BF0C3DF}"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793AE3-8748-4B32-B6D0-469B7DB251F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6BF170-A4A7-45F7-A3B8-16B00974EDFC}"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6095FF-E84C-4FAF-BD34-368440596EA1}"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676D0F-948D-46C2-B99D-C1934E65E672}"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7CE7FC-D529-4706-A8B6-2C675250427D}"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C47174-7602-4A90-B32B-730D690DCD7E}"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1D82BC-F714-4FB2-94C6-4E19E36F95A3}"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664C15-E26E-4A59-A634-14E72F29D06E}"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485104-A3EB-404B-8394-5E08B1C10069}"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471814-9ED0-410A-9587-FFF9B14283F6}"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AFD5BC-CB2F-4E9B-B60F-CD4E046BBA6D}"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CFC664-02DB-4E3B-881E-10F38E8D6AC6}"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32979E-DC14-49D1-91B8-90166716669B}"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A3CC39-4237-4B8F-8DD4-3BC7BDA36A41}"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392ED3-9708-400C-8AC1-0BAC2E2EC6A3}"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