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A50863-4FC7-4BBD-B676-F0926C2A84D9}" type="datetime">
              <a:rPr b="0" lang="en-US" sz="1200" spc="-1" strike="noStrike">
                <a:solidFill>
                  <a:srgbClr val="000000"/>
                </a:solidFill>
                <a:latin typeface="Trebuchet MS"/>
              </a:rPr>
              <a:t>07/28/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419F96-DDDB-4F24-A93F-A99210B6B6FE}"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BAEA7C-BAD8-4F1C-BCC6-49906AEB44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B0D2A2-704B-41DD-84BA-66CEC249C5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B5DED0-68CA-405A-830D-4D496253A1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460B2C-76CF-4885-BEBF-03B0DD0726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9D2739-7B12-43E8-B5C9-2DC2B3B097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4F6EC9-6E50-4AA8-A65A-180D3AF96C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820662-B863-4E1C-9CBE-6CABDF9CDC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0EC63D-DE3D-4C1D-9E25-9FE4915292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835562EB-CA5B-4350-849F-9FAA2ACB88F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FCC739AD-9971-4751-A80D-91798D24D7A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4CE60D9B-9C3D-428D-BB14-E3C59A1FA50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C8BCC548-BBB6-45CD-AE1B-DD4E0770388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203D2135-2416-49D6-AA7F-37A7E1EF261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98B8E0CD-B37E-42FD-ABCD-C423C887926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465A049B-5D52-48B9-BC28-EEF749B1F83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D5CAABE7-FDE9-4710-BB36-88A6FD8F63C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0A68FC2D-B061-4171-AA4A-9E25886E735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8B4BF79-C85A-4827-8B60-3EA9EDAB96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5DBBC0CA-63FE-4CBF-938F-8E0B3F1D5DD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95111455-F46B-4BBB-9D9E-4B8999D22A4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9D188E1F-48C5-487F-BD12-028ECB03290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C8608143-B588-42A5-AC18-077EE2D4852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337FF29E-7C85-471F-B53F-469BE13EA0A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F6F54CDD-23B2-406E-9290-CE16E8D6071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4B5548E7-A260-4134-A263-28ED9319348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889AE3C6-AB66-4EEC-AC98-1AA4A1A02B9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1804022E-CC14-4262-993B-BD49A6E64AC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21191B38-D48F-453A-B39E-BC61F91C11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D487A1E8-A6C3-4A74-BEE5-94FC7FE8BE6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3787C8E6-1EF9-4179-A4FE-AB820E012BB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83A05F49-4E7C-485E-9A96-DDE6FA78607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2E8F1D52-8271-402B-BAD9-D452B517625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EA8FF9FF-3472-4257-B512-64C2C91A148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BA8CE854-7E70-4213-9DD3-A053D686800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E482BB8F-A649-40B6-A578-F088577AA8F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055FCA84-E937-4867-B961-1F79C467B41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9F271ACC-7472-48A8-A7F7-7559C24FF03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0EFF7BEE-4F01-452D-9382-8DD656C75E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D7DB68A6-7D7D-4543-A698-F9F60F89AF7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413FAA2E-7CDA-44A1-A80C-FF686C1FED9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5141F68C-2600-4478-8F0A-1EDB78AA1C6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100A4C30-CFA0-4179-8A64-F78A9004295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1E11632E-8E9A-4F15-9490-71CECB37FE8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228608CF-4BEC-4AFA-ADCD-3AA2448A67A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BBA38E55-B5F4-4643-9804-45A7C174671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8ED01451-4A98-439C-9F49-448DEF093F0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4CA0E38C-05C5-4FBB-ACEE-BAFA7425B4E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7DE67B8E-641E-43F5-8426-EA12F3F46E3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62DFE518-4B61-415E-B2EC-E2009BBA1B2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FB103479-DC06-450B-9D55-04312D3C90A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AAE15155-7E46-4112-BECC-C27B9AEDC23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586AB9F4-3337-450C-B351-AAFA05592D7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87169DC9-CDA7-4BD2-80D9-AA3A29188DB6}"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13C58D26-B653-44AE-8275-33D47CDAB443}"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CDE2085-DA05-4682-9B43-50E97D464A0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FE0446D-7EDD-419F-8C6A-17582EA4190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6DACFC9-9E7D-4C53-B35C-DD340B09865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F9DA5CF-4FE5-4FE1-947B-6C57649B09F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FBA381F-162B-4899-9D8B-567852A333F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5E9CF25-D0E1-445E-9A07-568F81CD8BC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E46BEFF-98B7-461D-887E-5A32CBC43F3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33F08E3-7CB0-4B25-9AC7-93B57CDF2B9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C0A303D-E53F-4ABB-A58C-62A477EE333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7B0EFC7A-9F43-4281-88CE-1320B553DA6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5DF425F-10BD-4BEE-B1CB-E6840343A871}"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64615637-1B50-44B4-B0AC-19E11CB7C125}"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00D4F2C8-FD40-4A4E-8167-9E4553044D8B}"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90274C1C-1FCA-401A-99DD-AD519D21E3B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F113C929-CB8E-4F24-8B50-E6DFDA065579}"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7C06B1B6-4187-4B3D-B508-A168DC0E7DD5}"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640CF2A4-260C-4A13-9A53-A9051F80713E}"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214425D7-7846-45A0-A70A-B9DB3B30A7C0}"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A242632E-DD50-4957-9718-2E07691AB8A5}"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D980F799-B899-4FCA-AA34-385FF55B84AC}"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AA5C5A92-8D11-4940-B3A6-14B31D18E313}"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03A8DD9F-EFD6-4676-A286-7C5072C47E4B}"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77AE5F74-0D25-4884-8179-49D1D9E9F144}"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F5A4C885-CFDC-47C7-8D2C-BC4CDD46CCB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348CDA95-4207-4FD2-AA34-549A8601EC84}"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4919E864-4B14-4E45-A17D-F14059DF7CDE}"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032D54EE-6493-493B-80AF-10DE7E60E95F}"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12D12F77-5988-447F-B981-893BD4BD9778}"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A29DED40-F997-4737-829B-E938E37FF3F9}"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D9A44D74-AD39-472A-B33E-BBE285688381}"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3E682C48-AFA4-4CAA-B256-1CA03D0948B1}"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42B841DE-8C86-4E46-A39E-7C1CE49DC48C}"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72169141-85F4-4D38-A5C1-4902F39EC2F9}"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4BC3B0CE-BDB1-48E5-8F78-FF455F040BD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883EDF78-016F-46E6-9773-7567C6279D8A}"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D186932C-538E-4AEF-9664-C4AD5BFBD743}"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F10BC80-701E-4F99-88FB-1A2EEBFE56E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7F5290F-ABD4-41FC-9405-F55B4F88490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B86CEE5-0FB6-43E1-A57B-45263C28E01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8986A28-BBB9-44F9-8582-A8CBACD467E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0C7F7E9-1595-485B-9A56-7C82E8347CA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CB35141-1A7B-4C92-805A-5BD3FDDCF9F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0E62BCA-B0A3-4183-AE35-31A3C7F37D7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47DCE34-13E6-48FD-9A1B-2F028F1C8AE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B89DECA-45DE-4E33-A762-0EB0702BA4A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1DE8FBCF-7DBE-4C40-9FB3-F2F60BB22CEF}"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53EA5E83-98CF-432C-91D0-54669C85FD15}"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353F0D25-1F4D-4DA6-8885-37D4A1A1F2B4}"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A0E52FEE-27E5-4812-8940-3E74D7311600}"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CE549578-4B35-4331-9AD6-859582AC0DE1}"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6B2CC57E-DAFA-4A4A-A39A-CE1172C9EBAF}"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C51EA4CF-F06F-49D8-91BB-49BFAE7A0DEC}"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4598B9F9-4AF9-4B7F-B5A0-B2C0FF1F0C71}"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F5BDB8A2-F4F7-4E79-A4FD-AFA39EE361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A1D05FFD-0B66-4D8A-936D-10F918BB87AE}"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626F38A1-BCD6-4BDF-AA45-40A68975DAA8}"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7605E309-0C4C-49D3-A3B0-47E32BFF786D}"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2097B2F8-0908-43C2-B7EE-ECB43FA25D93}"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8174BDCD-5377-4B18-A7BC-7AF537D6FAC6}"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8174D2A3-3606-47B3-B39F-5F32B90A9D5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C41DB3C-9905-4ED5-81BE-AB75E119B09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74C820F-175B-41FB-A336-A3C956B4CE7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9FF677F-B717-42B7-BE57-B3D3B8F9649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C09093F-8958-4919-8FAE-444E61AC30D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A22FA4A-D2C9-4486-B93A-594FB30DE3A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DD1603A-EA38-46E0-81F8-F08A7125113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206F5D8-2D46-45C4-849F-A8DB4080165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70B15D8-B6E7-4F9A-961B-A1A241A2232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E7E9A14-2A83-4AEB-8E9C-183F8F2059B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DC4C3EF2-12D4-4020-880C-708486C0B48E}"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985C5145-6592-4DB6-85D9-9434853F2E22}"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E54673E0-9051-46C4-844B-CE6803F42FFC}"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7F754082-BE79-4AE8-8C4C-C9F982AB3B82}"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09F814DB-5710-4116-B68A-8D1116CF590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9E0F3D80-7EFA-4067-B552-374D4651647C}"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15DB14C2-9911-499E-A719-E9D23A879E6E}"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513A132F-E811-44D2-82EC-2DA03BA496D8}"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9DE69B89-C530-4E33-953C-F753F234D299}"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3825F7C3-A445-4186-BB9E-990725F00075}"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604B8780-2B7A-40F3-8834-8E53D938F42A}"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27A99F57-E552-4F6D-97BD-65C373209F74}"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0B0F3EB4-B170-4990-B28F-3037FDBACD0A}"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008A0B34-0C41-4E3E-A5AA-64B59ABB4711}"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B92D3A6A-0DD3-434B-B7B9-AEFF8A95C20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2E7A5BBE-99DD-44C3-95DB-AA03F1B74212}"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77F8CB9B-90A5-4C9F-8D33-1E0A60E45CEC}"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A38F51EB-A5B0-4887-AEB8-925A03E8CDF0}"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9DD8C4F2-2CD2-4391-8368-2A903BE7A1A1}"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69D479F1-5599-4088-B24B-00FE3C8C6565}"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988B443F-A1EE-40B6-AB7C-85E33AD446B8}"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92450562-B27D-4CE1-A9BC-F0CE4CF5C8C3}"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7430F0AC-01CF-466B-86BB-7BBB6B459452}"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CBA3889A-62FF-47AC-A6D7-4CB43B10D690}"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8E910EA9-F06A-40B1-8CCE-62D48C6174A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84E09635-E4E3-473F-B789-B387D2963E12}"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A0F569FA-B6CD-41FB-B289-1C0D9908F097}"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B9B18B90-8688-4289-BE1B-C20EA6FF3935}"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29E41D22-F087-4722-9BD0-201B894B6B77}"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0B9E8CCA-10F1-40C9-983B-CC05F3C1CBCC}"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8654D394-5A38-4660-B1F9-8CC16004F182}"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69A4741A-3F2D-4E40-9671-E73562A3012A}"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0F117AD0-17FE-427E-8332-B18D26AF1484}"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54CFB24E-ED74-4751-8E01-A0658EC247D1}"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66EE828B-3A62-4541-ABA8-62352808BB0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0096D690-6CEC-417A-A871-C477A60CBB18}"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B6C4A326-471F-429B-8AFF-B15C379113F4}"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F9F4D778-6E03-4D03-96DC-9677ED35132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EC33A6-A0F8-4DAC-AFE2-4419E9B68A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1E478-5748-48CB-A22D-707022D53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9D809-DCB4-4D05-AF4C-4A918C894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4816A-6EBC-4D3C-981E-5E5E4F439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17D05-D2AE-427E-8237-BD432A954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02C12-AC86-418D-8E2F-55D083F80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238B6-DC43-4B8D-8A13-7D764297E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BD239-B5AA-4407-88FF-839960F73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AC56E-1C6C-490D-8EFF-A85164D62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A3DD0-7B11-401A-8ECF-6C25EFFAD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876F3D-77B9-4D79-98A2-1E0C792147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CCC3AB-FEE8-4318-909A-5940682B28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EED375-96E5-4122-B536-E29C74F1FE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221951F-DECF-43C0-9A3A-E2B85880E1E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BDF7BA7-BDFB-476F-816E-F4AFFECB737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F48DC77-1F92-43BD-8ED0-C7EB3A26A36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8D54436B-081D-4DEC-9104-A30212D2C9F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BFAD012-9224-49D7-B71C-A4A8E5DEA12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A50A31E-A3CF-4245-9FCD-D9BDCF31C77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CAEAB36-3773-45F8-8EEE-69BC98671E9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B0F5832-93F4-4ABE-92EE-5E1012253D8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983F669-D933-401B-B4BD-BE356FF947A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B92C415C-693F-42BF-9472-9394F2E2EE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14EB3985-B9D8-404D-AD28-6E806F2C1A2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BDEDBF3-F165-41C6-B2BE-15B455E06F9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BB3252F-41C9-460C-BC2B-C0B1D68BE11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56F8BAD-4206-4C87-A8DE-E0BB5C1087E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AE88F2B-3EBC-4891-AD6F-5D4DF9AEA65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F312056B-A376-4532-8DB9-CEA7F7A1050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E2D71485-D12D-405A-9EA4-4CD6623215E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DE0ACB6-76DE-4555-A375-DA57E750EB0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FAB4E20-B31D-4CD0-A4FB-96B046E7894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0B5EBDE-19E6-4299-AFFD-3F0E4578E2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D3B7B0E-FA10-460A-9C43-79D2F6F16D1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A3DBEAD2-72EA-4839-9624-2AF704BBDEE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F5678F6D-4C28-4DE6-A476-340FECDF4A7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CA06342-0652-4405-A1BD-4F066B7C866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A8551B8-BE23-4501-B66B-992F959E252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EC86182-2B62-4C08-B260-7FAE56B23DB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D388777-008A-4362-9CEF-55438FE629A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4C80C746-E047-418A-90FD-C22F5248D15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C947AC70-0BD3-4C25-9F1A-7DDECDB9237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D93F5BC-E175-4144-BBDE-687DD6CB81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48B4286-017C-4BAD-827C-1ADA8172DE0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14A020C-4846-4D69-A668-5DA3BF144C8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78A2FC5-4431-4124-9BCA-ECA42E31715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E9051A31-E17D-4C04-8803-E3680A6844B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01EE04B5-E1ED-4967-AF94-0DA61A8A868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F7CC099-C7FD-4A32-8956-13375135D3C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3D3B838B-F8CC-4928-90C3-04071C3AA39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D0C029CD-0CD9-49BA-B756-2A81DC4EAF8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84D89604-0FB9-45FB-ACF6-C48D244CA12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FAFBFF64-4CDF-457E-9863-84F1AE34D7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B19B84A3-64C9-4384-8266-49478A2FB1E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19968A85-F38D-4DC5-98CF-569548C374F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8F4183F6-7906-4143-B278-AC440DB3BF5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A3DE0CD3-7104-4D85-B8AD-64BDB953990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2116F9EE-4108-48EA-95AD-38A42CF6051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759873B2-6977-403B-A7F7-1203D38B64A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5B286B56-4459-4B2A-94C9-AC89C932A8A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D5968821-C387-4F42-8B7F-765CBB7E9CA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15D058AA-A077-4E64-86BF-07BE32651B5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D6BACD16-1515-46CC-9E93-55F20D9F6C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8C5527-EA29-4195-A7C2-F5F6BA9E134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919648-E482-4EAE-807B-3A06977593C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1BB33A-4270-44C0-8A71-683CA057BD2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C9BBC5-1028-4513-A22C-27BA9FA7D09F}"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B6C0E5-E3AF-4257-AC88-C430D4428096}"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9BDB36-6899-4FC0-AE63-3DA66499791E}"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7C6CFE-397F-4D0E-B07E-0C50BEBCDA3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7D10D1-9F06-44D8-B0D6-C5D239665D8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38D3EA-EF97-4382-8BCE-E93DE66A2233}"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F9687E-F453-4DD6-AA0F-D10688B403E9}" type="datetime">
              <a:rPr b="0" lang="en-US" sz="1200" spc="-1" strike="noStrike">
                <a:solidFill>
                  <a:srgbClr val="898989"/>
                </a:solidFill>
                <a:latin typeface="Trebuchet MS"/>
              </a:rPr>
              <a:t>07/28/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271B2B-9EB8-474C-A632-A9CDC6EBE56F}"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09727B-617F-4651-A03B-38785AB6E2B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7D6ABB-6E51-4451-ACC9-4B6DB7E2A15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7A7FFE-D9EE-4663-9492-E6ABD0480E0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C13944-E550-4345-AB96-9C8EBDEB7AA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F282A7-AD63-4FFA-802A-02E5A952C72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1A22E8-5708-456C-A480-28743A6DBCC5}"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464A3B-DF57-47F4-A1D9-32F0E6FC752B}"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8087F2-E0A8-41D8-9502-1D6B80BB2384}"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E8759F-C121-412A-A9AF-A1F5D4823584}"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55F3EC-6DE8-417E-B318-E0E514720C57}"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77A7DD-612E-45FA-87D0-E478CE720736}"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6B7C17-1A4E-4141-863D-8CD85630251D}"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7887EF-FD7E-4883-B1D6-D4D8D29D4575}"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AED8AD-ABB9-4B2E-B862-B6E7A809344D}"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F8BE08-5E76-4773-BD4F-40291E9619B1}"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2C4AEF-3DE4-4415-B4B5-50632CEDFAAF}"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F811CE-E5D6-426D-8F7E-772BF82C5175}"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47C76F-B230-42D5-8CE6-04D3121DF5AC}"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6BB6EC-E32B-436B-85EA-B80DE9CAD062}"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