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8DAEEA8-9D6C-4869-8026-A9D422AB6A64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A91F85F-E31A-4F87-9824-B9941CCA656A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35201C1-DD12-4801-98BB-6594F96B6CBC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DE8F09A-8CFB-425D-9C7D-84D4B98D2F58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9D4E228-DBAC-4C7F-BDCB-08ACF5B886B7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2BF288F-6381-438E-8231-2B395A3E6DDE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AFD11BC-E6CC-412B-BFB9-568A0481AC1A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F8E7DE2-CA61-49DB-B258-81796EE007DC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D92D661-E261-4651-9B67-C54082A1532A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9F45AEF-001B-406A-86C0-7F081486B2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6694482-B92F-4672-A8B9-7983BCAAE56E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59355BE-54B0-4A2E-8C0C-4B752A673883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5931A37-2275-44A4-8465-B779E27ED51F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9D247CF-A17D-4659-8A75-95DAD7EDED20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8900A06-A47D-4D83-B647-57589A9DA7CA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65C6FD-7D5C-47F8-9301-E462C76EE600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0061CBF-20E3-44DB-8FED-7803E986C3CD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D9BADEF-DB54-4A8E-BCF4-CFA9FDAFDCAB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71A6FC8-12B3-4D95-AC9E-8918E4A009C6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CCAD086-2E48-48CA-B4F1-EE124809E9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1B57EBA-17A5-41BA-90F3-6CAA7B480A9C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D7FFB2-93A7-4958-987E-FF31797E503D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93F0F2-A01B-4E07-97FB-15A5936171AD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D7EB4F-F302-421A-A9FD-F5AD76397FE3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1F3F12-287D-428D-BA42-1F05A78E4750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91D29D-0F97-40A1-B374-3C3E4E4CDCB9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75DB09-C91F-4BE6-8686-DA77F3C21458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C106DF-67BA-4E26-8B35-2502C83D37BA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2D19FF-A144-4407-853E-3EA4B1D940D0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A8D887-4FE9-46B5-A2CD-2F3FB54CDE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81B196-AB2B-4F99-9B67-DF847DDB6864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39C390-AB37-4A72-8E09-6AC676BF239F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6D22E0-CDD7-4420-9161-FCC8396CA67E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A7122A0-63D1-4F6E-BA7E-05C676AFD842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34AAC41-EF61-4EE4-AE40-A062077A1630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885596E-F152-4743-8033-AD19BDDC3A7C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677A7B6-E97A-4127-97C9-FA9B2EEABBCE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BF795DE-3D8E-49E7-B8EF-794ED1E5E7AC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E70BCA4-6B10-406A-9092-08A559A9C791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E93A066-DC12-4005-B2EE-4AEC228BE0E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BC2A046-CD57-42BD-9E99-96EF9168BBC5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075A4C1-4F34-4823-AD12-BD7FC015E525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35E1E50-EB18-4090-B3A1-95395415509F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1335D84-1CF0-4A28-8459-4E81C72E9F2D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74B2FEA-76E4-4C28-8C8B-394EF3ED4070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5F5DA44-DECE-404C-ACDF-FE8448721B10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33387CE-86D6-4582-9BE2-3BA2E5A5025E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1AD7DA4-6976-4793-B03D-5E8AFC960B1A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A5926BC-B503-4189-AF6E-78DD788048CA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E7A17B0-77E9-4716-80DA-F8AED24531C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187F179-4F76-4FA4-AC77-7470F84DFD6E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1A3D259-0342-4C19-A4E9-020652872576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5B895ED-0FB1-43E3-8768-4F5DF1A6C75E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3C52CA0-923F-4192-B0E4-34028DC8C633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410CD8D-B3AC-4FB1-9CC4-32EBF62CC932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CA4D1A5-CCAD-4B4B-81F3-433B2D3C6AB3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50CE740-CD6F-4C47-8CE9-C2B13F34CA94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6384B0-9F00-41E7-BBE6-CC9DD203FBF0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8C90F7-4275-4C19-978C-3E12A503DF46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063BDA-0660-40C1-A3C9-C40EB0DC940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5D940F-0CB0-420C-A854-40311EC580A2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1BEB8D-33A1-4D46-936E-9114F300B81A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3AB392-2F53-4DC5-B014-F3F7EB934E8D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AB09AB-F056-453D-BFB2-31593AC13B6A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4ED40C-C11F-41C0-9A94-99CC1874A9CB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6093FB-15EB-4889-B54E-16EDF107D45C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B2850C-8A04-4C9A-BCDC-891DC03A8AB6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816E83-6DC3-4517-888C-AB24BF1B7D34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FC910A-28C1-46F2-BA48-0B892465B729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70E5F28-1702-45B6-B631-F59A9F11A67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69EB6A8-C29C-4555-ACB9-1F1767962F99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FCF7ED5-A6E2-43E2-97C7-BA179279E7F0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E74B90A-958F-4434-A639-DE73E205ED65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1D05AFB-F552-4804-9C4F-88297D84B2C6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0933535-85DA-4C8D-AA8F-7B704D080D85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F33AB9B-596C-4D3B-AA7D-2DF216161737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6F1FAE7-4164-465A-B7E1-E9D4C0DD6B17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CCB0376-F32D-46EE-B0CB-E189DE9A3CA2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E1A57FB-E517-4A5F-8EFC-BEFF974968D5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D600196-22DA-4444-AFF9-5047BB8FAAD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F7B937D-A407-46A1-9A2D-C94774FF223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29702-9595-460F-85E1-C8750E69A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007F7-8D1A-48D6-9CF2-710421B9B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F0E1F-595C-4AB6-9377-3A669AE63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B7225-82E5-47A2-B194-64EEED76B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26F67-8F25-474E-9EA9-79006768A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0F812-FA20-469E-972C-1E4C222AB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7304A-85A9-4D16-B6CC-B4AB49185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B9398-7C55-4A51-A080-1BE253F6E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C471F-D756-4C26-810E-CC388F372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0CB1E-8E46-4ABB-94AE-DF8C9131D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3A4DD-DB43-4E4B-AA23-930A4D033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8C42E-58E8-4C0B-AED0-450C1CAE6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ED8F0F-BC01-49E8-8FD5-CA884C875A55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CC4396-59E3-4118-BFA6-E835E9452D3E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09B9A0-96F7-4F9D-BD32-762DB173627A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460026-E46D-4FE2-AE34-01F13522E036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D48EAC-7224-4B6A-8E48-9492000515A5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6C04F7-8738-47B8-9E03-8A204D495B30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0BA3A2-98E3-4628-9D99-C733A4E926F1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A5F1AD-6689-4EDB-9FC3-954A8DC7F156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1075AC-A18F-48AF-B263-D0BE1BAD4D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84E541-C5EA-4CDB-934E-A2C788695B47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F7FED2-0168-402D-A1F7-A596CA70649B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3EF793-8803-4DE0-92C7-900EDE019AC5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55C91D-7B6A-4CAC-A412-28832758A29A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892D8A-5F5C-48B6-9C24-4EC631746F89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CA2A3A-48E9-4C6D-AF51-FBBAF739860F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4A5DD5-AFDA-4C03-A856-0DB81BDEBB0F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26B7E8-1AF4-41AD-91C3-EC1A92CB7021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EC5185-2DE2-421A-84C6-67EA8F192BF8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E7BA7D-5B37-46DA-9853-11E2C5EF2A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857FAA-A24F-4AD5-9F7F-586240E947DA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59459E-630B-4E65-9142-E1A435270406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9D7277-5FD7-4DBE-A709-57257BAF7F30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C8529A-B462-43CD-98EE-20CB3383A6F7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52EF1A-5D15-4611-8BF3-5911D8177970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1E52EE7-F1BC-48D4-876E-D44A1EC077A9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D85B3B8-E2AE-4CC1-B863-21A4D368B0F0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A44A913-1702-4A02-84A8-033FDD601D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" descr=""/>
          <p:cNvPicPr/>
          <p:nvPr/>
        </p:nvPicPr>
        <p:blipFill>
          <a:blip r:embed="rId2"/>
          <a:stretch/>
        </p:blipFill>
        <p:spPr>
          <a:xfrm>
            <a:off x="-31680" y="-31680"/>
            <a:ext cx="9207360" cy="6921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351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Num" idx="8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00857D-B0FC-43E2-8463-0E686276F346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392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Num" idx="9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84160ED-14A5-4783-A19F-D960E5A351F9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433" name="PlaceHolder 1"/>
          <p:cNvSpPr>
            <a:spLocks noGrp="1"/>
          </p:cNvSpPr>
          <p:nvPr>
            <p:ph type="sldNum" idx="10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0CA59CF-A6DB-4D5F-AD35-BA1C29320E5D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0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473" name="TextBox 4"/>
          <p:cNvSpPr/>
          <p:nvPr/>
        </p:nvSpPr>
        <p:spPr>
          <a:xfrm>
            <a:off x="3048120" y="4495680"/>
            <a:ext cx="553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Keep body copy short. Avoid reading the text to your aud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Box 5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Num" idx="11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91D752E-64DB-4A14-AC3C-3D4259FBAF6A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2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513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514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515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Num" idx="12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1E04C54-E4B4-4670-A30C-8B468A2A8D98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3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3" descr="41-Singapore-logo-140x288.png"/>
          <p:cNvPicPr/>
          <p:nvPr/>
        </p:nvPicPr>
        <p:blipFill>
          <a:blip r:embed="rId3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555" name="PlaceHolder 1"/>
          <p:cNvSpPr>
            <a:spLocks noGrp="1"/>
          </p:cNvSpPr>
          <p:nvPr>
            <p:ph type="sldNum" idx="13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D87A700-2640-4399-AB8B-EDB86474B94F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3" descr="41-Singapore-logo-140x288.png"/>
          <p:cNvPicPr/>
          <p:nvPr/>
        </p:nvPicPr>
        <p:blipFill>
          <a:blip r:embed="rId3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459EB4-4D31-4AA5-8370-3A4770A4B0E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EAB6EEB-BF5C-49BE-A900-5399D81E8D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93" name="PlaceHolder 1"/>
          <p:cNvSpPr>
            <a:spLocks noGrp="1"/>
          </p:cNvSpPr>
          <p:nvPr>
            <p:ph type="sldNum" idx="4"/>
          </p:nvPr>
        </p:nvSpPr>
        <p:spPr>
          <a:xfrm>
            <a:off x="69004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2E6D02-C6AF-4D7F-9CE6-82B571A77D77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sldNum" idx="5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4056CB-3792-431C-9784-32C5D1F61119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271" name="PlaceHolder 1"/>
          <p:cNvSpPr>
            <a:spLocks noGrp="1"/>
          </p:cNvSpPr>
          <p:nvPr>
            <p:ph type="dt" idx="6"/>
          </p:nvPr>
        </p:nvSpPr>
        <p:spPr>
          <a:xfrm>
            <a:off x="2743200" y="6356520"/>
            <a:ext cx="3657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ctober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311" name="PlaceHolder 1"/>
          <p:cNvSpPr>
            <a:spLocks noGrp="1"/>
          </p:cNvSpPr>
          <p:nvPr>
            <p:ph type="sldNum" idx="7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5760D38-729E-403B-955F-FA1ECA9B01B6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Security &amp; Stability Advisory Committe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 type="subTitle"/>
          </p:nvPr>
        </p:nvSpPr>
        <p:spPr>
          <a:xfrm>
            <a:off x="1371600" y="3352680"/>
            <a:ext cx="64008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libri"/>
              </a:rPr>
              <a:t>Jim Galv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libri"/>
              </a:rPr>
              <a:t>Vice-Chai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7f7f7f"/>
                </a:solidFill>
                <a:latin typeface="Calibri"/>
              </a:rPr>
              <a:t>Introduction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95" name=""/>
          <p:cNvSpPr txBox="1"/>
          <p:nvPr/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urity an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abilit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visor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mmittee (SSAC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med in 2001-2002, currently 36 memb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vides guidance to ICANN Board, SO’s and AC’s, staff and general commun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uidance areas are related to ICANN’s missions DNS, addressing, IDN, registration services, WHOIS, etc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C547A0A-5610-4A99-910B-7F00EF3A5B95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731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7f7f7f"/>
                </a:solidFill>
                <a:latin typeface="Trebuchet MS"/>
                <a:ea typeface="Trebuchet MS"/>
              </a:rPr>
              <a:t>Main Points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98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8B2C55-00D4-4BA1-B16F-E55564FBCFCD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761760" y="1314360"/>
            <a:ext cx="7543800" cy="523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 SAC051  - SSAC's recent publication on WHOIS structure and terminology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 Internationaliz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. Registration Data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. IETF Restful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6T19:03:27Z</dcterms:created>
  <dc:creator>Julie Hedlund</dc:creator>
  <dc:description/>
  <dc:language>en-US</dc:language>
  <cp:lastModifiedBy>HU</cp:lastModifiedBy>
  <dcterms:modified xsi:type="dcterms:W3CDTF">2012-01-30T20:22:34Z</dcterms:modified>
  <cp:revision>24</cp:revision>
  <dc:subject/>
  <dc:title>Presentation Title</dc:title>
</cp:coreProperties>
</file>