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5F1A267-7C94-46B4-94E2-F0C85C9B1AE0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C667018-38CA-4121-85BD-0DA47B2E29AE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8BF7574-8535-410E-883B-EBD6D74AC4A7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3CBACC2-99FC-4743-999D-2A8D7CC5B770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D2EEC7A-650E-45D0-A970-30891987D079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726E027-02F8-44EA-B89D-F330AB448898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98E2522-6F2F-4E5D-9346-AA9B18E41E0B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39238B6-9EAB-47CB-AF1E-E850FAAFC92E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EAFF938-F880-41BF-811B-2B6627F6E748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454460A-FCBA-47E8-B397-3E2E197845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200340-F482-43DE-9E22-1125D62BBC4C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6008C72-A2D7-4FB7-B04A-568435FD5D15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F149B7A-6739-4706-8FA4-5D94F6DE2EF0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4F8BB98-38B0-48DF-A88B-720378F5A4D9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ACBA712-6ABA-4275-ABFF-F9AFDD1C1DB3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C201073-902E-47CF-A52E-5143081F6DAE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6BC4E31-D76C-4184-8B2A-D4F198A73A53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9F95EF1-7BF0-4EB0-B08F-C8A9B1C15296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E132AD3-A924-461A-8040-2A21C762AD91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EB719E-49C6-4F64-928F-5E321B1802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8B06954-21BD-4654-92D5-27A3E266559B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A1A344-718E-4E8B-B8C5-B90B0100964E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B6541B-FDEB-4E02-881D-D05E67EB7797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2AA992-C05B-479A-845C-0C67EC992DF4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043BCA-905D-4BE5-8ABE-EE5F24EAF430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8CFB91-8CF9-43BB-BAC7-36F33E904862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0C1D50-A807-425E-B209-B7E0CD4D719B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B32C8D-EAA2-47B6-9CCE-08A11BF2DF97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C7DD9C-C981-4D71-AE88-3A60F3EA726F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246CCC-1536-4B7B-88DE-B3F4FAFBCC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ED4A40-4929-4258-83EB-2A592ACF63F2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55828F-45B6-4B52-A0D9-478106A17378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C768E2-4F38-4285-BF82-5898531531FB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F8F86E6-5C9B-41A8-ADD0-8DDA635A3613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4B20A7D-021A-4E17-906F-660C7F6B46C8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974681E-C7BD-4B2F-B65A-F29DA1D83709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E2C3CF7-515C-492E-A214-68C89475C74A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B38B1F7-4611-4EE1-895D-F2DE56B8A964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50CFA43-932C-4FDF-9AD3-1E86EBF60BD9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8168590-A6C2-4729-AF27-482CAA762FB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41B434D-6363-43DD-A58F-4E043403E3CE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9FB6773-5FBD-473D-A9DF-CC7F14DAE848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C7AD99C-E45C-4831-B270-1ED9E7C284B2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5D1247B-9AD1-43D9-B607-C0F2AB2CCA4A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0703FF6-EA5B-46D6-AF5A-D76DDC1DBCE2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D379D20-37E6-4AC4-A8BD-1F23B9F1D13B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EA40AB3-3342-4248-88C8-CDF32D347645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BC3D5D4-F3B5-4E17-B27A-0414DDC582FB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53CDCF0-56CA-4F58-A51E-D5E282BAB223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3B3775C-5B01-4718-A4D8-A63E0F45C1E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231CADC-5F36-483A-911A-81269383BA84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44680BF-F472-4351-BC22-C519793D34A5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F1FAE36-18B8-4C38-8FB5-061AD65F51F7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BD1FC38-1320-462B-A6A4-7B932D8C5429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C4DDC47-312B-4F93-B4DC-9EC58E6ADC82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423F865-69B5-4EC6-AD7F-1E1D814597D4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F5D03F5-D6BB-4C16-A3F3-8D98EE893871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445642-31D6-400F-B26D-8C17188DEBDB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C8ED71-6C07-45D6-9D40-E3304FB175E0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D7D266-0AF2-41DF-A579-4EFF25F8BA4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68C152-4961-4A02-9240-F057872CC43B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0A0C24-5B19-4232-8253-39E1C17E660D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9CE05A-2CC9-42DD-A7D3-9D2B2D20FCC6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40B7D7-D78C-4DA2-8DBD-F585D6C36282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EC2DCB-AD58-41B3-A1EE-EA5E925400F9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A9503A-F490-4E3D-9DF9-97AE095CB91B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63DF16-1B75-47CB-8F0A-9881CFAD19C4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13C1E5-8F2A-40DA-8133-C4140E4E79A9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3AD232-E81C-495B-BDFD-4FDAEA77D49B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ED08933-8BB6-4DAB-8FBB-7D11CF03F74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55127A6-50B0-4EBD-9AAB-EAC35C77A6EA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AC65DE5-5353-4F84-B2F7-1A4B1A673278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5110D3B-87E8-446F-B03E-4BD431BE0116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B3D1D23-A3C9-4E26-A2BD-3A8FD68CAA1E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66D4B81-9785-4765-94F6-98CC0EFDB02B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3FDAD69-DE4C-4502-8E64-467465ECFC7C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E335D65-5A83-4863-A8C1-45EDB1B09ABD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79FAF70-0743-4DDB-9D77-2F20D7508DAE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9F35709-99BD-4F50-BB05-4A2578FA65EC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9625554-7697-48E9-88F4-4E409A08773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901632F-E298-40FA-9D32-BE9E95E7696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8800A-E890-434F-9467-A598F26BD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E951A-194A-4649-875F-2A85C1A68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8BEE7-1B42-457D-A0EC-FEDB16AC8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08521-A2EF-4A2B-8C0A-D9B81D594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D76F4-8040-4B56-BEA6-B5B53BD29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F6192-8307-4B91-A3F0-814FB638F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9F386-633F-4AB0-9EFB-14C2D9F67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D85BB-41B8-44D4-B7F4-B2D3F5636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8E283-8B49-4E23-BF86-883117C84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D7D9C-2626-4FDA-9E44-6BDC5DE25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0A6D2-D2BB-4873-960E-9BF150908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9C763-3309-475E-81EE-D1D769CF4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3B3201-5690-44F0-B6FF-DA8FFCED40A1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B1B077-8731-4D95-9E06-D8F0BC649419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9DB605-A696-497D-B5CB-F3B93719C510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56DAC1-7C83-4727-8A5F-2A596359E321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F114AE-C7B5-4260-A83E-4FCC1AC0A96A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8B51A3-1EBF-47E7-8682-DDBDECCB42FC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FC0156-69BB-4B34-BAAD-E4F64727E86B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F74FD4-9983-47F9-837B-AF03CA4F16C3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4A1554-22A9-41FE-AF00-62B05B943E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4668AB-8DD3-4A0D-AC0B-603790E7FA7E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7548B8-D9DD-476F-9FDF-4F4607BB2DD4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BF7A80-E847-42BC-AF45-CD147BAD2A5C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AD6141-566C-498F-B847-DDE88837E616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DFF619-989C-4BCF-834D-A99ACC504A3A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77A3E5-60D8-442B-9C0C-80D26370D877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21AC89-6D7C-4EBC-9B79-FCB6239F0B7B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9CFBC9-D3FB-4C6D-89F8-68F37F445E55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DDE98A-8A65-4BA0-9744-37FF6C78ED95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EA7C0E-B958-4EC5-BF0E-6EC0263932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94346F-E905-4DC7-A0F7-E24CCEA612D6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415CC8-7E4A-40B9-B1C6-92BC99A2C197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98ABF8-81E0-4122-8FA2-B040E117FE90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0DD2E2-DF03-478C-B1C4-C3DB4355320D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82FB7C-6590-45C2-A0FC-2992D9B70AB5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5A96DF1-E9E2-4F1B-BEB0-A3B02043FAD1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F417DBD-448B-4B25-BD6D-4AB93885809E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14D08A8-1DE9-4951-8639-8AB10EDEC4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" descr=""/>
          <p:cNvPicPr/>
          <p:nvPr/>
        </p:nvPicPr>
        <p:blipFill>
          <a:blip r:embed="rId2"/>
          <a:stretch/>
        </p:blipFill>
        <p:spPr>
          <a:xfrm>
            <a:off x="-31680" y="-31680"/>
            <a:ext cx="9207360" cy="6921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351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Num" idx="8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345AAEF-E187-4A38-BF2C-458FB065707C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392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Num" idx="9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CD1BD7F-C6C3-479F-9006-6D95B56F17C7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433" name="PlaceHolder 1"/>
          <p:cNvSpPr>
            <a:spLocks noGrp="1"/>
          </p:cNvSpPr>
          <p:nvPr>
            <p:ph type="sldNum" idx="10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5AD6FC6-FBD0-4F31-A518-D4CD37C87425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0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473" name="TextBox 4"/>
          <p:cNvSpPr/>
          <p:nvPr/>
        </p:nvSpPr>
        <p:spPr>
          <a:xfrm>
            <a:off x="3048120" y="4495680"/>
            <a:ext cx="553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Keep body copy short. Avoid reading the text to your aud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Box 5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Num" idx="11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4E0C54F-0DAA-4F22-84D4-7BE9083DB173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2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513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514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515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Num" idx="12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8373DC-799C-4501-A73E-40366DFAE671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3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3" descr="41-Singapore-logo-140x288.png"/>
          <p:cNvPicPr/>
          <p:nvPr/>
        </p:nvPicPr>
        <p:blipFill>
          <a:blip r:embed="rId3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555" name="PlaceHolder 1"/>
          <p:cNvSpPr>
            <a:spLocks noGrp="1"/>
          </p:cNvSpPr>
          <p:nvPr>
            <p:ph type="sldNum" idx="13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23B152B-3669-4816-AFAB-87A9C23BFA92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3" descr="41-Singapore-logo-140x288.png"/>
          <p:cNvPicPr/>
          <p:nvPr/>
        </p:nvPicPr>
        <p:blipFill>
          <a:blip r:embed="rId3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AE91BA-1D7B-48CF-AE77-229A33B9468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E56DAB6-7C36-425C-AC70-61F8A57D5D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93" name="PlaceHolder 1"/>
          <p:cNvSpPr>
            <a:spLocks noGrp="1"/>
          </p:cNvSpPr>
          <p:nvPr>
            <p:ph type="sldNum" idx="4"/>
          </p:nvPr>
        </p:nvSpPr>
        <p:spPr>
          <a:xfrm>
            <a:off x="69004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BD2ED2E-15D4-4F08-A554-057A81D64BBC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sldNum" idx="5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B71E199-4959-4014-976A-4B2AE9D32A50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271" name="PlaceHolder 1"/>
          <p:cNvSpPr>
            <a:spLocks noGrp="1"/>
          </p:cNvSpPr>
          <p:nvPr>
            <p:ph type="dt" idx="6"/>
          </p:nvPr>
        </p:nvSpPr>
        <p:spPr>
          <a:xfrm>
            <a:off x="2743200" y="6356520"/>
            <a:ext cx="3657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ctober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311" name="PlaceHolder 1"/>
          <p:cNvSpPr>
            <a:spLocks noGrp="1"/>
          </p:cNvSpPr>
          <p:nvPr>
            <p:ph type="sldNum" idx="7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94F6C89-C67E-4301-ABBA-89763E34CF8C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Security &amp; Stability Advisory Committe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 type="subTitle"/>
          </p:nvPr>
        </p:nvSpPr>
        <p:spPr>
          <a:xfrm>
            <a:off x="1371600" y="3352680"/>
            <a:ext cx="64008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libri"/>
              </a:rPr>
              <a:t>Jim Galv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libri"/>
              </a:rPr>
              <a:t>Vice-Chai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7f7f7f"/>
                </a:solidFill>
                <a:latin typeface="Calibri"/>
              </a:rPr>
              <a:t>Introduction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95" name=""/>
          <p:cNvSpPr txBox="1"/>
          <p:nvPr/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urity an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abilit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visor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mmittee (SSAC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med in 2001-2002, currently 36 memb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vides guidance to ICANN Board, SO’s and AC’s, staff and general commun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uidance areas are related to ICANN’s missions DNS, addressing, IDN, registration services, WHOIS, etc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64D909-6FA7-497C-87D4-AAB4277D9361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731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7f7f7f"/>
                </a:solidFill>
                <a:latin typeface="Trebuchet MS"/>
                <a:ea typeface="Trebuchet MS"/>
              </a:rPr>
              <a:t>Main Points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98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6E480F-1456-4B62-A34D-8EE51CD0B2FC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761760" y="1314360"/>
            <a:ext cx="7543800" cy="523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 SAC051  - SSAC's recent publication on WHOIS structure and terminology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 Internationaliz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. Registration Data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. IETF Restful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6T19:03:27Z</dcterms:created>
  <dc:creator>Julie Hedlund</dc:creator>
  <dc:description/>
  <dc:language>en-US</dc:language>
  <cp:lastModifiedBy>HU</cp:lastModifiedBy>
  <dcterms:modified xsi:type="dcterms:W3CDTF">2012-01-30T20:22:34Z</dcterms:modified>
  <cp:revision>24</cp:revision>
  <dc:subject/>
  <dc:title>Presentation Title</dc:title>
</cp:coreProperties>
</file>