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1670-438D-45AC-9F0F-A04D3165D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48C7-BCB9-4859-A8D5-59C8D28FB19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58E9-9A96-4EFF-A6B7-FBCEB860D0F0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9AA7-726D-41A4-82B5-95761409AC81}" type="slidenum">
              <a:rPr b="0" lang="en-US" sz="1200" spc="-1" strike="noStrike">
                <a:solidFill>
                  <a:srgbClr val="00426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4CF-59C1-4E6B-BC0F-6F459B21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AA8-34F6-4A41-8389-E399168D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5C6-9002-448D-B83E-9F3C29EB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507-7627-4D76-B6FE-89CCDAE7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A4D-E16A-48A6-99A7-2FE55820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3A5-B713-4A30-8778-B6B0D006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CBF8-1B3A-456B-A00D-CFC35D5D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307-8EDF-4FB3-990E-3708B566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9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E6B-DF42-4A7F-8F16-246F6AA4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222-E92B-4BB6-A314-E2772380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E50-58DF-4013-9279-902ED63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1A5-BFA4-4D70-926F-185FDBA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slide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1" marL="743040" indent="-28584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2" marL="1143000" indent="-22860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3" marL="1600200" indent="-228600">
              <a:spcBef>
                <a:spcPts val="1962"/>
              </a:spcBef>
              <a:buClr>
                <a:srgbClr val="00426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4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5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lvl="6" marL="2057400" indent="-228600">
              <a:spcBef>
                <a:spcPts val="1962"/>
              </a:spcBef>
              <a:buClr>
                <a:srgbClr val="00426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4263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31E6-EE9B-45E2-916D-9A13C4EC3E68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" name="Picture 12" descr="ICANNLogodkblue"/>
          <p:cNvPicPr/>
          <p:nvPr/>
        </p:nvPicPr>
        <p:blipFill>
          <a:blip r:embed="rId3"/>
          <a:stretch/>
        </p:blipFill>
        <p:spPr>
          <a:xfrm>
            <a:off x="8153280" y="152280"/>
            <a:ext cx="7779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B0E7-1D9C-4EB4-ABE2-17932065B0C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pic>
        <p:nvPicPr>
          <p:cNvPr id="51" name="Picture 10" descr="PP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2e"/>
                </a:solidFill>
                <a:latin typeface="Arial"/>
                <a:ea typeface="Arial"/>
              </a:rPr>
              <a:t>Introduction to WHOIS Briefing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38680" y="4038120"/>
            <a:ext cx="327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Liz Gasster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Senior Policy Counselor 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263"/>
                </a:solidFill>
                <a:latin typeface="Arial"/>
              </a:rPr>
              <a:t>30 January 2012</a:t>
            </a: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263"/>
              </a:solidFill>
              <a:latin typeface="Arial"/>
            </a:endParaRPr>
          </a:p>
        </p:txBody>
      </p:sp>
      <p:pic>
        <p:nvPicPr>
          <p:cNvPr id="54" name="Picture 9" descr="ICANNLogodkbluesm"/>
          <p:cNvPicPr/>
          <p:nvPr/>
        </p:nvPicPr>
        <p:blipFill>
          <a:blip r:embed="rId2"/>
          <a:stretch/>
        </p:blipFill>
        <p:spPr>
          <a:xfrm>
            <a:off x="457200" y="4084560"/>
            <a:ext cx="144792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5457960" y="374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at is WHOIS?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e term “WHOIS” is used in different ways to refer to a protocol, to a set of services, and to information provided at registration that is associated with domain name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Most typically, WHOIS is used to describe a data repository containing registered domain names, registrant contacts and other critical information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E394-8082-4923-A00D-862DED915691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CFCF-98E4-47B9-8F43-CCDB6277D8E9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Whois Registry Data (“thick” vs. “thin”)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n” Registries display technical data (e.g., nameservers, expiration/creation dates, registrar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Thick” Registries display technical and personal data (e.g., registrant contact names, addresses, emails, telephone numbers in addition to data displayed by thin registries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ars display technical and personal data for all names in WHOI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Brief history and background: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WHOIS protocol is ~25 years old (RFCs 812/954/3912)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Some policy changes have been made, for example to prohibit bulk access to gTLD WHOIS data for marketing purposes, and to address potential conflicts with national privacy law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Registry agreements specify Registry obligations, the RAA specifies obligations of Registrars and Registrant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-308520">
              <a:spcBef>
                <a:spcPts val="1962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Questions persist concerning the use and misuse of this important resource.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08520" indent="0">
              <a:spcBef>
                <a:spcPts val="19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113F-2EE4-4626-A4C3-5C52102BC4AE}" type="slidenum">
              <a:rPr b="0" lang="en-US" sz="900" spc="-1" strike="noStrike">
                <a:solidFill>
                  <a:srgbClr val="004263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4263"/>
              </a:solidFill>
              <a:latin typeface="Arial Narrow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Other* current WHOIS related effort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4 GNSO-Council requested studies of WHOIS underway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ossible GNSO PDP on “thick WHOIS”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Pending negotiations and Issue Report on the Registrar Accreditation Agreement – including WHOIS topics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TLD WHOIS survey of potential technical requirements 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-343080">
              <a:spcBef>
                <a:spcPts val="1774"/>
              </a:spcBef>
              <a:buClr>
                <a:srgbClr val="0042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263"/>
                </a:solidFill>
                <a:latin typeface="Arial"/>
              </a:rPr>
              <a:t>GNSO-SSAC Internationalized Registration Data Working Group draft final report –close to completion</a:t>
            </a:r>
            <a:endParaRPr b="0" lang="en-US" sz="2400" spc="-1" strike="noStrike">
              <a:solidFill>
                <a:srgbClr val="004263"/>
              </a:solidFill>
              <a:latin typeface="Arial"/>
            </a:endParaRPr>
          </a:p>
          <a:p>
            <a:pPr marL="343080" indent="0">
              <a:spcBef>
                <a:spcPts val="1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263"/>
                </a:solidFill>
                <a:latin typeface="Arial"/>
              </a:rPr>
              <a:t>* In addition to the WHOIS Review Team Report and SAC 051 briefings that are the primary topics today.</a:t>
            </a:r>
            <a:endParaRPr b="0" lang="en-US" sz="1800" spc="-1" strike="noStrike">
              <a:solidFill>
                <a:srgbClr val="0042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23:11:58Z</dcterms:created>
  <dc:creator>IT</dc:creator>
  <dc:description/>
  <dc:language>en-US</dc:language>
  <cp:lastModifiedBy>Liz Gasster</cp:lastModifiedBy>
  <dcterms:modified xsi:type="dcterms:W3CDTF">2012-01-27T21:13:50Z</dcterms:modified>
  <cp:revision>132</cp:revision>
  <dc:subject/>
  <dc:title>Slide 1</dc:title>
</cp:coreProperties>
</file>