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6"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2FE9A2-41C5-4178-8B7E-5735646A5555}" type="datetime">
              <a:rPr b="0" lang="en-US" sz="1200" spc="-1" strike="noStrike">
                <a:solidFill>
                  <a:srgbClr val="000000"/>
                </a:solidFill>
                <a:latin typeface="Trebuchet MS"/>
              </a:rPr>
              <a:t>07/31/26</a:t>
            </a:fld>
            <a:endParaRPr b="0" lang="en-US" sz="1200" spc="-1" strike="noStrike">
              <a:solidFill>
                <a:srgbClr val="000000"/>
              </a:solidFill>
              <a:latin typeface="Times New Roman"/>
            </a:endParaRPr>
          </a:p>
        </p:txBody>
      </p:sp>
      <p:sp>
        <p:nvSpPr>
          <p:cNvPr id="8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829"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0"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3C1FDD-2613-4C7E-87A2-175D753A0304}"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E65319-0F58-4B5A-B45E-399FE6ADB9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30255E-590C-4C1C-B51F-809D27D188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523330-94BD-4AB4-A128-BE291858BA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91B26C-213A-44A2-8A9C-8F78FF95B8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CE0726-865C-40DE-AE77-E1D0D47BAE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864917-2640-448D-9768-C5B96A1615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040586-E1CA-4831-8CF3-BCF9B43035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BB37DD-F396-404A-9AB3-54C01F3EA6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3EFD1CC1-71B0-420C-BE9E-4ACC5DF0398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78D9F789-A88D-48DE-8158-14FC518D53E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E29BAC8F-3C5A-4E22-9EFF-3E3C48B11EC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3DE494AA-915C-407F-9D84-F27272D1AB7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AED1D24B-0DDA-4F31-831E-6455F90D333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48D8A526-92E8-4E2C-9B3D-E9F6A698CA1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202A6F1E-8021-4F72-9E24-683BC2F585E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45F4F3E7-7E5F-437A-A07E-9169E414783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240243F8-7790-4E29-962B-A4848626739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C4049BA5-E0C4-4688-B195-92BEA75A1C1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3C655D29-1C91-4107-8981-4CC0C60BA7B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BDADA0A1-B41D-41C9-BFE0-BD566C0D850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F2FD8C4D-0F87-410C-BB60-D9BB55DD47CC}"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0CDEFE56-E6F9-4C93-9F0E-852BE6A946E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D1DC0BCC-9B59-4B0E-975C-026A49FD583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D8ED1301-F49A-4C5B-A84F-F3606F5C65C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6500A28F-535C-4FAD-9CF3-AEE7341C6C3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0CDA1B52-836B-4E0B-AC92-4F288F895CE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F3A78F86-F62A-4030-B847-7B16B4D3C66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61E610A0-2FCA-44E5-AA14-41DD08D58A2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50F97786-0E8B-462F-960B-73C655A29F1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0A496F35-A96F-4D02-A7FB-06DD00F41EE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27344F12-74D8-45CF-806A-C4BA145181B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F4751596-33E3-429E-9325-A1E92822452E}"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8E719CC1-3B7A-400E-86A4-FBE4D96496B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993ECD9E-0AE1-46D5-A481-726133613E6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FFCB29EE-2FA6-48D8-A85E-18556FAC649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71149A35-1FE1-4553-9DA1-11C34B333C0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B703D71A-8A01-49F8-91F7-5769E61F891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3DB398CE-E157-470E-AA52-DCFACAEAB75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9FF3E61C-51F0-46E2-BFDA-CC48C10980F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4338B3DD-42D9-48EB-B9B0-E39A04D71D3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D9E6755B-0C27-4750-89F1-C69119AA3D1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1C599D89-F800-4686-9CA4-888DDD4758E0}"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23E538CE-B6BF-4B8C-BBE9-3C96538BEF6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6F280AE4-D4C5-4609-9729-3486A5C693B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A8F12D1A-1855-4414-8153-4956187BD92B}"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FE5F22C9-BE34-42F9-AED8-152C821E805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1203C5D5-621B-46B7-9F37-F7ACF02736B2}"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FE6D70B2-BD73-4358-9223-BD0F01C3DEC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B37137A2-82D4-4B5D-9BB9-AE22C0E23E4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8DF82135-DAB8-4352-B0E6-FC01018EE90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D6EAC9A1-D954-409C-9E14-2A8F4029262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BC4D1846-52F4-4D07-ABA9-BC2F0A9223D9}"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1692A201-8EF2-4767-8E6E-6C6DEC42580D}"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B06434C1-916C-40B1-96F2-64ECC9E284A8}"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EB2CADD-6B07-490D-8209-DB6684BE8AD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BF98AC5-5643-4DE1-9641-9C548B17385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08DE9AE-3EE5-4CDB-91DB-24E7E9E5450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57B489C-9EEB-46FB-B18B-1EE3DC67414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B7C3844-A3B0-4899-915C-EB73C45902C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5C14060-7BB3-43EB-BEE4-F139D41D0F3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6642735-B3B2-4E42-8E4B-AF0DF7A55F3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3F1415E-317B-40E6-AB8E-0543A6D3CAC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A16B114-C66A-4900-9790-49601AAA5F9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5FCA7C14-8EE9-4A95-87A5-2FA0262466C1}"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7A9F9D62-EEF6-430A-ACED-ACCD2C0E5140}"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9BDA693A-F256-4760-AB4D-304AAC5A03D9}"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7C1B1EEF-F7C0-4037-8549-62DE09C74AFB}"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2DC32636-BD1B-4A3E-ADDC-A23E1F9A849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42C886E9-A0AA-4804-AF97-6E509EC59648}"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760D0433-222D-42ED-A4AF-8DC7F5D58238}"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F2642EF1-C2FD-43EE-B2E9-B8C68EC51225}"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148942E8-2807-4905-9557-2598B57DAD9E}"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B4776D97-1F39-4D3D-82F8-C87E471B8FB1}"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BBB33423-34DB-4312-80E1-ABA6EE321B20}"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5EA02646-A7E2-4D4B-A57B-7E2E75DBF273}"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597C2AF0-BAC7-4C77-9E8B-AC80399B1E44}"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400885CE-40E2-495A-B865-2998CB5D3DED}"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77D83441-A0A0-4646-93AD-5522C32E9CB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2666AA9E-8ED3-477A-916D-E5A115DCD387}"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D088D654-98A4-498E-A083-90F8DF43CC24}"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E1F03B89-6BC7-495D-9680-A5EB972DB48A}"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A99A7641-D108-45F3-A2AB-23662F1D54F2}"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BB56F2C5-532F-447F-910D-7884D8C678AE}"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10056BBD-BF20-4124-8BFE-489D47164A68}"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70244208-CCD1-4A37-B8EA-CAF6C745EE95}"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E0F0EB03-E75A-45C0-A5E0-3D02A02CE172}"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36A52420-B43D-4F0E-ADF0-F45629C8FE53}"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780C63D2-A4D1-44CB-B012-3FB3BAEE617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A959BDF4-4A3B-4949-B0F2-314EF462646F}"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22831C9A-EFB8-429D-A2C4-9B8416545E30}"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9D163ACB-69D6-4E07-92E7-DBA7D50256A9}"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0346A4B7-B8E0-4A60-85E1-123D7C130631}"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AD28DDD6-7A45-467E-9C5E-B775A09430B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C173B14B-FB71-405A-B929-27B0B3768F78}"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D791017A-D765-46A7-B5F0-17D18A2F469C}"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1E62289-3813-4E68-874F-E7CC6CABF02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2230808-1829-4CB5-9681-37927D2FF3A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7789328-9441-4F50-B852-A76EFBA85DAC}"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AC6E465B-36D4-4FCD-9131-4A6B5EF90670}"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DE26A1EC-1044-484E-AF66-0EA533459BB4}"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46BC7CB5-5FD8-49CB-B7E8-78B56D881550}"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28D8AE70-FAAC-44EB-A3AC-2CD8930C13B7}"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2AA1B3D7-EE96-41D4-8FF8-06B8D9E165A3}"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9D0A13BC-1140-47D7-8273-81860A5CEB1A}"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9E676D4C-00AC-468F-B424-979DFE170169}"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67E5542B-6D74-4BC2-B8C2-08C1132E09EF}"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737E6C57-3AB6-4D4D-A6A3-63A2C44E24E2}"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A3691A41-E81A-4316-84D8-1F3C873EE56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B6D524C9-B0B3-48C0-86D0-242D96741BF3}"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2017B33A-7F74-43CF-975B-A1ABD9813DF6}"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68FD50AE-6D5C-4FF6-83A2-0883CC62451E}"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6B89C9E7-DE45-451F-AB00-BC14DD99555F}"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076846B9-9948-4A6F-90A1-C4DB31F98D26}"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25A96161-E8DE-4A4D-97B2-B5741373C538}"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93C64A6-0244-4B5F-ADD9-EE6ED1307E3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11FB557-4D40-4302-8A3F-B06F702DA9B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3B315437-4B5B-47AF-A592-088211BDB5E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1317418-A9B8-4BDC-98AF-5242AE74F61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1C3C658-1A65-4F69-8910-030E0B10A0C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6E870C7-BDFC-4511-8ADA-0BAE3704F5A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97C0483-F00B-4B9D-A204-610F87EEA7D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5D18D6E-62FA-45E5-999B-FAF38F8472C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FF5D6C5-C225-4D51-A22A-2B7DC790E38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20B63F1D-B0E6-4728-8299-14E92FDBB709}"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B9BB37ED-EAD7-4001-9A5C-9546AF347DE1}"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0BF0CD08-F0A6-40FC-BC25-2876756CD9F7}"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E9A8F4E9-454C-4EDD-A065-F897556D4428}"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14AC04ED-4DAB-4D25-8AAD-FCA0802F62C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3BE435A4-424B-44C6-811D-4F1E38F4F0D1}"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6CA4D8CC-C73D-4627-895B-C6FC3CC9F2BB}"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798FF399-5959-4055-9385-B60367322950}"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F4E1F2FE-D057-4008-8ABB-2D6B37207462}"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97C7449F-C2E0-48EA-80F4-27B22DFB6844}"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D1993533-840E-4C35-B8B1-55CEA4F7585F}"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BC6B8E82-710C-491E-A01A-49CFACD2956A}"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49614F28-FB32-44D8-B3BD-D8DA3FC6B969}"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F1798306-92CF-4A4D-9D10-B68B95FE281E}"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B49CEAA6-FBF4-49DF-BA8E-10EDB2CEE24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F66702DD-42C7-43CD-B969-D655FBD48118}"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7BEC69D2-1E48-45F3-891B-A0BF1D0FC927}"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42FACBFF-8A90-420A-A02C-36204DFBE63C}"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FECBD3A7-6974-4027-A4F8-4360EE394FA8}"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1121196F-56A3-447E-9CCB-1EFCCC2F6013}"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ACDE0CB1-2446-42DE-B662-84231ED938D3}"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96A4EE00-1FFD-4788-9F7B-70E05B1084FC}"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EE8C9474-3584-45F0-9281-C87F17747D99}"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7D8060E6-878F-4BAE-B874-E29AD3B6E8E9}"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BABE38CA-2A11-4053-ADB7-59EC1B7F0F0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CA84BEB3-A8C4-4555-9C17-CE208C0825D6}"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6E612116-7FE1-40C0-B9D0-6ABEF5EAF3E5}"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D3D17E48-9589-4AB3-A910-0EC44C11AE9D}"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B73EE942-6409-43F4-8929-775ED13AA61D}"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D2AD2D0A-FD0F-4E78-890F-0F68BB760412}"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A80A6708-03A3-484F-BCA9-6A195D07FAAA}"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64259BFB-53F3-47F6-83AA-412FE7BAC32E}"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5C691AF6-5901-4780-9FE0-1F19DA04CE50}"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95E7FC56-7286-4BE9-B757-5CC1FAB35D6E}"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665A4FCF-DE27-4C98-8680-D623F30B12A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04B6D88C-775E-43C3-8423-9F9C2EEC16EF}"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B71175A3-7BBD-49B0-9089-98643A0BCDEC}"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F96C631D-8ED9-498F-9328-96842178CBB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29D9A2-936F-4B00-A5AA-7EDCAFF0B9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BC9E98-1CA6-42E8-8CEA-CE81291F54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1757D1-397E-415F-B04F-8EC9BEDE5E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AD832-3559-4608-8CF0-4E6EE03955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9628F2-972B-410A-A59D-A4A5CD9612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A112F4-07B9-451C-AC19-D78EB98C9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502A8-01AA-4FF2-812A-D63144014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66807-9D29-478C-8F84-3FEE2C286C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68D2A-F6A7-4AC5-8AD3-FBA2E4FF75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8DB5AF-3A51-4BB2-A9D0-38C92703D2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6754BC-5B2A-4429-A667-CC74A378E4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C5C060-EF3E-4049-A064-56E80F9184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3DFBCBC-B7E6-460D-9CD7-982456D575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87D30A7-8631-4BD3-BB29-3BFBFC59CC11}"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A14F4B4-EFF8-4AC8-B996-9EE8B1C58545}"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6430831-38D8-4486-8E3E-999B3B6167A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7522F273-D72A-43C8-B5DF-07D58E744D57}"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5949CC76-697A-4C76-BAE3-0F27233F566A}"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91A6C06-C4B0-4D7C-AE45-60E467F73B41}"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5BC8A7A-C9C9-465B-837B-C618FC8F92F1}"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7CED54F-A932-49E8-972A-5D153D0345E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D08ADF8-D063-48D0-AE7F-E182EE6BD4AE}"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E852E584-EF44-404A-8B91-D6BA47BEF9F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F7167232-0070-4263-B797-1388C98A7C64}"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61C882F-9D10-4F57-A457-B72E3CC2B3D6}"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351E5B6-E5B6-4DFE-8F75-F82628F981E2}"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4DAA4950-00C6-4A50-B0BA-41324D2D1BA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9B9A89C2-1FC5-4602-B822-244F564C55C3}"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6BE12F18-7249-427F-81FC-6D6675390B79}"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F0F2BDD5-792D-4AB2-814A-F6DBC2DD325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C791DBD-7CA4-45F9-A5EA-1FC019640BEB}"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A97B116-B027-44EC-AF17-C23789F122E9}"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DDACE2C-3EE5-4702-9ECC-B7327EA2B0A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17206A2-13A9-4705-AAB8-E8211A9D2280}"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DD692B9F-8D0F-4E2C-BD54-B270BDF0F95D}"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5E8D8639-F364-42E6-9339-27DCF55CF9F9}"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0F595E5-37F0-4C89-A881-4E4B531A0B1F}"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74F6B5CA-5D2B-4B75-9E2E-384F6A168855}"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2E61ED6A-2AA6-4F11-8528-93864B26844B}"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DB453F51-3BAE-45F5-83B5-6F6DCC67B2E4}"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87B1A7B4-70B2-49D0-94CD-6DD4F204DB67}"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09B92EF1-F65D-4788-9446-20CA79632780}"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CF55B76-64D0-44AB-85E6-ECCFECD2E56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F01B482-BFB0-4557-9B98-714577FBBE01}"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7F2DBF6-61A7-4681-A62F-D7F29DC20DC4}"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3DFFEA5A-7F8D-4A27-B1D0-153C942A31D9}"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F43CECDE-E588-4E6F-A9CE-72DD67268216}"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A12D852F-2099-42C8-BF57-D91C4F77A19B}"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BF1FD86E-91D4-445D-813E-360CFB769A6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5F162C14-C399-4212-A0B9-15C2E0AA34B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2BC9A041-F1CA-427B-B1EC-F5141A5135E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100E265D-A9C3-496D-BD2F-41A12356017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6AAEA61D-0428-45CA-B938-9F0FC00A307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2605DDAA-F4E4-4827-80A5-B2F4F310A47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3E1459DA-6136-4EB3-BB91-55502FDAB25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28971CE6-39D2-4A17-85C5-12396566949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B083CDF4-EB6F-4F72-9AAA-DD515E7D0FA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402DA06E-2687-4C1D-AC5A-7D2BDB66504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9A689558-8818-4733-877F-A28E8CD8EE3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DA78E099-7874-43E7-8E40-38E3128D894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927E311D-782E-468F-9E3F-64ADF18FDA4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6D707C48-B6A5-4ED8-BE83-0DC1D49E570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64B92121-CE7F-46DC-A187-AB6CEC62DD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ＭＳ Ｐゴシック"/>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7676BB-716D-49D6-8160-C3092FB19464}"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B33701-8B59-4A5A-B346-BDF45F259D43}"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sp>
        <p:nvSpPr>
          <p:cNvPr id="435"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5E4872-711B-410D-838E-836E7FA07D81}"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10" descr="bkg1.jpg"/>
          <p:cNvPicPr/>
          <p:nvPr/>
        </p:nvPicPr>
        <p:blipFill>
          <a:blip r:embed="rId2"/>
          <a:stretch/>
        </p:blipFill>
        <p:spPr>
          <a:xfrm>
            <a:off x="0" y="1440"/>
            <a:ext cx="9144000" cy="6855120"/>
          </a:xfrm>
          <a:prstGeom prst="rect">
            <a:avLst/>
          </a:prstGeom>
          <a:ln w="0">
            <a:noFill/>
          </a:ln>
        </p:spPr>
      </p:pic>
      <p:sp>
        <p:nvSpPr>
          <p:cNvPr id="473" name="PlaceHolder 1"/>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4"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5" name="PlaceHolder 3"/>
          <p:cNvSpPr>
            <a:spLocks noGrp="1"/>
          </p:cNvSpPr>
          <p:nvPr>
            <p:ph type="sldNum" idx="14"/>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4CB4C8-9BB6-43D9-997A-D5F638E59A95}"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sp>
        <p:nvSpPr>
          <p:cNvPr id="513" name="PlaceHolder 1"/>
          <p:cNvSpPr>
            <a:spLocks noGrp="1"/>
          </p:cNvSpPr>
          <p:nvPr>
            <p:ph type="sldNum" idx="15"/>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Picture 10" descr="bkg1.jpg"/>
          <p:cNvPicPr/>
          <p:nvPr/>
        </p:nvPicPr>
        <p:blipFill>
          <a:blip r:embed="rId2"/>
          <a:stretch/>
        </p:blipFill>
        <p:spPr>
          <a:xfrm>
            <a:off x="0" y="1440"/>
            <a:ext cx="9144000" cy="6855120"/>
          </a:xfrm>
          <a:prstGeom prst="rect">
            <a:avLst/>
          </a:prstGeom>
          <a:ln w="0">
            <a:noFill/>
          </a:ln>
        </p:spPr>
      </p:pic>
      <p:sp>
        <p:nvSpPr>
          <p:cNvPr id="551" name="PlaceHolder 1"/>
          <p:cNvSpPr>
            <a:spLocks noGrp="1"/>
          </p:cNvSpPr>
          <p:nvPr>
            <p:ph type="sldNum" idx="16"/>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Picture 10" descr="bkg1.jpg"/>
          <p:cNvPicPr/>
          <p:nvPr/>
        </p:nvPicPr>
        <p:blipFill>
          <a:blip r:embed="rId2"/>
          <a:stretch/>
        </p:blipFill>
        <p:spPr>
          <a:xfrm>
            <a:off x="0" y="1440"/>
            <a:ext cx="9144000" cy="6855120"/>
          </a:xfrm>
          <a:prstGeom prst="rect">
            <a:avLst/>
          </a:prstGeom>
          <a:ln w="0">
            <a:noFill/>
          </a:ln>
        </p:spPr>
      </p:pic>
      <p:sp>
        <p:nvSpPr>
          <p:cNvPr id="589" name="PlaceHolder 1"/>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0" name="PlaceHolder 2"/>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1" name="PlaceHolder 3"/>
          <p:cNvSpPr>
            <a:spLocks noGrp="1"/>
          </p:cNvSpPr>
          <p:nvPr>
            <p:ph type="sldNum" idx="19"/>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7A4BA3-9DC2-4AD0-8C61-5EFF8DC8D332}"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 name="Picture 10" descr="bkg1.jpg"/>
          <p:cNvPicPr/>
          <p:nvPr/>
        </p:nvPicPr>
        <p:blipFill>
          <a:blip r:embed="rId2"/>
          <a:stretch/>
        </p:blipFill>
        <p:spPr>
          <a:xfrm>
            <a:off x="0" y="1440"/>
            <a:ext cx="9144000" cy="6855120"/>
          </a:xfrm>
          <a:prstGeom prst="rect">
            <a:avLst/>
          </a:prstGeom>
          <a:ln w="0">
            <a:noFill/>
          </a:ln>
        </p:spPr>
      </p:pic>
      <p:sp>
        <p:nvSpPr>
          <p:cNvPr id="629" name="PlaceHolder 1"/>
          <p:cNvSpPr>
            <a:spLocks noGrp="1"/>
          </p:cNvSpPr>
          <p:nvPr>
            <p:ph type="sldNum" idx="2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10" descr="bkg1.jpg"/>
          <p:cNvPicPr/>
          <p:nvPr/>
        </p:nvPicPr>
        <p:blipFill>
          <a:blip r:embed="rId2"/>
          <a:stretch/>
        </p:blipFill>
        <p:spPr>
          <a:xfrm>
            <a:off x="0" y="1440"/>
            <a:ext cx="9144000" cy="6855120"/>
          </a:xfrm>
          <a:prstGeom prst="rect">
            <a:avLst/>
          </a:prstGeom>
          <a:ln w="0">
            <a:noFill/>
          </a:ln>
        </p:spPr>
      </p:pic>
      <p:sp>
        <p:nvSpPr>
          <p:cNvPr id="667" name="PlaceHolder 1"/>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8"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9" name="PlaceHolder 3"/>
          <p:cNvSpPr>
            <a:spLocks noGrp="1"/>
          </p:cNvSpPr>
          <p:nvPr>
            <p:ph type="sldNum" idx="2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91ECE7-DD2E-4C20-915B-AC9943162D63}"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Picture 10" descr="bkg1.jpg"/>
          <p:cNvPicPr/>
          <p:nvPr/>
        </p:nvPicPr>
        <p:blipFill>
          <a:blip r:embed="rId2"/>
          <a:stretch/>
        </p:blipFill>
        <p:spPr>
          <a:xfrm>
            <a:off x="0" y="1440"/>
            <a:ext cx="9144000" cy="6855120"/>
          </a:xfrm>
          <a:prstGeom prst="rect">
            <a:avLst/>
          </a:prstGeom>
          <a:ln w="0">
            <a:noFill/>
          </a:ln>
        </p:spPr>
      </p:pic>
      <p:sp>
        <p:nvSpPr>
          <p:cNvPr id="707"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8"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77BE41-8C1E-4757-AD05-EE6A174193B1}"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10" descr="bkg1.jpg"/>
          <p:cNvPicPr/>
          <p:nvPr/>
        </p:nvPicPr>
        <p:blipFill>
          <a:blip r:embed="rId2"/>
          <a:stretch/>
        </p:blipFill>
        <p:spPr>
          <a:xfrm>
            <a:off x="0" y="1440"/>
            <a:ext cx="9144000" cy="6855120"/>
          </a:xfrm>
          <a:prstGeom prst="rect">
            <a:avLst/>
          </a:prstGeom>
          <a:ln w="0">
            <a:noFill/>
          </a:ln>
        </p:spPr>
      </p:pic>
      <p:sp>
        <p:nvSpPr>
          <p:cNvPr id="746"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7"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BA0103-8A94-44AA-B57B-B75FCDF18DF6}"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10" descr="bkg1.jpg"/>
          <p:cNvPicPr/>
          <p:nvPr/>
        </p:nvPicPr>
        <p:blipFill>
          <a:blip r:embed="rId2"/>
          <a:stretch/>
        </p:blipFill>
        <p:spPr>
          <a:xfrm>
            <a:off x="0" y="1440"/>
            <a:ext cx="9144000" cy="6855120"/>
          </a:xfrm>
          <a:prstGeom prst="rect">
            <a:avLst/>
          </a:prstGeom>
          <a:ln w="0">
            <a:noFill/>
          </a:ln>
        </p:spPr>
      </p:pic>
      <p:sp>
        <p:nvSpPr>
          <p:cNvPr id="78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F6FAEF-1542-4799-A9A5-8BFDCEF8BFF7}"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78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99B36E-1140-430B-90CD-E063FE944819}" type="datetime">
              <a:rPr b="0" lang="en-US" sz="1200" spc="-1" strike="noStrike">
                <a:solidFill>
                  <a:srgbClr val="898989"/>
                </a:solidFill>
                <a:latin typeface="Trebuchet MS"/>
              </a:rPr>
              <a:t>07/31/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4A56C8-E328-4A21-ADEF-BA125EB533BC}"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429A15-EFF4-4BAE-B7C0-91D0BF4B4D94}"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C0B822-870B-4CA4-BB14-BB0FC15F4816}"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8FDCAE-728A-45C3-A7DE-9D86E4CFFD48}"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0A7A1B-735A-4D7E-828E-A4C1C76D4F87}"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8617E9-CACF-420E-BAEF-35AFE972A7E5}"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4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2819520" y="1600200"/>
            <a:ext cx="5867280" cy="4525920"/>
          </a:xfrm>
          <a:prstGeom prst="rect">
            <a:avLst/>
          </a:prstGeom>
          <a:noFill/>
          <a:ln w="0">
            <a:noFill/>
          </a:ln>
        </p:spPr>
        <p:txBody>
          <a:bodyPr lIns="90000" rIns="90000" tIns="46800" bIns="46800" anchor="t">
            <a:normAutofit fontScale="97000"/>
          </a:bodyPr>
          <a:p>
            <a:pPr marL="332640" indent="-33264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Trebuchet MS"/>
              </a:rPr>
              <a:t>Update on WHOIS-related policy activities in the GNSO </a:t>
            </a:r>
            <a:endParaRPr b="0" lang="en-US" sz="40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Liz Gasste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Senior Policy Counselo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 </a:t>
            </a:r>
            <a:r>
              <a:rPr b="0" i="1" lang="en-US" sz="2800" spc="-1" strike="noStrike">
                <a:solidFill>
                  <a:srgbClr val="7f7f7f"/>
                </a:solidFill>
                <a:latin typeface="Trebuchet MS"/>
              </a:rPr>
              <a:t>ICANN</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5 March 2012</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3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486D69-26D4-4D09-B62B-B92794159C56}"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833" name="Picture 1" descr=""/>
          <p:cNvPicPr/>
          <p:nvPr/>
        </p:nvPicPr>
        <p:blipFill>
          <a:blip r:embed="rId1"/>
          <a:stretch/>
        </p:blipFill>
        <p:spPr>
          <a:xfrm>
            <a:off x="181080" y="2438280"/>
            <a:ext cx="2666880" cy="18669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ea typeface="Trebuchet MS"/>
              </a:rPr>
              <a:t>WHOIS P/P Relay &amp; Reveal Study:</a:t>
            </a:r>
            <a:endParaRPr b="0" lang="en-US" sz="4000" spc="-1" strike="noStrike">
              <a:solidFill>
                <a:srgbClr val="000000"/>
              </a:solidFill>
              <a:latin typeface="Calibri"/>
            </a:endParaRPr>
          </a:p>
        </p:txBody>
      </p:sp>
      <p:sp>
        <p:nvSpPr>
          <p:cNvPr id="859"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fontScale="90000"/>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e original study would analyze communication relay and identity reveal requests sent for Privacy &amp; Proxy-registered domain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explore and document how they are processed, and</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identify factors that may promote or impede</a:t>
            </a:r>
            <a:br>
              <a:rPr sz="2000"/>
            </a:br>
            <a:r>
              <a:rPr b="0" lang="en-US" sz="2000" spc="-1" strike="noStrike">
                <a:solidFill>
                  <a:srgbClr val="000000"/>
                </a:solidFill>
                <a:latin typeface="Trebuchet MS"/>
              </a:rPr>
              <a:t>timely communication and resolution.</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Potential bidders were unsure of the feasibility of this study, especially obtaining a sufficient data sample, so the Council opted to conduct a pre-study to survey potential participants to determine if a full study is feasible to do.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80,000 (USD) for Pre-study Survey</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Interisle Consulting</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in September, initial results expected in March 2012</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60"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FBCEC8-ADA9-4CC1-BADF-CDD2BFE0D247}"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WHOIS Service Requirements Report – upcoming survey by WSWG</a:t>
            </a:r>
            <a:endParaRPr b="0" lang="en-US" sz="3600" spc="-1" strike="noStrike">
              <a:solidFill>
                <a:srgbClr val="000000"/>
              </a:solidFill>
              <a:latin typeface="Calibri"/>
            </a:endParaRPr>
          </a:p>
        </p:txBody>
      </p:sp>
      <p:sp>
        <p:nvSpPr>
          <p:cNvPr id="862" name="PlaceHolder 2"/>
          <p:cNvSpPr>
            <a:spLocks noGrp="1"/>
          </p:cNvSpPr>
          <p:nvPr>
            <p:ph/>
          </p:nvPr>
        </p:nvSpPr>
        <p:spPr>
          <a:xfrm>
            <a:off x="609120" y="1523880"/>
            <a:ext cx="8077320" cy="4602240"/>
          </a:xfrm>
          <a:prstGeom prst="rect">
            <a:avLst/>
          </a:prstGeom>
          <a:noFill/>
          <a:ln w="0">
            <a:noFill/>
          </a:ln>
        </p:spPr>
        <p:txBody>
          <a:bodyPr lIns="90000" rIns="90000" tIns="46800" bIns="46800" anchor="t">
            <a:normAutofit/>
          </a:bodyPr>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May 2009, GNSO Council asked Policy Staff to compile a comprehensive set of potential </a:t>
            </a:r>
            <a:r>
              <a:rPr b="1" i="1" lang="en-US" sz="2000" spc="-1" strike="noStrike" u="sng">
                <a:solidFill>
                  <a:srgbClr val="000000"/>
                </a:solidFill>
                <a:uFillTx/>
                <a:latin typeface="Trebuchet MS"/>
              </a:rPr>
              <a:t>technical</a:t>
            </a:r>
            <a:r>
              <a:rPr b="0" lang="en-US" sz="2000" spc="-1" strike="noStrike">
                <a:solidFill>
                  <a:srgbClr val="000000"/>
                </a:solidFill>
                <a:latin typeface="Trebuchet MS"/>
              </a:rPr>
              <a:t> “requirements” for WHOIS -- not only known deficiencies in the current service but also technical requirements that may be needed to support various </a:t>
            </a:r>
            <a:r>
              <a:rPr b="1" i="1" lang="en-US" sz="2000" spc="-1" strike="noStrike" u="sng">
                <a:solidFill>
                  <a:srgbClr val="000000"/>
                </a:solidFill>
                <a:uFillTx/>
                <a:latin typeface="Trebuchet MS"/>
              </a:rPr>
              <a:t>policy</a:t>
            </a:r>
            <a:r>
              <a:rPr b="0" lang="en-US" sz="2000" spc="-1" strike="noStrike">
                <a:solidFill>
                  <a:srgbClr val="000000"/>
                </a:solidFill>
                <a:latin typeface="Trebuchet MS"/>
              </a:rPr>
              <a:t> initiatives suggested in the past.</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Final Report released 29 July 2010</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2011 the GNSO Council asked a Working Group to develop a survey to try to estimate the level of agreement with various “requirements” among the GNSO community. </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Survey results may be useful for IETF protocol efforts</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The survey is a technical inventory and does not define or suggest the policies or operational rules that should apply</a:t>
            </a:r>
            <a:endParaRPr b="0" lang="en-US" sz="2000" spc="-1" strike="noStrike">
              <a:solidFill>
                <a:srgbClr val="000000"/>
              </a:solidFill>
              <a:latin typeface="Calibri"/>
            </a:endParaRPr>
          </a:p>
        </p:txBody>
      </p:sp>
      <p:sp>
        <p:nvSpPr>
          <p:cNvPr id="86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441B54-F398-47AE-8EE4-BC3592777204}"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Examples--survey will include:</a:t>
            </a:r>
            <a:endParaRPr b="0" lang="en-US" sz="4400" spc="-1" strike="noStrike">
              <a:solidFill>
                <a:srgbClr val="000000"/>
              </a:solidFill>
              <a:latin typeface="Calibri"/>
            </a:endParaRPr>
          </a:p>
        </p:txBody>
      </p:sp>
      <p:sp>
        <p:nvSpPr>
          <p:cNvPr id="86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Mechanism to find authoritative Whois server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query structure</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Well-defined schema for repli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error messag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History of domain registration data</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nternationalized registration data</a:t>
            </a:r>
            <a:endParaRPr b="0" lang="en-US" sz="2800" spc="-1" strike="noStrike">
              <a:solidFill>
                <a:srgbClr val="000000"/>
              </a:solidFill>
              <a:latin typeface="Calibri"/>
            </a:endParaRPr>
          </a:p>
        </p:txBody>
      </p:sp>
      <p:sp>
        <p:nvSpPr>
          <p:cNvPr id="86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8E8607-FD44-4D2A-BE4E-B349A5EC7C08}"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Next steps:</a:t>
            </a:r>
            <a:endParaRPr b="0" lang="en-US" sz="4400" spc="-1" strike="noStrike">
              <a:solidFill>
                <a:srgbClr val="000000"/>
              </a:solidFill>
              <a:latin typeface="Calibri"/>
            </a:endParaRPr>
          </a:p>
        </p:txBody>
      </p:sp>
      <p:sp>
        <p:nvSpPr>
          <p:cNvPr id="868" name="PlaceHolder 2"/>
          <p:cNvSpPr>
            <a:spLocks noGrp="1"/>
          </p:cNvSpPr>
          <p:nvPr>
            <p:ph/>
          </p:nvPr>
        </p:nvSpPr>
        <p:spPr>
          <a:xfrm>
            <a:off x="3047760" y="1341360"/>
            <a:ext cx="5638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urrent draft survey has 13 Requirements -- 63 total question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Working Group to edit, test survey</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draft survey to GNSO Council &amp; Public Commen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olicit input from SO/AC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reate proposed final draf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for independent review</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Run survey for 30 day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Analyze results and publish Report</a:t>
            </a: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9"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BF6DA9-A5BF-433F-B6BA-03552ACF3C74}"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pic>
        <p:nvPicPr>
          <p:cNvPr id="870"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rebuchet MS"/>
              </a:rPr>
              <a:t>Draft Roadmap to a New Domain Name Registration Data Access Protocol (WHOIS)</a:t>
            </a:r>
            <a:endParaRPr b="0" lang="en-US" sz="3200" spc="-1" strike="noStrike">
              <a:solidFill>
                <a:srgbClr val="000000"/>
              </a:solidFill>
              <a:latin typeface="Calibri"/>
            </a:endParaRPr>
          </a:p>
        </p:txBody>
      </p:sp>
      <p:sp>
        <p:nvSpPr>
          <p:cNvPr id="872" name="Slide Number Placeholder 2"/>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D96F3A-BCD1-43D0-AE6F-CE18EB36D91C}"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873" name=""/>
          <p:cNvSpPr txBox="1"/>
          <p:nvPr/>
        </p:nvSpPr>
        <p:spPr>
          <a:xfrm>
            <a:off x="456840" y="1523880"/>
            <a:ext cx="8001000" cy="460224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wo key recommendations for the community:</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Adopt a more precise taxonomy regarding WHOIS – Data/Service/Access Protocol</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Evaluate and adopt a replacement protocol that supports the query and display of internationalized domain name registration data and other relevant recommendations from previous SSAC advisori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Open for comments until 18 March. Workshop planned in Costa Rica</a:t>
            </a:r>
            <a:endParaRPr b="0" lang="en-US" sz="2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   </a:t>
            </a:r>
            <a:r>
              <a:rPr b="1" i="1" lang="en-US" sz="4400" spc="-1" strike="noStrike">
                <a:solidFill>
                  <a:srgbClr val="000000"/>
                </a:solidFill>
                <a:latin typeface="Trebuchet MS"/>
                <a:ea typeface="Trebuchet MS"/>
              </a:rPr>
              <a:t>Questions?</a:t>
            </a:r>
            <a:endParaRPr b="0" lang="en-US" sz="4400" spc="-1" strike="noStrike">
              <a:solidFill>
                <a:srgbClr val="000000"/>
              </a:solidFill>
              <a:latin typeface="Calibri"/>
            </a:endParaRPr>
          </a:p>
        </p:txBody>
      </p:sp>
      <p:sp>
        <p:nvSpPr>
          <p:cNvPr id="87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Trebuchet MS"/>
              </a:rPr>
              <a:t>Thank You!</a:t>
            </a:r>
            <a:endParaRPr b="0" lang="en-US" sz="4000" spc="-1" strike="noStrike">
              <a:solidFill>
                <a:srgbClr val="000000"/>
              </a:solidFill>
              <a:latin typeface="Calibri"/>
            </a:endParaRPr>
          </a:p>
        </p:txBody>
      </p:sp>
      <p:sp>
        <p:nvSpPr>
          <p:cNvPr id="87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B1019A-32D9-49A9-B526-780100E3A09D}"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WHOIS Policy Activities - Agenda</a:t>
            </a:r>
            <a:r>
              <a:rPr b="0" lang="en-US" sz="4000" spc="-1" strike="noStrike">
                <a:solidFill>
                  <a:srgbClr val="000000"/>
                </a:solidFill>
                <a:latin typeface="Trebuchet MS"/>
              </a:rPr>
              <a:t>:</a:t>
            </a:r>
            <a:endParaRPr b="0" lang="en-US" sz="4000" spc="-1" strike="noStrike">
              <a:solidFill>
                <a:srgbClr val="000000"/>
              </a:solidFill>
              <a:latin typeface="Calibri"/>
            </a:endParaRPr>
          </a:p>
        </p:txBody>
      </p:sp>
      <p:sp>
        <p:nvSpPr>
          <p:cNvPr id="835" name=""/>
          <p:cNvSpPr txBox="1"/>
          <p:nvPr/>
        </p:nvSpPr>
        <p:spPr>
          <a:xfrm>
            <a:off x="1218960" y="1417320"/>
            <a:ext cx="7467480" cy="4708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Possible PDP on “thick”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RAA enhancements related to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gTLD WHOIS Studies – 4 of th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WHOIS Service Requirements Report – upcoming surve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Draft Roadmap to a New Domain Name Registration Data Access Protocol (SAC 051 implementation)</a:t>
            </a:r>
            <a:endParaRPr b="0" lang="en-US" sz="2800" spc="-1" strike="noStrike">
              <a:solidFill>
                <a:srgbClr val="000000"/>
              </a:solidFill>
              <a:latin typeface="Calibri"/>
            </a:endParaRPr>
          </a:p>
        </p:txBody>
      </p:sp>
      <p:sp>
        <p:nvSpPr>
          <p:cNvPr id="836"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D578C7-B365-48C2-B749-F8FCA7A944AB}"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a:t>
            </a:r>
            <a:r>
              <a:rPr b="1" lang="en-US" sz="4400" spc="-1" strike="noStrike">
                <a:solidFill>
                  <a:srgbClr val="000000"/>
                </a:solidFill>
                <a:latin typeface="Trebuchet MS"/>
              </a:rPr>
              <a:t>Thick’ WHOIS Issue Report:</a:t>
            </a:r>
            <a:endParaRPr b="0" lang="en-US" sz="4400" spc="-1" strike="noStrike">
              <a:solidFill>
                <a:srgbClr val="000000"/>
              </a:solidFill>
              <a:latin typeface="Calibri"/>
            </a:endParaRPr>
          </a:p>
        </p:txBody>
      </p:sp>
      <p:sp>
        <p:nvSpPr>
          <p:cNvPr id="838" name=""/>
          <p:cNvSpPr txBox="1"/>
          <p:nvPr/>
        </p:nvSpPr>
        <p:spPr>
          <a:xfrm>
            <a:off x="761760" y="1523880"/>
            <a:ext cx="7924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The GNSO Council requested an Issue Report on 22 September 2011</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ssue Report to consider any positive and/or negative effects that are likely to occur or should be considered when deciding whether a requirement of 'thick' WHOIS for all gTLDs would be desirable</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Preliminary Issue Report was published for public comment in November 2011 (9 comments received)</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Final Report published on 2 February 2012</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39"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B2B6DD-504E-41BE-BEFF-895799E26BDA}"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Thick WHOIS Issue Report, cont’d</a:t>
            </a:r>
            <a:endParaRPr b="0" lang="en-US" sz="4000" spc="-1" strike="noStrike">
              <a:solidFill>
                <a:srgbClr val="000000"/>
              </a:solidFill>
              <a:latin typeface="Calibri"/>
            </a:endParaRPr>
          </a:p>
        </p:txBody>
      </p:sp>
      <p:sp>
        <p:nvSpPr>
          <p:cNvPr id="841" name=""/>
          <p:cNvSpPr txBox="1"/>
          <p:nvPr/>
        </p:nvSpPr>
        <p:spPr>
          <a:xfrm>
            <a:off x="609120" y="1600200"/>
            <a:ext cx="8077320" cy="4525920"/>
          </a:xfrm>
          <a:prstGeom prst="rect">
            <a:avLst/>
          </a:prstGeom>
          <a:noFill/>
          <a:ln w="0">
            <a:noFill/>
          </a:ln>
        </p:spPr>
        <p:txBody>
          <a:bodyPr lIns="90000" rIns="90000" tIns="46800" bIns="46800" anchor="t">
            <a:normAutofit fontScale="97000"/>
          </a:bodyPr>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Describes difference between ‘thick’ and ‘thin’ Whoi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Provides an overview of current gTLDs and new gTLD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Includes a list of issues to help assess possible consequences of requiring ‘thick’ Whois (enhanced stability and accessibility; cost; privacy/data protection; data escrow) if a PDP is initiated</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Recommendation: PDP is within scope of the ICANN policy process and the GNSO, the GNSO Council should proceed with a PDP.</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to consider during open meeting Wednesday 14 March (14.00 – 18.00) </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CA734F-45AF-4F25-B0F4-61A7CCBC3B4C}"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RAA Developments -  Dakar Board Resolution</a:t>
            </a:r>
            <a:endParaRPr b="0" lang="en-US" sz="3600" spc="-1" strike="noStrike">
              <a:solidFill>
                <a:srgbClr val="000000"/>
              </a:solidFill>
              <a:latin typeface="Calibri"/>
            </a:endParaRPr>
          </a:p>
        </p:txBody>
      </p:sp>
      <p:sp>
        <p:nvSpPr>
          <p:cNvPr id="844" name=""/>
          <p:cNvSpPr txBox="1"/>
          <p:nvPr/>
        </p:nvSpPr>
        <p:spPr>
          <a:xfrm>
            <a:off x="761760" y="1600200"/>
            <a:ext cx="784836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Negotiations with Registrars to address LE requests and recommendations from RAA-DT Final Report</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Board Requested GNSO PDP on “Remaining Issue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Recommendations include proposals related to WHOIS, including verification of registrant data, SLA for Port 43 servers, etc.</a:t>
            </a:r>
            <a:endParaRPr b="0" lang="en-US" sz="3200" spc="-1" strike="noStrike">
              <a:solidFill>
                <a:srgbClr val="000000"/>
              </a:solidFill>
              <a:latin typeface="Calibri"/>
            </a:endParaRPr>
          </a:p>
        </p:txBody>
      </p:sp>
      <p:sp>
        <p:nvSpPr>
          <p:cNvPr id="845"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50CE1F-08B0-4196-B75B-DB02EE4C4267}"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gTLD WHOIS studies - Goals:</a:t>
            </a:r>
            <a:endParaRPr b="0" lang="en-US" sz="4400" spc="-1" strike="noStrike">
              <a:solidFill>
                <a:srgbClr val="000000"/>
              </a:solidFill>
              <a:latin typeface="Calibri"/>
            </a:endParaRPr>
          </a:p>
        </p:txBody>
      </p:sp>
      <p:sp>
        <p:nvSpPr>
          <p:cNvPr id="847" name="PlaceHolder 2"/>
          <p:cNvSpPr>
            <a:spLocks noGrp="1"/>
          </p:cNvSpPr>
          <p:nvPr>
            <p:ph type="subTitle"/>
          </p:nvPr>
        </p:nvSpPr>
        <p:spPr>
          <a:xfrm>
            <a:off x="2895120" y="1600200"/>
            <a:ext cx="5867640" cy="4038480"/>
          </a:xfrm>
          <a:prstGeom prst="rect">
            <a:avLst/>
          </a:prstGeom>
          <a:noFill/>
          <a:ln w="0">
            <a:noFill/>
          </a:ln>
        </p:spPr>
        <p:txBody>
          <a:bodyPr anchor="t">
            <a:noAutofit/>
          </a:bodyPr>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WHOIS policy debated for many year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decided in October 2007 that study data was needed to provide objective, factual basis for future policy making</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dentified several WHOIS study areas</a:t>
            </a:r>
            <a:r>
              <a:rPr b="1" lang="en-GB" sz="2400" spc="-1" strike="noStrike">
                <a:solidFill>
                  <a:srgbClr val="000000"/>
                </a:solidFill>
                <a:latin typeface="Trebuchet MS"/>
              </a:rPr>
              <a:t> </a:t>
            </a:r>
            <a:r>
              <a:rPr b="0" lang="en-US" sz="2400" spc="-1" strike="noStrike">
                <a:solidFill>
                  <a:srgbClr val="000000"/>
                </a:solidFill>
                <a:latin typeface="Trebuchet MS"/>
              </a:rPr>
              <a:t>that reflect key policy concern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Asked staff to determine costs and feasibility of conducting those studie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aff used an RFP approach to do so</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udies are approved and are now (mostly) underway</a:t>
            </a:r>
            <a:endParaRPr b="0" lang="en-US" sz="2400" spc="-1" strike="noStrike">
              <a:solidFill>
                <a:srgbClr val="000000"/>
              </a:solidFill>
              <a:latin typeface="Calibri"/>
            </a:endParaRPr>
          </a:p>
        </p:txBody>
      </p:sp>
      <p:pic>
        <p:nvPicPr>
          <p:cNvPr id="848" name="Picture 2" descr=""/>
          <p:cNvPicPr/>
          <p:nvPr/>
        </p:nvPicPr>
        <p:blipFill>
          <a:blip r:embed="rId1"/>
          <a:stretch/>
        </p:blipFill>
        <p:spPr>
          <a:xfrm>
            <a:off x="380880" y="1828800"/>
            <a:ext cx="2314800" cy="34750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WHOIS Misuse Study:</a:t>
            </a:r>
            <a:endParaRPr b="0" lang="en-US" sz="4400" spc="-1" strike="noStrike">
              <a:solidFill>
                <a:srgbClr val="000000"/>
              </a:solidFill>
              <a:latin typeface="Calibri"/>
            </a:endParaRPr>
          </a:p>
        </p:txBody>
      </p:sp>
      <p:sp>
        <p:nvSpPr>
          <p:cNvPr id="850"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assessing whether public WHOIS significantly increases harmful acts and the impact of anti-harvesting measures.  Two approache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Experimental: register test domains and measure harmful messages resulting from mis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Descriptive: study misuse incidents reported by registrants,  researchers/ law enforcement</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5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Carnegie Mellon U., Pittsburgh, PA, USA</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a:t>
            </a:r>
            <a:r>
              <a:rPr b="0" lang="en-US" sz="2000" spc="-1" strike="noStrike">
                <a:solidFill>
                  <a:srgbClr val="000000"/>
                </a:solidFill>
                <a:latin typeface="Trebuchet MS"/>
              </a:rPr>
              <a:t> Initiated in mid-2011</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initial results in early 2013</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F1C4E4-4A5D-4283-97B2-57CD12D6093D}"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Registrant Identification Study:</a:t>
            </a:r>
            <a:endParaRPr b="0" lang="en-US" sz="4400" spc="-1" strike="noStrike">
              <a:solidFill>
                <a:srgbClr val="000000"/>
              </a:solidFill>
              <a:latin typeface="Calibri"/>
            </a:endParaRPr>
          </a:p>
        </p:txBody>
      </p:sp>
      <p:sp>
        <p:nvSpPr>
          <p:cNvPr id="853"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fontScale="98000"/>
          </a:bodyPr>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examining info about how domain name registrants are identified and classifying various types of entities that register domains, including natural persons, various types of legal persons and Privacy and Proxy service providers.</a:t>
            </a:r>
            <a:endParaRPr b="0" lang="en-US" sz="2000" spc="-1" strike="noStrike">
              <a:solidFill>
                <a:srgbClr val="000000"/>
              </a:solidFill>
              <a:latin typeface="Calibri"/>
            </a:endParaRPr>
          </a:p>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has been recast as an “exploratory” data-gathering effort that is not hypothesis-driven.  This will also provide more consistency with related GAC proposals offered in 2008.</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approx. $180,000 (USD). Awarded to NORC at the U. of Chicago.</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October 2011, target initial results in late 2012</a:t>
            </a:r>
            <a:endParaRPr b="0" lang="en-US" sz="2000" spc="-1" strike="noStrike">
              <a:solidFill>
                <a:srgbClr val="000000"/>
              </a:solidFill>
              <a:latin typeface="Calibri"/>
            </a:endParaRPr>
          </a:p>
        </p:txBody>
      </p:sp>
      <p:sp>
        <p:nvSpPr>
          <p:cNvPr id="854"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5C1269-FC2C-4048-BA1C-4CFF587989B4}"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Privacy and Proxy “Abuse” Study:</a:t>
            </a:r>
            <a:endParaRPr b="0" lang="en-US" sz="3600" spc="-1" strike="noStrike">
              <a:solidFill>
                <a:srgbClr val="000000"/>
              </a:solidFill>
              <a:latin typeface="Calibri"/>
            </a:endParaRPr>
          </a:p>
        </p:txBody>
      </p:sp>
      <p:sp>
        <p:nvSpPr>
          <p:cNvPr id="856" name="PlaceHolder 2"/>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is study will compare a broad sample of Privacy &amp; Proxy-registered domains associated with alleged harmful acts to asses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often bad actors try to obscure identity in WHOIS </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of abuse compares to overall P/P 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compares to alternatives like falsified WHOIS data, compromised machines, and free web hosting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8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GNSO Council approved in April 2011, contract delayed, now being finalize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7"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C93D9C-400C-4717-B0FE-A3FE56999A70}"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1:08:22Z</dcterms:created>
  <dc:creator>Tom Hodgson</dc:creator>
  <dc:description/>
  <dc:language>en-US</dc:language>
  <cp:lastModifiedBy>Liz Gasster</cp:lastModifiedBy>
  <cp:lastPrinted>2011-03-03T09:26:23Z</cp:lastPrinted>
  <dcterms:modified xsi:type="dcterms:W3CDTF">2012-03-02T21:17:07Z</dcterms:modified>
  <cp:revision>266</cp:revision>
  <dc:subject/>
  <dc:title>Slide 1</dc:title>
</cp:coreProperties>
</file>