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B475D-98EE-47E1-A1EF-70D8876DED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04A2D4-481F-4E9C-8EC8-F51AB108152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3A4B8-E813-4F0E-9370-F44AE8B8F8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FC0AEA-DCB7-4729-8025-EEE1F7DA498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B332E-2C76-4B00-93CA-22022272A45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F17172-577C-4EB0-9476-BE50BDD4A96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937CAA-2B31-43DA-A73E-7CCD071B8A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7BA46C-744B-44B6-96EB-78867629311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7D8AFC-A276-46F7-BF5A-220DD3AC734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2F166-86BD-4676-8023-0FFFAEC35E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F6937-4B15-4112-9085-AC77DFB775D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82F1C-6286-4963-BDCF-67B2F2067F0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47B21-018D-4D90-9683-8EC8A63C98F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39AEF-A31A-4BB6-9927-099D6D73BF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4834F-0872-4A72-9781-315DC3C4A6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1F9D4-2B2D-40F8-B6D3-DFDD83819A5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BE36E-B873-41CA-BF63-E6DA46AC3EB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46C478-AC29-4426-A550-AD107977709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66F31-1EEF-4877-8AAA-C60A46AA7A2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B779D-4B20-41EE-8E18-26ECE9740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56366-C497-4A08-8C52-D5A21738F43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87A1-987A-4457-A5A4-DF31F843985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883F-99E8-4526-BEE5-108F11DFFC0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EF88-91FE-4832-B9FD-0D3F2F48CDA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835C-5265-4425-880A-188E310F34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E445D-2D9F-4329-B959-E658BFBC721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BBA9B-82BE-4DB8-B356-83736AA63D5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9DEBA-73CA-44FB-95CF-3704904C35A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4613A-6CE5-4241-B682-29E7ED2086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E2C5-7448-4B1A-A2FE-C1E82DEA2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58C2-27EE-4293-B587-33A0CF256DD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FC126-10E7-4B98-A27B-25294E1A882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DB48-7E56-4F52-9BA3-4DF87B45623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80E3D9-87CE-48F9-A831-6BB89770EBD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2B5A2-2412-4E05-8CD0-2B01837600A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54C337-6D24-47A5-9FDB-5AB6202F665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4C5F08-3BDF-4C59-B096-E4A0C7FEA6E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D8B077-1BEF-4F2D-B041-EC65E4F1386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4EAF97-125E-42B5-876A-27E561E0592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8722D-FD18-47E7-9659-613EAF0BED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B2F7CD-0F0E-4CB6-A95B-D3E706BE9CD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E94AD7-BB63-4E06-A822-A0A65B4F69C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007956-35B3-450D-8D24-93AEF11BDA2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1A361F-4DB5-4C64-A960-90EA81237CE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BC43EF-D219-4955-BE08-31A475BFA1D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44929-6A66-4776-9015-AF3EB60CFE9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278E9-AA50-4C93-92B2-73A358F22B2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35B46-F892-462A-B70E-D360CF8AB8D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CE2CA-40B1-4C39-825A-3061F123F77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940C6-F556-4CA6-98DD-0090E5CAE4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894E0-0F2D-423E-B766-4B1655ED5D6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4E176-3F81-493B-97F6-050F88CDFF8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CE2FA-91E8-4EC0-A3CE-69D6863E115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EA9E7-6E8E-4730-A2D7-B1EF973C57D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C452CB-C3CA-4B35-8E59-14621D78063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F9F63-EE4D-4E27-869B-15AF92764CB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74B11-5DB8-4C3F-A849-4222E7C6B31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0E82-FFF5-42C9-A4B7-9DB87F666B3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953D-B016-429B-AD3E-F590DAC0F7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09019-626C-4DBE-8070-25EB43B5CC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F3919-A386-417E-8BBB-1B555FB657F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E533F-B3EE-4CED-90E4-6390F688D36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BC8AF-961F-4519-89E1-DD70F572CD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ED8E0-7736-4725-9816-56FA2FD6CD9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AE25-7304-476C-9EC7-6580283898C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702F-159D-450B-BDA7-E5256EFF493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B9767-788C-4DE2-A453-E4DBE717ED6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AB56-2086-40A5-8F78-E8A3DA47B23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B5DB2-630E-455B-B717-EB51215DCEE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5D0F85-9516-4B2D-BA46-1EE15425B6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9477DC-4009-46D9-8413-47993BA9E05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CAFAA8-4244-420F-A748-86F1B86A781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021C10-518A-4625-BCF2-D5D8DD25D78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0A2C0B-33D6-43EB-A593-615AD673493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54824E-EC4D-4F30-9D28-BAD089F3285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FB9009-06B0-4C19-8896-A75DC1C3490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82EC57-CEF6-4582-A123-3D9DFB5A868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5703C-1080-43DF-88C2-9576DCBA080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72808E-D8FD-423F-8D5A-BF63EEF2ABE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74D569-F912-464F-A39D-30F600CEDA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4FD9C4-38BC-4CF8-AEC8-380A0DF5D8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542-B0F7-4133-BBB3-3EE0ABAA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5EF-3CB0-40D0-8726-AAECAC72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D9A-ACAD-40D8-AE0B-D479E043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406-0C4F-4DEF-A6E4-A8795B9C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093-2808-484C-ACF7-072CBDE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88C-5B59-44D8-A84F-180AE19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FD9-2C9E-4F52-844A-E71D723D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CCF-C5D9-4F3A-9849-E349534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A6B-62A4-4AD1-A31C-BE6556B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5C8-1C09-4523-9F1B-EBF91C17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F24-4EC3-4824-BBD8-965EFCC6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EC2-D7A2-4A27-B935-8A992D3A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FE758-C7A6-40FF-9BA7-FCDF3F98355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07617-1D1B-43FF-9BFD-2994EA676D4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A2032-11A3-421C-A053-DF7B526F3D0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C030B-2134-4C18-84F7-D653C53407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7EAC4-1A94-48C8-901B-D115B821247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6EC53-D384-48FC-BBC0-345703875C0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F3D3D-8115-4BF7-9049-4D0237434E4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8E178-32DA-4B2E-AEAA-E14B8C20588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B5F8D-15CA-4196-AC29-D1D54A531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B7999-7C86-4AF7-89FE-0623739A56F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DF1AF-2604-42C8-9E34-A82DB00596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57D77-BEF1-4BB8-BAAE-E5478510832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D8E1D-5F56-4CE3-B710-4D673B48863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4A785-6E99-4F55-84F1-F6E4D38F48F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7712F-DBE8-4933-9032-52327AB6F6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2D972-452B-4FD0-85D4-BEB58CD67E3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06C54-B889-494D-A3DC-329923A7C4F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6BC44-41E1-4739-829F-CAC243B28D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E2B9D-FF35-43BE-BC33-B8F57C2FC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D70C0-32CC-4045-B4AB-3B2635DABF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90A95-DFFD-477C-8ADE-7C374188A0C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C1266-9683-4270-89ED-ED4EBAFD64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5FA4D-C1FA-448C-B6D1-6787BC01E8B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134BB-DD8B-4D4C-B421-F8DBF0E4B5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DC466-BABE-47F3-A8BF-066AC3C81E1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BF185-2B93-469C-8E78-0DEDD8565D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A3486-E3F0-4894-BBD2-EEC6B6792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tretch/>
        </p:blipFill>
        <p:spPr>
          <a:xfrm>
            <a:off x="-31680" y="-31680"/>
            <a:ext cx="9207360" cy="692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Num" idx="8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5DD3A-E6E0-457B-9B55-562ABC8B70D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Num" idx="9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28AEE-B3A0-4263-82B1-05D47542F1F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ldNum" idx="10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37C79-5E4D-4BA5-BC84-11CCCD1B04C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473" name="TextBox 4"/>
          <p:cNvSpPr/>
          <p:nvPr/>
        </p:nvSpPr>
        <p:spPr>
          <a:xfrm>
            <a:off x="3048120" y="449568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Trebuchet MS"/>
              </a:rPr>
              <a:t>Keep body copy short. Avoid reading the text to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Num" idx="11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737B6-079D-4222-B0C9-B9F12BB67B3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15" name="TextBox 4"/>
          <p:cNvSpPr/>
          <p:nvPr/>
        </p:nvSpPr>
        <p:spPr>
          <a:xfrm>
            <a:off x="304920" y="1600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Num" idx="12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1518C1-A981-47D7-BE0A-ECBBF18FEA0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3EF2E-CD03-4A74-8454-FB62D2BEC2A7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41-Singapore-logo-140x288.png"/>
          <p:cNvPicPr/>
          <p:nvPr/>
        </p:nvPicPr>
        <p:blipFill>
          <a:blip r:embed="rId3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7858D-EDD6-45E0-A3B9-F219DD7C12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6AC2C-F334-4D01-AB3C-F48CCC4FA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ldNum" idx="4"/>
          </p:nvPr>
        </p:nvSpPr>
        <p:spPr>
          <a:xfrm>
            <a:off x="69004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284DB-84D9-4A75-B8EF-86645D19BC7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ldNum" idx="5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B08D8-A6B6-4928-9A98-B7F11E7E9D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6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6"/>
          </p:nvPr>
        </p:nvSpPr>
        <p:spPr>
          <a:xfrm>
            <a:off x="2743200" y="6356520"/>
            <a:ext cx="3657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0" descr="bkg1.jpg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shadow_rule.jpg"/>
          <p:cNvPicPr/>
          <p:nvPr/>
        </p:nvPicPr>
        <p:blipFill>
          <a:blip r:embed="rId3"/>
          <a:stretch/>
        </p:blipFill>
        <p:spPr>
          <a:xfrm>
            <a:off x="2394000" y="1371600"/>
            <a:ext cx="349200" cy="464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41-Singapore-logo-140x288.png"/>
          <p:cNvPicPr/>
          <p:nvPr/>
        </p:nvPicPr>
        <p:blipFill>
          <a:blip r:embed="rId4"/>
          <a:stretch/>
        </p:blipFill>
        <p:spPr>
          <a:xfrm>
            <a:off x="152280" y="5181480"/>
            <a:ext cx="2378160" cy="11559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ldNum" idx="7"/>
          </p:nvPr>
        </p:nvSpPr>
        <p:spPr>
          <a:xfrm>
            <a:off x="690192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148E1-2017-4F99-B3EA-9F3D0C20937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Security &amp; Stability Advisory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Jim Galv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Vice-Ch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urity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i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viso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mmittee (SS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d in 2001-2002, currently 36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s guidance to ICANN Board, SO’s and AC’s, staff and general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ance areas are related to ICANN’s missions DNS, addressing, IDN, registration services, WHOIS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06439-5E1F-4581-8F03-AC9B6AF6618D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3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rebuchet MS"/>
                <a:ea typeface="Trebuchet MS"/>
              </a:rPr>
              <a:t>Main Points</a:t>
            </a:r>
            <a:endParaRPr b="0" lang="en-US" sz="4400" spc="-1" strike="noStrike">
              <a:solidFill>
                <a:srgbClr val="7f7f7f"/>
              </a:solidFill>
              <a:latin typeface="Calibri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902280" y="6458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BBF92C-E91F-4366-8804-9D92ADDF59CF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61760" y="1314360"/>
            <a:ext cx="754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SAC051  - SSAC's recent publication on WHOIS structure and terminolog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Internation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gistration Data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IETF Restful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9:03:27Z</dcterms:created>
  <dc:creator>Julie Hedlund</dc:creator>
  <dc:description/>
  <dc:language>en-US</dc:language>
  <cp:lastModifiedBy>HU</cp:lastModifiedBy>
  <dcterms:modified xsi:type="dcterms:W3CDTF">2012-01-30T20:22:34Z</dcterms:modified>
  <cp:revision>24</cp:revision>
  <dc:subject/>
  <dc:title>Presentation Title</dc:title>
</cp:coreProperties>
</file>