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75AD99-B3F6-496C-B871-950E67C1EDB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905608-33C6-4D76-9E79-92896675385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A5C5B1-9A22-448D-ADE2-11B9E0BEA3F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71473F-002F-44E6-8B87-FAAA4E152DCD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EB6B72-72F0-46C6-89E5-E6AF6992D36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16591F-6C09-4207-A1D9-941F5DADD00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6BB9F2-AC58-4A1A-94DF-09C3B40CAEE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52B800-59A5-4E47-BE1E-AE40CF76263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57D940-1252-4B63-AE90-9CE1E462083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9207BA-DFD5-45D9-B76A-4DD150A750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44CD24-2841-4A18-ABE2-44924A48C616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0011EB-F5C5-4CEA-A88E-C35A8AEB75BD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872D7C-0075-4823-BAE8-252E7C762431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65A9A3-5015-4522-A91A-DC1B720A552A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DBC42C-09C7-41E7-9D16-167F1BD81B5E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12028F-D98B-46E2-B4C0-9731A8809A8C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1A14EF-613E-4011-B119-E91D5F7D8C2A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AC9BDC-7D17-4DB8-9AC7-F5C8B3BCD326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EA3AE7-EC5D-4D7C-8637-67AFD57E6B41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61ADCD-274D-4E77-8B19-7C18A14C7D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2B5AC5-1B0C-48CA-B865-0C2733018AB7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BA70B-9712-4BFA-84BD-D5604B90E18A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BDC37-FD28-4825-B466-1FCBBE6B8B90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6A4A2-5AB9-49FC-BC86-C069284B88A2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6F263-FA32-4CCE-9590-EAC5EAE90490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B68A4-3CBD-4A2D-92FD-98A1CE16D92A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BE799-A9E3-428F-BCC4-C7F7FB7F781E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57BC7-9724-49A6-A2AD-D809057B5CE7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52B03-2C93-45DF-A0E5-F3E7BDA89B9F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FAFDB-AEB0-4F28-8482-8FBFD741C2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C02F9-F007-4801-A15C-4724CA5FCB23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9CB54-99A9-43A7-A6CF-39CCAD0DDC0C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43D8F-C061-41FD-AAFE-042C17F6C2E4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F039F0-F61E-4C1B-AB3A-4B38B5500CC3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592BAB-4E3A-47F0-B9CC-EEA7F90AF630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7E9416-58BB-483B-AA90-3BC549282031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3DB612-2CDE-427C-9595-E571E703076E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C3A41F-9607-4FCD-9D33-F1693222D1AF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FAD855-1ABF-497C-8655-F076DC9CF226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C161CB-4910-4D10-ADDE-A64416FB22B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C7B5BD-E5AE-4B57-9158-135047F528D0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DEDD40-00E7-4142-BA56-E03A69C43F58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5963EA-4805-4AB6-BFA7-AABB5E8B8DFB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554306-D7DC-4A95-95AA-902E3D9E424B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BAAC35-6B32-4AE9-B0B2-FD502C7C7390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C8C12D-97C6-4A5B-B407-C0F0CDBA90DE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210474-25AB-4F86-8279-6A61F4605496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CB0E97-B591-4CB0-B7DA-BE5C92005AFF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05D1A5-92D6-4FF2-A6CD-565E2102D429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2A0031-0E78-4F76-AB8B-3378C9DE1F5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E9562C-B821-42D0-B3FA-A8E0011B59B6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81A0CC-A925-446F-AE10-9D22716070D7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553CB3-D7ED-4AD8-BB49-97B6D735A9DD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F68664-97BD-42AC-B359-14EDDB0BE412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3EB853-5CAC-4CE2-A8EF-0A0E6E5301F9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7985BF-A7FA-479D-8F28-E0205D4AD8B9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3A2193-A431-4986-8F2D-41A02419F9F5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2F2D6-7A5C-4418-89A3-088AAB3F31AC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02D95-21D3-46C6-AED3-EB4FCDAFC2DF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E3809-0858-4C97-A558-DB30E0EE067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46E89-D4B4-4E4C-A208-1ABA4BECBFF8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2EF1F-2BE2-41E3-B225-6388FAF26B7E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0BE7E-7EEB-4B19-B5DC-3E3C3883E784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FA988-ECF1-45EA-978D-77141040ED0E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569DC-58B1-400A-8A67-5042EC2C2866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9EE9B-B3AA-48E2-828B-68F5CC8D2E4C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433DE-EDBA-47A0-BE10-93FA346E8A48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826CB-7803-4228-B74E-6E559FFBBDFF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A847B-A283-4D2D-9904-255B766DBF66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8E186AC-2780-4B5A-99F2-193E074A7E0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43BE681-5B95-4A03-9769-5EC1FDE1BB89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2D0C144-3067-4C43-A2DE-8BBA7FF19B56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719E0BA-8654-4377-A03E-A1D59CF76B26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9B5EE48-4A48-4156-B16D-338E57B2521B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D94F315-12F5-4FC5-B633-BA07DB5EB3BE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685A0F4-7157-4394-8414-35E0072F1153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90E280F-D27C-43B3-9E6E-9A25632DA8B7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E3603CC-93A3-4C43-85C5-2795723AEDB7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96EDBB4-A6FF-490D-A7FF-F888F9D1D98A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9470170-E999-4B2D-80DE-149BB64A650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7ACC398-720B-4DB6-95CD-BDC01A6203F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667D-D7AB-4AEA-9216-17825E668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95D8-2381-46E2-BBEB-EFA25DBDC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98B6-260E-434B-9C0D-FAE80A9D6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3557-E525-4D73-AA2F-B7A5F4882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594B-03EB-4457-B580-986F8BADB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CE9F-D2D7-4FF8-B570-4A6026BFC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AAF4-4CD0-4397-9675-C71A4529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1809-A643-4E28-AC23-F2B4B337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4CF0-1198-4E9B-9CC4-974104F3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465D-185E-4C2D-8126-DFDC85EB2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5DF3-B6A7-4608-B2DE-3CB29591C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2DC2-D664-4CCB-B8D1-9C4067D21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453842-3768-406F-B5A1-C11AA37C940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504456-1D8E-4E24-A426-5EEDE5D69B3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8835F1-B2B3-45A7-8C52-0ACF06ACB40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D1CA1E-5D8A-4A47-A860-46BEC3D0C04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7E6B4C-EE47-4335-8272-F142AD9F91E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47AD01-6517-4A41-9B6E-428AE96D7B9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A3581F-2C2B-4208-9453-2A7B745095A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208B4D-1211-4730-A06D-75991D86495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689FC4-6B78-4C43-A54D-8D980F04A5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9D6753-8044-425A-8F42-C0C03BB2C28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9B49C6-4EC1-48D5-8399-439A07D93B5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F72EE3-D352-4D13-BDFD-BC03E8309FC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39BA77-D219-4BB2-853C-E4D11A76C74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336F10-7A5E-46F5-91BF-0F21927645D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8128F4-4F56-49FF-A6EC-2008EBBCC03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0EE61B-9053-4141-80A5-0285CFAEE13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31D385-A9A7-4C85-85A9-EEE2D66013A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FF0562-FE15-455C-A6B9-8F4CD0021E5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C69A29-3D5F-4739-AF4B-7E95694486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916BC0-0EB0-4B96-8519-80F8DEC728A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CA2C7B-7519-4A73-8300-65E104E6242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92F20B-4A70-4756-9E9E-D89C98A6EC7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A0E29D-CD0F-480F-81B1-CAABAA64A4D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DB7C39-FD2F-4BC0-AA3B-3FCC84C23AD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8C5877-C37E-48D0-A5CF-83D46B28FFF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D88277-C4E6-466F-8A58-9038FCCB62AC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384AC1-3BDE-44D4-8D23-1E2A075512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31680" y="-3168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51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F31126-5E2E-48D5-9132-4E591D3FA3D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45DF99-9DFD-4FBB-B64B-6340F1DD46F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5CF691-A7EC-416A-AC4D-463C95B59F4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73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55CC48-3782-4A39-A111-D37E37EDECD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066DD2-EB6C-4A3C-848C-73F7AE8041C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890D40-9B74-451F-880A-317781011BC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C486B9-C453-4153-9364-B6BA2A4D7B5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B860A3-603A-47DF-A6EC-0D7DE23674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009204-2663-4D33-B0FC-6DE7888E7F7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0B29BD-D16F-4C98-9BCC-537E5CDEDC3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dt" idx="6"/>
          </p:nvPr>
        </p:nvSpPr>
        <p:spPr>
          <a:xfrm>
            <a:off x="274320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to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D719D7-B887-4CD7-AF4A-C9E80D25193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ecurity &amp; Stability Advisory Committ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Vice-Cha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urity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ilit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iso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mmittee (SSA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ed in 2001-2002, currently 36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s guidance to ICANN Board, SO’s and AC’s, staff and general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ance areas are related to ICANN’s missions DNS, addressing, IDN, registration services, WHOIS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B31584-E36C-4999-8C28-201BF287A57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731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Main Point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A8A65F-0DB1-46BA-8C1C-AC1A909169A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1760" y="13143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AC051  - SSAC's recent publication on WHOIS structure and terminolog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Internation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Registration Data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IETF Restful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9:03:27Z</dcterms:created>
  <dc:creator>Julie Hedlund</dc:creator>
  <dc:description/>
  <dc:language>en-US</dc:language>
  <cp:lastModifiedBy>HU</cp:lastModifiedBy>
  <dcterms:modified xsi:type="dcterms:W3CDTF">2012-01-30T20:22:34Z</dcterms:modified>
  <cp:revision>24</cp:revision>
  <dc:subject/>
  <dc:title>Presentation Title</dc:title>
</cp:coreProperties>
</file>