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97591-9FE7-4EA2-8BD6-858949C00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FDA90-68F5-4CDA-9A2C-C34F0E5C8CE0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631D4-D577-4A1B-B89F-6D7E6366BA65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BA61A-64BE-4566-9A9D-4D5EBBE9D572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01B3-5B87-4284-AE85-D2D5D4E7F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12B6-F2AD-45A3-A33F-A49B63680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A22A-32E2-4718-B2E9-784908290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E7AD-6943-4205-97BE-1D2DD4A1F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109E-238C-436B-B199-31D5B992F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BDE8-C46D-4A8F-9005-DD068C3DD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0188-AA05-4398-A05F-625D34F7E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D250-C17D-45C5-AFD2-8F666ED2F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A511-9E32-493B-B071-E5F264E41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37A5-C6F6-4AF0-8FA1-DB48C041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6BD1-0ACA-414E-805E-D094AACC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13FC-B120-4D55-BCC1-07656222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slide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1" marL="743040" indent="-28584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2" marL="1143000" indent="-22860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3" marL="1600200" indent="-22860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4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5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6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63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5AED0-7589-4AA4-B8DB-E6D274AA65D9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" name="Picture 12" descr="ICANNLogodkblue"/>
          <p:cNvPicPr/>
          <p:nvPr/>
        </p:nvPicPr>
        <p:blipFill>
          <a:blip r:embed="rId3"/>
          <a:stretch/>
        </p:blipFill>
        <p:spPr>
          <a:xfrm>
            <a:off x="8153280" y="152280"/>
            <a:ext cx="7779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A22E4-75C7-4039-95BE-11ECABB3B52B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pic>
        <p:nvPicPr>
          <p:cNvPr id="51" name="Picture 10" descr="PP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924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2e"/>
                </a:solidFill>
                <a:latin typeface="Arial"/>
                <a:ea typeface="Arial"/>
              </a:rPr>
              <a:t>Introduction to WHOIS Briefi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38680" y="4038120"/>
            <a:ext cx="3276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Liz Gasster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Senior Policy Counselor 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30 January 2012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</p:txBody>
      </p:sp>
      <p:pic>
        <p:nvPicPr>
          <p:cNvPr id="54" name="Picture 9" descr="ICANNLogodkbluesm"/>
          <p:cNvPicPr/>
          <p:nvPr/>
        </p:nvPicPr>
        <p:blipFill>
          <a:blip r:embed="rId2"/>
          <a:stretch/>
        </p:blipFill>
        <p:spPr>
          <a:xfrm>
            <a:off x="457200" y="4084560"/>
            <a:ext cx="144792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5457960" y="374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at is WHOIS?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e term “WHOIS” is used in different ways to refer to a protocol, to a set of services, and to information provided at registration that is associated with domain name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Most typically, WHOIS is used to describe a data repository containing registered domain names, registrant contacts and other critical information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1FDD3-CFC0-4118-B7B5-7BF140D7F78A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D6729-5F6F-4471-B188-9EE0D1052F2F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ois Registry Data (“thick” vs. “thin”)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n” Registries display technical data (e.g., nameservers, expiration/creation dates, registrar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ck” Registries display technical and personal data (e.g., registrant contact names, addresses, emails, telephone numbers in addition to data displayed by thin registries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ars display technical and personal data for all names in WHOI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Brief history and background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WHOIS protocol is ~25 years old (RFCs 812/954/3912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ome policy changes have been made, for example to prohibit bulk access to gTLD WHOIS data for marketing purposes, and to address potential conflicts with national privacy law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y agreements specify Registry obligations, the RAA specifies obligations of Registrars and Registrant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Questions persist concerning the use and misuse of this important resource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0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B5C7D-8ADB-47B7-A99C-69B3F458B4F4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ther* current WHOIS related effort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4 GNSO-Council requested studies of WHOIS underway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ossible GNSO PDP on “thick WHOIS”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ending negotiations and Issue Report on the Registrar Accreditation Agreement – including WHOIS topic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WHOIS survey of potential technical requirements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NSO-SSAC Internationalized Registration Data Working Group draft final report –close to completion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63"/>
                </a:solidFill>
                <a:latin typeface="Arial"/>
              </a:rPr>
              <a:t>* In addition to the WHOIS Review Team Report and SAC 051 briefings that are the primary topics today.</a:t>
            </a:r>
            <a:endParaRPr b="0" lang="en-US" sz="18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11:58Z</dcterms:created>
  <dc:creator>IT</dc:creator>
  <dc:description/>
  <dc:language>en-US</dc:language>
  <cp:lastModifiedBy>Liz Gasster</cp:lastModifiedBy>
  <dcterms:modified xsi:type="dcterms:W3CDTF">2012-01-27T21:13:50Z</dcterms:modified>
  <cp:revision>132</cp:revision>
  <dc:subject/>
  <dc:title>Slide 1</dc:title>
</cp:coreProperties>
</file>