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BB94EB-4887-471B-98E7-5331BAAE5229}" type="datetime">
              <a:rPr b="0" lang="en-US" sz="1200" spc="-1" strike="noStrike">
                <a:solidFill>
                  <a:srgbClr val="000000"/>
                </a:solidFill>
                <a:latin typeface="Trebuchet MS"/>
              </a:rPr>
              <a:t>07/31/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34C977-4A59-4947-BCD0-AEE28EE998D9}"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9EFFC1-D474-48E1-9BA3-8A273828BD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CACBAB-3E24-4D7C-929E-23AAAB36DD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86E98D-79A2-4B55-836C-73DA9F6D0D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5CCBA6-1FEC-4A4D-B734-0322F0BF1C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1D48AC-C57D-4CBD-903D-E2D891623D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7FBE71-6BD8-4BF1-86F3-FA0BD3F9D7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1DEF3F-3E38-43BE-BACB-4F7CDEF258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863494-F232-4AE4-93E5-9DF3949536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474D776C-B18D-4EF9-9AF0-7553B6EF362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1938A451-0A1A-4898-BCB9-4E1046F0255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E6504D59-9528-4E80-AA50-29DB0210331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256F2378-0E87-415E-AA73-D27E154502D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E24DAD7E-C4D2-45D5-B766-774437401C2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891E7FD1-B6AF-47D2-A331-2E400843422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CB3B2EEB-964C-495E-8804-4CCB3FD2ECD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EC437524-6CFF-4180-A4B2-EB0EE5B534B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5251EA5E-1CCE-4C12-9D28-40D91FB588B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1E196A6-3303-4084-8723-503EC56D34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7EA62644-9191-4720-A2E0-1986A411860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EEA62FEC-44DA-4595-BAFB-4B5DB2D03F4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312A0DC9-30B7-4C86-AD93-E534AC05C8A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4D27C848-BA1A-454C-8FE9-40EDB3B222E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05DB1DE7-2F74-4C50-BA45-A5F9600180C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C7F391D4-8356-47B6-9F3A-9DFE804083C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8AE70C00-2AA7-45C5-9744-7C81FAB2F0A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AA12D0D3-2383-4848-9804-A8D39C1B765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515B08BF-08F4-4318-B0EE-234D552E965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08F0AEF2-49F3-4BA5-B766-9BE162B06A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943C217F-67B2-4E27-9611-23F7D6AE69A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FB43106-430D-41CC-91D7-CD111766BE8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F018F381-715D-41AF-8B37-98CD87FD0F2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1C6D5E33-5924-41FF-8A5F-4AB460E950D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EA72E239-18D4-45C1-A0DC-225FE8753C9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59371C7B-B368-4C12-AB45-580888032B2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4A4B5883-9794-429F-9AF2-30D0E9B3ACE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68217087-000C-483F-ABBB-C3571E4EFB1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24FF0C6F-804A-4864-B4AB-71DE564D98E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C83FE1E5-64F1-4C8A-9B3C-C682EAD7CF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49A4FD5D-5AA1-4FCD-A364-3501DFE9B7D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8BB76767-02DE-4038-96B2-B4D50285BA1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A6529C50-D25E-4A2A-95DA-C0468F6A4E7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4DD6009-6070-4E19-A664-D6F117189FD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101765CD-C353-402B-A622-90188DB061F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EB81D851-5DAA-4FF1-B8AB-33C7B7055E8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BD91EC45-CF3B-4D2F-BA13-48BE40504A8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3E4C2CD1-E650-4B6D-9C69-508ABCB702B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E8F4009B-5FDB-4FC3-840A-04E9C9B5B80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FFB85A13-B2C8-4B73-BC90-B3B03FCC2F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CD281461-F4DE-4B5F-8ECC-D7CB4F6F69B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C9A21612-1613-44E8-A247-542B80B69C6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C02BE362-335E-4D96-A940-B163CC467F9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5E2384D0-4573-464D-A013-0C38907003B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D3598BC6-82FE-4F90-ADF2-2B9C7936E79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2334560-5DC0-45AA-B6E7-8540C19EA9D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4B3C0E2-8AC6-4CF9-BF75-2E330B6D7EB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18FDF13-A83E-4F18-9E03-E1011A5C6EE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1B301ED-615E-4298-8267-EF75EC38D4F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1878511-50E9-46A1-B305-25C6E9D731B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56E2A1A-0805-448F-8C4B-0FE2790627D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6E16785-79A1-4BCA-BE02-95E93246C8B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D5B084E-8738-4609-B241-E92A2AB5535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40B5545-33FA-42FA-826D-596A24A468C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DC2608C-362B-42A4-B085-678D3140C4D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F6A3CD3-1887-4E98-9DD2-73471EA2B17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76533F4-5445-4887-8A2E-46E31527961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D9ACF055-5DCB-47EB-BB85-289DB1F7999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25C361D3-1B3E-42B9-BAFA-66965E700893}"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4F42614D-7DDA-4FB6-BFF3-8EFE585DBE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B9A6A572-5814-4BA0-9FEE-8009C24C388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547598EF-147D-4132-AF87-6B7AE2C35DC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12584C6C-8E61-4370-9EE9-0A3E5076D5A0}"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CF11BB6F-2C91-4B76-B0C0-4653CC9AEB06}"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E129C365-15D8-49E8-93FF-26B59E2F22E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CE50208C-B410-4B18-ADEE-A8262404FCBE}"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C131651F-1A20-40DA-8EA9-928C815EEC4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DBEC45BA-B100-4AE5-8138-04014C368AE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EFDA369D-D5EF-4F1F-A117-C0E7730D5446}"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2609112D-73C1-4205-8409-68D3949B36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911BB9D2-B2E2-4B81-8DFA-D936E94F4502}"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6224FC96-44C7-4459-B525-CF78E2369546}"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80C7263F-008D-4ECF-B152-0CA0C5FE7767}"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1C95F394-9E85-4129-B71B-1D5E60D6DD86}"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1B368391-4290-4FC0-93FD-B8EAF554DA8A}"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480C489C-D342-4578-A4E9-25E1DA960D0E}"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E839E91C-E35C-4C6A-BFCC-AF3EB0E46636}"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8012FFE8-129D-4221-BB82-FE02DD6C8070}"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F0440CF8-B937-466D-BCC2-AA8E9F78F2B3}"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DD8AAFBA-E19C-4039-B167-33D24A13D9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D03E97DD-D779-4882-B5F2-7F0ACB8DE463}"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F16B5C97-DC58-4455-AC3E-5B552A7E7CC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1F0F6B8-39AA-4107-8AE7-4E3A9CD0400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AC836E5-6E85-4FA7-A190-9ECA778DA62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7B96D22-A6E0-46B8-8D8F-2D09486F3E1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AE48727-1DA9-42DF-AFB3-2CEBFE4284B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FC04B35-B617-4D3E-8CF6-7547DE9A5AB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36C55DD-6853-4D8B-BCCA-9DB3AFD5B42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F8F694B-BA14-473D-9BF2-529D3B3FE27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7DCC95B-1F8F-42CB-B579-893B975BE40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92C9241-797D-408B-AEB8-1E2034E45CB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8E1DB457-F247-4EBC-996A-3DBD71CB5D37}"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F40B3BD4-A0C9-4CCB-83B6-70D6374BFA43}"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87F34942-176F-4A74-8D51-36D3A9249AFF}"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DAFB0509-0315-439C-B637-FD5FD140E8AC}"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8BE8DF35-D881-478B-B63D-1223428B25EC}"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D2271473-877B-44C1-AA34-8ADDB26F238F}"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6AC2283F-DA43-4A88-9A5D-82729DED369C}"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4FC879C6-0D47-4D39-B5D5-09A7AB5427CB}"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F52BD813-E15A-45E9-8C20-AE37D8A421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3A1E7310-52F6-41E9-8E05-C0BFD939B798}"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F5ABCBE5-3F69-4B58-B340-5F1CEF25034E}"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F2FB9031-4C28-48E0-A330-75E8462CB4BD}"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7BA0328D-B2DF-4A96-AB97-CC59700C49A0}"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AD78094D-7BFB-4612-BDB5-3A720AE482E8}"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A74934E-EC3C-40CF-9934-1C6DC74D093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DF02058-68DA-41C0-AF13-B173BE8021C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E8F29FE-CC56-4DF9-9C57-E15ABDC89B8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E2F2DF0-FCC0-4084-8FF6-D842D9BCE68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8D50480-FF33-4823-92C5-F6C849D4584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924B057-DEE8-4A64-8A44-38F34B3C1B6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8C945F1-6F5E-4E08-BE7B-6A662285EF7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29D555F-193B-41EB-86A4-F12551C62B0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CC0EE52-4C77-491B-8A43-9016E76CDE2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6D3F809-130F-481A-8119-CBA439EB308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C760DF41-125D-4A19-88BA-9B6543294F6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3A17BC7-A534-4902-91B7-7B43B3CCA162}"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B5614F31-2AC8-4F3F-8492-F005417A560D}"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100A8A63-B8D2-4648-8409-6973A48191F4}"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88D663EB-560B-41CA-A47A-770448A9FA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7810F283-654B-4002-B8BF-FF5253EA3827}"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6BC2FDC4-5144-4B14-8735-5621A70E0290}"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91373556-C035-4DA7-BF6A-A8EEC9875C0E}"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9E255EED-88C7-4572-8B1B-5ECD9B121468}"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CD93363C-6BFA-4CC9-AD94-B3A569488811}"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C7FB96C1-5562-4330-8087-B9138028DB8C}"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DADFD2E5-003D-47F7-B168-52E2480EE99C}"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559DEBF3-D69F-4FF0-8CB2-55568CDF2E43}"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D89F5B14-9BD3-4502-BC98-627173A56304}"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9406FE43-88BE-4531-8A06-C31860A320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48EC1F7F-B3E4-4F3F-9167-3344B6C08351}"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8DBB9625-E2A5-41D9-B2F6-CBBE59C2CF3F}"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7FB2E8D8-B3DE-4535-B303-E126597560B7}"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8F0E6E08-D30B-40A6-A23B-2752EB7ABC66}"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8470B5EA-9580-4FED-9E70-33ECB8FCCED2}"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A31B2935-AD5C-4E0B-931F-6CBA2384DDEA}"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8EA8198B-0183-4B47-A20D-7939E7667440}"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F20E48CC-799F-450A-AE1A-04F032B027CB}"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10490E83-BBFF-4D0D-BF3E-CE0DB7920528}"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4EDA1F57-7F77-4E80-BA53-D216735CA0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351EB542-5E6A-4842-A229-3B8EBEB135DC}"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6DA06D9D-D3F3-43E3-9006-A0C6D0C39C7F}"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A770325C-E2E5-46FB-B9D4-08F67ACAC647}"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EA6F3EAB-120B-4121-93F3-0B228B37B030}"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F2D575B2-7652-4705-BA7E-8EDBDB25E421}"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14D561F5-7754-4E12-B488-E48938261CBF}"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67EA70A6-6C2C-495F-81C5-C3B725D55B30}"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01E64A8F-C008-4CF2-9F13-D1E27E5B284B}"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49DFA5E6-E4C6-453D-9D7F-8B387EBDF5AA}"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27A40F97-9C76-4925-9870-620AD983EF6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D07A2A18-2F99-4214-A140-55E3986FBB62}"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861B7DB3-2C36-4802-A527-7066BB9EC047}"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213442C8-3A03-47DC-AA94-BDEC5FBA189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0A3C6-E8CE-46AF-96A2-F65130C4C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880D2-F72C-4BCD-9066-5AA218AE4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D1C73-566A-4EBF-BCF1-B9BD015A1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0CC21-DA31-449F-927F-927A5262B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7F737-C87C-49F9-9A9D-ABF225A43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42C0F-C60F-4DAE-B9A9-6B3781233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D061C-3437-4B12-822E-F33D98579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E24AD-DB6E-4F64-ABE5-FD2E2C3E8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D2E85-2FF2-4727-8531-98F31F048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3DCDF-DDA2-4D16-8926-D35FDF2FB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5A47D0-49B6-4851-80F9-BCC66C2CEE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C38527-BD31-493F-996C-79762642E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238A23-DBF8-4E23-BD2C-79933C11B2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F86AA29-BE64-406C-86C9-893BA2C6FED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E8335E3-D1B9-4D24-B8BA-21175CAD363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A0B81A1-578D-4556-80C6-0C6FA3CF401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AC34713E-65CF-4C11-AAAE-D5E4878DF41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2844D48-7D21-4DCA-8B90-7EDEC8E6BAD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0F7D0A9-88F8-4E59-8944-96827C330B5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2E62BF5-C6BB-4BDE-BC3E-B9D23AA1891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91D0318-B712-426F-B5D8-1B1FD2F23D7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D8AAC12-D907-408B-975A-EFDED73BB96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60ED836-2FB6-43F7-87DF-D485C5168B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E9CD6D2-BAE2-475E-A0D1-E605857DDFA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8591625-AC14-4DFF-AF25-886B53723CB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A040439-408D-4FAC-9456-79FFEC28461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107CD6E-FBAF-41FD-9830-6F7B7AB7C1F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97233B5-3D18-4FCB-B7C1-B28119ACC6A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AF93EE8A-F1E7-4A89-B706-5AF5DA4577F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6BA5BEA-837F-403E-B600-D0A4F29653E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97D8037-3835-4177-8052-C4A9579E832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3AD3E08-3A1B-4F2C-80A3-ECDE4C58061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31A478A-0F44-4BCB-977A-D744B62CE6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25002B4-285D-4415-AA95-63B6DA21D01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A0C14BE-D3CA-4442-AD2E-71DE742AFAB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50080D5-54A8-4F3D-B0FA-8D1ACD71FCE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DA1100A-E6C0-42CC-BC59-9BE6CFB3A3C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4A1FAD9-79AE-4A32-A71C-B66E2863768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1D4DE3B-C6CE-44DB-AF2B-6206F53B0BF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0995DEC-5090-494E-8951-F6B42201559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7716D0E5-EAAA-40BE-BCA3-7640C1B1B84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A54F77AB-D16D-428B-B095-60C3140AA18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AA9B783-EF71-419F-8640-780C712B5F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F311F25-697C-4876-B293-DC4B934A457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A116B41-A3F2-45E1-A598-416B2AC1051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15A5170-43F8-43E0-A7FE-BB6822F8B68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245E463-7748-4B7D-8405-0261C7E32B8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76811E18-D530-402A-B014-D7930117DF0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073406A-DA9B-4986-BD16-695B16D4BF4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C06E9DE5-DC2D-4BF2-8016-C2155578BA0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2936A404-E481-4509-9D9C-177A0081DA4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D6CCA758-1832-4ED9-8662-758AEDF6408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473CFAE3-CE68-4DA5-9450-47C10900A9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AE0731D8-628B-440F-851D-29F39F8A86A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E8B89991-C06D-420B-A9E0-204B7C2CAC4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6878942D-15C7-43D0-AE8A-3298A93649D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9AE3163C-4076-4EC1-A82D-D4056B427CE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812A945A-5BC7-4697-8CC0-9ABC09E7F1A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8C163C4A-FB5C-4C2A-87CC-E6940B6F534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22508C32-9584-41D6-81A5-1DAC3EF27BA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722D899-003D-4D9D-88D4-6F1CB4819DB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53312A20-7F04-4EC1-85CE-8D0E135CCC0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CA4EDA52-36CD-4FFA-9E48-761709E1E4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6B11E7-E16D-419B-AE05-DD4FFFD0C72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3A3D01-56AC-4C05-A50F-ED1966A9AE6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0264AD-C13B-44D0-8D44-9052BD583CB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834322-6072-4FD2-BE19-14ABFD16A6E9}"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0F1923-359B-44E0-84E0-9D4C6D7CFF4A}"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89A2B4-5A1B-4E1C-AF35-61D88CCB5909}"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0397A3-C619-46DD-9C54-5620AE6E653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B2EE58-69AB-49FD-A559-37A32A3D04E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AB7C73-7B40-4DE4-84AB-B0625188C1F7}"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89574C-0C8D-4BA8-BBF5-ACD320E70F9A}" type="datetime">
              <a:rPr b="0" lang="en-US" sz="1200" spc="-1" strike="noStrike">
                <a:solidFill>
                  <a:srgbClr val="898989"/>
                </a:solidFill>
                <a:latin typeface="Trebuchet MS"/>
              </a:rPr>
              <a:t>07/31/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0E0FAF-5E55-47CF-B5F7-853FCF7D19D4}"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20BA4E-8582-4AA8-9DB6-FBC4772F016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B761A3-FCF3-4D60-8C44-87553E04C12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1B5B02-CC31-497A-B6FE-C2809B703E2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B2428B-58E9-464D-A53E-359D6BB9D33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6A6714-322D-48AA-9C07-B00A13843DE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A587F6-6D63-4EA0-9548-79C3B37DB884}"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057DC6-2C10-4878-A82E-0FEFD39BFCF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4B8DC1-58A4-4954-8E3A-8B00458B5F3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591D36-543D-4690-8A0B-82FAA915D567}"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E2F1B7-E8EB-48E0-AF46-52F1A7D0C33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F3EE68-4353-4CBF-B87C-28D1B97F3C31}"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51A028-B7D6-4788-95B8-4D0C327AE757}"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C36EDC-2847-43AF-9B5C-46C9C441A1E0}"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1D12CB-FD9C-4527-BC8D-E2ACA3A3177D}"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82FAE9-EEDB-4ED0-85F7-F3F24D5B1BBE}"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11EB4A-7B7F-409C-BDF2-F4DDECE3754B}"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8E3B62-4CB4-4DBA-8E64-E2AAF610A55A}"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4A915B-F5A8-4B2D-9803-36BB3C202E3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D6E070-4AA1-47CB-8B7A-A135EC50795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