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0BFA40-CE67-45DF-8977-45E4674C968B}" type="datetime">
              <a:rPr b="0" lang="en-US" sz="1200" spc="-1" strike="noStrike">
                <a:solidFill>
                  <a:srgbClr val="000000"/>
                </a:solidFill>
                <a:latin typeface="Trebuchet MS"/>
              </a:rPr>
              <a:t>07/31/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0E8224-984F-491C-A254-377D9A66888E}"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43FD7C-EEAF-4435-A48A-78AB11E576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281E06-26F8-42B3-AAA4-1814E3B3C8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A2BA5D-8190-44F5-BB5B-A1E367BD0A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784AEC-B676-45AF-9200-8D0DE4AF66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6C8282-9E93-4D8B-9EB5-DBDE480E92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67F882-CB2E-4E86-9183-EE737394B8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D3B4CB-8C07-4A2E-80BF-08761F3778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3B6B56-4AD8-4296-8193-1C1978445E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F1C6C722-D394-4A06-99EA-E91371D10B8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F967BA81-3EE8-4760-827B-0C7B6EE4221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78868539-6239-4810-938F-688168A0CC2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939F7DB4-5F99-4E80-81E9-ADE77CB7FEB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86D34B36-6C4F-4C0A-A984-3161BA7F933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2B010B7C-2E61-460D-BC2A-01FBA184970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F3817BA9-80F6-43EE-BCE2-F4CB5D7C3AF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42213BE7-6439-4D6D-A04F-7534A1CB3BD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0E17586A-0500-4637-9794-7BF042CFB1F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66B7ECB-8293-4BE0-AEE5-54004A24B4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4806251E-02FA-49A0-9FE3-0823AB3608C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53191AF9-B6EB-41FA-AC89-B4E058F1EC4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3D7F1E4B-3C48-4426-A98D-8596011F5AF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C54DCA65-0790-478B-8426-91A445E72A6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004B5A96-DC22-438C-A2A4-DE41860A435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2F27C3AC-B61D-4B51-B081-085896CC6C1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470CE31E-1BA5-4226-90C7-E2AE0DD113F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FB15CF4C-DCAF-4A4D-B5EF-1D51FFFE56C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4F033920-8FE7-44D5-BD3B-4C64670EF32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5F0E15F8-AF70-4C2A-B74C-9F39A23C9A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10357D9F-3772-4C07-8CFE-6E6F50A1558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DE6F50F-2EEF-4269-8112-557474651F1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E9EBE1A5-E3DF-4C1D-8B49-E51BA4BEE96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3ABDA287-B409-4543-83FC-3D509339C05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CA3036D3-4F8A-4120-974C-854700B4A8B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F9C46163-306D-454C-A5B3-0F68BCDB31F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AA640FA3-3D6B-4CD2-B7C6-D5CB4F47C58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1C2A41CC-5E06-45F9-BE97-697B6019015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3A0E79CB-E7C7-43BC-AFB7-F339D94B06F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0C1D45FA-690D-43D2-9721-CBC50BCADB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1AC4AD60-5FD4-4FF5-8D27-EFD2926F0D6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DFDCCCF3-1A7B-4BB6-AE99-96D13A58C13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F7E1427B-27EF-4693-8DA1-B88A9922846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1030A76C-CC58-4CAB-8DDE-1AA4767AA88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701C30D4-5793-4D1A-9F85-AFD6478943B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15EEB9BA-D292-4208-8D7B-935855EE3E4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CC09AF65-4D20-4931-BA5C-579EB99FC1F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F412338A-3907-45D8-BD8E-7BB23CF41F9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42B82115-0018-4CAC-8823-21B3E942638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CAFC9B4B-9F35-4B26-A7DD-4BCAFFB3C5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509EDC08-D7E4-4358-8A78-8DC5B7E5CDF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239832F5-6EB1-440C-9736-522FD24CA8F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3B36D9B5-E982-4D51-A4B5-02FF8B5F321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E7907A5A-4E08-48B8-8DAF-A0EF1C0349C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E4001BA8-2C50-43C2-A5B1-E943880CB07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2A65F3E-15F4-4EBE-BF7D-E52CD6A08DB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384F1CF-31C0-4593-AF41-6969A5D938E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B851588-1910-4CCC-A637-8D6C78AD44C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42A84B6-1D54-4E47-B33E-970F46662E2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8ADA900-F1F3-4E16-832B-FB2B86A8145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9FFC1F6-012F-4530-8EDD-6A814FC17ED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74DD7F7-B598-42E3-B66B-64CE6D12DF3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E775BD4-43A5-4188-9A59-E6BDA3B585E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2ECA781-0E61-410C-BD1F-11D35E130C9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6921FA2-8B8A-43DA-B25F-5532C88581D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4D4E10B-9606-46B0-AFBE-40B21F1051C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C425151-DCDC-4A71-8130-DA3128BC373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54B58785-4039-447E-A07A-3D9DF659C340}"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292FFBB3-2B0A-4E2C-A5E9-529465074278}"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D5743A7D-B12E-44AC-9FD2-1C6DFF59AD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7525CF70-1FDC-4765-9BB6-513A32C2D27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C7D07F01-0C2B-4B17-A1FE-5B819BCE0322}"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9B64F996-A97C-4ABC-A931-742EBECA5C8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8A4CB49B-9BF9-4BA4-BC62-A47F3121F17A}"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A2CAAC7E-EEFB-4873-AD79-546DF6D2418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B2C4F1EA-C1AA-4FAA-B48B-93D4A54515D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E8182EEB-B214-4CDE-8E68-A6D720194CC0}"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937BCC69-10F7-403E-B395-7E564DFEA617}"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DA8D9205-1D6E-48F2-928A-7A4856BB4E23}"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14B83876-8C57-4149-9939-3379311B1E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D4A5D799-056F-4371-8426-A90D418078AA}"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03955561-0550-430C-BA14-17CF0301FF0C}"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56A60382-1224-4955-942B-1744826570BB}"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F31101D5-A28B-4370-B79C-881104BC964F}"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5168058A-E3D8-4F27-BBC2-6912BFA818ED}"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A90C5B65-36AF-4CC6-997C-3C9E23D348FE}"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FF74F649-5580-4C2A-8784-08B60BE0D401}"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5C824ED4-01C3-44AE-962F-2130B813C1EE}"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18B13B01-2FEC-4082-B4DD-7C04E766ED9A}"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C8579400-56BB-4023-B2BC-3785596802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429EB080-69DE-4C36-A7E0-4C9A1478E136}"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A9F947AC-A076-4904-B961-BD40F9681D7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C97B344-F04A-42DA-8BD3-81C30B4E60C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C26D764-3C94-4676-B6E7-A4F8F3BCDB0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D42DA8B-7E14-4ED4-9D0E-CC14815E606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13A6B2C-D982-4EEC-B351-4626A74E01E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19CEF32-6F0F-4AB4-A020-F922E382535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044893D-FC11-4212-A685-11CFE2A13B9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F9E61B5-CE3B-4DF2-8C13-833CCF19A89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3B1451F-A4EB-4C9D-A2D8-7292BB4DCB7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4105725-6E3C-40B0-B72D-FE5FECAD737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D40B55FD-1789-45F1-82F0-B3D4B2E2C485}"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F009E355-931E-4780-94EC-829F345A83DA}"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F137F300-1DF6-4AF1-8E71-1A26C927749F}"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A7CD5984-FCC5-43D7-8032-3907A753DFB9}"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3FEEAC23-ABFA-4A6C-973B-20389A9F7BB4}"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47470735-A4CF-4CE1-B6C4-3BB4D1973FC5}"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56974926-3BC9-4E67-8DA2-8A00CD5F0019}"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869D93C6-CE58-4ACC-9818-B1E05A8CA213}"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1EA46A54-0B22-4CF6-B52A-1F80AE858D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464A6B43-213A-468C-9D11-4F40DC98EB9A}"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18AAC599-79AF-46D7-BCA5-CE2DC4D28F3C}"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182CD281-28DF-4F4A-BC38-FB740773294B}"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40367882-D0D4-4CDF-8B56-B68951D54605}"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A0B18BD4-72D4-467F-9987-F4FADED7C53F}"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E154F4AB-AF81-4B38-A7F0-78855A3B135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5CC00CC-AB0E-4FFC-BD86-CA0B5522ED7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18A3546-0901-419F-900C-91CC9D175B5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81E2B48-693B-4258-BC6A-1828DB87351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A1CF128-3354-42FB-8A48-9339B4D9775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7A427B3-8ECC-40C7-90C7-7D17D232A7D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C4C1921-0B44-44D9-B25D-10498B76BD9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F4314AB-6C42-413E-8F42-A81BA2F0371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2DAF7EF-BD7B-4053-9113-E918EF66D89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3323131-DC54-491A-8EE4-F67519F31B5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5C8B2936-5530-41D3-AA84-541C7197511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0B815F6-8AA5-4EFD-850B-C132D9FF44A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1F17D71A-0D88-4933-8456-119CCF92DC64}"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32BEF86F-D8CE-4793-95B2-38A2D36F63CD}"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E96EB0A4-A3E2-4AAC-9ED8-C34B984E00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5E11D75B-CE64-4CF1-A272-5CD195316EB9}"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E0E59635-D91D-471A-B098-F550B3AB753B}"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20C66024-6010-4F42-B307-A64619969D78}"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0830F46C-4AD5-4F6A-98C3-62C1E1A8FAEF}"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C8642DFF-59AD-4F8F-A4EF-2CABB1232C68}"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AF431053-74A8-4B4A-940D-3FF2D4E739CE}"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B832DFB0-8B62-44C6-9825-1715A99FFC53}"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5486940A-614A-44A2-9D5A-1FB7F17C294A}"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69B923C1-0280-4C83-B234-CDC6BCDAEA04}"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96AB7D2E-5C5D-48D2-91D2-A0F3B5B30C7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30C2BB6D-87A7-4392-B378-25E059A45DB1}"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C5BDC0F1-F4D7-4704-BA39-8D702CBC3C9E}"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60C76BCC-EA10-40E7-A151-3C8C5F882E45}"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BD280FA0-5828-4E4C-A1A8-F8E979AEB9D5}"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B073E4E8-AD69-4250-96AD-2642F0C85086}"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737546F3-3376-4D7B-983D-24EF7888A962}"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D28E8D68-8E42-45FA-8BA7-956A2E3DE220}"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A4CAD94A-C6DA-4803-9087-EE5698712567}"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EE9B54FF-A6EC-490F-AC8E-877FE4CF8F4F}"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406A529C-FE42-4D6F-AB99-E255658931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A0EAE787-7982-41A0-906D-7E4D0BF0EE76}"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8ACAF393-5B59-4BFC-91EA-BD36477DFA90}"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822FE607-4B84-4CEF-A23D-6F633597004C}"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33A1D439-AA60-4817-8D4F-15E98FA39D80}"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5841DE87-544D-49A0-88D2-D967AFD6A67F}"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72EDDFB5-88A2-4CB7-A543-FCD90F9ABCCD}"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6967F23C-33C7-4390-86BE-B8D925ECF342}"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8EDE83D6-808A-4ED0-89D8-7FA47BFB49EA}"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2ED897F1-2E5D-4F80-850B-022FF939D57C}"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22DE2C7D-703A-4C11-999B-5BF22F61CC2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B7D0C386-DB53-4F85-BAD4-1515588F1AB1}"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357ACE3B-1070-4336-B9BF-CEDD0212A5D6}"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1D3FCFD8-A9F9-4892-9924-53B65A3CBF8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B65155-225A-4060-8283-1EA8FB0BDF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1A71B-96C3-4B37-9CD5-E216CE80F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6A4FA-BFD3-443F-AE4B-231D64AA3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78E6A-8D73-4BCE-9883-0336EE2C1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C7E74-116D-4EC9-818C-1E26F14E5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9E48A-4BE5-484D-9E85-F353F83EF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107D2-7D59-467B-A3C6-2A868C393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8AFDD-FFCA-4196-A302-B78724060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FF0D7-B9DA-45A6-A383-15B0A6546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C1B3B-5280-4AB1-9BA7-8D9EA1572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C5FF25-C7EE-48B1-8524-80BDE7F176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95AB69-49DC-4E28-9337-2F5E4C9339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859618-7C53-4796-B464-011BE1CF8C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7639324-5F63-4AED-B0CD-95EEAF58DCA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B00AB15-5F99-4DFB-A97B-A2DB6A8BCF2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39C4674-D25D-4A7E-8212-75F98B38964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B52E76D1-84C3-4296-B3E3-2210525A6A3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7EC2873-51F6-467F-94B5-431556B5722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7CF9C32-1822-448B-BF88-7683CE4D837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3BF1D62-0C3E-499D-ADA0-8C8307E28F5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E5A5E11-AF60-40D8-99B0-BC889482BB8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58AC5F8-ED25-4103-9235-2CF285E9499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C6BC864-7DE1-4D08-9CB8-E62A4D01EC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025DD89-F9F5-4C5B-BDB6-A544B686D2C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39DF446-4B67-4EFD-992A-49FB973CD12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A9663E1-5A97-4003-B75D-DF13AA26632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AA9CCD8-A1D5-4C0E-AF04-21751B6914E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9B75E71-7E33-4FA7-9297-FFD0B0EAB70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2D04297D-9508-4A03-8A89-930C1448433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FC657C8B-3A08-4A29-8137-057E3672B78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83BFDA4-F7ED-4F5A-A83F-B09068AF0CB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2BEF14F-D4CE-4DAA-8917-9A9542261EB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922A1A8-D2A6-433F-9177-C39F149A61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4B5718C-8398-4785-9A20-1FF7D30BC9B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51E168AB-A858-4D00-8B59-3538E139945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354D2632-2F96-4EC9-BEC2-4E5A744F834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C811D89-F349-4921-BD4A-60D2528C7E6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2A8D567-9E00-4BEE-BFC1-0D44ED2A589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8BB1E0C-39D0-4EEE-A897-5400ED6C3A5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6B7A75B-5168-4D83-B18A-4D267657FA9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C9E1BCD2-1746-426D-A839-BABE1275EB3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4868EBA2-B369-403C-8391-A93F886E310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BE8FCA7-417C-465B-A217-41C753D10C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F149131-207E-4118-9AB1-810DED1AB18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ECAE8DD-5AA2-46F0-AC13-DA7D9A624D9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21C2DC9-C7F1-457B-9C26-85446859DD5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3A54BA9-D599-4BA5-9779-50E2BE3C0CA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8CE25624-6B9F-4950-B481-D9B71660B04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063261C-39A3-47B4-9309-31DAB7B9C5D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A1357634-5B82-4948-803C-12185381C42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45EDA1EE-2894-4B54-89AC-14B445884D7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B6275694-7C3D-4C74-B49D-5A3CD90B0EC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6BF2D0C5-09F4-4534-83C9-53B600D397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F4A1F990-90A0-42E1-8BB1-409A9C29797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7EDB01AE-B694-4F72-ADE1-A6650E0471F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8F0518BB-0A21-4FA7-BDEC-5CE8CD8F991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B38A6822-235F-45F7-A340-90ECC49899B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F9BF2110-A601-4904-B0A5-81BE4B2577D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AD7020CF-BA73-45BC-A490-5FB780BC9BC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49BB55B8-53F6-4DB9-B745-7C9F38E546D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4C87DC7-FFB6-4D93-9129-A7F844FF00A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9B5EC405-3A45-4582-8103-2A64CDAE887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071F2334-444C-48A8-9EB2-2B49346CB8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2C6465-9456-415D-AC79-7CFFAA22556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A97782-FBEF-4D71-A021-509E9BA20D7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5F6756-40DB-46D1-94CE-A7F537C2660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56C919-3F7F-4216-B758-CEF9E88AD1B4}"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7836CD-15CA-4489-9B8E-E643D1C140BA}"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9631F4-595C-4B08-B2CC-4CCEA83CA0F8}"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F0B532-ECCB-4FD9-864C-9ECF169BA9D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B6673E-93DF-43AA-9183-BED68D8ED7D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6A8ADA-B8ED-4FF5-BA85-07F5363FBEAF}"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690480-7EC5-4B15-8CFD-FF0DC4A22BBC}" type="datetime">
              <a:rPr b="0" lang="en-US" sz="1200" spc="-1" strike="noStrike">
                <a:solidFill>
                  <a:srgbClr val="898989"/>
                </a:solidFill>
                <a:latin typeface="Trebuchet MS"/>
              </a:rPr>
              <a:t>07/31/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1698BE-F949-46C8-BBDA-7D043C5FA3BD}"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02EE21-A267-49A5-99F2-692C2F16B1B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968C4E-BE1C-40F4-AFEF-7FC555C527A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8B67CE-F4CB-414F-841F-3B428E8D7D4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5F8A22-634F-4CF7-ADC1-D6A83C39BC2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2194D1-2EE0-4A7F-B7CC-D96B09FBD2E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897158-C87F-4DE5-8875-EE228AB14FC6}"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E29309-3316-43C8-87DE-5F91C3DB784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1E3482-8EEA-4C7B-81D5-F5F3C836CE07}"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F9873A-643F-4610-B183-DC56C6EB2002}"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2B8F0A-FF07-4950-B8C3-F9C3B928229B}"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81039B-AC5F-4025-84F7-8C013D9F35A2}"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58721B-96DA-4748-AAAB-AC10E645C8E9}"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CDE357-D3A8-439B-9392-4AC5B5D50DE7}"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9BCCBD-63AD-4771-8A97-4239CE642F86}"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997309-9831-4E8A-A1E1-3F5F7D3A38E3}"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7A3E71-AC5C-4A05-B537-D282E88DB0F8}"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FF5616-8690-4C82-AC59-F90DF4F8DDD7}"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5F1FAA-77C9-4147-B235-5CDEF2400E9B}"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A09189-2A0B-42F8-BE10-831ECA692C4D}"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