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1BC257-AEE8-45CB-B3A7-7B91E69808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B95C76-4D87-4657-8A66-31EE2AE61B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0026B-C760-4676-A854-2455F6D2D1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04C41-2491-40F9-AFE8-6C20A6FF6B1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70DFA-8172-46E0-8179-48DD5B8CC7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F957EC-21B6-4CD9-8082-8311D0E2F58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D2496-E080-48F6-B78C-3852933EC72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A1B15-1827-4725-B27F-D37A7508E0F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E283D3-5611-4514-B25A-FDEAB359215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3040D-1B25-47CB-A237-64E4BA371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E8CC4-F052-4266-A682-D4B941D3BA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4C44C4-03F1-46EC-B831-6466138618C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3869F-0F20-45EE-AE30-356CFDA2430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3744E-D0FD-4058-BA65-6E401779B06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89963-FDFD-4BA0-88DC-94C033682AC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836673-93A2-4A42-BBBB-81448A49060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41148-3989-45CA-BAF8-D2A54E23FAC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7AE5A-7985-44C0-84FB-96600AB7544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E0D43-F08A-4914-9A1B-57570141B3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80761-59B0-4833-A735-9ACEABE66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E73F99-B78E-427F-A670-FA2B64ABCE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4533F-8929-484D-8442-EE5DB4E6D7A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4E96-6A57-435B-9B07-87C6DC9C041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7A666-0150-451D-BB03-7862A66CF56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18D7F-1391-4C3E-B0F2-A869196D9E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7260-0D4C-4AB9-A968-ECD506F95D3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816C-957C-4536-8131-32E11F2727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9DF2C-5E56-4496-9F0A-15CD58ACB9A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FD9B1-7CBA-49E5-B3F2-1C43795AD53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5D7B-BFCC-440A-8D8F-1C079905E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736AB-33D5-4DE6-AC0E-92D93934640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86A16-71B7-4E1E-B392-48BD52ED908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3138-4EC3-4599-A85F-CB278ECD636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99E640-2FCF-425A-AA0B-D1F11144407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EABA85-5291-4533-9567-2CBF9DF3723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288C30-F8C0-4D5E-9E0F-C8748D58943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E80599-5BDF-4E2B-BFD3-6011EA8CF94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54C47-0494-498A-926B-03217B9D83D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4C498-5E59-4094-AE7B-95706678DC8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D0EEA-8813-481D-AE29-7F87C07DEE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2C4A2-7584-4353-AE03-1FE8B15790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293141-4189-4D94-B7EC-F172274B001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F7FEAA-CC45-4C3E-9C21-4AEEF4EAAC3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26418-E390-4442-971B-73D68786E4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2C2C33-F569-47AD-9E44-40E32AC2DE2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39B9F-7139-4CA2-A707-02D78DC4250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3AC12-9241-4A23-AC56-BA8C7241556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3D1FE-9680-4A9A-BC1E-B7202323137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D2A04-C797-445E-8171-5463A8A7173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2AD7A-55C4-4C70-8FC1-A8F3DA21EC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CE5BF-18E0-4615-B92B-C7F08B6E174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707AF-46C6-45EB-8F42-2B2351B618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778FAD-28A6-460C-B3DE-8C117ACEC13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3140A9-E2F8-417F-B443-FFA499C8C11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5CC57E-44EF-44AB-ACB2-883C0ED8423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2FC2D-9F89-477C-ABAD-3123ABE8911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5EF70-6377-4EBA-ADF3-279F6025E08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4630-F42E-4E00-AE64-7EC064BB3EC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F8BF4-1B35-4397-BDB3-4750702FDE0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25A9A-D193-4329-8267-7D5E280EC6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7787C-7663-48DA-9EA9-FDEB989B7DF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3FD08-731C-4241-9EDB-C456E258B57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DC34-553D-4AFB-B6AB-59489E50E36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C7227-DD61-494E-A5A7-7B39D746503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692AD-AE78-486B-9773-25DD02CF3D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383A-D5DA-485C-A03F-35035DD8134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EDBE-3513-442C-9238-A4FCBD4A2AF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5CA8F-2791-4D58-8D0A-5F7E10296D9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76897-178B-4997-9607-319E606994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38C-0136-4C35-84EC-D2530DBF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8E0-F31F-4F1D-B282-1B5C6500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C91-9FF8-405E-A390-03899CB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0F3-A1F5-4D02-B940-76E37D8D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F19-AD97-4C00-B2AF-47E6E39C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6A7-95BF-41E1-8703-146F4A2C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5690-9614-470D-98BE-D3E7138A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8594-B36E-499E-BCCC-394B952A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1F4A-3107-4E05-8977-87BF9DA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BAE-1D72-4075-A3E3-E6E1A071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468-ACF6-41A7-B55B-B3B88C6F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98B-DCA8-40EA-B0F9-EF139C92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0B6D1-ED25-481C-88F1-CD2FEB596F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4ACBD-FF37-4E17-ABB8-77967B9804F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1307D-3F78-4851-8C05-2C7E38400A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9A801-6BB1-47AF-83DE-D5B378185A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312B4-D650-48EC-A211-FC52BCEE829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D6B5C-D7C0-45D4-ACDC-825DEFD1046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A6A67-FE9B-49D9-BF65-7ADB811872B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89B58-9B95-49C1-BE22-F3455CBAE4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56EE7-0B9E-43CB-839F-B73BEC27F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4EBA8-8055-44C2-B5EF-EBD6CD154A1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91166-118C-4AB9-AE78-2EB291FA45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7F17E-559F-486D-BD10-E677731876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308FC-3E58-4B65-83F7-58E06F67CC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C3212-2B17-476D-B983-C341D671DB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72F55-306C-45EE-AA3F-5EC6E9212EF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14BFD-73AF-49A9-8ED2-623F744D052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5F447-A6B5-4DF7-BA8B-CA99500847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23CC9-7779-46A8-8120-1FE52E6BED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27C5E-ECF3-4CC4-8C44-AD6C38783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7D9BF-5DB1-4118-B15E-7755C5009EA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3E85B-D9FE-485B-87F0-08053E01DD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3FEC7-5955-47DD-95F8-00436854FA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B9B8F-37F3-46F9-A08A-370A25A8311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DA0C4-1F98-4AEB-AE79-E6D13B493F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0503-FC60-4240-83C0-F8A8B31285B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D7C9-B385-418C-B9E7-7915DDE0ED5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7562-7E6A-486A-84B5-347144345F3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BA85-CF93-4296-B399-6F0BD48EFE9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0076-BC7E-4723-9C39-09AFE1995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D607-47CD-46DC-BEB5-9D63196FEC2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AA85-1A23-4EAA-881C-5795D69133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1673-8B7B-482B-B20F-2B63E385FD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0B21-CDFA-43FD-86C8-E3D8BC2737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1A8F-F8A4-4387-B50A-2F0720FF21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241D-1950-4B73-9C52-ED88381516E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331E-E421-4228-B4DC-DF4776609DE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5269A-B7EC-4D6D-ACD8-F061B500623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5EF9B-2142-446D-8235-4DD412CA3A6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83BF4-E937-4815-9F47-3FAE5672E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D2103-A7C0-4A47-8418-2691C4AD5B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CA1E2-97DC-46B0-806C-A6A102396F3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F767B-02DD-4C5D-B591-35F91A5BB0E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ldNum" idx="11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F4A5C-9176-47CE-BA05-5F129314A8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42B60-3EA3-491D-844C-6EB6321223C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4E3DE-9754-466E-AE29-B804976DB4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E39CB-9701-4DB8-A330-C8F1D93FC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D9D35-E602-45FE-8895-F90DB528085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42CFA-62A0-4306-8256-E0ED23EACE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8610C-CE85-499B-8B5F-A252D2E3A5F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2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57035-636C-40FE-99F5-E23BF91E3E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icann.org/en/public-comment/idn-vip-proposed-project-plan-20feb12-en.htm" TargetMode="External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cann.org/en/minutes/resolutions-25sep10-en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community.icann.org/display/VIP/Home" TargetMode="Externa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DN Variant Issues Projec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(VI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Project Update and Next Ste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11 April 20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1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73068-257E-4FB0-986E-7444D44FB0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ntegrated Issues Report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752560" y="137160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the sets of issues relevant to all the studied scrip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ny sets of issues that are script specific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ovide a brief analysis of the issues, including the benefits and risks of possible approaches identifie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Identify areas where further study or work could be pursu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65675-E7F5-46DF-8E92-A15A1F22F0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ubtitle 1"/>
          <p:cNvSpPr/>
          <p:nvPr/>
        </p:nvSpPr>
        <p:spPr>
          <a:xfrm>
            <a:off x="1582560" y="228600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ntegrated Issu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port out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14CDF-8108-44F9-A741-F899248DF7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2797200" y="1152360"/>
            <a:ext cx="6238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xecutiv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-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- Project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– Range of variant cas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4 – Establishing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5 – Treatment of varian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6 – Other 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7 – Discussion of potential addition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at is a 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“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variant</a:t>
            </a:r>
            <a:r>
              <a:rPr b="1" lang="ja-JP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”</a:t>
            </a: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72A61-7E71-4EF6-99BC-55C5EE612CA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"/>
          <p:cNvSpPr/>
          <p:nvPr/>
        </p:nvSpPr>
        <p:spPr>
          <a:xfrm>
            <a:off x="2438280" y="990720"/>
            <a:ext cx="6597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No commonly-agreed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Used to refer to a number of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Report continues to use the term in a loose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More specific terms are recommended, e.g., 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variant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with a qualifier to give mor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Scope of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043B1-5F68-44F0-BE9C-08FE7432870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2590920" y="1490760"/>
            <a:ext cx="62388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ssues discussed concern IDN variants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t the top level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(i.e., IDN variant TL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ther related issues are discussed as rele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lassification of identified variant c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FF16E-1797-48C2-A914-78338C28C99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2797200" y="1295280"/>
            <a:ext cx="62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Variants"/>
          <p:cNvPicPr/>
          <p:nvPr/>
        </p:nvPicPr>
        <p:blipFill>
          <a:blip r:embed="rId1"/>
          <a:stretch/>
        </p:blipFill>
        <p:spPr>
          <a:xfrm>
            <a:off x="914400" y="1828800"/>
            <a:ext cx="7238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ole string variants vs. code point vari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B0B2F8-5562-4C92-8FFF-F99EA6D738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2666880" y="1488960"/>
            <a:ext cx="623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de point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cod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a single code point is a variant of another code point or sequence of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hole-string varia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 based on a relationship between whole str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their meaning to a language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6BF44-E712-4CDA-BCF9-D4523ED7222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2514600" y="1600200"/>
            <a:ext cx="623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wo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Code Point Repertoire for the Root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Label Gener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05279-D96A-4124-A961-9C6A91A838B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TextBox 5" descr=""/>
          <p:cNvPicPr/>
          <p:nvPr/>
        </p:nvPicPr>
        <p:blipFill>
          <a:blip r:embed="rId1"/>
          <a:stretch/>
        </p:blipFill>
        <p:spPr>
          <a:xfrm>
            <a:off x="2792520" y="1219320"/>
            <a:ext cx="6248160" cy="4529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the Code Point Reperto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7D0DA-45BC-4C6F-B140-3D1D29D580C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5"/>
          <p:cNvSpPr/>
          <p:nvPr/>
        </p:nvSpPr>
        <p:spPr>
          <a:xfrm>
            <a:off x="2797200" y="1295280"/>
            <a:ext cx="588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code points selected for inclu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for sele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ow future changes in the valid and/or permitted code points are to be hand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Trebuchet MS"/>
                <a:ea typeface="Trebuchet MS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63D76-2E80-4C2A-9EF8-CE860FA739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90920" y="152352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) Project Overview and Go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) Case Studies and Integrated Issues Rep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) Next Steps:  Project Pl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4) Discussion and Ques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Establishing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E009A-7807-44C4-BF60-391A91C42E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2797200" y="1219320"/>
            <a:ext cx="623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bel Generation Rules (LGR) for the Code Point Repertoir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ying code points that are variants of one another, and the code point substitution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blishing the status rules applicable to labels containing permitted cod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Creating Label Generation 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E5B61-9D7B-4A27-93D5-F417CC8C7F4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"/>
          <p:cNvSpPr/>
          <p:nvPr/>
        </p:nvSpPr>
        <p:spPr>
          <a:xfrm>
            <a:off x="2797200" y="1295280"/>
            <a:ext cx="62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expertise required to determine code point variant ru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ich label states are permit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hat flexibility should be provided regarding use of code points with different script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eatment of variant lab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C37FB-A55D-4548-A166-68DC587E5A7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5"/>
          <p:cNvSpPr/>
          <p:nvPr/>
        </p:nvSpPr>
        <p:spPr>
          <a:xfrm>
            <a:off x="2590920" y="183024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ssible state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ctivated, Allocated, Blocked, Delegated, Mirrored, Withh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ulting user experience and ICANN/registry/registrar operations dependent on which states are employ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User experience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2B656-A3E9-43BA-A2C9-F75F44B92C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"/>
          <p:cNvSpPr/>
          <p:nvPr/>
        </p:nvSpPr>
        <p:spPr>
          <a:xfrm>
            <a:off x="2743200" y="1676520"/>
            <a:ext cx="5791320" cy="34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any types of users consider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apabilities w/r/t the script:  full competence, limited competence, or no familiarit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r roles:  system administrator, other network operator, domain name registrant, software developer, law enforcement/security, end user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Themes in the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34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EC96E-9D64-4302-83FA-C920C38666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2743200" y="1295280"/>
            <a:ext cx="5791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nsion betw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t in creating greater functionality to address a range of potential variant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fficulties of meeting those objectiv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sks and cost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 for cost-benefit analysis for each potential mechanism to balance risks, costs, and benef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6D803-E954-4CF9-889A-B6E3585A951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0476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Next Steps:  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otential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40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F284D-0728-4C8D-A124-DF981D4621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2743200" y="1676520"/>
            <a:ext cx="579132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ral potential projects identified in the Integrated Issues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pen for public com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public-comment/idn-vip-proposed-project-plan-20feb12-en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ent period extended to 8 April, with reply period through 29 Apri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1:  Label Generation Ruleset To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78FBF-F78C-4F33-8E53-1DBEC3E5AA2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2743200" y="1676520"/>
            <a:ext cx="5791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he specification for a standard tool for listing the allowed code points and the label generation rules, and for the generation of the corresponding variant labels, if a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Specifies a standard format for an IDN 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Placeholder 3"/>
          <p:cNvSpPr/>
          <p:nvPr/>
        </p:nvSpPr>
        <p:spPr>
          <a:xfrm>
            <a:off x="304920" y="2514600"/>
            <a:ext cx="2133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41,880 FY12 $80,520 FY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Already ongoing; Not dependent on having variants in the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3:  Examining the Feasibility of Whole-String Vari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E6E5E-9113-48B1-A7A9-A8C9C50968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5"/>
          <p:cNvSpPr/>
          <p:nvPr/>
        </p:nvSpPr>
        <p:spPr>
          <a:xfrm>
            <a:off x="2743200" y="167652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feasibility of unambiguously identifying and implementing whole-string variant TL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2133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122,512 FY12 $130,55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59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5:  Examining the Technical Feasibility of Mirr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E76DE-D76D-449D-BC58-ABDA7108FA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5"/>
          <p:cNvSpPr/>
          <p:nvPr/>
        </p:nvSpPr>
        <p:spPr>
          <a:xfrm>
            <a:off x="2590920" y="158904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technical feasibility of mirroring variants in the root. Particularly the feasibility of ensuring that mirro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eyond DNS, in applications like Web, email, FT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irroring</a:t>
            </a:r>
            <a:r>
              <a:rPr b="0" lang="ja-JP" sz="24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means a mapping of 2 or more namesp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88,890 FY12 $177,08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0C4AE-2195-404E-BB64-BF27809634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04760" y="23623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ject Overview an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6:  Examining the User Experience Implications of Active Variant TL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D2BDE-1DC0-45C4-AD68-0EA1727B24B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5"/>
          <p:cNvSpPr/>
          <p:nvPr/>
        </p:nvSpPr>
        <p:spPr>
          <a:xfrm>
            <a:off x="2590920" y="1654200"/>
            <a:ext cx="60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udy the implications on user experience of variant TLDs in both mirrored and non-mirrored implemen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53,930 FY12 $426,512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2:  Label Generation Ruleset Process for the Ro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E3AD6-5C32-461E-AC51-944F9C6631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2743200" y="1447920"/>
            <a:ext cx="5791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2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termining the approach to developing the code point repertoire and the label generation process for the root zo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2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2.1,work is to develop the code point repertoire and the label generation process for the root z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27,42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2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4:  Enhancing Visual Similarity Proce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EF2F7-B207-45FD-A416-61B4FB6AEC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5"/>
          <p:cNvSpPr/>
          <p:nvPr/>
        </p:nvSpPr>
        <p:spPr>
          <a:xfrm>
            <a:off x="2754360" y="1252440"/>
            <a:ext cx="608472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oject 4.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velop an enhanced visual similarity process for the root that is predictable and repeatab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roject 4.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Depending on the outcome of project 4.1, work ranges from keeping status quo to using tools like the LGR tool to identify visual similarity using a deterministic appro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Estimated Cost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$661,230 FY13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Project 4.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953735"/>
                </a:solidFill>
                <a:latin typeface="Trebuchet MS"/>
                <a:ea typeface="Trebuchet MS"/>
              </a:rPr>
              <a:t>Not estimat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7:  Updates to ICANN</a:t>
            </a:r>
            <a:r>
              <a:rPr b="1" lang="ja-JP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’</a:t>
            </a: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s gTLD and ccTLD Progra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AB1F6-B873-4271-B4B3-DE2386ECE2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 changes that may be needed as a result of the Label Generation Ruleset and the enhanced Visual Similarity processes in the new gTLD and ccTLD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oject 8:  Updates to ICANN and IANA Oper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672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DDE54-F577-44ED-8006-A6B02AA236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5"/>
          <p:cNvSpPr/>
          <p:nvPr/>
        </p:nvSpPr>
        <p:spPr>
          <a:xfrm>
            <a:off x="2754360" y="1447920"/>
            <a:ext cx="60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ript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e of work depends on the outcome of projects 2.1 and 4.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s proj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implement the changes that may be needed in ICANN and IANA processes and operation as a result of the Label Generation Ruleset and the enhanced Visual Similarity process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IP 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lide Number Placeholder 4"/>
          <p:cNvSpPr/>
          <p:nvPr/>
        </p:nvSpPr>
        <p:spPr>
          <a:xfrm>
            <a:off x="7010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9BF322-91BA-40C7-9ACF-E32DB8C826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Diagram 4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888400" cy="3127320"/>
          </a:xfrm>
          <a:prstGeom prst="rect">
            <a:avLst/>
          </a:prstGeom>
          <a:ln w="0">
            <a:noFill/>
          </a:ln>
        </p:spPr>
      </p:pic>
      <p:sp>
        <p:nvSpPr>
          <p:cNvPr id="677" name="Line Callout 1 5"/>
          <p:cNvSpPr/>
          <p:nvPr/>
        </p:nvSpPr>
        <p:spPr>
          <a:xfrm>
            <a:off x="262260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262260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on types and states of variants to Imp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Callout 1 7"/>
          <p:cNvSpPr/>
          <p:nvPr/>
        </p:nvSpPr>
        <p:spPr>
          <a:xfrm>
            <a:off x="5670720" y="3505320"/>
            <a:ext cx="1600200" cy="1752480"/>
          </a:xfrm>
          <a:prstGeom prst="borderCallout1">
            <a:avLst>
              <a:gd name="adj1" fmla="val 18750"/>
              <a:gd name="adj2" fmla="val -8333"/>
              <a:gd name="adj3" fmla="val -43814"/>
              <a:gd name="adj4" fmla="val 50671"/>
            </a:avLst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7"/>
          <p:cNvSpPr/>
          <p:nvPr/>
        </p:nvSpPr>
        <p:spPr>
          <a:xfrm>
            <a:off x="567072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ludes board decision directing staff to implement the variant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9" descr="Untitled.png"/>
          <p:cNvPicPr/>
          <p:nvPr/>
        </p:nvPicPr>
        <p:blipFill>
          <a:blip r:embed="rId1"/>
          <a:stretch/>
        </p:blipFill>
        <p:spPr>
          <a:xfrm>
            <a:off x="0" y="1384200"/>
            <a:ext cx="914400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4E1AF-9FCF-4E06-8686-75BAFE438C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90560" y="255276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and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hy this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A156A8-259A-4171-9A1F-1A5F891742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2590920" y="1676520"/>
            <a:ext cx="57150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ng-standing request from a number of IDN user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direction to develop an issues report on the su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://www.icann.org/en/minutes/resolutions-25sep10-en.htm#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3" descr="tagline.jpg"/>
          <p:cNvPicPr/>
          <p:nvPr/>
        </p:nvPicPr>
        <p:blipFill>
          <a:blip r:embed="rId2"/>
          <a:srcRect l="0" t="0" r="0" b="36540"/>
          <a:stretch/>
        </p:blipFill>
        <p:spPr>
          <a:xfrm>
            <a:off x="457200" y="198108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8C412-94DE-4408-A142-2152974F931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828440" y="2286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se Studies and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IDN Variant Issues Project Phases 1 &amp; 2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CEA2E-3C49-4ED3-AC1D-D050353D7BE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ight Arrow 4"/>
          <p:cNvSpPr/>
          <p:nvPr/>
        </p:nvSpPr>
        <p:spPr>
          <a:xfrm>
            <a:off x="3983040" y="2205000"/>
            <a:ext cx="1981080" cy="2143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egrated Issue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ight Arrow 5"/>
          <p:cNvSpPr/>
          <p:nvPr/>
        </p:nvSpPr>
        <p:spPr>
          <a:xfrm>
            <a:off x="152280" y="227664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rab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ight Arrow 6"/>
          <p:cNvSpPr/>
          <p:nvPr/>
        </p:nvSpPr>
        <p:spPr>
          <a:xfrm>
            <a:off x="30686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ight Arrow 7"/>
          <p:cNvSpPr/>
          <p:nvPr/>
        </p:nvSpPr>
        <p:spPr>
          <a:xfrm>
            <a:off x="6040440" y="2967120"/>
            <a:ext cx="838080" cy="64764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Public Com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ight Arrow 8"/>
          <p:cNvSpPr/>
          <p:nvPr/>
        </p:nvSpPr>
        <p:spPr>
          <a:xfrm>
            <a:off x="152280" y="266220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hinese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ight Arrow 9"/>
          <p:cNvSpPr/>
          <p:nvPr/>
        </p:nvSpPr>
        <p:spPr>
          <a:xfrm>
            <a:off x="152280" y="3043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yrillic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ight Arrow 10"/>
          <p:cNvSpPr/>
          <p:nvPr/>
        </p:nvSpPr>
        <p:spPr>
          <a:xfrm>
            <a:off x="152280" y="3462480"/>
            <a:ext cx="2840040" cy="30456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Devanagari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ight Arrow 11"/>
          <p:cNvSpPr/>
          <p:nvPr/>
        </p:nvSpPr>
        <p:spPr>
          <a:xfrm>
            <a:off x="152280" y="384336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eek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ight Arrow 12"/>
          <p:cNvSpPr/>
          <p:nvPr/>
        </p:nvSpPr>
        <p:spPr>
          <a:xfrm>
            <a:off x="152280" y="4267080"/>
            <a:ext cx="2840040" cy="3049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Latin Case Study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0" descr="idn vip report_Page_001.jpg"/>
          <p:cNvPicPr/>
          <p:nvPr/>
        </p:nvPicPr>
        <p:blipFill>
          <a:blip r:embed="rId1"/>
          <a:stretch/>
        </p:blipFill>
        <p:spPr>
          <a:xfrm>
            <a:off x="6954840" y="2230560"/>
            <a:ext cx="1905120" cy="214632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14"/>
          <p:cNvSpPr/>
          <p:nvPr/>
        </p:nvSpPr>
        <p:spPr>
          <a:xfrm>
            <a:off x="6878520" y="2243160"/>
            <a:ext cx="2057400" cy="21337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"/>
          <p:cNvSpPr/>
          <p:nvPr/>
        </p:nvSpPr>
        <p:spPr>
          <a:xfrm>
            <a:off x="2957400" y="1447920"/>
            <a:ext cx="2799000" cy="4597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i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28419-D30F-4E14-9B0E-35ACF6FB8F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2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: Script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7760" y="1599840"/>
            <a:ext cx="5684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6 teams:  Arabic, Chinese, Cyrillic, Devanagari, Greek, La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omprised of community experts in DNS, Registry/Registrar operations, Linguistics, Security, Policy, and ID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Case Study Teams completed reports in October 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13" descr="tagline.jpg"/>
          <p:cNvPicPr/>
          <p:nvPr/>
        </p:nvPicPr>
        <p:blipFill>
          <a:blip r:embed="rId1"/>
          <a:srcRect l="0" t="0" r="0" b="36540"/>
          <a:stretch/>
        </p:blipFill>
        <p:spPr>
          <a:xfrm>
            <a:off x="824040" y="1905120"/>
            <a:ext cx="123336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CF58A-E520-473D-8868-75C85FFF12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Phase II: Integrated Issue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2743200" y="1841400"/>
            <a:ext cx="5943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eloped with support from a Coordination Team comprised of representatives from the case study te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ummarizes and synthesizes the issues identified by the case study t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67B3F-9519-43DF-82F0-442D7489D9E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Trebuchet MS"/>
                <a:ea typeface="Trebuchet MS"/>
              </a:rPr>
              <a:t>Working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13336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600" spc="-1" strike="noStrike">
              <a:solidFill>
                <a:srgbClr val="953735"/>
              </a:solidFill>
              <a:latin typeface="Trebuchet MS"/>
              <a:ea typeface="Trebuchet MS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2819520" y="1371600"/>
            <a:ext cx="6019560" cy="47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CANN project team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ynthesis of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Writing and editing the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t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Advisory and reviewing 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iaison with the 6 case study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eekly teleconference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hlinkClick r:id="rId1"/>
              </a:rPr>
              <a:t>https://community.icann.org/display/VIP/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22:25:11Z</dcterms:created>
  <dc:creator>Karen Lentz</dc:creator>
  <dc:description/>
  <dc:language>en-US</dc:language>
  <cp:lastModifiedBy>Naela Sarras</cp:lastModifiedBy>
  <dcterms:modified xsi:type="dcterms:W3CDTF">2012-04-10T19:39:36Z</dcterms:modified>
  <cp:revision>222</cp:revision>
  <dc:subject/>
  <dc:title>Presentation Title</dc:title>
</cp:coreProperties>
</file>