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A97C0-575A-4D9D-92F7-C71A8A1054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CD4CCF-51E1-4129-8DD6-8F63494F3F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58D441-A1AD-46C5-8728-2FBCE4891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12D09-BEDD-4907-9832-95A7824C343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DEBE6-1495-4361-BCED-7A21B04A5AF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2A9C8-1907-4741-B511-986D90D3E0E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014B4-4A84-43EF-89C2-F85A601673F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177B5-9021-4699-8C84-CAE1161179F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86ACF-95F1-448C-BADC-F8A019C005D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0B235-EBD1-4967-A384-0F739B009A0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6D8CA-982D-4660-831C-F736CA16867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F83BF-5CD1-4A99-AFCD-352B977E580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4058A1-52AB-4331-A743-BA7654F18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262C21-53A5-4A91-8722-5C901B38E89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E09F0C-B5C5-49D5-A76A-06AFEEB5386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5552ED-166D-4C8A-93BE-40DE008A0AB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3C5EE4-AED6-4BA6-819D-5CC929B5F15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D6EA0E-8CE5-4F96-BEFE-3AA9748B745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C0AFDB-2DA4-48B6-A1A0-5A02F7ADFA5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CD6FD7-363A-47D5-9409-60E266378DD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AFB71C-7607-4227-824D-B2BB5AA1F52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7D24F3-3E83-4900-A9C3-89F614974DA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D922A9-CD6C-4D85-A0FE-9246ED3A7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69CBB6-E6ED-42A7-B188-A53A2DF4343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0E3F17-72BF-486E-9564-4B7AB96826E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DCAD96-AAA4-4C9B-B86D-6EBE807AD5B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44252D-E73D-4E12-9C8E-68514DD8EBB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FAD4A2-8B46-45B8-8518-3E9EA605FE8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B6DCB8-CA78-4628-92F3-87272888B51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FB0106-4004-4646-A6E3-350A1AB6DC0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C56FD9-1386-4695-8D7D-3E19FE34CF2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6E7856-475E-4F55-BA24-85B00505F30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0F325F-8FBC-4709-8FAC-C12F1731F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AD64C6-2179-4349-B4C0-223A4D2E17A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6A0E3E-D393-4EF1-B79B-0F34F1E3609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C19E5E-85F5-4DE0-ACAF-12A419A11A8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FC659-E921-4156-B230-5D6EAE512C9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C88EF-CBD1-4654-B653-0832C9535BB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B7D1F-91A6-4D0F-8410-2B90B781068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8A05D-B009-4795-B441-E27ECA0C514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3A14D-2FD1-4A1A-9B1D-CB95B8AFFF8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90C92-C35C-4CAF-97CC-163B248D319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F510E-05CE-4FE0-A104-958F8A4AF9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1386A-DE3B-44CA-A19E-71321ABA85C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B0360-09C2-4CCE-8AF6-12057743F2F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9D049-9F04-4168-B15C-EE9E6F1FEE4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12EF3-A8BF-45D8-B292-A4C2A254610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C5795-0C8A-44EA-BDE9-BB44FC5B030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410EA8-5778-43DC-A9CF-D8211056624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69D36F-8019-4D91-A79B-1E5CBC250C2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0D0D0F-39C5-45A9-A370-2AC38B0924E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CC7BA4-9C56-4494-93B1-DAFE912F844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4CADDC-9C7A-4D09-BBF6-D79D00F76E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A6CFB4-E8A5-4254-9E4A-FD874B2A105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5843F3-4F2A-4D48-8BD2-DCCD43FBBCA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786451-7250-4BFD-99CB-9AE133414DD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279D1B-5A76-4565-8074-7774FDBC175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C3C903-6DA5-4FD8-A39A-F2FB829D320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B8B560-8CFB-4FB9-A53E-EDA3DCBBE70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7FCAD9-532B-40DD-AF47-1C28DC9068E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24EA9F-4982-4B42-9572-017E3AA8C71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0B0993-A549-4943-BF92-974726DD8F1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85884E-085D-4387-BD1E-443D744500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7A6ECC-7B44-4C00-AED3-2824DCC0755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F71A8C-C704-4B2D-8F32-2F25E1DF0FF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7E0551-69C9-4420-B03C-F0302A7D655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FCA075-A38A-4E06-9F70-902449FFC8B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74E4DD-4C6B-4D3D-ABD7-4C8CD242DF4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73AD9D-E6DB-435B-A247-02949220536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D871C1-6F3D-423B-8D5F-A0D17C6BD11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9EE353-920A-48F7-AF6C-BAE39D715FD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9EE3F2-2CB8-47DA-B260-FB4D9082B1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08CF-AE7C-46E6-BEF8-C71EE645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1BC9-70BD-4A4F-BAB0-17D3DB72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5EB7-4BD9-4810-838F-F68FD817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1F73-C70C-4016-B995-D1625861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BC86-D5DB-49FB-865A-08BDB3FF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1D87-9F15-44EF-95D5-F9F50916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E6C-3EF9-48CC-A069-C6B107B8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FC1C-B803-44D8-ABD1-9D72A025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6D01-A7C2-42BA-A5E2-8F46E875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1FC-FC4A-4765-87AA-D157E975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8ED6-5DE1-4ACA-A497-1AC8EA64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B1F-21BD-4B04-BA24-63899CF0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343ED-9D1B-49F6-8567-566A24C79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29303-B753-4D49-ACFF-C02A1D44517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705A5-BA2F-46D9-BF1B-D3E5D3E29D2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1C3A9-B0F9-4FED-A927-A156C22673D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A1EE5-2589-4793-81E9-F1ADCE009AE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8BD16-1B58-47D3-B961-6EF86391DED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C4846-4781-4076-B2C0-7F405EFA69C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04596-EB22-4AFB-8C2F-756E1C26D3C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129AF-BCF5-40FE-A32E-0A1089C170A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DCD7D-F2A2-43B8-8900-75FA22D93DE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F6103-0B24-4052-AB11-DA436D372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6B209-8385-4DE2-83B3-11AF671AC8D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7520A0-FFFF-4AF4-9A25-D3F2F419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85083A-896E-4F9B-BE5B-5E9C1221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D3A6AB-31C8-4423-ADB6-875BDAED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84B945-2BFE-4E41-AC5E-D7BA3DEF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8536E1-27D8-44AF-AB7D-2DFB54B0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48FBDE-7F61-439E-88AB-2D653336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D6ABAA-3EAB-49DA-A0C0-C4BD3A9F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1BC2DF-EE50-42A8-8808-D33669F9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6BFD5F-BD5F-44FC-B129-BEDE1747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62AA6B-603F-4188-A647-61CFF84E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5BF062-CE35-49E3-93FD-C5F4E5C7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656EC0-C1DB-48A5-BBF1-77186F6A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F23C28-2245-4E59-9110-5E6BADA1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19D9C2-B986-42FD-968B-56C4C1CE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944D23-A7B9-4C03-B4C2-6F8F1944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B1ED0C-5597-47F8-9001-6E06629C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3FCA26-6CF5-445A-AC45-EA965452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0DC4E8-65D7-478F-98A1-25449722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CBDFBE-F851-493B-B156-E30193F8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08666B-BE35-4C0D-969C-C65BE34A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B3506B-4484-4555-B477-23B19A3C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E76C9E-6003-4CEF-8B03-2C6FA566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B73023-911C-433A-AD66-237906AF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DA242F-D00A-4402-A55B-24615E1C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964EB6-E761-42C9-8751-2723ABD4A57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661374-4ADC-4D97-83CD-035A4F5CB63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69F667-F353-4543-8F32-DD096EC145A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03ECA3-DBFF-4801-BB2A-277D0392A7A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8A1EF3-A094-451A-8DE1-13D4E7206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833625-4F0C-482C-8D8D-A21A15791BB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631BF5-754F-42DB-AF85-D9314E5108C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656448-C53D-42B7-B358-7F9EDD371A0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8BB492-240E-456D-BF40-1EF6FE1EB1D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DC60A5-2CC0-4FDE-AEDF-15348C2F49C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28C814-4D5F-4B56-8DB2-3046448F6EA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EF8492-73A5-4213-921C-DCAEF19412D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9B292-AD92-4733-8809-C29252B205D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BF75C-53A5-4B6B-8DCF-FA5A634658E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64276-A097-459C-8387-69AEEBCB0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2CB2C-16DF-431E-9D1A-B6FAA3F03FE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ldNum" idx="14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4A069-B5DD-4AB0-A075-07E1580B1FE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Num" idx="1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AD0A8-7D7D-49DD-905C-A9EDAF27C5E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Num" idx="1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72381-97F9-4441-9F97-61A4CFE4001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sldNum" idx="1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8FF494-EB9A-4D91-A10A-D5BCD0C1100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42-Dakar-Logo-AUG11-King-FINAL250PX_low_white.jpg"/>
          <p:cNvPicPr/>
          <p:nvPr/>
        </p:nvPicPr>
        <p:blipFill>
          <a:blip r:embed="rId3"/>
          <a:stretch/>
        </p:blipFill>
        <p:spPr>
          <a:xfrm>
            <a:off x="0" y="4648320"/>
            <a:ext cx="3174840" cy="17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849178-0ED7-4FD5-AB86-4E983B2949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F03A2-E0F9-497F-B008-A93EFD0D2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41D89-29CC-43C6-8705-190769CADB8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2E1AD-0D91-4906-96B0-B4C211C08F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EC5A47-B86F-43B9-B5B6-04B99344551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19D6F-A95C-48B4-B086-1576B849F9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EB10A-39D7-4937-B454-892D480142F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42-Dakar-Logo-AUG11-King-FINAL250PX_low_white.jpg"/>
          <p:cNvPicPr/>
          <p:nvPr/>
        </p:nvPicPr>
        <p:blipFill>
          <a:blip r:embed="rId4"/>
          <a:stretch/>
        </p:blipFill>
        <p:spPr>
          <a:xfrm>
            <a:off x="0" y="4724280"/>
            <a:ext cx="3174840" cy="1702080"/>
          </a:xfrm>
          <a:prstGeom prst="rect">
            <a:avLst/>
          </a:prstGeom>
          <a:ln w="0">
            <a:noFill/>
          </a:ln>
        </p:spPr>
      </p:pic>
      <p:sp>
        <p:nvSpPr>
          <p:cNvPr id="318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1B3DE-3AF8-4109-BF12-4FD02C59A0A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09200" y="1218960"/>
            <a:ext cx="6162840" cy="23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SSAC Report on Domain Name Registration Data Model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599840" y="36576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ne of WHOIS Review Team's recommendations is for ICANN to convene a working group to determine the data mode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s meeting with community members to explain the model and answer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</a:rPr>
              <a:t>Questions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i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rebuchet MS"/>
              </a:rPr>
              <a:t>The Domain Name Registration Data (DNRD) model is a straw man registration data model for community discussion and consideration and as a basis for further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takes into consideration existing data requirements from gTLD registrar and registry agreements, escrow agreements, and ongoing work on internationalized registration data requirements, and some ccTLD data requir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It makes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no policy asser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y it is important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re is currently no uniform data model that exists for DNRD and this unduly complicates data submission, handling, exchange, and ac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 standards-based, structured, and extensible data model cou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ress the variability in DNRD-DS repres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e the user experience for internationalized registration data (Final Report of the Internationalized Registration Data Working Group and the WHOIS Review Team Draft Final Repo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Methodology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cument the life cycle of a domain name from registration to rel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umerate data elements that are needed to support the life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 of a typical Domain Nam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C9576C-DF82-408F-8B0A-079E1C1D3D4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371600" y="1438200"/>
            <a:ext cx="651024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Life Cycle: Domain Registra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1"/>
          <a:stretch/>
        </p:blipFill>
        <p:spPr>
          <a:xfrm>
            <a:off x="816120" y="1469880"/>
            <a:ext cx="7367400" cy="42483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3"/>
          <p:cNvSpPr/>
          <p:nvPr/>
        </p:nvSpPr>
        <p:spPr>
          <a:xfrm>
            <a:off x="816120" y="586728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perations include update, transfer, renew or deletion of the domain nam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What is the Data Model?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umeration of Data Elements (Descriptive Mod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Profile: implements the data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tailed Data e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tributes: format, minimum/maximum length, language tags, cardinality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file parameters: Character encoding, mark up language, protocol used to access the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ditional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lationship: one data model, but could have multiple data profiles (e.g. profile for DNRD-DS, profile for escr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Recommenda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SSAC invites all ICANN SOs/ACs and in particular registry and registrar stakeholder groups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sider this data model and comment on its completenes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mment on the utility of the model in furthering the definition of a directory service for domain name registration data as outlined in SAC 033 and SAC 0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Potential Issue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ccTLD and gTLD data models are different. It will be a challenge to harmonize the two mod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4:42:05Z</dcterms:created>
  <dc:creator>Julie Hedlund</dc:creator>
  <dc:description/>
  <dc:language>en-US</dc:language>
  <cp:lastModifiedBy>HU</cp:lastModifiedBy>
  <dcterms:modified xsi:type="dcterms:W3CDTF">2012-07-17T22:13:32Z</dcterms:modified>
  <cp:revision>87</cp:revision>
  <dc:subject/>
  <dc:title>Presentation Title</dc:title>
</cp:coreProperties>
</file>