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E37E0-C9EA-42AE-B9A1-428ACB9367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2FE20-4771-4B8C-A00D-2663214B9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5D6F1-AF7A-4051-AD9C-F1CDAC86A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AFB01-F3EF-485D-B65E-B2DB897DCAC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4CAF3-8F4A-45C5-8978-41C3A401FC3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F510D-440C-4891-97F4-E047E321577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B9AE3-89EF-49A8-A13E-779A087E718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ADA31-2634-44FE-AB77-B298A8E5B8D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6D161-19F4-4792-A8C1-F4D9DF0A122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E8756-C6CC-4D2A-8A8D-B017CB56283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A7C33-5385-44BC-902D-F9D7E796BEB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3033E-02E1-4609-B6E4-928DE549A73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93E60A-0D20-4944-B4E2-4B0682AE8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ABA3C7-36FE-4F87-AABA-F4264A35D98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5B518D-543C-49A1-8A83-68F950076B8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E9FFBE-5980-4C91-998D-3B61CABB983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8A2F58-329D-472C-AB32-9F2A1CBF60F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463C66-D7D3-449B-899A-B11F12CE5F4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D03B43-2619-487C-900A-29883936242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1DBF06-F431-4271-8E4A-35D7933C186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75D09F-F85D-473C-A524-23C17E3563F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1CF156-B628-4CA2-ADF6-69083E55735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9A155B-AAFB-43BB-BD8F-A89C480D8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8D9C9D-59DD-4A9F-B957-A438DD8245F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6ACAB4-73CD-4F4C-A0FD-2DCB3E03747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854C1-0C34-4302-8046-48B8363E34A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19F95-5788-4B7D-B2C3-F4FF1794F58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DA1519-919F-44C0-8D70-9D907AB41C1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E21F83-447C-4303-A8D2-E5EBD553922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81F35-62C8-40ED-A762-8CFD31942AB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78506-2F44-49E6-9AC2-41A086C3F0C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B61EB-DEC7-4E18-8165-98670A963D4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4807BC-66B9-4746-8D68-4317994E0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E2B91-BCD5-4CD3-B438-3E2A724A1A3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F9E4C-ED03-446A-B2BF-BCDE83DB8DC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BC9816-A7BA-45E8-8420-6DB8853EA00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54590-1456-40C4-8E41-4BD8364CC0E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6D1D9-CF34-4AA1-B106-55B0B579B47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91F8A-86D5-4D68-8DAF-8C19A158B5D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418E4-C338-4F24-8D26-5666E0118B7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FB788-E413-4460-BC96-35221F025AC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393B6-5C81-46BC-9A64-BB1B63373E0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B58A9-9176-4407-A6C2-8B714C4A05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C20D6-2A4B-48DD-83D7-4023C40FB52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E265B-8274-48FE-BF1B-FC6C5ABF506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51516-C109-46E8-BD42-3874B0A6BEB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D243B-5452-4547-BD68-F653C358FE5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84D4B-69BC-4B66-80E7-E25A6D3C06F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C020DB-F749-4603-A64A-CCA881B5B22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8958A2-4DB5-4BC5-8BB1-C0B2C985278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660784-C399-48D8-BF97-C6D7C86E59B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85264D-5A47-4076-8305-FFBBA7D5F09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BA71D6-C4C4-4AF5-B9AC-FF656D5069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E19324-D1DF-402A-A14C-E4CB475C275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F3DB2B-C1E2-40BA-A5DD-7798A66BBB5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8DEC10-6EDB-4D71-9EB9-CF0C2DA4A93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F0590F-78A7-48CC-8A57-7D23D52236E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6CF4F7-456E-4688-AFCC-0EBA4DCDA3A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3C3DDC-0497-4BD5-9335-1174A8272B8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E361D8-D012-442B-9F2C-D5651AE3A6D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72B074-2DC8-422E-8A33-8B2AF91826E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21F33-FDA8-4D22-A023-C3DAFAAC338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F529F5-41A1-4A2B-AB36-C82F30173D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A57873-36B7-4651-BB78-FAF5C7F2D8D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E7AD8-2127-4BBF-99E0-7522E94779A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07BAE-D276-4FEC-B5B9-D4124B093DA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FE53B7-0A22-4D47-ACD5-ACF651B6935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0F483-B976-4AEF-B089-59500EEE346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FE4E2-370B-4881-89C9-5026E9DB91F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2E6E17-12AE-4F6C-BB5C-76F8C1BE34E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BA24DA-3854-4C75-B09C-8D422B63E81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2E4D5-4910-46F8-8EA8-493AFD1C7C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00F-D31E-4BA4-A249-D57FC94B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16B-3D8D-4416-B5BA-4DAF84C6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4EC-FF92-40F0-8A7C-380C8DA2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CFB-12DA-41F0-9FDB-E1276673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D8EB-4EFB-4155-ACB5-9876B04B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663-01D5-4692-9683-D2827F6C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C6AF-6C17-47A9-8AB9-CC05C236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E7F1-0A0B-4C42-B869-EDFB793B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73B-1606-4111-A380-BEC54394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711-4133-4E7C-9C63-2C067204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212-EF4E-403E-BC5E-25DC678E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BB3-810A-496B-8A8A-145D1EEF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42AF7-5128-494E-ACB2-964E430D8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01C38-C5B3-4F22-AE13-A44AE8C6DFD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79F47-E8BA-4029-8A96-EA0C8DA3E3E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875EF-17CE-41FB-B3B3-87A17B39915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B6875-1DFE-44C3-BBB6-6336B116985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DF78B-19E2-4EE4-AB33-E089D5EA13E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40F8A-7DC5-4471-B4B5-A421FC99977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71820-FBD2-485E-9D4F-122AB0E3DB4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D8EB2-6F37-4B6D-8A38-3FA68C3B6C5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46937-8C0A-4F24-A638-F0A615971A9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4AE8B-C3AD-4616-B3DE-B125C383A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9912C-C6CD-4F21-8CAD-3B2B6563EE6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8697CA-FAE1-4872-A9DB-E9A92E1A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50808D-8C39-419C-BE45-447BC4AA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836A6C-E4DB-4249-9B2C-0C7F7873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6C8D4C-DA6F-42B5-AE1C-D48541A6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906ADC-6F73-497C-BD07-66A90E1E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A537D2-CD1C-4D35-B21F-E59D1BCD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B0B360-08CA-46BE-AE8E-71043D77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C9D8B0-C632-471C-B79D-1A45D20B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0A3D36-6527-403D-B35A-B49B0F1A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CC24F8-19CD-4809-B1D9-096CC100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7A07AB-9C02-40B9-825F-1E12F457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150AF2-B92B-4382-873C-0E80875C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528D38-7477-4AD7-A81B-2AA78FA8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EB8934-097A-472A-ACF9-CD2F5595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8E3858-F862-48CF-89B3-0FDE4801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B8A230-D64E-474C-AE39-D390B9E0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03B276-8C80-4B88-AAA3-DA64A0E1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32685C-A991-4750-A1B1-42CFC89D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90AFA2-A830-4FCE-84C0-C91CB14E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F6E2EA-1D18-4CDA-9993-2C1B5955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4F6779-B5CB-4293-8964-94B1B32A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FFA589-8E62-4339-90C3-FC5A0FC8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03997C-9FE9-4484-A495-2F1C53A7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D4BF5D-E62F-4BAF-BD60-F1104CB2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680119-EB84-4879-8BA4-613D85EA586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5E1CC-B53B-4EDA-B10E-C20536CF501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C309BF-EC83-4227-9874-6009BEE3152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9285F4-3F64-4E63-94FC-00B004E7F8A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4E75DF-673B-4275-9623-64AEDD4E2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05690C-C1A3-4B27-8B1E-D6E8D35CFB7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E7077-F737-4A92-9B5C-E3459E6C0F4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D5C58F-BDDF-430A-95CE-24E828C2B86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AE124-F2E6-4494-B3DD-2D3FE90A93E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5D34A7-C911-4ADF-BC46-B3F039EF953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3E6B2A-44AB-4F81-B220-CD309B3A1FF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46D4E0-8FD5-4473-875E-C1E298985F8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2655E-97E2-4FCA-AA90-93B87FEB68B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69E7B-2B7D-4871-9E82-1F0FA383B42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622E2-4B9A-4D75-A3C3-8020D9F51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CECF8-1218-436A-B32B-077F5F07AB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44786-06AA-413C-9258-43C8127DA0B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0B69A-4D2D-4BD2-9294-E3301721D59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1F58D-3848-4660-87DB-95BBF8BBDE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62103-F29C-4772-9DE3-113EC7E41B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B8DF4-2C23-43B1-B1CA-35533FD704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259C1-C7A7-4E78-B166-343925667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9BDC1-BBA0-4F39-A4F3-3B90E621201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8469A-905B-4798-90A5-9D7BF3665B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F4A34-B1D2-4527-9AFA-53310E74B9B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B7B61-296A-4389-A65F-86BEB25D5A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CFA1A-6159-4553-BE14-0D199FCD40E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BD8F5-35E1-434A-BE65-12DCE2D4852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09200" y="1218960"/>
            <a:ext cx="616284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SSAC Report on Domain Name Registration Data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599840" y="36576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e of WHOIS Review Team's recommendations is for ICANN to convene a working group to determine the data mod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s meeting with community members to explain the model and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i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Domain Name Registration Data (DNRD) model is a straw man registration data model for community discussion and consideration and as a basis for further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takes into consideration existing data requirements from gTLD registrar and registry agreements, escrow agreements, and ongoing work on internationalized registration data requirements, and some ccTLD data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makes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 policy asser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y it is importan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is currently no uniform data model that exists for DNRD and this unduly complicates data submission, handling, exchange, and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tandards-based, structured, and extensible data model c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ress the variability in DNRD-DS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the user experience for internationalized registration data (Final Report of the Internationalized Registration Data Working Group and the WHOIS Review Team Draft Final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cument the life cycle of a domain name from registration to re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umerate data elements that are needed to support the lif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 of a typical Domain Nam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ABB56-AFEB-47EE-8B37-DD3FBB6BCDE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371600" y="1438200"/>
            <a:ext cx="651024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: Domain Registra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816120" y="1469880"/>
            <a:ext cx="7367400" cy="4248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3"/>
          <p:cNvSpPr/>
          <p:nvPr/>
        </p:nvSpPr>
        <p:spPr>
          <a:xfrm>
            <a:off x="816120" y="586728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tions include update, transfer, renew or deletion of the domain na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Data Model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umeration of Data Elements (Descriptive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Profile: implements the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tailed Data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: format, minimum/maximum length, language tags, cardinalit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file parameters: Character encoding, mark up language, protocol used to access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ship: one data model, but could have multiple data profiles (e.g. profile for DNRD-DS, profile for esc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Recommenda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nvites all ICANN SOs/ACs and in particular registry and registrar stakeholder group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ider this data model and comment on its completenes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ent on the utility of the model in furthering the definition of a directory service for domain name registration data as outlined in SAC 033 and SAC 0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Potential Issu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cTLD and gTLD data models are different. It will be a challenge to harmonize the two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2:05Z</dcterms:created>
  <dc:creator>Julie Hedlund</dc:creator>
  <dc:description/>
  <dc:language>en-US</dc:language>
  <cp:lastModifiedBy>HU</cp:lastModifiedBy>
  <dcterms:modified xsi:type="dcterms:W3CDTF">2012-07-17T22:13:32Z</dcterms:modified>
  <cp:revision>87</cp:revision>
  <dc:subject/>
  <dc:title>Presentation Title</dc:title>
</cp:coreProperties>
</file>