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dt" idx="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E786EC-E23F-4D9E-915B-7A874A9812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ftr" idx="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 type="sldNum" idx="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76F8DC-6653-4D8E-88EA-B2536EFA2C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DB1FC3-CCA3-4287-BBEA-2156AF771B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B2096-4695-46E2-BCBC-2C8A779DAB0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A4FD8-0BF3-479C-AC55-C9CC086B1ED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96435-F5AA-465D-8B47-7C684ABE5BF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0DE25-AA6E-481B-9494-3DBB8A61EE1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83030-1D13-41D8-8439-C27228DF47B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C87FB-D352-4AA4-A59F-4C6B8739B65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75C1A-2DCB-4B0C-87FD-3E59CBF6E23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DDE65-CE90-4D90-A6C4-A3A40DD390B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61A69-A921-45F1-9AF2-E44252A42BD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426AEE-907F-472C-92D4-C41B90E478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091DAB-FA59-478A-BCDE-FE19D9BB896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561376-4239-4C70-A150-52FE68475E1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98CFDE-0CD2-411D-99AD-306117C27E3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DDEBD4-4628-467C-A6DB-1DBDB07A380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E02FDE-45DB-4A32-8ADA-8B7C1C82478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91D8DA-B481-4166-AC7A-F0223D1C898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F2C97B-2A12-4380-BF07-D8CA45EF84C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335190-1225-4E10-954E-9106BA024AE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2D35ED-6C7F-48F8-9810-B49EE279A50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D894EA-2E91-4A09-B8BD-7FC94AD8F7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0B277D-5989-4A50-A8D9-CBE0378C9B0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46BF21-FCE4-4D70-8D2F-F83CBC821BF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484549-6E8F-4259-B1CF-BE4FF540255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781D7F-A240-47FC-994D-0AE6C8ACC78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4BC4F2-3D8F-4FB7-A450-675579E8837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C269EA-79BD-4607-8E42-47F88FF2F99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DB1FA3-41A3-4C75-B5FA-403D281DD54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AE78C0-B22D-4845-862A-963315DFEFA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D43BE2-A5CC-4BEA-8E16-18E8C2A398D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DC4467-47C7-4AF7-BBF3-61C6A1F853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95F9E7-43C7-46F5-9547-F037A63FC2E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DB2BED-DBB7-495F-AD12-28EA057B7CA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A00042-859D-498A-BFD8-CFEAAAEA017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E7E0A-8E30-43A9-B135-CE2157312FF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ECF1E-20F0-4CE8-90EF-57A74AD496E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335C8-C93D-4A28-9DBD-AB3D7D9B9B9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0157C-2ED9-47F2-A263-811D491FDEA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835CA-F48C-4FBB-90C4-FAE8EA648D1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4FCB7-0944-4C03-BE9D-6F3B6355D75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3AC63-261A-4235-95C3-1A1F6E8514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E8806-7405-4803-AA13-395566B7437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1986D-021D-4188-8C34-FF76F1727FF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BFFBE-7B1B-4730-8D01-F9DB22178CA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1428F-7E01-41D2-A883-F82D269C0A2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818D9-A4F6-40A6-9BBD-E021225C8B5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5D2EF4-E957-43F7-9DBE-88903E15975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4AD433-4129-4DD5-AD76-27B5BBD287D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E8EE1C-3100-482A-B8D7-2BF69282AD7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45A01D-5A3F-4ADC-9E29-7948F98E66A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B5EDDD-D848-4645-9B6F-38FFB35E01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967822-2EA5-4DE6-98F5-BF4316119AF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D612BE-6A48-4233-B348-0BB1381C403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58E53F-7D5D-4794-8F58-3BB5DFEFFAC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C0B790-9742-409E-90F8-507DA04DB89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81A8AE-C9FA-4952-A993-2609AD83CD3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97811B-0830-4CD1-94A2-517329011B3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3606FE-9B03-46E9-8B52-11A5FD11D52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E991EE-CB03-4F6A-BBD6-E503F45809B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3A50E3-7DCE-41FF-A6EE-F4C27D386F3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004B1F-350B-4F60-86A8-276B1B5DEE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BC4F31-94BA-4F3C-BC77-E991020AD80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B6D9F3-388C-422E-AAE4-F3B4EAB05AB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783BE8-9963-483F-8C79-F33ACFCB706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727CAA-151F-4C55-8483-CE76CFF7A98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BF9FD1-CA04-46F8-BF01-340AEA12E15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ED1544-B0A7-4501-8868-0185583950A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E8D4C6-D429-4223-A5F7-FA70645E28B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FD0063-2021-4D4D-AAF5-60F2BD65A2A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596734-4089-452E-93CC-EB9A04F869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D1EA-69E5-4DC0-89F0-11E774F80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D447-7621-4944-9430-66956B39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A30E-FDA8-4D3D-9440-9978B30A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36D5-E245-420F-A0D3-557698AE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4973-B504-4660-A16A-6CD4CF6D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13B2-0E5C-4938-B93F-468C749C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C79C-5E2D-4C65-9FF4-FA62DC80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53F4-E39C-4574-ABD2-23503355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34BD-7D22-4001-BD80-D64518DF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0433-4D33-4C35-A9E3-967B7189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0E3E-F187-437B-8E6A-DDA0C2E8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B89C-2BD5-43D5-BF56-47BFFF92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5DD91-B722-4EEE-9400-B769BD6390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3CA14-E205-478F-A6F7-8BFC1DE965D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CE834-ACAE-4AD9-AF67-4CD47AAB67D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91500-5200-440F-B1DE-785F0D0F319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33666-E670-45A5-BD2D-09BC0B7D0F9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0897A-0AD2-4896-A602-26AA9A21300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51BB1-B059-44D6-9758-4D4D695FCFF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74DCBA-BCCA-45E6-B531-E160B878F9B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E5B18-3672-4CEC-9BB9-B45A47599F5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5D70C-234E-4379-8412-79B0E252536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D1CA8-7F85-4AAE-9876-F5F3755853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EADE7-4F05-4393-A521-1DE9690ECE6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430208-A747-4570-BF41-CF8C6D05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933494-07F8-4F69-8667-12079EEC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E4F5E3-B978-43AE-93EC-96DEBEF8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8D2D6A-B5F9-45D0-AD62-F03E2FA5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5A7AB0-5412-4192-8558-1A4FA1ED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D8F356-70DC-4F23-AB9C-E646D7AF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A883E4-3A61-45B6-AD48-9CE94AFB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E00404-4E1E-4042-8BFB-543704D4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509999-A8B7-488A-AF73-92B66F00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AA3E92-8725-4693-A3CA-7363AE59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F31A25-9E26-4A8C-94C8-0F2473F9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010861-E690-4E9E-B2B4-871BA2131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9D4BA1-7E71-450D-A31B-299CD5DF4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5C3839-C7C5-4F00-8313-9DAC7968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94ABE2-43A5-4D64-97D6-9E3FD296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491223-2ED7-44BF-BF40-24B5BD2E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E9BA48-DB39-4B87-8BF4-D74F0EF6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C30A35-0034-470A-8B68-BB7B229A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088A6E-8862-40D1-9543-C59C12C5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09DC8F-21A9-43A6-B924-492330B2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B9AF1C-2B4F-424B-81FF-8FEDEB21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D23F61-385E-49A5-9DA8-AA8EA849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DAFACF-07A5-4136-9CFE-CB9443B8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A56A4E-4DF0-4358-9900-3C7BC4A3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202779-673A-4A85-8C90-43ACD4304F9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977A89-4179-4EC7-8724-8FA5A5062A0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C4A17B-542D-4005-BBDD-1DE346BAF76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CCA9AE-C46F-453C-A396-BB810AFE70B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5BE71C-E285-43A7-9D5E-0B38F12C30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6DC394-7ADD-4017-91EC-040D8413CAF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2D7865-D2A9-4542-AF0B-5CA0070D4AB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DC266C-071C-4972-B707-5ED3039462C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C54AF9-DCA5-4585-A09F-865B780B311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0B1B70-04FA-4A7C-A1CC-B78E414F3EB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3BFE70-D612-4B7D-B4F5-05D437DD379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F4EEA3-D35C-406C-8787-B8E190E81EB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EF6E2-E2AC-4A77-BC99-4D60C116234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03D64-A2F8-43DE-8F7E-448EC130F48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E9F83-427B-4A88-AF16-A1F7F89975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199EA1-09AC-4881-82CD-2B94FFB8627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C202AF-D0A7-4CBF-8073-21568070865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40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9EAEBD-51C0-46DC-B462-78F59EA308C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8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AF91F7-3B62-4E9C-89A0-503393C400B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017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FE0A86-3AFF-4963-855F-44FC2FCD44F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0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B469ED-B0BE-43DC-BF5E-B3A42D4F7A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33043B-2482-4BC6-8C68-AA28385FC4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EF7A80-252C-4B8C-9A60-1E53C857C7E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57FEE1-AF9B-41DE-908E-69D1DDC140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5BBF36-9956-4DF2-8956-A03AA03AE1F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CC48EA-8B89-47CE-99C2-C7C6059593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5EAB37-B941-4C06-ADF8-75D2F3938DD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318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D56FD0-9329-4BE0-A0E9-252B30F4175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09200" y="1218960"/>
            <a:ext cx="616284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SSAC Report on Domain Name Registration Data Model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599840" y="36576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ne of WHOIS Review Team's recommendations is for ICANN to convene a working group to determine the data mode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SSAC is meeting with community members to explain the model and answer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</a:rPr>
              <a:t>Questions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at is it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The Domain Name Registration Data (DNRD) model is a straw man registration data model for community discussion and consideration and as a basis for further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 takes into consideration existing data requirements from gTLD registrar and registry agreements, escrow agreements, and ongoing work on internationalized registration data requirements, and some ccTLD data requir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 makes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no policy asser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y it is important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re is currently no uniform data model that exists for DNRD and this unduly complicates data submission, handling, exchange, and a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standards-based, structured, and extensible data model cou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ress the variability in DNRD-DS re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mprove the user experience for internationalized registration data (Final Report of the Internationalized Registration Data Working Group and the WHOIS Review Team Draft Final Repor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Methodology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ocument the life cycle of a domain name from registration to rel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numerate data elements that are needed to support the life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Life Cycle of a typical Domain Nam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D9CC62-4B98-40F6-8BEC-BB5E694CA94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371600" y="1438200"/>
            <a:ext cx="6510240" cy="4657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Life Cycle: Domain Registra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1"/>
          <a:stretch/>
        </p:blipFill>
        <p:spPr>
          <a:xfrm>
            <a:off x="816120" y="1469880"/>
            <a:ext cx="7367400" cy="4248360"/>
          </a:xfrm>
          <a:prstGeom prst="rect">
            <a:avLst/>
          </a:prstGeom>
          <a:ln w="0">
            <a:noFill/>
          </a:ln>
        </p:spPr>
      </p:pic>
      <p:sp>
        <p:nvSpPr>
          <p:cNvPr id="579" name="TextBox 3"/>
          <p:cNvSpPr/>
          <p:nvPr/>
        </p:nvSpPr>
        <p:spPr>
          <a:xfrm>
            <a:off x="816120" y="586728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operations include update, transfer, renew or deletion of the domain nam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at is the Data Model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umeration of Data Elements (Descriptive Mode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ta Profile: implements the data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tailed Data el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ttributes: format, minimum/maximum length, language tags, cardinality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file parameters: Character encoding, mark up language, protocol used to access th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itional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lationship: one data model, but could have multiple data profiles (e.g. profile for DNRD-DS, profile for escr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Recommenda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SSAC invites all ICANN SOs/ACs and in particular registry and registrar stakeholder groups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sider this data model and comment on its completenes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ment on the utility of the model in furthering the definition of a directory service for domain name registration data as outlined in SAC 033 and SAC 05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Potential Issue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ccTLD and gTLD data models are different. It will be a challenge to harmonize the two mod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4:42:05Z</dcterms:created>
  <dc:creator>Julie Hedlund</dc:creator>
  <dc:description/>
  <dc:language>en-US</dc:language>
  <cp:lastModifiedBy>HU</cp:lastModifiedBy>
  <dcterms:modified xsi:type="dcterms:W3CDTF">2012-07-17T22:13:32Z</dcterms:modified>
  <cp:revision>87</cp:revision>
  <dc:subject/>
  <dc:title>Presentation Title</dc:title>
</cp:coreProperties>
</file>