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jpeg" ContentType="image/jpeg"/>
  <Override PartName="/ppt/media/image3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dt" idx="1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60F11D-A0DE-4C51-9E14-07A441CE629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 type="ftr" idx="1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6"/>
          <p:cNvSpPr>
            <a:spLocks noGrp="1"/>
          </p:cNvSpPr>
          <p:nvPr>
            <p:ph type="sldNum" idx="2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98C16C-C798-4199-9300-EA81BD05F3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BC150A-CFEC-4887-B64A-5F43AEDB07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41AEF2-36AF-456C-AD1A-83D64321608D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4A2F31-A6A6-434E-8F2F-457CB3715153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7142F0-5363-4BCF-B9B1-53C9E3D1E5E2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CAEE8D-A1C5-4F36-973B-365422D51184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580DF3-BF48-4DD8-A302-3495BB744BFE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7C5DFF-A856-474A-BB70-4A3600B09F54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A3525D-4692-45C0-8135-3520C9570D8A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D74FE4-0798-41B4-8EDA-AA913D03C42D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48681C-229D-48E8-B07D-DA6F8CB3E151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60112B5-DA7B-40CE-89ED-0ECC6BCD0A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2A89259-6FC4-4212-8893-70C860F623AA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5D248B9-52AB-4E54-AF33-4F44832F9B94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57E5AB5-BE75-4A61-8467-E8188034264A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FC7DE34-956E-4DF9-803F-679AF640B93B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2AEB3BB-3179-4A74-AC02-AB3337167AF3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DBE390A-44B6-4128-ADB3-38D6885576D1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6C67A50-EF54-4C80-AE4B-A2DD898D352C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EBB49AA-9D24-4C85-8BA8-BF805D9E27C3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662C9AE-E42D-4D6A-A850-F0191447A914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82D3402-65FD-4657-B8D8-C6121F3F92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83C36C7-492D-41F7-9AE6-DE924F149DDA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7CACC1-DB20-4D74-87B7-88CEC434ADC1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4AC8A6-D2B4-4DAB-9363-AA9133423B9A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6AF633-5278-4D57-961D-2F83AB6339C1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73095F-E9CB-474B-89BE-98A1BB0CBD26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831CC3-26E0-4C7D-B275-958C56BBE2D2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99D50D-58D3-4E30-8E83-A830208320DB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0E1A1A-F8DF-41FA-A59A-C235637B9720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60B996-B647-4F7B-AE67-A868FF33B39D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58ED25-0EC7-4A70-926E-A467F80EB3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FCA2CFC-901F-44A8-A080-67860B37E8D2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167E39-CAFF-449D-BEBA-B7238E0FE3B9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52F77C-EDBF-4D16-9CD6-C6B61BA70685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4AA1B2-C5E2-41AB-878A-73105E634363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7AC475-8CFB-4FF4-B9EE-E9FF7EFA869E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141FFE-5984-4D31-B9A0-EBC6BC9A6A3B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BF4441-BBBE-40CF-994F-B9CA12C84031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122BE3-3426-4407-BD46-412B44EFC38D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929A59-B5AF-4398-80FE-520C05B11170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6E54FA-64CF-41E9-B899-5A0D4C2C046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8F009F-94C4-4631-B9EF-17F8F92F8C28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B67A4F-621C-48E5-8962-E9C554EEC819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B01047-1B77-4B03-AF42-699A71A29C85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56F147-B81E-4262-B022-3AEB1C1F3BD4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1AD402-B79D-4B9D-920E-DAAFCBB2DD68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82F9A35-30E1-4A7E-AF60-4BFCF64073B2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187EB1C-D176-4402-8E81-618B5AE82535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053C8EE-99A4-4AFD-A506-875674107EC4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B2492C2-0D44-468C-B45D-3F07C5000320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29BEF92-C41B-4805-BEA2-B8A6D9A3230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ED952A0-F548-4622-83A2-75BFD3B1F0C9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4CF5B06-48C0-466D-BB27-7979A9E7888B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251A075-DC85-4ABA-A3EA-82A5978DEB12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70B8EF9-E236-4EA7-A9A6-AEDDB0586089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3492AFB-8B7C-4BD2-AF06-4890D1379FCF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D93753D-D3BA-4140-875F-26DE491138F6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4693BA7-E9C7-41A4-9B95-814D53AE7AC1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5D6B10D-6FF9-4956-98F9-99625DBCBADD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95801F-8F65-4A97-8ED8-437FF5F73D6C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FB552B0-BB68-461E-BCBA-2E82589FB6E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FE432D-FDB8-4E06-B342-9CB24AACC911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48D9550-F757-4D2D-A4DD-2E281236EE5E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DD5E2CA-4FE1-4FA5-B3C5-DCCA49C17484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13AF7AA-A565-4CF1-9DF0-808E7F1EB34B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8449DF7-6C69-4688-BEE8-267839A3E6E7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9E798A6-9102-4788-9AC9-89FA9535DB88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E8451D4-5974-44BF-8EA2-75CE6DC1407E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BE4641A-4D50-4252-9031-B55D0168734B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FB88A56-DC4F-4C2F-9DF4-1C938E174CB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0D59-6EB7-45C5-B9B8-2614C7EE0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788A-A5D5-4FAE-AC27-224C75E2B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1907-E34F-478B-811B-DCA0A731B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6475-ADB8-4F46-BAE7-99CF0F7A1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0878-772C-4DBB-BBB6-5AD189169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60B5-965C-4967-A8E8-362D99A2C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1DE5-4041-46BD-BBC2-D1ECA69D0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BFDC-16DA-4B8D-8666-64418886C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B349-17AE-49DE-9E62-EBE2321FF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6408-755F-4933-A637-B84F66370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57AD-65EA-46B1-A862-A54AAFE59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B65C-01D3-4BF0-B347-26BDFE70E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4D834D-35F3-4077-8F36-D1ED793FA0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A2D061-5874-4D13-9E75-F105BCB1A04B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ADB02B-5380-4F3E-8F26-0E1D3D4340BB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48462D-F459-43ED-9419-DF16167C28D7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D82020-02FD-4D6A-8F42-5040EC263DD7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0612BD-62A8-401A-A492-14D78BAD9C48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EBC9F3-FBAC-4B1A-BCE0-321F84314448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1CFB9D-3821-48D3-A2A4-5BA7FD82ADA6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EF46D1-B14A-4DA4-BFA1-706CA53ECFF7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D8B616-3EFD-4916-A233-3E39C4A6F495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65C806-76BC-45ED-8488-A5D7758AC9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591E9A-D03F-4097-8E80-504695EA76D5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60EC0AE-E389-483B-B7C1-8AAA527AF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97E74BA-9DCF-4141-9075-83C39AD83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EEE32C6-B76B-48EF-8250-323578188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1DE8BF4-F0C9-42F5-B809-2D2A954FF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F1B31C7-E268-4EE6-B1C6-357625230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A2CAEE8-E8B4-4FB7-801E-719E36FB7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1F338AC-DF85-4AA2-A592-5D015368A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A9BF061-7D5D-4E3B-A095-E4D2A0F15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D1C96B6-77AA-4EF8-9441-7357C8692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E4A1188-E3D6-4E0E-84E1-B7B155580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8CA32E4-8F88-4CD9-8B8B-98956E028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46A728C-5369-4847-BB0C-9B9C60D4A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BB65F77-847D-492C-A9E3-5B62229AC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254E9A9-15F9-4727-8658-FAEFC7152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8DB607B-B841-494E-80EC-4F0638980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7037F55-6F03-4EBD-BF04-88B41010D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5B5C3E7-083C-4299-90AE-68717B5C1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C18CD17-987F-4B30-9E36-534940A3F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6899358-D615-4DCE-8D7C-52D1DBE64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EFFBA36-D0F9-44A7-B146-98C3FAC9E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7667259-C47A-4833-ACC1-EE9510068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4335DF6-102D-405D-987E-E85EC5AD8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47A6E5F-58EA-44A2-9D9B-170267238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48F019B-AE46-4C5F-9972-44B28480F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01C3191-0A8F-448D-92BF-9550E2BC4920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454F88C-0D77-4AD5-94C1-D021926B0EF1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E39E626-4C2C-4A89-952A-0FCBED17C79B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BE0D584-585F-4E6B-B549-521897B7E7AC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B8E10DD-312E-47B1-B0E8-A1616BF170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6C7FAD8-6870-4346-8AFA-1BA5F3E71180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3DFD217-9C64-41CB-9653-9B4F45335341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8280A6A-5E8B-4F1A-80B6-7CE1629E98FB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7144C5F-3034-4618-A507-987F0BA79D83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375006F-87DE-4A71-9369-74BAE99E5D07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F3CC4EE-A669-4F31-8A7E-451552A81003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56304AA-F47C-4AB9-89AF-80444BE50000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2C0C28-A438-4106-BEAB-22058671CA03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DCE591-43C3-4D47-806D-FF56B4398DD6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3724F7-4A49-40E4-93A1-07307E221C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4" descr="42-Dakar-Logo-AUG11-King-FINAL250PX_low_white.jpg"/>
          <p:cNvPicPr/>
          <p:nvPr/>
        </p:nvPicPr>
        <p:blipFill>
          <a:blip r:embed="rId4"/>
          <a:stretch/>
        </p:blipFill>
        <p:spPr>
          <a:xfrm>
            <a:off x="0" y="4724280"/>
            <a:ext cx="3174840" cy="1702080"/>
          </a:xfrm>
          <a:prstGeom prst="rect">
            <a:avLst/>
          </a:prstGeom>
          <a:ln w="0">
            <a:noFill/>
          </a:ln>
        </p:spPr>
      </p:pic>
      <p:sp>
        <p:nvSpPr>
          <p:cNvPr id="359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MS P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Num" idx="1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D9244C-B5B8-47C7-9D77-3A535AA135C8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4" descr="42-Dakar-Logo-AUG11-King-FINAL250PX_low_white.jpg"/>
          <p:cNvPicPr/>
          <p:nvPr/>
        </p:nvPicPr>
        <p:blipFill>
          <a:blip r:embed="rId4"/>
          <a:stretch/>
        </p:blipFill>
        <p:spPr>
          <a:xfrm>
            <a:off x="0" y="4724280"/>
            <a:ext cx="3174840" cy="170208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sldNum" idx="14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D0A210-86AB-4C17-812D-837BEF560ED8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4" descr="42-Dakar-Logo-AUG11-King-FINAL250PX_low_white.jpg"/>
          <p:cNvPicPr/>
          <p:nvPr/>
        </p:nvPicPr>
        <p:blipFill>
          <a:blip r:embed="rId4"/>
          <a:stretch/>
        </p:blipFill>
        <p:spPr>
          <a:xfrm>
            <a:off x="0" y="4724280"/>
            <a:ext cx="3174840" cy="1702080"/>
          </a:xfrm>
          <a:prstGeom prst="rect">
            <a:avLst/>
          </a:prstGeom>
          <a:ln w="0">
            <a:noFill/>
          </a:ln>
        </p:spPr>
      </p:pic>
      <p:sp>
        <p:nvSpPr>
          <p:cNvPr id="440" name="TextBox 4"/>
          <p:cNvSpPr/>
          <p:nvPr/>
        </p:nvSpPr>
        <p:spPr>
          <a:xfrm>
            <a:off x="3048120" y="4495680"/>
            <a:ext cx="553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Keep body copy short. Avoid reading the text to your aud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Box 5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MS P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Num" idx="1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A4A71D-858C-41EF-BD2E-6625DA5B6E7D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4" descr="42-Dakar-Logo-AUG11-King-FINAL250PX_low_white.jpg"/>
          <p:cNvPicPr/>
          <p:nvPr/>
        </p:nvPicPr>
        <p:blipFill>
          <a:blip r:embed="rId4"/>
          <a:stretch/>
        </p:blipFill>
        <p:spPr>
          <a:xfrm>
            <a:off x="0" y="4724280"/>
            <a:ext cx="3174840" cy="1702080"/>
          </a:xfrm>
          <a:prstGeom prst="rect">
            <a:avLst/>
          </a:prstGeom>
          <a:ln w="0">
            <a:noFill/>
          </a:ln>
        </p:spPr>
      </p:pic>
      <p:sp>
        <p:nvSpPr>
          <p:cNvPr id="482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MS P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Num" idx="16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B44A63-4448-43C0-A0A5-52096265D0B3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3" descr="42-Dakar-Logo-AUG11-King-FINAL250PX_low_white.jpg"/>
          <p:cNvPicPr/>
          <p:nvPr/>
        </p:nvPicPr>
        <p:blipFill>
          <a:blip r:embed="rId3"/>
          <a:stretch/>
        </p:blipFill>
        <p:spPr>
          <a:xfrm>
            <a:off x="0" y="4648320"/>
            <a:ext cx="3174840" cy="1701720"/>
          </a:xfrm>
          <a:prstGeom prst="rect">
            <a:avLst/>
          </a:prstGeom>
          <a:ln w="0">
            <a:noFill/>
          </a:ln>
        </p:spPr>
      </p:pic>
      <p:sp>
        <p:nvSpPr>
          <p:cNvPr id="522" name="PlaceHolder 1"/>
          <p:cNvSpPr>
            <a:spLocks noGrp="1"/>
          </p:cNvSpPr>
          <p:nvPr>
            <p:ph type="sldNum" idx="1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BD2381-F9C7-4C33-A4FF-D99A4DB68108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8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4" descr="42-Dakar-Logo-AUG11-King-FINAL250PX_low_white.jpg"/>
          <p:cNvPicPr/>
          <p:nvPr/>
        </p:nvPicPr>
        <p:blipFill>
          <a:blip r:embed="rId4"/>
          <a:stretch/>
        </p:blipFill>
        <p:spPr>
          <a:xfrm>
            <a:off x="0" y="4724280"/>
            <a:ext cx="3174840" cy="1702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" descr="42-Dakar-Logo-AUG11-King-FINAL250PX_low_white.jpg"/>
          <p:cNvPicPr/>
          <p:nvPr/>
        </p:nvPicPr>
        <p:blipFill>
          <a:blip r:embed="rId3"/>
          <a:stretch/>
        </p:blipFill>
        <p:spPr>
          <a:xfrm>
            <a:off x="0" y="4648320"/>
            <a:ext cx="3174840" cy="1701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F6AF36-70C7-4243-865A-E14DEE54438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0B77D6-F9E0-472F-8284-AF917A7F01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sldNum" idx="4"/>
          </p:nvPr>
        </p:nvSpPr>
        <p:spPr>
          <a:xfrm>
            <a:off x="69004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33ACE9-FA67-4F57-8A5A-8C3470F01CDD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9E4D86-34F5-475D-840D-D9A9C206519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dt" idx="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E5D04D-A94A-40E8-85C1-A385EFC7F49F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ftr" idx="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sldNum" idx="1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591C1A-5C78-4644-9A9D-0B83371FC6E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4" descr="42-Dakar-Logo-AUG11-King-FINAL250PX_low_white.jpg"/>
          <p:cNvPicPr/>
          <p:nvPr/>
        </p:nvPicPr>
        <p:blipFill>
          <a:blip r:embed="rId4"/>
          <a:stretch/>
        </p:blipFill>
        <p:spPr>
          <a:xfrm>
            <a:off x="0" y="4724280"/>
            <a:ext cx="3174840" cy="170208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sldNum" idx="11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3280A5-B6E2-44B7-B01D-718E299E429F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4" descr="42-Dakar-Logo-AUG11-King-FINAL250PX_low_white.jpg"/>
          <p:cNvPicPr/>
          <p:nvPr/>
        </p:nvPicPr>
        <p:blipFill>
          <a:blip r:embed="rId4"/>
          <a:stretch/>
        </p:blipFill>
        <p:spPr>
          <a:xfrm>
            <a:off x="0" y="4724280"/>
            <a:ext cx="3174840" cy="1702080"/>
          </a:xfrm>
          <a:prstGeom prst="rect">
            <a:avLst/>
          </a:prstGeom>
          <a:ln w="0">
            <a:noFill/>
          </a:ln>
        </p:spPr>
      </p:pic>
      <p:sp>
        <p:nvSpPr>
          <p:cNvPr id="318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MS P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Num" idx="1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87DFFB-6863-4798-BB0E-7BDFCA25539E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609200" y="1218960"/>
            <a:ext cx="616284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SSAC Report on Domain Name Registration Data Model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subTitle"/>
          </p:nvPr>
        </p:nvSpPr>
        <p:spPr>
          <a:xfrm>
            <a:off x="1599840" y="3657600"/>
            <a:ext cx="6172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Jim Galv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Next Steps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One of WHOIS Review Team's recommendations is for ICANN to convene a working group to determine the data model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e SSAC is meeting with community members to explain the model and answer ques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209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Trebuchet MS"/>
              </a:rPr>
              <a:t>Questions?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What is it?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457200" y="14479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  <a:ea typeface="Trebuchet MS"/>
              </a:rPr>
              <a:t>The Domain Name Registration Data (DNRD) model is a straw man registration data model for community discussion and consideration and as a basis for further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It takes into consideration existing data requirements from gTLD registrar and registry agreements, escrow agreements, and ongoing work on internationalized registration data requirements, and some ccTLD data requiremen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It makes </a:t>
            </a:r>
            <a:r>
              <a:rPr b="0" i="1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no policy assertio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Why it is important?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45720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ere is currently no uniform data model that exists for DNRD and this unduly complicates data submission, handling, exchange, and acc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A standards-based, structured, and extensible data model could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ddress the variability in DNRD-DS represent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mprove the user experience for internationalized registration data (Final Report of the Internationalized Registration Data Working Group and the WHOIS Review Team Draft Final Repor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Methodology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Document the life cycle of a domain name from registration to rele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Enumerate data elements that are needed to support the life cyc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Life Cycle of a typical Domain Name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BDC413-D77F-4299-98B8-041D4517930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6" name="Picture 4" descr=""/>
          <p:cNvPicPr/>
          <p:nvPr/>
        </p:nvPicPr>
        <p:blipFill>
          <a:blip r:embed="rId1"/>
          <a:stretch/>
        </p:blipFill>
        <p:spPr>
          <a:xfrm>
            <a:off x="1371600" y="1438200"/>
            <a:ext cx="6510240" cy="46576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Life Cycle: Domain Registration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pic>
        <p:nvPicPr>
          <p:cNvPr id="578" name="Picture 2" descr=""/>
          <p:cNvPicPr/>
          <p:nvPr/>
        </p:nvPicPr>
        <p:blipFill>
          <a:blip r:embed="rId1"/>
          <a:stretch/>
        </p:blipFill>
        <p:spPr>
          <a:xfrm>
            <a:off x="816120" y="1469880"/>
            <a:ext cx="7367400" cy="4248360"/>
          </a:xfrm>
          <a:prstGeom prst="rect">
            <a:avLst/>
          </a:prstGeom>
          <a:ln w="0">
            <a:noFill/>
          </a:ln>
        </p:spPr>
      </p:pic>
      <p:sp>
        <p:nvSpPr>
          <p:cNvPr id="579" name="TextBox 3"/>
          <p:cNvSpPr/>
          <p:nvPr/>
        </p:nvSpPr>
        <p:spPr>
          <a:xfrm>
            <a:off x="816120" y="5867280"/>
            <a:ext cx="787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operations include update, transfer, renew or deletion of the domain nam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What is the Data Model?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Enumeration of Data Elements (Descriptive Mode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Data Profile: implements the data mod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etailed Data ele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ttributes: format, minimum/maximum length, language tags, cardinality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rofile parameters: Character encoding, mark up language, protocol used to access the 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dditional ru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Relationship: one data model, but could have multiple data profiles (e.g. profile for DNRD-DS, profile for escrow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Recommendations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e SSAC invites all ICANN SOs/ACs and in particular registry and registrar stakeholder groups 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onsider this data model and comment on its completeness 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omment on the utility of the model in furthering the definition of a directory service for domain name registration data as outlined in SAC 033 and SAC 051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Potential Issues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e ccTLD and gTLD data models are different. It will be a challenge to harmonize the two mode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2T14:42:05Z</dcterms:created>
  <dc:creator>Julie Hedlund</dc:creator>
  <dc:description/>
  <dc:language>en-US</dc:language>
  <cp:lastModifiedBy>HU</cp:lastModifiedBy>
  <dcterms:modified xsi:type="dcterms:W3CDTF">2012-07-17T22:13:32Z</dcterms:modified>
  <cp:revision>87</cp:revision>
  <dc:subject/>
  <dc:title>Presentation Title</dc:title>
</cp:coreProperties>
</file>