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C96E0-873B-4A1B-9B86-BA3F707DD6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140E9-A793-4001-8DFC-6571969A6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9F60E-C0A4-4CDA-BE7F-D614BE8FD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47356-C849-4905-8AAF-19D3945F5EA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1B3D0-27B8-4CDE-8E87-64E8816AF80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4199E-46E4-4064-8ABF-365AAFD1AF2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7B711-9F24-42C9-A6FD-64D27949D55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90469-6439-44DD-89B7-93474FF5E2E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3E12A-5665-445A-BCB1-535A9403B9F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42007-3381-4320-A92E-65509BE7308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332AD-E1A8-4837-BC44-242D8A45C35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4EA11-25D7-498C-8889-681E031D8B6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EEEFBF-0036-4B4B-8CB6-04C94FE7D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B62A0C-0A8C-4C99-9FCD-6555ECFC0F1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34F61E-A288-415C-8B1A-4BC2BF1D15A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892C53-0F5B-4EFD-A9FE-101E5E631E4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F368F7-52A8-434B-AAD9-DD897490335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F7B3F5-E2D7-47DE-8A0B-2F59559045A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F2DF39-6215-42AC-84A0-F528233B50C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79D70B-5B13-4E46-8D9C-C4A90EF7F92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58AC46-BAF0-4328-95F2-A15559C97D0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CF511A-B21A-4EE9-AD56-11D7520CA13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9D9450-D06A-4E1E-BB6A-1C8D8CA04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2055E3-2E1A-4C79-8222-38FA4A21846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EFF723-6634-4D9F-814E-9F26E8CFD22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911A0B-42C1-4096-8BA4-97F8DBF7F07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F2233-4DCD-4721-AABA-51D3AE04D42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169AD0-6C32-4EF6-9DC4-ED98B1C64EC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6940C-E6D5-4FE7-9A76-968F084D428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E7FBA-1878-4A37-817A-8484B31D8C3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998DF7-F849-4CFC-AE55-D268B47F664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1A35D-21D3-46E3-BBB6-FCD4E0C3613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BD005-1496-4CAC-A893-737DF255D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4E9D8C-C093-4C1A-ACEB-D9B700D3C86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231A25-2470-4516-963B-93AE0B4DEF3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3D8692-B137-489A-AED1-345652BCF2E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76DB6-CAB1-4192-B216-5FDCE591FA0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49400-4D19-4802-95C2-A1B454F197A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776A4-94C9-4698-830D-5674B896F0E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C4E7D-2583-4A72-A6C0-C131B9528CB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1DEEE-F2EA-493B-B875-DD2D873D309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0C533-7DAF-486E-90D1-C2EA4921550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D17C7-8BBC-4B50-9BD3-055C399752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62D2D-CED4-46B8-BFC2-0E466E42BBB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2F40B-50DE-4238-8101-6EAAE595452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C695E-D731-4D78-B621-535A6934801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CD4FD-62F6-4DFA-ACCC-B9EE1B63FCE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0AC4E-74D0-444E-9C79-3320E8DD438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164520-682D-4B24-B985-BE0A51D660E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2DEF33-8F87-479C-88D6-CD435C1AD42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DD331E-2357-4371-A971-7AAADDC3DFD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8A0BBF-0B95-4A42-BDB5-8B8EABEE1B0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6ABA56-F06E-4D76-9048-8F7D720734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BF438B-E712-4D49-9A53-440900AB8B5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381703-75CB-43BB-B85A-3E25C051789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E3B310-4AB3-45AE-B72C-43E78051EE5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F0B86E-E728-4D20-B2AF-62B8EF3D5ED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D68366-E1F3-40BF-8094-6C2D4F64555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F4C752-EB41-4EA5-8B29-1BCD3DB981B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1F56B2-C4B0-43DB-8BBC-DE9CEA4B183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7797D6-0B8F-4440-8B71-C369D71BB5B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792C46-EDDB-499E-B9B4-2F100B3F0BE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E0A207-6D03-4E76-81CF-463DC11EAB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868593-7DFC-4D43-BCC5-C6BF0E05AAB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FE14D5-9C98-47B6-88A4-B2BFEB7BD3B6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722252-195C-4CBE-A811-651B5C8DDC0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923BE9-604D-4CA8-8A75-8A90EEEC74B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B9324A-E999-479B-9E49-BD0A0B73727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F56659-180B-4427-847C-425C7F6518C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14BDDE-879B-432D-9CDE-53033F00EE1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4C7B1E-EEC3-4A81-98A5-CE401803561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4A43CE-E823-4155-96A8-6D6CE45A68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507C-2162-4948-A926-E1DBB281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E84-F62D-48E7-A065-0781E529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8D84-DF6B-41F0-92CF-842E1D8B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F7C3-9969-48B7-B11A-5895DF45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0180-DCD7-42C8-9103-90F1D8E5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C92B-62A6-464B-AAA7-3C323079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2002-65C0-41C3-8721-04C46EA9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ECCB-B732-42BD-91E0-8719B893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4757-656B-4BA0-8BF6-96DF2D14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00D-42F2-48DE-93BD-2D939836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9799-AC67-4B4D-BB41-F5FD48AA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F4C5-C26A-4F73-9162-E1FF6294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7A5BC-11A2-48C2-9011-C9DE43BB3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D4FB8-6EAF-4D50-8C1B-8E5EDEBFE9D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46014-02BE-4EF4-8868-DAC802DA5FE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4560E-23D7-47F3-A5EA-EE1526D8136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AEE43-3B61-4088-86E9-56CF4698D5A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A9FA3-0F42-4F75-BAF3-851D12C4398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95672-1EBE-4CBF-8EBF-BCF6D724278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9B370-0655-4AD4-B28C-EFEE2141FE0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D5951-50DA-4249-B53B-792ACEDA6B1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10830-2B63-44E2-8201-B7FA296106E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55863-0FE2-409E-8BEE-277B79E0E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D8A04-4CBD-477D-A5D0-FE36E8C0A3C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5BD7EC-3037-44D7-BCE9-4F0E2AF1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A2E63D-F2CB-4663-969D-7DA7365F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9AC09D-8C5D-4672-ADA1-DCF29A94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6E53F4-8C6C-4FFD-901B-6A3EF68A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7C361F-D4B7-4199-BEE6-47642043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405FE5-BFCC-40DD-8C35-7DAF657B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8C7B23-58DD-4682-A471-FD1259FF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C38E2D-6304-4E81-8EE9-94F70E5B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FFE0CC-CED7-47C6-B4AF-E7EC18CB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4D6817-19DC-4948-B1A1-B59CD8EE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7AA6FB-BF9D-4DD4-AFF0-9151995E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A18695-3187-4EE0-91B7-3EFD0873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D14A2A-31E7-48D6-9DB8-5C14216D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9C75AF-A3B6-4942-B050-45244E26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D17890-C86F-44B7-9D5B-54C18F8F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7038B3-2323-4037-93CF-BB0B4ECE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95E910-AED3-4990-81C5-FA0E1F0B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60781C-C8BC-4A3F-B116-4F65C5CD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C998BF-7BCD-4ABE-B39C-F8D7A4E1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E722EF-DFD6-4566-BF36-1ECA7CDD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E9124B-7F4C-4970-8FDA-15999AAE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35D0A4-4591-45B9-B826-5F573EB9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A0AF5E-6011-4D4B-9B30-9CFBD269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FBD20A-557F-4854-8A40-3985C765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0C6D5-5D16-44A0-9600-E0C72F0AAC1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CED755-D316-4592-815E-003F9A70EDE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196819-8271-436C-8ABB-83D901537A9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B41A5C-294A-4792-A5BB-C1CE2C11969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B88E1E-DDD5-40EB-9C0B-529D14FEF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342F27-53B2-46C6-AD40-AE11F7195AD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DFE159-F986-4442-8F70-B4BF01946F8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DE4C64-8D84-409E-96A5-3B6F399394B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83BEB9-6B4F-4C56-9B10-9390A162820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42FB99-82AA-4840-A7A4-2F133AEFACE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A22E27-4A64-43E1-BC61-F2A21F47CEB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18D6C2-B59F-49E0-B594-80B85251C20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F2DED-1C7E-431C-8739-18CD862653B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FD2BA-58CA-47A3-AA6F-A535390DDA6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A2CA0-900D-415A-917A-9752442A0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C3F7E3-1209-4F74-A8B1-FB9067E1DF0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388C2-5DD6-4334-BBBB-A620CF694C5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F721D-FD0C-493F-B049-FAC19B04AC6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842DA-5BE1-43CA-AA05-FFEC9B7E775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34BCC-39B3-4990-ABA4-EF2EBBCF0AE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DEB7F-F1B6-485D-B2FA-9581E94FB9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307705-8F26-414A-9D38-8B605F9BE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E6AFE-B00A-4B92-BB95-5D3224847D6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76CB78-DEF8-455A-80EE-DB3A022021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CF887-6720-431C-A3BF-2B34EA0BD39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9708A-5F53-4950-86C2-2CE9EFF870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A3B78-E94F-485A-885D-E5D7E92BECE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78FAE2-F386-4D97-9D99-51321B50045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09200" y="1218960"/>
            <a:ext cx="616284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SSAC Report on Domain Name Registration Data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599840" y="36576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e of WHOIS Review Team's recommendations is for ICANN to convene a working group to determine the data mod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s meeting with community members to explain the model and answe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i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Domain Name Registration Data (DNRD) model is a straw man registration data model for community discussion and consideration and as a basis for further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takes into consideration existing data requirements from gTLD registrar and registry agreements, escrow agreements, and ongoing work on internationalized registration data requirements, and some ccTLD data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makes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 policy asser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y it is importan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is currently no uniform data model that exists for DNRD and this unduly complicates data submission, handling, exchange, and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standards-based, structured, and extensible data model c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ress the variability in DNRD-DS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 the user experience for internationalized registration data (Final Report of the Internationalized Registration Data Working Group and the WHOIS Review Team Draft Final Re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cument the life cycle of a domain name from registration to re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umerate data elements that are needed to support the lif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 of a typical Domain Nam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28A60-6FC3-4617-8413-CA916FC0748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371600" y="1438200"/>
            <a:ext cx="651024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: Domain Registra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816120" y="1469880"/>
            <a:ext cx="7367400" cy="4248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3"/>
          <p:cNvSpPr/>
          <p:nvPr/>
        </p:nvSpPr>
        <p:spPr>
          <a:xfrm>
            <a:off x="816120" y="586728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erations include update, transfer, renew or deletion of the domain nam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Data Model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umeration of Data Elements (Descriptive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Profile: implements the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tailed Data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: format, minimum/maximum length, language tags, cardinality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file parameters: Character encoding, mark up language, protocol used to access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itional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tionship: one data model, but could have multiple data profiles (e.g. profile for DNRD-DS, profile for esc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Recommenda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nvites all ICANN SOs/ACs and in particular registry and registrar stakeholder group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ider this data model and comment on its completenes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ent on the utility of the model in furthering the definition of a directory service for domain name registration data as outlined in SAC 033 and SAC 0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Potential Issu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ccTLD and gTLD data models are different. It will be a challenge to harmonize the two mod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2:05Z</dcterms:created>
  <dc:creator>Julie Hedlund</dc:creator>
  <dc:description/>
  <dc:language>en-US</dc:language>
  <cp:lastModifiedBy>HU</cp:lastModifiedBy>
  <dcterms:modified xsi:type="dcterms:W3CDTF">2012-07-17T22:13:32Z</dcterms:modified>
  <cp:revision>87</cp:revision>
  <dc:subject/>
  <dc:title>Presentation Title</dc:title>
</cp:coreProperties>
</file>