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2248E-9CB0-4CC6-9682-F0D0C7A1A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5F3A5-EF58-4B22-80F0-3C26E2329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8F9C368B-DA8A-45D2-9946-1A247D98816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DA1F9A33-9A76-4CD2-90B9-A1CBAC9D6E7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C9DB4-066F-4D18-BBB6-0178FBE5381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772FC-E69F-4ACE-8284-ABCEECE39B5B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04496-91D2-4CF3-83C0-FDEC47209F7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52244-AB86-4DA4-B29F-379D761EDC7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jpe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5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97A15-0307-41D3-871E-20C7ED1BDAD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91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4d9f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7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202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7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3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E57F5-1ECD-4930-B4CB-6241D1AD57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3440"/>
            <a:ext cx="219240" cy="641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6" descr="timeline-marker.png"/>
          <p:cNvPicPr/>
          <p:nvPr/>
        </p:nvPicPr>
        <p:blipFill>
          <a:blip r:embed="rId7"/>
          <a:stretch/>
        </p:blipFill>
        <p:spPr>
          <a:xfrm>
            <a:off x="3029040" y="387036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3852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2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Olivier MJ Crepin-Leblond</cp:lastModifiedBy>
  <cp:lastPrinted>2013-02-07T22:29:55Z</cp:lastPrinted>
  <dcterms:modified xsi:type="dcterms:W3CDTF">2013-04-06T01:19:55Z</dcterms:modified>
  <cp:revision>88</cp:revision>
  <dc:subject>Internet Governance</dc:subject>
  <dc:title>ICANN &amp; Internet Ecosystem</dc:title>
</cp:coreProperties>
</file>