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A04F2-5E42-40F8-85C3-FD9606B64E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4C698-E359-4E51-BD15-C6110784C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D304BAF2-D8DF-4B62-8FB8-0F147AE73B4A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425C1ACE-B51B-4666-A195-0BDBC47E441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50AD0-0763-439E-987C-1402C9849A66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B0B70-4ACA-4E35-8A55-28FC61C1CCA3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018CB-C0CB-4E61-804A-7E7C3673718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6BF32-4AC8-4C7A-9953-3371F123E46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2.jpe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5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6144F-6C21-42A8-BE7B-A4142CE0505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0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91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4d9f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6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7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202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7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3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435B0-496F-4536-A4F4-3222D4B35E1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3440"/>
            <a:ext cx="219240" cy="6411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6" descr="timeline-marker.png"/>
          <p:cNvPicPr/>
          <p:nvPr/>
        </p:nvPicPr>
        <p:blipFill>
          <a:blip r:embed="rId7"/>
          <a:stretch/>
        </p:blipFill>
        <p:spPr>
          <a:xfrm>
            <a:off x="3029040" y="387036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3852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2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Olivier MJ Crepin-Leblond</cp:lastModifiedBy>
  <cp:lastPrinted>2013-02-07T22:29:55Z</cp:lastPrinted>
  <dcterms:modified xsi:type="dcterms:W3CDTF">2013-04-06T01:19:55Z</dcterms:modified>
  <cp:revision>88</cp:revision>
  <dc:subject>Internet Governance</dc:subject>
  <dc:title>ICANN &amp; Internet Ecosystem</dc:title>
</cp:coreProperties>
</file>