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158BD-1126-4695-A509-6756804FAF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E14FB-259D-4411-A146-F51E02A56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51C7C3D4-E295-4F2C-AB31-ACD9ECC4E68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1733FE0E-1990-4FF0-ABB1-D48D0678071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38315-9B96-4886-BC3E-7394761FC208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6CDE5-56D2-43C7-BE3A-7E7119601FA5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70F2C-C7BC-4F30-AEE9-A64F98AEF9A1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BDE23-6E48-4005-AC02-E5F9E6A22539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2.jpe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5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C4102-DF79-4537-B2B5-B22A0F752CA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91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4d9f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7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202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7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3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9A4B4-0402-4320-9C6D-E7A6A1ECE7F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3440"/>
            <a:ext cx="219240" cy="6411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6" descr="timeline-marker.png"/>
          <p:cNvPicPr/>
          <p:nvPr/>
        </p:nvPicPr>
        <p:blipFill>
          <a:blip r:embed="rId7"/>
          <a:stretch/>
        </p:blipFill>
        <p:spPr>
          <a:xfrm>
            <a:off x="3029040" y="387036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3852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2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Olivier MJ Crepin-Leblond</cp:lastModifiedBy>
  <cp:lastPrinted>2013-02-07T22:29:55Z</cp:lastPrinted>
  <dcterms:modified xsi:type="dcterms:W3CDTF">2013-04-06T01:19:55Z</dcterms:modified>
  <cp:revision>88</cp:revision>
  <dc:subject>Internet Governance</dc:subject>
  <dc:title>ICANN &amp; Internet Ecosystem</dc:title>
</cp:coreProperties>
</file>