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E05DD-BD12-4E06-ABB2-F50EA8E37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C15D8-E6C2-4AF9-9439-B9AB265DC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A5C28319-827C-4A1C-B4D8-74FC82540EE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A55AE74F-6503-49E0-AAB6-ECD6251AD84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E5030-7A03-434F-8999-56F14FF1FE67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D68B3-9F7C-417E-9A18-A153C09C0C3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64770-4B52-4534-A6EA-272598B4AD25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79A92-81CA-4AF5-A1BE-80230645D82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jpe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5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07E2D-5343-4A43-9062-B6DD75D842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91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4d9f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7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202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7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3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463DE-C4D2-4C86-8EC0-2C1EAB25F3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3440"/>
            <a:ext cx="219240" cy="641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6" descr="timeline-marker.png"/>
          <p:cNvPicPr/>
          <p:nvPr/>
        </p:nvPicPr>
        <p:blipFill>
          <a:blip r:embed="rId7"/>
          <a:stretch/>
        </p:blipFill>
        <p:spPr>
          <a:xfrm>
            <a:off x="3029040" y="387036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3852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2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Olivier MJ Crepin-Leblond</cp:lastModifiedBy>
  <cp:lastPrinted>2013-02-07T22:29:55Z</cp:lastPrinted>
  <dcterms:modified xsi:type="dcterms:W3CDTF">2013-04-06T01:19:55Z</dcterms:modified>
  <cp:revision>88</cp:revision>
  <dc:subject>Internet Governance</dc:subject>
  <dc:title>ICANN &amp; Internet Ecosystem</dc:title>
</cp:coreProperties>
</file>